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281-87C2-4096-8B23-0AF461F1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C1E-6565-4359-8772-7ABC3F97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4F7-5030-479F-AE4B-6A8B8943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1F6-AA03-4F4E-825A-1DDAC1F6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840-5DEC-43D8-9887-2EC49A1D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8F90-C0DE-475E-858C-760F29EE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6256-D800-4C97-80F8-ABBE3238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2227-3402-4141-A824-B780B0D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2B2D-E3D1-4988-A769-E21AF98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EC39-7422-40A6-9DF3-B70C244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29A-09CC-4D88-AB3F-7F4194A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801-6532-4D71-A7F3-FCBA3E12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01BC-7A05-49C1-A77A-3473B1E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DFD-7EB0-4D58-8044-B2C9CBC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8049-BAE2-4975-94B7-A4C53EC8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668D-7987-44E9-B81A-76195D73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35D-7542-4672-8A92-06F66DA8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573-AD97-427B-9468-CABA1FC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A51-70D9-4CE3-9CB8-8E466BE5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7D0-68C2-4192-A228-4E4EAA0F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E07-9BD7-46E3-BD20-76EB203D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60A-7F8A-47E4-8DB5-95CCB57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040-1B56-4D50-9A93-5C028C2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50D-94F2-4970-BA45-CFB71F48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449-EDB6-41C5-92E9-5A0E8EACDB6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51C8-DFFC-49F9-9BD2-0041608313E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三章 市场营销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2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选择目标市场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要记住：没有一个企业能够满足所有用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一切需要。它不能满足部分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户的部分需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部分用户在哪里呢？部分需要是什么？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何去满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过目标市场的选择进行正确的市场定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3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制定营销计划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析环境变化造成的公司机会、挑战、优势、劣势，进行审时度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决定公司的营销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定公司营销的实施计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规划营销预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出应急时的措施预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4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规划营销策略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市场策略：进入策略、竞争策略、区域布点策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产品策略：产品开发、产品组合、品牌、包装、服务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价格策略：定价决策、定价方法与技术、价格管理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分销策略：分销渠道的选择、控制和调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促销策略：包括：广告、促销、公关、人员推广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国际市场策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5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实施与控制营销活动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建立和管理营销组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调配和统筹营销力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各部门、各方面共同努力推行营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营销活动是一个循序渐进的管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行为，其过程具有规范化和典型性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市场营销的核心概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1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需要、欲望和需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是指人们没有得到某些基本满足的感受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欲望是指想得到某种基本需要的具体物品的愿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求是指对有能力购买并愿意购买的某具体产品的欲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2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产品——任何能用来满足人们某种需要或欲望的东西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为有形产品与无形产品，即实体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品与服务之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3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价值和满足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价值——顾客对产品满足其需要能力的评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满足——产品价值与预先期望之比较。超过就为很满意，达到就可以满意，达不到就是不满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3-4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交换与交易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换——通过提供某种东西作为回报，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某人处取得所要的东西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换的五条件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至少存在买卖双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有对方认为有价值的东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能发出和收到相应的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可以自由地接收和拒绝对方的东西或条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一方都能从交换中获得其所需要的东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易：达成协议的交换活动称之为交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——与市场有关的人类活动。主要以满足人类各种需求和欲望为目的，通过市场把潜在交换变为现实交换的活动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换是营销学最本质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如同：短缺是经济学的本质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权力是政治学的本质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体是社会学的本质概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经济学是营销学的父亲；心理学是营销学的母亲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哲学是营销学的祖父；    数学是营销学的祖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案例讨论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百事挑战的启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1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者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交换双方中更主动、更积极地寻求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换的称为营销者。他可以是一位卖方，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以是一位买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2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潜在顾客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交换中相对比较被动的一方称之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潜在顾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3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相互营销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双方都积极地开展交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1-4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与推销、促销的区别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营销是以满足用户需要为出发点的；促销、推销是以产品卖掉获得利润为出发点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营销是从分析市场开始，努力生产满足市场需要的产品，采用各种有效的方法和手段实现与潜在顾客的交换；促销、推销是在产品生产出来之后，采用各种方法、手段把产品卖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促销尽管是在产品生产出来之后的行为，但其手段更多，强调组合的促销包括广告、公关、营业推广、强调品牌建设；推销主要是人员推销，依靠推销人员的能力和技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正确把握市场营销的内涵，不仅有利于全课程的学习，也有利于指导日后的营销工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营销过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营销过程包括分析市场机会、选择目标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场、制定营销计划、规划营销策略以及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施和控制营销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2-1 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分析市场机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要善于抓住环境机会，发挥企业优势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变环境机会为公司机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营销</cp:keywords>
  <dc:language>en-US</dc:language>
  <cp:lastModifiedBy/>
  <cp:revision>0</cp:revision>
  <dc:subject/>
  <dc:title/>
</cp:coreProperties>
</file>