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5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9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17.wmf" ContentType="image/x-wmf"/>
  <Override PartName="/ppt/media/image15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C5A-7CB7-4C8D-BF2C-8B2104CA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6C3-46A8-4F77-8102-3D52D565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094-B077-4A4E-BD5E-E361842B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7BA-E5A1-4F11-9B99-E2FCD9BF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5C30-D366-47B5-BBBE-0538A695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AA63-3B94-4BFB-9230-DBB93D21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1614-BFD7-4C66-8A2E-087990CD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D23D-1790-4428-AC35-F8FFF0BA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C90C-7364-49A8-B91B-F996F577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9EF6-91E7-4FDE-9F11-01A2B758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25E8-93F2-4C57-81ED-C36CDF58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37F-A3F6-49C0-A36E-B04DEC97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5F78-4893-4328-893B-EABA25D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CDE8-E8D3-4DEA-8E89-B001804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0724-A40F-44D1-AC7A-AB6B2251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BECA-9F7E-4DD7-9C8E-8EAA2FAB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7CF9-592A-4F25-91B6-CEC47B5C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AF1-76BF-4021-B57C-70E5172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F3E-E04B-42F2-A506-DA1FC79F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A70-DA21-498E-B1F8-58DCFB89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F95-7344-4A6C-B7ED-00040323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61D-8E43-418A-920E-C33DAE4A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845-A89E-4DD5-888F-01A11E9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498-EE55-4C54-9423-D5E72965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CCEF-4577-4781-9E9E-FF343E34607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D67C-E0AF-4FFC-8EC0-A423AB98EFC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7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7.wmf"/><Relationship Id="rId35" Type="http://schemas.openxmlformats.org/officeDocument/2006/relationships/image" Target="../media/image17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5.jpeg"/><Relationship Id="rId39" Type="http://schemas.openxmlformats.org/officeDocument/2006/relationships/image" Target="../media/image5.jpeg"/><Relationship Id="rId40" Type="http://schemas.openxmlformats.org/officeDocument/2006/relationships/image" Target="../media/image5.jpeg"/><Relationship Id="rId41" Type="http://schemas.openxmlformats.org/officeDocument/2006/relationships/image" Target="../media/image5.jpeg"/><Relationship Id="rId42" Type="http://schemas.openxmlformats.org/officeDocument/2006/relationships/image" Target="../media/image5.jpeg"/><Relationship Id="rId43" Type="http://schemas.openxmlformats.org/officeDocument/2006/relationships/image" Target="../media/image5.jpeg"/><Relationship Id="rId44" Type="http://schemas.openxmlformats.org/officeDocument/2006/relationships/image" Target="../media/image5.jpeg"/><Relationship Id="rId45" Type="http://schemas.openxmlformats.org/officeDocument/2006/relationships/image" Target="../media/image5.jpeg"/><Relationship Id="rId46" Type="http://schemas.openxmlformats.org/officeDocument/2006/relationships/image" Target="../media/image5.jpeg"/><Relationship Id="rId47" Type="http://schemas.openxmlformats.org/officeDocument/2006/relationships/image" Target="../media/image5.jpeg"/><Relationship Id="rId48" Type="http://schemas.openxmlformats.org/officeDocument/2006/relationships/image" Target="../media/image5.jpeg"/><Relationship Id="rId49" Type="http://schemas.openxmlformats.org/officeDocument/2006/relationships/image" Target="../media/image5.jpeg"/><Relationship Id="rId50" Type="http://schemas.openxmlformats.org/officeDocument/2006/relationships/image" Target="../media/image5.jpeg"/><Relationship Id="rId51" Type="http://schemas.openxmlformats.org/officeDocument/2006/relationships/image" Target="../media/image5.jpeg"/><Relationship Id="rId52" Type="http://schemas.openxmlformats.org/officeDocument/2006/relationships/image" Target="../media/image5.jpeg"/><Relationship Id="rId53" Type="http://schemas.openxmlformats.org/officeDocument/2006/relationships/image" Target="../media/image5.jpeg"/><Relationship Id="rId54" Type="http://schemas.openxmlformats.org/officeDocument/2006/relationships/image" Target="../media/image5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18.wmf"/><Relationship Id="rId58" Type="http://schemas.openxmlformats.org/officeDocument/2006/relationships/image" Target="../media/image18.wmf"/><Relationship Id="rId59" Type="http://schemas.openxmlformats.org/officeDocument/2006/relationships/image" Target="../media/image19.wmf"/><Relationship Id="rId60" Type="http://schemas.openxmlformats.org/officeDocument/2006/relationships/image" Target="../media/image20.wmf"/><Relationship Id="rId61" Type="http://schemas.openxmlformats.org/officeDocument/2006/relationships/image" Target="../media/image20.wmf"/><Relationship Id="rId62" Type="http://schemas.openxmlformats.org/officeDocument/2006/relationships/image" Target="../media/image20.wmf"/><Relationship Id="rId63" Type="http://schemas.openxmlformats.org/officeDocument/2006/relationships/image" Target="../media/image8.wmf"/><Relationship Id="rId64" Type="http://schemas.openxmlformats.org/officeDocument/2006/relationships/image" Target="../media/image21.jpeg"/><Relationship Id="rId65" Type="http://schemas.openxmlformats.org/officeDocument/2006/relationships/image" Target="../media/image21.jpeg"/><Relationship Id="rId66" Type="http://schemas.openxmlformats.org/officeDocument/2006/relationships/image" Target="../media/image21.jpeg"/><Relationship Id="rId67" Type="http://schemas.openxmlformats.org/officeDocument/2006/relationships/image" Target="../media/image21.jpeg"/><Relationship Id="rId6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6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13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980720"/>
            <a:ext cx="799128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生 态 学 基 础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4232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非生命物质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包括阳光、空气、温度、水分、矿物质等 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（三）生态系统的结构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406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生态系统的形态结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态系统中的生物种类、种群数量、种的空间配置及种的时间变化等构成了生态系统的形态结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854064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生态系统的营养结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态系统的营养结构，是通过营养这一纽带，把生物和非生物之间紧密结合起来，构成以生产者、消费者和分解者为中心的物质循环和能量流动。即在太阳能的作用下，环境的营养物质被生产者吸收，转化为有机物，供消费者使用，而后消费者被分解者分解为无机物返回环境，再供生产者使用，完成物质循环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（四）食物链（网）和营养级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5406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态系统中各种生物之间由于食物关系而形成的一种联系称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物链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个生态系统中许多食物链彼此相互交错形成的复杂的营养关系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物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物链上的每一个环节称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营养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844640" y="1143000"/>
            <a:ext cx="1219320" cy="520560"/>
            <a:chOff x="1844640" y="1143000"/>
            <a:chExt cx="1219320" cy="520560"/>
          </a:xfrm>
        </p:grpSpPr>
        <p:sp>
          <p:nvSpPr>
            <p:cNvPr id="255" name=""/>
            <p:cNvSpPr/>
            <p:nvPr/>
          </p:nvSpPr>
          <p:spPr>
            <a:xfrm>
              <a:off x="1844640" y="1251000"/>
              <a:ext cx="121932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3440" y="1143000"/>
              <a:ext cx="82080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大甲虫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25720" y="1143000"/>
            <a:ext cx="838080" cy="520560"/>
            <a:chOff x="3825720" y="1143000"/>
            <a:chExt cx="838080" cy="520560"/>
          </a:xfrm>
        </p:grpSpPr>
        <p:sp>
          <p:nvSpPr>
            <p:cNvPr id="258" name=""/>
            <p:cNvSpPr/>
            <p:nvPr/>
          </p:nvSpPr>
          <p:spPr>
            <a:xfrm>
              <a:off x="3825720" y="1174320"/>
              <a:ext cx="838080" cy="456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1800" y="1143000"/>
              <a:ext cx="607320" cy="5205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杜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902040" y="2666880"/>
            <a:ext cx="838080" cy="520560"/>
            <a:chOff x="3902040" y="2666880"/>
            <a:chExt cx="838080" cy="520560"/>
          </a:xfrm>
        </p:grpSpPr>
        <p:sp>
          <p:nvSpPr>
            <p:cNvPr id="261" name=""/>
            <p:cNvSpPr/>
            <p:nvPr/>
          </p:nvSpPr>
          <p:spPr>
            <a:xfrm>
              <a:off x="3902040" y="2698560"/>
              <a:ext cx="838080" cy="457200"/>
            </a:xfrm>
            <a:prstGeom prst="rect">
              <a:avLst/>
            </a:prstGeom>
            <a:solidFill>
              <a:srgbClr val="879c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3440" y="2666880"/>
              <a:ext cx="607320" cy="520560"/>
            </a:xfrm>
            <a:prstGeom prst="rect">
              <a:avLst/>
            </a:prstGeom>
            <a:solidFill>
              <a:srgbClr val="87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植物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425920" y="1143000"/>
            <a:ext cx="457200" cy="520560"/>
            <a:chOff x="5425920" y="1143000"/>
            <a:chExt cx="457200" cy="520560"/>
          </a:xfrm>
        </p:grpSpPr>
        <p:sp>
          <p:nvSpPr>
            <p:cNvPr id="264" name=""/>
            <p:cNvSpPr/>
            <p:nvPr/>
          </p:nvSpPr>
          <p:spPr>
            <a:xfrm>
              <a:off x="5425920" y="117504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4240" y="1143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568920" y="1143000"/>
            <a:ext cx="457200" cy="520560"/>
            <a:chOff x="6568920" y="1143000"/>
            <a:chExt cx="457200" cy="520560"/>
          </a:xfrm>
        </p:grpSpPr>
        <p:sp>
          <p:nvSpPr>
            <p:cNvPr id="267" name=""/>
            <p:cNvSpPr/>
            <p:nvPr/>
          </p:nvSpPr>
          <p:spPr>
            <a:xfrm>
              <a:off x="6568920" y="1175040"/>
              <a:ext cx="45720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27240" y="1143000"/>
              <a:ext cx="394200" cy="52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蛇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425920" y="2133720"/>
            <a:ext cx="457200" cy="520560"/>
            <a:chOff x="5425920" y="2133720"/>
            <a:chExt cx="457200" cy="520560"/>
          </a:xfrm>
        </p:grpSpPr>
        <p:sp>
          <p:nvSpPr>
            <p:cNvPr id="270" name=""/>
            <p:cNvSpPr/>
            <p:nvPr/>
          </p:nvSpPr>
          <p:spPr>
            <a:xfrm>
              <a:off x="5425920" y="2165760"/>
              <a:ext cx="457200" cy="45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84240" y="2133720"/>
              <a:ext cx="394200" cy="5205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416640" y="2209680"/>
            <a:ext cx="457200" cy="520560"/>
            <a:chOff x="6416640" y="2209680"/>
            <a:chExt cx="457200" cy="520560"/>
          </a:xfrm>
        </p:grpSpPr>
        <p:sp>
          <p:nvSpPr>
            <p:cNvPr id="273" name=""/>
            <p:cNvSpPr/>
            <p:nvPr/>
          </p:nvSpPr>
          <p:spPr>
            <a:xfrm>
              <a:off x="6416640" y="2241720"/>
              <a:ext cx="457200" cy="4572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4960" y="2209680"/>
              <a:ext cx="394200" cy="5205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606400" y="2209680"/>
            <a:ext cx="837720" cy="520560"/>
            <a:chOff x="2606400" y="2209680"/>
            <a:chExt cx="837720" cy="520560"/>
          </a:xfrm>
        </p:grpSpPr>
        <p:sp>
          <p:nvSpPr>
            <p:cNvPr id="276" name=""/>
            <p:cNvSpPr/>
            <p:nvPr/>
          </p:nvSpPr>
          <p:spPr>
            <a:xfrm>
              <a:off x="2606400" y="2241360"/>
              <a:ext cx="837720" cy="457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37800" y="2209680"/>
              <a:ext cx="60732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毛虫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123720" y="2666880"/>
            <a:ext cx="762120" cy="304560"/>
            <a:chOff x="3123720" y="2666880"/>
            <a:chExt cx="762120" cy="304560"/>
          </a:xfrm>
        </p:grpSpPr>
        <p:sp>
          <p:nvSpPr>
            <p:cNvPr id="279" name=""/>
            <p:cNvSpPr/>
            <p:nvPr/>
          </p:nvSpPr>
          <p:spPr>
            <a:xfrm flipH="1">
              <a:off x="3123720" y="2971440"/>
              <a:ext cx="76212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124080" y="2666880"/>
              <a:ext cx="0" cy="30456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361960" y="1676520"/>
            <a:ext cx="228600" cy="761760"/>
            <a:chOff x="2361960" y="1676520"/>
            <a:chExt cx="228600" cy="761760"/>
          </a:xfrm>
        </p:grpSpPr>
        <p:sp>
          <p:nvSpPr>
            <p:cNvPr id="282" name=""/>
            <p:cNvSpPr/>
            <p:nvPr/>
          </p:nvSpPr>
          <p:spPr>
            <a:xfrm flipH="1">
              <a:off x="2361960" y="2438280"/>
              <a:ext cx="22860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2320" y="1676520"/>
              <a:ext cx="0" cy="76176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>
            <a:off x="4343400" y="16761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05320" y="1676520"/>
            <a:ext cx="457200" cy="761760"/>
            <a:chOff x="3505320" y="1676520"/>
            <a:chExt cx="457200" cy="761760"/>
          </a:xfrm>
        </p:grpSpPr>
        <p:sp>
          <p:nvSpPr>
            <p:cNvPr id="286" name=""/>
            <p:cNvSpPr/>
            <p:nvPr/>
          </p:nvSpPr>
          <p:spPr>
            <a:xfrm>
              <a:off x="3505320" y="2438280"/>
              <a:ext cx="457200" cy="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962520" y="1676520"/>
              <a:ext cx="0" cy="76176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124080" y="1371600"/>
            <a:ext cx="685800" cy="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1371600"/>
            <a:ext cx="685800" cy="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801320" y="2590920"/>
            <a:ext cx="914040" cy="304560"/>
            <a:chOff x="4801320" y="2590920"/>
            <a:chExt cx="914040" cy="304560"/>
          </a:xfrm>
        </p:grpSpPr>
        <p:sp>
          <p:nvSpPr>
            <p:cNvPr id="291" name=""/>
            <p:cNvSpPr/>
            <p:nvPr/>
          </p:nvSpPr>
          <p:spPr>
            <a:xfrm>
              <a:off x="4801320" y="2895480"/>
              <a:ext cx="914040" cy="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15000" y="2590920"/>
              <a:ext cx="0" cy="3045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5715000" y="1676520"/>
            <a:ext cx="0" cy="45720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800600" y="2742840"/>
            <a:ext cx="1904760" cy="305280"/>
            <a:chOff x="4800600" y="2742840"/>
            <a:chExt cx="1904760" cy="305280"/>
          </a:xfrm>
        </p:grpSpPr>
        <p:sp>
          <p:nvSpPr>
            <p:cNvPr id="295" name=""/>
            <p:cNvSpPr/>
            <p:nvPr/>
          </p:nvSpPr>
          <p:spPr>
            <a:xfrm>
              <a:off x="4800600" y="3048120"/>
              <a:ext cx="1904760" cy="0"/>
            </a:xfrm>
            <a:prstGeom prst="line">
              <a:avLst/>
            </a:prstGeom>
            <a:ln w="38160">
              <a:solidFill>
                <a:srgbClr val="879c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705360" y="2742840"/>
              <a:ext cx="0" cy="304920"/>
            </a:xfrm>
            <a:prstGeom prst="line">
              <a:avLst/>
            </a:prstGeom>
            <a:ln w="38160">
              <a:solidFill>
                <a:srgbClr val="879c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H="1" flipV="1">
            <a:off x="5867280" y="1599840"/>
            <a:ext cx="533520" cy="6094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781680" y="1676160"/>
            <a:ext cx="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943600" y="14479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55640" y="4005360"/>
            <a:ext cx="7772400" cy="2055240"/>
            <a:chOff x="755640" y="4005360"/>
            <a:chExt cx="7772400" cy="2055240"/>
          </a:xfrm>
        </p:grpSpPr>
        <p:sp>
          <p:nvSpPr>
            <p:cNvPr id="301" name=""/>
            <p:cNvSpPr/>
            <p:nvPr/>
          </p:nvSpPr>
          <p:spPr>
            <a:xfrm>
              <a:off x="755640" y="4079880"/>
              <a:ext cx="7772400" cy="198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9400" y="4005360"/>
              <a:ext cx="5836680" cy="2043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结论：（</a:t>
              </a: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）消费者在不同的食物链中所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处的营养级不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（</a:t>
              </a: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2</a:t>
              </a: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）植物在食物链中所处的营养级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是固定的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52280" y="1320840"/>
            <a:ext cx="8915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（五）生态系统的功能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987280" y="2421000"/>
            <a:ext cx="33116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能量流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物质循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信息联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、能量流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5406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单向流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逐级递减，传输效率约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4800" y="33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8000" y="333360"/>
            <a:ext cx="49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态系统中的能量流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1905120"/>
            <a:ext cx="7696080" cy="3733560"/>
          </a:xfrm>
          <a:prstGeom prst="rect">
            <a:avLst/>
          </a:prstGeom>
          <a:solidFill>
            <a:srgbClr val="ccec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2492280"/>
            <a:ext cx="1447920" cy="1066680"/>
            <a:chOff x="0" y="2492280"/>
            <a:chExt cx="1447920" cy="1066680"/>
          </a:xfrm>
        </p:grpSpPr>
        <p:sp>
          <p:nvSpPr>
            <p:cNvPr id="313" name=""/>
            <p:cNvSpPr/>
            <p:nvPr/>
          </p:nvSpPr>
          <p:spPr>
            <a:xfrm>
              <a:off x="0" y="2492280"/>
              <a:ext cx="1447920" cy="1066680"/>
            </a:xfrm>
            <a:custGeom>
              <a:avLst/>
              <a:gdLst>
                <a:gd name="textAreaLeft" fmla="*/ 180720 w 1447920"/>
                <a:gd name="textAreaRight" fmla="*/ 1267200 w 1447920"/>
                <a:gd name="textAreaTop" fmla="*/ 266760 h 1066680"/>
                <a:gd name="textAreaBottom" fmla="*/ 8002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5520" y="27208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太阳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676520" y="2362320"/>
            <a:ext cx="1676160" cy="1447560"/>
            <a:chOff x="1676520" y="2362320"/>
            <a:chExt cx="1676160" cy="1447560"/>
          </a:xfrm>
        </p:grpSpPr>
        <p:sp>
          <p:nvSpPr>
            <p:cNvPr id="316" name=""/>
            <p:cNvSpPr/>
            <p:nvPr/>
          </p:nvSpPr>
          <p:spPr>
            <a:xfrm>
              <a:off x="1676520" y="2362320"/>
              <a:ext cx="1676160" cy="1447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1828800" y="2438280"/>
              <a:ext cx="1401480" cy="1294560"/>
              <a:chOff x="1828800" y="2438280"/>
              <a:chExt cx="1401480" cy="12945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1828800" y="2438280"/>
                <a:ext cx="487080" cy="228240"/>
                <a:chOff x="1828800" y="2438280"/>
                <a:chExt cx="487080" cy="228240"/>
              </a:xfrm>
            </p:grpSpPr>
            <p:pic>
              <p:nvPicPr>
                <p:cNvPr id="3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288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556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1" name=""/>
              <p:cNvGrpSpPr/>
              <p:nvPr/>
            </p:nvGrpSpPr>
            <p:grpSpPr>
              <a:xfrm>
                <a:off x="2286000" y="2438280"/>
                <a:ext cx="487080" cy="228240"/>
                <a:chOff x="2286000" y="2438280"/>
                <a:chExt cx="487080" cy="228240"/>
              </a:xfrm>
            </p:grpSpPr>
            <p:pic>
              <p:nvPicPr>
                <p:cNvPr id="3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860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128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4" name=""/>
              <p:cNvGrpSpPr/>
              <p:nvPr/>
            </p:nvGrpSpPr>
            <p:grpSpPr>
              <a:xfrm>
                <a:off x="1828800" y="2666520"/>
                <a:ext cx="487080" cy="228240"/>
                <a:chOff x="1828800" y="2666520"/>
                <a:chExt cx="487080" cy="228240"/>
              </a:xfrm>
            </p:grpSpPr>
            <p:pic>
              <p:nvPicPr>
                <p:cNvPr id="32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88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556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7" name=""/>
              <p:cNvGrpSpPr/>
              <p:nvPr/>
            </p:nvGrpSpPr>
            <p:grpSpPr>
              <a:xfrm>
                <a:off x="2286000" y="2666520"/>
                <a:ext cx="487080" cy="228240"/>
                <a:chOff x="2286000" y="2666520"/>
                <a:chExt cx="487080" cy="228240"/>
              </a:xfrm>
            </p:grpSpPr>
            <p:pic>
              <p:nvPicPr>
                <p:cNvPr id="32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2860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5128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0" name=""/>
              <p:cNvGrpSpPr/>
              <p:nvPr/>
            </p:nvGrpSpPr>
            <p:grpSpPr>
              <a:xfrm>
                <a:off x="1828800" y="2895120"/>
                <a:ext cx="487080" cy="228240"/>
                <a:chOff x="1828800" y="2895120"/>
                <a:chExt cx="487080" cy="228240"/>
              </a:xfrm>
            </p:grpSpPr>
            <p:pic>
              <p:nvPicPr>
                <p:cNvPr id="33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8288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556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3" name=""/>
              <p:cNvGrpSpPr/>
              <p:nvPr/>
            </p:nvGrpSpPr>
            <p:grpSpPr>
              <a:xfrm>
                <a:off x="2286000" y="2895120"/>
                <a:ext cx="487080" cy="228240"/>
                <a:chOff x="2286000" y="2895120"/>
                <a:chExt cx="487080" cy="228240"/>
              </a:xfrm>
            </p:grpSpPr>
            <p:pic>
              <p:nvPicPr>
                <p:cNvPr id="33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2860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5128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6" name=""/>
              <p:cNvGrpSpPr/>
              <p:nvPr/>
            </p:nvGrpSpPr>
            <p:grpSpPr>
              <a:xfrm>
                <a:off x="1828800" y="3123720"/>
                <a:ext cx="487080" cy="228240"/>
                <a:chOff x="1828800" y="3123720"/>
                <a:chExt cx="487080" cy="228240"/>
              </a:xfrm>
            </p:grpSpPr>
            <p:pic>
              <p:nvPicPr>
                <p:cNvPr id="33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82880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05560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9" name=""/>
              <p:cNvGrpSpPr/>
              <p:nvPr/>
            </p:nvGrpSpPr>
            <p:grpSpPr>
              <a:xfrm>
                <a:off x="2286000" y="3123720"/>
                <a:ext cx="487080" cy="228240"/>
                <a:chOff x="2286000" y="3123720"/>
                <a:chExt cx="487080" cy="228240"/>
              </a:xfrm>
            </p:grpSpPr>
            <p:pic>
              <p:nvPicPr>
                <p:cNvPr id="34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28600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51280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42" name=""/>
              <p:cNvGrpSpPr/>
              <p:nvPr/>
            </p:nvGrpSpPr>
            <p:grpSpPr>
              <a:xfrm>
                <a:off x="2743200" y="2438280"/>
                <a:ext cx="487080" cy="228240"/>
                <a:chOff x="2743200" y="2438280"/>
                <a:chExt cx="487080" cy="228240"/>
              </a:xfrm>
            </p:grpSpPr>
            <p:pic>
              <p:nvPicPr>
                <p:cNvPr id="34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7432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970000" y="243828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45" name=""/>
              <p:cNvGrpSpPr/>
              <p:nvPr/>
            </p:nvGrpSpPr>
            <p:grpSpPr>
              <a:xfrm>
                <a:off x="2743200" y="2666520"/>
                <a:ext cx="487080" cy="228240"/>
                <a:chOff x="2743200" y="2666520"/>
                <a:chExt cx="487080" cy="228240"/>
              </a:xfrm>
            </p:grpSpPr>
            <p:pic>
              <p:nvPicPr>
                <p:cNvPr id="34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7432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970000" y="26665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48" name=""/>
              <p:cNvGrpSpPr/>
              <p:nvPr/>
            </p:nvGrpSpPr>
            <p:grpSpPr>
              <a:xfrm>
                <a:off x="2743200" y="2895120"/>
                <a:ext cx="487080" cy="228240"/>
                <a:chOff x="2743200" y="2895120"/>
                <a:chExt cx="487080" cy="228240"/>
              </a:xfrm>
            </p:grpSpPr>
            <p:pic>
              <p:nvPicPr>
                <p:cNvPr id="34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7432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970000" y="28951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1" name=""/>
              <p:cNvGrpSpPr/>
              <p:nvPr/>
            </p:nvGrpSpPr>
            <p:grpSpPr>
              <a:xfrm>
                <a:off x="2666880" y="3123720"/>
                <a:ext cx="487080" cy="228240"/>
                <a:chOff x="2666880" y="3123720"/>
                <a:chExt cx="487080" cy="228240"/>
              </a:xfrm>
            </p:grpSpPr>
            <p:pic>
              <p:nvPicPr>
                <p:cNvPr id="35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266688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2893680" y="312372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4" name=""/>
              <p:cNvGrpSpPr/>
              <p:nvPr/>
            </p:nvGrpSpPr>
            <p:grpSpPr>
              <a:xfrm>
                <a:off x="1828800" y="3276000"/>
                <a:ext cx="487080" cy="228240"/>
                <a:chOff x="1828800" y="3276000"/>
                <a:chExt cx="487080" cy="228240"/>
              </a:xfrm>
            </p:grpSpPr>
            <p:pic>
              <p:nvPicPr>
                <p:cNvPr id="3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18288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0556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7" name=""/>
              <p:cNvGrpSpPr/>
              <p:nvPr/>
            </p:nvGrpSpPr>
            <p:grpSpPr>
              <a:xfrm>
                <a:off x="2286000" y="3276000"/>
                <a:ext cx="487080" cy="228240"/>
                <a:chOff x="2286000" y="3276000"/>
                <a:chExt cx="487080" cy="228240"/>
              </a:xfrm>
            </p:grpSpPr>
            <p:pic>
              <p:nvPicPr>
                <p:cNvPr id="35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2860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5128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0" name=""/>
              <p:cNvGrpSpPr/>
              <p:nvPr/>
            </p:nvGrpSpPr>
            <p:grpSpPr>
              <a:xfrm>
                <a:off x="1828800" y="3504600"/>
                <a:ext cx="487080" cy="228240"/>
                <a:chOff x="1828800" y="3504600"/>
                <a:chExt cx="487080" cy="228240"/>
              </a:xfrm>
            </p:grpSpPr>
            <p:pic>
              <p:nvPicPr>
                <p:cNvPr id="361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82880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205560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3" name=""/>
              <p:cNvGrpSpPr/>
              <p:nvPr/>
            </p:nvGrpSpPr>
            <p:grpSpPr>
              <a:xfrm>
                <a:off x="2286000" y="3504600"/>
                <a:ext cx="487080" cy="228240"/>
                <a:chOff x="2286000" y="3504600"/>
                <a:chExt cx="487080" cy="228240"/>
              </a:xfrm>
            </p:grpSpPr>
            <p:pic>
              <p:nvPicPr>
                <p:cNvPr id="364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28600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51280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6" name=""/>
              <p:cNvGrpSpPr/>
              <p:nvPr/>
            </p:nvGrpSpPr>
            <p:grpSpPr>
              <a:xfrm>
                <a:off x="2743200" y="3276000"/>
                <a:ext cx="487080" cy="228240"/>
                <a:chOff x="2743200" y="3276000"/>
                <a:chExt cx="487080" cy="228240"/>
              </a:xfrm>
            </p:grpSpPr>
            <p:pic>
              <p:nvPicPr>
                <p:cNvPr id="367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27432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970000" y="32760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9" name=""/>
              <p:cNvGrpSpPr/>
              <p:nvPr/>
            </p:nvGrpSpPr>
            <p:grpSpPr>
              <a:xfrm>
                <a:off x="2666880" y="3504600"/>
                <a:ext cx="487080" cy="228240"/>
                <a:chOff x="2666880" y="3504600"/>
                <a:chExt cx="487080" cy="228240"/>
              </a:xfrm>
            </p:grpSpPr>
            <p:pic>
              <p:nvPicPr>
                <p:cNvPr id="370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266688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2893680" y="3504600"/>
                  <a:ext cx="260280" cy="22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72" name=""/>
          <p:cNvGrpSpPr/>
          <p:nvPr/>
        </p:nvGrpSpPr>
        <p:grpSpPr>
          <a:xfrm>
            <a:off x="3780000" y="2637000"/>
            <a:ext cx="1066680" cy="990360"/>
            <a:chOff x="3780000" y="2637000"/>
            <a:chExt cx="1066680" cy="990360"/>
          </a:xfrm>
        </p:grpSpPr>
        <p:sp>
          <p:nvSpPr>
            <p:cNvPr id="373" name=""/>
            <p:cNvSpPr/>
            <p:nvPr/>
          </p:nvSpPr>
          <p:spPr>
            <a:xfrm>
              <a:off x="3780000" y="2637000"/>
              <a:ext cx="1066680" cy="99036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856320" y="2712960"/>
              <a:ext cx="953640" cy="884520"/>
              <a:chOff x="3856320" y="2712960"/>
              <a:chExt cx="953640" cy="884520"/>
            </a:xfrm>
          </p:grpSpPr>
          <p:sp>
            <p:nvSpPr>
              <p:cNvPr id="375" name=""/>
              <p:cNvSpPr/>
              <p:nvPr/>
            </p:nvSpPr>
            <p:spPr>
              <a:xfrm>
                <a:off x="4465800" y="271296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56320" y="271296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60880" y="271296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65800" y="286560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56320" y="286560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60880" y="286560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65800" y="30178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56320" y="30178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60880" y="30178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65800" y="317016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56320" y="317016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60880" y="317016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65800" y="332280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56320" y="332280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60880" y="3322800"/>
                <a:ext cx="344160" cy="12204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65800" y="34750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56320" y="34750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60880" y="3475080"/>
                <a:ext cx="344160" cy="122400"/>
              </a:xfrm>
              <a:custGeom>
                <a:avLst/>
                <a:gdLst/>
                <a:ahLst/>
                <a:rect l="l" t="t" r="r" b="b"/>
                <a:pathLst>
                  <a:path w="217" h="77">
                    <a:moveTo>
                      <a:pt x="36" y="12"/>
                    </a:moveTo>
                    <a:cubicBezTo>
                      <a:pt x="56" y="8"/>
                      <a:pt x="76" y="0"/>
                      <a:pt x="96" y="0"/>
                    </a:cubicBezTo>
                    <a:cubicBezTo>
                      <a:pt x="217" y="0"/>
                      <a:pt x="30" y="38"/>
                      <a:pt x="180" y="0"/>
                    </a:cubicBezTo>
                    <a:cubicBezTo>
                      <a:pt x="188" y="12"/>
                      <a:pt x="207" y="22"/>
                      <a:pt x="204" y="36"/>
                    </a:cubicBezTo>
                    <a:cubicBezTo>
                      <a:pt x="201" y="48"/>
                      <a:pt x="180" y="45"/>
                      <a:pt x="168" y="48"/>
                    </a:cubicBezTo>
                    <a:cubicBezTo>
                      <a:pt x="52" y="77"/>
                      <a:pt x="154" y="45"/>
                      <a:pt x="72" y="72"/>
                    </a:cubicBezTo>
                    <a:cubicBezTo>
                      <a:pt x="63" y="69"/>
                      <a:pt x="0" y="52"/>
                      <a:pt x="0" y="36"/>
                    </a:cubicBezTo>
                    <a:cubicBezTo>
                      <a:pt x="0" y="22"/>
                      <a:pt x="36" y="12"/>
                      <a:pt x="36" y="12"/>
                    </a:cubicBez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3505320" y="4648320"/>
            <a:ext cx="2895480" cy="533160"/>
            <a:chOff x="3505320" y="4648320"/>
            <a:chExt cx="2895480" cy="533160"/>
          </a:xfrm>
        </p:grpSpPr>
        <p:sp>
          <p:nvSpPr>
            <p:cNvPr id="394" name=""/>
            <p:cNvSpPr/>
            <p:nvPr/>
          </p:nvSpPr>
          <p:spPr>
            <a:xfrm>
              <a:off x="3505320" y="4648320"/>
              <a:ext cx="289548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57"/>
            <a:stretch/>
          </p:blipFill>
          <p:spPr>
            <a:xfrm>
              <a:off x="5562720" y="4724280"/>
              <a:ext cx="5904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58"/>
            <a:stretch/>
          </p:blipFill>
          <p:spPr>
            <a:xfrm>
              <a:off x="5105520" y="4724280"/>
              <a:ext cx="5904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59"/>
            <a:stretch/>
          </p:blipFill>
          <p:spPr>
            <a:xfrm flipH="1" rot="10800000">
              <a:off x="3962520" y="4800240"/>
              <a:ext cx="1652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419720" y="4876920"/>
              <a:ext cx="262080" cy="95040"/>
            </a:xfrm>
            <a:custGeom>
              <a:avLst/>
              <a:gdLst/>
              <a:ahLst/>
              <a:rect l="l" t="t" r="r" b="b"/>
              <a:pathLst>
                <a:path w="165" h="60">
                  <a:moveTo>
                    <a:pt x="0" y="46"/>
                  </a:moveTo>
                  <a:cubicBezTo>
                    <a:pt x="8" y="34"/>
                    <a:pt x="11" y="15"/>
                    <a:pt x="24" y="10"/>
                  </a:cubicBezTo>
                  <a:cubicBezTo>
                    <a:pt x="49" y="0"/>
                    <a:pt x="88" y="50"/>
                    <a:pt x="96" y="58"/>
                  </a:cubicBezTo>
                  <a:cubicBezTo>
                    <a:pt x="116" y="54"/>
                    <a:pt x="142" y="60"/>
                    <a:pt x="156" y="46"/>
                  </a:cubicBezTo>
                  <a:cubicBezTo>
                    <a:pt x="165" y="37"/>
                    <a:pt x="154" y="18"/>
                    <a:pt x="144" y="10"/>
                  </a:cubicBezTo>
                  <a:cubicBezTo>
                    <a:pt x="134" y="3"/>
                    <a:pt x="120" y="10"/>
                    <a:pt x="108" y="10"/>
                  </a:cubicBezTo>
                </a:path>
              </a:pathLst>
            </a:custGeom>
            <a:solidFill>
              <a:srgbClr val="ffffcc"/>
            </a:solidFill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410080" y="2362320"/>
            <a:ext cx="914400" cy="1523880"/>
            <a:chOff x="5410080" y="2362320"/>
            <a:chExt cx="914400" cy="1523880"/>
          </a:xfrm>
        </p:grpSpPr>
        <p:grpSp>
          <p:nvGrpSpPr>
            <p:cNvPr id="400" name=""/>
            <p:cNvGrpSpPr/>
            <p:nvPr/>
          </p:nvGrpSpPr>
          <p:grpSpPr>
            <a:xfrm>
              <a:off x="5410080" y="2362320"/>
              <a:ext cx="914400" cy="1523880"/>
              <a:chOff x="5410080" y="2362320"/>
              <a:chExt cx="914400" cy="1523880"/>
            </a:xfrm>
          </p:grpSpPr>
          <p:pic>
            <p:nvPicPr>
              <p:cNvPr id="401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5563800" y="2362320"/>
                <a:ext cx="76068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5562360" y="2743200"/>
                <a:ext cx="76032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5410080" y="2971800"/>
                <a:ext cx="76032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4" name=""/>
            <p:cNvSpPr/>
            <p:nvPr/>
          </p:nvSpPr>
          <p:spPr>
            <a:xfrm>
              <a:off x="5638680" y="2743200"/>
              <a:ext cx="609840" cy="6098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7010280" y="2133720"/>
            <a:ext cx="1474920" cy="1752480"/>
            <a:chOff x="7010280" y="2133720"/>
            <a:chExt cx="1474920" cy="1752480"/>
          </a:xfrm>
        </p:grpSpPr>
        <p:pic>
          <p:nvPicPr>
            <p:cNvPr id="406" name="" descr=""/>
            <p:cNvPicPr/>
            <p:nvPr/>
          </p:nvPicPr>
          <p:blipFill>
            <a:blip r:embed="rId63"/>
            <a:stretch/>
          </p:blipFill>
          <p:spPr>
            <a:xfrm>
              <a:off x="7010280" y="2133720"/>
              <a:ext cx="14749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238880" y="2819520"/>
              <a:ext cx="38124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286000" y="1219320"/>
            <a:ext cx="1059120" cy="1142640"/>
            <a:chOff x="2286000" y="1219320"/>
            <a:chExt cx="1059120" cy="1142640"/>
          </a:xfrm>
        </p:grpSpPr>
        <p:sp>
          <p:nvSpPr>
            <p:cNvPr id="409" name=""/>
            <p:cNvSpPr/>
            <p:nvPr/>
          </p:nvSpPr>
          <p:spPr>
            <a:xfrm flipV="1">
              <a:off x="2286000" y="1676160"/>
              <a:ext cx="685800" cy="6858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37800" y="1219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c0c0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352680" y="297180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267080" y="1295280"/>
            <a:ext cx="1183320" cy="1294920"/>
            <a:chOff x="4267080" y="1295280"/>
            <a:chExt cx="1183320" cy="1294920"/>
          </a:xfrm>
        </p:grpSpPr>
        <p:sp>
          <p:nvSpPr>
            <p:cNvPr id="413" name=""/>
            <p:cNvSpPr/>
            <p:nvPr/>
          </p:nvSpPr>
          <p:spPr>
            <a:xfrm flipV="1">
              <a:off x="4267080" y="1782000"/>
              <a:ext cx="804960" cy="8082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43080" y="1295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c0c0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859280" y="299736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791320" y="1295280"/>
            <a:ext cx="1182600" cy="1294920"/>
            <a:chOff x="5791320" y="1295280"/>
            <a:chExt cx="1182600" cy="1294920"/>
          </a:xfrm>
        </p:grpSpPr>
        <p:sp>
          <p:nvSpPr>
            <p:cNvPr id="417" name=""/>
            <p:cNvSpPr/>
            <p:nvPr/>
          </p:nvSpPr>
          <p:spPr>
            <a:xfrm flipV="1">
              <a:off x="5791320" y="1782000"/>
              <a:ext cx="804600" cy="8082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66600" y="1295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c0c0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248520" y="29718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238880" y="1295280"/>
            <a:ext cx="1183320" cy="1294920"/>
            <a:chOff x="7238880" y="1295280"/>
            <a:chExt cx="1183320" cy="1294920"/>
          </a:xfrm>
        </p:grpSpPr>
        <p:sp>
          <p:nvSpPr>
            <p:cNvPr id="421" name=""/>
            <p:cNvSpPr/>
            <p:nvPr/>
          </p:nvSpPr>
          <p:spPr>
            <a:xfrm flipV="1">
              <a:off x="7238880" y="1782000"/>
              <a:ext cx="804960" cy="8082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14880" y="1295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c0c0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170440" y="388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生产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13120" y="36576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一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消费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4720" y="3581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二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消费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242120" y="38098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消费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3434400">
            <a:off x="3124080" y="41148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7977000">
            <a:off x="6198840" y="40777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4387200">
            <a:off x="4161600" y="399744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6488400">
            <a:off x="5485680" y="40384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blipFill rotWithShape="0">
            <a:blip r:embed="rId6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40680" y="522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分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59480" y="580536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单向、逐级递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095880" y="5181480"/>
            <a:ext cx="906840" cy="977760"/>
            <a:chOff x="6095880" y="5181480"/>
            <a:chExt cx="906840" cy="977760"/>
          </a:xfrm>
        </p:grpSpPr>
        <p:sp>
          <p:nvSpPr>
            <p:cNvPr id="434" name=""/>
            <p:cNvSpPr/>
            <p:nvPr/>
          </p:nvSpPr>
          <p:spPr>
            <a:xfrm>
              <a:off x="6095880" y="5181480"/>
              <a:ext cx="609840" cy="60984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95400" y="5638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c0c0"/>
                  </a:solidFill>
                  <a:latin typeface="Times New Roman"/>
                  <a:ea typeface="仿宋_GB2312"/>
                </a:rPr>
                <a:t>呼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982880" y="2743200"/>
            <a:ext cx="1096920" cy="825120"/>
            <a:chOff x="1982880" y="2743200"/>
            <a:chExt cx="1096920" cy="825120"/>
          </a:xfrm>
        </p:grpSpPr>
        <p:sp>
          <p:nvSpPr>
            <p:cNvPr id="437" name=""/>
            <p:cNvSpPr/>
            <p:nvPr/>
          </p:nvSpPr>
          <p:spPr>
            <a:xfrm>
              <a:off x="2013120" y="2895840"/>
              <a:ext cx="10666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2880" y="274320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ffff"/>
                  </a:solidFill>
                  <a:latin typeface="Times New Roman"/>
                  <a:ea typeface="隶书"/>
                </a:rPr>
                <a:t>100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563640" y="2781360"/>
            <a:ext cx="1488240" cy="764280"/>
            <a:chOff x="3563640" y="2781360"/>
            <a:chExt cx="1488240" cy="764280"/>
          </a:xfrm>
        </p:grpSpPr>
        <p:sp>
          <p:nvSpPr>
            <p:cNvPr id="440" name=""/>
            <p:cNvSpPr/>
            <p:nvPr/>
          </p:nvSpPr>
          <p:spPr>
            <a:xfrm>
              <a:off x="3564000" y="278136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63640" y="2781360"/>
              <a:ext cx="148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ffff"/>
                  </a:solidFill>
                  <a:latin typeface="Times New Roman"/>
                  <a:ea typeface="隶书"/>
                </a:rPr>
                <a:t>10-2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508720" y="2781360"/>
            <a:ext cx="914400" cy="703440"/>
            <a:chOff x="5508720" y="2781360"/>
            <a:chExt cx="914400" cy="703440"/>
          </a:xfrm>
        </p:grpSpPr>
        <p:sp>
          <p:nvSpPr>
            <p:cNvPr id="443" name=""/>
            <p:cNvSpPr/>
            <p:nvPr/>
          </p:nvSpPr>
          <p:spPr>
            <a:xfrm>
              <a:off x="5508720" y="2781360"/>
              <a:ext cx="914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10160" y="2781360"/>
              <a:ext cx="85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1-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021800" y="2708280"/>
            <a:ext cx="1476000" cy="642600"/>
            <a:chOff x="7021800" y="2708280"/>
            <a:chExt cx="1476000" cy="642600"/>
          </a:xfrm>
        </p:grpSpPr>
        <p:sp>
          <p:nvSpPr>
            <p:cNvPr id="446" name=""/>
            <p:cNvSpPr/>
            <p:nvPr/>
          </p:nvSpPr>
          <p:spPr>
            <a:xfrm>
              <a:off x="7096320" y="2784600"/>
              <a:ext cx="1371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21800" y="2708280"/>
              <a:ext cx="14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0.1-0.8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evt="end">
                                        <p:tn val="514"/>
                                      </p:cond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一、生 态 系 统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84000" y="2133360"/>
            <a:ext cx="47754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态系统的定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态系统的组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态系统的结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食物链和食物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态系统的功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、生态系统的物质循环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态系统中物质循环在不断地进行着。碳、氢、氧、氮、磷、硫是构成有机体地主要元素，因而这些物质的循环是生态系统的基本物质循环。另外，还有几十种微量元素也是生命活动必不可少的。在生态系统中也构成了各自的循环，与环境污染密切相关的主要有水、碳和氮的循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67984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生态系统的物质循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2362320"/>
            <a:ext cx="2514600" cy="12189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  <a:ea typeface="隶书"/>
              </a:rPr>
              <a:t>非生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  <a:ea typeface="隶书"/>
              </a:rPr>
              <a:t>环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1447920"/>
            <a:ext cx="251460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生产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1320" y="2438280"/>
            <a:ext cx="2514600" cy="1219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  <a:ea typeface="隶书"/>
              </a:rPr>
              <a:t>消费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505320"/>
            <a:ext cx="2514600" cy="12189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cc"/>
                </a:solidFill>
                <a:latin typeface="Times New Roman"/>
                <a:ea typeface="隶书"/>
              </a:rPr>
              <a:t>分解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6931400">
            <a:off x="2665080" y="2135880"/>
            <a:ext cx="1523160" cy="167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1911206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1911206"/>
              </a:path>
            </a:pathLst>
          </a:custGeom>
          <a:noFill/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1166800">
            <a:off x="4927320" y="2092680"/>
            <a:ext cx="1523160" cy="167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48" y="1051"/>
                </a:moveTo>
                <a:arcTo wR="10800" hR="10800" stAng="-3870504" swAng="2461359"/>
                <a:lnTo>
                  <a:pt x="10800" y="10800"/>
                </a:lnTo>
                <a:close/>
              </a:path>
              <a:path fill="none" w="21600" h="21600">
                <a:moveTo>
                  <a:pt x="15448" y="1051"/>
                </a:moveTo>
                <a:arcTo wR="10800" hR="10800" stAng="-3870504" swAng="2461359"/>
              </a:path>
            </a:pathLst>
          </a:custGeom>
          <a:noFill/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4808400">
            <a:off x="4590720" y="2427120"/>
            <a:ext cx="1523160" cy="167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2323344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2323344"/>
              </a:path>
            </a:pathLst>
          </a:custGeom>
          <a:noFill/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187400">
            <a:off x="3175560" y="2304360"/>
            <a:ext cx="1523880" cy="167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3828537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3828537"/>
              </a:path>
            </a:pathLst>
          </a:custGeom>
          <a:noFill/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9511200">
            <a:off x="2710800" y="2177280"/>
            <a:ext cx="1523880" cy="167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42" y="1917"/>
                </a:moveTo>
                <a:arcTo wR="10800" hR="10800" stAng="-3320352" swAng="2295770"/>
                <a:lnTo>
                  <a:pt x="10800" y="10800"/>
                </a:lnTo>
                <a:close/>
              </a:path>
              <a:path fill="none" w="21600" h="21600">
                <a:moveTo>
                  <a:pt x="16942" y="1917"/>
                </a:moveTo>
                <a:arcTo wR="10800" hR="10800" stAng="-3320352" swAng="2295770"/>
              </a:path>
            </a:pathLst>
          </a:custGeom>
          <a:noFill/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、水循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物体组成的成份中大部分是水，体内进行的一切生物化学变化也都离不开水。另一方面水又是生态系统中能量流动和物质循环的介质，对调节气候和净化环境也起了十分重要的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球上的水是通过气体的形式循环的。海洋、江河、湖泊以及土壤中的水在阳光的作用下变成水蒸汽进入大气中；陆生植物从土壤中吸收的水分大部分通过蒸腾作用进入大气。大气中的水蒸气遇冷后变成雨、雪、冰雹等降落到地面，从而形成稳定的平衡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、碳循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碳存在于生物体内和无机环境中，在生物体内，碳是构成生物体的重要元素，没有碳就没有生命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0" y="49320"/>
            <a:ext cx="906768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、氮循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物固氮：每年约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4X10</a:t>
            </a:r>
            <a:r>
              <a:rPr b="1" lang="zh-CN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工业固氮：每年大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0X10</a:t>
            </a:r>
            <a:r>
              <a:rPr b="1" lang="zh-CN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电离固氮：每年大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.6X10</a:t>
            </a:r>
            <a:r>
              <a:rPr b="1" lang="zh-CN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岩浆固氮：每年大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.2X10</a:t>
            </a:r>
            <a:r>
              <a:rPr b="1" lang="zh-CN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139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94328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540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磷  循  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（一）生态系统的定义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4064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义一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一定的地域里，生物与环境相互作用所形成的统一整体，叫生态系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义二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生态系统是指生命系统和环境系统在特定空间的组合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、生态系统中的信息联系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55640" y="2060280"/>
            <a:ext cx="36716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营养信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化学信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物理信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行为信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二、生态平衡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一）概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态系统发展到一定的阶段，它的生产者、消费者、分解者之间能够较长时间地保持着一种动态平衡；也就是说，它的能量流动和物质循环能较长时间地保持着一种动态平衡，这种平衡状态就叫做生态平衡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（二）生态平衡的破坏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907640" y="2276280"/>
            <a:ext cx="5185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物种类成份的改变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环境因素的改变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信息系统的破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三、生态学在环境保护中的应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557000"/>
            <a:ext cx="884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环境质量的生物监测与评价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阐明污染物在环境中的迁移转换规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利用生态系统的自净能力消除污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环境容量和环境标准的制订提供依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保护和合理利用自然资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管理环境和保护环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70160" y="1660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40392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二）生态系统的组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564000" y="1483560"/>
            <a:ext cx="2663280" cy="642600"/>
            <a:chOff x="3564000" y="1483560"/>
            <a:chExt cx="2663280" cy="642600"/>
          </a:xfrm>
        </p:grpSpPr>
        <p:sp>
          <p:nvSpPr>
            <p:cNvPr id="91" name=""/>
            <p:cNvSpPr/>
            <p:nvPr/>
          </p:nvSpPr>
          <p:spPr>
            <a:xfrm>
              <a:off x="3564000" y="1636560"/>
              <a:ext cx="2663280" cy="457200"/>
            </a:xfrm>
            <a:prstGeom prst="rect">
              <a:avLst/>
            </a:prstGeom>
            <a:solidFill>
              <a:srgbClr val="879cc8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84360" y="1483560"/>
              <a:ext cx="1278000" cy="642600"/>
            </a:xfrm>
            <a:prstGeom prst="rect">
              <a:avLst/>
            </a:prstGeom>
            <a:solidFill>
              <a:srgbClr val="879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生态系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256440" y="2491560"/>
            <a:ext cx="1905120" cy="642600"/>
            <a:chOff x="6256440" y="2491560"/>
            <a:chExt cx="1905120" cy="642600"/>
          </a:xfrm>
        </p:grpSpPr>
        <p:sp>
          <p:nvSpPr>
            <p:cNvPr id="94" name=""/>
            <p:cNvSpPr/>
            <p:nvPr/>
          </p:nvSpPr>
          <p:spPr>
            <a:xfrm>
              <a:off x="6256440" y="2584080"/>
              <a:ext cx="190512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0640" y="2491560"/>
              <a:ext cx="1552320" cy="64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非生物环境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03640" y="2133720"/>
            <a:ext cx="4038480" cy="304200"/>
            <a:chOff x="3203640" y="2133720"/>
            <a:chExt cx="4038480" cy="304200"/>
          </a:xfrm>
        </p:grpSpPr>
        <p:sp>
          <p:nvSpPr>
            <p:cNvPr id="97" name=""/>
            <p:cNvSpPr/>
            <p:nvPr/>
          </p:nvSpPr>
          <p:spPr>
            <a:xfrm>
              <a:off x="4956120" y="2133720"/>
              <a:ext cx="0" cy="1519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03640" y="2285640"/>
              <a:ext cx="403848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3640" y="2285640"/>
              <a:ext cx="0" cy="152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42120" y="2285640"/>
              <a:ext cx="0" cy="152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71480" y="3212640"/>
            <a:ext cx="1447920" cy="642600"/>
            <a:chOff x="771480" y="3212640"/>
            <a:chExt cx="1447920" cy="642600"/>
          </a:xfrm>
        </p:grpSpPr>
        <p:sp>
          <p:nvSpPr>
            <p:cNvPr id="102" name=""/>
            <p:cNvSpPr/>
            <p:nvPr/>
          </p:nvSpPr>
          <p:spPr>
            <a:xfrm>
              <a:off x="771480" y="3381480"/>
              <a:ext cx="1447920" cy="4572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31400" y="3212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00ff"/>
                  </a:solidFill>
                  <a:latin typeface="Times New Roman"/>
                  <a:ea typeface="隶书"/>
                </a:rPr>
                <a:t>生产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351800" y="3860640"/>
            <a:ext cx="455040" cy="1693440"/>
            <a:chOff x="1351800" y="3860640"/>
            <a:chExt cx="455040" cy="1693440"/>
          </a:xfrm>
        </p:grpSpPr>
        <p:sp>
          <p:nvSpPr>
            <p:cNvPr id="105" name=""/>
            <p:cNvSpPr/>
            <p:nvPr/>
          </p:nvSpPr>
          <p:spPr>
            <a:xfrm>
              <a:off x="1351800" y="3979080"/>
              <a:ext cx="45504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色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植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9900"/>
                  </a:solidFill>
                  <a:latin typeface="Times New Roman"/>
                  <a:ea typeface="隶书"/>
                </a:rPr>
                <a:t>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79320" y="3860640"/>
              <a:ext cx="0" cy="30492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290680" y="2420280"/>
            <a:ext cx="1828440" cy="646560"/>
            <a:chOff x="2290680" y="2420280"/>
            <a:chExt cx="1828440" cy="646560"/>
          </a:xfrm>
        </p:grpSpPr>
        <p:sp>
          <p:nvSpPr>
            <p:cNvPr id="108" name=""/>
            <p:cNvSpPr/>
            <p:nvPr/>
          </p:nvSpPr>
          <p:spPr>
            <a:xfrm>
              <a:off x="2290680" y="2496960"/>
              <a:ext cx="1828440" cy="569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66080" y="24202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隶书"/>
                </a:rPr>
                <a:t>生物群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76360" y="2997360"/>
            <a:ext cx="3504960" cy="304200"/>
            <a:chOff x="1476360" y="2997360"/>
            <a:chExt cx="3504960" cy="304200"/>
          </a:xfrm>
        </p:grpSpPr>
        <p:sp>
          <p:nvSpPr>
            <p:cNvPr id="111" name=""/>
            <p:cNvSpPr/>
            <p:nvPr/>
          </p:nvSpPr>
          <p:spPr>
            <a:xfrm>
              <a:off x="3228840" y="2997360"/>
              <a:ext cx="0" cy="152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76360" y="3149640"/>
              <a:ext cx="350496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76360" y="3149640"/>
              <a:ext cx="0" cy="1519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81320" y="3149640"/>
              <a:ext cx="0" cy="1519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28840" y="3149640"/>
              <a:ext cx="0" cy="1519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503080" y="3212280"/>
            <a:ext cx="1371600" cy="642600"/>
            <a:chOff x="2503080" y="3212280"/>
            <a:chExt cx="1371600" cy="642600"/>
          </a:xfrm>
        </p:grpSpPr>
        <p:sp>
          <p:nvSpPr>
            <p:cNvPr id="117" name=""/>
            <p:cNvSpPr/>
            <p:nvPr/>
          </p:nvSpPr>
          <p:spPr>
            <a:xfrm>
              <a:off x="2503080" y="3348360"/>
              <a:ext cx="1371600" cy="46332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87040" y="3212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消费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09240" y="3860280"/>
            <a:ext cx="455040" cy="2243880"/>
            <a:chOff x="3009240" y="3860280"/>
            <a:chExt cx="455040" cy="2243880"/>
          </a:xfrm>
        </p:grpSpPr>
        <p:sp>
          <p:nvSpPr>
            <p:cNvPr id="120" name=""/>
            <p:cNvSpPr/>
            <p:nvPr/>
          </p:nvSpPr>
          <p:spPr>
            <a:xfrm>
              <a:off x="3009240" y="4090680"/>
              <a:ext cx="455040" cy="20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各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种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动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220920" y="3860280"/>
              <a:ext cx="0" cy="381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156200" y="3212280"/>
            <a:ext cx="1447560" cy="642600"/>
            <a:chOff x="4156200" y="3212280"/>
            <a:chExt cx="1447560" cy="642600"/>
          </a:xfrm>
        </p:grpSpPr>
        <p:sp>
          <p:nvSpPr>
            <p:cNvPr id="123" name=""/>
            <p:cNvSpPr/>
            <p:nvPr/>
          </p:nvSpPr>
          <p:spPr>
            <a:xfrm>
              <a:off x="4156200" y="3381120"/>
              <a:ext cx="1447560" cy="4572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16120" y="3212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分解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36160" y="3860640"/>
            <a:ext cx="455040" cy="2163960"/>
            <a:chOff x="4736160" y="3860640"/>
            <a:chExt cx="455040" cy="2163960"/>
          </a:xfrm>
        </p:grpSpPr>
        <p:sp>
          <p:nvSpPr>
            <p:cNvPr id="126" name=""/>
            <p:cNvSpPr/>
            <p:nvPr/>
          </p:nvSpPr>
          <p:spPr>
            <a:xfrm>
              <a:off x="4736160" y="4394880"/>
              <a:ext cx="4550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0c0c0"/>
                  </a:solidFill>
                  <a:latin typeface="Times New Roman"/>
                  <a:ea typeface="隶书"/>
                </a:rPr>
                <a:t>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0c0c0"/>
                  </a:solidFill>
                  <a:latin typeface="Times New Roman"/>
                  <a:ea typeface="隶书"/>
                </a:rPr>
                <a:t>微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0c0c0"/>
                  </a:solidFill>
                  <a:latin typeface="Times New Roman"/>
                  <a:ea typeface="隶书"/>
                </a:rPr>
                <a:t>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c0c0c0"/>
                  </a:solidFill>
                  <a:latin typeface="Times New Roman"/>
                  <a:ea typeface="隶书"/>
                </a:rPr>
                <a:t>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47840" y="3860640"/>
              <a:ext cx="0" cy="6858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041600" y="3213000"/>
            <a:ext cx="455040" cy="3198600"/>
            <a:chOff x="7041600" y="3213000"/>
            <a:chExt cx="455040" cy="3198600"/>
          </a:xfrm>
        </p:grpSpPr>
        <p:sp>
          <p:nvSpPr>
            <p:cNvPr id="129" name=""/>
            <p:cNvSpPr/>
            <p:nvPr/>
          </p:nvSpPr>
          <p:spPr>
            <a:xfrm>
              <a:off x="7041600" y="3520440"/>
              <a:ext cx="45504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无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质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3280" y="3213000"/>
              <a:ext cx="0" cy="5331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生产者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要指绿色植物，它们能够利用阳光，通过光合作用，把无机物制造成有机物，把光能转变成储存在有机物中的化学能。太阳能通过生产者源源不断地输入生态系统，成为消费者和分解者的能源，所以生产者是生态系中的主要组成部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31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消费者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包括各种动物，它们直接或间接地依赖绿色植物制造出的有机物生存。根据它们的食物，将直接以植物为食的动物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草食动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，而将以草食动物或小型动物为食的动物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肉食动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98100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动物中直接以植物为食的草食动物叫一级消费者或初级消费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以草食动物为食的肉食动物叫二级消费者或次级消费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以小型动物为食的肉食动物叫三级消费者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219320" y="533520"/>
            <a:ext cx="7805520" cy="3681360"/>
            <a:chOff x="1219320" y="533520"/>
            <a:chExt cx="7805520" cy="3681360"/>
          </a:xfrm>
        </p:grpSpPr>
        <p:sp>
          <p:nvSpPr>
            <p:cNvPr id="138" name=""/>
            <p:cNvSpPr/>
            <p:nvPr/>
          </p:nvSpPr>
          <p:spPr>
            <a:xfrm>
              <a:off x="3429000" y="3276720"/>
              <a:ext cx="1371600" cy="6858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219320" y="533520"/>
              <a:ext cx="7805520" cy="3681360"/>
              <a:chOff x="1219320" y="533520"/>
              <a:chExt cx="7805520" cy="3681360"/>
            </a:xfrm>
          </p:grpSpPr>
          <p:pic>
            <p:nvPicPr>
              <p:cNvPr id="1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72400" y="1981080"/>
                <a:ext cx="104616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5880" y="2971800"/>
                <a:ext cx="93528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143000"/>
                <a:ext cx="1752480" cy="15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315200" y="228600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48720" y="533520"/>
                <a:ext cx="993600" cy="99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248520" y="3124080"/>
                <a:ext cx="93492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00800" y="3276720"/>
                <a:ext cx="93492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696080" y="236232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001000" y="228600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19320" y="243828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1981080" y="2971800"/>
                <a:ext cx="7043760" cy="1012680"/>
              </a:xfrm>
              <a:custGeom>
                <a:avLst/>
                <a:gdLst/>
                <a:ahLst/>
                <a:rect l="l" t="t" r="r" b="b"/>
                <a:pathLst>
                  <a:path w="3990" h="737">
                    <a:moveTo>
                      <a:pt x="3990" y="494"/>
                    </a:moveTo>
                    <a:cubicBezTo>
                      <a:pt x="3979" y="498"/>
                      <a:pt x="3969" y="502"/>
                      <a:pt x="3958" y="505"/>
                    </a:cubicBezTo>
                    <a:cubicBezTo>
                      <a:pt x="3930" y="513"/>
                      <a:pt x="3901" y="517"/>
                      <a:pt x="3874" y="526"/>
                    </a:cubicBezTo>
                    <a:cubicBezTo>
                      <a:pt x="3853" y="533"/>
                      <a:pt x="3832" y="540"/>
                      <a:pt x="3811" y="547"/>
                    </a:cubicBezTo>
                    <a:cubicBezTo>
                      <a:pt x="3800" y="551"/>
                      <a:pt x="3779" y="558"/>
                      <a:pt x="3779" y="558"/>
                    </a:cubicBezTo>
                    <a:cubicBezTo>
                      <a:pt x="3605" y="532"/>
                      <a:pt x="3428" y="533"/>
                      <a:pt x="3253" y="526"/>
                    </a:cubicBezTo>
                    <a:cubicBezTo>
                      <a:pt x="3217" y="513"/>
                      <a:pt x="3184" y="495"/>
                      <a:pt x="3147" y="484"/>
                    </a:cubicBezTo>
                    <a:cubicBezTo>
                      <a:pt x="3026" y="498"/>
                      <a:pt x="2920" y="468"/>
                      <a:pt x="2800" y="463"/>
                    </a:cubicBezTo>
                    <a:cubicBezTo>
                      <a:pt x="2656" y="457"/>
                      <a:pt x="2512" y="456"/>
                      <a:pt x="2368" y="452"/>
                    </a:cubicBezTo>
                    <a:cubicBezTo>
                      <a:pt x="2276" y="422"/>
                      <a:pt x="2332" y="436"/>
                      <a:pt x="2137" y="452"/>
                    </a:cubicBezTo>
                    <a:cubicBezTo>
                      <a:pt x="2116" y="454"/>
                      <a:pt x="2095" y="458"/>
                      <a:pt x="2074" y="463"/>
                    </a:cubicBezTo>
                    <a:cubicBezTo>
                      <a:pt x="2052" y="468"/>
                      <a:pt x="2010" y="484"/>
                      <a:pt x="2010" y="484"/>
                    </a:cubicBezTo>
                    <a:cubicBezTo>
                      <a:pt x="1954" y="480"/>
                      <a:pt x="1897" y="485"/>
                      <a:pt x="1842" y="473"/>
                    </a:cubicBezTo>
                    <a:cubicBezTo>
                      <a:pt x="1802" y="465"/>
                      <a:pt x="1794" y="388"/>
                      <a:pt x="1737" y="368"/>
                    </a:cubicBezTo>
                    <a:cubicBezTo>
                      <a:pt x="1693" y="324"/>
                      <a:pt x="1675" y="277"/>
                      <a:pt x="1621" y="242"/>
                    </a:cubicBezTo>
                    <a:cubicBezTo>
                      <a:pt x="1567" y="161"/>
                      <a:pt x="1504" y="93"/>
                      <a:pt x="1421" y="42"/>
                    </a:cubicBezTo>
                    <a:cubicBezTo>
                      <a:pt x="1408" y="34"/>
                      <a:pt x="1394" y="27"/>
                      <a:pt x="1379" y="21"/>
                    </a:cubicBezTo>
                    <a:cubicBezTo>
                      <a:pt x="1358" y="13"/>
                      <a:pt x="1316" y="0"/>
                      <a:pt x="1316" y="0"/>
                    </a:cubicBezTo>
                    <a:cubicBezTo>
                      <a:pt x="1190" y="7"/>
                      <a:pt x="1174" y="3"/>
                      <a:pt x="1084" y="31"/>
                    </a:cubicBezTo>
                    <a:cubicBezTo>
                      <a:pt x="1041" y="75"/>
                      <a:pt x="1023" y="100"/>
                      <a:pt x="968" y="136"/>
                    </a:cubicBezTo>
                    <a:cubicBezTo>
                      <a:pt x="936" y="158"/>
                      <a:pt x="895" y="153"/>
                      <a:pt x="863" y="179"/>
                    </a:cubicBezTo>
                    <a:cubicBezTo>
                      <a:pt x="840" y="198"/>
                      <a:pt x="817" y="217"/>
                      <a:pt x="800" y="242"/>
                    </a:cubicBezTo>
                    <a:cubicBezTo>
                      <a:pt x="793" y="252"/>
                      <a:pt x="788" y="264"/>
                      <a:pt x="779" y="273"/>
                    </a:cubicBezTo>
                    <a:cubicBezTo>
                      <a:pt x="732" y="319"/>
                      <a:pt x="759" y="265"/>
                      <a:pt x="716" y="326"/>
                    </a:cubicBezTo>
                    <a:cubicBezTo>
                      <a:pt x="677" y="382"/>
                      <a:pt x="662" y="437"/>
                      <a:pt x="600" y="473"/>
                    </a:cubicBezTo>
                    <a:cubicBezTo>
                      <a:pt x="524" y="517"/>
                      <a:pt x="451" y="559"/>
                      <a:pt x="379" y="610"/>
                    </a:cubicBezTo>
                    <a:cubicBezTo>
                      <a:pt x="367" y="619"/>
                      <a:pt x="361" y="636"/>
                      <a:pt x="347" y="642"/>
                    </a:cubicBezTo>
                    <a:cubicBezTo>
                      <a:pt x="321" y="654"/>
                      <a:pt x="263" y="663"/>
                      <a:pt x="263" y="663"/>
                    </a:cubicBezTo>
                    <a:cubicBezTo>
                      <a:pt x="186" y="713"/>
                      <a:pt x="90" y="737"/>
                      <a:pt x="0" y="737"/>
                    </a:cubicBezTo>
                  </a:path>
                </a:pathLst>
              </a:custGeom>
              <a:noFill/>
              <a:ln w="3816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5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00200" y="2514600"/>
                <a:ext cx="104616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05320" y="2590920"/>
                <a:ext cx="9903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52880" y="2819520"/>
                <a:ext cx="84636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71600" y="205740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752480" y="2286000"/>
                <a:ext cx="561960" cy="137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6" name=""/>
              <p:cNvGrpSpPr/>
              <p:nvPr/>
            </p:nvGrpSpPr>
            <p:grpSpPr>
              <a:xfrm>
                <a:off x="4419720" y="2895480"/>
                <a:ext cx="333360" cy="250920"/>
                <a:chOff x="4419720" y="2895480"/>
                <a:chExt cx="333360" cy="250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419720" y="29462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68760" y="28954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572000" y="2895480"/>
                <a:ext cx="333360" cy="250920"/>
                <a:chOff x="4572000" y="2895480"/>
                <a:chExt cx="333360" cy="2509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572000" y="29462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721040" y="28954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648320" y="3048120"/>
                <a:ext cx="333360" cy="250200"/>
                <a:chOff x="4648320" y="3048120"/>
                <a:chExt cx="333360" cy="2502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648320" y="30985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97360" y="30481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2971800"/>
                <a:ext cx="333360" cy="250920"/>
                <a:chOff x="2971800" y="2971800"/>
                <a:chExt cx="333360" cy="2509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302256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120840" y="297180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124080" y="2895480"/>
                <a:ext cx="333360" cy="250920"/>
                <a:chOff x="3124080" y="2895480"/>
                <a:chExt cx="333360" cy="2509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124080" y="29462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273120" y="28954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14600" y="3276720"/>
                <a:ext cx="333360" cy="250200"/>
                <a:chOff x="2514600" y="3276720"/>
                <a:chExt cx="333360" cy="250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514600" y="33271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663640" y="32767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867280" y="3276720"/>
                <a:ext cx="333360" cy="250200"/>
                <a:chOff x="5867280" y="3276720"/>
                <a:chExt cx="333360" cy="250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867280" y="33271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16320" y="32767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638680" y="3276720"/>
                <a:ext cx="333360" cy="250200"/>
                <a:chOff x="5638680" y="3276720"/>
                <a:chExt cx="333360" cy="250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638680" y="33271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787720" y="32767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666880" y="3200400"/>
                <a:ext cx="333360" cy="250920"/>
                <a:chOff x="2666880" y="3200400"/>
                <a:chExt cx="333360" cy="250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666880" y="325116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15920" y="320040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743200" y="3048120"/>
                <a:ext cx="333360" cy="250200"/>
                <a:chOff x="2743200" y="3048120"/>
                <a:chExt cx="333360" cy="2502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743200" y="30985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92240" y="30481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172200" y="3276720"/>
                <a:ext cx="333360" cy="250200"/>
                <a:chOff x="6172200" y="3276720"/>
                <a:chExt cx="333360" cy="250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172200" y="3327120"/>
                  <a:ext cx="333360" cy="19980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21240" y="3276720"/>
                  <a:ext cx="50760" cy="21744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162920" y="3352680"/>
                <a:ext cx="333360" cy="250920"/>
                <a:chOff x="7162920" y="3352680"/>
                <a:chExt cx="333360" cy="2509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162920" y="34034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11960" y="33526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362320" y="3429000"/>
                <a:ext cx="333360" cy="250920"/>
                <a:chOff x="2362320" y="3429000"/>
                <a:chExt cx="333360" cy="2509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362320" y="347976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511360" y="342900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800600" y="3124080"/>
                <a:ext cx="333360" cy="250920"/>
                <a:chOff x="4800600" y="3124080"/>
                <a:chExt cx="333360" cy="2509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800600" y="31748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49640" y="31240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noFill/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438280" y="3352680"/>
                <a:ext cx="333360" cy="250920"/>
                <a:chOff x="2438280" y="3352680"/>
                <a:chExt cx="333360" cy="2509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438280" y="340344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587320" y="335268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 rot="3322200">
                <a:off x="7532280" y="1266480"/>
                <a:ext cx="152640" cy="838080"/>
              </a:xfrm>
              <a:prstGeom prst="downArrow">
                <a:avLst>
                  <a:gd name="adj1" fmla="val 50000"/>
                  <a:gd name="adj2" fmla="val 137264"/>
                </a:avLst>
              </a:prstGeom>
              <a:solidFill>
                <a:srgbClr val="879cc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48000">
                <a:off x="7429320" y="875880"/>
                <a:ext cx="152640" cy="533520"/>
              </a:xfrm>
              <a:prstGeom prst="downArrow">
                <a:avLst>
                  <a:gd name="adj1" fmla="val 50000"/>
                  <a:gd name="adj2" fmla="val 87382"/>
                </a:avLst>
              </a:prstGeom>
              <a:solidFill>
                <a:srgbClr val="879cc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371600" y="3124080"/>
                <a:ext cx="137160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rot="13013400">
                <a:off x="2715480" y="2517480"/>
                <a:ext cx="152280" cy="876240"/>
              </a:xfrm>
              <a:prstGeom prst="downArrow">
                <a:avLst>
                  <a:gd name="adj1" fmla="val 50000"/>
                  <a:gd name="adj2" fmla="val 143853"/>
                </a:avLst>
              </a:prstGeom>
              <a:solidFill>
                <a:srgbClr val="879cc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8929800">
                <a:off x="3581280" y="2209320"/>
                <a:ext cx="152640" cy="533520"/>
              </a:xfrm>
              <a:prstGeom prst="downArrow">
                <a:avLst>
                  <a:gd name="adj1" fmla="val 50000"/>
                  <a:gd name="adj2" fmla="val 87382"/>
                </a:avLst>
              </a:prstGeom>
              <a:solidFill>
                <a:srgbClr val="879cc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6548400">
                <a:off x="4686120" y="2552400"/>
                <a:ext cx="152280" cy="533520"/>
              </a:xfrm>
              <a:prstGeom prst="downArrow">
                <a:avLst>
                  <a:gd name="adj1" fmla="val 50000"/>
                  <a:gd name="adj2" fmla="val 87589"/>
                </a:avLst>
              </a:prstGeom>
              <a:solidFill>
                <a:srgbClr val="879cc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6193800">
                <a:off x="5867280" y="2886120"/>
                <a:ext cx="152640" cy="457200"/>
              </a:xfrm>
              <a:prstGeom prst="downArrow">
                <a:avLst>
                  <a:gd name="adj1" fmla="val 50000"/>
                  <a:gd name="adj2" fmla="val 74882"/>
                </a:avLst>
              </a:prstGeom>
              <a:solidFill>
                <a:srgbClr val="879cc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429000" y="2743200"/>
                <a:ext cx="333360" cy="250920"/>
                <a:chOff x="3429000" y="2743200"/>
                <a:chExt cx="333360" cy="250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429000" y="2793960"/>
                  <a:ext cx="333360" cy="200160"/>
                </a:xfrm>
                <a:custGeom>
                  <a:avLst/>
                  <a:gdLst/>
                  <a:ahLst/>
                  <a:rect l="l" t="t" r="r" b="b"/>
                  <a:pathLst>
                    <a:path w="210" h="126">
                      <a:moveTo>
                        <a:pt x="0" y="0"/>
                      </a:moveTo>
                      <a:cubicBezTo>
                        <a:pt x="17" y="6"/>
                        <a:pt x="52" y="14"/>
                        <a:pt x="63" y="31"/>
                      </a:cubicBezTo>
                      <a:cubicBezTo>
                        <a:pt x="75" y="50"/>
                        <a:pt x="77" y="74"/>
                        <a:pt x="84" y="95"/>
                      </a:cubicBezTo>
                      <a:cubicBezTo>
                        <a:pt x="87" y="105"/>
                        <a:pt x="94" y="126"/>
                        <a:pt x="94" y="126"/>
                      </a:cubicBezTo>
                      <a:cubicBezTo>
                        <a:pt x="115" y="67"/>
                        <a:pt x="106" y="44"/>
                        <a:pt x="158" y="10"/>
                      </a:cubicBezTo>
                      <a:cubicBezTo>
                        <a:pt x="203" y="22"/>
                        <a:pt x="186" y="21"/>
                        <a:pt x="210" y="21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78040" y="2743200"/>
                  <a:ext cx="50760" cy="217800"/>
                </a:xfrm>
                <a:custGeom>
                  <a:avLst/>
                  <a:gdLst/>
                  <a:ahLst/>
                  <a:rect l="l" t="t" r="r" b="b"/>
                  <a:pathLst>
                    <a:path w="32" h="137">
                      <a:moveTo>
                        <a:pt x="0" y="137"/>
                      </a:moveTo>
                      <a:cubicBezTo>
                        <a:pt x="4" y="100"/>
                        <a:pt x="0" y="32"/>
                        <a:pt x="32" y="0"/>
                      </a:cubicBezTo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66ff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114800" y="3124080"/>
                <a:ext cx="430200" cy="444240"/>
                <a:chOff x="4114800" y="3124080"/>
                <a:chExt cx="430200" cy="444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114800" y="341604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248360" y="3124080"/>
                  <a:ext cx="296640" cy="291960"/>
                </a:xfrm>
                <a:custGeom>
                  <a:avLst/>
                  <a:gdLst/>
                  <a:ahLst/>
                  <a:rect l="l" t="t" r="r" b="b"/>
                  <a:pathLst>
                    <a:path w="187" h="184">
                      <a:moveTo>
                        <a:pt x="0" y="184"/>
                      </a:moveTo>
                      <a:cubicBezTo>
                        <a:pt x="23" y="114"/>
                        <a:pt x="48" y="112"/>
                        <a:pt x="120" y="100"/>
                      </a:cubicBezTo>
                      <a:cubicBezTo>
                        <a:pt x="141" y="86"/>
                        <a:pt x="175" y="70"/>
                        <a:pt x="180" y="40"/>
                      </a:cubicBezTo>
                      <a:cubicBezTo>
                        <a:pt x="187" y="0"/>
                        <a:pt x="174" y="4"/>
                        <a:pt x="156" y="4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267080" y="3276720"/>
                <a:ext cx="430200" cy="444240"/>
                <a:chOff x="4267080" y="3276720"/>
                <a:chExt cx="430200" cy="4442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267080" y="356868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400640" y="3276720"/>
                  <a:ext cx="296640" cy="291960"/>
                </a:xfrm>
                <a:custGeom>
                  <a:avLst/>
                  <a:gdLst/>
                  <a:ahLst/>
                  <a:rect l="l" t="t" r="r" b="b"/>
                  <a:pathLst>
                    <a:path w="187" h="184">
                      <a:moveTo>
                        <a:pt x="0" y="184"/>
                      </a:moveTo>
                      <a:cubicBezTo>
                        <a:pt x="23" y="114"/>
                        <a:pt x="48" y="112"/>
                        <a:pt x="120" y="100"/>
                      </a:cubicBezTo>
                      <a:cubicBezTo>
                        <a:pt x="141" y="86"/>
                        <a:pt x="175" y="70"/>
                        <a:pt x="180" y="40"/>
                      </a:cubicBezTo>
                      <a:cubicBezTo>
                        <a:pt x="187" y="0"/>
                        <a:pt x="174" y="4"/>
                        <a:pt x="156" y="4"/>
                      </a:cubicBezTo>
                    </a:path>
                  </a:pathLst>
                </a:custGeom>
                <a:noFill/>
                <a:ln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3505320" y="3352680"/>
                <a:ext cx="460080" cy="236520"/>
              </a:xfrm>
              <a:custGeom>
                <a:avLst/>
                <a:gdLst/>
                <a:ahLst/>
                <a:rect l="l" t="t" r="r" b="b"/>
                <a:pathLst>
                  <a:path w="290" h="149">
                    <a:moveTo>
                      <a:pt x="0" y="36"/>
                    </a:moveTo>
                    <a:cubicBezTo>
                      <a:pt x="57" y="17"/>
                      <a:pt x="86" y="7"/>
                      <a:pt x="108" y="72"/>
                    </a:cubicBezTo>
                    <a:cubicBezTo>
                      <a:pt x="101" y="93"/>
                      <a:pt x="78" y="130"/>
                      <a:pt x="120" y="144"/>
                    </a:cubicBezTo>
                    <a:cubicBezTo>
                      <a:pt x="136" y="149"/>
                      <a:pt x="152" y="136"/>
                      <a:pt x="168" y="132"/>
                    </a:cubicBezTo>
                    <a:cubicBezTo>
                      <a:pt x="176" y="120"/>
                      <a:pt x="180" y="104"/>
                      <a:pt x="192" y="96"/>
                    </a:cubicBezTo>
                    <a:cubicBezTo>
                      <a:pt x="213" y="83"/>
                      <a:pt x="264" y="72"/>
                      <a:pt x="264" y="72"/>
                    </a:cubicBezTo>
                    <a:cubicBezTo>
                      <a:pt x="272" y="60"/>
                      <a:pt x="286" y="50"/>
                      <a:pt x="288" y="36"/>
                    </a:cubicBezTo>
                    <a:cubicBezTo>
                      <a:pt x="290" y="24"/>
                      <a:pt x="276" y="0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276720" y="3581280"/>
                <a:ext cx="460080" cy="236520"/>
              </a:xfrm>
              <a:custGeom>
                <a:avLst/>
                <a:gdLst/>
                <a:ahLst/>
                <a:rect l="l" t="t" r="r" b="b"/>
                <a:pathLst>
                  <a:path w="290" h="149">
                    <a:moveTo>
                      <a:pt x="0" y="36"/>
                    </a:moveTo>
                    <a:cubicBezTo>
                      <a:pt x="57" y="17"/>
                      <a:pt x="86" y="7"/>
                      <a:pt x="108" y="72"/>
                    </a:cubicBezTo>
                    <a:cubicBezTo>
                      <a:pt x="101" y="93"/>
                      <a:pt x="78" y="130"/>
                      <a:pt x="120" y="144"/>
                    </a:cubicBezTo>
                    <a:cubicBezTo>
                      <a:pt x="136" y="149"/>
                      <a:pt x="152" y="136"/>
                      <a:pt x="168" y="132"/>
                    </a:cubicBezTo>
                    <a:cubicBezTo>
                      <a:pt x="176" y="120"/>
                      <a:pt x="180" y="104"/>
                      <a:pt x="192" y="96"/>
                    </a:cubicBezTo>
                    <a:cubicBezTo>
                      <a:pt x="213" y="83"/>
                      <a:pt x="264" y="72"/>
                      <a:pt x="264" y="72"/>
                    </a:cubicBezTo>
                    <a:cubicBezTo>
                      <a:pt x="272" y="60"/>
                      <a:pt x="286" y="50"/>
                      <a:pt x="288" y="36"/>
                    </a:cubicBezTo>
                    <a:cubicBezTo>
                      <a:pt x="290" y="24"/>
                      <a:pt x="276" y="0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4004280" y="3787560"/>
                <a:ext cx="753840" cy="120960"/>
                <a:chOff x="4004280" y="3787560"/>
                <a:chExt cx="753840" cy="120960"/>
              </a:xfrm>
            </p:grpSpPr>
            <p:sp>
              <p:nvSpPr>
                <p:cNvPr id="220" name=""/>
                <p:cNvSpPr/>
                <p:nvPr/>
              </p:nvSpPr>
              <p:spPr>
                <a:xfrm rot="18827400">
                  <a:off x="4019760" y="381672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8827400">
                  <a:off x="4127400" y="381420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8827400">
                  <a:off x="4235040" y="38116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18827400">
                  <a:off x="4343040" y="380988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18827400">
                  <a:off x="4450320" y="38073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18827400">
                  <a:off x="4558320" y="380520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18827400">
                  <a:off x="4666320" y="380304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568320" y="3514680"/>
                <a:ext cx="559080" cy="513720"/>
                <a:chOff x="3568320" y="3514680"/>
                <a:chExt cx="559080" cy="513720"/>
              </a:xfrm>
            </p:grpSpPr>
            <p:sp>
              <p:nvSpPr>
                <p:cNvPr id="228" name=""/>
                <p:cNvSpPr/>
                <p:nvPr/>
              </p:nvSpPr>
              <p:spPr>
                <a:xfrm rot="16374000">
                  <a:off x="3570120" y="395028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16374000">
                  <a:off x="3649680" y="38779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6374000">
                  <a:off x="3729600" y="38055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6374000">
                  <a:off x="3809880" y="373356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6374000">
                  <a:off x="3889440" y="3660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6374000">
                  <a:off x="3969720" y="35884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6374000">
                  <a:off x="4049640" y="3516480"/>
                  <a:ext cx="75960" cy="75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8381880" y="1600200"/>
                <a:ext cx="152640" cy="533520"/>
              </a:xfrm>
              <a:prstGeom prst="downArrow">
                <a:avLst>
                  <a:gd name="adj1" fmla="val 50000"/>
                  <a:gd name="adj2" fmla="val 87382"/>
                </a:avLst>
              </a:prstGeom>
              <a:solidFill>
                <a:srgbClr val="879cc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214920" y="2894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生产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49240" y="182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生产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20760" y="1522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二级消费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855000"/>
            <a:ext cx="488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56280" y="4204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一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消费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32840" y="35798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一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消费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6840" y="190368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三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消费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1840" y="1141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四级消费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540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分解者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主要指细菌和真菌等营腐生生活的微生物，它们能将动植物的尸体、排泄物和残落物等所含复杂的有机物分解成简单的无机物，归还到环境之中，再供生产者使用。分解者在生态系统中起着非常重要的作用，没有它们，物质循环将会受阻，生态系统会受到破坏，生产者就不能长期生存下去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态学 基础</cp:keywords>
  <dc:language>en-US</dc:language>
  <cp:lastModifiedBy/>
  <cp:revision>0</cp:revision>
  <dc:subject/>
  <dc:title/>
</cp:coreProperties>
</file>