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E5A-0C83-46C6-8FE7-AD1B4CE5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A37-DDDE-400D-8F81-3FAA6390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63C-FB2A-407D-9CA6-772DABAC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2A8-7ADF-4DB1-A9E1-23BA126C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90DF-5515-4EFE-B39D-B0F1D9DB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0113-F0D8-4106-840F-C417E599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0B46-9EBC-433A-AA64-C51DD726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D6B6-8D0B-4750-A820-518585DB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AC99-B6F6-4D29-855A-E80D1CB4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B2C4-73CB-4430-B1CC-22C21301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1F95-1C59-4BAA-B8C3-C7957548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7C4-836C-4A11-9410-D14A1F44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64C9-0EA1-4F49-8415-F01340FF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3DCB-5CD5-465B-87D6-938D804E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6078-7EF2-49DA-AE6B-D3032132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5E4E-5A69-4A8A-98B2-015ECE04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AAF6-E9E3-41FE-ABFB-B11DDC34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7F8-A8BA-41F6-BE84-A70B117D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8AC-74E1-49E1-8460-3ADFCB5D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1FE-E078-4187-8A69-2FB4346F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DF9-D633-4D63-AC6C-7BEE8A32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0C1-2677-4B17-9B55-56B09A97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F13-6ED1-4838-B28D-7B556335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B49-C198-4060-B720-F1C827F1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BD17-D106-4D2D-A1A2-8D4F571C851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2F96-1908-4332-B345-40B11ED40B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Times New Roman"/>
              </a:rPr>
              <a:t>生物学绪论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32000" y="2491920"/>
            <a:ext cx="64404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地球与生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生命的特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生物学的研究方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生物学的分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生物学的历史发展简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为什么要学习生物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六、为什么要学习生物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通识教育的要求。二十一世纪是生物学的世纪，学习生物学，可以扩大我们的知识面，为我们迎接生物世纪的到来做好准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生物是我们赖以生存的基础，知道了生物发展变化的规律，可以我们的生活更美好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可以使我们更好地认识我们自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苏格拉底：“认识你自己！”不过苏格拉底主要把人看作是一个精神的存在；柏拉图：人是理念的影子；中世纪：人是上帝创造的；人逐渐被神话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生物学的发展使我们开始对这样的生命图景进行祛魅；拉美特利：人是机器；达尔文：人是从猿进化来的；弗洛伊德：人主要是有潜意识控制的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人类基因组的研究和进一步发展，将使我们对人有更好的认识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生物学与哲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一、地球与生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迄今为止唯一发现有生命的星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什么地球适合生命生存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地球距太阳不远不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太阳的活动处于主序星的稳定时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地球的质量不大不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地球内部活动不快不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地球有一个大小适当的卫星——月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宇宙在膨胀，太阳系在一个相对安全的空间中运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地球和生命协同进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二、生命的特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物质组成的统一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基本相似的化学元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基本相同的生物大分子：蛋白质，核酸，酯类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基本都由细胞构成：生命基本的结构单位；也是生命活动赖以进行的基础。病毒是不是生命？病毒的活性离不开细胞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严密的组织和高度的秩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结构成分精确定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基本相同信息传递和蛋白质合成机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新陈代谢：与外界不断地进行物质和能量交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生长机制：在新陈代谢过程中不断地扩展自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二、生命的特征（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）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繁殖：在繁殖过程中表现出遗传和变异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应激能力：高度地适应环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化和进化趋势：现有的的生命都是历史上的生命从低级到高级逐步演化而来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生命现象具有多层次性：细胞器，组织，器官，系统，个体，生态系统，生物圈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三、生物学的研究方法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观察与描述方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外部观察和外部形态描述：分类学。《尔雅》、《本草纲目》、亚里士多德对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种动物的描述分类、林耐的双名法等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内部结构观察：《内经》：“心主身之血脉”，“经脉流行不止，环周不休”。阿尔克梅翁：脑是思维的器官。盖仑。维萨里；赛尔维特；哈维血液循环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比较方法：比较解剖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实验方法：血液循环的实验研究；生命与燃烧类比；普里斯特利、英根豪斯：植物与阳光、空气、水的关系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工模拟：生命起源；生态平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数学方法：血液循环的发现；生物进化机制的得出；遗传规律的发现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四、生物学的分科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根据具体研究对象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物学、植物学、微生物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根据研究内容的特点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分类学，形态学，胚胎学，古生物学，遗传学，生态学，生理学，生物化学，生物物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根据生物的结构水平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分子生物学，细胞生物学，组织生物学，器官生物学，个体生物学，群体生物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五、生物学的历史发展概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古代的生物学研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生物和人类的生存密切相关；植物栽培和动物驯养；神农尝百草；花草虫鱼的生物分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古希腊的自然哲学：阿那克西曼德——生命的自然发生说；恩培多克勒——狮身人面兽确实存在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亚里士多德：《动物志》；《动物的运动》；《动物的繁殖》；对动物进行了分类，提出了“种”、“属”等概念；给出了生物分类等级的观念（根据：灵魂的数量和质量，幼体的出生方式）；生殖过程中，雄性提供胚胎的形式，雌性提供质料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德奥夫拉斯特：植物的分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盖仑的医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五、生物学的历史发展概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近代的生物学研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血液循环的发现：维萨里、赛尔维特、哈维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林耐的分类系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有生源论和无生源轮；精源论和卵源论；预成论和渐成论；贝尔的胚层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细胞学说的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进化论的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五、生物学的历史发展概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代生物学的产生和发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孟德尔的再发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摩尔根的遗传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遗传的化学本质的发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现代综合进化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生物工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人类基因组计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物学 绪论</cp:keywords>
  <dc:language>en-US</dc:language>
  <cp:lastModifiedBy/>
  <cp:revision>0</cp:revision>
  <dc:subject/>
  <dc:title/>
</cp:coreProperties>
</file>