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9F17-FFFB-4D69-A06A-2FC8712EC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420B-C8CE-49EC-9629-470C7DEAC310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42C8-E7F3-4342-B08A-A75161AB89B3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AA5-B75A-41E1-9CAB-CAD0A42F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415-AB13-4AB3-8C22-6EA1249E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510AD-6E5E-4C19-B655-571D8B40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3238C-C4FE-4F0C-97D3-5CDA8C10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3576E-6DB5-471A-ACB3-CBCBCD88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1EBE2-C2F5-454F-BDB3-169CFB35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7C6FC-B769-4E7F-A439-D98CA57A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F7489-F9C5-434A-89B0-697D6850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9DCBD-8BF3-402A-895A-2D985EC9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5317B-23EC-4FAC-86BC-C479B28E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D2E6B-7A4D-4D7B-965E-F0FCF5E0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3C23E-CB8B-4B38-BD97-9DC3133B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3E5-EA1D-45E2-8FEB-557BBC91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FAF0F-BF11-42C4-8AAD-7CC676F2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F50DB-D16B-4094-BD83-BDF808F7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C58B5-409D-44B3-9EDC-BD40FAB3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03B40-C4EB-407F-9779-5E2D7D74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46A2F-38C9-4BCF-B2E9-71590A29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202CC-DC32-4FB8-977D-F36537DF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8DBF7-5EF4-413F-842D-EF8B5E29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57968-1E25-4F41-8874-B95657DA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FDDEA-726F-4FC9-8089-117A20CC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DCE04-9C2E-41D2-91F8-5E23110D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704-9FFC-466E-A9D9-333DAD96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2D74E-174B-4C1C-8C1D-46700BC7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4C040-4EBF-4790-93BE-3FC35D3E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CEC1A-6A41-4AAD-B4F3-28C7F019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492ED-1A41-418C-BAEC-59FF953F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9B0B5-F18E-4787-9C89-64D8629C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0A2FD-E80F-4EA2-8A80-2B0C9D60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011A0-8F7D-435B-9655-58D7C45F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3F06E-230B-4964-8BAF-C5703E87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3A931-21F2-4A5B-8750-D8F59CA2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78238-9654-4E26-A796-1DCDD851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CF86-70F8-41BE-8303-0BFF406E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96253-1E86-40C0-90D7-F8610703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4E6D8-99D3-4D01-BA49-C869CC0C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15FF2-882D-4D58-844C-1116F08C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16A96-8E4F-4204-A30E-B1A1D9DD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18A26-5DB5-413E-92E3-FE38969D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2C419-A899-4C41-9C8B-DDDFE647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CDC1E-D9AA-4329-8ECA-2C9EEF7F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CA88F-23BF-4E95-9374-623950B1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29FEE-CDE4-427B-98B9-DC882511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AF5C9-6884-4A52-B33C-1BA841EB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4E5D-D7B4-48BD-97B9-19FDC7ED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B1A50-62EB-4F92-8B51-A8B040AF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16060-503A-4567-88DF-B0A1CA65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5291B-CB4A-4418-94CB-5B6E16F6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86982-37EA-40D3-98A4-BFF97FB3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F4A29-AFA2-4283-A611-05B1DA7F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9F51F-FDB7-4724-A18E-578837E0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1EA53-53C9-4E50-9B5F-47501720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A2EF6-21BE-41B7-8648-F56DE75E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5F7C0-6265-4701-BF09-EE0686C5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1722A-193B-4385-8C73-6B6B1086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2348-F24E-41C4-A263-5808F35E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3684B-F831-4DD0-A8F5-99CF53BB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8E927-3061-44F9-9ECE-4C29B417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C2474-F2FF-4CBF-B376-DDB1E530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72935-820D-4B1C-8832-31D4A548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80443-EF6B-40E1-B0FB-5DED8E97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D03E9-E985-48B3-984E-2E5254AC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E76E1-0153-4985-ACD9-65E238F0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D990B-838C-49A7-B3B3-815968F1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C035F7-DDE0-4317-9693-983E1088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98E330-2FBA-493B-B1AA-61A229FE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BEAF-9A9C-4527-8584-C507B0D0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EEE12-EE8A-408C-89F0-7D700AD7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9C0761-62CE-4AED-BD94-6D3F8191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B465D-F3F1-4ABB-8993-5566B29E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79D2A-F51F-41B9-B8D8-CFE27310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16BDC-1BAF-4364-B6A4-396D373F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5377A-9623-4F21-84A3-D33011F6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3A6F3A-95BB-4477-AE09-372FF2C0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8AEC8-AD08-484A-B509-C6CDDEDC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93079-14AF-4B4A-8F2C-AF9D3225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5A3E-85ED-4C78-8D1B-2BBDACAF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F3B1-7BD3-4CBF-948E-FF374F5C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BD41-B83E-4055-8464-C888209C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D528-FD3D-4729-9372-6722387D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E0AA-86A7-4BC4-8F0F-8476BCB7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47F2-888F-4304-A2E0-89DE4D01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9F10-0F5E-4F65-801D-D920F62B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1818-CC3C-4578-AAB5-3D634B1E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41D2-7ADB-41D2-B99F-DB4B28C2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6D90-74E9-4F87-85BE-BFD9759F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998E2-3E9F-41BE-86BA-18E72571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DD452-E9B7-4099-9CD9-6DF279CD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626BA-C29C-4B1F-B7E6-418ABD10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B029C-138D-470E-8A15-4D9822B4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AE9-4D0C-4225-A21D-9CE551EC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F76ED-AFB9-498A-8EC3-51ED90B7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55F3-FD6E-4DF7-9D39-4CB89662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9A482-4C85-4BAA-8426-48229718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FCC5A-8A9C-408C-92C4-1D0124C4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BBFFC-E463-4498-B1BD-636C12D2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EC27D-A609-440F-A9B5-E1863A73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1A656-E3EF-45DC-9B00-611582D0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785A0-8B08-432D-AA38-621E822B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FB232-D5A1-4432-99FC-92D9AD74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E3530-6D4F-4D7B-8192-0CF2ABBA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48D-5675-444D-A3F3-163CA264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28326-5B31-4B86-98AE-74F49DE2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1C8C7-BF39-42BB-97BD-6C2C9B9C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52EA2-BD84-490A-B910-FC1FD2EA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BBB1F-BFDA-465E-9A8B-2D25D29E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95EC-A57F-44C5-B73F-2C5CCBFE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8604D-A4FD-45E8-B1CF-670A4E82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042BA-B379-4638-885B-B10F6F6B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434E7-80A6-4718-B5B4-7877737D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680D6-31CA-4380-AFFD-B5DE6EC3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75F4E-264D-46CE-B14F-F99D4EBA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8B97-BDF1-4BB1-B130-ABC9ADE8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FDC6F-CF2E-4E11-887B-82215F7D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D42AB-3889-42FD-96D7-3E64D6A0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06E9D-500B-43C5-9E2D-91625255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629E9-AE7D-464C-9862-DE205760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DF79D-C586-4F9B-819B-82EE70A4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B9C5A-6060-4228-8DBE-ECC64907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9C069-ADCD-4B2F-AA02-E30203DD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FA1E5-0958-4B46-82E5-468224DA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DC2DA-EC3D-42F1-9F3B-CD497BC5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C45DB-DB21-482A-A5D4-165972C7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DF3-191A-45C8-B9F7-E79AA40D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5E907-6521-491D-A27A-4DB64273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80BDC-0B72-494F-9FCA-9F9D6897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B8B50-D58F-45E6-93FE-D899516A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FF65A-4363-4BF5-A893-30CE8129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BAD4B-97DD-4A97-A2A7-5B69178C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0A8E5-B3CC-4CA0-BC3A-99C28926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08D79-2B36-4194-B458-0EC4963A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3B593-F2B6-4379-BD49-7DBDDDF2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F8BAC-9760-4544-8986-D3589118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944E1-FB69-4B5F-88C0-B3797683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5D2-41B2-4DC1-A6BE-58FAED26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F6F18-2DAD-4D48-AA9A-309F69C4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6CD17-665D-457E-B860-5EB25C70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71B2E-D4D3-4E81-8D6D-B7D1A36C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FE8B0-9EB5-4458-9731-7ED0B0BB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CDF6E-E6CC-4529-8516-2CED5A1D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60566-E1C2-48A3-BB5C-9B72B613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506F5-E801-42B9-9459-F17A6149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86239-920D-4E9A-B7D4-C873E7C7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54604-65B1-4DBA-BA8A-BD72F5A6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B7336-D057-4406-8824-994B564C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DFE-B288-47CE-8ED2-EEBE278E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08084-DF2B-4D39-A5ED-72FF198A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FD133-82BB-44CD-A60A-654D6427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14A85-9C72-4C08-8F6D-A7A1D87B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CC573-2E52-4D33-9544-15B9CD4F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CEF31-91FE-4F20-8082-3C20F17C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13319-B1F3-445B-A3E5-0765EE20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CC5E9-1F72-42E0-8714-05B58FEA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63224-3E92-4AA8-9744-0234F75B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AB77B-B017-4023-B971-ECD158D5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25A84-CB56-498A-9391-B3DF2A69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499-9A95-4EB8-A529-858D75F6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48828-CBC4-406A-8989-9B67FEB8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592FF-8C41-4916-AE67-FD771EAF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AFA5C-CFB9-4974-B5E4-EE9AFA18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47B74-1C0A-426A-9065-60770AE3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9643D-4B99-4904-8598-60C48497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C5CE7-67C7-49F2-8B9C-A9A232AD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2DC96-1A16-4515-B5D1-3B370453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BC00A-95F7-4873-8305-AA400FC2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C45A0-A8CB-4CD9-8C8A-80CE5A68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C8988-3726-443E-A99F-3E7995B5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ABA9-810F-4AC1-8186-5DA52E63A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7B93-E972-4762-862B-87FE42AA44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1E91-66CB-4252-B784-E5B42B5439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43BA-6683-45BA-A30B-16D2ABF68FF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B9C5-EBB9-4A6C-85A6-A22EF80481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CCEA-A05B-42B7-BA11-2B91C33F020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ACA3-9717-4353-AF67-941A20726B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735D-7425-43F0-8A67-5DE93CABEE8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EC73-110E-45AA-8E6A-1F0004A08D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66C7-E9DB-4B63-895A-EA0A6B580B4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94F5-6A3D-4E4C-910B-B1230FF0AB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6300-B0FA-4BAD-9178-695BB30E6B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C079-E7E6-43D6-B332-653C114C49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33A5-B6BF-4E02-825B-1AC7604AD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0CD5-7E26-4E30-AF51-45AAF4409A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9D71-546E-4A8A-8594-AC34B916A8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71F5-E7B7-4BA2-83B4-3DA99EA535B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ADFC-F537-4BA3-9975-6752F92C0B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6EE4-D9EE-4D5A-977C-CEDF4077A50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A155-7233-431F-B64D-22C12F3488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7663-BDEF-45C0-BAAF-54F883D5D0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684D-A9D6-4FBE-A248-E74C3FA57F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61C8-A812-4245-ACD8-F191F8D1AC4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2A5E-C369-405C-938F-5E05B1D342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4563-7C75-4E75-8D94-E12AE51E31A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8B6A-4B21-4F6B-8CF1-923867D70D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200511216864"/>
          <p:cNvPicPr/>
          <p:nvPr/>
        </p:nvPicPr>
        <p:blipFill>
          <a:blip r:embed="rId1"/>
          <a:stretch/>
        </p:blipFill>
        <p:spPr>
          <a:xfrm>
            <a:off x="611280" y="485640"/>
            <a:ext cx="7705800" cy="595008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三  峡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北魏   郦道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-162072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说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发挥想象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5" name="Picture 10" descr="75791a8b5bd9d8e8973e8acee1e1d6ff_m"/>
          <p:cNvPicPr/>
          <p:nvPr/>
        </p:nvPicPr>
        <p:blipFill>
          <a:blip r:embed="rId1"/>
          <a:stretch/>
        </p:blipFill>
        <p:spPr>
          <a:xfrm>
            <a:off x="684360" y="1052640"/>
            <a:ext cx="3892320" cy="26161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1" descr="1"/>
          <p:cNvPicPr/>
          <p:nvPr/>
        </p:nvPicPr>
        <p:blipFill>
          <a:blip r:embed="rId2"/>
          <a:stretch/>
        </p:blipFill>
        <p:spPr>
          <a:xfrm>
            <a:off x="5076720" y="1125360"/>
            <a:ext cx="3456000" cy="25927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3" descr="g2005032815414884"/>
          <p:cNvPicPr/>
          <p:nvPr/>
        </p:nvPicPr>
        <p:blipFill>
          <a:blip r:embed="rId3"/>
          <a:stretch/>
        </p:blipFill>
        <p:spPr>
          <a:xfrm>
            <a:off x="5003640" y="4005360"/>
            <a:ext cx="3816360" cy="2496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5" descr="2005813222235295"/>
          <p:cNvPicPr/>
          <p:nvPr/>
        </p:nvPicPr>
        <p:blipFill>
          <a:blip r:embed="rId4"/>
          <a:stretch/>
        </p:blipFill>
        <p:spPr>
          <a:xfrm>
            <a:off x="755640" y="3860640"/>
            <a:ext cx="3665520" cy="2749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说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发现美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用你欣赏的眼光来审视课文的美吧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可以从结构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写景的角度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语言等方面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-2053080" y="62028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背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积累语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61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1765800" y="1412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410920" y="266400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一 读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整体感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二 练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落实基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三 说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涵咏品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四 背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积累语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16" descr="96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87" name="c8126.MP3" descr=""/>
          <p:cNvPicPr/>
          <p:nvPr/>
        </p:nvPicPr>
        <p:blipFill>
          <a:blip r:embed="rId2"/>
          <a:stretch/>
        </p:blipFill>
        <p:spPr>
          <a:xfrm>
            <a:off x="395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6"/>
          <p:cNvSpPr/>
          <p:nvPr/>
        </p:nvSpPr>
        <p:spPr>
          <a:xfrm>
            <a:off x="395280" y="404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49b6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ed49b6"/>
                </a:solidFill>
                <a:latin typeface="Arial"/>
                <a:ea typeface="楷体_GB2312"/>
              </a:rPr>
              <a:t>春冬之时，则素湍绿潭，回清倒影，绝山献多生怪柏，悬泉瀑布，飞漱其间，清荣峻茂，良多趣味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324000" y="1268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49b6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ed49b6"/>
                </a:solidFill>
                <a:latin typeface="Arial"/>
                <a:ea typeface="楷体_GB2312"/>
              </a:rPr>
              <a:t>每至晴初霜旦，林寒涧肃，常有高猿长啸，属引凄异，，空谷传响，哀转久绝。故渔者歌曰：“巴东三峡巫峡长，猿鸣三声泪沾裳。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-212400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练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落实基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834920" y="2205000"/>
            <a:ext cx="460836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实词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略无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阙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处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夏水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陵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乘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奔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御风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飞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漱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其间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晴初霜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87640" y="2205000"/>
            <a:ext cx="460692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29d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通</a:t>
            </a:r>
            <a:r>
              <a:rPr b="1" lang="en-US" sz="2800" spc="-1" strike="noStrike">
                <a:solidFill>
                  <a:srgbClr val="4629d9"/>
                </a:solidFill>
                <a:latin typeface="Arial"/>
                <a:ea typeface="Arial"/>
              </a:rPr>
              <a:t>"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缺</a:t>
            </a:r>
            <a:r>
              <a:rPr b="1" lang="en-US" sz="2800" spc="-1" strike="noStrike">
                <a:solidFill>
                  <a:srgbClr val="4629d9"/>
                </a:solidFill>
                <a:latin typeface="Arial"/>
                <a:ea typeface="Arial"/>
              </a:rPr>
              <a:t>"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中断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飞奔的马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冲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早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词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自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自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三峡七百里中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自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非亭午夜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绝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沿溯阻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绝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y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Arial"/>
              </a:rPr>
              <a:t>ặ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多生怪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哀转久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绝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属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属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zh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Arial"/>
              </a:rPr>
              <a:t>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引凄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有良田美池桑竹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76720" y="2060640"/>
            <a:ext cx="461016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如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阻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极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消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连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翻译句子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重岩叠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隐天蔽日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自非亭午夜分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见曦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虽乘奔御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以疾也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清荣峻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良多趣味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常有高猿长啸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属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zh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Arial"/>
              </a:rPr>
              <a:t>ǔ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引凄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空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传响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哀转久绝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-1405440" y="764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说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品味意境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找出文中写景的句子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小组内探究写景的角度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分析语言的特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按照示例用一句完整的话表达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示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文中写景的句子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　　　　），写出了（　　　　　　）（景物）的（　　　　）（特点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山：连绵不断　遮天蔽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夏水：襄、阻绝、朝、暮、疾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湍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春冬之景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素、绿、清、影、清荣峻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--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清幽秀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秋景：寒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肃、凄异、哀转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凄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0:32:12Z</dcterms:created>
  <dc:creator>qq</dc:creator>
  <dc:description/>
  <dc:language>en-US</dc:language>
  <cp:lastModifiedBy>a</cp:lastModifiedBy>
  <dcterms:modified xsi:type="dcterms:W3CDTF">2015-02-10T11:20:24Z</dcterms:modified>
  <cp:revision>33</cp:revision>
  <dc:subject/>
  <dc:title>三  峡</dc:title>
</cp:coreProperties>
</file>