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A8B-B07E-451A-B570-644DEB87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303-3CE9-49F4-A27A-3C67886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01B-ABFA-4EDD-BA7D-21053A73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6C7-18FE-4FDF-9768-D82BEA47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E8B-CBBC-4BBA-AA99-3D6FCD8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EDD-4567-4404-85C4-98A07AD1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48C5-004F-474F-A6E5-5CF1724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881-20EE-4A50-996A-7028E53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914-EE29-4D8A-8DAA-FC8ED3A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7A83-51D7-4548-9968-3706934C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738-7F32-415E-B5C6-2CA67DD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EF2-A0CE-4A9F-8835-CA68CF3A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280-0314-4260-AB2E-F52CDF6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D468-C2E4-4799-A3C6-7B6AC20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459C-89E1-495D-835E-B4FF8DA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4883-2567-443B-9CAC-AFC47DAE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909-D324-46FD-B5C1-4256D1C0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C87-6E49-4B06-87DA-44B1A4F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2D1-FA37-461C-B5E4-D7D7948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78F-A811-42F1-B77D-A4F8B332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AF4-FE1F-440E-AE22-CF70234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043-0467-4900-9709-3AD21A5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F2A-ABC3-40A9-B9CF-B8C480F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5FA-F008-48E4-9E54-503E1C3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2FEE-AC1D-4D43-909E-A849C2226B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200-0050-49E1-9F17-B0949D39012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个别差异与发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研究途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研究中的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验主题与研究范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问题到实验：基本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FA9-C999-4F91-B063-27C22D5558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测量信度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度：是指对某一事物多次测量的一致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测量工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被测量的事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7B8-7A7E-4172-A1EB-4CF2299C07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测量信度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智力的概念并没有从理论上被很好地定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uilfor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6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认为，目前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种关于智力的定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有些理论家认为，存在一个基本的心理能力和其它被分离出来的许多具体能力。基本能力被描述为“一种抽象推理和问题解决的能力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B8E-33F5-4994-9C14-41C51975D7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智力测量的稳定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现在普遍使用的智力测验都具有较高的重测信度（大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9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果我们认为智力测验是有信度的，那么我们就可以考虑：个体被测量到的智力在其一生的发展中的稳定性如何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1F1-1F25-4127-A679-94B02B4B36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纵向研究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ang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ad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7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在不同时间对同一组被试进行测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被试：旧金山弯区的儿童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被试的平均年龄只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斯坦福——比柰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韦氏智力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韦氏智力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982-F583-4039-B62B-875098162A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纵向研究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结果表明，不同年龄时的重测的相关系数都具有统计上的显著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明：儿童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岁时测出的分数能够在某种程度上预测他们的未来。即智力在大部分人生（从儿童早期到中年）中保持相对稳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A61-984E-4C9A-A83A-40996C208E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典型的变化年龄的实验设计称为横断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但是，在这种设计中许多其他的因素可能会与年龄混淆。例如，与年轻被试相比，年长被试可能在教养方式、所受教育等方面都有所不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种混淆称为“同辈效应”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ohort effec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：是指横断研究中当两个不同年龄组具有不同经历时产生的混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许多智力测验研究中的另一个关键差异是，年长者可能比年轻人有更短的正规教育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6EC-AB76-4C7B-84B3-142DAE57A0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用横断法研究的结果表明：智力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以前是稳步增长的，之后直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左右是逐渐降低的，再之后，降低的速度加快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存在的问题，导致对结果的争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纵向研究：当时社会环境的影响。由于两次测验间的经验变化引起所研究行为的变化，所以，一般而言，纵向设计不能得出年龄改变行为的可靠结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AE5-3D2F-4C9C-8EEF-53DCBCA29B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3640" y="3645000"/>
            <a:ext cx="34560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429000"/>
            <a:ext cx="431640" cy="19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间迟滞研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rot="1506000">
            <a:off x="2919240" y="4260960"/>
            <a:ext cx="3868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87280" y="2637000"/>
          <a:ext cx="5654880" cy="2736720"/>
        </p:xfrm>
        <a:graphic>
          <a:graphicData uri="http://schemas.openxmlformats.org/drawingml/2006/table">
            <a:tbl>
              <a:tblPr/>
              <a:tblGrid>
                <a:gridCol w="685800"/>
                <a:gridCol w="1152720"/>
                <a:gridCol w="863640"/>
                <a:gridCol w="863640"/>
                <a:gridCol w="936360"/>
                <a:gridCol w="1152720"/>
              </a:tblGrid>
              <a:tr h="452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试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987640" y="602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横断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92360" y="54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1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时间迟滞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659640" y="5373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371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纵向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73236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687-73F2-4069-B765-C10A17E8C0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四、从问题到实验：基本内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：动机与情绪在智力作业中起什么作用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儿童的动机目标怎样影响他们的智力作业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039-F87B-485B-81D4-C17B69ED77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一、个别差异的研究途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科学中，尤其是在心理学的个别差异研究中，一个普遍受到关注的问题是，哪些方法和理论能够更好地预测未来事件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历史上来看，个别差异的研究始终伴随着方法论方面的争论，即为了理解人们之间的差异和预测他们的将来行为，哪种方法是适宜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CEC-FB4E-4ADF-8700-2CD9E11087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一）个别差异的方法学途径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们讨论的许多问题都涉及到了产生预期的方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解决此类问题的方法有两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实证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析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637-83A5-4BBD-8A41-E1EC79CA9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二）引起个别差异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先天的（自然）基础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经验的（教养）基础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然与教养之争是心理学的古老问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67D-8027-49EE-B864-221FDBF7BD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二）引起个别差异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此，当我们探讨机体发展的时候，他建议我们应该考虑几个相互作用的因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出生前的营养环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出生后的营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经验和学习相关的因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身体的损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C1D-E861-4B1C-9D82-2575FB5BEB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智力研究中的因变量是每个研究者使用的智力测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由于不同的研究者对智力的定义意见不一致，所以很难制订一个能被所有人接受的统一的测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1C9-9A29-4515-86EF-0E43B0C86E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有的个别差异，包括智力，自变量就是被试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同卵双生子——异卵双生子——不同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89F-3DD9-4C9D-A490-7F1E78E91E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智力研究中，很难指出存在的控制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会影响测验结果——文化公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但是，完全消除学习、语言的运用、动机、文化知识等因素的影响是不可能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F18-ED23-47FB-B07B-9F5324A291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实验主题与研究范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题：测量信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研究范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智力与发展的研究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测验信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智力测量的稳定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用作变量的年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C7F-9471-4DDE-B897-EA656D1104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个别 差异 发展</cp:keywords>
  <dc:language>en-US</dc:language>
  <cp:lastModifiedBy/>
  <cp:revision>0</cp:revision>
  <dc:subject/>
  <dc:title/>
</cp:coreProperties>
</file>