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CAMERA.WAV" ContentType="audio/x-wav"/>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2" name="PlaceHolder 2"/>
          <p:cNvSpPr>
            <a:spLocks noGrp="1"/>
          </p:cNvSpPr>
          <p:nvPr>
            <p:ph/>
          </p:nvPr>
        </p:nvSpPr>
        <p:spPr>
          <a:xfrm>
            <a:off x="457200" y="121896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3" name="PlaceHolder 3"/>
          <p:cNvSpPr>
            <a:spLocks noGrp="1"/>
          </p:cNvSpPr>
          <p:nvPr>
            <p:ph/>
          </p:nvPr>
        </p:nvSpPr>
        <p:spPr>
          <a:xfrm>
            <a:off x="457200" y="384012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5"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6"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7" name="PlaceHolder 4"/>
          <p:cNvSpPr>
            <a:spLocks noGrp="1"/>
          </p:cNvSpPr>
          <p:nvPr>
            <p:ph/>
          </p:nvPr>
        </p:nvSpPr>
        <p:spPr>
          <a:xfrm>
            <a:off x="45720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8" name="PlaceHolder 5"/>
          <p:cNvSpPr>
            <a:spLocks noGrp="1"/>
          </p:cNvSpPr>
          <p:nvPr>
            <p:ph/>
          </p:nvPr>
        </p:nvSpPr>
        <p:spPr>
          <a:xfrm>
            <a:off x="467424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0" name="PlaceHolder 2"/>
          <p:cNvSpPr>
            <a:spLocks noGrp="1"/>
          </p:cNvSpPr>
          <p:nvPr>
            <p:ph/>
          </p:nvPr>
        </p:nvSpPr>
        <p:spPr>
          <a:xfrm>
            <a:off x="45720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1" name="PlaceHolder 3"/>
          <p:cNvSpPr>
            <a:spLocks noGrp="1"/>
          </p:cNvSpPr>
          <p:nvPr>
            <p:ph/>
          </p:nvPr>
        </p:nvSpPr>
        <p:spPr>
          <a:xfrm>
            <a:off x="323964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2" name="PlaceHolder 4"/>
          <p:cNvSpPr>
            <a:spLocks noGrp="1"/>
          </p:cNvSpPr>
          <p:nvPr>
            <p:ph/>
          </p:nvPr>
        </p:nvSpPr>
        <p:spPr>
          <a:xfrm>
            <a:off x="602208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3" name="PlaceHolder 5"/>
          <p:cNvSpPr>
            <a:spLocks noGrp="1"/>
          </p:cNvSpPr>
          <p:nvPr>
            <p:ph/>
          </p:nvPr>
        </p:nvSpPr>
        <p:spPr>
          <a:xfrm>
            <a:off x="45720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4" name="PlaceHolder 6"/>
          <p:cNvSpPr>
            <a:spLocks noGrp="1"/>
          </p:cNvSpPr>
          <p:nvPr>
            <p:ph/>
          </p:nvPr>
        </p:nvSpPr>
        <p:spPr>
          <a:xfrm>
            <a:off x="323964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5" name="PlaceHolder 7"/>
          <p:cNvSpPr>
            <a:spLocks noGrp="1"/>
          </p:cNvSpPr>
          <p:nvPr>
            <p:ph/>
          </p:nvPr>
        </p:nvSpPr>
        <p:spPr>
          <a:xfrm>
            <a:off x="602208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8" name="PlaceHolder 2"/>
          <p:cNvSpPr>
            <a:spLocks noGrp="1"/>
          </p:cNvSpPr>
          <p:nvPr>
            <p:ph type="subTitle"/>
          </p:nvPr>
        </p:nvSpPr>
        <p:spPr>
          <a:xfrm>
            <a:off x="457200" y="1218960"/>
            <a:ext cx="8229600" cy="501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0"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2" name="PlaceHolder 2"/>
          <p:cNvSpPr>
            <a:spLocks noGrp="1"/>
          </p:cNvSpPr>
          <p:nvPr>
            <p:ph/>
          </p:nvPr>
        </p:nvSpPr>
        <p:spPr>
          <a:xfrm>
            <a:off x="45720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33" name="PlaceHolder 3"/>
          <p:cNvSpPr>
            <a:spLocks noGrp="1"/>
          </p:cNvSpPr>
          <p:nvPr>
            <p:ph/>
          </p:nvPr>
        </p:nvSpPr>
        <p:spPr>
          <a:xfrm>
            <a:off x="467424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166320"/>
            <a:ext cx="8229600" cy="3467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7"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38" name="PlaceHolder 3"/>
          <p:cNvSpPr>
            <a:spLocks noGrp="1"/>
          </p:cNvSpPr>
          <p:nvPr>
            <p:ph/>
          </p:nvPr>
        </p:nvSpPr>
        <p:spPr>
          <a:xfrm>
            <a:off x="467424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39" name="PlaceHolder 4"/>
          <p:cNvSpPr>
            <a:spLocks noGrp="1"/>
          </p:cNvSpPr>
          <p:nvPr>
            <p:ph/>
          </p:nvPr>
        </p:nvSpPr>
        <p:spPr>
          <a:xfrm>
            <a:off x="45720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1" name="PlaceHolder 2"/>
          <p:cNvSpPr>
            <a:spLocks noGrp="1"/>
          </p:cNvSpPr>
          <p:nvPr>
            <p:ph type="subTitle"/>
          </p:nvPr>
        </p:nvSpPr>
        <p:spPr>
          <a:xfrm>
            <a:off x="457200" y="1218960"/>
            <a:ext cx="8229600" cy="501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1" name="PlaceHolder 2"/>
          <p:cNvSpPr>
            <a:spLocks noGrp="1"/>
          </p:cNvSpPr>
          <p:nvPr>
            <p:ph/>
          </p:nvPr>
        </p:nvSpPr>
        <p:spPr>
          <a:xfrm>
            <a:off x="45720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42"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43" name="PlaceHolder 4"/>
          <p:cNvSpPr>
            <a:spLocks noGrp="1"/>
          </p:cNvSpPr>
          <p:nvPr>
            <p:ph/>
          </p:nvPr>
        </p:nvSpPr>
        <p:spPr>
          <a:xfrm>
            <a:off x="467424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5"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46"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47" name="PlaceHolder 4"/>
          <p:cNvSpPr>
            <a:spLocks noGrp="1"/>
          </p:cNvSpPr>
          <p:nvPr>
            <p:ph/>
          </p:nvPr>
        </p:nvSpPr>
        <p:spPr>
          <a:xfrm>
            <a:off x="457200" y="384012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9" name="PlaceHolder 2"/>
          <p:cNvSpPr>
            <a:spLocks noGrp="1"/>
          </p:cNvSpPr>
          <p:nvPr>
            <p:ph/>
          </p:nvPr>
        </p:nvSpPr>
        <p:spPr>
          <a:xfrm>
            <a:off x="457200" y="121896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0" name="PlaceHolder 3"/>
          <p:cNvSpPr>
            <a:spLocks noGrp="1"/>
          </p:cNvSpPr>
          <p:nvPr>
            <p:ph/>
          </p:nvPr>
        </p:nvSpPr>
        <p:spPr>
          <a:xfrm>
            <a:off x="457200" y="384012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2"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3"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4" name="PlaceHolder 4"/>
          <p:cNvSpPr>
            <a:spLocks noGrp="1"/>
          </p:cNvSpPr>
          <p:nvPr>
            <p:ph/>
          </p:nvPr>
        </p:nvSpPr>
        <p:spPr>
          <a:xfrm>
            <a:off x="45720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5" name="PlaceHolder 5"/>
          <p:cNvSpPr>
            <a:spLocks noGrp="1"/>
          </p:cNvSpPr>
          <p:nvPr>
            <p:ph/>
          </p:nvPr>
        </p:nvSpPr>
        <p:spPr>
          <a:xfrm>
            <a:off x="467424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7" name="PlaceHolder 2"/>
          <p:cNvSpPr>
            <a:spLocks noGrp="1"/>
          </p:cNvSpPr>
          <p:nvPr>
            <p:ph/>
          </p:nvPr>
        </p:nvSpPr>
        <p:spPr>
          <a:xfrm>
            <a:off x="45720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8" name="PlaceHolder 3"/>
          <p:cNvSpPr>
            <a:spLocks noGrp="1"/>
          </p:cNvSpPr>
          <p:nvPr>
            <p:ph/>
          </p:nvPr>
        </p:nvSpPr>
        <p:spPr>
          <a:xfrm>
            <a:off x="323964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9" name="PlaceHolder 4"/>
          <p:cNvSpPr>
            <a:spLocks noGrp="1"/>
          </p:cNvSpPr>
          <p:nvPr>
            <p:ph/>
          </p:nvPr>
        </p:nvSpPr>
        <p:spPr>
          <a:xfrm>
            <a:off x="6022080" y="121896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0" name="PlaceHolder 5"/>
          <p:cNvSpPr>
            <a:spLocks noGrp="1"/>
          </p:cNvSpPr>
          <p:nvPr>
            <p:ph/>
          </p:nvPr>
        </p:nvSpPr>
        <p:spPr>
          <a:xfrm>
            <a:off x="45720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1" name="PlaceHolder 6"/>
          <p:cNvSpPr>
            <a:spLocks noGrp="1"/>
          </p:cNvSpPr>
          <p:nvPr>
            <p:ph/>
          </p:nvPr>
        </p:nvSpPr>
        <p:spPr>
          <a:xfrm>
            <a:off x="323964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2" name="PlaceHolder 7"/>
          <p:cNvSpPr>
            <a:spLocks noGrp="1"/>
          </p:cNvSpPr>
          <p:nvPr>
            <p:ph/>
          </p:nvPr>
        </p:nvSpPr>
        <p:spPr>
          <a:xfrm>
            <a:off x="6022080" y="3840120"/>
            <a:ext cx="264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5" name="PlaceHolder 2"/>
          <p:cNvSpPr>
            <a:spLocks noGrp="1"/>
          </p:cNvSpPr>
          <p:nvPr>
            <p:ph/>
          </p:nvPr>
        </p:nvSpPr>
        <p:spPr>
          <a:xfrm>
            <a:off x="45720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6" name="PlaceHolder 3"/>
          <p:cNvSpPr>
            <a:spLocks noGrp="1"/>
          </p:cNvSpPr>
          <p:nvPr>
            <p:ph/>
          </p:nvPr>
        </p:nvSpPr>
        <p:spPr>
          <a:xfrm>
            <a:off x="467424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66320"/>
            <a:ext cx="8229600" cy="3467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0"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1" name="PlaceHolder 3"/>
          <p:cNvSpPr>
            <a:spLocks noGrp="1"/>
          </p:cNvSpPr>
          <p:nvPr>
            <p:ph/>
          </p:nvPr>
        </p:nvSpPr>
        <p:spPr>
          <a:xfrm>
            <a:off x="467424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2" name="PlaceHolder 4"/>
          <p:cNvSpPr>
            <a:spLocks noGrp="1"/>
          </p:cNvSpPr>
          <p:nvPr>
            <p:ph/>
          </p:nvPr>
        </p:nvSpPr>
        <p:spPr>
          <a:xfrm>
            <a:off x="45720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4" name="PlaceHolder 2"/>
          <p:cNvSpPr>
            <a:spLocks noGrp="1"/>
          </p:cNvSpPr>
          <p:nvPr>
            <p:ph/>
          </p:nvPr>
        </p:nvSpPr>
        <p:spPr>
          <a:xfrm>
            <a:off x="457200" y="1218960"/>
            <a:ext cx="40158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5"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6" name="PlaceHolder 4"/>
          <p:cNvSpPr>
            <a:spLocks noGrp="1"/>
          </p:cNvSpPr>
          <p:nvPr>
            <p:ph/>
          </p:nvPr>
        </p:nvSpPr>
        <p:spPr>
          <a:xfrm>
            <a:off x="4674240" y="384012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49760"/>
            <a:ext cx="82296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8" name="PlaceHolder 2"/>
          <p:cNvSpPr>
            <a:spLocks noGrp="1"/>
          </p:cNvSpPr>
          <p:nvPr>
            <p:ph/>
          </p:nvPr>
        </p:nvSpPr>
        <p:spPr>
          <a:xfrm>
            <a:off x="45720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9" name="PlaceHolder 3"/>
          <p:cNvSpPr>
            <a:spLocks noGrp="1"/>
          </p:cNvSpPr>
          <p:nvPr>
            <p:ph/>
          </p:nvPr>
        </p:nvSpPr>
        <p:spPr>
          <a:xfrm>
            <a:off x="4674240" y="1218960"/>
            <a:ext cx="40158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0" name="PlaceHolder 4"/>
          <p:cNvSpPr>
            <a:spLocks noGrp="1"/>
          </p:cNvSpPr>
          <p:nvPr>
            <p:ph/>
          </p:nvPr>
        </p:nvSpPr>
        <p:spPr>
          <a:xfrm>
            <a:off x="457200" y="3840120"/>
            <a:ext cx="8229600" cy="239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ebf3ff"/>
                </a:gs>
                <a:gs pos="50000">
                  <a:srgbClr val="edf4fe"/>
                </a:gs>
                <a:gs pos="100000">
                  <a:srgbClr val="ebf3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9"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0" name="PlaceHolder 2"/>
          <p:cNvSpPr>
            <a:spLocks noGrp="1"/>
          </p:cNvSpPr>
          <p:nvPr>
            <p:ph type="body"/>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lick to edit the outline text format</a:t>
            </a:r>
            <a:endParaRPr b="1" lang="en-US" sz="3200" spc="-1" strike="noStrike">
              <a:solidFill>
                <a:srgbClr val="000099"/>
              </a:solidFill>
              <a:latin typeface="Times New Roman"/>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econd Outline Level</a:t>
            </a:r>
            <a:endParaRPr b="1" lang="en-US" sz="3200" spc="-1" strike="noStrike">
              <a:solidFill>
                <a:srgbClr val="000099"/>
              </a:solidFill>
              <a:latin typeface="Times New Roman"/>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hird Outline Level</a:t>
            </a:r>
            <a:endParaRPr b="1" lang="en-US" sz="3200" spc="-1" strike="noStrike">
              <a:solidFill>
                <a:srgbClr val="000099"/>
              </a:solidFill>
              <a:latin typeface="Times New Roman"/>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Fourth Outline Level</a:t>
            </a:r>
            <a:endParaRPr b="1" lang="en-US" sz="3200" spc="-1" strike="noStrike">
              <a:solidFill>
                <a:srgbClr val="000099"/>
              </a:solidFill>
              <a:latin typeface="Times New Roman"/>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Fifth Outline Level</a:t>
            </a:r>
            <a:endParaRPr b="1" lang="en-US" sz="3200" spc="-1" strike="noStrike">
              <a:solidFill>
                <a:srgbClr val="000099"/>
              </a:solidFill>
              <a:latin typeface="Times New Roman"/>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ixth Outline Level</a:t>
            </a:r>
            <a:endParaRPr b="1" lang="en-US" sz="3200" spc="-1" strike="noStrike">
              <a:solidFill>
                <a:srgbClr val="000099"/>
              </a:solidFill>
              <a:latin typeface="Times New Roman"/>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eventh Outline Level</a:t>
            </a:r>
            <a:endParaRPr b="1" lang="en-US" sz="3200" spc="-1" strike="noStrike">
              <a:solidFill>
                <a:srgbClr val="000099"/>
              </a:solidFill>
              <a:latin typeface="Times New Roman"/>
            </a:endParaRPr>
          </a:p>
        </p:txBody>
      </p:sp>
      <p:sp>
        <p:nvSpPr>
          <p:cNvPr id="41" name="PlaceHolder 3"/>
          <p:cNvSpPr>
            <a:spLocks noGrp="1"/>
          </p:cNvSpPr>
          <p:nvPr>
            <p:ph type="dt" idx="1"/>
          </p:nvPr>
        </p:nvSpPr>
        <p:spPr>
          <a:xfrm>
            <a:off x="2209320" y="6381720"/>
            <a:ext cx="1676520" cy="318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lt;date/time&gt;</a:t>
            </a:r>
            <a:endParaRPr b="0" lang="en-US" sz="1600" spc="-1" strike="noStrike">
              <a:solidFill>
                <a:srgbClr val="000000"/>
              </a:solidFill>
              <a:latin typeface="Times New Roman"/>
            </a:endParaRPr>
          </a:p>
        </p:txBody>
      </p:sp>
      <p:sp>
        <p:nvSpPr>
          <p:cNvPr id="42" name="PlaceHolder 4"/>
          <p:cNvSpPr>
            <a:spLocks noGrp="1"/>
          </p:cNvSpPr>
          <p:nvPr>
            <p:ph type="ftr" idx="2"/>
          </p:nvPr>
        </p:nvSpPr>
        <p:spPr>
          <a:xfrm>
            <a:off x="4191120" y="6381720"/>
            <a:ext cx="175248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lt;footer&gt;</a:t>
            </a:r>
            <a:endParaRPr b="0" lang="en-US" sz="1600" spc="-1" strike="noStrike">
              <a:solidFill>
                <a:srgbClr val="000000"/>
              </a:solidFill>
              <a:latin typeface="Times New Roman"/>
            </a:endParaRPr>
          </a:p>
        </p:txBody>
      </p:sp>
      <p:sp>
        <p:nvSpPr>
          <p:cNvPr id="43" name=""/>
          <p:cNvSpPr/>
          <p:nvPr/>
        </p:nvSpPr>
        <p:spPr>
          <a:xfrm flipH="1">
            <a:off x="2916000" y="1014480"/>
            <a:ext cx="6048360" cy="0"/>
          </a:xfrm>
          <a:prstGeom prst="line">
            <a:avLst/>
          </a:prstGeom>
          <a:ln w="7632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 name=""/>
          <p:cNvSpPr/>
          <p:nvPr/>
        </p:nvSpPr>
        <p:spPr>
          <a:xfrm>
            <a:off x="8675640" y="366840"/>
            <a:ext cx="0" cy="1224000"/>
          </a:xfrm>
          <a:prstGeom prst="line">
            <a:avLst/>
          </a:prstGeom>
          <a:ln w="7632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 name=""/>
          <p:cNvSpPr/>
          <p:nvPr/>
        </p:nvSpPr>
        <p:spPr>
          <a:xfrm flipH="1">
            <a:off x="5076720" y="6237360"/>
            <a:ext cx="3888000" cy="0"/>
          </a:xfrm>
          <a:prstGeom prst="line">
            <a:avLst/>
          </a:prstGeom>
          <a:ln w="7632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 name=""/>
          <p:cNvSpPr/>
          <p:nvPr/>
        </p:nvSpPr>
        <p:spPr>
          <a:xfrm>
            <a:off x="8675640" y="5516640"/>
            <a:ext cx="0" cy="1008000"/>
          </a:xfrm>
          <a:prstGeom prst="line">
            <a:avLst/>
          </a:prstGeom>
          <a:ln w="7632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 name=""/>
          <p:cNvSpPr/>
          <p:nvPr/>
        </p:nvSpPr>
        <p:spPr>
          <a:xfrm>
            <a:off x="8486640" y="824040"/>
            <a:ext cx="378000" cy="382320"/>
          </a:xfrm>
          <a:prstGeom prst="ellipse">
            <a:avLst/>
          </a:prstGeom>
          <a:solidFill>
            <a:srgbClr val="85b1ff"/>
          </a:solidFill>
          <a:ln w="0">
            <a:noFill/>
          </a:ln>
          <a:effectLst>
            <a:outerShdw dist="153753" dir="2700000" blurRad="0" rotWithShape="0">
              <a:srgbClr val="4f6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 name=""/>
          <p:cNvSpPr/>
          <p:nvPr/>
        </p:nvSpPr>
        <p:spPr>
          <a:xfrm flipH="1">
            <a:off x="6300720" y="6343560"/>
            <a:ext cx="2519280" cy="0"/>
          </a:xfrm>
          <a:prstGeom prst="line">
            <a:avLst/>
          </a:prstGeom>
          <a:ln w="57240">
            <a:solidFill>
              <a:srgbClr val="6c8fe8"/>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 name=""/>
          <p:cNvSpPr/>
          <p:nvPr/>
        </p:nvSpPr>
        <p:spPr>
          <a:xfrm>
            <a:off x="6248520" y="6477120"/>
            <a:ext cx="121896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Narrow"/>
              </a:rPr>
              <a:t>Page </a:t>
            </a:r>
            <a:fld id="{9DE60E20-2D3F-41A5-8FA5-0D6F5A67502C}" type="slidenum">
              <a:rPr b="1" lang="en-US" sz="1400" spc="-1" strike="noStrike">
                <a:solidFill>
                  <a:srgbClr val="000099"/>
                </a:solidFill>
                <a:latin typeface="Arial Narrow"/>
              </a:rPr>
              <a:t>&lt;number&gt;</a:t>
            </a:fld>
            <a:endParaRPr b="0" lang="en-US" sz="1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0"/>
            <a:ext cx="9140760" cy="6851520"/>
            <a:chOff x="0" y="0"/>
            <a:chExt cx="9140760" cy="6851520"/>
          </a:xfrm>
        </p:grpSpPr>
        <p:sp>
          <p:nvSpPr>
            <p:cNvPr id="87"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ebf3ff"/>
                </a:gs>
                <a:gs pos="50000">
                  <a:srgbClr val="edf4fe"/>
                </a:gs>
                <a:gs pos="100000">
                  <a:srgbClr val="ebf3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9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nvGrpSpPr>
            <p:cNvPr id="99" name=""/>
            <p:cNvGrpSpPr/>
            <p:nvPr/>
          </p:nvGrpSpPr>
          <p:grpSpPr>
            <a:xfrm>
              <a:off x="304920" y="3625920"/>
              <a:ext cx="1990440" cy="1465200"/>
              <a:chOff x="304920" y="3625920"/>
              <a:chExt cx="1990440" cy="1465200"/>
            </a:xfrm>
          </p:grpSpPr>
          <p:sp>
            <p:nvSpPr>
              <p:cNvPr id="100"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101"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110"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111"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115"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116"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118"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ffff"/>
                  </a:gs>
                  <a:gs pos="100000">
                    <a:srgbClr val="ebf3ff"/>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120"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ebf3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5" name="PlaceHolder 1"/>
          <p:cNvSpPr>
            <a:spLocks noGrp="1"/>
          </p:cNvSpPr>
          <p:nvPr>
            <p:ph type="title"/>
          </p:nvPr>
        </p:nvSpPr>
        <p:spPr>
          <a:xfrm>
            <a:off x="685800" y="1699920"/>
            <a:ext cx="7772400" cy="146988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imes New Roman"/>
              </a:rPr>
              <a:t>Click to edit the title text format</a:t>
            </a:r>
            <a:endParaRPr b="0" lang="en-US" sz="4800" spc="-1" strike="noStrike">
              <a:solidFill>
                <a:srgbClr val="000099"/>
              </a:solidFill>
              <a:latin typeface="Times New Roman"/>
            </a:endParaRPr>
          </a:p>
        </p:txBody>
      </p:sp>
      <p:sp>
        <p:nvSpPr>
          <p:cNvPr id="12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lick to edit the outline text format</a:t>
            </a:r>
            <a:endParaRPr b="1" lang="en-US" sz="3200" spc="-1" strike="noStrike">
              <a:solidFill>
                <a:srgbClr val="0000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cond Outline Level</a:t>
            </a:r>
            <a:endParaRPr b="0" lang="en-US" sz="2800" spc="-1" strike="noStrike">
              <a:solidFill>
                <a:srgbClr val="000099"/>
              </a:solidFill>
              <a:latin typeface="Times New Roman"/>
            </a:endParaRPr>
          </a:p>
          <a:p>
            <a:pPr lvl="2" marL="914400" algn="ctr">
              <a:spcBef>
                <a:spcPts val="601"/>
              </a:spcBef>
              <a:buClr>
                <a:srgbClr val="00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rd Outline Level</a:t>
            </a:r>
            <a:endParaRPr b="0" lang="en-US" sz="2400" spc="-1" strike="noStrike">
              <a:solidFill>
                <a:srgbClr val="000099"/>
              </a:solidFill>
              <a:latin typeface="Times New Roman"/>
            </a:endParaRPr>
          </a:p>
          <a:p>
            <a:pPr lvl="3" marL="1371600" algn="ctr">
              <a:spcBef>
                <a:spcPts val="499"/>
              </a:spcBef>
              <a:buClr>
                <a:srgbClr val="0000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urth Outline Level</a:t>
            </a:r>
            <a:endParaRPr b="0" lang="en-US" sz="2000" spc="-1" strike="noStrike">
              <a:solidFill>
                <a:srgbClr val="000099"/>
              </a:solidFill>
              <a:latin typeface="Times New Roman"/>
            </a:endParaRPr>
          </a:p>
          <a:p>
            <a:pPr lvl="4" marL="1828800" algn="ctr">
              <a:spcBef>
                <a:spcPts val="499"/>
              </a:spcBef>
              <a:buClr>
                <a:srgbClr val="00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fth Outline Level</a:t>
            </a:r>
            <a:endParaRPr b="0" lang="en-US" sz="2000" spc="-1" strike="noStrike">
              <a:solidFill>
                <a:srgbClr val="000099"/>
              </a:solidFill>
              <a:latin typeface="Times New Roman"/>
            </a:endParaRPr>
          </a:p>
          <a:p>
            <a:pPr lvl="5" marL="1828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xth Outline Level</a:t>
            </a:r>
            <a:endParaRPr b="0" lang="en-US" sz="2000" spc="-1" strike="noStrike">
              <a:solidFill>
                <a:srgbClr val="000099"/>
              </a:solidFill>
              <a:latin typeface="Times New Roman"/>
            </a:endParaRPr>
          </a:p>
          <a:p>
            <a:pPr lvl="6" marL="18288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venth Outline Level</a:t>
            </a:r>
            <a:endParaRPr b="0" lang="en-US" sz="2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audio" Target="../media/CAMERA.WAV"/><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9920"/>
            <a:ext cx="7772400" cy="146988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imes New Roman"/>
                <a:ea typeface="宋体"/>
              </a:rPr>
              <a:t>数字校园一卡通系统的</a:t>
            </a:r>
            <a:br>
              <a:rPr sz="4800"/>
            </a:br>
            <a:r>
              <a:rPr b="1" lang="zh-CN" sz="4800" spc="-1" strike="noStrike">
                <a:solidFill>
                  <a:srgbClr val="000099"/>
                </a:solidFill>
                <a:latin typeface="Times New Roman"/>
                <a:ea typeface="宋体"/>
              </a:rPr>
              <a:t>建设策略与实现</a:t>
            </a:r>
            <a:endParaRPr b="0" lang="en-US" sz="4800" spc="-1" strike="noStrike">
              <a:solidFill>
                <a:srgbClr val="000099"/>
              </a:solidFill>
              <a:latin typeface="Times New Roman"/>
            </a:endParaRPr>
          </a:p>
        </p:txBody>
      </p:sp>
      <p:sp>
        <p:nvSpPr>
          <p:cNvPr id="164" name="PlaceHolder 2"/>
          <p:cNvSpPr>
            <a:spLocks noGrp="1"/>
          </p:cNvSpPr>
          <p:nvPr>
            <p:ph type="subTitle"/>
          </p:nvPr>
        </p:nvSpPr>
        <p:spPr>
          <a:xfrm>
            <a:off x="1371600" y="4205160"/>
            <a:ext cx="6400800" cy="67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65" name=""/>
          <p:cNvSpPr/>
          <p:nvPr/>
        </p:nvSpPr>
        <p:spPr>
          <a:xfrm>
            <a:off x="1371600" y="50292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卡发展和银行校园卡</a:t>
            </a:r>
            <a:endParaRPr b="0" lang="en-US" sz="4800" spc="-1" strike="noStrike">
              <a:solidFill>
                <a:srgbClr val="000099"/>
              </a:solidFill>
              <a:latin typeface="Times New Roman"/>
            </a:endParaRPr>
          </a:p>
        </p:txBody>
      </p:sp>
      <p:sp>
        <p:nvSpPr>
          <p:cNvPr id="58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从</a:t>
            </a:r>
            <a:r>
              <a:rPr b="1" lang="zh-CN" sz="3200" spc="-1" strike="noStrike">
                <a:solidFill>
                  <a:srgbClr val="000099"/>
                </a:solidFill>
                <a:latin typeface="Times New Roman"/>
              </a:rPr>
              <a:t>20</a:t>
            </a:r>
            <a:r>
              <a:rPr b="1" lang="zh-CN" sz="3200" spc="-1" strike="noStrike">
                <a:solidFill>
                  <a:srgbClr val="000099"/>
                </a:solidFill>
                <a:latin typeface="Times New Roman"/>
              </a:rPr>
              <a:t>世纪</a:t>
            </a:r>
            <a:r>
              <a:rPr b="1" lang="zh-CN" sz="3200" spc="-1" strike="noStrike">
                <a:solidFill>
                  <a:srgbClr val="000099"/>
                </a:solidFill>
                <a:latin typeface="Times New Roman"/>
              </a:rPr>
              <a:t>80</a:t>
            </a:r>
            <a:r>
              <a:rPr b="1" lang="zh-CN" sz="3200" spc="-1" strike="noStrike">
                <a:solidFill>
                  <a:srgbClr val="000099"/>
                </a:solidFill>
                <a:latin typeface="Times New Roman"/>
              </a:rPr>
              <a:t>年代出现的校园就餐卡算起，校园卡的发展</a:t>
            </a:r>
            <a:endParaRPr b="1" lang="en-US" sz="3200" spc="-1" strike="noStrike">
              <a:solidFill>
                <a:srgbClr val="000099"/>
              </a:solidFill>
              <a:latin typeface="Times New Roman"/>
            </a:endParaRPr>
          </a:p>
        </p:txBody>
      </p:sp>
      <p:grpSp>
        <p:nvGrpSpPr>
          <p:cNvPr id="587" name=""/>
          <p:cNvGrpSpPr/>
          <p:nvPr/>
        </p:nvGrpSpPr>
        <p:grpSpPr>
          <a:xfrm>
            <a:off x="533520" y="3352320"/>
            <a:ext cx="4266360" cy="1726920"/>
            <a:chOff x="533520" y="3352320"/>
            <a:chExt cx="4266360" cy="1726920"/>
          </a:xfrm>
        </p:grpSpPr>
        <p:sp>
          <p:nvSpPr>
            <p:cNvPr id="588" name=""/>
            <p:cNvSpPr/>
            <p:nvPr/>
          </p:nvSpPr>
          <p:spPr>
            <a:xfrm>
              <a:off x="533520" y="3352680"/>
              <a:ext cx="4266360" cy="17265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b3ccfd"/>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89" name=""/>
            <p:cNvSpPr/>
            <p:nvPr/>
          </p:nvSpPr>
          <p:spPr>
            <a:xfrm>
              <a:off x="533520" y="4216320"/>
              <a:ext cx="2133360" cy="431640"/>
            </a:xfrm>
            <a:prstGeom prst="rect">
              <a:avLst/>
            </a:prstGeom>
            <a:solidFill>
              <a:srgbClr val="b3ccfd"/>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90" name=""/>
            <p:cNvSpPr/>
            <p:nvPr/>
          </p:nvSpPr>
          <p:spPr>
            <a:xfrm flipV="1">
              <a:off x="2666880" y="3352320"/>
              <a:ext cx="0" cy="86364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91" name=""/>
          <p:cNvGrpSpPr/>
          <p:nvPr/>
        </p:nvGrpSpPr>
        <p:grpSpPr>
          <a:xfrm>
            <a:off x="533520" y="3778920"/>
            <a:ext cx="4267080" cy="1630800"/>
            <a:chOff x="533520" y="3778920"/>
            <a:chExt cx="4267080" cy="1630800"/>
          </a:xfrm>
        </p:grpSpPr>
        <p:sp>
          <p:nvSpPr>
            <p:cNvPr id="592" name=""/>
            <p:cNvSpPr/>
            <p:nvPr/>
          </p:nvSpPr>
          <p:spPr>
            <a:xfrm>
              <a:off x="533520" y="4503600"/>
              <a:ext cx="213120" cy="181080"/>
            </a:xfrm>
            <a:prstGeom prst="rect">
              <a:avLst/>
            </a:pr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93" name=""/>
            <p:cNvSpPr/>
            <p:nvPr/>
          </p:nvSpPr>
          <p:spPr>
            <a:xfrm>
              <a:off x="533520" y="3960000"/>
              <a:ext cx="4267080" cy="1449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594" name=""/>
            <p:cNvGrpSpPr/>
            <p:nvPr/>
          </p:nvGrpSpPr>
          <p:grpSpPr>
            <a:xfrm>
              <a:off x="533520" y="3778920"/>
              <a:ext cx="4267080" cy="1450800"/>
              <a:chOff x="533520" y="3778920"/>
              <a:chExt cx="4267080" cy="1450800"/>
            </a:xfrm>
          </p:grpSpPr>
          <p:sp>
            <p:nvSpPr>
              <p:cNvPr id="595" name=""/>
              <p:cNvSpPr/>
              <p:nvPr/>
            </p:nvSpPr>
            <p:spPr>
              <a:xfrm>
                <a:off x="533520" y="3778920"/>
                <a:ext cx="4267080" cy="1449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96" name=""/>
              <p:cNvSpPr/>
              <p:nvPr/>
            </p:nvSpPr>
            <p:spPr>
              <a:xfrm>
                <a:off x="533520" y="4503600"/>
                <a:ext cx="2135160" cy="726120"/>
              </a:xfrm>
              <a:custGeom>
                <a:avLst/>
                <a:gdLst/>
                <a:ahLst/>
                <a:rect l="l" t="t" r="r" b="b"/>
                <a:pathLst>
                  <a:path w="1441" h="577">
                    <a:moveTo>
                      <a:pt x="1440" y="576"/>
                    </a:moveTo>
                    <a:lnTo>
                      <a:pt x="1440" y="0"/>
                    </a:lnTo>
                    <a:lnTo>
                      <a:pt x="0" y="0"/>
                    </a:lnTo>
                  </a:path>
                </a:pathLst>
              </a:custGeom>
              <a:solidFill>
                <a:srgbClr val="cdd9f7"/>
              </a:solidFill>
              <a:ln w="324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sp>
          <p:nvSpPr>
            <p:cNvPr id="597" name=""/>
            <p:cNvSpPr/>
            <p:nvPr/>
          </p:nvSpPr>
          <p:spPr>
            <a:xfrm flipV="1">
              <a:off x="533520" y="4503240"/>
              <a:ext cx="0" cy="18108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2667240" y="5228640"/>
              <a:ext cx="0" cy="18108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99" name=""/>
          <p:cNvGrpSpPr/>
          <p:nvPr/>
        </p:nvGrpSpPr>
        <p:grpSpPr>
          <a:xfrm>
            <a:off x="533520" y="3200400"/>
            <a:ext cx="4267080" cy="1593720"/>
            <a:chOff x="533520" y="3200400"/>
            <a:chExt cx="4267080" cy="1593720"/>
          </a:xfrm>
        </p:grpSpPr>
        <p:sp>
          <p:nvSpPr>
            <p:cNvPr id="600" name=""/>
            <p:cNvSpPr/>
            <p:nvPr/>
          </p:nvSpPr>
          <p:spPr>
            <a:xfrm>
              <a:off x="533520" y="3200400"/>
              <a:ext cx="4266720" cy="159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5b4ff"/>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1" name=""/>
            <p:cNvSpPr/>
            <p:nvPr/>
          </p:nvSpPr>
          <p:spPr>
            <a:xfrm>
              <a:off x="2666880" y="3997440"/>
              <a:ext cx="2133720" cy="497880"/>
            </a:xfrm>
            <a:prstGeom prst="rect">
              <a:avLst/>
            </a:prstGeom>
            <a:solidFill>
              <a:srgbClr val="95b4ff"/>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2" name=""/>
            <p:cNvSpPr/>
            <p:nvPr/>
          </p:nvSpPr>
          <p:spPr>
            <a:xfrm>
              <a:off x="2666880" y="3200400"/>
              <a:ext cx="0" cy="79704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603" name=""/>
          <p:cNvSpPr/>
          <p:nvPr/>
        </p:nvSpPr>
        <p:spPr>
          <a:xfrm>
            <a:off x="914400" y="3616200"/>
            <a:ext cx="1752480" cy="601560"/>
          </a:xfrm>
          <a:prstGeom prst="rect">
            <a:avLst/>
          </a:prstGeom>
          <a:noFill/>
          <a:ln w="0">
            <a:noFill/>
          </a:ln>
        </p:spPr>
        <p:style>
          <a:lnRef idx="0"/>
          <a:fillRef idx="0"/>
          <a:effectRef idx="0"/>
          <a:fontRef idx="minor"/>
        </p:style>
        <p:txBody>
          <a:bodyPr lIns="45720" rIns="4572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有后勤服务的逻辑</a:t>
            </a:r>
            <a:endParaRPr b="0" lang="en-US" sz="14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加密卡加大食堂卡</a:t>
            </a:r>
            <a:endParaRPr b="0" lang="en-US" sz="1400" spc="-1" strike="noStrike">
              <a:solidFill>
                <a:srgbClr val="000066"/>
              </a:solidFill>
              <a:latin typeface="Times New Roman"/>
            </a:endParaRPr>
          </a:p>
        </p:txBody>
      </p:sp>
      <p:sp>
        <p:nvSpPr>
          <p:cNvPr id="604" name=""/>
          <p:cNvSpPr/>
          <p:nvPr/>
        </p:nvSpPr>
        <p:spPr>
          <a:xfrm>
            <a:off x="2565360" y="3454560"/>
            <a:ext cx="2057400" cy="601560"/>
          </a:xfrm>
          <a:prstGeom prst="rect">
            <a:avLst/>
          </a:prstGeom>
          <a:noFill/>
          <a:ln w="0">
            <a:noFill/>
          </a:ln>
        </p:spPr>
        <p:style>
          <a:lnRef idx="0"/>
          <a:fillRef idx="0"/>
          <a:effectRef idx="0"/>
          <a:fontRef idx="minor"/>
        </p:style>
        <p:txBody>
          <a:bodyPr lIns="45720" rIns="4572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具有银行金融结算功能</a:t>
            </a:r>
            <a:endParaRPr b="0" lang="en-US" sz="14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的智能卡加银行卡</a:t>
            </a:r>
            <a:endParaRPr b="0" lang="en-US" sz="1400" spc="-1" strike="noStrike">
              <a:solidFill>
                <a:srgbClr val="000066"/>
              </a:solidFill>
              <a:latin typeface="Times New Roman"/>
            </a:endParaRPr>
          </a:p>
        </p:txBody>
      </p:sp>
      <p:sp>
        <p:nvSpPr>
          <p:cNvPr id="605" name=""/>
          <p:cNvSpPr/>
          <p:nvPr/>
        </p:nvSpPr>
        <p:spPr>
          <a:xfrm>
            <a:off x="907920" y="4530600"/>
            <a:ext cx="1617840" cy="601560"/>
          </a:xfrm>
          <a:prstGeom prst="rect">
            <a:avLst/>
          </a:prstGeom>
          <a:noFill/>
          <a:ln w="0">
            <a:noFill/>
          </a:ln>
        </p:spPr>
        <p:style>
          <a:lnRef idx="0"/>
          <a:fillRef idx="0"/>
          <a:effectRef idx="0"/>
          <a:fontRef idx="minor"/>
        </p:style>
        <p:txBody>
          <a:bodyPr lIns="45720" rIns="4572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不加密的</a:t>
            </a:r>
            <a:r>
              <a:rPr b="1" lang="en-US" sz="1400" spc="-1" strike="noStrike">
                <a:solidFill>
                  <a:srgbClr val="000066"/>
                </a:solidFill>
                <a:latin typeface="Times New Roman"/>
              </a:rPr>
              <a:t>ID</a:t>
            </a:r>
            <a:r>
              <a:rPr b="1" lang="zh-CN" sz="1400" spc="-1" strike="noStrike">
                <a:solidFill>
                  <a:srgbClr val="000066"/>
                </a:solidFill>
                <a:latin typeface="Times New Roman"/>
              </a:rPr>
              <a:t>卡</a:t>
            </a:r>
            <a:endParaRPr b="0" lang="en-US" sz="14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加食堂卡</a:t>
            </a:r>
            <a:endParaRPr b="0" lang="en-US" sz="1400" spc="-1" strike="noStrike">
              <a:solidFill>
                <a:srgbClr val="000066"/>
              </a:solidFill>
              <a:latin typeface="Times New Roman"/>
            </a:endParaRPr>
          </a:p>
        </p:txBody>
      </p:sp>
      <p:sp>
        <p:nvSpPr>
          <p:cNvPr id="606" name=""/>
          <p:cNvSpPr/>
          <p:nvPr/>
        </p:nvSpPr>
        <p:spPr>
          <a:xfrm>
            <a:off x="2743200" y="4800600"/>
            <a:ext cx="2286000" cy="284400"/>
          </a:xfrm>
          <a:prstGeom prst="rect">
            <a:avLst/>
          </a:prstGeom>
          <a:noFill/>
          <a:ln w="0">
            <a:noFill/>
          </a:ln>
        </p:spPr>
        <p:style>
          <a:lnRef idx="0"/>
          <a:fillRef idx="0"/>
          <a:effectRef idx="0"/>
          <a:fontRef idx="minor"/>
        </p:style>
        <p:txBody>
          <a:bodyPr lIns="45720" rIns="4572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Times New Roman"/>
              </a:rPr>
              <a:t>校园就餐卡的发展</a:t>
            </a:r>
            <a:endParaRPr b="0" lang="en-US" sz="2000" spc="-1" strike="noStrike">
              <a:solidFill>
                <a:srgbClr val="000066"/>
              </a:solidFill>
              <a:latin typeface="Times New Roman"/>
            </a:endParaRPr>
          </a:p>
        </p:txBody>
      </p:sp>
      <p:sp>
        <p:nvSpPr>
          <p:cNvPr id="607" name=""/>
          <p:cNvSpPr/>
          <p:nvPr/>
        </p:nvSpPr>
        <p:spPr>
          <a:xfrm>
            <a:off x="2362320" y="491004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0" lang="en-US" sz="1200" spc="-1" strike="noStrike">
              <a:solidFill>
                <a:srgbClr val="000066"/>
              </a:solidFill>
              <a:latin typeface="Times New Roman"/>
            </a:endParaRPr>
          </a:p>
        </p:txBody>
      </p:sp>
      <p:sp>
        <p:nvSpPr>
          <p:cNvPr id="608" name=""/>
          <p:cNvSpPr/>
          <p:nvPr/>
        </p:nvSpPr>
        <p:spPr>
          <a:xfrm>
            <a:off x="2362320" y="342900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0" lang="en-US" sz="1200" spc="-1" strike="noStrike">
              <a:solidFill>
                <a:srgbClr val="000066"/>
              </a:solidFill>
              <a:latin typeface="Times New Roman"/>
            </a:endParaRPr>
          </a:p>
        </p:txBody>
      </p:sp>
      <p:sp>
        <p:nvSpPr>
          <p:cNvPr id="609" name=""/>
          <p:cNvSpPr/>
          <p:nvPr/>
        </p:nvSpPr>
        <p:spPr>
          <a:xfrm>
            <a:off x="2743200" y="327672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0" lang="en-US" sz="1200" spc="-1" strike="noStrike">
              <a:solidFill>
                <a:srgbClr val="000066"/>
              </a:solidFill>
              <a:latin typeface="Times New Roman"/>
            </a:endParaRPr>
          </a:p>
        </p:txBody>
      </p:sp>
      <p:sp>
        <p:nvSpPr>
          <p:cNvPr id="610" name=""/>
          <p:cNvSpPr/>
          <p:nvPr/>
        </p:nvSpPr>
        <p:spPr>
          <a:xfrm>
            <a:off x="2666880" y="4191120"/>
            <a:ext cx="205740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bf3ff"/>
                </a:solidFill>
                <a:latin typeface="Times New Roman"/>
              </a:rPr>
              <a:t>银行校园卡</a:t>
            </a:r>
            <a:endParaRPr b="0" lang="en-US" sz="1400" spc="-1" strike="noStrike">
              <a:solidFill>
                <a:srgbClr val="000066"/>
              </a:solidFill>
              <a:latin typeface="Times New Roman"/>
            </a:endParaRPr>
          </a:p>
        </p:txBody>
      </p:sp>
      <p:sp>
        <p:nvSpPr>
          <p:cNvPr id="611" name=""/>
          <p:cNvSpPr/>
          <p:nvPr/>
        </p:nvSpPr>
        <p:spPr>
          <a:xfrm>
            <a:off x="4886280" y="4095720"/>
            <a:ext cx="1496880" cy="1201680"/>
          </a:xfrm>
          <a:custGeom>
            <a:avLst/>
            <a:gdLst/>
            <a:ahLst/>
            <a:rect l="l" t="t" r="r" b="b"/>
            <a:pathLst>
              <a:path w="943" h="757">
                <a:moveTo>
                  <a:pt x="176" y="0"/>
                </a:moveTo>
                <a:lnTo>
                  <a:pt x="126" y="0"/>
                </a:lnTo>
                <a:lnTo>
                  <a:pt x="94" y="6"/>
                </a:lnTo>
                <a:lnTo>
                  <a:pt x="57" y="18"/>
                </a:lnTo>
                <a:lnTo>
                  <a:pt x="19" y="54"/>
                </a:lnTo>
                <a:lnTo>
                  <a:pt x="0" y="114"/>
                </a:lnTo>
                <a:lnTo>
                  <a:pt x="0" y="156"/>
                </a:lnTo>
                <a:lnTo>
                  <a:pt x="7" y="216"/>
                </a:lnTo>
                <a:lnTo>
                  <a:pt x="25" y="258"/>
                </a:lnTo>
                <a:lnTo>
                  <a:pt x="51" y="288"/>
                </a:lnTo>
                <a:lnTo>
                  <a:pt x="94" y="318"/>
                </a:lnTo>
                <a:lnTo>
                  <a:pt x="628" y="606"/>
                </a:lnTo>
                <a:lnTo>
                  <a:pt x="628" y="756"/>
                </a:lnTo>
                <a:lnTo>
                  <a:pt x="942" y="588"/>
                </a:lnTo>
                <a:lnTo>
                  <a:pt x="628" y="90"/>
                </a:lnTo>
                <a:lnTo>
                  <a:pt x="628" y="108"/>
                </a:lnTo>
                <a:lnTo>
                  <a:pt x="628" y="252"/>
                </a:lnTo>
                <a:lnTo>
                  <a:pt x="176" y="0"/>
                </a:lnTo>
                <a:close/>
              </a:path>
            </a:pathLst>
          </a:custGeom>
          <a:solidFill>
            <a:srgbClr val="ebf3ff"/>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2" name=""/>
          <p:cNvSpPr/>
          <p:nvPr/>
        </p:nvSpPr>
        <p:spPr>
          <a:xfrm>
            <a:off x="5076720" y="3009960"/>
            <a:ext cx="1516320" cy="1087200"/>
          </a:xfrm>
          <a:custGeom>
            <a:avLst/>
            <a:gdLst/>
            <a:ahLst/>
            <a:rect l="l" t="t" r="r" b="b"/>
            <a:pathLst>
              <a:path w="955" h="685">
                <a:moveTo>
                  <a:pt x="18" y="654"/>
                </a:moveTo>
                <a:lnTo>
                  <a:pt x="0" y="552"/>
                </a:lnTo>
                <a:lnTo>
                  <a:pt x="37" y="474"/>
                </a:lnTo>
                <a:lnTo>
                  <a:pt x="106" y="432"/>
                </a:lnTo>
                <a:lnTo>
                  <a:pt x="634" y="138"/>
                </a:lnTo>
                <a:lnTo>
                  <a:pt x="634" y="0"/>
                </a:lnTo>
                <a:lnTo>
                  <a:pt x="954" y="156"/>
                </a:lnTo>
                <a:lnTo>
                  <a:pt x="634" y="678"/>
                </a:lnTo>
                <a:lnTo>
                  <a:pt x="634" y="510"/>
                </a:lnTo>
                <a:lnTo>
                  <a:pt x="477" y="594"/>
                </a:lnTo>
                <a:lnTo>
                  <a:pt x="307" y="684"/>
                </a:lnTo>
                <a:lnTo>
                  <a:pt x="18" y="654"/>
                </a:lnTo>
                <a:close/>
              </a:path>
            </a:pathLst>
          </a:custGeom>
          <a:solidFill>
            <a:srgbClr val="ebf3ff"/>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3" name=""/>
          <p:cNvSpPr/>
          <p:nvPr/>
        </p:nvSpPr>
        <p:spPr>
          <a:xfrm>
            <a:off x="5883120" y="4105440"/>
            <a:ext cx="709920" cy="925200"/>
          </a:xfrm>
          <a:custGeom>
            <a:avLst/>
            <a:gdLst/>
            <a:ahLst/>
            <a:rect l="l" t="t" r="r" b="b"/>
            <a:pathLst>
              <a:path w="447" h="583">
                <a:moveTo>
                  <a:pt x="0" y="84"/>
                </a:moveTo>
                <a:lnTo>
                  <a:pt x="126" y="0"/>
                </a:lnTo>
                <a:lnTo>
                  <a:pt x="446" y="504"/>
                </a:lnTo>
                <a:lnTo>
                  <a:pt x="314" y="582"/>
                </a:lnTo>
                <a:lnTo>
                  <a:pt x="0" y="84"/>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4" name=""/>
          <p:cNvSpPr/>
          <p:nvPr/>
        </p:nvSpPr>
        <p:spPr>
          <a:xfrm>
            <a:off x="5883120" y="3819600"/>
            <a:ext cx="201600" cy="268200"/>
          </a:xfrm>
          <a:custGeom>
            <a:avLst/>
            <a:gdLst/>
            <a:ahLst/>
            <a:rect l="l" t="t" r="r" b="b"/>
            <a:pathLst>
              <a:path w="127" h="169">
                <a:moveTo>
                  <a:pt x="126" y="0"/>
                </a:moveTo>
                <a:lnTo>
                  <a:pt x="0" y="66"/>
                </a:lnTo>
                <a:lnTo>
                  <a:pt x="0" y="90"/>
                </a:lnTo>
                <a:lnTo>
                  <a:pt x="126" y="168"/>
                </a:lnTo>
                <a:lnTo>
                  <a:pt x="126" y="0"/>
                </a:lnTo>
                <a:lnTo>
                  <a:pt x="126" y="0"/>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5" name=""/>
          <p:cNvSpPr/>
          <p:nvPr/>
        </p:nvSpPr>
        <p:spPr>
          <a:xfrm>
            <a:off x="4876920" y="2895480"/>
            <a:ext cx="1207800" cy="1602000"/>
          </a:xfrm>
          <a:custGeom>
            <a:avLst/>
            <a:gdLst/>
            <a:ahLst/>
            <a:rect l="l" t="t" r="r" b="b"/>
            <a:pathLst>
              <a:path w="761" h="1009">
                <a:moveTo>
                  <a:pt x="182" y="762"/>
                </a:moveTo>
                <a:lnTo>
                  <a:pt x="144" y="756"/>
                </a:lnTo>
                <a:lnTo>
                  <a:pt x="107" y="762"/>
                </a:lnTo>
                <a:lnTo>
                  <a:pt x="63" y="744"/>
                </a:lnTo>
                <a:lnTo>
                  <a:pt x="31" y="708"/>
                </a:lnTo>
                <a:lnTo>
                  <a:pt x="13" y="666"/>
                </a:lnTo>
                <a:lnTo>
                  <a:pt x="0" y="624"/>
                </a:lnTo>
                <a:lnTo>
                  <a:pt x="6" y="570"/>
                </a:lnTo>
                <a:lnTo>
                  <a:pt x="19" y="522"/>
                </a:lnTo>
                <a:lnTo>
                  <a:pt x="44" y="480"/>
                </a:lnTo>
                <a:lnTo>
                  <a:pt x="94" y="438"/>
                </a:lnTo>
                <a:lnTo>
                  <a:pt x="634" y="150"/>
                </a:lnTo>
                <a:lnTo>
                  <a:pt x="634" y="0"/>
                </a:lnTo>
                <a:lnTo>
                  <a:pt x="760" y="72"/>
                </a:lnTo>
                <a:lnTo>
                  <a:pt x="760" y="210"/>
                </a:lnTo>
                <a:lnTo>
                  <a:pt x="232" y="504"/>
                </a:lnTo>
                <a:lnTo>
                  <a:pt x="182" y="540"/>
                </a:lnTo>
                <a:lnTo>
                  <a:pt x="151" y="588"/>
                </a:lnTo>
                <a:lnTo>
                  <a:pt x="138" y="654"/>
                </a:lnTo>
                <a:lnTo>
                  <a:pt x="138" y="690"/>
                </a:lnTo>
                <a:lnTo>
                  <a:pt x="144" y="726"/>
                </a:lnTo>
                <a:lnTo>
                  <a:pt x="201" y="690"/>
                </a:lnTo>
                <a:lnTo>
                  <a:pt x="239" y="678"/>
                </a:lnTo>
                <a:lnTo>
                  <a:pt x="276" y="678"/>
                </a:lnTo>
                <a:lnTo>
                  <a:pt x="314" y="684"/>
                </a:lnTo>
                <a:lnTo>
                  <a:pt x="634" y="864"/>
                </a:lnTo>
                <a:lnTo>
                  <a:pt x="634" y="1008"/>
                </a:lnTo>
                <a:lnTo>
                  <a:pt x="182" y="762"/>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6" name=""/>
          <p:cNvSpPr/>
          <p:nvPr/>
        </p:nvSpPr>
        <p:spPr>
          <a:xfrm>
            <a:off x="6591240" y="2057400"/>
            <a:ext cx="1866960" cy="13629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以银行结算平台为基础</a:t>
            </a:r>
            <a:endParaRPr b="0" lang="en-US" sz="12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通过充分利用安全性高、结算功能齐全、使用范围广泛的银行金融结算系统</a:t>
            </a:r>
            <a:endParaRPr b="0" lang="en-US" sz="12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实现校园电子货币一卡通</a:t>
            </a:r>
            <a:endParaRPr b="0" lang="en-US" sz="1200" spc="-1" strike="noStrike">
              <a:solidFill>
                <a:srgbClr val="000066"/>
              </a:solidFill>
              <a:latin typeface="Times New Roman"/>
            </a:endParaRPr>
          </a:p>
        </p:txBody>
      </p:sp>
      <p:sp>
        <p:nvSpPr>
          <p:cNvPr id="617" name=""/>
          <p:cNvSpPr/>
          <p:nvPr/>
        </p:nvSpPr>
        <p:spPr>
          <a:xfrm>
            <a:off x="6566040" y="4572000"/>
            <a:ext cx="1887480" cy="64152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不但解决了资金风险问题</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99"/>
                </a:solidFill>
                <a:latin typeface="Times New Roman"/>
              </a:rPr>
              <a:t>· </a:t>
            </a:r>
            <a:r>
              <a:rPr b="0" lang="zh-CN" sz="1200" spc="-1" strike="noStrike">
                <a:solidFill>
                  <a:srgbClr val="000099"/>
                </a:solidFill>
                <a:latin typeface="Times New Roman"/>
              </a:rPr>
              <a:t>而且使校园卡具有充分的开放性和前瞻性</a:t>
            </a:r>
            <a:endParaRPr b="0" lang="en-US" sz="1200" spc="-1" strike="noStrike">
              <a:solidFill>
                <a:srgbClr val="000066"/>
              </a:solidFill>
              <a:latin typeface="Times New Roman"/>
            </a:endParaRPr>
          </a:p>
        </p:txBody>
      </p:sp>
      <p:sp>
        <p:nvSpPr>
          <p:cNvPr id="618"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19"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0"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1"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2"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3"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4"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5"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6"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7"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8"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29"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0"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1"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2"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3"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4"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5"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6"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7"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8"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39"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0"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1"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2"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3"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4"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5"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6"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7"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8"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49"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50"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651"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a:t>
            </a:r>
            <a:endParaRPr b="0" lang="en-US" sz="4800" spc="-1" strike="noStrike">
              <a:solidFill>
                <a:srgbClr val="000099"/>
              </a:solidFill>
              <a:latin typeface="Times New Roman"/>
            </a:endParaRPr>
          </a:p>
        </p:txBody>
      </p:sp>
      <p:sp>
        <p:nvSpPr>
          <p:cNvPr id="65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在卡的基础上开发各类应用与服务</a:t>
            </a:r>
            <a:endParaRPr b="1" lang="en-US" sz="3200" spc="-1" strike="noStrike">
              <a:solidFill>
                <a:srgbClr val="000099"/>
              </a:solidFill>
              <a:latin typeface="Times New Roman"/>
            </a:endParaRPr>
          </a:p>
        </p:txBody>
      </p:sp>
      <p:grpSp>
        <p:nvGrpSpPr>
          <p:cNvPr id="654" name=""/>
          <p:cNvGrpSpPr/>
          <p:nvPr/>
        </p:nvGrpSpPr>
        <p:grpSpPr>
          <a:xfrm>
            <a:off x="2895480" y="2400480"/>
            <a:ext cx="1250640" cy="1628640"/>
            <a:chOff x="2895480" y="2400480"/>
            <a:chExt cx="1250640" cy="1628640"/>
          </a:xfrm>
        </p:grpSpPr>
        <p:sp>
          <p:nvSpPr>
            <p:cNvPr id="655" name=""/>
            <p:cNvSpPr/>
            <p:nvPr/>
          </p:nvSpPr>
          <p:spPr>
            <a:xfrm>
              <a:off x="2895480" y="2471760"/>
              <a:ext cx="1250640" cy="1497240"/>
            </a:xfrm>
            <a:prstGeom prst="rect">
              <a:avLst/>
            </a:prstGeom>
            <a:gradFill rotWithShape="0">
              <a:gsLst>
                <a:gs pos="0">
                  <a:srgbClr val="ebf3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6" name=""/>
            <p:cNvSpPr/>
            <p:nvPr/>
          </p:nvSpPr>
          <p:spPr>
            <a:xfrm>
              <a:off x="2895480" y="2400480"/>
              <a:ext cx="1250640" cy="111960"/>
            </a:xfrm>
            <a:prstGeom prst="ellipse">
              <a:avLst/>
            </a:prstGeom>
            <a:solidFill>
              <a:srgbClr val="b2b2b2"/>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66"/>
                </a:solidFill>
                <a:latin typeface="Times New Roman"/>
              </a:endParaRPr>
            </a:p>
          </p:txBody>
        </p:sp>
        <p:sp>
          <p:nvSpPr>
            <p:cNvPr id="657" name=""/>
            <p:cNvSpPr/>
            <p:nvPr/>
          </p:nvSpPr>
          <p:spPr>
            <a:xfrm>
              <a:off x="3279240" y="2538000"/>
              <a:ext cx="489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缴费</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Arial"/>
                  <a:ea typeface="幼圆"/>
                </a:rPr>
                <a:t>……</a:t>
              </a:r>
              <a:endParaRPr b="0" lang="en-US" sz="1200" spc="-1" strike="noStrike">
                <a:solidFill>
                  <a:srgbClr val="000066"/>
                </a:solidFill>
                <a:latin typeface="Times New Roman"/>
              </a:endParaRPr>
            </a:p>
          </p:txBody>
        </p:sp>
        <p:sp>
          <p:nvSpPr>
            <p:cNvPr id="658" name=""/>
            <p:cNvSpPr/>
            <p:nvPr/>
          </p:nvSpPr>
          <p:spPr>
            <a:xfrm>
              <a:off x="2895480" y="3916800"/>
              <a:ext cx="1250640" cy="112320"/>
            </a:xfrm>
            <a:prstGeom prst="ellipse">
              <a:avLst/>
            </a:prstGeom>
            <a:gradFill rotWithShape="0">
              <a:gsLst>
                <a:gs pos="0">
                  <a:srgbClr val="ebf3ff"/>
                </a:gs>
                <a:gs pos="100000">
                  <a:srgbClr val="fefefe"/>
                </a:gs>
              </a:gsLst>
              <a:lin ang="108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66"/>
                </a:solidFill>
                <a:latin typeface="Times New Roman"/>
              </a:endParaRPr>
            </a:p>
          </p:txBody>
        </p:sp>
      </p:grpSp>
      <p:grpSp>
        <p:nvGrpSpPr>
          <p:cNvPr id="659" name=""/>
          <p:cNvGrpSpPr/>
          <p:nvPr/>
        </p:nvGrpSpPr>
        <p:grpSpPr>
          <a:xfrm>
            <a:off x="685800" y="5068800"/>
            <a:ext cx="4497120" cy="1014480"/>
            <a:chOff x="685800" y="5068800"/>
            <a:chExt cx="4497120" cy="1014480"/>
          </a:xfrm>
        </p:grpSpPr>
        <p:sp>
          <p:nvSpPr>
            <p:cNvPr id="660" name=""/>
            <p:cNvSpPr/>
            <p:nvPr/>
          </p:nvSpPr>
          <p:spPr>
            <a:xfrm>
              <a:off x="685800" y="5306040"/>
              <a:ext cx="4497120" cy="273600"/>
            </a:xfrm>
            <a:prstGeom prst="rect">
              <a:avLst/>
            </a:prstGeom>
            <a:gradFill rotWithShape="0">
              <a:gsLst>
                <a:gs pos="0">
                  <a:srgbClr val="cc66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708120" y="5068800"/>
              <a:ext cx="4466880" cy="1014480"/>
            </a:xfrm>
            <a:prstGeom prst="ellipse">
              <a:avLst/>
            </a:prstGeom>
            <a:gradFill rotWithShape="0">
              <a:gsLst>
                <a:gs pos="0">
                  <a:srgbClr val="cc66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62" name=""/>
          <p:cNvSpPr/>
          <p:nvPr/>
        </p:nvSpPr>
        <p:spPr>
          <a:xfrm>
            <a:off x="690480" y="4751280"/>
            <a:ext cx="4478400" cy="10130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3" name=""/>
          <p:cNvGrpSpPr/>
          <p:nvPr/>
        </p:nvGrpSpPr>
        <p:grpSpPr>
          <a:xfrm>
            <a:off x="690480" y="4414680"/>
            <a:ext cx="4496760" cy="1330200"/>
            <a:chOff x="690480" y="4414680"/>
            <a:chExt cx="4496760" cy="1330200"/>
          </a:xfrm>
        </p:grpSpPr>
        <p:grpSp>
          <p:nvGrpSpPr>
            <p:cNvPr id="664" name=""/>
            <p:cNvGrpSpPr/>
            <p:nvPr/>
          </p:nvGrpSpPr>
          <p:grpSpPr>
            <a:xfrm>
              <a:off x="690480" y="4726800"/>
              <a:ext cx="4496760" cy="1018080"/>
              <a:chOff x="690480" y="4726800"/>
              <a:chExt cx="4496760" cy="1018080"/>
            </a:xfrm>
          </p:grpSpPr>
          <p:sp>
            <p:nvSpPr>
              <p:cNvPr id="665" name=""/>
              <p:cNvSpPr/>
              <p:nvPr/>
            </p:nvSpPr>
            <p:spPr>
              <a:xfrm>
                <a:off x="690480" y="4969440"/>
                <a:ext cx="4496760" cy="276480"/>
              </a:xfrm>
              <a:prstGeom prst="rect">
                <a:avLst/>
              </a:prstGeom>
              <a:gradFill rotWithShape="0">
                <a:gsLst>
                  <a:gs pos="0">
                    <a:srgbClr val="3366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712800" y="4726800"/>
                <a:ext cx="4466520" cy="1018080"/>
              </a:xfrm>
              <a:prstGeom prst="ellipse">
                <a:avLst/>
              </a:prstGeom>
              <a:gradFill rotWithShape="0">
                <a:gsLst>
                  <a:gs pos="0">
                    <a:srgbClr val="33660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67" name=""/>
            <p:cNvSpPr/>
            <p:nvPr/>
          </p:nvSpPr>
          <p:spPr>
            <a:xfrm>
              <a:off x="690480" y="4414680"/>
              <a:ext cx="4478040" cy="101916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8" name=""/>
          <p:cNvGrpSpPr/>
          <p:nvPr/>
        </p:nvGrpSpPr>
        <p:grpSpPr>
          <a:xfrm>
            <a:off x="693720" y="4079880"/>
            <a:ext cx="4496760" cy="1327320"/>
            <a:chOff x="693720" y="4079880"/>
            <a:chExt cx="4496760" cy="1327320"/>
          </a:xfrm>
        </p:grpSpPr>
        <p:grpSp>
          <p:nvGrpSpPr>
            <p:cNvPr id="669" name=""/>
            <p:cNvGrpSpPr/>
            <p:nvPr/>
          </p:nvGrpSpPr>
          <p:grpSpPr>
            <a:xfrm>
              <a:off x="693720" y="4396320"/>
              <a:ext cx="4496760" cy="1010880"/>
              <a:chOff x="693720" y="4396320"/>
              <a:chExt cx="4496760" cy="1010880"/>
            </a:xfrm>
          </p:grpSpPr>
          <p:sp>
            <p:nvSpPr>
              <p:cNvPr id="670" name=""/>
              <p:cNvSpPr/>
              <p:nvPr/>
            </p:nvSpPr>
            <p:spPr>
              <a:xfrm>
                <a:off x="693720" y="4632120"/>
                <a:ext cx="4496760" cy="274680"/>
              </a:xfrm>
              <a:prstGeom prst="rect">
                <a:avLst/>
              </a:prstGeom>
              <a:gradFill rotWithShape="0">
                <a:gsLst>
                  <a:gs pos="0">
                    <a:srgbClr val="0000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1" name=""/>
              <p:cNvSpPr/>
              <p:nvPr/>
            </p:nvSpPr>
            <p:spPr>
              <a:xfrm>
                <a:off x="712800" y="4396320"/>
                <a:ext cx="4466520" cy="1010880"/>
              </a:xfrm>
              <a:prstGeom prst="ellipse">
                <a:avLst/>
              </a:prstGeom>
              <a:gradFill rotWithShape="0">
                <a:gsLst>
                  <a:gs pos="0">
                    <a:srgbClr val="0000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2" name=""/>
            <p:cNvSpPr/>
            <p:nvPr/>
          </p:nvSpPr>
          <p:spPr>
            <a:xfrm>
              <a:off x="693720" y="4079880"/>
              <a:ext cx="4474800" cy="10108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73" name=""/>
          <p:cNvGrpSpPr/>
          <p:nvPr/>
        </p:nvGrpSpPr>
        <p:grpSpPr>
          <a:xfrm>
            <a:off x="685800" y="4037040"/>
            <a:ext cx="4495320" cy="1011240"/>
            <a:chOff x="685800" y="4037040"/>
            <a:chExt cx="4495320" cy="1011240"/>
          </a:xfrm>
        </p:grpSpPr>
        <p:sp>
          <p:nvSpPr>
            <p:cNvPr id="674" name=""/>
            <p:cNvSpPr/>
            <p:nvPr/>
          </p:nvSpPr>
          <p:spPr>
            <a:xfrm>
              <a:off x="685800" y="4272840"/>
              <a:ext cx="4495320" cy="274680"/>
            </a:xfrm>
            <a:prstGeom prst="rect">
              <a:avLst/>
            </a:prstGeom>
            <a:gradFill rotWithShape="0">
              <a:gsLst>
                <a:gs pos="0">
                  <a:srgbClr val="8794f7"/>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5" name=""/>
            <p:cNvSpPr/>
            <p:nvPr/>
          </p:nvSpPr>
          <p:spPr>
            <a:xfrm>
              <a:off x="704880" y="4037040"/>
              <a:ext cx="4465080" cy="1011240"/>
            </a:xfrm>
            <a:prstGeom prst="ellipse">
              <a:avLst/>
            </a:prstGeom>
            <a:gradFill rotWithShape="0">
              <a:gsLst>
                <a:gs pos="0">
                  <a:srgbClr val="8794f7"/>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6" name=""/>
          <p:cNvSpPr/>
          <p:nvPr/>
        </p:nvSpPr>
        <p:spPr>
          <a:xfrm>
            <a:off x="685800" y="3711600"/>
            <a:ext cx="4473720" cy="1011240"/>
          </a:xfrm>
          <a:prstGeom prst="ellipse">
            <a:avLst/>
          </a:prstGeom>
          <a:solidFill>
            <a:srgbClr val="737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77" name=""/>
          <p:cNvGrpSpPr/>
          <p:nvPr/>
        </p:nvGrpSpPr>
        <p:grpSpPr>
          <a:xfrm>
            <a:off x="1836720" y="2400480"/>
            <a:ext cx="1254240" cy="1628280"/>
            <a:chOff x="1836720" y="2400480"/>
            <a:chExt cx="1254240" cy="1628280"/>
          </a:xfrm>
        </p:grpSpPr>
        <p:sp>
          <p:nvSpPr>
            <p:cNvPr id="678" name=""/>
            <p:cNvSpPr/>
            <p:nvPr/>
          </p:nvSpPr>
          <p:spPr>
            <a:xfrm>
              <a:off x="1838520" y="2471760"/>
              <a:ext cx="1252440" cy="1496520"/>
            </a:xfrm>
            <a:prstGeom prst="rect">
              <a:avLst/>
            </a:prstGeom>
            <a:gradFill rotWithShape="0">
              <a:gsLst>
                <a:gs pos="0">
                  <a:srgbClr val="1b5dfc"/>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1838520" y="2400480"/>
              <a:ext cx="1252440" cy="112320"/>
            </a:xfrm>
            <a:prstGeom prst="ellipse">
              <a:avLst/>
            </a:prstGeom>
            <a:solidFill>
              <a:srgbClr val="87bed9"/>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66"/>
                </a:solidFill>
                <a:latin typeface="Times New Roman"/>
              </a:endParaRPr>
            </a:p>
          </p:txBody>
        </p:sp>
        <p:sp>
          <p:nvSpPr>
            <p:cNvPr id="680" name=""/>
            <p:cNvSpPr/>
            <p:nvPr/>
          </p:nvSpPr>
          <p:spPr>
            <a:xfrm>
              <a:off x="1836720" y="3916440"/>
              <a:ext cx="1252800" cy="112320"/>
            </a:xfrm>
            <a:prstGeom prst="ellipse">
              <a:avLst/>
            </a:prstGeom>
            <a:gradFill rotWithShape="0">
              <a:gsLst>
                <a:gs pos="0">
                  <a:srgbClr val="1b5dfc"/>
                </a:gs>
                <a:gs pos="100000">
                  <a:srgbClr val="fefefe"/>
                </a:gs>
              </a:gsLst>
              <a:lin ang="10800000"/>
            </a:gra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66"/>
                </a:solidFill>
                <a:latin typeface="Times New Roman"/>
              </a:endParaRPr>
            </a:p>
          </p:txBody>
        </p:sp>
        <p:sp>
          <p:nvSpPr>
            <p:cNvPr id="681" name=""/>
            <p:cNvSpPr/>
            <p:nvPr/>
          </p:nvSpPr>
          <p:spPr>
            <a:xfrm>
              <a:off x="2321280" y="2547720"/>
              <a:ext cx="36792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消费</a:t>
              </a:r>
              <a:endParaRPr b="0" lang="en-US" sz="1200" spc="-1" strike="noStrike">
                <a:solidFill>
                  <a:srgbClr val="000066"/>
                </a:solidFill>
                <a:latin typeface="Times New Roman"/>
              </a:endParaRPr>
            </a:p>
          </p:txBody>
        </p:sp>
      </p:grpSp>
      <p:sp>
        <p:nvSpPr>
          <p:cNvPr id="682" name=""/>
          <p:cNvSpPr/>
          <p:nvPr/>
        </p:nvSpPr>
        <p:spPr>
          <a:xfrm>
            <a:off x="966960" y="2840040"/>
            <a:ext cx="1252440" cy="1460520"/>
          </a:xfrm>
          <a:prstGeom prst="rect">
            <a:avLst/>
          </a:prstGeom>
          <a:gradFill rotWithShape="0">
            <a:gsLst>
              <a:gs pos="0">
                <a:srgbClr val="ff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a:off x="966960" y="2770200"/>
            <a:ext cx="1252440" cy="109440"/>
          </a:xfrm>
          <a:prstGeom prst="ellipse">
            <a:avLst/>
          </a:prstGeom>
          <a:solidFill>
            <a:srgbClr val="ffbc9b"/>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66"/>
              </a:solidFill>
              <a:latin typeface="Times New Roman"/>
            </a:endParaRPr>
          </a:p>
        </p:txBody>
      </p:sp>
      <p:sp>
        <p:nvSpPr>
          <p:cNvPr id="684" name=""/>
          <p:cNvSpPr/>
          <p:nvPr/>
        </p:nvSpPr>
        <p:spPr>
          <a:xfrm>
            <a:off x="965160" y="4249800"/>
            <a:ext cx="1252440" cy="109440"/>
          </a:xfrm>
          <a:prstGeom prst="ellipse">
            <a:avLst/>
          </a:prstGeom>
          <a:gradFill rotWithShape="0">
            <a:gsLst>
              <a:gs pos="0">
                <a:srgbClr val="ff0066"/>
              </a:gs>
              <a:gs pos="100000">
                <a:srgbClr val="fefefe"/>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66"/>
              </a:solidFill>
              <a:latin typeface="Times New Roman"/>
            </a:endParaRPr>
          </a:p>
        </p:txBody>
      </p:sp>
      <p:sp>
        <p:nvSpPr>
          <p:cNvPr id="685" name=""/>
          <p:cNvSpPr/>
          <p:nvPr/>
        </p:nvSpPr>
        <p:spPr>
          <a:xfrm>
            <a:off x="1319760" y="2887560"/>
            <a:ext cx="55080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身份认证</a:t>
            </a:r>
            <a:endParaRPr b="0" lang="en-US" sz="1200" spc="-1" strike="noStrike">
              <a:solidFill>
                <a:srgbClr val="000066"/>
              </a:solidFill>
              <a:latin typeface="Times New Roman"/>
            </a:endParaRPr>
          </a:p>
        </p:txBody>
      </p:sp>
      <p:sp>
        <p:nvSpPr>
          <p:cNvPr id="686" name=""/>
          <p:cNvSpPr/>
          <p:nvPr/>
        </p:nvSpPr>
        <p:spPr>
          <a:xfrm>
            <a:off x="3664080" y="2836800"/>
            <a:ext cx="1251000" cy="1451160"/>
          </a:xfrm>
          <a:prstGeom prst="rect">
            <a:avLst/>
          </a:prstGeom>
          <a:gradFill rotWithShape="0">
            <a:gsLst>
              <a:gs pos="0">
                <a:srgbClr val="cc33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7" name=""/>
          <p:cNvSpPr/>
          <p:nvPr/>
        </p:nvSpPr>
        <p:spPr>
          <a:xfrm>
            <a:off x="3664080" y="2766960"/>
            <a:ext cx="1251000" cy="109440"/>
          </a:xfrm>
          <a:prstGeom prst="ellipse">
            <a:avLst/>
          </a:prstGeom>
          <a:solidFill>
            <a:srgbClr val="e5b1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66"/>
              </a:solidFill>
              <a:latin typeface="Times New Roman"/>
            </a:endParaRPr>
          </a:p>
        </p:txBody>
      </p:sp>
      <p:sp>
        <p:nvSpPr>
          <p:cNvPr id="688" name=""/>
          <p:cNvSpPr/>
          <p:nvPr/>
        </p:nvSpPr>
        <p:spPr>
          <a:xfrm>
            <a:off x="4110120" y="2876400"/>
            <a:ext cx="36792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取款</a:t>
            </a:r>
            <a:endParaRPr b="0" lang="en-US" sz="1200" spc="-1" strike="noStrike">
              <a:solidFill>
                <a:srgbClr val="000066"/>
              </a:solidFill>
              <a:latin typeface="Times New Roman"/>
            </a:endParaRPr>
          </a:p>
        </p:txBody>
      </p:sp>
      <p:sp>
        <p:nvSpPr>
          <p:cNvPr id="689" name=""/>
          <p:cNvSpPr/>
          <p:nvPr/>
        </p:nvSpPr>
        <p:spPr>
          <a:xfrm>
            <a:off x="3662280" y="4237200"/>
            <a:ext cx="1251000" cy="109440"/>
          </a:xfrm>
          <a:prstGeom prst="ellipse">
            <a:avLst/>
          </a:prstGeom>
          <a:gradFill rotWithShape="0">
            <a:gsLst>
              <a:gs pos="0">
                <a:srgbClr val="cc3399"/>
              </a:gs>
              <a:gs pos="100000">
                <a:srgbClr val="fefefe"/>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66"/>
              </a:solidFill>
              <a:latin typeface="Times New Roman"/>
            </a:endParaRPr>
          </a:p>
        </p:txBody>
      </p:sp>
      <p:grpSp>
        <p:nvGrpSpPr>
          <p:cNvPr id="690" name=""/>
          <p:cNvGrpSpPr/>
          <p:nvPr/>
        </p:nvGrpSpPr>
        <p:grpSpPr>
          <a:xfrm>
            <a:off x="2867040" y="3127320"/>
            <a:ext cx="1252080" cy="1497240"/>
            <a:chOff x="2867040" y="3127320"/>
            <a:chExt cx="1252080" cy="1497240"/>
          </a:xfrm>
        </p:grpSpPr>
        <p:sp>
          <p:nvSpPr>
            <p:cNvPr id="691" name=""/>
            <p:cNvSpPr/>
            <p:nvPr/>
          </p:nvSpPr>
          <p:spPr>
            <a:xfrm>
              <a:off x="2868480" y="3192120"/>
              <a:ext cx="1250640" cy="1377000"/>
            </a:xfrm>
            <a:prstGeom prst="rect">
              <a:avLst/>
            </a:prstGeom>
            <a:gradFill rotWithShape="0">
              <a:gsLst>
                <a:gs pos="0">
                  <a:srgbClr val="ffee11"/>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
            <p:cNvSpPr/>
            <p:nvPr/>
          </p:nvSpPr>
          <p:spPr>
            <a:xfrm>
              <a:off x="2868480" y="3127320"/>
              <a:ext cx="1250640" cy="103680"/>
            </a:xfrm>
            <a:prstGeom prst="ellipse">
              <a:avLst/>
            </a:prstGeom>
            <a:solidFill>
              <a:srgbClr val="fde56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66"/>
                </a:solidFill>
                <a:latin typeface="Times New Roman"/>
              </a:endParaRPr>
            </a:p>
          </p:txBody>
        </p:sp>
        <p:sp>
          <p:nvSpPr>
            <p:cNvPr id="693" name=""/>
            <p:cNvSpPr/>
            <p:nvPr/>
          </p:nvSpPr>
          <p:spPr>
            <a:xfrm>
              <a:off x="2867040" y="4520880"/>
              <a:ext cx="1250640" cy="103680"/>
            </a:xfrm>
            <a:prstGeom prst="ellipse">
              <a:avLst/>
            </a:prstGeom>
            <a:gradFill rotWithShape="0">
              <a:gsLst>
                <a:gs pos="0">
                  <a:srgbClr val="ffee11"/>
                </a:gs>
                <a:gs pos="100000">
                  <a:srgbClr val="fefefe"/>
                </a:gs>
              </a:gsLst>
              <a:lin ang="10800000"/>
            </a:gra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66"/>
                </a:solidFill>
                <a:latin typeface="Times New Roman"/>
              </a:endParaRPr>
            </a:p>
          </p:txBody>
        </p:sp>
        <p:sp>
          <p:nvSpPr>
            <p:cNvPr id="694" name=""/>
            <p:cNvSpPr/>
            <p:nvPr/>
          </p:nvSpPr>
          <p:spPr>
            <a:xfrm>
              <a:off x="3100680" y="3261960"/>
              <a:ext cx="84672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储蓄</a:t>
              </a:r>
              <a:endParaRPr b="0" lang="en-US" sz="1200" spc="-1" strike="noStrike">
                <a:solidFill>
                  <a:srgbClr val="000066"/>
                </a:solidFill>
                <a:latin typeface="Times New Roman"/>
              </a:endParaRPr>
            </a:p>
          </p:txBody>
        </p:sp>
      </p:grpSp>
      <p:sp>
        <p:nvSpPr>
          <p:cNvPr id="695" name=""/>
          <p:cNvSpPr/>
          <p:nvPr/>
        </p:nvSpPr>
        <p:spPr>
          <a:xfrm>
            <a:off x="1832040" y="3213000"/>
            <a:ext cx="1254240" cy="1368360"/>
          </a:xfrm>
          <a:prstGeom prst="rect">
            <a:avLst/>
          </a:prstGeom>
          <a:gradFill rotWithShape="0">
            <a:gsLst>
              <a:gs pos="0">
                <a:srgbClr val="339933"/>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1832040" y="3147840"/>
            <a:ext cx="1254240" cy="103320"/>
          </a:xfrm>
          <a:prstGeom prst="ellipse">
            <a:avLst/>
          </a:prstGeom>
          <a:solidFill>
            <a:srgbClr val="c9ffc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66"/>
              </a:solidFill>
              <a:latin typeface="Times New Roman"/>
            </a:endParaRPr>
          </a:p>
        </p:txBody>
      </p:sp>
      <p:sp>
        <p:nvSpPr>
          <p:cNvPr id="697" name=""/>
          <p:cNvSpPr/>
          <p:nvPr/>
        </p:nvSpPr>
        <p:spPr>
          <a:xfrm>
            <a:off x="1830240" y="4532400"/>
            <a:ext cx="1254240" cy="102960"/>
          </a:xfrm>
          <a:prstGeom prst="ellipse">
            <a:avLst/>
          </a:prstGeom>
          <a:gradFill rotWithShape="0">
            <a:gsLst>
              <a:gs pos="0">
                <a:srgbClr val="339933"/>
              </a:gs>
              <a:gs pos="100000">
                <a:srgbClr val="fefefe"/>
              </a:gs>
            </a:gsLst>
            <a:lin ang="10800000"/>
          </a:gra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66"/>
              </a:solidFill>
              <a:latin typeface="Times New Roman"/>
            </a:endParaRPr>
          </a:p>
        </p:txBody>
      </p:sp>
      <p:sp>
        <p:nvSpPr>
          <p:cNvPr id="698" name=""/>
          <p:cNvSpPr/>
          <p:nvPr/>
        </p:nvSpPr>
        <p:spPr>
          <a:xfrm>
            <a:off x="2095200" y="3292560"/>
            <a:ext cx="73368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个人信息查询</a:t>
            </a:r>
            <a:endParaRPr b="0" lang="en-US" sz="1200" spc="-1" strike="noStrike">
              <a:solidFill>
                <a:srgbClr val="000066"/>
              </a:solidFill>
              <a:latin typeface="Times New Roman"/>
            </a:endParaRPr>
          </a:p>
        </p:txBody>
      </p:sp>
      <p:sp>
        <p:nvSpPr>
          <p:cNvPr id="699" name=""/>
          <p:cNvSpPr/>
          <p:nvPr/>
        </p:nvSpPr>
        <p:spPr>
          <a:xfrm>
            <a:off x="2362320" y="4711680"/>
            <a:ext cx="11858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幼圆"/>
              </a:rPr>
              <a:t>function</a:t>
            </a:r>
            <a:endParaRPr b="0" lang="en-US" sz="1800" spc="-1" strike="noStrike">
              <a:solidFill>
                <a:srgbClr val="000066"/>
              </a:solidFill>
              <a:latin typeface="Times New Roman"/>
            </a:endParaRPr>
          </a:p>
        </p:txBody>
      </p:sp>
      <p:sp>
        <p:nvSpPr>
          <p:cNvPr id="700" name=""/>
          <p:cNvSpPr/>
          <p:nvPr/>
        </p:nvSpPr>
        <p:spPr>
          <a:xfrm>
            <a:off x="1600200" y="5029200"/>
            <a:ext cx="2286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幼圆"/>
              </a:rPr>
              <a:t>consumption system</a:t>
            </a:r>
            <a:endParaRPr b="0" lang="en-US" sz="1800" spc="-1" strike="noStrike">
              <a:solidFill>
                <a:srgbClr val="000066"/>
              </a:solidFill>
              <a:latin typeface="Times New Roman"/>
            </a:endParaRPr>
          </a:p>
        </p:txBody>
      </p:sp>
      <p:sp>
        <p:nvSpPr>
          <p:cNvPr id="701" name=""/>
          <p:cNvSpPr/>
          <p:nvPr/>
        </p:nvSpPr>
        <p:spPr>
          <a:xfrm>
            <a:off x="1600200" y="5410080"/>
            <a:ext cx="2286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幼圆"/>
              </a:rPr>
              <a:t>information system</a:t>
            </a:r>
            <a:endParaRPr b="0" lang="en-US" sz="1800" spc="-1" strike="noStrike">
              <a:solidFill>
                <a:srgbClr val="000066"/>
              </a:solidFill>
              <a:latin typeface="Times New Roman"/>
            </a:endParaRPr>
          </a:p>
        </p:txBody>
      </p:sp>
      <p:sp>
        <p:nvSpPr>
          <p:cNvPr id="702" name=""/>
          <p:cNvSpPr/>
          <p:nvPr/>
        </p:nvSpPr>
        <p:spPr>
          <a:xfrm>
            <a:off x="762120" y="515772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幼圆"/>
              </a:rPr>
              <a:t>covers</a:t>
            </a:r>
            <a:endParaRPr b="0" lang="en-US" sz="1800" spc="-1" strike="noStrike">
              <a:solidFill>
                <a:srgbClr val="000066"/>
              </a:solidFill>
              <a:latin typeface="Times New Roman"/>
            </a:endParaRPr>
          </a:p>
        </p:txBody>
      </p:sp>
      <p:sp>
        <p:nvSpPr>
          <p:cNvPr id="703" name=""/>
          <p:cNvSpPr/>
          <p:nvPr/>
        </p:nvSpPr>
        <p:spPr>
          <a:xfrm>
            <a:off x="3767040" y="5143680"/>
            <a:ext cx="17193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幼圆"/>
              </a:rPr>
              <a:t>of the campus</a:t>
            </a:r>
            <a:endParaRPr b="0" lang="en-US" sz="1800" spc="-1" strike="noStrike">
              <a:solidFill>
                <a:srgbClr val="000066"/>
              </a:solidFill>
              <a:latin typeface="Times New Roman"/>
            </a:endParaRPr>
          </a:p>
        </p:txBody>
      </p:sp>
      <p:sp>
        <p:nvSpPr>
          <p:cNvPr id="704" name=""/>
          <p:cNvSpPr/>
          <p:nvPr/>
        </p:nvSpPr>
        <p:spPr>
          <a:xfrm>
            <a:off x="1371600" y="5729400"/>
            <a:ext cx="3276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幼圆"/>
              </a:rPr>
              <a:t>Based on Card</a:t>
            </a:r>
            <a:endParaRPr b="0" lang="en-US" sz="1800" spc="-1" strike="noStrike">
              <a:solidFill>
                <a:srgbClr val="000066"/>
              </a:solidFill>
              <a:latin typeface="Times New Roman"/>
            </a:endParaRPr>
          </a:p>
        </p:txBody>
      </p:sp>
      <p:sp>
        <p:nvSpPr>
          <p:cNvPr id="705" name=""/>
          <p:cNvSpPr/>
          <p:nvPr/>
        </p:nvSpPr>
        <p:spPr>
          <a:xfrm>
            <a:off x="5289480" y="3962520"/>
            <a:ext cx="1295640" cy="6858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6" name=""/>
          <p:cNvSpPr/>
          <p:nvPr/>
        </p:nvSpPr>
        <p:spPr>
          <a:xfrm>
            <a:off x="5257800" y="4170240"/>
            <a:ext cx="117468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消费系统</a:t>
            </a:r>
            <a:endParaRPr b="0" lang="en-US" sz="1200" spc="-1" strike="noStrike">
              <a:solidFill>
                <a:srgbClr val="000066"/>
              </a:solidFill>
              <a:latin typeface="Times New Roman"/>
            </a:endParaRPr>
          </a:p>
        </p:txBody>
      </p:sp>
      <p:sp>
        <p:nvSpPr>
          <p:cNvPr id="707" name=""/>
          <p:cNvSpPr/>
          <p:nvPr/>
        </p:nvSpPr>
        <p:spPr>
          <a:xfrm>
            <a:off x="5321160" y="4952880"/>
            <a:ext cx="1295640" cy="6858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8" name=""/>
          <p:cNvSpPr/>
          <p:nvPr/>
        </p:nvSpPr>
        <p:spPr>
          <a:xfrm>
            <a:off x="5289480" y="5160960"/>
            <a:ext cx="117468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信息查询系统</a:t>
            </a:r>
            <a:endParaRPr b="0" lang="en-US" sz="1200" spc="-1" strike="noStrike">
              <a:solidFill>
                <a:srgbClr val="000066"/>
              </a:solidFill>
              <a:latin typeface="Times New Roman"/>
            </a:endParaRPr>
          </a:p>
        </p:txBody>
      </p:sp>
      <p:sp>
        <p:nvSpPr>
          <p:cNvPr id="709" name=""/>
          <p:cNvSpPr/>
          <p:nvPr/>
        </p:nvSpPr>
        <p:spPr>
          <a:xfrm>
            <a:off x="6553080" y="3932280"/>
            <a:ext cx="20574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 </a:t>
            </a:r>
            <a:r>
              <a:rPr b="0" lang="zh-CN" sz="1200" spc="-1" strike="noStrike">
                <a:solidFill>
                  <a:srgbClr val="000066"/>
                </a:solidFill>
                <a:latin typeface="Times New Roman"/>
              </a:rPr>
              <a:t>收缴费及各类款项支取</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r>
              <a:rPr b="0" lang="zh-CN" sz="1200" spc="-1" strike="noStrike">
                <a:solidFill>
                  <a:srgbClr val="000066"/>
                </a:solidFill>
                <a:latin typeface="Times New Roman"/>
              </a:rPr>
              <a:t> </a:t>
            </a:r>
            <a:r>
              <a:rPr b="0" lang="zh-CN" sz="1200" spc="-1" strike="noStrike">
                <a:solidFill>
                  <a:srgbClr val="000066"/>
                </a:solidFill>
                <a:latin typeface="Times New Roman"/>
              </a:rPr>
              <a:t>校内各类消费</a:t>
            </a:r>
            <a:endParaRPr b="0" lang="en-US" sz="1200" spc="-1" strike="noStrike">
              <a:solidFill>
                <a:srgbClr val="000066"/>
              </a:solidFill>
              <a:latin typeface="Times New Roman"/>
            </a:endParaRPr>
          </a:p>
        </p:txBody>
      </p:sp>
      <p:sp>
        <p:nvSpPr>
          <p:cNvPr id="710" name=""/>
          <p:cNvSpPr/>
          <p:nvPr/>
        </p:nvSpPr>
        <p:spPr>
          <a:xfrm>
            <a:off x="6585120" y="4800600"/>
            <a:ext cx="1949400" cy="137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 </a:t>
            </a:r>
            <a:r>
              <a:rPr b="0" lang="zh-CN" sz="1200" spc="-1" strike="noStrike">
                <a:solidFill>
                  <a:srgbClr val="000066"/>
                </a:solidFill>
                <a:latin typeface="Times New Roman"/>
              </a:rPr>
              <a:t>身份认证、门禁、考勤、</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图书借阅、保安巡更</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 </a:t>
            </a:r>
            <a:r>
              <a:rPr b="0" lang="zh-CN" sz="1200" spc="-1" strike="noStrike">
                <a:solidFill>
                  <a:srgbClr val="000066"/>
                </a:solidFill>
                <a:latin typeface="Times New Roman"/>
              </a:rPr>
              <a:t>水电费用、科研课题、</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学情况、学籍学分、</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课程成绩、管理信息查询</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及统计分析等</a:t>
            </a:r>
            <a:endParaRPr b="0" lang="en-US" sz="1200" spc="-1" strike="noStrike">
              <a:solidFill>
                <a:srgbClr val="000066"/>
              </a:solidFill>
              <a:latin typeface="Times New Roman"/>
            </a:endParaRPr>
          </a:p>
        </p:txBody>
      </p:sp>
      <p:sp>
        <p:nvSpPr>
          <p:cNvPr id="71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1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1"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2"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3"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4"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5"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6"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7"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8"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2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3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74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结语</a:t>
            </a:r>
            <a:endParaRPr b="1" lang="en-US" sz="3200" spc="-1" strike="noStrike">
              <a:solidFill>
                <a:srgbClr val="000099"/>
              </a:solidFill>
              <a:latin typeface="Times New Roman"/>
            </a:endParaRPr>
          </a:p>
        </p:txBody>
      </p:sp>
      <p:sp>
        <p:nvSpPr>
          <p:cNvPr id="74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4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8"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59"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0"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1"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2"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3"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4"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5"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6"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7"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8"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69"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0"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7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宋体"/>
              </a:rPr>
              <a:t>校园一卡通系统建设的构架与实现</a:t>
            </a:r>
            <a:endParaRPr b="0" lang="en-US" sz="4000" spc="-1" strike="noStrike">
              <a:solidFill>
                <a:srgbClr val="000099"/>
              </a:solidFill>
              <a:latin typeface="Times New Roman"/>
            </a:endParaRPr>
          </a:p>
        </p:txBody>
      </p:sp>
      <p:sp>
        <p:nvSpPr>
          <p:cNvPr id="782"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新一代校园一卡通</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软件系统架构</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逻辑架构</a:t>
            </a:r>
            <a:endParaRPr b="1" lang="en-US" sz="3200" spc="-1" strike="noStrike">
              <a:solidFill>
                <a:srgbClr val="000099"/>
              </a:solidFill>
              <a:latin typeface="Times New Roman"/>
            </a:endParaRPr>
          </a:p>
        </p:txBody>
      </p:sp>
      <p:sp>
        <p:nvSpPr>
          <p:cNvPr id="783"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4"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5"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6"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7"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8"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89"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0"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1"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2"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3"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4"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5"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6"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7"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8"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799"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0"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1"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2"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3"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4"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5"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6"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7"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8"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09"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0"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1"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2"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3"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4"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5"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16"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新一代校园一卡通</a:t>
            </a:r>
            <a:endParaRPr b="0" lang="en-US" sz="4800" spc="-1" strike="noStrike">
              <a:solidFill>
                <a:srgbClr val="000099"/>
              </a:solidFill>
              <a:latin typeface="Times New Roman"/>
            </a:endParaRPr>
          </a:p>
        </p:txBody>
      </p:sp>
      <p:sp>
        <p:nvSpPr>
          <p:cNvPr id="818"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新一代的校园一卡通超越了传统的设计模式</a:t>
            </a:r>
            <a:endParaRPr b="1" lang="en-US" sz="3200" spc="-1" strike="noStrike">
              <a:solidFill>
                <a:srgbClr val="000099"/>
              </a:solidFill>
              <a:latin typeface="Times New Roman"/>
            </a:endParaRPr>
          </a:p>
        </p:txBody>
      </p:sp>
      <p:sp>
        <p:nvSpPr>
          <p:cNvPr id="819" name=""/>
          <p:cNvSpPr/>
          <p:nvPr/>
        </p:nvSpPr>
        <p:spPr>
          <a:xfrm>
            <a:off x="685800" y="2232000"/>
            <a:ext cx="3429000" cy="3659040"/>
          </a:xfrm>
          <a:custGeom>
            <a:avLst/>
            <a:gdLst/>
            <a:ahLst/>
            <a:rect l="l" t="t" r="r" b="b"/>
            <a:pathLst>
              <a:path w="2305" h="2305">
                <a:moveTo>
                  <a:pt x="576" y="1809"/>
                </a:moveTo>
                <a:lnTo>
                  <a:pt x="506" y="1809"/>
                </a:lnTo>
                <a:lnTo>
                  <a:pt x="441" y="1809"/>
                </a:lnTo>
                <a:lnTo>
                  <a:pt x="380" y="1809"/>
                </a:lnTo>
                <a:lnTo>
                  <a:pt x="324" y="1809"/>
                </a:lnTo>
                <a:lnTo>
                  <a:pt x="272" y="1809"/>
                </a:lnTo>
                <a:lnTo>
                  <a:pt x="225" y="1809"/>
                </a:lnTo>
                <a:lnTo>
                  <a:pt x="182" y="1809"/>
                </a:lnTo>
                <a:lnTo>
                  <a:pt x="144" y="1809"/>
                </a:lnTo>
                <a:lnTo>
                  <a:pt x="110" y="1809"/>
                </a:lnTo>
                <a:lnTo>
                  <a:pt x="81" y="1809"/>
                </a:lnTo>
                <a:lnTo>
                  <a:pt x="56" y="1809"/>
                </a:lnTo>
                <a:lnTo>
                  <a:pt x="36" y="1809"/>
                </a:lnTo>
                <a:lnTo>
                  <a:pt x="20" y="1809"/>
                </a:lnTo>
                <a:lnTo>
                  <a:pt x="9" y="1809"/>
                </a:lnTo>
                <a:lnTo>
                  <a:pt x="2" y="1809"/>
                </a:lnTo>
                <a:lnTo>
                  <a:pt x="0" y="1809"/>
                </a:lnTo>
                <a:lnTo>
                  <a:pt x="0" y="1806"/>
                </a:lnTo>
                <a:lnTo>
                  <a:pt x="0" y="1799"/>
                </a:lnTo>
                <a:lnTo>
                  <a:pt x="0" y="1786"/>
                </a:lnTo>
                <a:lnTo>
                  <a:pt x="0" y="1768"/>
                </a:lnTo>
                <a:lnTo>
                  <a:pt x="0" y="1745"/>
                </a:lnTo>
                <a:lnTo>
                  <a:pt x="0" y="1716"/>
                </a:lnTo>
                <a:lnTo>
                  <a:pt x="0" y="1683"/>
                </a:lnTo>
                <a:lnTo>
                  <a:pt x="0" y="1645"/>
                </a:lnTo>
                <a:lnTo>
                  <a:pt x="0" y="1601"/>
                </a:lnTo>
                <a:lnTo>
                  <a:pt x="0" y="1552"/>
                </a:lnTo>
                <a:lnTo>
                  <a:pt x="0" y="1498"/>
                </a:lnTo>
                <a:lnTo>
                  <a:pt x="0" y="1439"/>
                </a:lnTo>
                <a:lnTo>
                  <a:pt x="0" y="1375"/>
                </a:lnTo>
                <a:lnTo>
                  <a:pt x="0" y="1306"/>
                </a:lnTo>
                <a:lnTo>
                  <a:pt x="0" y="1232"/>
                </a:lnTo>
                <a:lnTo>
                  <a:pt x="0" y="1152"/>
                </a:lnTo>
                <a:lnTo>
                  <a:pt x="0" y="1072"/>
                </a:lnTo>
                <a:lnTo>
                  <a:pt x="0" y="998"/>
                </a:lnTo>
                <a:lnTo>
                  <a:pt x="0" y="929"/>
                </a:lnTo>
                <a:lnTo>
                  <a:pt x="0" y="865"/>
                </a:lnTo>
                <a:lnTo>
                  <a:pt x="0" y="806"/>
                </a:lnTo>
                <a:lnTo>
                  <a:pt x="0" y="752"/>
                </a:lnTo>
                <a:lnTo>
                  <a:pt x="0" y="703"/>
                </a:lnTo>
                <a:lnTo>
                  <a:pt x="0" y="659"/>
                </a:lnTo>
                <a:lnTo>
                  <a:pt x="0" y="621"/>
                </a:lnTo>
                <a:lnTo>
                  <a:pt x="0" y="588"/>
                </a:lnTo>
                <a:lnTo>
                  <a:pt x="0" y="559"/>
                </a:lnTo>
                <a:lnTo>
                  <a:pt x="0" y="536"/>
                </a:lnTo>
                <a:lnTo>
                  <a:pt x="0" y="518"/>
                </a:lnTo>
                <a:lnTo>
                  <a:pt x="0" y="505"/>
                </a:lnTo>
                <a:lnTo>
                  <a:pt x="0" y="498"/>
                </a:lnTo>
                <a:lnTo>
                  <a:pt x="0" y="495"/>
                </a:lnTo>
                <a:lnTo>
                  <a:pt x="2" y="495"/>
                </a:lnTo>
                <a:lnTo>
                  <a:pt x="9" y="495"/>
                </a:lnTo>
                <a:lnTo>
                  <a:pt x="20" y="495"/>
                </a:lnTo>
                <a:lnTo>
                  <a:pt x="36" y="495"/>
                </a:lnTo>
                <a:lnTo>
                  <a:pt x="56" y="495"/>
                </a:lnTo>
                <a:lnTo>
                  <a:pt x="81" y="495"/>
                </a:lnTo>
                <a:lnTo>
                  <a:pt x="110" y="495"/>
                </a:lnTo>
                <a:lnTo>
                  <a:pt x="144" y="495"/>
                </a:lnTo>
                <a:lnTo>
                  <a:pt x="182" y="495"/>
                </a:lnTo>
                <a:lnTo>
                  <a:pt x="225" y="495"/>
                </a:lnTo>
                <a:lnTo>
                  <a:pt x="272" y="495"/>
                </a:lnTo>
                <a:lnTo>
                  <a:pt x="324" y="495"/>
                </a:lnTo>
                <a:lnTo>
                  <a:pt x="380" y="495"/>
                </a:lnTo>
                <a:lnTo>
                  <a:pt x="441" y="495"/>
                </a:lnTo>
                <a:lnTo>
                  <a:pt x="506" y="495"/>
                </a:lnTo>
                <a:lnTo>
                  <a:pt x="576" y="495"/>
                </a:lnTo>
                <a:lnTo>
                  <a:pt x="646" y="495"/>
                </a:lnTo>
                <a:lnTo>
                  <a:pt x="711" y="495"/>
                </a:lnTo>
                <a:lnTo>
                  <a:pt x="772" y="495"/>
                </a:lnTo>
                <a:lnTo>
                  <a:pt x="828" y="495"/>
                </a:lnTo>
                <a:lnTo>
                  <a:pt x="880" y="495"/>
                </a:lnTo>
                <a:lnTo>
                  <a:pt x="927" y="495"/>
                </a:lnTo>
                <a:lnTo>
                  <a:pt x="970" y="495"/>
                </a:lnTo>
                <a:lnTo>
                  <a:pt x="1008" y="495"/>
                </a:lnTo>
                <a:lnTo>
                  <a:pt x="1042" y="495"/>
                </a:lnTo>
                <a:lnTo>
                  <a:pt x="1071" y="495"/>
                </a:lnTo>
                <a:lnTo>
                  <a:pt x="1096" y="495"/>
                </a:lnTo>
                <a:lnTo>
                  <a:pt x="1116" y="495"/>
                </a:lnTo>
                <a:lnTo>
                  <a:pt x="1132" y="495"/>
                </a:lnTo>
                <a:lnTo>
                  <a:pt x="1143" y="495"/>
                </a:lnTo>
                <a:lnTo>
                  <a:pt x="1150" y="495"/>
                </a:lnTo>
                <a:lnTo>
                  <a:pt x="1152" y="495"/>
                </a:lnTo>
                <a:lnTo>
                  <a:pt x="1153" y="494"/>
                </a:lnTo>
                <a:lnTo>
                  <a:pt x="1157" y="492"/>
                </a:lnTo>
                <a:lnTo>
                  <a:pt x="1162" y="488"/>
                </a:lnTo>
                <a:lnTo>
                  <a:pt x="1170" y="482"/>
                </a:lnTo>
                <a:lnTo>
                  <a:pt x="1180" y="474"/>
                </a:lnTo>
                <a:lnTo>
                  <a:pt x="1193" y="465"/>
                </a:lnTo>
                <a:lnTo>
                  <a:pt x="1207" y="454"/>
                </a:lnTo>
                <a:lnTo>
                  <a:pt x="1224" y="442"/>
                </a:lnTo>
                <a:lnTo>
                  <a:pt x="1243" y="428"/>
                </a:lnTo>
                <a:lnTo>
                  <a:pt x="1265" y="412"/>
                </a:lnTo>
                <a:lnTo>
                  <a:pt x="1288" y="394"/>
                </a:lnTo>
                <a:lnTo>
                  <a:pt x="1314" y="375"/>
                </a:lnTo>
                <a:lnTo>
                  <a:pt x="1342" y="354"/>
                </a:lnTo>
                <a:lnTo>
                  <a:pt x="1373" y="332"/>
                </a:lnTo>
                <a:lnTo>
                  <a:pt x="1405" y="307"/>
                </a:lnTo>
                <a:lnTo>
                  <a:pt x="1440" y="281"/>
                </a:lnTo>
                <a:lnTo>
                  <a:pt x="1475" y="256"/>
                </a:lnTo>
                <a:lnTo>
                  <a:pt x="1510" y="231"/>
                </a:lnTo>
                <a:lnTo>
                  <a:pt x="1543" y="209"/>
                </a:lnTo>
                <a:lnTo>
                  <a:pt x="1575" y="188"/>
                </a:lnTo>
                <a:lnTo>
                  <a:pt x="1606" y="169"/>
                </a:lnTo>
                <a:lnTo>
                  <a:pt x="1636" y="151"/>
                </a:lnTo>
                <a:lnTo>
                  <a:pt x="1664" y="135"/>
                </a:lnTo>
                <a:lnTo>
                  <a:pt x="1692" y="121"/>
                </a:lnTo>
                <a:lnTo>
                  <a:pt x="1718" y="109"/>
                </a:lnTo>
                <a:lnTo>
                  <a:pt x="1744" y="98"/>
                </a:lnTo>
                <a:lnTo>
                  <a:pt x="1768" y="89"/>
                </a:lnTo>
                <a:lnTo>
                  <a:pt x="1791" y="81"/>
                </a:lnTo>
                <a:lnTo>
                  <a:pt x="1813" y="75"/>
                </a:lnTo>
                <a:lnTo>
                  <a:pt x="1834" y="71"/>
                </a:lnTo>
                <a:lnTo>
                  <a:pt x="1853" y="69"/>
                </a:lnTo>
                <a:lnTo>
                  <a:pt x="1872" y="68"/>
                </a:lnTo>
                <a:lnTo>
                  <a:pt x="1889" y="68"/>
                </a:lnTo>
                <a:lnTo>
                  <a:pt x="1906" y="68"/>
                </a:lnTo>
                <a:lnTo>
                  <a:pt x="1921" y="68"/>
                </a:lnTo>
                <a:lnTo>
                  <a:pt x="1935" y="68"/>
                </a:lnTo>
                <a:lnTo>
                  <a:pt x="1948" y="68"/>
                </a:lnTo>
                <a:lnTo>
                  <a:pt x="1960" y="68"/>
                </a:lnTo>
                <a:lnTo>
                  <a:pt x="1970" y="68"/>
                </a:lnTo>
                <a:lnTo>
                  <a:pt x="1980" y="68"/>
                </a:lnTo>
                <a:lnTo>
                  <a:pt x="1988" y="68"/>
                </a:lnTo>
                <a:lnTo>
                  <a:pt x="1996" y="68"/>
                </a:lnTo>
                <a:lnTo>
                  <a:pt x="2002" y="68"/>
                </a:lnTo>
                <a:lnTo>
                  <a:pt x="2007" y="68"/>
                </a:lnTo>
                <a:lnTo>
                  <a:pt x="2011" y="68"/>
                </a:lnTo>
                <a:lnTo>
                  <a:pt x="2014" y="68"/>
                </a:lnTo>
                <a:lnTo>
                  <a:pt x="2015" y="68"/>
                </a:lnTo>
                <a:lnTo>
                  <a:pt x="2016" y="68"/>
                </a:lnTo>
                <a:lnTo>
                  <a:pt x="2016" y="68"/>
                </a:lnTo>
                <a:lnTo>
                  <a:pt x="2016" y="67"/>
                </a:lnTo>
                <a:lnTo>
                  <a:pt x="2016" y="67"/>
                </a:lnTo>
                <a:lnTo>
                  <a:pt x="2016" y="66"/>
                </a:lnTo>
                <a:lnTo>
                  <a:pt x="2016" y="64"/>
                </a:lnTo>
                <a:lnTo>
                  <a:pt x="2016" y="63"/>
                </a:lnTo>
                <a:lnTo>
                  <a:pt x="2016" y="61"/>
                </a:lnTo>
                <a:lnTo>
                  <a:pt x="2016" y="59"/>
                </a:lnTo>
                <a:lnTo>
                  <a:pt x="2016" y="57"/>
                </a:lnTo>
                <a:lnTo>
                  <a:pt x="2016" y="55"/>
                </a:lnTo>
                <a:lnTo>
                  <a:pt x="2016" y="52"/>
                </a:lnTo>
                <a:lnTo>
                  <a:pt x="2016" y="49"/>
                </a:lnTo>
                <a:lnTo>
                  <a:pt x="2016" y="45"/>
                </a:lnTo>
                <a:lnTo>
                  <a:pt x="2016" y="42"/>
                </a:lnTo>
                <a:lnTo>
                  <a:pt x="2016" y="38"/>
                </a:lnTo>
                <a:lnTo>
                  <a:pt x="2016" y="34"/>
                </a:lnTo>
                <a:lnTo>
                  <a:pt x="2016" y="30"/>
                </a:lnTo>
                <a:lnTo>
                  <a:pt x="2016" y="26"/>
                </a:lnTo>
                <a:lnTo>
                  <a:pt x="2016" y="22"/>
                </a:lnTo>
                <a:lnTo>
                  <a:pt x="2016" y="19"/>
                </a:lnTo>
                <a:lnTo>
                  <a:pt x="2016" y="16"/>
                </a:lnTo>
                <a:lnTo>
                  <a:pt x="2016" y="13"/>
                </a:lnTo>
                <a:lnTo>
                  <a:pt x="2016" y="11"/>
                </a:lnTo>
                <a:lnTo>
                  <a:pt x="2016" y="8"/>
                </a:lnTo>
                <a:lnTo>
                  <a:pt x="2016" y="6"/>
                </a:lnTo>
                <a:lnTo>
                  <a:pt x="2016" y="5"/>
                </a:lnTo>
                <a:lnTo>
                  <a:pt x="2016" y="3"/>
                </a:lnTo>
                <a:lnTo>
                  <a:pt x="2016" y="2"/>
                </a:lnTo>
                <a:lnTo>
                  <a:pt x="2016" y="1"/>
                </a:lnTo>
                <a:lnTo>
                  <a:pt x="2016" y="1"/>
                </a:lnTo>
                <a:lnTo>
                  <a:pt x="2016" y="0"/>
                </a:lnTo>
                <a:lnTo>
                  <a:pt x="2016" y="0"/>
                </a:lnTo>
                <a:lnTo>
                  <a:pt x="2017" y="1"/>
                </a:lnTo>
                <a:lnTo>
                  <a:pt x="2018" y="2"/>
                </a:lnTo>
                <a:lnTo>
                  <a:pt x="2021" y="5"/>
                </a:lnTo>
                <a:lnTo>
                  <a:pt x="2025" y="8"/>
                </a:lnTo>
                <a:lnTo>
                  <a:pt x="2030" y="13"/>
                </a:lnTo>
                <a:lnTo>
                  <a:pt x="2036" y="19"/>
                </a:lnTo>
                <a:lnTo>
                  <a:pt x="2044" y="26"/>
                </a:lnTo>
                <a:lnTo>
                  <a:pt x="2052" y="34"/>
                </a:lnTo>
                <a:lnTo>
                  <a:pt x="2062" y="43"/>
                </a:lnTo>
                <a:lnTo>
                  <a:pt x="2072" y="53"/>
                </a:lnTo>
                <a:lnTo>
                  <a:pt x="2084" y="64"/>
                </a:lnTo>
                <a:lnTo>
                  <a:pt x="2097" y="76"/>
                </a:lnTo>
                <a:lnTo>
                  <a:pt x="2111" y="89"/>
                </a:lnTo>
                <a:lnTo>
                  <a:pt x="2126" y="104"/>
                </a:lnTo>
                <a:lnTo>
                  <a:pt x="2143" y="119"/>
                </a:lnTo>
                <a:lnTo>
                  <a:pt x="2160" y="136"/>
                </a:lnTo>
                <a:lnTo>
                  <a:pt x="2177" y="152"/>
                </a:lnTo>
                <a:lnTo>
                  <a:pt x="2194" y="167"/>
                </a:lnTo>
                <a:lnTo>
                  <a:pt x="2209" y="182"/>
                </a:lnTo>
                <a:lnTo>
                  <a:pt x="2223" y="195"/>
                </a:lnTo>
                <a:lnTo>
                  <a:pt x="2236" y="207"/>
                </a:lnTo>
                <a:lnTo>
                  <a:pt x="2248" y="218"/>
                </a:lnTo>
                <a:lnTo>
                  <a:pt x="2258" y="228"/>
                </a:lnTo>
                <a:lnTo>
                  <a:pt x="2268" y="237"/>
                </a:lnTo>
                <a:lnTo>
                  <a:pt x="2276" y="245"/>
                </a:lnTo>
                <a:lnTo>
                  <a:pt x="2284" y="252"/>
                </a:lnTo>
                <a:lnTo>
                  <a:pt x="2290" y="258"/>
                </a:lnTo>
                <a:lnTo>
                  <a:pt x="2295" y="263"/>
                </a:lnTo>
                <a:lnTo>
                  <a:pt x="2299" y="266"/>
                </a:lnTo>
                <a:lnTo>
                  <a:pt x="2302" y="269"/>
                </a:lnTo>
                <a:lnTo>
                  <a:pt x="2303" y="271"/>
                </a:lnTo>
                <a:lnTo>
                  <a:pt x="2304" y="271"/>
                </a:lnTo>
                <a:lnTo>
                  <a:pt x="2303" y="272"/>
                </a:lnTo>
                <a:lnTo>
                  <a:pt x="2302" y="273"/>
                </a:lnTo>
                <a:lnTo>
                  <a:pt x="2299" y="276"/>
                </a:lnTo>
                <a:lnTo>
                  <a:pt x="2295" y="280"/>
                </a:lnTo>
                <a:lnTo>
                  <a:pt x="2290" y="284"/>
                </a:lnTo>
                <a:lnTo>
                  <a:pt x="2284" y="290"/>
                </a:lnTo>
                <a:lnTo>
                  <a:pt x="2276" y="297"/>
                </a:lnTo>
                <a:lnTo>
                  <a:pt x="2268" y="305"/>
                </a:lnTo>
                <a:lnTo>
                  <a:pt x="2258" y="314"/>
                </a:lnTo>
                <a:lnTo>
                  <a:pt x="2248" y="324"/>
                </a:lnTo>
                <a:lnTo>
                  <a:pt x="2236" y="335"/>
                </a:lnTo>
                <a:lnTo>
                  <a:pt x="2223" y="347"/>
                </a:lnTo>
                <a:lnTo>
                  <a:pt x="2209" y="361"/>
                </a:lnTo>
                <a:lnTo>
                  <a:pt x="2194" y="375"/>
                </a:lnTo>
                <a:lnTo>
                  <a:pt x="2177" y="390"/>
                </a:lnTo>
                <a:lnTo>
                  <a:pt x="2160" y="407"/>
                </a:lnTo>
                <a:lnTo>
                  <a:pt x="2143" y="423"/>
                </a:lnTo>
                <a:lnTo>
                  <a:pt x="2126" y="438"/>
                </a:lnTo>
                <a:lnTo>
                  <a:pt x="2111" y="453"/>
                </a:lnTo>
                <a:lnTo>
                  <a:pt x="2097" y="466"/>
                </a:lnTo>
                <a:lnTo>
                  <a:pt x="2084" y="478"/>
                </a:lnTo>
                <a:lnTo>
                  <a:pt x="2072" y="489"/>
                </a:lnTo>
                <a:lnTo>
                  <a:pt x="2062" y="499"/>
                </a:lnTo>
                <a:lnTo>
                  <a:pt x="2052" y="508"/>
                </a:lnTo>
                <a:lnTo>
                  <a:pt x="2044" y="516"/>
                </a:lnTo>
                <a:lnTo>
                  <a:pt x="2036" y="523"/>
                </a:lnTo>
                <a:lnTo>
                  <a:pt x="2030" y="529"/>
                </a:lnTo>
                <a:lnTo>
                  <a:pt x="2025" y="534"/>
                </a:lnTo>
                <a:lnTo>
                  <a:pt x="2021" y="537"/>
                </a:lnTo>
                <a:lnTo>
                  <a:pt x="2018" y="540"/>
                </a:lnTo>
                <a:lnTo>
                  <a:pt x="2017" y="542"/>
                </a:lnTo>
                <a:lnTo>
                  <a:pt x="2016" y="542"/>
                </a:lnTo>
                <a:lnTo>
                  <a:pt x="2016" y="542"/>
                </a:lnTo>
                <a:lnTo>
                  <a:pt x="2016" y="542"/>
                </a:lnTo>
                <a:lnTo>
                  <a:pt x="2016" y="541"/>
                </a:lnTo>
                <a:lnTo>
                  <a:pt x="2016" y="540"/>
                </a:lnTo>
                <a:lnTo>
                  <a:pt x="2016" y="539"/>
                </a:lnTo>
                <a:lnTo>
                  <a:pt x="2016" y="537"/>
                </a:lnTo>
                <a:lnTo>
                  <a:pt x="2016" y="536"/>
                </a:lnTo>
                <a:lnTo>
                  <a:pt x="2016" y="534"/>
                </a:lnTo>
                <a:lnTo>
                  <a:pt x="2016" y="531"/>
                </a:lnTo>
                <a:lnTo>
                  <a:pt x="2016" y="529"/>
                </a:lnTo>
                <a:lnTo>
                  <a:pt x="2016" y="526"/>
                </a:lnTo>
                <a:lnTo>
                  <a:pt x="2016" y="523"/>
                </a:lnTo>
                <a:lnTo>
                  <a:pt x="2016" y="520"/>
                </a:lnTo>
                <a:lnTo>
                  <a:pt x="2016" y="516"/>
                </a:lnTo>
                <a:lnTo>
                  <a:pt x="2016" y="512"/>
                </a:lnTo>
                <a:lnTo>
                  <a:pt x="2016" y="508"/>
                </a:lnTo>
                <a:lnTo>
                  <a:pt x="2016" y="504"/>
                </a:lnTo>
                <a:lnTo>
                  <a:pt x="2016" y="500"/>
                </a:lnTo>
                <a:lnTo>
                  <a:pt x="2016" y="497"/>
                </a:lnTo>
                <a:lnTo>
                  <a:pt x="2016" y="493"/>
                </a:lnTo>
                <a:lnTo>
                  <a:pt x="2016" y="490"/>
                </a:lnTo>
                <a:lnTo>
                  <a:pt x="2016" y="488"/>
                </a:lnTo>
                <a:lnTo>
                  <a:pt x="2016" y="485"/>
                </a:lnTo>
                <a:lnTo>
                  <a:pt x="2016" y="483"/>
                </a:lnTo>
                <a:lnTo>
                  <a:pt x="2016" y="481"/>
                </a:lnTo>
                <a:lnTo>
                  <a:pt x="2016" y="479"/>
                </a:lnTo>
                <a:lnTo>
                  <a:pt x="2016" y="478"/>
                </a:lnTo>
                <a:lnTo>
                  <a:pt x="2016" y="476"/>
                </a:lnTo>
                <a:lnTo>
                  <a:pt x="2016" y="476"/>
                </a:lnTo>
                <a:lnTo>
                  <a:pt x="2016" y="475"/>
                </a:lnTo>
                <a:lnTo>
                  <a:pt x="2016" y="474"/>
                </a:lnTo>
                <a:lnTo>
                  <a:pt x="2016" y="474"/>
                </a:lnTo>
                <a:lnTo>
                  <a:pt x="2015" y="474"/>
                </a:lnTo>
                <a:lnTo>
                  <a:pt x="2014" y="474"/>
                </a:lnTo>
                <a:lnTo>
                  <a:pt x="2011" y="474"/>
                </a:lnTo>
                <a:lnTo>
                  <a:pt x="2007" y="474"/>
                </a:lnTo>
                <a:lnTo>
                  <a:pt x="2002" y="474"/>
                </a:lnTo>
                <a:lnTo>
                  <a:pt x="1996" y="474"/>
                </a:lnTo>
                <a:lnTo>
                  <a:pt x="1988" y="474"/>
                </a:lnTo>
                <a:lnTo>
                  <a:pt x="1980" y="474"/>
                </a:lnTo>
                <a:lnTo>
                  <a:pt x="1970" y="474"/>
                </a:lnTo>
                <a:lnTo>
                  <a:pt x="1960" y="474"/>
                </a:lnTo>
                <a:lnTo>
                  <a:pt x="1948" y="474"/>
                </a:lnTo>
                <a:lnTo>
                  <a:pt x="1935" y="474"/>
                </a:lnTo>
                <a:lnTo>
                  <a:pt x="1921" y="474"/>
                </a:lnTo>
                <a:lnTo>
                  <a:pt x="1906" y="474"/>
                </a:lnTo>
                <a:lnTo>
                  <a:pt x="1889" y="474"/>
                </a:lnTo>
                <a:lnTo>
                  <a:pt x="1872" y="474"/>
                </a:lnTo>
                <a:lnTo>
                  <a:pt x="1853" y="475"/>
                </a:lnTo>
                <a:lnTo>
                  <a:pt x="1834" y="478"/>
                </a:lnTo>
                <a:lnTo>
                  <a:pt x="1813" y="483"/>
                </a:lnTo>
                <a:lnTo>
                  <a:pt x="1791" y="489"/>
                </a:lnTo>
                <a:lnTo>
                  <a:pt x="1768" y="498"/>
                </a:lnTo>
                <a:lnTo>
                  <a:pt x="1744" y="508"/>
                </a:lnTo>
                <a:lnTo>
                  <a:pt x="1718" y="520"/>
                </a:lnTo>
                <a:lnTo>
                  <a:pt x="1692" y="534"/>
                </a:lnTo>
                <a:lnTo>
                  <a:pt x="1664" y="549"/>
                </a:lnTo>
                <a:lnTo>
                  <a:pt x="1636" y="567"/>
                </a:lnTo>
                <a:lnTo>
                  <a:pt x="1606" y="586"/>
                </a:lnTo>
                <a:lnTo>
                  <a:pt x="1575" y="608"/>
                </a:lnTo>
                <a:lnTo>
                  <a:pt x="1543" y="631"/>
                </a:lnTo>
                <a:lnTo>
                  <a:pt x="1510" y="656"/>
                </a:lnTo>
                <a:lnTo>
                  <a:pt x="1475" y="683"/>
                </a:lnTo>
                <a:lnTo>
                  <a:pt x="1440" y="712"/>
                </a:lnTo>
                <a:lnTo>
                  <a:pt x="1405" y="740"/>
                </a:lnTo>
                <a:lnTo>
                  <a:pt x="1373" y="767"/>
                </a:lnTo>
                <a:lnTo>
                  <a:pt x="1342" y="792"/>
                </a:lnTo>
                <a:lnTo>
                  <a:pt x="1314" y="815"/>
                </a:lnTo>
                <a:lnTo>
                  <a:pt x="1288" y="837"/>
                </a:lnTo>
                <a:lnTo>
                  <a:pt x="1265" y="856"/>
                </a:lnTo>
                <a:lnTo>
                  <a:pt x="1243" y="874"/>
                </a:lnTo>
                <a:lnTo>
                  <a:pt x="1224" y="889"/>
                </a:lnTo>
                <a:lnTo>
                  <a:pt x="1207" y="903"/>
                </a:lnTo>
                <a:lnTo>
                  <a:pt x="1193" y="915"/>
                </a:lnTo>
                <a:lnTo>
                  <a:pt x="1180" y="926"/>
                </a:lnTo>
                <a:lnTo>
                  <a:pt x="1170" y="934"/>
                </a:lnTo>
                <a:lnTo>
                  <a:pt x="1162" y="940"/>
                </a:lnTo>
                <a:lnTo>
                  <a:pt x="1157" y="945"/>
                </a:lnTo>
                <a:lnTo>
                  <a:pt x="1153" y="948"/>
                </a:lnTo>
                <a:lnTo>
                  <a:pt x="1152" y="949"/>
                </a:lnTo>
                <a:lnTo>
                  <a:pt x="1154" y="949"/>
                </a:lnTo>
                <a:lnTo>
                  <a:pt x="1159" y="949"/>
                </a:lnTo>
                <a:lnTo>
                  <a:pt x="1167" y="949"/>
                </a:lnTo>
                <a:lnTo>
                  <a:pt x="1179" y="949"/>
                </a:lnTo>
                <a:lnTo>
                  <a:pt x="1194" y="949"/>
                </a:lnTo>
                <a:lnTo>
                  <a:pt x="1213" y="949"/>
                </a:lnTo>
                <a:lnTo>
                  <a:pt x="1235" y="949"/>
                </a:lnTo>
                <a:lnTo>
                  <a:pt x="1260" y="949"/>
                </a:lnTo>
                <a:lnTo>
                  <a:pt x="1289" y="949"/>
                </a:lnTo>
                <a:lnTo>
                  <a:pt x="1321" y="949"/>
                </a:lnTo>
                <a:lnTo>
                  <a:pt x="1356" y="949"/>
                </a:lnTo>
                <a:lnTo>
                  <a:pt x="1395" y="949"/>
                </a:lnTo>
                <a:lnTo>
                  <a:pt x="1437" y="949"/>
                </a:lnTo>
                <a:lnTo>
                  <a:pt x="1483" y="949"/>
                </a:lnTo>
                <a:lnTo>
                  <a:pt x="1532" y="949"/>
                </a:lnTo>
                <a:lnTo>
                  <a:pt x="1584" y="949"/>
                </a:lnTo>
                <a:lnTo>
                  <a:pt x="1636" y="949"/>
                </a:lnTo>
                <a:lnTo>
                  <a:pt x="1685" y="949"/>
                </a:lnTo>
                <a:lnTo>
                  <a:pt x="1731" y="949"/>
                </a:lnTo>
                <a:lnTo>
                  <a:pt x="1773" y="949"/>
                </a:lnTo>
                <a:lnTo>
                  <a:pt x="1812" y="949"/>
                </a:lnTo>
                <a:lnTo>
                  <a:pt x="1847" y="949"/>
                </a:lnTo>
                <a:lnTo>
                  <a:pt x="1879" y="949"/>
                </a:lnTo>
                <a:lnTo>
                  <a:pt x="1908" y="949"/>
                </a:lnTo>
                <a:lnTo>
                  <a:pt x="1933" y="949"/>
                </a:lnTo>
                <a:lnTo>
                  <a:pt x="1955" y="949"/>
                </a:lnTo>
                <a:lnTo>
                  <a:pt x="1974" y="949"/>
                </a:lnTo>
                <a:lnTo>
                  <a:pt x="1989" y="949"/>
                </a:lnTo>
                <a:lnTo>
                  <a:pt x="2001" y="949"/>
                </a:lnTo>
                <a:lnTo>
                  <a:pt x="2009" y="949"/>
                </a:lnTo>
                <a:lnTo>
                  <a:pt x="2014" y="949"/>
                </a:lnTo>
                <a:lnTo>
                  <a:pt x="2016" y="949"/>
                </a:lnTo>
                <a:lnTo>
                  <a:pt x="2016" y="949"/>
                </a:lnTo>
                <a:lnTo>
                  <a:pt x="2016" y="948"/>
                </a:lnTo>
                <a:lnTo>
                  <a:pt x="2016" y="948"/>
                </a:lnTo>
                <a:lnTo>
                  <a:pt x="2016" y="947"/>
                </a:lnTo>
                <a:lnTo>
                  <a:pt x="2016" y="945"/>
                </a:lnTo>
                <a:lnTo>
                  <a:pt x="2016" y="944"/>
                </a:lnTo>
                <a:lnTo>
                  <a:pt x="2016" y="942"/>
                </a:lnTo>
                <a:lnTo>
                  <a:pt x="2016" y="940"/>
                </a:lnTo>
                <a:lnTo>
                  <a:pt x="2016" y="938"/>
                </a:lnTo>
                <a:lnTo>
                  <a:pt x="2016" y="935"/>
                </a:lnTo>
                <a:lnTo>
                  <a:pt x="2016" y="933"/>
                </a:lnTo>
                <a:lnTo>
                  <a:pt x="2016" y="930"/>
                </a:lnTo>
                <a:lnTo>
                  <a:pt x="2016" y="926"/>
                </a:lnTo>
                <a:lnTo>
                  <a:pt x="2016" y="923"/>
                </a:lnTo>
                <a:lnTo>
                  <a:pt x="2016" y="919"/>
                </a:lnTo>
                <a:lnTo>
                  <a:pt x="2016" y="915"/>
                </a:lnTo>
                <a:lnTo>
                  <a:pt x="2016" y="911"/>
                </a:lnTo>
                <a:lnTo>
                  <a:pt x="2016" y="907"/>
                </a:lnTo>
                <a:lnTo>
                  <a:pt x="2016" y="903"/>
                </a:lnTo>
                <a:lnTo>
                  <a:pt x="2016" y="900"/>
                </a:lnTo>
                <a:lnTo>
                  <a:pt x="2016" y="897"/>
                </a:lnTo>
                <a:lnTo>
                  <a:pt x="2016" y="894"/>
                </a:lnTo>
                <a:lnTo>
                  <a:pt x="2016" y="892"/>
                </a:lnTo>
                <a:lnTo>
                  <a:pt x="2016" y="889"/>
                </a:lnTo>
                <a:lnTo>
                  <a:pt x="2016" y="887"/>
                </a:lnTo>
                <a:lnTo>
                  <a:pt x="2016" y="886"/>
                </a:lnTo>
                <a:lnTo>
                  <a:pt x="2016" y="884"/>
                </a:lnTo>
                <a:lnTo>
                  <a:pt x="2016" y="883"/>
                </a:lnTo>
                <a:lnTo>
                  <a:pt x="2016" y="882"/>
                </a:lnTo>
                <a:lnTo>
                  <a:pt x="2016" y="881"/>
                </a:lnTo>
                <a:lnTo>
                  <a:pt x="2016" y="881"/>
                </a:lnTo>
                <a:lnTo>
                  <a:pt x="2016" y="881"/>
                </a:lnTo>
                <a:lnTo>
                  <a:pt x="2017" y="881"/>
                </a:lnTo>
                <a:lnTo>
                  <a:pt x="2018" y="883"/>
                </a:lnTo>
                <a:lnTo>
                  <a:pt x="2021" y="886"/>
                </a:lnTo>
                <a:lnTo>
                  <a:pt x="2025" y="889"/>
                </a:lnTo>
                <a:lnTo>
                  <a:pt x="2030" y="894"/>
                </a:lnTo>
                <a:lnTo>
                  <a:pt x="2036" y="900"/>
                </a:lnTo>
                <a:lnTo>
                  <a:pt x="2044" y="907"/>
                </a:lnTo>
                <a:lnTo>
                  <a:pt x="2052" y="915"/>
                </a:lnTo>
                <a:lnTo>
                  <a:pt x="2062" y="924"/>
                </a:lnTo>
                <a:lnTo>
                  <a:pt x="2072" y="934"/>
                </a:lnTo>
                <a:lnTo>
                  <a:pt x="2084" y="945"/>
                </a:lnTo>
                <a:lnTo>
                  <a:pt x="2097" y="957"/>
                </a:lnTo>
                <a:lnTo>
                  <a:pt x="2111" y="970"/>
                </a:lnTo>
                <a:lnTo>
                  <a:pt x="2126" y="985"/>
                </a:lnTo>
                <a:lnTo>
                  <a:pt x="2143" y="1000"/>
                </a:lnTo>
                <a:lnTo>
                  <a:pt x="2160" y="1016"/>
                </a:lnTo>
                <a:lnTo>
                  <a:pt x="2177" y="1033"/>
                </a:lnTo>
                <a:lnTo>
                  <a:pt x="2194" y="1048"/>
                </a:lnTo>
                <a:lnTo>
                  <a:pt x="2209" y="1063"/>
                </a:lnTo>
                <a:lnTo>
                  <a:pt x="2223" y="1076"/>
                </a:lnTo>
                <a:lnTo>
                  <a:pt x="2236" y="1088"/>
                </a:lnTo>
                <a:lnTo>
                  <a:pt x="2248" y="1099"/>
                </a:lnTo>
                <a:lnTo>
                  <a:pt x="2258" y="1109"/>
                </a:lnTo>
                <a:lnTo>
                  <a:pt x="2268" y="1118"/>
                </a:lnTo>
                <a:lnTo>
                  <a:pt x="2276" y="1126"/>
                </a:lnTo>
                <a:lnTo>
                  <a:pt x="2284" y="1133"/>
                </a:lnTo>
                <a:lnTo>
                  <a:pt x="2290" y="1139"/>
                </a:lnTo>
                <a:lnTo>
                  <a:pt x="2295" y="1144"/>
                </a:lnTo>
                <a:lnTo>
                  <a:pt x="2299" y="1147"/>
                </a:lnTo>
                <a:lnTo>
                  <a:pt x="2302" y="1150"/>
                </a:lnTo>
                <a:lnTo>
                  <a:pt x="2303" y="1151"/>
                </a:lnTo>
                <a:lnTo>
                  <a:pt x="2304" y="1152"/>
                </a:lnTo>
                <a:lnTo>
                  <a:pt x="2303" y="1153"/>
                </a:lnTo>
                <a:lnTo>
                  <a:pt x="2302" y="1154"/>
                </a:lnTo>
                <a:lnTo>
                  <a:pt x="2299" y="1157"/>
                </a:lnTo>
                <a:lnTo>
                  <a:pt x="2295" y="1160"/>
                </a:lnTo>
                <a:lnTo>
                  <a:pt x="2290" y="1165"/>
                </a:lnTo>
                <a:lnTo>
                  <a:pt x="2284" y="1171"/>
                </a:lnTo>
                <a:lnTo>
                  <a:pt x="2276" y="1178"/>
                </a:lnTo>
                <a:lnTo>
                  <a:pt x="2268" y="1186"/>
                </a:lnTo>
                <a:lnTo>
                  <a:pt x="2258" y="1195"/>
                </a:lnTo>
                <a:lnTo>
                  <a:pt x="2248" y="1205"/>
                </a:lnTo>
                <a:lnTo>
                  <a:pt x="2236" y="1216"/>
                </a:lnTo>
                <a:lnTo>
                  <a:pt x="2223" y="1228"/>
                </a:lnTo>
                <a:lnTo>
                  <a:pt x="2209" y="1241"/>
                </a:lnTo>
                <a:lnTo>
                  <a:pt x="2194" y="1256"/>
                </a:lnTo>
                <a:lnTo>
                  <a:pt x="2177" y="1271"/>
                </a:lnTo>
                <a:lnTo>
                  <a:pt x="2160" y="1288"/>
                </a:lnTo>
                <a:lnTo>
                  <a:pt x="2143" y="1304"/>
                </a:lnTo>
                <a:lnTo>
                  <a:pt x="2126" y="1319"/>
                </a:lnTo>
                <a:lnTo>
                  <a:pt x="2111" y="1334"/>
                </a:lnTo>
                <a:lnTo>
                  <a:pt x="2097" y="1347"/>
                </a:lnTo>
                <a:lnTo>
                  <a:pt x="2084" y="1359"/>
                </a:lnTo>
                <a:lnTo>
                  <a:pt x="2072" y="1370"/>
                </a:lnTo>
                <a:lnTo>
                  <a:pt x="2062" y="1380"/>
                </a:lnTo>
                <a:lnTo>
                  <a:pt x="2052" y="1389"/>
                </a:lnTo>
                <a:lnTo>
                  <a:pt x="2044" y="1397"/>
                </a:lnTo>
                <a:lnTo>
                  <a:pt x="2036" y="1404"/>
                </a:lnTo>
                <a:lnTo>
                  <a:pt x="2030" y="1410"/>
                </a:lnTo>
                <a:lnTo>
                  <a:pt x="2025" y="1415"/>
                </a:lnTo>
                <a:lnTo>
                  <a:pt x="2021" y="1418"/>
                </a:lnTo>
                <a:lnTo>
                  <a:pt x="2018" y="1421"/>
                </a:lnTo>
                <a:lnTo>
                  <a:pt x="2017" y="1423"/>
                </a:lnTo>
                <a:lnTo>
                  <a:pt x="2016" y="1423"/>
                </a:lnTo>
                <a:lnTo>
                  <a:pt x="2016" y="1423"/>
                </a:lnTo>
                <a:lnTo>
                  <a:pt x="2016" y="1423"/>
                </a:lnTo>
                <a:lnTo>
                  <a:pt x="2016" y="1422"/>
                </a:lnTo>
                <a:lnTo>
                  <a:pt x="2016" y="1421"/>
                </a:lnTo>
                <a:lnTo>
                  <a:pt x="2016" y="1420"/>
                </a:lnTo>
                <a:lnTo>
                  <a:pt x="2016" y="1418"/>
                </a:lnTo>
                <a:lnTo>
                  <a:pt x="2016" y="1417"/>
                </a:lnTo>
                <a:lnTo>
                  <a:pt x="2016" y="1415"/>
                </a:lnTo>
                <a:lnTo>
                  <a:pt x="2016" y="1412"/>
                </a:lnTo>
                <a:lnTo>
                  <a:pt x="2016" y="1410"/>
                </a:lnTo>
                <a:lnTo>
                  <a:pt x="2016" y="1407"/>
                </a:lnTo>
                <a:lnTo>
                  <a:pt x="2016" y="1404"/>
                </a:lnTo>
                <a:lnTo>
                  <a:pt x="2016" y="1401"/>
                </a:lnTo>
                <a:lnTo>
                  <a:pt x="2016" y="1397"/>
                </a:lnTo>
                <a:lnTo>
                  <a:pt x="2016" y="1393"/>
                </a:lnTo>
                <a:lnTo>
                  <a:pt x="2016" y="1389"/>
                </a:lnTo>
                <a:lnTo>
                  <a:pt x="2016" y="1385"/>
                </a:lnTo>
                <a:lnTo>
                  <a:pt x="2016" y="1381"/>
                </a:lnTo>
                <a:lnTo>
                  <a:pt x="2016" y="1378"/>
                </a:lnTo>
                <a:lnTo>
                  <a:pt x="2016" y="1374"/>
                </a:lnTo>
                <a:lnTo>
                  <a:pt x="2016" y="1371"/>
                </a:lnTo>
                <a:lnTo>
                  <a:pt x="2016" y="1369"/>
                </a:lnTo>
                <a:lnTo>
                  <a:pt x="2016" y="1366"/>
                </a:lnTo>
                <a:lnTo>
                  <a:pt x="2016" y="1364"/>
                </a:lnTo>
                <a:lnTo>
                  <a:pt x="2016" y="1362"/>
                </a:lnTo>
                <a:lnTo>
                  <a:pt x="2016" y="1360"/>
                </a:lnTo>
                <a:lnTo>
                  <a:pt x="2016" y="1359"/>
                </a:lnTo>
                <a:lnTo>
                  <a:pt x="2016" y="1357"/>
                </a:lnTo>
                <a:lnTo>
                  <a:pt x="2016" y="1356"/>
                </a:lnTo>
                <a:lnTo>
                  <a:pt x="2016" y="1356"/>
                </a:lnTo>
                <a:lnTo>
                  <a:pt x="2016" y="1355"/>
                </a:lnTo>
                <a:lnTo>
                  <a:pt x="2016" y="1355"/>
                </a:lnTo>
                <a:lnTo>
                  <a:pt x="2014" y="1355"/>
                </a:lnTo>
                <a:lnTo>
                  <a:pt x="2009" y="1355"/>
                </a:lnTo>
                <a:lnTo>
                  <a:pt x="2001" y="1355"/>
                </a:lnTo>
                <a:lnTo>
                  <a:pt x="1989" y="1355"/>
                </a:lnTo>
                <a:lnTo>
                  <a:pt x="1974" y="1355"/>
                </a:lnTo>
                <a:lnTo>
                  <a:pt x="1955" y="1355"/>
                </a:lnTo>
                <a:lnTo>
                  <a:pt x="1933" y="1355"/>
                </a:lnTo>
                <a:lnTo>
                  <a:pt x="1908" y="1355"/>
                </a:lnTo>
                <a:lnTo>
                  <a:pt x="1879" y="1355"/>
                </a:lnTo>
                <a:lnTo>
                  <a:pt x="1847" y="1355"/>
                </a:lnTo>
                <a:lnTo>
                  <a:pt x="1812" y="1355"/>
                </a:lnTo>
                <a:lnTo>
                  <a:pt x="1773" y="1355"/>
                </a:lnTo>
                <a:lnTo>
                  <a:pt x="1731" y="1355"/>
                </a:lnTo>
                <a:lnTo>
                  <a:pt x="1685" y="1355"/>
                </a:lnTo>
                <a:lnTo>
                  <a:pt x="1636" y="1355"/>
                </a:lnTo>
                <a:lnTo>
                  <a:pt x="1584" y="1355"/>
                </a:lnTo>
                <a:lnTo>
                  <a:pt x="1532" y="1355"/>
                </a:lnTo>
                <a:lnTo>
                  <a:pt x="1483" y="1355"/>
                </a:lnTo>
                <a:lnTo>
                  <a:pt x="1437" y="1355"/>
                </a:lnTo>
                <a:lnTo>
                  <a:pt x="1395" y="1355"/>
                </a:lnTo>
                <a:lnTo>
                  <a:pt x="1356" y="1355"/>
                </a:lnTo>
                <a:lnTo>
                  <a:pt x="1321" y="1355"/>
                </a:lnTo>
                <a:lnTo>
                  <a:pt x="1289" y="1355"/>
                </a:lnTo>
                <a:lnTo>
                  <a:pt x="1260" y="1355"/>
                </a:lnTo>
                <a:lnTo>
                  <a:pt x="1235" y="1355"/>
                </a:lnTo>
                <a:lnTo>
                  <a:pt x="1213" y="1355"/>
                </a:lnTo>
                <a:lnTo>
                  <a:pt x="1194" y="1355"/>
                </a:lnTo>
                <a:lnTo>
                  <a:pt x="1179" y="1355"/>
                </a:lnTo>
                <a:lnTo>
                  <a:pt x="1167" y="1355"/>
                </a:lnTo>
                <a:lnTo>
                  <a:pt x="1159" y="1355"/>
                </a:lnTo>
                <a:lnTo>
                  <a:pt x="1154" y="1355"/>
                </a:lnTo>
                <a:lnTo>
                  <a:pt x="1152" y="1355"/>
                </a:lnTo>
                <a:lnTo>
                  <a:pt x="1153" y="1356"/>
                </a:lnTo>
                <a:lnTo>
                  <a:pt x="1157" y="1359"/>
                </a:lnTo>
                <a:lnTo>
                  <a:pt x="1162" y="1364"/>
                </a:lnTo>
                <a:lnTo>
                  <a:pt x="1170" y="1370"/>
                </a:lnTo>
                <a:lnTo>
                  <a:pt x="1180" y="1378"/>
                </a:lnTo>
                <a:lnTo>
                  <a:pt x="1193" y="1389"/>
                </a:lnTo>
                <a:lnTo>
                  <a:pt x="1207" y="1401"/>
                </a:lnTo>
                <a:lnTo>
                  <a:pt x="1224" y="1415"/>
                </a:lnTo>
                <a:lnTo>
                  <a:pt x="1243" y="1430"/>
                </a:lnTo>
                <a:lnTo>
                  <a:pt x="1265" y="1448"/>
                </a:lnTo>
                <a:lnTo>
                  <a:pt x="1288" y="1467"/>
                </a:lnTo>
                <a:lnTo>
                  <a:pt x="1314" y="1489"/>
                </a:lnTo>
                <a:lnTo>
                  <a:pt x="1342" y="1512"/>
                </a:lnTo>
                <a:lnTo>
                  <a:pt x="1373" y="1537"/>
                </a:lnTo>
                <a:lnTo>
                  <a:pt x="1405" y="1564"/>
                </a:lnTo>
                <a:lnTo>
                  <a:pt x="1440" y="1592"/>
                </a:lnTo>
                <a:lnTo>
                  <a:pt x="1475" y="1621"/>
                </a:lnTo>
                <a:lnTo>
                  <a:pt x="1510" y="1648"/>
                </a:lnTo>
                <a:lnTo>
                  <a:pt x="1543" y="1673"/>
                </a:lnTo>
                <a:lnTo>
                  <a:pt x="1575" y="1696"/>
                </a:lnTo>
                <a:lnTo>
                  <a:pt x="1606" y="1718"/>
                </a:lnTo>
                <a:lnTo>
                  <a:pt x="1636" y="1737"/>
                </a:lnTo>
                <a:lnTo>
                  <a:pt x="1664" y="1755"/>
                </a:lnTo>
                <a:lnTo>
                  <a:pt x="1692" y="1770"/>
                </a:lnTo>
                <a:lnTo>
                  <a:pt x="1718" y="1784"/>
                </a:lnTo>
                <a:lnTo>
                  <a:pt x="1744" y="1796"/>
                </a:lnTo>
                <a:lnTo>
                  <a:pt x="1768" y="1806"/>
                </a:lnTo>
                <a:lnTo>
                  <a:pt x="1791" y="1815"/>
                </a:lnTo>
                <a:lnTo>
                  <a:pt x="1813" y="1821"/>
                </a:lnTo>
                <a:lnTo>
                  <a:pt x="1834" y="1826"/>
                </a:lnTo>
                <a:lnTo>
                  <a:pt x="1853" y="1829"/>
                </a:lnTo>
                <a:lnTo>
                  <a:pt x="1872" y="1830"/>
                </a:lnTo>
                <a:lnTo>
                  <a:pt x="1889" y="1830"/>
                </a:lnTo>
                <a:lnTo>
                  <a:pt x="1906" y="1830"/>
                </a:lnTo>
                <a:lnTo>
                  <a:pt x="1921" y="1830"/>
                </a:lnTo>
                <a:lnTo>
                  <a:pt x="1935" y="1830"/>
                </a:lnTo>
                <a:lnTo>
                  <a:pt x="1948" y="1830"/>
                </a:lnTo>
                <a:lnTo>
                  <a:pt x="1960" y="1830"/>
                </a:lnTo>
                <a:lnTo>
                  <a:pt x="1970" y="1830"/>
                </a:lnTo>
                <a:lnTo>
                  <a:pt x="1980" y="1830"/>
                </a:lnTo>
                <a:lnTo>
                  <a:pt x="1988" y="1830"/>
                </a:lnTo>
                <a:lnTo>
                  <a:pt x="1996" y="1830"/>
                </a:lnTo>
                <a:lnTo>
                  <a:pt x="2002" y="1830"/>
                </a:lnTo>
                <a:lnTo>
                  <a:pt x="2007" y="1830"/>
                </a:lnTo>
                <a:lnTo>
                  <a:pt x="2011" y="1830"/>
                </a:lnTo>
                <a:lnTo>
                  <a:pt x="2014" y="1830"/>
                </a:lnTo>
                <a:lnTo>
                  <a:pt x="2015" y="1830"/>
                </a:lnTo>
                <a:lnTo>
                  <a:pt x="2016" y="1830"/>
                </a:lnTo>
                <a:lnTo>
                  <a:pt x="2016" y="1829"/>
                </a:lnTo>
                <a:lnTo>
                  <a:pt x="2016" y="1829"/>
                </a:lnTo>
                <a:lnTo>
                  <a:pt x="2016" y="1828"/>
                </a:lnTo>
                <a:lnTo>
                  <a:pt x="2016" y="1827"/>
                </a:lnTo>
                <a:lnTo>
                  <a:pt x="2016" y="1826"/>
                </a:lnTo>
                <a:lnTo>
                  <a:pt x="2016" y="1825"/>
                </a:lnTo>
                <a:lnTo>
                  <a:pt x="2016" y="1823"/>
                </a:lnTo>
                <a:lnTo>
                  <a:pt x="2016" y="1821"/>
                </a:lnTo>
                <a:lnTo>
                  <a:pt x="2016" y="1819"/>
                </a:lnTo>
                <a:lnTo>
                  <a:pt x="2016" y="1816"/>
                </a:lnTo>
                <a:lnTo>
                  <a:pt x="2016" y="1814"/>
                </a:lnTo>
                <a:lnTo>
                  <a:pt x="2016" y="1811"/>
                </a:lnTo>
                <a:lnTo>
                  <a:pt x="2016" y="1807"/>
                </a:lnTo>
                <a:lnTo>
                  <a:pt x="2016" y="1804"/>
                </a:lnTo>
                <a:lnTo>
                  <a:pt x="2016" y="1800"/>
                </a:lnTo>
                <a:lnTo>
                  <a:pt x="2016" y="1796"/>
                </a:lnTo>
                <a:lnTo>
                  <a:pt x="2016" y="1792"/>
                </a:lnTo>
                <a:lnTo>
                  <a:pt x="2016" y="1788"/>
                </a:lnTo>
                <a:lnTo>
                  <a:pt x="2016" y="1784"/>
                </a:lnTo>
                <a:lnTo>
                  <a:pt x="2016" y="1781"/>
                </a:lnTo>
                <a:lnTo>
                  <a:pt x="2016" y="1778"/>
                </a:lnTo>
                <a:lnTo>
                  <a:pt x="2016" y="1775"/>
                </a:lnTo>
                <a:lnTo>
                  <a:pt x="2016" y="1773"/>
                </a:lnTo>
                <a:lnTo>
                  <a:pt x="2016" y="1770"/>
                </a:lnTo>
                <a:lnTo>
                  <a:pt x="2016" y="1768"/>
                </a:lnTo>
                <a:lnTo>
                  <a:pt x="2016" y="1767"/>
                </a:lnTo>
                <a:lnTo>
                  <a:pt x="2016" y="1765"/>
                </a:lnTo>
                <a:lnTo>
                  <a:pt x="2016" y="1764"/>
                </a:lnTo>
                <a:lnTo>
                  <a:pt x="2016" y="1763"/>
                </a:lnTo>
                <a:lnTo>
                  <a:pt x="2016" y="1762"/>
                </a:lnTo>
                <a:lnTo>
                  <a:pt x="2016" y="1762"/>
                </a:lnTo>
                <a:lnTo>
                  <a:pt x="2016" y="1762"/>
                </a:lnTo>
                <a:lnTo>
                  <a:pt x="2017" y="1762"/>
                </a:lnTo>
                <a:lnTo>
                  <a:pt x="2018" y="1764"/>
                </a:lnTo>
                <a:lnTo>
                  <a:pt x="2021" y="1767"/>
                </a:lnTo>
                <a:lnTo>
                  <a:pt x="2025" y="1770"/>
                </a:lnTo>
                <a:lnTo>
                  <a:pt x="2030" y="1775"/>
                </a:lnTo>
                <a:lnTo>
                  <a:pt x="2036" y="1781"/>
                </a:lnTo>
                <a:lnTo>
                  <a:pt x="2044" y="1788"/>
                </a:lnTo>
                <a:lnTo>
                  <a:pt x="2052" y="1796"/>
                </a:lnTo>
                <a:lnTo>
                  <a:pt x="2062" y="1805"/>
                </a:lnTo>
                <a:lnTo>
                  <a:pt x="2072" y="1815"/>
                </a:lnTo>
                <a:lnTo>
                  <a:pt x="2084" y="1826"/>
                </a:lnTo>
                <a:lnTo>
                  <a:pt x="2097" y="1838"/>
                </a:lnTo>
                <a:lnTo>
                  <a:pt x="2111" y="1851"/>
                </a:lnTo>
                <a:lnTo>
                  <a:pt x="2126" y="1866"/>
                </a:lnTo>
                <a:lnTo>
                  <a:pt x="2143" y="1881"/>
                </a:lnTo>
                <a:lnTo>
                  <a:pt x="2160" y="1897"/>
                </a:lnTo>
                <a:lnTo>
                  <a:pt x="2177" y="1914"/>
                </a:lnTo>
                <a:lnTo>
                  <a:pt x="2194" y="1929"/>
                </a:lnTo>
                <a:lnTo>
                  <a:pt x="2209" y="1943"/>
                </a:lnTo>
                <a:lnTo>
                  <a:pt x="2223" y="1957"/>
                </a:lnTo>
                <a:lnTo>
                  <a:pt x="2236" y="1969"/>
                </a:lnTo>
                <a:lnTo>
                  <a:pt x="2248" y="1980"/>
                </a:lnTo>
                <a:lnTo>
                  <a:pt x="2258" y="1990"/>
                </a:lnTo>
                <a:lnTo>
                  <a:pt x="2268" y="1999"/>
                </a:lnTo>
                <a:lnTo>
                  <a:pt x="2276" y="2007"/>
                </a:lnTo>
                <a:lnTo>
                  <a:pt x="2284" y="2014"/>
                </a:lnTo>
                <a:lnTo>
                  <a:pt x="2290" y="2020"/>
                </a:lnTo>
                <a:lnTo>
                  <a:pt x="2295" y="2024"/>
                </a:lnTo>
                <a:lnTo>
                  <a:pt x="2299" y="2028"/>
                </a:lnTo>
                <a:lnTo>
                  <a:pt x="2302" y="2031"/>
                </a:lnTo>
                <a:lnTo>
                  <a:pt x="2303" y="2032"/>
                </a:lnTo>
                <a:lnTo>
                  <a:pt x="2304" y="2033"/>
                </a:lnTo>
                <a:lnTo>
                  <a:pt x="2303" y="2033"/>
                </a:lnTo>
                <a:lnTo>
                  <a:pt x="2302" y="2035"/>
                </a:lnTo>
                <a:lnTo>
                  <a:pt x="2299" y="2038"/>
                </a:lnTo>
                <a:lnTo>
                  <a:pt x="2295" y="2041"/>
                </a:lnTo>
                <a:lnTo>
                  <a:pt x="2290" y="2046"/>
                </a:lnTo>
                <a:lnTo>
                  <a:pt x="2284" y="2052"/>
                </a:lnTo>
                <a:lnTo>
                  <a:pt x="2276" y="2059"/>
                </a:lnTo>
                <a:lnTo>
                  <a:pt x="2268" y="2067"/>
                </a:lnTo>
                <a:lnTo>
                  <a:pt x="2258" y="2076"/>
                </a:lnTo>
                <a:lnTo>
                  <a:pt x="2248" y="2086"/>
                </a:lnTo>
                <a:lnTo>
                  <a:pt x="2236" y="2097"/>
                </a:lnTo>
                <a:lnTo>
                  <a:pt x="2223" y="2109"/>
                </a:lnTo>
                <a:lnTo>
                  <a:pt x="2209" y="2122"/>
                </a:lnTo>
                <a:lnTo>
                  <a:pt x="2194" y="2137"/>
                </a:lnTo>
                <a:lnTo>
                  <a:pt x="2177" y="2152"/>
                </a:lnTo>
                <a:lnTo>
                  <a:pt x="2160" y="2168"/>
                </a:lnTo>
                <a:lnTo>
                  <a:pt x="2143" y="2185"/>
                </a:lnTo>
                <a:lnTo>
                  <a:pt x="2126" y="2200"/>
                </a:lnTo>
                <a:lnTo>
                  <a:pt x="2111" y="2214"/>
                </a:lnTo>
                <a:lnTo>
                  <a:pt x="2097" y="2228"/>
                </a:lnTo>
                <a:lnTo>
                  <a:pt x="2084" y="2240"/>
                </a:lnTo>
                <a:lnTo>
                  <a:pt x="2072" y="2251"/>
                </a:lnTo>
                <a:lnTo>
                  <a:pt x="2062" y="2261"/>
                </a:lnTo>
                <a:lnTo>
                  <a:pt x="2052" y="2270"/>
                </a:lnTo>
                <a:lnTo>
                  <a:pt x="2044" y="2278"/>
                </a:lnTo>
                <a:lnTo>
                  <a:pt x="2036" y="2285"/>
                </a:lnTo>
                <a:lnTo>
                  <a:pt x="2030" y="2291"/>
                </a:lnTo>
                <a:lnTo>
                  <a:pt x="2025" y="2295"/>
                </a:lnTo>
                <a:lnTo>
                  <a:pt x="2021" y="2299"/>
                </a:lnTo>
                <a:lnTo>
                  <a:pt x="2018" y="2302"/>
                </a:lnTo>
                <a:lnTo>
                  <a:pt x="2017" y="2303"/>
                </a:lnTo>
                <a:lnTo>
                  <a:pt x="2016" y="2304"/>
                </a:lnTo>
                <a:lnTo>
                  <a:pt x="2016" y="2304"/>
                </a:lnTo>
                <a:lnTo>
                  <a:pt x="2016" y="2303"/>
                </a:lnTo>
                <a:lnTo>
                  <a:pt x="2016" y="2303"/>
                </a:lnTo>
                <a:lnTo>
                  <a:pt x="2016" y="2302"/>
                </a:lnTo>
                <a:lnTo>
                  <a:pt x="2016" y="2301"/>
                </a:lnTo>
                <a:lnTo>
                  <a:pt x="2016" y="2299"/>
                </a:lnTo>
                <a:lnTo>
                  <a:pt x="2016" y="2297"/>
                </a:lnTo>
                <a:lnTo>
                  <a:pt x="2016" y="2295"/>
                </a:lnTo>
                <a:lnTo>
                  <a:pt x="2016" y="2293"/>
                </a:lnTo>
                <a:lnTo>
                  <a:pt x="2016" y="2291"/>
                </a:lnTo>
                <a:lnTo>
                  <a:pt x="2016" y="2288"/>
                </a:lnTo>
                <a:lnTo>
                  <a:pt x="2016" y="2285"/>
                </a:lnTo>
                <a:lnTo>
                  <a:pt x="2016" y="2282"/>
                </a:lnTo>
                <a:lnTo>
                  <a:pt x="2016" y="2278"/>
                </a:lnTo>
                <a:lnTo>
                  <a:pt x="2016" y="2274"/>
                </a:lnTo>
                <a:lnTo>
                  <a:pt x="2016" y="2270"/>
                </a:lnTo>
                <a:lnTo>
                  <a:pt x="2016" y="2266"/>
                </a:lnTo>
                <a:lnTo>
                  <a:pt x="2016" y="2262"/>
                </a:lnTo>
                <a:lnTo>
                  <a:pt x="2016" y="2259"/>
                </a:lnTo>
                <a:lnTo>
                  <a:pt x="2016" y="2255"/>
                </a:lnTo>
                <a:lnTo>
                  <a:pt x="2016" y="2252"/>
                </a:lnTo>
                <a:lnTo>
                  <a:pt x="2016" y="2249"/>
                </a:lnTo>
                <a:lnTo>
                  <a:pt x="2016" y="2247"/>
                </a:lnTo>
                <a:lnTo>
                  <a:pt x="2016" y="2245"/>
                </a:lnTo>
                <a:lnTo>
                  <a:pt x="2016" y="2243"/>
                </a:lnTo>
                <a:lnTo>
                  <a:pt x="2016" y="2241"/>
                </a:lnTo>
                <a:lnTo>
                  <a:pt x="2016" y="2240"/>
                </a:lnTo>
                <a:lnTo>
                  <a:pt x="2016" y="2238"/>
                </a:lnTo>
                <a:lnTo>
                  <a:pt x="2016" y="2237"/>
                </a:lnTo>
                <a:lnTo>
                  <a:pt x="2016" y="2237"/>
                </a:lnTo>
                <a:lnTo>
                  <a:pt x="2016" y="2236"/>
                </a:lnTo>
                <a:lnTo>
                  <a:pt x="2016" y="2236"/>
                </a:lnTo>
                <a:lnTo>
                  <a:pt x="2015" y="2236"/>
                </a:lnTo>
                <a:lnTo>
                  <a:pt x="2014" y="2236"/>
                </a:lnTo>
                <a:lnTo>
                  <a:pt x="2011" y="2236"/>
                </a:lnTo>
                <a:lnTo>
                  <a:pt x="2007" y="2236"/>
                </a:lnTo>
                <a:lnTo>
                  <a:pt x="2002" y="2236"/>
                </a:lnTo>
                <a:lnTo>
                  <a:pt x="1996" y="2236"/>
                </a:lnTo>
                <a:lnTo>
                  <a:pt x="1988" y="2236"/>
                </a:lnTo>
                <a:lnTo>
                  <a:pt x="1980" y="2236"/>
                </a:lnTo>
                <a:lnTo>
                  <a:pt x="1970" y="2236"/>
                </a:lnTo>
                <a:lnTo>
                  <a:pt x="1960" y="2236"/>
                </a:lnTo>
                <a:lnTo>
                  <a:pt x="1948" y="2236"/>
                </a:lnTo>
                <a:lnTo>
                  <a:pt x="1935" y="2236"/>
                </a:lnTo>
                <a:lnTo>
                  <a:pt x="1921" y="2236"/>
                </a:lnTo>
                <a:lnTo>
                  <a:pt x="1906" y="2236"/>
                </a:lnTo>
                <a:lnTo>
                  <a:pt x="1889" y="2236"/>
                </a:lnTo>
                <a:lnTo>
                  <a:pt x="1872" y="2236"/>
                </a:lnTo>
                <a:lnTo>
                  <a:pt x="1853" y="2235"/>
                </a:lnTo>
                <a:lnTo>
                  <a:pt x="1834" y="2233"/>
                </a:lnTo>
                <a:lnTo>
                  <a:pt x="1813" y="2229"/>
                </a:lnTo>
                <a:lnTo>
                  <a:pt x="1791" y="2223"/>
                </a:lnTo>
                <a:lnTo>
                  <a:pt x="1768" y="2215"/>
                </a:lnTo>
                <a:lnTo>
                  <a:pt x="1744" y="2206"/>
                </a:lnTo>
                <a:lnTo>
                  <a:pt x="1718" y="2195"/>
                </a:lnTo>
                <a:lnTo>
                  <a:pt x="1692" y="2183"/>
                </a:lnTo>
                <a:lnTo>
                  <a:pt x="1664" y="2169"/>
                </a:lnTo>
                <a:lnTo>
                  <a:pt x="1636" y="2153"/>
                </a:lnTo>
                <a:lnTo>
                  <a:pt x="1606" y="2135"/>
                </a:lnTo>
                <a:lnTo>
                  <a:pt x="1575" y="2116"/>
                </a:lnTo>
                <a:lnTo>
                  <a:pt x="1543" y="2095"/>
                </a:lnTo>
                <a:lnTo>
                  <a:pt x="1510" y="2073"/>
                </a:lnTo>
                <a:lnTo>
                  <a:pt x="1475" y="2048"/>
                </a:lnTo>
                <a:lnTo>
                  <a:pt x="1440" y="2022"/>
                </a:lnTo>
                <a:lnTo>
                  <a:pt x="1405" y="1997"/>
                </a:lnTo>
                <a:lnTo>
                  <a:pt x="1373" y="1972"/>
                </a:lnTo>
                <a:lnTo>
                  <a:pt x="1342" y="1950"/>
                </a:lnTo>
                <a:lnTo>
                  <a:pt x="1314" y="1929"/>
                </a:lnTo>
                <a:lnTo>
                  <a:pt x="1288" y="1910"/>
                </a:lnTo>
                <a:lnTo>
                  <a:pt x="1265" y="1892"/>
                </a:lnTo>
                <a:lnTo>
                  <a:pt x="1243" y="1876"/>
                </a:lnTo>
                <a:lnTo>
                  <a:pt x="1224" y="1862"/>
                </a:lnTo>
                <a:lnTo>
                  <a:pt x="1207" y="1850"/>
                </a:lnTo>
                <a:lnTo>
                  <a:pt x="1193" y="1839"/>
                </a:lnTo>
                <a:lnTo>
                  <a:pt x="1180" y="1830"/>
                </a:lnTo>
                <a:lnTo>
                  <a:pt x="1170" y="1822"/>
                </a:lnTo>
                <a:lnTo>
                  <a:pt x="1162" y="1816"/>
                </a:lnTo>
                <a:lnTo>
                  <a:pt x="1157" y="1812"/>
                </a:lnTo>
                <a:lnTo>
                  <a:pt x="1153" y="1810"/>
                </a:lnTo>
                <a:lnTo>
                  <a:pt x="1152" y="1809"/>
                </a:lnTo>
                <a:lnTo>
                  <a:pt x="1150" y="1809"/>
                </a:lnTo>
                <a:lnTo>
                  <a:pt x="1143" y="1809"/>
                </a:lnTo>
                <a:lnTo>
                  <a:pt x="1132" y="1809"/>
                </a:lnTo>
                <a:lnTo>
                  <a:pt x="1116" y="1809"/>
                </a:lnTo>
                <a:lnTo>
                  <a:pt x="1096" y="1809"/>
                </a:lnTo>
                <a:lnTo>
                  <a:pt x="1071" y="1809"/>
                </a:lnTo>
                <a:lnTo>
                  <a:pt x="1042" y="1809"/>
                </a:lnTo>
                <a:lnTo>
                  <a:pt x="1008" y="1809"/>
                </a:lnTo>
                <a:lnTo>
                  <a:pt x="970" y="1809"/>
                </a:lnTo>
                <a:lnTo>
                  <a:pt x="927" y="1809"/>
                </a:lnTo>
                <a:lnTo>
                  <a:pt x="880" y="1809"/>
                </a:lnTo>
                <a:lnTo>
                  <a:pt x="828" y="1809"/>
                </a:lnTo>
                <a:lnTo>
                  <a:pt x="772" y="1809"/>
                </a:lnTo>
                <a:lnTo>
                  <a:pt x="711" y="1809"/>
                </a:lnTo>
                <a:lnTo>
                  <a:pt x="646" y="1809"/>
                </a:lnTo>
                <a:lnTo>
                  <a:pt x="576" y="1809"/>
                </a:lnTo>
                <a:lnTo>
                  <a:pt x="576" y="1809"/>
                </a:lnTo>
                <a:close/>
              </a:path>
            </a:pathLst>
          </a:custGeom>
          <a:solidFill>
            <a:srgbClr val="e7eeff"/>
          </a:solidFill>
          <a:ln w="6480">
            <a:solidFill>
              <a:srgbClr val="000080"/>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820" name=""/>
          <p:cNvSpPr/>
          <p:nvPr/>
        </p:nvSpPr>
        <p:spPr>
          <a:xfrm>
            <a:off x="838080" y="307008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one web</a:t>
            </a:r>
            <a:endParaRPr b="0" lang="en-US" sz="1800" spc="-1" strike="noStrike">
              <a:solidFill>
                <a:srgbClr val="000066"/>
              </a:solidFill>
              <a:latin typeface="Times New Roman"/>
            </a:endParaRPr>
          </a:p>
        </p:txBody>
      </p:sp>
      <p:sp>
        <p:nvSpPr>
          <p:cNvPr id="821" name=""/>
          <p:cNvSpPr/>
          <p:nvPr/>
        </p:nvSpPr>
        <p:spPr>
          <a:xfrm>
            <a:off x="838080" y="384660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one database</a:t>
            </a:r>
            <a:endParaRPr b="0" lang="en-US" sz="1800" spc="-1" strike="noStrike">
              <a:solidFill>
                <a:srgbClr val="000066"/>
              </a:solidFill>
              <a:latin typeface="Times New Roman"/>
            </a:endParaRPr>
          </a:p>
        </p:txBody>
      </p:sp>
      <p:sp>
        <p:nvSpPr>
          <p:cNvPr id="822" name=""/>
          <p:cNvSpPr/>
          <p:nvPr/>
        </p:nvSpPr>
        <p:spPr>
          <a:xfrm>
            <a:off x="838080" y="468468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one card</a:t>
            </a:r>
            <a:endParaRPr b="0" lang="en-US" sz="1800" spc="-1" strike="noStrike">
              <a:solidFill>
                <a:srgbClr val="000066"/>
              </a:solidFill>
              <a:latin typeface="Times New Roman"/>
            </a:endParaRPr>
          </a:p>
        </p:txBody>
      </p:sp>
      <p:sp>
        <p:nvSpPr>
          <p:cNvPr id="823" name=""/>
          <p:cNvSpPr/>
          <p:nvPr/>
        </p:nvSpPr>
        <p:spPr>
          <a:xfrm>
            <a:off x="4267080" y="2460600"/>
            <a:ext cx="182880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three networks</a:t>
            </a:r>
            <a:endParaRPr b="0" lang="en-US" sz="1800" spc="-1" strike="noStrike">
              <a:solidFill>
                <a:srgbClr val="000066"/>
              </a:solidFill>
              <a:latin typeface="Times New Roman"/>
            </a:endParaRPr>
          </a:p>
        </p:txBody>
      </p:sp>
      <p:sp>
        <p:nvSpPr>
          <p:cNvPr id="824" name=""/>
          <p:cNvSpPr/>
          <p:nvPr/>
        </p:nvSpPr>
        <p:spPr>
          <a:xfrm>
            <a:off x="4267080" y="384660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one database</a:t>
            </a:r>
            <a:endParaRPr b="0" lang="en-US" sz="1800" spc="-1" strike="noStrike">
              <a:solidFill>
                <a:srgbClr val="000066"/>
              </a:solidFill>
              <a:latin typeface="Times New Roman"/>
            </a:endParaRPr>
          </a:p>
        </p:txBody>
      </p:sp>
      <p:sp>
        <p:nvSpPr>
          <p:cNvPr id="825" name=""/>
          <p:cNvSpPr/>
          <p:nvPr/>
        </p:nvSpPr>
        <p:spPr>
          <a:xfrm>
            <a:off x="4267080" y="5280120"/>
            <a:ext cx="1714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Arial"/>
                <a:ea typeface="SoloBFnt"/>
              </a:rPr>
              <a:t>multi-card</a:t>
            </a:r>
            <a:endParaRPr b="0" lang="en-US" sz="1800" spc="-1" strike="noStrike">
              <a:solidFill>
                <a:srgbClr val="000066"/>
              </a:solidFill>
              <a:latin typeface="Times New Roman"/>
            </a:endParaRPr>
          </a:p>
        </p:txBody>
      </p:sp>
      <p:sp>
        <p:nvSpPr>
          <p:cNvPr id="826" name=""/>
          <p:cNvSpPr/>
          <p:nvPr/>
        </p:nvSpPr>
        <p:spPr>
          <a:xfrm>
            <a:off x="6248520" y="2155680"/>
            <a:ext cx="1981080" cy="1007640"/>
          </a:xfrm>
          <a:prstGeom prst="rect">
            <a:avLst/>
          </a:prstGeom>
          <a:noFill/>
          <a:ln w="0">
            <a:noFill/>
          </a:ln>
        </p:spPr>
        <p:style>
          <a:lnRef idx="0"/>
          <a:fillRef idx="0"/>
          <a:effectRef idx="0"/>
          <a:fontRef idx="minor"/>
        </p:style>
        <p:txBody>
          <a:bodyPr lIns="45720" rIns="4572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 </a:t>
            </a:r>
            <a:r>
              <a:rPr b="0" lang="zh-CN" sz="1200" spc="-1" strike="noStrike">
                <a:solidFill>
                  <a:srgbClr val="000066"/>
                </a:solidFill>
                <a:latin typeface="Times New Roman"/>
              </a:rPr>
              <a:t>校园网（内网）</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互联网（外网）</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涉密信息部门之间或多个</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   </a:t>
            </a:r>
            <a:r>
              <a:rPr b="0" lang="zh-CN" sz="1200" spc="-1" strike="noStrike">
                <a:solidFill>
                  <a:srgbClr val="000066"/>
                </a:solidFill>
                <a:latin typeface="Times New Roman"/>
              </a:rPr>
              <a:t>校区之间通讯的专用网络</a:t>
            </a:r>
            <a:endParaRPr b="0" lang="en-US" sz="1200" spc="-1" strike="noStrike">
              <a:solidFill>
                <a:srgbClr val="000066"/>
              </a:solidFill>
              <a:latin typeface="Times New Roman"/>
            </a:endParaRPr>
          </a:p>
        </p:txBody>
      </p:sp>
      <p:sp>
        <p:nvSpPr>
          <p:cNvPr id="827" name=""/>
          <p:cNvSpPr/>
          <p:nvPr/>
        </p:nvSpPr>
        <p:spPr>
          <a:xfrm>
            <a:off x="6248520" y="3816360"/>
            <a:ext cx="1981080" cy="474840"/>
          </a:xfrm>
          <a:prstGeom prst="rect">
            <a:avLst/>
          </a:prstGeom>
          <a:noFill/>
          <a:ln w="0">
            <a:noFill/>
          </a:ln>
        </p:spPr>
        <p:style>
          <a:lnRef idx="0"/>
          <a:fillRef idx="0"/>
          <a:effectRef idx="0"/>
          <a:fontRef idx="minor"/>
        </p:style>
        <p:txBody>
          <a:bodyPr lIns="45720" rIns="4572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ea typeface="Arial"/>
              </a:rPr>
              <a:t>· </a:t>
            </a:r>
            <a:r>
              <a:rPr b="0" lang="zh-CN" sz="1200" spc="-1" strike="noStrike">
                <a:solidFill>
                  <a:srgbClr val="000066"/>
                </a:solidFill>
                <a:latin typeface="Times New Roman"/>
              </a:rPr>
              <a:t>集中化的、标准化</a:t>
            </a:r>
            <a:endParaRPr b="0" lang="en-US" sz="12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   </a:t>
            </a:r>
            <a:r>
              <a:rPr b="0" lang="zh-CN" sz="1200" spc="-1" strike="noStrike">
                <a:solidFill>
                  <a:srgbClr val="000066"/>
                </a:solidFill>
                <a:latin typeface="Times New Roman"/>
              </a:rPr>
              <a:t>校园基础数据库</a:t>
            </a:r>
            <a:endParaRPr b="0" lang="en-US" sz="1200" spc="-1" strike="noStrike">
              <a:solidFill>
                <a:srgbClr val="000066"/>
              </a:solidFill>
              <a:latin typeface="Times New Roman"/>
            </a:endParaRPr>
          </a:p>
        </p:txBody>
      </p:sp>
      <p:sp>
        <p:nvSpPr>
          <p:cNvPr id="828" name=""/>
          <p:cNvSpPr/>
          <p:nvPr/>
        </p:nvSpPr>
        <p:spPr>
          <a:xfrm>
            <a:off x="6248520" y="4975200"/>
            <a:ext cx="2133360" cy="1046160"/>
          </a:xfrm>
          <a:prstGeom prst="rect">
            <a:avLst/>
          </a:prstGeom>
          <a:noFill/>
          <a:ln w="0">
            <a:noFill/>
          </a:ln>
        </p:spPr>
        <p:style>
          <a:lnRef idx="0"/>
          <a:fillRef idx="0"/>
          <a:effectRef idx="0"/>
          <a:fontRef idx="minor"/>
        </p:style>
        <p:txBody>
          <a:bodyPr lIns="45720" rIns="4572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ea typeface="Arial"/>
              </a:rPr>
              <a:t>· </a:t>
            </a:r>
            <a:r>
              <a:rPr b="0" lang="zh-CN" sz="1200" spc="-1" strike="noStrike">
                <a:solidFill>
                  <a:srgbClr val="000066"/>
                </a:solidFill>
                <a:latin typeface="Times New Roman"/>
              </a:rPr>
              <a:t>卡片的选型应以应用为中心</a:t>
            </a:r>
            <a:endParaRPr b="0" lang="en-US" sz="12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   </a:t>
            </a:r>
            <a:r>
              <a:rPr b="0" lang="zh-CN" sz="1200" spc="-1" strike="noStrike">
                <a:solidFill>
                  <a:srgbClr val="000066"/>
                </a:solidFill>
                <a:latin typeface="Times New Roman"/>
              </a:rPr>
              <a:t>而不是以卡片为中心</a:t>
            </a:r>
            <a:endParaRPr b="0" lang="en-US" sz="12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ea typeface="Arial"/>
              </a:rPr>
              <a:t>· </a:t>
            </a:r>
            <a:r>
              <a:rPr b="0" lang="zh-CN" sz="1200" spc="-1" strike="noStrike">
                <a:solidFill>
                  <a:srgbClr val="000066"/>
                </a:solidFill>
                <a:latin typeface="Times New Roman"/>
              </a:rPr>
              <a:t>形成多卡并存、相辅相成、</a:t>
            </a:r>
            <a:endParaRPr b="0" lang="en-US" sz="12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   </a:t>
            </a:r>
            <a:r>
              <a:rPr b="0" lang="zh-CN" sz="1200" spc="-1" strike="noStrike">
                <a:solidFill>
                  <a:srgbClr val="000066"/>
                </a:solidFill>
                <a:latin typeface="Times New Roman"/>
              </a:rPr>
              <a:t>灵活方便的运行模式</a:t>
            </a:r>
            <a:endParaRPr b="0" lang="en-US" sz="1200" spc="-1" strike="noStrike">
              <a:solidFill>
                <a:srgbClr val="000066"/>
              </a:solidFill>
              <a:latin typeface="Times New Roman"/>
            </a:endParaRPr>
          </a:p>
        </p:txBody>
      </p:sp>
      <p:sp>
        <p:nvSpPr>
          <p:cNvPr id="829"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0"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1"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2"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3"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4"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5"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6"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7"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8"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39"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0"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1"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2"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3"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4"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5"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6"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7"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8"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49"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0"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1"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2"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3"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4"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5"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6"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7"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8"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59"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60"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61"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862"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864"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65"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867"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1"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872"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3"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874"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5"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876"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878"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9"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0"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882"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884"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886"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888"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9"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890"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1"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892"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3"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894"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5"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896"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898"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900"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1"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902"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3"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904"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5"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906"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908"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910"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913"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4"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915"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6"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7"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918"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9"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920"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921"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932"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934"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5"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936"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7"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938"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9"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940"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942"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944"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946"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947"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948"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949"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950"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951"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952"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整个软件系统架构分为数据存储层、逻辑层、表现层和用户层</a:t>
            </a:r>
            <a:endParaRPr b="0" lang="en-US" sz="1200" spc="-1" strike="noStrike">
              <a:solidFill>
                <a:srgbClr val="000066"/>
              </a:solidFill>
              <a:latin typeface="Times New Roman"/>
            </a:endParaRPr>
          </a:p>
        </p:txBody>
      </p:sp>
      <p:sp>
        <p:nvSpPr>
          <p:cNvPr id="953"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4"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5"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6"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7"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8"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59"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0"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1"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2"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3"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4"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5"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6"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7"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8"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69"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0"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1"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2"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3"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4"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5"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6"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7"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8"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79"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0"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1"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2"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3"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4"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5"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986"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988"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989"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991"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5"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一 卡 通 公 共 信 息 库</a:t>
            </a:r>
            <a:endParaRPr b="0" lang="en-US" sz="1200" spc="-1" strike="noStrike">
              <a:solidFill>
                <a:srgbClr val="000066"/>
              </a:solidFill>
              <a:latin typeface="Times New Roman"/>
            </a:endParaRPr>
          </a:p>
        </p:txBody>
      </p:sp>
      <p:sp>
        <p:nvSpPr>
          <p:cNvPr id="996"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7"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一卡通认证相关信息</a:t>
            </a:r>
            <a:endParaRPr b="0" lang="en-US" sz="1200" spc="-1" strike="noStrike">
              <a:solidFill>
                <a:srgbClr val="000066"/>
              </a:solidFill>
              <a:latin typeface="Times New Roman"/>
            </a:endParaRPr>
          </a:p>
        </p:txBody>
      </p:sp>
      <p:sp>
        <p:nvSpPr>
          <p:cNvPr id="998"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9"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一卡通金融相关信息</a:t>
            </a:r>
            <a:endParaRPr b="0" lang="en-US" sz="1200" spc="-1" strike="noStrike">
              <a:solidFill>
                <a:srgbClr val="000066"/>
              </a:solidFill>
              <a:latin typeface="Times New Roman"/>
            </a:endParaRPr>
          </a:p>
        </p:txBody>
      </p:sp>
      <p:sp>
        <p:nvSpPr>
          <p:cNvPr id="1000"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81ef8"/>
                </a:solidFill>
                <a:latin typeface="Times New Roman"/>
              </a:rPr>
              <a:t>存储层</a:t>
            </a:r>
            <a:endParaRPr b="0" lang="en-US" sz="1400" spc="-1" strike="noStrike">
              <a:solidFill>
                <a:srgbClr val="000066"/>
              </a:solidFill>
              <a:latin typeface="Times New Roman"/>
            </a:endParaRPr>
          </a:p>
        </p:txBody>
      </p:sp>
      <p:sp>
        <p:nvSpPr>
          <p:cNvPr id="1002"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006"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008"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010"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012"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014"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016"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018"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020"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022"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024"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026"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028"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030"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1"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032"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034"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6"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1037"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8"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1039"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0"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1042"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3"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044"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1045"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056"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058"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060"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1"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062"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3"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064"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066"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7"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068"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9"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070"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1071"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1072"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1073"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1074"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075"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1076"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数据存储层是整个信息系统的最底层，包括人员信息、单位信息、校园卡账户信息和消费信息等等</a:t>
            </a:r>
            <a:endParaRPr b="0" lang="en-US" sz="1200" spc="-1" strike="noStrike">
              <a:solidFill>
                <a:srgbClr val="000066"/>
              </a:solidFill>
              <a:latin typeface="Times New Roman"/>
            </a:endParaRPr>
          </a:p>
        </p:txBody>
      </p:sp>
      <p:sp>
        <p:nvSpPr>
          <p:cNvPr id="107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7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7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8"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89"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0"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1"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2"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3"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4"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5"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6"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7"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8"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099"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0"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0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1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111" name=""/>
          <p:cNvSpPr/>
          <p:nvPr/>
        </p:nvSpPr>
        <p:spPr>
          <a:xfrm>
            <a:off x="304920" y="5638680"/>
            <a:ext cx="3808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111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114"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1116"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1121"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1123"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4"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1125"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6"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1127"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8"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9"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0"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131"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2"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133"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4"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135"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137"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139"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141"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143"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4"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145"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6"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147"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8"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149"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0"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151"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153"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4"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155"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6"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157"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8"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159"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0"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1"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81ef8"/>
                </a:solidFill>
                <a:latin typeface="Times New Roman"/>
              </a:rPr>
              <a:t>逻辑层</a:t>
            </a:r>
            <a:endParaRPr b="0" lang="en-US" sz="1400" spc="-1" strike="noStrike">
              <a:solidFill>
                <a:srgbClr val="000066"/>
              </a:solidFill>
              <a:latin typeface="Times New Roman"/>
            </a:endParaRPr>
          </a:p>
        </p:txBody>
      </p:sp>
      <p:sp>
        <p:nvSpPr>
          <p:cNvPr id="1162"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3"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1164"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5"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6"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1167"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8"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169"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1170"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181"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183"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185"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187"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8"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189"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90"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191"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92"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193"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94"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195"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81ef8"/>
                </a:solidFill>
                <a:latin typeface="Times New Roman"/>
              </a:rPr>
              <a:t>公共组件</a:t>
            </a:r>
            <a:endParaRPr b="0" lang="en-US" sz="1200" spc="-1" strike="noStrike">
              <a:solidFill>
                <a:srgbClr val="000066"/>
              </a:solidFill>
              <a:latin typeface="Times New Roman"/>
            </a:endParaRPr>
          </a:p>
        </p:txBody>
      </p:sp>
      <p:sp>
        <p:nvSpPr>
          <p:cNvPr id="1196"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81ef8"/>
                </a:solidFill>
                <a:latin typeface="Times New Roman"/>
              </a:rPr>
              <a:t>专用组件</a:t>
            </a:r>
            <a:endParaRPr b="0" lang="en-US" sz="1200" spc="-1" strike="noStrike">
              <a:solidFill>
                <a:srgbClr val="000066"/>
              </a:solidFill>
              <a:latin typeface="Times New Roman"/>
            </a:endParaRPr>
          </a:p>
        </p:txBody>
      </p:sp>
      <p:sp>
        <p:nvSpPr>
          <p:cNvPr id="1197"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1198"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1199"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200"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业务逻辑控制</a:t>
            </a:r>
            <a:endParaRPr b="0" lang="en-US" sz="1200" spc="-1" strike="noStrike">
              <a:solidFill>
                <a:srgbClr val="000066"/>
              </a:solidFill>
              <a:latin typeface="Times New Roman"/>
            </a:endParaRPr>
          </a:p>
        </p:txBody>
      </p:sp>
      <p:sp>
        <p:nvSpPr>
          <p:cNvPr id="1201"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逻辑层包括公共组件、专用组件、业务逻辑控制三部分</a:t>
            </a:r>
            <a:endParaRPr b="0" lang="en-US" sz="1200" spc="-1" strike="noStrike">
              <a:solidFill>
                <a:srgbClr val="000066"/>
              </a:solidFill>
              <a:latin typeface="Times New Roman"/>
            </a:endParaRPr>
          </a:p>
        </p:txBody>
      </p:sp>
      <p:sp>
        <p:nvSpPr>
          <p:cNvPr id="1202" name=""/>
          <p:cNvSpPr/>
          <p:nvPr/>
        </p:nvSpPr>
        <p:spPr>
          <a:xfrm>
            <a:off x="1447920" y="1295280"/>
            <a:ext cx="1676160" cy="167652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324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203" name=""/>
          <p:cNvGrpSpPr/>
          <p:nvPr/>
        </p:nvGrpSpPr>
        <p:grpSpPr>
          <a:xfrm>
            <a:off x="1676520" y="2895480"/>
            <a:ext cx="456840" cy="456480"/>
            <a:chOff x="1676520" y="2895480"/>
            <a:chExt cx="456840" cy="456480"/>
          </a:xfrm>
        </p:grpSpPr>
        <p:sp>
          <p:nvSpPr>
            <p:cNvPr id="1204" name=""/>
            <p:cNvSpPr/>
            <p:nvPr/>
          </p:nvSpPr>
          <p:spPr>
            <a:xfrm>
              <a:off x="1925640" y="2895480"/>
              <a:ext cx="207720" cy="152280"/>
            </a:xfrm>
            <a:prstGeom prst="ellipse">
              <a:avLst/>
            </a:prstGeom>
            <a:solidFill>
              <a:srgbClr val="f3f6ff"/>
            </a:solidFill>
            <a:ln w="324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205" name=""/>
            <p:cNvSpPr/>
            <p:nvPr/>
          </p:nvSpPr>
          <p:spPr>
            <a:xfrm>
              <a:off x="1801080" y="3123720"/>
              <a:ext cx="165960" cy="75960"/>
            </a:xfrm>
            <a:prstGeom prst="ellipse">
              <a:avLst/>
            </a:prstGeom>
            <a:solidFill>
              <a:srgbClr val="f3f6ff"/>
            </a:solidFill>
            <a:ln w="3240">
              <a:solidFill>
                <a:srgbClr val="6699ff"/>
              </a:solidFill>
              <a:miter/>
            </a:ln>
          </p:spPr>
          <p:style>
            <a:lnRef idx="0"/>
            <a:fillRef idx="0"/>
            <a:effectRef idx="0"/>
            <a:fontRef idx="minor"/>
          </p:style>
          <p:txBody>
            <a:bodyPr wrap="none" lIns="90000" rIns="90000" tIns="6840" bIns="6840" anchor="ctr">
              <a:spAutoFit/>
            </a:bodyPr>
            <a:p>
              <a:endParaRPr b="0" lang="en-US" sz="2400" spc="-1" strike="noStrike">
                <a:solidFill>
                  <a:srgbClr val="000066"/>
                </a:solidFill>
                <a:latin typeface="Times New Roman"/>
              </a:endParaRPr>
            </a:p>
          </p:txBody>
        </p:sp>
        <p:sp>
          <p:nvSpPr>
            <p:cNvPr id="1206" name=""/>
            <p:cNvSpPr/>
            <p:nvPr/>
          </p:nvSpPr>
          <p:spPr>
            <a:xfrm>
              <a:off x="1676520" y="3276000"/>
              <a:ext cx="124560" cy="75960"/>
            </a:xfrm>
            <a:prstGeom prst="ellipse">
              <a:avLst/>
            </a:prstGeom>
            <a:solidFill>
              <a:srgbClr val="f3f6ff"/>
            </a:solidFill>
            <a:ln w="3240">
              <a:solidFill>
                <a:srgbClr val="6699ff"/>
              </a:solidFill>
              <a:miter/>
            </a:ln>
          </p:spPr>
          <p:style>
            <a:lnRef idx="0"/>
            <a:fillRef idx="0"/>
            <a:effectRef idx="0"/>
            <a:fontRef idx="minor"/>
          </p:style>
          <p:txBody>
            <a:bodyPr wrap="none" lIns="90000" rIns="90000" tIns="6840" bIns="6840" anchor="ctr">
              <a:spAutoFit/>
            </a:bodyPr>
            <a:p>
              <a:endParaRPr b="0" lang="en-US" sz="2400" spc="-1" strike="noStrike">
                <a:solidFill>
                  <a:srgbClr val="000066"/>
                </a:solidFill>
                <a:latin typeface="Times New Roman"/>
              </a:endParaRPr>
            </a:p>
          </p:txBody>
        </p:sp>
      </p:grpSp>
      <p:sp>
        <p:nvSpPr>
          <p:cNvPr id="1207" name=""/>
          <p:cNvSpPr/>
          <p:nvPr/>
        </p:nvSpPr>
        <p:spPr>
          <a:xfrm>
            <a:off x="1523880" y="1600200"/>
            <a:ext cx="1600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是通用组件，为各业务子系统及接口所共享</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提供了身份信息、各种信息管理维护查询等功能</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可以很方便地为将来的数字化校园所用</a:t>
            </a:r>
            <a:endParaRPr b="0" lang="en-US" sz="1000" spc="-1" strike="noStrike">
              <a:solidFill>
                <a:srgbClr val="000066"/>
              </a:solidFill>
              <a:latin typeface="Times New Roman"/>
            </a:endParaRPr>
          </a:p>
        </p:txBody>
      </p:sp>
      <p:sp>
        <p:nvSpPr>
          <p:cNvPr id="1208" name=""/>
          <p:cNvSpPr/>
          <p:nvPr/>
        </p:nvSpPr>
        <p:spPr>
          <a:xfrm>
            <a:off x="6553080" y="1371600"/>
            <a:ext cx="1524240" cy="160020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324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209" name=""/>
          <p:cNvGrpSpPr/>
          <p:nvPr/>
        </p:nvGrpSpPr>
        <p:grpSpPr>
          <a:xfrm>
            <a:off x="5486400" y="2743200"/>
            <a:ext cx="1218600" cy="608760"/>
            <a:chOff x="5486400" y="2743200"/>
            <a:chExt cx="1218600" cy="608760"/>
          </a:xfrm>
        </p:grpSpPr>
        <p:sp>
          <p:nvSpPr>
            <p:cNvPr id="1210" name=""/>
            <p:cNvSpPr/>
            <p:nvPr/>
          </p:nvSpPr>
          <p:spPr>
            <a:xfrm>
              <a:off x="6150960" y="2743200"/>
              <a:ext cx="554040" cy="203040"/>
            </a:xfrm>
            <a:prstGeom prst="ellipse">
              <a:avLst/>
            </a:prstGeom>
            <a:solidFill>
              <a:srgbClr val="f3f6ff"/>
            </a:solidFill>
            <a:ln w="324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211" name=""/>
            <p:cNvSpPr/>
            <p:nvPr/>
          </p:nvSpPr>
          <p:spPr>
            <a:xfrm>
              <a:off x="5818680" y="3047400"/>
              <a:ext cx="443160" cy="101520"/>
            </a:xfrm>
            <a:prstGeom prst="ellipse">
              <a:avLst/>
            </a:prstGeom>
            <a:solidFill>
              <a:srgbClr val="f3f6ff"/>
            </a:solidFill>
            <a:ln w="3240">
              <a:solidFill>
                <a:srgbClr val="6699ff"/>
              </a:solidFill>
              <a:miter/>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sp>
          <p:nvSpPr>
            <p:cNvPr id="1212" name=""/>
            <p:cNvSpPr/>
            <p:nvPr/>
          </p:nvSpPr>
          <p:spPr>
            <a:xfrm>
              <a:off x="5486400" y="3250440"/>
              <a:ext cx="332280" cy="101520"/>
            </a:xfrm>
            <a:prstGeom prst="ellipse">
              <a:avLst/>
            </a:prstGeom>
            <a:solidFill>
              <a:srgbClr val="f3f6ff"/>
            </a:solidFill>
            <a:ln w="3240">
              <a:solidFill>
                <a:srgbClr val="6699ff"/>
              </a:solidFill>
              <a:miter/>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grpSp>
      <p:sp>
        <p:nvSpPr>
          <p:cNvPr id="1213" name=""/>
          <p:cNvSpPr/>
          <p:nvPr/>
        </p:nvSpPr>
        <p:spPr>
          <a:xfrm>
            <a:off x="6705720" y="1523880"/>
            <a:ext cx="12189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为各业务模块提供个性化功能</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多数组件在物理上可以分为两部分</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一部分位于应用服务器端，一部分位于客户端</a:t>
            </a:r>
            <a:endParaRPr b="0" lang="en-US" sz="1000" spc="-1" strike="noStrike">
              <a:solidFill>
                <a:srgbClr val="000066"/>
              </a:solidFill>
              <a:latin typeface="Times New Roman"/>
            </a:endParaRPr>
          </a:p>
        </p:txBody>
      </p:sp>
      <p:sp>
        <p:nvSpPr>
          <p:cNvPr id="1214" name=""/>
          <p:cNvSpPr/>
          <p:nvPr/>
        </p:nvSpPr>
        <p:spPr>
          <a:xfrm>
            <a:off x="4038480" y="1752480"/>
            <a:ext cx="1828800" cy="99072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324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215" name=""/>
          <p:cNvGrpSpPr/>
          <p:nvPr/>
        </p:nvGrpSpPr>
        <p:grpSpPr>
          <a:xfrm>
            <a:off x="3809880" y="2666880"/>
            <a:ext cx="685440" cy="380880"/>
            <a:chOff x="3809880" y="2666880"/>
            <a:chExt cx="685440" cy="380880"/>
          </a:xfrm>
        </p:grpSpPr>
        <p:sp>
          <p:nvSpPr>
            <p:cNvPr id="1216" name=""/>
            <p:cNvSpPr/>
            <p:nvPr/>
          </p:nvSpPr>
          <p:spPr>
            <a:xfrm>
              <a:off x="4183560" y="2666880"/>
              <a:ext cx="311760" cy="127080"/>
            </a:xfrm>
            <a:prstGeom prst="ellipse">
              <a:avLst/>
            </a:prstGeom>
            <a:solidFill>
              <a:srgbClr val="f3f6ff"/>
            </a:solidFill>
            <a:ln w="3240">
              <a:solidFill>
                <a:srgbClr val="6699ff"/>
              </a:solidFill>
              <a:miter/>
            </a:ln>
          </p:spPr>
          <p:style>
            <a:lnRef idx="0"/>
            <a:fillRef idx="0"/>
            <a:effectRef idx="0"/>
            <a:fontRef idx="minor"/>
          </p:style>
          <p:txBody>
            <a:bodyPr wrap="none" lIns="90000" rIns="90000" tIns="43560" bIns="43560" anchor="ctr">
              <a:spAutoFit/>
            </a:bodyPr>
            <a:p>
              <a:endParaRPr b="0" lang="en-US" sz="2400" spc="-1" strike="noStrike">
                <a:solidFill>
                  <a:srgbClr val="000066"/>
                </a:solidFill>
                <a:latin typeface="Times New Roman"/>
              </a:endParaRPr>
            </a:p>
          </p:txBody>
        </p:sp>
        <p:sp>
          <p:nvSpPr>
            <p:cNvPr id="1217" name=""/>
            <p:cNvSpPr/>
            <p:nvPr/>
          </p:nvSpPr>
          <p:spPr>
            <a:xfrm>
              <a:off x="3996720" y="2856960"/>
              <a:ext cx="249120" cy="63360"/>
            </a:xfrm>
            <a:prstGeom prst="ellipse">
              <a:avLst/>
            </a:prstGeom>
            <a:solidFill>
              <a:srgbClr val="f3f6ff"/>
            </a:solidFill>
            <a:ln w="3240">
              <a:solidFill>
                <a:srgbClr val="6699ff"/>
              </a:solidFill>
              <a:miter/>
            </a:ln>
          </p:spPr>
          <p:style>
            <a:lnRef idx="0"/>
            <a:fillRef idx="0"/>
            <a:effectRef idx="0"/>
            <a:fontRef idx="minor"/>
          </p:style>
          <p:txBody>
            <a:bodyPr wrap="none" lIns="90000" rIns="90000" tIns="-1440" bIns="-1440" anchor="ctr">
              <a:spAutoFit/>
            </a:bodyPr>
            <a:p>
              <a:endParaRPr b="0" lang="en-US" sz="2400" spc="-1" strike="noStrike">
                <a:solidFill>
                  <a:srgbClr val="000066"/>
                </a:solidFill>
                <a:latin typeface="Times New Roman"/>
              </a:endParaRPr>
            </a:p>
          </p:txBody>
        </p:sp>
        <p:sp>
          <p:nvSpPr>
            <p:cNvPr id="1218" name=""/>
            <p:cNvSpPr/>
            <p:nvPr/>
          </p:nvSpPr>
          <p:spPr>
            <a:xfrm>
              <a:off x="3809880" y="2984400"/>
              <a:ext cx="186840" cy="63360"/>
            </a:xfrm>
            <a:prstGeom prst="ellipse">
              <a:avLst/>
            </a:prstGeom>
            <a:solidFill>
              <a:srgbClr val="f3f6ff"/>
            </a:solidFill>
            <a:ln w="3240">
              <a:solidFill>
                <a:srgbClr val="6699ff"/>
              </a:solidFill>
              <a:miter/>
            </a:ln>
          </p:spPr>
          <p:style>
            <a:lnRef idx="0"/>
            <a:fillRef idx="0"/>
            <a:effectRef idx="0"/>
            <a:fontRef idx="minor"/>
          </p:style>
          <p:txBody>
            <a:bodyPr wrap="none" lIns="90000" rIns="90000" tIns="-1440" bIns="-1440" anchor="ctr">
              <a:spAutoFit/>
            </a:bodyPr>
            <a:p>
              <a:endParaRPr b="0" lang="en-US" sz="2400" spc="-1" strike="noStrike">
                <a:solidFill>
                  <a:srgbClr val="000066"/>
                </a:solidFill>
                <a:latin typeface="Times New Roman"/>
              </a:endParaRPr>
            </a:p>
          </p:txBody>
        </p:sp>
      </p:grpSp>
      <p:sp>
        <p:nvSpPr>
          <p:cNvPr id="1219" name=""/>
          <p:cNvSpPr/>
          <p:nvPr/>
        </p:nvSpPr>
        <p:spPr>
          <a:xfrm>
            <a:off x="4114800" y="1965240"/>
            <a:ext cx="1600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完成交易信息分发功能</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Times New Roman"/>
              </a:rPr>
              <a:t>· </a:t>
            </a:r>
            <a:r>
              <a:rPr b="0" lang="zh-CN" sz="1000" spc="-1" strike="noStrike">
                <a:solidFill>
                  <a:srgbClr val="000066"/>
                </a:solidFill>
                <a:latin typeface="Times New Roman"/>
              </a:rPr>
              <a:t>将从用户层接收到的交易发送给相应的处理组件</a:t>
            </a:r>
            <a:endParaRPr b="0" lang="en-US" sz="1000" spc="-1" strike="noStrike">
              <a:solidFill>
                <a:srgbClr val="000066"/>
              </a:solidFill>
              <a:latin typeface="Times New Roman"/>
            </a:endParaRPr>
          </a:p>
        </p:txBody>
      </p:sp>
      <p:sp>
        <p:nvSpPr>
          <p:cNvPr id="1220"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1"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2"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3"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4"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5"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6"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7"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8"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29"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0"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1"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2"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3"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4"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5"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6"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7"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8"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39"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0"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1"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2"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3"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4"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5"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6"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7"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8"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49"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0"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1"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2"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3"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254" name=""/>
          <p:cNvSpPr/>
          <p:nvPr/>
        </p:nvSpPr>
        <p:spPr>
          <a:xfrm>
            <a:off x="304920" y="4495680"/>
            <a:ext cx="3808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125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257"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1259"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63"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1264"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65"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1266"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67"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1268"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69"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1270"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1"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2"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274"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276"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278"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280"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1"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282"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3"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284"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5"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286"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7"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288"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290"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292"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294"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5"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296"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7"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298"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300"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1"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302"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3"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4"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1305"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6"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综合前置</a:t>
            </a:r>
            <a:endParaRPr b="0" lang="en-US" sz="1200" spc="-1" strike="noStrike">
              <a:solidFill>
                <a:srgbClr val="000066"/>
              </a:solidFill>
              <a:latin typeface="Times New Roman"/>
            </a:endParaRPr>
          </a:p>
        </p:txBody>
      </p:sp>
      <p:sp>
        <p:nvSpPr>
          <p:cNvPr id="1307"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8"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9"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81ef8"/>
                </a:solidFill>
                <a:latin typeface="Times New Roman"/>
              </a:rPr>
              <a:t>表现层</a:t>
            </a:r>
            <a:endParaRPr b="0" lang="en-US" sz="1400" spc="-1" strike="noStrike">
              <a:solidFill>
                <a:srgbClr val="000066"/>
              </a:solidFill>
              <a:latin typeface="Times New Roman"/>
            </a:endParaRPr>
          </a:p>
        </p:txBody>
      </p:sp>
      <p:sp>
        <p:nvSpPr>
          <p:cNvPr id="1310"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1"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312"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1313"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8"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3"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324"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5"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326"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7"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328"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9"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330"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1"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332"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3"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334"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5"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336"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7"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338"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1339"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1340"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81ef8"/>
                </a:solidFill>
                <a:latin typeface="Times New Roman"/>
              </a:rPr>
              <a:t>消费</a:t>
            </a:r>
            <a:r>
              <a:rPr b="0" lang="en-US" sz="1200" spc="-1" strike="noStrike">
                <a:solidFill>
                  <a:srgbClr val="381ef8"/>
                </a:solidFill>
                <a:latin typeface="Times New Roman"/>
              </a:rPr>
              <a:t>POS</a:t>
            </a:r>
            <a:r>
              <a:rPr b="0" lang="zh-CN" sz="1200" spc="-1" strike="noStrike">
                <a:solidFill>
                  <a:srgbClr val="381ef8"/>
                </a:solidFill>
                <a:latin typeface="Times New Roman"/>
              </a:rPr>
              <a:t>机    移动</a:t>
            </a:r>
            <a:r>
              <a:rPr b="0" lang="en-US" sz="1200" spc="-1" strike="noStrike">
                <a:solidFill>
                  <a:srgbClr val="381ef8"/>
                </a:solidFill>
                <a:latin typeface="Times New Roman"/>
              </a:rPr>
              <a:t>PDA    </a:t>
            </a:r>
            <a:r>
              <a:rPr b="0" lang="zh-CN" sz="1200" spc="-1" strike="noStrike">
                <a:solidFill>
                  <a:srgbClr val="381ef8"/>
                </a:solidFill>
                <a:latin typeface="Times New Roman"/>
              </a:rPr>
              <a:t>读写卡    语音服务    </a:t>
            </a:r>
            <a:r>
              <a:rPr b="0" lang="en-US" sz="1200" spc="-1" strike="noStrike">
                <a:solidFill>
                  <a:srgbClr val="381ef8"/>
                </a:solidFill>
                <a:latin typeface="Times New Roman"/>
              </a:rPr>
              <a:t>Web</a:t>
            </a:r>
            <a:r>
              <a:rPr b="0" lang="zh-CN" sz="1200" spc="-1" strike="noStrike">
                <a:solidFill>
                  <a:srgbClr val="381ef8"/>
                </a:solidFill>
                <a:latin typeface="Times New Roman"/>
              </a:rPr>
              <a:t>服务    触摸屏   …</a:t>
            </a:r>
            <a:endParaRPr b="0" lang="en-US" sz="1200" spc="-1" strike="noStrike">
              <a:solidFill>
                <a:srgbClr val="000066"/>
              </a:solidFill>
              <a:latin typeface="Times New Roman"/>
            </a:endParaRPr>
          </a:p>
        </p:txBody>
      </p:sp>
      <p:sp>
        <p:nvSpPr>
          <p:cNvPr id="1341"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81ef8"/>
                </a:solidFill>
                <a:latin typeface="Times New Roman"/>
              </a:rPr>
              <a:t>Agent</a:t>
            </a:r>
            <a:endParaRPr b="0" lang="en-US" sz="1200" spc="-1" strike="noStrike">
              <a:solidFill>
                <a:srgbClr val="000066"/>
              </a:solidFill>
              <a:latin typeface="Times New Roman"/>
            </a:endParaRPr>
          </a:p>
        </p:txBody>
      </p:sp>
      <p:sp>
        <p:nvSpPr>
          <p:cNvPr id="1342"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343"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1344"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表现层是用户与一卡通系统交互的接口，接收用户数据以及返回结果</a:t>
            </a:r>
            <a:endParaRPr b="0" lang="en-US" sz="1200" spc="-1" strike="noStrike">
              <a:solidFill>
                <a:srgbClr val="000066"/>
              </a:solidFill>
              <a:latin typeface="Times New Roman"/>
            </a:endParaRPr>
          </a:p>
        </p:txBody>
      </p:sp>
      <p:sp>
        <p:nvSpPr>
          <p:cNvPr id="134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4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4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4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4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59"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0"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1"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2"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3"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4"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5"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6"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7"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8"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69"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0"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1"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2"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3"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4"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5"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6"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7"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379" name=""/>
          <p:cNvSpPr/>
          <p:nvPr/>
        </p:nvSpPr>
        <p:spPr>
          <a:xfrm>
            <a:off x="304920" y="2286000"/>
            <a:ext cx="3808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138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382"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1384"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8"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1389"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0"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1391"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2"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1393"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1395"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399"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401"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2"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403"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4"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405"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6"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407"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8"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409"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0"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411"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2"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413"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4"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415"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6"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417"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8"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419"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0"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421"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2"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423"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4"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425"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427"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8"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9"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1430"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1"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1432"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3"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4"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1435"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6"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81ef8"/>
                </a:solidFill>
                <a:latin typeface="Times New Roman"/>
              </a:rPr>
              <a:t>……</a:t>
            </a:r>
            <a:endParaRPr b="0" lang="en-US" sz="1200" spc="-1" strike="noStrike">
              <a:solidFill>
                <a:srgbClr val="000066"/>
              </a:solidFill>
              <a:latin typeface="Times New Roman"/>
            </a:endParaRPr>
          </a:p>
        </p:txBody>
      </p:sp>
      <p:sp>
        <p:nvSpPr>
          <p:cNvPr id="1437"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81ef8"/>
                </a:solidFill>
                <a:latin typeface="Times New Roman"/>
              </a:rPr>
              <a:t>用户层</a:t>
            </a:r>
            <a:endParaRPr b="0" lang="en-US" sz="1400" spc="-1" strike="noStrike">
              <a:solidFill>
                <a:srgbClr val="000066"/>
              </a:solidFill>
              <a:latin typeface="Times New Roman"/>
            </a:endParaRPr>
          </a:p>
        </p:txBody>
      </p:sp>
      <p:sp>
        <p:nvSpPr>
          <p:cNvPr id="1438"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8"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449"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0"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451"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2"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453"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4"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455"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6"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457"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8"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459"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0"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461"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2"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463"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1464"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1465"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1466"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1467"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468"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1469" name=""/>
          <p:cNvSpPr/>
          <p:nvPr/>
        </p:nvSpPr>
        <p:spPr>
          <a:xfrm>
            <a:off x="533520" y="5943600"/>
            <a:ext cx="8229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用户层是用户可以实际看到的应用</a:t>
            </a:r>
            <a:endParaRPr b="0" lang="en-US" sz="1200" spc="-1" strike="noStrike">
              <a:solidFill>
                <a:srgbClr val="000066"/>
              </a:solidFill>
              <a:latin typeface="Times New Roman"/>
            </a:endParaRPr>
          </a:p>
        </p:txBody>
      </p:sp>
      <p:sp>
        <p:nvSpPr>
          <p:cNvPr id="1470"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1"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2"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3"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4"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5"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6"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7"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8"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79"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0"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1"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2"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3"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4"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5"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6"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7"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8"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89"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0"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1"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2"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3"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4"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5"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6"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7"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8"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499"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0"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1"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2"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3"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04" name=""/>
          <p:cNvSpPr/>
          <p:nvPr/>
        </p:nvSpPr>
        <p:spPr>
          <a:xfrm>
            <a:off x="304920" y="1638360"/>
            <a:ext cx="3808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摘要</a:t>
            </a:r>
            <a:endParaRPr b="0" lang="en-US" sz="4800" spc="-1" strike="noStrike">
              <a:solidFill>
                <a:srgbClr val="000099"/>
              </a:solidFill>
              <a:latin typeface="Times New Roman"/>
            </a:endParaRPr>
          </a:p>
        </p:txBody>
      </p:sp>
      <p:sp>
        <p:nvSpPr>
          <p:cNvPr id="167"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8" name=""/>
          <p:cNvSpPr/>
          <p:nvPr/>
        </p:nvSpPr>
        <p:spPr>
          <a:xfrm>
            <a:off x="3552840" y="300816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0" lang="en-US" sz="1200" spc="-1" strike="noStrike">
              <a:solidFill>
                <a:srgbClr val="000066"/>
              </a:solidFill>
              <a:latin typeface="Times New Roman"/>
            </a:endParaRPr>
          </a:p>
        </p:txBody>
      </p:sp>
      <p:sp>
        <p:nvSpPr>
          <p:cNvPr id="169" name=""/>
          <p:cNvSpPr/>
          <p:nvPr/>
        </p:nvSpPr>
        <p:spPr>
          <a:xfrm>
            <a:off x="5133960" y="2717640"/>
            <a:ext cx="271440" cy="27180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0" lang="en-US" sz="1200" spc="-1" strike="noStrike">
              <a:solidFill>
                <a:srgbClr val="000066"/>
              </a:solidFill>
              <a:latin typeface="Times New Roman"/>
            </a:endParaRPr>
          </a:p>
        </p:txBody>
      </p:sp>
      <p:sp>
        <p:nvSpPr>
          <p:cNvPr id="170" name=""/>
          <p:cNvSpPr/>
          <p:nvPr/>
        </p:nvSpPr>
        <p:spPr>
          <a:xfrm>
            <a:off x="5424480" y="42228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4</a:t>
            </a:r>
            <a:endParaRPr b="0" lang="en-US" sz="1200" spc="-1" strike="noStrike">
              <a:solidFill>
                <a:srgbClr val="000066"/>
              </a:solidFill>
              <a:latin typeface="Times New Roman"/>
            </a:endParaRPr>
          </a:p>
        </p:txBody>
      </p:sp>
      <p:sp>
        <p:nvSpPr>
          <p:cNvPr id="171" name=""/>
          <p:cNvSpPr/>
          <p:nvPr/>
        </p:nvSpPr>
        <p:spPr>
          <a:xfrm>
            <a:off x="3809880" y="45180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0" lang="en-US" sz="1200" spc="-1" strike="noStrike">
              <a:solidFill>
                <a:srgbClr val="000066"/>
              </a:solidFill>
              <a:latin typeface="Times New Roman"/>
            </a:endParaRPr>
          </a:p>
        </p:txBody>
      </p:sp>
      <p:sp>
        <p:nvSpPr>
          <p:cNvPr id="172" name=""/>
          <p:cNvSpPr/>
          <p:nvPr/>
        </p:nvSpPr>
        <p:spPr>
          <a:xfrm>
            <a:off x="1447920" y="3508560"/>
            <a:ext cx="1904760" cy="973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基于校园金融服务平台为核心的网络</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从数字化校园服务、一卡通系统建设和管理，以及整个系统的安全等多个角度讨论了构建一卡通信息管理的解决方案</a:t>
            </a:r>
            <a:endParaRPr b="0" lang="en-US" sz="1600" spc="-1" strike="noStrike">
              <a:solidFill>
                <a:srgbClr val="000066"/>
              </a:solidFill>
              <a:latin typeface="Times New Roman"/>
            </a:endParaRPr>
          </a:p>
        </p:txBody>
      </p:sp>
      <p:sp>
        <p:nvSpPr>
          <p:cNvPr id="173" name=""/>
          <p:cNvSpPr/>
          <p:nvPr/>
        </p:nvSpPr>
        <p:spPr>
          <a:xfrm>
            <a:off x="3276720" y="1568880"/>
            <a:ext cx="1904760" cy="973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不仅从业务角度提出了一系列管理策略</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也从技术角度阐述了系统的构架和实现</a:t>
            </a:r>
            <a:endParaRPr b="0" lang="en-US" sz="1600" spc="-1" strike="noStrike">
              <a:solidFill>
                <a:srgbClr val="000066"/>
              </a:solidFill>
              <a:latin typeface="Times New Roman"/>
            </a:endParaRPr>
          </a:p>
        </p:txBody>
      </p:sp>
      <p:sp>
        <p:nvSpPr>
          <p:cNvPr id="174" name=""/>
          <p:cNvSpPr/>
          <p:nvPr/>
        </p:nvSpPr>
        <p:spPr>
          <a:xfrm>
            <a:off x="5791320" y="2837160"/>
            <a:ext cx="1904760" cy="973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rPr>
              <a:t>· </a:t>
            </a:r>
            <a:r>
              <a:rPr b="1" lang="zh-CN" sz="1600" spc="-1" strike="noStrike">
                <a:solidFill>
                  <a:srgbClr val="000099"/>
                </a:solidFill>
                <a:latin typeface="宋体"/>
              </a:rPr>
              <a:t>详细讨论了整个系统的安全防范措施</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宋体"/>
              </a:rPr>
              <a:t>· </a:t>
            </a:r>
            <a:r>
              <a:rPr b="1" lang="zh-CN" sz="1600" spc="-1" strike="noStrike">
                <a:solidFill>
                  <a:srgbClr val="000099"/>
                </a:solidFill>
                <a:latin typeface="宋体"/>
              </a:rPr>
              <a:t>还对将来数字化校园进一步可以实现的前景进行了规划</a:t>
            </a:r>
            <a:endParaRPr b="0" lang="en-US" sz="1600" spc="-1" strike="noStrike">
              <a:solidFill>
                <a:srgbClr val="000066"/>
              </a:solidFill>
              <a:latin typeface="Times New Roman"/>
            </a:endParaRPr>
          </a:p>
        </p:txBody>
      </p:sp>
      <p:sp>
        <p:nvSpPr>
          <p:cNvPr id="175" name=""/>
          <p:cNvSpPr/>
          <p:nvPr/>
        </p:nvSpPr>
        <p:spPr>
          <a:xfrm>
            <a:off x="3886200" y="5198760"/>
            <a:ext cx="2362320" cy="7304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不仅适用于数字校园环境下的一卡通系统的建设</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也为类似系统提出了一套构建策略</a:t>
            </a:r>
            <a:endParaRPr b="0" lang="en-US" sz="1600" spc="-1" strike="noStrike">
              <a:solidFill>
                <a:srgbClr val="000066"/>
              </a:solidFill>
              <a:latin typeface="Times New Roman"/>
            </a:endParaRPr>
          </a:p>
        </p:txBody>
      </p:sp>
      <p:sp>
        <p:nvSpPr>
          <p:cNvPr id="176" name=""/>
          <p:cNvSpPr/>
          <p:nvPr/>
        </p:nvSpPr>
        <p:spPr>
          <a:xfrm rot="9198000">
            <a:off x="4003200" y="3168360"/>
            <a:ext cx="1168560" cy="1174680"/>
          </a:xfrm>
          <a:prstGeom prst="rect">
            <a:avLst/>
          </a:prstGeom>
          <a:solidFill>
            <a:srgbClr val="779dd5"/>
          </a:solidFill>
          <a:ln w="6480">
            <a:solidFill>
              <a:srgbClr val="87bed9"/>
            </a:solidFill>
            <a:miter/>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77" name=""/>
          <p:cNvSpPr/>
          <p:nvPr/>
        </p:nvSpPr>
        <p:spPr>
          <a:xfrm rot="9198000">
            <a:off x="4865040" y="4241880"/>
            <a:ext cx="1368360" cy="2387520"/>
          </a:xfrm>
          <a:custGeom>
            <a:avLst/>
            <a:gdLst/>
            <a:ahLst/>
            <a:rect l="l" t="t" r="r" b="b"/>
            <a:pathLst>
              <a:path w="820" h="819">
                <a:moveTo>
                  <a:pt x="0" y="0"/>
                </a:moveTo>
                <a:lnTo>
                  <a:pt x="0" y="819"/>
                </a:lnTo>
                <a:lnTo>
                  <a:pt x="820" y="819"/>
                </a:lnTo>
              </a:path>
            </a:pathLst>
          </a:custGeom>
          <a:noFill/>
          <a:ln w="22320">
            <a:solidFill>
              <a:srgbClr val="779dd5"/>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78" name=""/>
          <p:cNvSpPr/>
          <p:nvPr/>
        </p:nvSpPr>
        <p:spPr>
          <a:xfrm rot="14598000">
            <a:off x="2020680" y="3368160"/>
            <a:ext cx="1295640" cy="2867040"/>
          </a:xfrm>
          <a:custGeom>
            <a:avLst/>
            <a:gdLst/>
            <a:ahLst/>
            <a:rect l="l" t="t" r="r" b="b"/>
            <a:pathLst>
              <a:path w="820" h="819">
                <a:moveTo>
                  <a:pt x="0" y="0"/>
                </a:moveTo>
                <a:lnTo>
                  <a:pt x="0" y="819"/>
                </a:lnTo>
                <a:lnTo>
                  <a:pt x="820" y="819"/>
                </a:lnTo>
              </a:path>
            </a:pathLst>
          </a:custGeom>
          <a:noFill/>
          <a:ln w="22320">
            <a:solidFill>
              <a:srgbClr val="779dd5"/>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79" name=""/>
          <p:cNvSpPr/>
          <p:nvPr/>
        </p:nvSpPr>
        <p:spPr>
          <a:xfrm flipH="1" rot="3798600">
            <a:off x="2499120" y="1407600"/>
            <a:ext cx="2328840" cy="1344600"/>
          </a:xfrm>
          <a:custGeom>
            <a:avLst/>
            <a:gdLst/>
            <a:ahLst/>
            <a:rect l="l" t="t" r="r" b="b"/>
            <a:pathLst>
              <a:path w="820" h="819">
                <a:moveTo>
                  <a:pt x="0" y="0"/>
                </a:moveTo>
                <a:lnTo>
                  <a:pt x="0" y="819"/>
                </a:lnTo>
                <a:lnTo>
                  <a:pt x="820" y="819"/>
                </a:lnTo>
              </a:path>
            </a:pathLst>
          </a:custGeom>
          <a:noFill/>
          <a:ln w="22320">
            <a:solidFill>
              <a:srgbClr val="779dd5"/>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80" name=""/>
          <p:cNvSpPr/>
          <p:nvPr/>
        </p:nvSpPr>
        <p:spPr>
          <a:xfrm flipH="1" flipV="1" rot="14598000">
            <a:off x="5747760" y="1481760"/>
            <a:ext cx="1331640" cy="2592360"/>
          </a:xfrm>
          <a:custGeom>
            <a:avLst/>
            <a:gdLst/>
            <a:ahLst/>
            <a:rect l="l" t="t" r="r" b="b"/>
            <a:pathLst>
              <a:path w="820" h="819">
                <a:moveTo>
                  <a:pt x="0" y="0"/>
                </a:moveTo>
                <a:lnTo>
                  <a:pt x="0" y="819"/>
                </a:lnTo>
                <a:lnTo>
                  <a:pt x="820" y="819"/>
                </a:lnTo>
              </a:path>
            </a:pathLst>
          </a:custGeom>
          <a:noFill/>
          <a:ln w="22320">
            <a:solidFill>
              <a:srgbClr val="779dd5"/>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181" name=""/>
          <p:cNvSpPr/>
          <p:nvPr/>
        </p:nvSpPr>
        <p:spPr>
          <a:xfrm>
            <a:off x="4114800" y="3609720"/>
            <a:ext cx="990720" cy="25596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校园一卡通系统的现代化管理策略</a:t>
            </a:r>
            <a:endParaRPr b="0" lang="en-US" sz="1400" spc="-1" strike="noStrike">
              <a:solidFill>
                <a:srgbClr val="000066"/>
              </a:solidFill>
              <a:latin typeface="Times New Roman"/>
            </a:endParaRPr>
          </a:p>
        </p:txBody>
      </p:sp>
      <p:sp>
        <p:nvSpPr>
          <p:cNvPr id="182"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3" name=""/>
          <p:cNvSpPr/>
          <p:nvPr/>
        </p:nvSpPr>
        <p:spPr>
          <a:xfrm flipV="1">
            <a:off x="1905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 name=""/>
          <p:cNvSpPr/>
          <p:nvPr/>
        </p:nvSpPr>
        <p:spPr>
          <a:xfrm flipV="1">
            <a:off x="2000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 name=""/>
          <p:cNvSpPr/>
          <p:nvPr/>
        </p:nvSpPr>
        <p:spPr>
          <a:xfrm flipV="1">
            <a:off x="2095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 name=""/>
          <p:cNvSpPr/>
          <p:nvPr/>
        </p:nvSpPr>
        <p:spPr>
          <a:xfrm flipV="1">
            <a:off x="2190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7"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8"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7"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2"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3"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4"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5"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9"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0"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1"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2"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一卡通软件系统架构</a:t>
            </a:r>
            <a:endParaRPr b="0" lang="en-US" sz="4800" spc="-1" strike="noStrike">
              <a:solidFill>
                <a:srgbClr val="000099"/>
              </a:solidFill>
              <a:latin typeface="Times New Roman"/>
            </a:endParaRPr>
          </a:p>
        </p:txBody>
      </p:sp>
      <p:sp>
        <p:nvSpPr>
          <p:cNvPr id="150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507" name=""/>
          <p:cNvSpPr/>
          <p:nvPr/>
        </p:nvSpPr>
        <p:spPr>
          <a:xfrm>
            <a:off x="8055000" y="2057400"/>
            <a:ext cx="403200" cy="3895560"/>
          </a:xfrm>
          <a:prstGeom prst="rect">
            <a:avLst/>
          </a:prstGeom>
          <a:solidFill>
            <a:srgbClr val="ffe1e1"/>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08" name=""/>
          <p:cNvSpPr/>
          <p:nvPr/>
        </p:nvSpPr>
        <p:spPr>
          <a:xfrm>
            <a:off x="8085960" y="2927520"/>
            <a:ext cx="362880" cy="2027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安 全 管 理</a:t>
            </a:r>
            <a:endParaRPr b="0" lang="en-US" sz="1200" spc="-1" strike="noStrike">
              <a:solidFill>
                <a:srgbClr val="000066"/>
              </a:solidFill>
              <a:latin typeface="Times New Roman"/>
            </a:endParaRPr>
          </a:p>
        </p:txBody>
      </p:sp>
      <p:sp>
        <p:nvSpPr>
          <p:cNvPr id="1509" name=""/>
          <p:cNvSpPr/>
          <p:nvPr/>
        </p:nvSpPr>
        <p:spPr>
          <a:xfrm>
            <a:off x="762120" y="546408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762120" y="26989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1" name=""/>
          <p:cNvSpPr/>
          <p:nvPr/>
        </p:nvSpPr>
        <p:spPr>
          <a:xfrm>
            <a:off x="762120" y="2052720"/>
            <a:ext cx="7300800" cy="0"/>
          </a:xfrm>
          <a:prstGeom prst="line">
            <a:avLst/>
          </a:prstGeom>
          <a:ln cap="rnd" w="38160">
            <a:solidFill>
              <a:srgbClr val="381ef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a:off x="1092240" y="5757840"/>
            <a:ext cx="6908760" cy="192240"/>
          </a:xfrm>
          <a:prstGeom prst="rect">
            <a:avLst/>
          </a:prstGeom>
          <a:gradFill rotWithShape="0">
            <a:gsLst>
              <a:gs pos="0">
                <a:srgbClr val="cdc7e9"/>
              </a:gs>
              <a:gs pos="50000">
                <a:srgbClr val="ebf3ff"/>
              </a:gs>
              <a:gs pos="100000">
                <a:srgbClr val="cdc7e9"/>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3" name=""/>
          <p:cNvSpPr/>
          <p:nvPr/>
        </p:nvSpPr>
        <p:spPr>
          <a:xfrm>
            <a:off x="2971800" y="5735520"/>
            <a:ext cx="3117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 卡 通 公 共 信 息 库</a:t>
            </a:r>
            <a:endParaRPr b="0" lang="en-US" sz="1200" spc="-1" strike="noStrike">
              <a:solidFill>
                <a:srgbClr val="000066"/>
              </a:solidFill>
              <a:latin typeface="Times New Roman"/>
            </a:endParaRPr>
          </a:p>
        </p:txBody>
      </p:sp>
      <p:sp>
        <p:nvSpPr>
          <p:cNvPr id="1514" name=""/>
          <p:cNvSpPr/>
          <p:nvPr/>
        </p:nvSpPr>
        <p:spPr>
          <a:xfrm>
            <a:off x="4619520" y="5519880"/>
            <a:ext cx="3381480" cy="203040"/>
          </a:xfrm>
          <a:prstGeom prst="rect">
            <a:avLst/>
          </a:prstGeom>
          <a:gradFill rotWithShape="0">
            <a:gsLst>
              <a:gs pos="0">
                <a:srgbClr val="ffcdcd"/>
              </a:gs>
              <a:gs pos="50000">
                <a:srgbClr val="ffffff"/>
              </a:gs>
              <a:gs pos="100000">
                <a:srgbClr val="ffcdcd"/>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5" name=""/>
          <p:cNvSpPr/>
          <p:nvPr/>
        </p:nvSpPr>
        <p:spPr>
          <a:xfrm>
            <a:off x="5181480" y="5483160"/>
            <a:ext cx="2417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认证相关信息</a:t>
            </a:r>
            <a:endParaRPr b="0" lang="en-US" sz="1200" spc="-1" strike="noStrike">
              <a:solidFill>
                <a:srgbClr val="000066"/>
              </a:solidFill>
              <a:latin typeface="Times New Roman"/>
            </a:endParaRPr>
          </a:p>
        </p:txBody>
      </p:sp>
      <p:sp>
        <p:nvSpPr>
          <p:cNvPr id="1516" name=""/>
          <p:cNvSpPr/>
          <p:nvPr/>
        </p:nvSpPr>
        <p:spPr>
          <a:xfrm>
            <a:off x="1092240" y="5519880"/>
            <a:ext cx="3449520" cy="203040"/>
          </a:xfrm>
          <a:prstGeom prst="rect">
            <a:avLst/>
          </a:prstGeom>
          <a:gradFill rotWithShape="0">
            <a:gsLst>
              <a:gs pos="0">
                <a:srgbClr val="ffe0c1"/>
              </a:gs>
              <a:gs pos="50000">
                <a:srgbClr val="ffffff"/>
              </a:gs>
              <a:gs pos="100000">
                <a:srgbClr val="ffe0c1"/>
              </a:gs>
            </a:gsLst>
            <a:lin ang="13500000"/>
          </a:gra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7" name=""/>
          <p:cNvSpPr/>
          <p:nvPr/>
        </p:nvSpPr>
        <p:spPr>
          <a:xfrm>
            <a:off x="1676520" y="5495760"/>
            <a:ext cx="2233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一卡通金融相关信息</a:t>
            </a:r>
            <a:endParaRPr b="0" lang="en-US" sz="1200" spc="-1" strike="noStrike">
              <a:solidFill>
                <a:srgbClr val="000066"/>
              </a:solidFill>
              <a:latin typeface="Times New Roman"/>
            </a:endParaRPr>
          </a:p>
        </p:txBody>
      </p:sp>
      <p:sp>
        <p:nvSpPr>
          <p:cNvPr id="1518" name=""/>
          <p:cNvSpPr/>
          <p:nvPr/>
        </p:nvSpPr>
        <p:spPr>
          <a:xfrm>
            <a:off x="1092240" y="3281400"/>
            <a:ext cx="6910200" cy="2097000"/>
          </a:xfrm>
          <a:prstGeom prst="rect">
            <a:avLst/>
          </a:prstGeom>
          <a:solidFill>
            <a:srgbClr val="f4fbb1"/>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9" name=""/>
          <p:cNvSpPr/>
          <p:nvPr/>
        </p:nvSpPr>
        <p:spPr>
          <a:xfrm>
            <a:off x="619200" y="531324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存储层</a:t>
            </a:r>
            <a:endParaRPr b="0" lang="en-US" sz="1400" spc="-1" strike="noStrike">
              <a:solidFill>
                <a:srgbClr val="000066"/>
              </a:solidFill>
              <a:latin typeface="Times New Roman"/>
            </a:endParaRPr>
          </a:p>
        </p:txBody>
      </p:sp>
      <p:sp>
        <p:nvSpPr>
          <p:cNvPr id="1520" name=""/>
          <p:cNvSpPr/>
          <p:nvPr/>
        </p:nvSpPr>
        <p:spPr>
          <a:xfrm>
            <a:off x="1154160" y="3328920"/>
            <a:ext cx="3381480" cy="200016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21" name=""/>
          <p:cNvSpPr/>
          <p:nvPr/>
        </p:nvSpPr>
        <p:spPr>
          <a:xfrm>
            <a:off x="4575240" y="3328920"/>
            <a:ext cx="3359160" cy="2003400"/>
          </a:xfrm>
          <a:prstGeom prst="rect">
            <a:avLst/>
          </a:prstGeom>
          <a:solidFill>
            <a:srgbClr val="ffffe7"/>
          </a:solidFill>
          <a:ln w="9360">
            <a:solidFill>
              <a:srgbClr val="3193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22" name=""/>
          <p:cNvSpPr/>
          <p:nvPr/>
        </p:nvSpPr>
        <p:spPr>
          <a:xfrm>
            <a:off x="4659480" y="3562200"/>
            <a:ext cx="89028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3" name=""/>
          <p:cNvSpPr/>
          <p:nvPr/>
        </p:nvSpPr>
        <p:spPr>
          <a:xfrm>
            <a:off x="446400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OS</a:t>
            </a:r>
            <a:r>
              <a:rPr b="0" lang="zh-CN" sz="1200" spc="-1" strike="noStrike">
                <a:solidFill>
                  <a:srgbClr val="000066"/>
                </a:solidFill>
                <a:latin typeface="Times New Roman"/>
              </a:rPr>
              <a:t>消费</a:t>
            </a:r>
            <a:endParaRPr b="0" lang="en-US" sz="1200" spc="-1" strike="noStrike">
              <a:solidFill>
                <a:srgbClr val="000066"/>
              </a:solidFill>
              <a:latin typeface="Times New Roman"/>
            </a:endParaRPr>
          </a:p>
        </p:txBody>
      </p:sp>
      <p:sp>
        <p:nvSpPr>
          <p:cNvPr id="1524" name=""/>
          <p:cNvSpPr/>
          <p:nvPr/>
        </p:nvSpPr>
        <p:spPr>
          <a:xfrm>
            <a:off x="5545080" y="3562200"/>
            <a:ext cx="89064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5" name=""/>
          <p:cNvSpPr/>
          <p:nvPr/>
        </p:nvSpPr>
        <p:spPr>
          <a:xfrm>
            <a:off x="5349960" y="35654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机务管理</a:t>
            </a:r>
            <a:endParaRPr b="0" lang="en-US" sz="1200" spc="-1" strike="noStrike">
              <a:solidFill>
                <a:srgbClr val="000066"/>
              </a:solidFill>
              <a:latin typeface="Times New Roman"/>
            </a:endParaRPr>
          </a:p>
        </p:txBody>
      </p:sp>
      <p:sp>
        <p:nvSpPr>
          <p:cNvPr id="1526" name=""/>
          <p:cNvSpPr/>
          <p:nvPr/>
        </p:nvSpPr>
        <p:spPr>
          <a:xfrm>
            <a:off x="6426360" y="3562200"/>
            <a:ext cx="1460520" cy="2667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7" name=""/>
          <p:cNvSpPr/>
          <p:nvPr/>
        </p:nvSpPr>
        <p:spPr>
          <a:xfrm>
            <a:off x="6505560" y="3562200"/>
            <a:ext cx="129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多媒体教室管理</a:t>
            </a:r>
            <a:endParaRPr b="0" lang="en-US" sz="1200" spc="-1" strike="noStrike">
              <a:solidFill>
                <a:srgbClr val="000066"/>
              </a:solidFill>
              <a:latin typeface="Times New Roman"/>
            </a:endParaRPr>
          </a:p>
        </p:txBody>
      </p:sp>
      <p:sp>
        <p:nvSpPr>
          <p:cNvPr id="1528" name=""/>
          <p:cNvSpPr/>
          <p:nvPr/>
        </p:nvSpPr>
        <p:spPr>
          <a:xfrm>
            <a:off x="4632480" y="417348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9" name=""/>
          <p:cNvSpPr/>
          <p:nvPr/>
        </p:nvSpPr>
        <p:spPr>
          <a:xfrm>
            <a:off x="4437000" y="416412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浴室管理</a:t>
            </a:r>
            <a:endParaRPr b="0" lang="en-US" sz="1200" spc="-1" strike="noStrike">
              <a:solidFill>
                <a:srgbClr val="000066"/>
              </a:solidFill>
              <a:latin typeface="Times New Roman"/>
            </a:endParaRPr>
          </a:p>
        </p:txBody>
      </p:sp>
      <p:sp>
        <p:nvSpPr>
          <p:cNvPr id="1530" name=""/>
          <p:cNvSpPr/>
          <p:nvPr/>
        </p:nvSpPr>
        <p:spPr>
          <a:xfrm>
            <a:off x="5514840" y="417348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1" name=""/>
          <p:cNvSpPr/>
          <p:nvPr/>
        </p:nvSpPr>
        <p:spPr>
          <a:xfrm>
            <a:off x="5349960" y="416412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声像视听室管理</a:t>
            </a:r>
            <a:endParaRPr b="0" lang="en-US" sz="1200" spc="-1" strike="noStrike">
              <a:solidFill>
                <a:srgbClr val="000066"/>
              </a:solidFill>
              <a:latin typeface="Times New Roman"/>
            </a:endParaRPr>
          </a:p>
        </p:txBody>
      </p:sp>
      <p:sp>
        <p:nvSpPr>
          <p:cNvPr id="1532" name=""/>
          <p:cNvSpPr/>
          <p:nvPr/>
        </p:nvSpPr>
        <p:spPr>
          <a:xfrm>
            <a:off x="4632480" y="4464000"/>
            <a:ext cx="89028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3" name=""/>
          <p:cNvSpPr/>
          <p:nvPr/>
        </p:nvSpPr>
        <p:spPr>
          <a:xfrm>
            <a:off x="4437000" y="4454640"/>
            <a:ext cx="122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室管理</a:t>
            </a:r>
            <a:endParaRPr b="0" lang="en-US" sz="1200" spc="-1" strike="noStrike">
              <a:solidFill>
                <a:srgbClr val="000066"/>
              </a:solidFill>
              <a:latin typeface="Times New Roman"/>
            </a:endParaRPr>
          </a:p>
        </p:txBody>
      </p:sp>
      <p:sp>
        <p:nvSpPr>
          <p:cNvPr id="1534" name=""/>
          <p:cNvSpPr/>
          <p:nvPr/>
        </p:nvSpPr>
        <p:spPr>
          <a:xfrm>
            <a:off x="5514840" y="4464000"/>
            <a:ext cx="1462320" cy="26208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5" name=""/>
          <p:cNvSpPr/>
          <p:nvPr/>
        </p:nvSpPr>
        <p:spPr>
          <a:xfrm>
            <a:off x="5349960" y="44546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体育活动房管理</a:t>
            </a:r>
            <a:endParaRPr b="0" lang="en-US" sz="1200" spc="-1" strike="noStrike">
              <a:solidFill>
                <a:srgbClr val="000066"/>
              </a:solidFill>
              <a:latin typeface="Times New Roman"/>
            </a:endParaRPr>
          </a:p>
        </p:txBody>
      </p:sp>
      <p:sp>
        <p:nvSpPr>
          <p:cNvPr id="1536" name=""/>
          <p:cNvSpPr/>
          <p:nvPr/>
        </p:nvSpPr>
        <p:spPr>
          <a:xfrm>
            <a:off x="4772160" y="3863880"/>
            <a:ext cx="146052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7" name=""/>
          <p:cNvSpPr/>
          <p:nvPr/>
        </p:nvSpPr>
        <p:spPr>
          <a:xfrm>
            <a:off x="4606920" y="386388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阅览室管理</a:t>
            </a:r>
            <a:endParaRPr b="0" lang="en-US" sz="1200" spc="-1" strike="noStrike">
              <a:solidFill>
                <a:srgbClr val="000066"/>
              </a:solidFill>
              <a:latin typeface="Times New Roman"/>
            </a:endParaRPr>
          </a:p>
        </p:txBody>
      </p:sp>
      <p:sp>
        <p:nvSpPr>
          <p:cNvPr id="1538" name=""/>
          <p:cNvSpPr/>
          <p:nvPr/>
        </p:nvSpPr>
        <p:spPr>
          <a:xfrm>
            <a:off x="6321600" y="3863880"/>
            <a:ext cx="1461960" cy="2714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39" name=""/>
          <p:cNvSpPr/>
          <p:nvPr/>
        </p:nvSpPr>
        <p:spPr>
          <a:xfrm>
            <a:off x="6300720" y="3863880"/>
            <a:ext cx="1476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大门门禁管理</a:t>
            </a:r>
            <a:endParaRPr b="0" lang="en-US" sz="1200" spc="-1" strike="noStrike">
              <a:solidFill>
                <a:srgbClr val="000066"/>
              </a:solidFill>
              <a:latin typeface="Times New Roman"/>
            </a:endParaRPr>
          </a:p>
        </p:txBody>
      </p:sp>
      <p:sp>
        <p:nvSpPr>
          <p:cNvPr id="1540" name=""/>
          <p:cNvSpPr/>
          <p:nvPr/>
        </p:nvSpPr>
        <p:spPr>
          <a:xfrm>
            <a:off x="4710240" y="4765680"/>
            <a:ext cx="1460520" cy="2509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1" name=""/>
          <p:cNvSpPr/>
          <p:nvPr/>
        </p:nvSpPr>
        <p:spPr>
          <a:xfrm>
            <a:off x="4545000" y="473724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会议签到管理</a:t>
            </a:r>
            <a:endParaRPr b="0" lang="en-US" sz="1200" spc="-1" strike="noStrike">
              <a:solidFill>
                <a:srgbClr val="000066"/>
              </a:solidFill>
              <a:latin typeface="Times New Roman"/>
            </a:endParaRPr>
          </a:p>
        </p:txBody>
      </p:sp>
      <p:sp>
        <p:nvSpPr>
          <p:cNvPr id="1542" name=""/>
          <p:cNvSpPr/>
          <p:nvPr/>
        </p:nvSpPr>
        <p:spPr>
          <a:xfrm>
            <a:off x="4710240" y="5046840"/>
            <a:ext cx="146052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3" name=""/>
          <p:cNvSpPr/>
          <p:nvPr/>
        </p:nvSpPr>
        <p:spPr>
          <a:xfrm>
            <a:off x="4545000" y="5027760"/>
            <a:ext cx="1812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电子看存柜管理</a:t>
            </a:r>
            <a:endParaRPr b="0" lang="en-US" sz="1200" spc="-1" strike="noStrike">
              <a:solidFill>
                <a:srgbClr val="000066"/>
              </a:solidFill>
              <a:latin typeface="Times New Roman"/>
            </a:endParaRPr>
          </a:p>
        </p:txBody>
      </p:sp>
      <p:sp>
        <p:nvSpPr>
          <p:cNvPr id="1544" name=""/>
          <p:cNvSpPr/>
          <p:nvPr/>
        </p:nvSpPr>
        <p:spPr>
          <a:xfrm>
            <a:off x="6321600" y="5046840"/>
            <a:ext cx="1461960" cy="25704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5" name=""/>
          <p:cNvSpPr/>
          <p:nvPr/>
        </p:nvSpPr>
        <p:spPr>
          <a:xfrm>
            <a:off x="6156360" y="4989600"/>
            <a:ext cx="1814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546" name=""/>
          <p:cNvSpPr/>
          <p:nvPr/>
        </p:nvSpPr>
        <p:spPr>
          <a:xfrm>
            <a:off x="6321600" y="4765680"/>
            <a:ext cx="1461960" cy="24912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7" name=""/>
          <p:cNvSpPr/>
          <p:nvPr/>
        </p:nvSpPr>
        <p:spPr>
          <a:xfrm>
            <a:off x="6156360" y="4737240"/>
            <a:ext cx="181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医疗收费管理</a:t>
            </a:r>
            <a:endParaRPr b="0" lang="en-US" sz="1200" spc="-1" strike="noStrike">
              <a:solidFill>
                <a:srgbClr val="000066"/>
              </a:solidFill>
              <a:latin typeface="Times New Roman"/>
            </a:endParaRPr>
          </a:p>
        </p:txBody>
      </p:sp>
      <p:sp>
        <p:nvSpPr>
          <p:cNvPr id="1548" name=""/>
          <p:cNvSpPr/>
          <p:nvPr/>
        </p:nvSpPr>
        <p:spPr>
          <a:xfrm>
            <a:off x="7027920" y="4173480"/>
            <a:ext cx="855720" cy="54936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
          <p:cNvSpPr/>
          <p:nvPr/>
        </p:nvSpPr>
        <p:spPr>
          <a:xfrm>
            <a:off x="6824520" y="4125960"/>
            <a:ext cx="1258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宾馆宿舍</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办公室</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门禁管理</a:t>
            </a:r>
            <a:endParaRPr b="0" lang="en-US" sz="1200" spc="-1" strike="noStrike">
              <a:solidFill>
                <a:srgbClr val="000066"/>
              </a:solidFill>
              <a:latin typeface="Times New Roman"/>
            </a:endParaRPr>
          </a:p>
        </p:txBody>
      </p:sp>
      <p:sp>
        <p:nvSpPr>
          <p:cNvPr id="1550" name=""/>
          <p:cNvSpPr/>
          <p:nvPr/>
        </p:nvSpPr>
        <p:spPr>
          <a:xfrm>
            <a:off x="6400800" y="2743200"/>
            <a:ext cx="1600200" cy="477720"/>
          </a:xfrm>
          <a:prstGeom prst="rect">
            <a:avLst/>
          </a:prstGeom>
          <a:gradFill rotWithShape="0">
            <a:gsLst>
              <a:gs pos="0">
                <a:srgbClr val="8bc5ff"/>
              </a:gs>
              <a:gs pos="50000">
                <a:srgbClr val="ffffff"/>
              </a:gs>
              <a:gs pos="100000">
                <a:srgbClr val="8bc5ff"/>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1" name=""/>
          <p:cNvSpPr/>
          <p:nvPr/>
        </p:nvSpPr>
        <p:spPr>
          <a:xfrm>
            <a:off x="6553080" y="27478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管理维护</a:t>
            </a:r>
            <a:endParaRPr b="0" lang="en-US" sz="1200" spc="-1" strike="noStrike">
              <a:solidFill>
                <a:srgbClr val="000066"/>
              </a:solidFill>
              <a:latin typeface="Times New Roman"/>
            </a:endParaRPr>
          </a:p>
        </p:txBody>
      </p:sp>
      <p:sp>
        <p:nvSpPr>
          <p:cNvPr id="1552" name=""/>
          <p:cNvSpPr/>
          <p:nvPr/>
        </p:nvSpPr>
        <p:spPr>
          <a:xfrm>
            <a:off x="1066680" y="2736720"/>
            <a:ext cx="5241960" cy="219240"/>
          </a:xfrm>
          <a:prstGeom prst="rect">
            <a:avLst/>
          </a:prstGeom>
          <a:gradFill rotWithShape="0">
            <a:gsLst>
              <a:gs pos="0">
                <a:srgbClr val="ddcff9"/>
              </a:gs>
              <a:gs pos="50000">
                <a:srgbClr val="ffffff"/>
              </a:gs>
              <a:gs pos="100000">
                <a:srgbClr val="ddcff9"/>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3" name=""/>
          <p:cNvSpPr/>
          <p:nvPr/>
        </p:nvSpPr>
        <p:spPr>
          <a:xfrm>
            <a:off x="1066680" y="2984400"/>
            <a:ext cx="5241960" cy="238320"/>
          </a:xfrm>
          <a:prstGeom prst="rect">
            <a:avLst/>
          </a:prstGeom>
          <a:gradFill rotWithShape="0">
            <a:gsLst>
              <a:gs pos="0">
                <a:srgbClr val="fcd896"/>
              </a:gs>
              <a:gs pos="50000">
                <a:srgbClr val="ffffff"/>
              </a:gs>
              <a:gs pos="100000">
                <a:srgbClr val="fcd896"/>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4" name=""/>
          <p:cNvSpPr/>
          <p:nvPr/>
        </p:nvSpPr>
        <p:spPr>
          <a:xfrm>
            <a:off x="601920" y="41511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逻辑层</a:t>
            </a:r>
            <a:endParaRPr b="0" lang="en-US" sz="1400" spc="-1" strike="noStrike">
              <a:solidFill>
                <a:srgbClr val="000066"/>
              </a:solidFill>
              <a:latin typeface="Times New Roman"/>
            </a:endParaRPr>
          </a:p>
        </p:txBody>
      </p:sp>
      <p:sp>
        <p:nvSpPr>
          <p:cNvPr id="1555" name=""/>
          <p:cNvSpPr/>
          <p:nvPr/>
        </p:nvSpPr>
        <p:spPr>
          <a:xfrm>
            <a:off x="6553080" y="2185920"/>
            <a:ext cx="1443240" cy="480960"/>
          </a:xfrm>
          <a:prstGeom prst="rect">
            <a:avLst/>
          </a:prstGeom>
          <a:gradFill rotWithShape="0">
            <a:gsLst>
              <a:gs pos="0">
                <a:srgbClr val="94d9e2"/>
              </a:gs>
              <a:gs pos="50000">
                <a:srgbClr val="ffffff"/>
              </a:gs>
              <a:gs pos="100000">
                <a:srgbClr val="94d9e2"/>
              </a:gs>
            </a:gsLst>
            <a:lin ang="54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6" name=""/>
          <p:cNvSpPr/>
          <p:nvPr/>
        </p:nvSpPr>
        <p:spPr>
          <a:xfrm>
            <a:off x="6576840" y="2316240"/>
            <a:ext cx="129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综合前置</a:t>
            </a:r>
            <a:endParaRPr b="0" lang="en-US" sz="1200" spc="-1" strike="noStrike">
              <a:solidFill>
                <a:srgbClr val="000066"/>
              </a:solidFill>
              <a:latin typeface="Times New Roman"/>
            </a:endParaRPr>
          </a:p>
        </p:txBody>
      </p:sp>
      <p:sp>
        <p:nvSpPr>
          <p:cNvPr id="1557" name=""/>
          <p:cNvSpPr/>
          <p:nvPr/>
        </p:nvSpPr>
        <p:spPr>
          <a:xfrm>
            <a:off x="1066680" y="2189160"/>
            <a:ext cx="5359680" cy="228600"/>
          </a:xfrm>
          <a:prstGeom prst="rect">
            <a:avLst/>
          </a:prstGeom>
          <a:gradFill rotWithShape="0">
            <a:gsLst>
              <a:gs pos="0">
                <a:srgbClr val="a7eeff"/>
              </a:gs>
              <a:gs pos="50000">
                <a:srgbClr val="ffffff"/>
              </a:gs>
              <a:gs pos="100000">
                <a:srgbClr val="a7eeff"/>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8" name=""/>
          <p:cNvSpPr/>
          <p:nvPr/>
        </p:nvSpPr>
        <p:spPr>
          <a:xfrm>
            <a:off x="1066680" y="2451240"/>
            <a:ext cx="5359680" cy="204480"/>
          </a:xfrm>
          <a:prstGeom prst="rect">
            <a:avLst/>
          </a:prstGeom>
          <a:gradFill rotWithShape="0">
            <a:gsLst>
              <a:gs pos="0">
                <a:srgbClr val="b8f8be"/>
              </a:gs>
              <a:gs pos="50000">
                <a:srgbClr val="ffffff"/>
              </a:gs>
              <a:gs pos="100000">
                <a:srgbClr val="b8f8be"/>
              </a:gs>
            </a:gsLst>
            <a:lin ang="13500000"/>
          </a:gra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9" name=""/>
          <p:cNvSpPr/>
          <p:nvPr/>
        </p:nvSpPr>
        <p:spPr>
          <a:xfrm>
            <a:off x="673200" y="1947960"/>
            <a:ext cx="393480" cy="860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表现层</a:t>
            </a:r>
            <a:endParaRPr b="0" lang="en-US" sz="1400" spc="-1" strike="noStrike">
              <a:solidFill>
                <a:srgbClr val="000066"/>
              </a:solidFill>
              <a:latin typeface="Times New Roman"/>
            </a:endParaRPr>
          </a:p>
        </p:txBody>
      </p:sp>
      <p:sp>
        <p:nvSpPr>
          <p:cNvPr id="1560" name=""/>
          <p:cNvSpPr/>
          <p:nvPr/>
        </p:nvSpPr>
        <p:spPr>
          <a:xfrm>
            <a:off x="6093000" y="1295280"/>
            <a:ext cx="1577880" cy="685800"/>
          </a:xfrm>
          <a:prstGeom prst="rect">
            <a:avLst/>
          </a:prstGeom>
          <a:gradFill rotWithShape="0">
            <a:gsLst>
              <a:gs pos="0">
                <a:srgbClr val="bff1f0"/>
              </a:gs>
              <a:gs pos="50000">
                <a:srgbClr val="ffffff"/>
              </a:gs>
              <a:gs pos="100000">
                <a:srgbClr val="bff1f0"/>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1" name=""/>
          <p:cNvSpPr/>
          <p:nvPr/>
        </p:nvSpPr>
        <p:spPr>
          <a:xfrm>
            <a:off x="6019920" y="1341360"/>
            <a:ext cx="17524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银行系统  财务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教务系统  图书系统</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a:t>
            </a:r>
            <a:endParaRPr b="0" lang="en-US" sz="1200" spc="-1" strike="noStrike">
              <a:solidFill>
                <a:srgbClr val="000066"/>
              </a:solidFill>
              <a:latin typeface="Times New Roman"/>
            </a:endParaRPr>
          </a:p>
        </p:txBody>
      </p:sp>
      <p:sp>
        <p:nvSpPr>
          <p:cNvPr id="1562" name=""/>
          <p:cNvSpPr/>
          <p:nvPr/>
        </p:nvSpPr>
        <p:spPr>
          <a:xfrm>
            <a:off x="673200" y="1295280"/>
            <a:ext cx="393480" cy="8589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66"/>
                </a:solidFill>
                <a:latin typeface="Times New Roman"/>
              </a:rPr>
              <a:t>用户层</a:t>
            </a:r>
            <a:endParaRPr b="0" lang="en-US" sz="1400" spc="-1" strike="noStrike">
              <a:solidFill>
                <a:srgbClr val="000066"/>
              </a:solidFill>
              <a:latin typeface="Times New Roman"/>
            </a:endParaRPr>
          </a:p>
        </p:txBody>
      </p:sp>
      <p:sp>
        <p:nvSpPr>
          <p:cNvPr id="1563" name=""/>
          <p:cNvSpPr/>
          <p:nvPr/>
        </p:nvSpPr>
        <p:spPr>
          <a:xfrm>
            <a:off x="27050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
          <p:cNvSpPr/>
          <p:nvPr/>
        </p:nvSpPr>
        <p:spPr>
          <a:xfrm>
            <a:off x="31082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351144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
          <p:cNvSpPr/>
          <p:nvPr/>
        </p:nvSpPr>
        <p:spPr>
          <a:xfrm>
            <a:off x="3914640" y="1595520"/>
            <a:ext cx="40176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43164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
          <p:cNvSpPr/>
          <p:nvPr/>
        </p:nvSpPr>
        <p:spPr>
          <a:xfrm>
            <a:off x="4719600" y="1595520"/>
            <a:ext cx="403200" cy="301680"/>
          </a:xfrm>
          <a:prstGeom prst="smileyFace">
            <a:avLst>
              <a:gd name="adj" fmla="val 9282"/>
            </a:avLst>
          </a:prstGeom>
          <a:solidFill>
            <a:srgbClr val="fefece"/>
          </a:soli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
          <p:cNvSpPr/>
          <p:nvPr/>
        </p:nvSpPr>
        <p:spPr>
          <a:xfrm>
            <a:off x="371304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
          <p:cNvSpPr/>
          <p:nvPr/>
        </p:nvSpPr>
        <p:spPr>
          <a:xfrm>
            <a:off x="7054920" y="1897200"/>
            <a:ext cx="403200" cy="29988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494240" y="2548080"/>
            <a:ext cx="401760" cy="301320"/>
          </a:xfrm>
          <a:prstGeom prst="upDownArrow">
            <a:avLst>
              <a:gd name="adj1" fmla="val 50000"/>
              <a:gd name="adj2" fmla="val 19870"/>
            </a:avLst>
          </a:prstGeom>
          <a:gradFill rotWithShape="0">
            <a:gsLst>
              <a:gs pos="0">
                <a:srgbClr val="85b1ff"/>
              </a:gs>
              <a:gs pos="50000">
                <a:srgbClr val="f6f9fe"/>
              </a:gs>
              <a:gs pos="100000">
                <a:srgbClr val="85b1ff"/>
              </a:gs>
            </a:gsLst>
            <a:lin ang="5400000"/>
          </a:gradFill>
          <a:ln w="9360">
            <a:solidFill>
              <a:srgbClr val="3193ed"/>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
          <p:cNvSpPr/>
          <p:nvPr/>
        </p:nvSpPr>
        <p:spPr>
          <a:xfrm>
            <a:off x="411624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3" name=""/>
          <p:cNvSpPr/>
          <p:nvPr/>
        </p:nvSpPr>
        <p:spPr>
          <a:xfrm>
            <a:off x="3980520" y="3809880"/>
            <a:ext cx="545400" cy="1371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综合查询统计分析</a:t>
            </a:r>
            <a:endParaRPr b="0" lang="en-US" sz="1200" spc="-1" strike="noStrike">
              <a:solidFill>
                <a:srgbClr val="000066"/>
              </a:solidFill>
              <a:latin typeface="Times New Roman"/>
            </a:endParaRPr>
          </a:p>
        </p:txBody>
      </p:sp>
      <p:sp>
        <p:nvSpPr>
          <p:cNvPr id="1574" name=""/>
          <p:cNvSpPr/>
          <p:nvPr/>
        </p:nvSpPr>
        <p:spPr>
          <a:xfrm>
            <a:off x="1295280" y="3630600"/>
            <a:ext cx="3240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5" name=""/>
          <p:cNvSpPr/>
          <p:nvPr/>
        </p:nvSpPr>
        <p:spPr>
          <a:xfrm>
            <a:off x="13420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身分认证</a:t>
            </a:r>
            <a:endParaRPr b="0" lang="en-US" sz="1200" spc="-1" strike="noStrike">
              <a:solidFill>
                <a:srgbClr val="000066"/>
              </a:solidFill>
              <a:latin typeface="Times New Roman"/>
            </a:endParaRPr>
          </a:p>
        </p:txBody>
      </p:sp>
      <p:sp>
        <p:nvSpPr>
          <p:cNvPr id="1576" name=""/>
          <p:cNvSpPr/>
          <p:nvPr/>
        </p:nvSpPr>
        <p:spPr>
          <a:xfrm>
            <a:off x="16984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7" name=""/>
          <p:cNvSpPr/>
          <p:nvPr/>
        </p:nvSpPr>
        <p:spPr>
          <a:xfrm>
            <a:off x="17438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权限管理</a:t>
            </a:r>
            <a:endParaRPr b="0" lang="en-US" sz="1200" spc="-1" strike="noStrike">
              <a:solidFill>
                <a:srgbClr val="000066"/>
              </a:solidFill>
              <a:latin typeface="Times New Roman"/>
            </a:endParaRPr>
          </a:p>
        </p:txBody>
      </p:sp>
      <p:sp>
        <p:nvSpPr>
          <p:cNvPr id="1578" name=""/>
          <p:cNvSpPr/>
          <p:nvPr/>
        </p:nvSpPr>
        <p:spPr>
          <a:xfrm>
            <a:off x="2101680" y="3630600"/>
            <a:ext cx="32256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214704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清算管理</a:t>
            </a:r>
            <a:endParaRPr b="0" lang="en-US" sz="1200" spc="-1" strike="noStrike">
              <a:solidFill>
                <a:srgbClr val="000066"/>
              </a:solidFill>
              <a:latin typeface="Times New Roman"/>
            </a:endParaRPr>
          </a:p>
        </p:txBody>
      </p:sp>
      <p:sp>
        <p:nvSpPr>
          <p:cNvPr id="1580" name=""/>
          <p:cNvSpPr/>
          <p:nvPr/>
        </p:nvSpPr>
        <p:spPr>
          <a:xfrm>
            <a:off x="2505240" y="3630600"/>
            <a:ext cx="32364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2551680" y="3848040"/>
            <a:ext cx="36288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卡务管理</a:t>
            </a:r>
            <a:endParaRPr b="0" lang="en-US" sz="1200" spc="-1" strike="noStrike">
              <a:solidFill>
                <a:srgbClr val="000066"/>
              </a:solidFill>
              <a:latin typeface="Times New Roman"/>
            </a:endParaRPr>
          </a:p>
        </p:txBody>
      </p:sp>
      <p:sp>
        <p:nvSpPr>
          <p:cNvPr id="1582" name=""/>
          <p:cNvSpPr/>
          <p:nvPr/>
        </p:nvSpPr>
        <p:spPr>
          <a:xfrm>
            <a:off x="29084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3" name=""/>
          <p:cNvSpPr/>
          <p:nvPr/>
        </p:nvSpPr>
        <p:spPr>
          <a:xfrm>
            <a:off x="27709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财务结算管理</a:t>
            </a:r>
            <a:endParaRPr b="0" lang="en-US" sz="1200" spc="-1" strike="noStrike">
              <a:solidFill>
                <a:srgbClr val="000066"/>
              </a:solidFill>
              <a:latin typeface="Times New Roman"/>
            </a:endParaRPr>
          </a:p>
        </p:txBody>
      </p:sp>
      <p:sp>
        <p:nvSpPr>
          <p:cNvPr id="1584" name=""/>
          <p:cNvSpPr/>
          <p:nvPr/>
        </p:nvSpPr>
        <p:spPr>
          <a:xfrm>
            <a:off x="33116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5" name=""/>
          <p:cNvSpPr/>
          <p:nvPr/>
        </p:nvSpPr>
        <p:spPr>
          <a:xfrm>
            <a:off x="31741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信息管理</a:t>
            </a:r>
            <a:endParaRPr b="0" lang="en-US" sz="1200" spc="-1" strike="noStrike">
              <a:solidFill>
                <a:srgbClr val="000066"/>
              </a:solidFill>
              <a:latin typeface="Times New Roman"/>
            </a:endParaRPr>
          </a:p>
        </p:txBody>
      </p:sp>
      <p:sp>
        <p:nvSpPr>
          <p:cNvPr id="1586" name=""/>
          <p:cNvSpPr/>
          <p:nvPr/>
        </p:nvSpPr>
        <p:spPr>
          <a:xfrm>
            <a:off x="3714840" y="3630600"/>
            <a:ext cx="322200" cy="1654200"/>
          </a:xfrm>
          <a:prstGeom prst="rect">
            <a:avLst/>
          </a:prstGeom>
          <a:gradFill rotWithShape="0">
            <a:gsLst>
              <a:gs pos="0">
                <a:srgbClr val="cdd9f7"/>
              </a:gs>
              <a:gs pos="50000">
                <a:srgbClr val="ffffff"/>
              </a:gs>
              <a:gs pos="100000">
                <a:srgbClr val="cdd9f7"/>
              </a:gs>
            </a:gsLst>
            <a:lin ang="5400000"/>
          </a:gradFill>
          <a:ln w="9360">
            <a:solidFill>
              <a:srgbClr val="85b1ff"/>
            </a:solidFill>
            <a:miter/>
          </a:ln>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7" name=""/>
          <p:cNvSpPr/>
          <p:nvPr/>
        </p:nvSpPr>
        <p:spPr>
          <a:xfrm>
            <a:off x="3577320" y="3848040"/>
            <a:ext cx="545400" cy="1258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单位信息管理</a:t>
            </a:r>
            <a:endParaRPr b="0" lang="en-US" sz="1200" spc="-1" strike="noStrike">
              <a:solidFill>
                <a:srgbClr val="000066"/>
              </a:solidFill>
              <a:latin typeface="Times New Roman"/>
            </a:endParaRPr>
          </a:p>
        </p:txBody>
      </p:sp>
      <p:sp>
        <p:nvSpPr>
          <p:cNvPr id="1588" name=""/>
          <p:cNvSpPr/>
          <p:nvPr/>
        </p:nvSpPr>
        <p:spPr>
          <a:xfrm>
            <a:off x="987480" y="3300480"/>
            <a:ext cx="121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公共组件</a:t>
            </a:r>
            <a:endParaRPr b="0" lang="en-US" sz="1200" spc="-1" strike="noStrike">
              <a:solidFill>
                <a:srgbClr val="000066"/>
              </a:solidFill>
              <a:latin typeface="Times New Roman"/>
            </a:endParaRPr>
          </a:p>
        </p:txBody>
      </p:sp>
      <p:sp>
        <p:nvSpPr>
          <p:cNvPr id="1589" name=""/>
          <p:cNvSpPr/>
          <p:nvPr/>
        </p:nvSpPr>
        <p:spPr>
          <a:xfrm>
            <a:off x="4498920" y="3300480"/>
            <a:ext cx="1208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66"/>
                </a:solidFill>
                <a:latin typeface="Times New Roman"/>
              </a:rPr>
              <a:t>专用组件</a:t>
            </a:r>
            <a:endParaRPr b="0" lang="en-US" sz="1200" spc="-1" strike="noStrike">
              <a:solidFill>
                <a:srgbClr val="000066"/>
              </a:solidFill>
              <a:latin typeface="Times New Roman"/>
            </a:endParaRPr>
          </a:p>
        </p:txBody>
      </p:sp>
      <p:sp>
        <p:nvSpPr>
          <p:cNvPr id="1590" name=""/>
          <p:cNvSpPr/>
          <p:nvPr/>
        </p:nvSpPr>
        <p:spPr>
          <a:xfrm>
            <a:off x="1295280" y="2179800"/>
            <a:ext cx="4876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消费</a:t>
            </a:r>
            <a:r>
              <a:rPr b="0" lang="en-US" sz="1200" spc="-1" strike="noStrike">
                <a:solidFill>
                  <a:srgbClr val="000066"/>
                </a:solidFill>
                <a:latin typeface="Times New Roman"/>
              </a:rPr>
              <a:t>POS</a:t>
            </a:r>
            <a:r>
              <a:rPr b="0" lang="zh-CN" sz="1200" spc="-1" strike="noStrike">
                <a:solidFill>
                  <a:srgbClr val="000066"/>
                </a:solidFill>
                <a:latin typeface="Times New Roman"/>
              </a:rPr>
              <a:t>机    移动</a:t>
            </a:r>
            <a:r>
              <a:rPr b="0" lang="en-US" sz="1200" spc="-1" strike="noStrike">
                <a:solidFill>
                  <a:srgbClr val="000066"/>
                </a:solidFill>
                <a:latin typeface="Times New Roman"/>
              </a:rPr>
              <a:t>PDA    </a:t>
            </a:r>
            <a:r>
              <a:rPr b="0" lang="zh-CN" sz="1200" spc="-1" strike="noStrike">
                <a:solidFill>
                  <a:srgbClr val="000066"/>
                </a:solidFill>
                <a:latin typeface="Times New Roman"/>
              </a:rPr>
              <a:t>读写卡    语音服务    </a:t>
            </a:r>
            <a:r>
              <a:rPr b="0" lang="en-US" sz="1200" spc="-1" strike="noStrike">
                <a:solidFill>
                  <a:srgbClr val="000066"/>
                </a:solidFill>
                <a:latin typeface="Times New Roman"/>
              </a:rPr>
              <a:t>Web</a:t>
            </a:r>
            <a:r>
              <a:rPr b="0" lang="zh-CN" sz="1200" spc="-1" strike="noStrike">
                <a:solidFill>
                  <a:srgbClr val="000066"/>
                </a:solidFill>
                <a:latin typeface="Times New Roman"/>
              </a:rPr>
              <a:t>服务    触摸屏   …</a:t>
            </a:r>
            <a:endParaRPr b="0" lang="en-US" sz="1200" spc="-1" strike="noStrike">
              <a:solidFill>
                <a:srgbClr val="000066"/>
              </a:solidFill>
              <a:latin typeface="Times New Roman"/>
            </a:endParaRPr>
          </a:p>
        </p:txBody>
      </p:sp>
      <p:sp>
        <p:nvSpPr>
          <p:cNvPr id="1591" name=""/>
          <p:cNvSpPr/>
          <p:nvPr/>
        </p:nvSpPr>
        <p:spPr>
          <a:xfrm>
            <a:off x="2971800" y="241920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Agent</a:t>
            </a:r>
            <a:endParaRPr b="0" lang="en-US" sz="1200" spc="-1" strike="noStrike">
              <a:solidFill>
                <a:srgbClr val="000066"/>
              </a:solidFill>
              <a:latin typeface="Times New Roman"/>
            </a:endParaRPr>
          </a:p>
        </p:txBody>
      </p:sp>
      <p:sp>
        <p:nvSpPr>
          <p:cNvPr id="1592" name=""/>
          <p:cNvSpPr/>
          <p:nvPr/>
        </p:nvSpPr>
        <p:spPr>
          <a:xfrm>
            <a:off x="2662200" y="2714760"/>
            <a:ext cx="223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入口</a:t>
            </a:r>
            <a:endParaRPr b="0" lang="en-US" sz="1200" spc="-1" strike="noStrike">
              <a:solidFill>
                <a:srgbClr val="000066"/>
              </a:solidFill>
              <a:latin typeface="Times New Roman"/>
            </a:endParaRPr>
          </a:p>
        </p:txBody>
      </p:sp>
      <p:sp>
        <p:nvSpPr>
          <p:cNvPr id="1593" name=""/>
          <p:cNvSpPr/>
          <p:nvPr/>
        </p:nvSpPr>
        <p:spPr>
          <a:xfrm>
            <a:off x="2666880" y="2982960"/>
            <a:ext cx="222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Times New Roman"/>
              </a:rPr>
              <a:t>业务逻辑控制</a:t>
            </a:r>
            <a:endParaRPr b="0" lang="en-US" sz="1200" spc="-1" strike="noStrike">
              <a:solidFill>
                <a:srgbClr val="000066"/>
              </a:solidFill>
              <a:latin typeface="Times New Roman"/>
            </a:endParaRPr>
          </a:p>
        </p:txBody>
      </p:sp>
      <p:sp>
        <p:nvSpPr>
          <p:cNvPr id="1594" name=""/>
          <p:cNvSpPr/>
          <p:nvPr/>
        </p:nvSpPr>
        <p:spPr>
          <a:xfrm>
            <a:off x="533520" y="6004080"/>
            <a:ext cx="8229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66"/>
                </a:solidFill>
                <a:latin typeface="Times New Roman"/>
              </a:rPr>
              <a:t>通过这样的设计，使整个系统与银行系统和学校原有的软件系统及学校管理信息系统保持良好的接口，实现了数字校园环境下一卡通系统的建设</a:t>
            </a:r>
            <a:endParaRPr b="0" lang="en-US" sz="1000" spc="-1" strike="noStrike">
              <a:solidFill>
                <a:srgbClr val="000066"/>
              </a:solidFill>
              <a:latin typeface="Times New Roman"/>
            </a:endParaRPr>
          </a:p>
        </p:txBody>
      </p:sp>
      <p:sp>
        <p:nvSpPr>
          <p:cNvPr id="159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9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9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9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59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09"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0"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1"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2"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3"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4"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5"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6"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7"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8"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19"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0"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1"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2"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3"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4"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5"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6"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7"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2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1630"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结语</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63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3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7"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8"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4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5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宋体"/>
              </a:rPr>
              <a:t>数字校园一卡通系统安全管理策略</a:t>
            </a:r>
            <a:endParaRPr b="0" lang="en-US" sz="4000" spc="-1" strike="noStrike">
              <a:solidFill>
                <a:srgbClr val="000099"/>
              </a:solidFill>
              <a:latin typeface="Times New Roman"/>
            </a:endParaRPr>
          </a:p>
        </p:txBody>
      </p:sp>
      <p:sp>
        <p:nvSpPr>
          <p:cNvPr id="166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安全性要素</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安全防范体系</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通讯安全</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交易安全</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操作安全</a:t>
            </a:r>
            <a:endParaRPr b="1" lang="en-US" sz="3200" spc="-1" strike="noStrike">
              <a:solidFill>
                <a:srgbClr val="000099"/>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据安全</a:t>
            </a:r>
            <a:endParaRPr b="1" lang="en-US" sz="3200" spc="-1" strike="noStrike">
              <a:solidFill>
                <a:srgbClr val="000099"/>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卡片安全</a:t>
            </a:r>
            <a:endParaRPr b="1" lang="en-US" sz="3200" spc="-1" strike="noStrike">
              <a:solidFill>
                <a:srgbClr val="000099"/>
              </a:solidFill>
              <a:latin typeface="Times New Roman"/>
            </a:endParaRPr>
          </a:p>
        </p:txBody>
      </p:sp>
      <p:sp>
        <p:nvSpPr>
          <p:cNvPr id="1667" name=""/>
          <p:cNvSpPr/>
          <p:nvPr/>
        </p:nvSpPr>
        <p:spPr>
          <a:xfrm>
            <a:off x="4343400" y="2971800"/>
            <a:ext cx="350532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密钥管理系统</a:t>
            </a:r>
            <a:endParaRPr b="0" lang="en-US" sz="3200" spc="-1" strike="noStrike">
              <a:solidFill>
                <a:srgbClr val="000066"/>
              </a:solidFill>
              <a:latin typeface="Times New Roman"/>
            </a:endParaRPr>
          </a:p>
          <a:p>
            <a:pPr marL="343080" indent="-34308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传输安全</a:t>
            </a:r>
            <a:endParaRPr b="0" lang="en-US" sz="3200" spc="-1" strike="noStrike">
              <a:solidFill>
                <a:srgbClr val="000066"/>
              </a:solidFill>
              <a:latin typeface="Times New Roman"/>
            </a:endParaRPr>
          </a:p>
          <a:p>
            <a:pPr marL="343080" indent="-343080">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OS</a:t>
            </a:r>
            <a:r>
              <a:rPr b="1" lang="zh-CN" sz="3200" spc="-1" strike="noStrike">
                <a:solidFill>
                  <a:srgbClr val="000099"/>
                </a:solidFill>
                <a:latin typeface="Times New Roman"/>
              </a:rPr>
              <a:t>机安全</a:t>
            </a:r>
            <a:endParaRPr b="0" lang="en-US" sz="3200" spc="-1" strike="noStrike">
              <a:solidFill>
                <a:srgbClr val="000066"/>
              </a:solidFill>
              <a:latin typeface="Times New Roman"/>
            </a:endParaRPr>
          </a:p>
          <a:p>
            <a:pPr marL="343080" indent="-343080">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金融级安全</a:t>
            </a:r>
            <a:endParaRPr b="0" lang="en-US" sz="3200" spc="-1" strike="noStrike">
              <a:solidFill>
                <a:srgbClr val="000066"/>
              </a:solidFill>
              <a:latin typeface="Times New Roman"/>
            </a:endParaRPr>
          </a:p>
        </p:txBody>
      </p:sp>
      <p:sp>
        <p:nvSpPr>
          <p:cNvPr id="1668"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69"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0"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1"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2"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3"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4"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5"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6"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7"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8"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79"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0"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1"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2"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3"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4"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5"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6"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7"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8"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89"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0"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1"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2"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3"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4"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5"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6"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7"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8"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699"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00"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01"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系统安全性要素</a:t>
            </a:r>
            <a:r>
              <a:rPr b="0" lang="zh-CN" sz="4800" spc="-1" strike="noStrike">
                <a:solidFill>
                  <a:srgbClr val="000099"/>
                </a:solidFill>
                <a:latin typeface="Times New Roman"/>
                <a:ea typeface="宋体"/>
              </a:rPr>
              <a:t>(1)</a:t>
            </a:r>
            <a:endParaRPr b="0" lang="en-US" sz="4800" spc="-1" strike="noStrike">
              <a:solidFill>
                <a:srgbClr val="000099"/>
              </a:solidFill>
              <a:latin typeface="Times New Roman"/>
            </a:endParaRPr>
          </a:p>
        </p:txBody>
      </p:sp>
      <p:sp>
        <p:nvSpPr>
          <p:cNvPr id="170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704" name=""/>
          <p:cNvSpPr/>
          <p:nvPr/>
        </p:nvSpPr>
        <p:spPr>
          <a:xfrm>
            <a:off x="1371600" y="2438280"/>
            <a:ext cx="1976400" cy="133380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705" name=""/>
          <p:cNvSpPr/>
          <p:nvPr/>
        </p:nvSpPr>
        <p:spPr>
          <a:xfrm>
            <a:off x="5715000" y="2492280"/>
            <a:ext cx="1976400" cy="133344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706" name=""/>
          <p:cNvSpPr/>
          <p:nvPr/>
        </p:nvSpPr>
        <p:spPr>
          <a:xfrm>
            <a:off x="5872320" y="4038480"/>
            <a:ext cx="2280960" cy="1216080"/>
          </a:xfrm>
          <a:custGeom>
            <a:avLst/>
            <a:gdLst/>
            <a:ahLst/>
            <a:rect l="l" t="t" r="r" b="b"/>
            <a:pathLst>
              <a:path w="1149" h="719">
                <a:moveTo>
                  <a:pt x="49" y="450"/>
                </a:moveTo>
                <a:lnTo>
                  <a:pt x="52" y="453"/>
                </a:lnTo>
                <a:lnTo>
                  <a:pt x="54" y="456"/>
                </a:lnTo>
                <a:lnTo>
                  <a:pt x="57" y="459"/>
                </a:lnTo>
                <a:lnTo>
                  <a:pt x="60" y="463"/>
                </a:lnTo>
                <a:lnTo>
                  <a:pt x="63" y="466"/>
                </a:lnTo>
                <a:lnTo>
                  <a:pt x="65" y="471"/>
                </a:lnTo>
                <a:lnTo>
                  <a:pt x="68" y="475"/>
                </a:lnTo>
                <a:lnTo>
                  <a:pt x="71" y="480"/>
                </a:lnTo>
                <a:lnTo>
                  <a:pt x="73" y="485"/>
                </a:lnTo>
                <a:lnTo>
                  <a:pt x="76" y="490"/>
                </a:lnTo>
                <a:lnTo>
                  <a:pt x="79" y="496"/>
                </a:lnTo>
                <a:lnTo>
                  <a:pt x="82" y="502"/>
                </a:lnTo>
                <a:lnTo>
                  <a:pt x="84" y="509"/>
                </a:lnTo>
                <a:lnTo>
                  <a:pt x="87" y="515"/>
                </a:lnTo>
                <a:lnTo>
                  <a:pt x="90" y="522"/>
                </a:lnTo>
                <a:lnTo>
                  <a:pt x="93" y="530"/>
                </a:lnTo>
                <a:lnTo>
                  <a:pt x="96" y="537"/>
                </a:lnTo>
                <a:lnTo>
                  <a:pt x="99" y="544"/>
                </a:lnTo>
                <a:lnTo>
                  <a:pt x="102" y="551"/>
                </a:lnTo>
                <a:lnTo>
                  <a:pt x="105" y="558"/>
                </a:lnTo>
                <a:lnTo>
                  <a:pt x="108" y="564"/>
                </a:lnTo>
                <a:lnTo>
                  <a:pt x="111" y="570"/>
                </a:lnTo>
                <a:lnTo>
                  <a:pt x="114" y="576"/>
                </a:lnTo>
                <a:lnTo>
                  <a:pt x="118" y="582"/>
                </a:lnTo>
                <a:lnTo>
                  <a:pt x="121" y="588"/>
                </a:lnTo>
                <a:lnTo>
                  <a:pt x="125" y="593"/>
                </a:lnTo>
                <a:lnTo>
                  <a:pt x="128" y="598"/>
                </a:lnTo>
                <a:lnTo>
                  <a:pt x="132" y="603"/>
                </a:lnTo>
                <a:lnTo>
                  <a:pt x="136" y="608"/>
                </a:lnTo>
                <a:lnTo>
                  <a:pt x="140" y="612"/>
                </a:lnTo>
                <a:lnTo>
                  <a:pt x="143" y="616"/>
                </a:lnTo>
                <a:lnTo>
                  <a:pt x="147" y="620"/>
                </a:lnTo>
                <a:lnTo>
                  <a:pt x="151" y="624"/>
                </a:lnTo>
                <a:lnTo>
                  <a:pt x="155" y="627"/>
                </a:lnTo>
                <a:lnTo>
                  <a:pt x="159" y="630"/>
                </a:lnTo>
                <a:lnTo>
                  <a:pt x="163" y="633"/>
                </a:lnTo>
                <a:lnTo>
                  <a:pt x="167" y="636"/>
                </a:lnTo>
                <a:lnTo>
                  <a:pt x="171" y="639"/>
                </a:lnTo>
                <a:lnTo>
                  <a:pt x="175" y="641"/>
                </a:lnTo>
                <a:lnTo>
                  <a:pt x="179" y="644"/>
                </a:lnTo>
                <a:lnTo>
                  <a:pt x="183" y="646"/>
                </a:lnTo>
                <a:lnTo>
                  <a:pt x="186" y="647"/>
                </a:lnTo>
                <a:lnTo>
                  <a:pt x="190" y="649"/>
                </a:lnTo>
                <a:lnTo>
                  <a:pt x="194" y="650"/>
                </a:lnTo>
                <a:lnTo>
                  <a:pt x="198" y="652"/>
                </a:lnTo>
                <a:lnTo>
                  <a:pt x="202" y="653"/>
                </a:lnTo>
                <a:lnTo>
                  <a:pt x="205" y="653"/>
                </a:lnTo>
                <a:lnTo>
                  <a:pt x="209" y="654"/>
                </a:lnTo>
                <a:lnTo>
                  <a:pt x="213" y="654"/>
                </a:lnTo>
                <a:lnTo>
                  <a:pt x="216" y="654"/>
                </a:lnTo>
                <a:lnTo>
                  <a:pt x="220" y="655"/>
                </a:lnTo>
                <a:lnTo>
                  <a:pt x="224" y="654"/>
                </a:lnTo>
                <a:lnTo>
                  <a:pt x="227" y="654"/>
                </a:lnTo>
                <a:lnTo>
                  <a:pt x="231" y="654"/>
                </a:lnTo>
                <a:lnTo>
                  <a:pt x="234" y="653"/>
                </a:lnTo>
                <a:lnTo>
                  <a:pt x="238" y="653"/>
                </a:lnTo>
                <a:lnTo>
                  <a:pt x="241" y="652"/>
                </a:lnTo>
                <a:lnTo>
                  <a:pt x="245" y="651"/>
                </a:lnTo>
                <a:lnTo>
                  <a:pt x="248" y="650"/>
                </a:lnTo>
                <a:lnTo>
                  <a:pt x="252" y="648"/>
                </a:lnTo>
                <a:lnTo>
                  <a:pt x="255" y="647"/>
                </a:lnTo>
                <a:lnTo>
                  <a:pt x="258" y="645"/>
                </a:lnTo>
                <a:lnTo>
                  <a:pt x="262" y="643"/>
                </a:lnTo>
                <a:lnTo>
                  <a:pt x="265" y="641"/>
                </a:lnTo>
                <a:lnTo>
                  <a:pt x="268" y="639"/>
                </a:lnTo>
                <a:lnTo>
                  <a:pt x="271" y="637"/>
                </a:lnTo>
                <a:lnTo>
                  <a:pt x="274" y="635"/>
                </a:lnTo>
                <a:lnTo>
                  <a:pt x="277" y="633"/>
                </a:lnTo>
                <a:lnTo>
                  <a:pt x="279" y="631"/>
                </a:lnTo>
                <a:lnTo>
                  <a:pt x="281" y="629"/>
                </a:lnTo>
                <a:lnTo>
                  <a:pt x="283" y="626"/>
                </a:lnTo>
                <a:lnTo>
                  <a:pt x="285" y="624"/>
                </a:lnTo>
                <a:lnTo>
                  <a:pt x="287" y="622"/>
                </a:lnTo>
                <a:lnTo>
                  <a:pt x="288" y="620"/>
                </a:lnTo>
                <a:lnTo>
                  <a:pt x="289" y="617"/>
                </a:lnTo>
                <a:lnTo>
                  <a:pt x="290" y="615"/>
                </a:lnTo>
                <a:lnTo>
                  <a:pt x="291" y="612"/>
                </a:lnTo>
                <a:lnTo>
                  <a:pt x="291" y="610"/>
                </a:lnTo>
                <a:lnTo>
                  <a:pt x="292" y="607"/>
                </a:lnTo>
                <a:lnTo>
                  <a:pt x="292" y="605"/>
                </a:lnTo>
                <a:lnTo>
                  <a:pt x="292" y="602"/>
                </a:lnTo>
                <a:lnTo>
                  <a:pt x="292" y="600"/>
                </a:lnTo>
                <a:lnTo>
                  <a:pt x="292" y="598"/>
                </a:lnTo>
                <a:lnTo>
                  <a:pt x="292" y="597"/>
                </a:lnTo>
                <a:lnTo>
                  <a:pt x="292" y="596"/>
                </a:lnTo>
                <a:lnTo>
                  <a:pt x="292" y="595"/>
                </a:lnTo>
                <a:lnTo>
                  <a:pt x="292" y="595"/>
                </a:lnTo>
                <a:lnTo>
                  <a:pt x="292" y="594"/>
                </a:lnTo>
                <a:lnTo>
                  <a:pt x="292" y="595"/>
                </a:lnTo>
                <a:lnTo>
                  <a:pt x="292" y="595"/>
                </a:lnTo>
                <a:lnTo>
                  <a:pt x="292" y="596"/>
                </a:lnTo>
                <a:lnTo>
                  <a:pt x="292" y="597"/>
                </a:lnTo>
                <a:lnTo>
                  <a:pt x="292" y="598"/>
                </a:lnTo>
                <a:lnTo>
                  <a:pt x="292" y="600"/>
                </a:lnTo>
                <a:lnTo>
                  <a:pt x="292" y="602"/>
                </a:lnTo>
                <a:lnTo>
                  <a:pt x="292" y="605"/>
                </a:lnTo>
                <a:lnTo>
                  <a:pt x="292" y="607"/>
                </a:lnTo>
                <a:lnTo>
                  <a:pt x="292" y="610"/>
                </a:lnTo>
                <a:lnTo>
                  <a:pt x="292" y="613"/>
                </a:lnTo>
                <a:lnTo>
                  <a:pt x="293" y="616"/>
                </a:lnTo>
                <a:lnTo>
                  <a:pt x="294" y="618"/>
                </a:lnTo>
                <a:lnTo>
                  <a:pt x="295" y="621"/>
                </a:lnTo>
                <a:lnTo>
                  <a:pt x="296" y="624"/>
                </a:lnTo>
                <a:lnTo>
                  <a:pt x="297" y="627"/>
                </a:lnTo>
                <a:lnTo>
                  <a:pt x="299" y="630"/>
                </a:lnTo>
                <a:lnTo>
                  <a:pt x="300" y="634"/>
                </a:lnTo>
                <a:lnTo>
                  <a:pt x="302" y="637"/>
                </a:lnTo>
                <a:lnTo>
                  <a:pt x="304" y="640"/>
                </a:lnTo>
                <a:lnTo>
                  <a:pt x="306" y="643"/>
                </a:lnTo>
                <a:lnTo>
                  <a:pt x="308" y="647"/>
                </a:lnTo>
                <a:lnTo>
                  <a:pt x="311" y="650"/>
                </a:lnTo>
                <a:lnTo>
                  <a:pt x="313" y="654"/>
                </a:lnTo>
                <a:lnTo>
                  <a:pt x="316" y="657"/>
                </a:lnTo>
                <a:lnTo>
                  <a:pt x="319" y="661"/>
                </a:lnTo>
                <a:lnTo>
                  <a:pt x="322" y="664"/>
                </a:lnTo>
                <a:lnTo>
                  <a:pt x="325" y="667"/>
                </a:lnTo>
                <a:lnTo>
                  <a:pt x="328" y="670"/>
                </a:lnTo>
                <a:lnTo>
                  <a:pt x="331" y="673"/>
                </a:lnTo>
                <a:lnTo>
                  <a:pt x="334" y="676"/>
                </a:lnTo>
                <a:lnTo>
                  <a:pt x="338" y="679"/>
                </a:lnTo>
                <a:lnTo>
                  <a:pt x="341" y="682"/>
                </a:lnTo>
                <a:lnTo>
                  <a:pt x="345" y="684"/>
                </a:lnTo>
                <a:lnTo>
                  <a:pt x="348" y="687"/>
                </a:lnTo>
                <a:lnTo>
                  <a:pt x="352" y="689"/>
                </a:lnTo>
                <a:lnTo>
                  <a:pt x="356" y="691"/>
                </a:lnTo>
                <a:lnTo>
                  <a:pt x="359" y="694"/>
                </a:lnTo>
                <a:lnTo>
                  <a:pt x="363" y="696"/>
                </a:lnTo>
                <a:lnTo>
                  <a:pt x="367" y="698"/>
                </a:lnTo>
                <a:lnTo>
                  <a:pt x="371" y="700"/>
                </a:lnTo>
                <a:lnTo>
                  <a:pt x="375" y="701"/>
                </a:lnTo>
                <a:lnTo>
                  <a:pt x="379" y="703"/>
                </a:lnTo>
                <a:lnTo>
                  <a:pt x="384" y="705"/>
                </a:lnTo>
                <a:lnTo>
                  <a:pt x="388" y="706"/>
                </a:lnTo>
                <a:lnTo>
                  <a:pt x="392" y="707"/>
                </a:lnTo>
                <a:lnTo>
                  <a:pt x="397" y="709"/>
                </a:lnTo>
                <a:lnTo>
                  <a:pt x="401" y="710"/>
                </a:lnTo>
                <a:lnTo>
                  <a:pt x="406" y="711"/>
                </a:lnTo>
                <a:lnTo>
                  <a:pt x="410" y="712"/>
                </a:lnTo>
                <a:lnTo>
                  <a:pt x="415" y="713"/>
                </a:lnTo>
                <a:lnTo>
                  <a:pt x="420" y="714"/>
                </a:lnTo>
                <a:lnTo>
                  <a:pt x="424" y="715"/>
                </a:lnTo>
                <a:lnTo>
                  <a:pt x="429" y="715"/>
                </a:lnTo>
                <a:lnTo>
                  <a:pt x="434" y="716"/>
                </a:lnTo>
                <a:lnTo>
                  <a:pt x="439" y="716"/>
                </a:lnTo>
                <a:lnTo>
                  <a:pt x="444" y="717"/>
                </a:lnTo>
                <a:lnTo>
                  <a:pt x="449" y="717"/>
                </a:lnTo>
                <a:lnTo>
                  <a:pt x="454" y="717"/>
                </a:lnTo>
                <a:lnTo>
                  <a:pt x="458" y="718"/>
                </a:lnTo>
                <a:lnTo>
                  <a:pt x="463" y="718"/>
                </a:lnTo>
                <a:lnTo>
                  <a:pt x="467" y="718"/>
                </a:lnTo>
                <a:lnTo>
                  <a:pt x="472" y="718"/>
                </a:lnTo>
                <a:lnTo>
                  <a:pt x="476" y="718"/>
                </a:lnTo>
                <a:lnTo>
                  <a:pt x="481" y="717"/>
                </a:lnTo>
                <a:lnTo>
                  <a:pt x="485" y="717"/>
                </a:lnTo>
                <a:lnTo>
                  <a:pt x="489" y="717"/>
                </a:lnTo>
                <a:lnTo>
                  <a:pt x="493" y="716"/>
                </a:lnTo>
                <a:lnTo>
                  <a:pt x="497" y="716"/>
                </a:lnTo>
                <a:lnTo>
                  <a:pt x="501" y="715"/>
                </a:lnTo>
                <a:lnTo>
                  <a:pt x="505" y="714"/>
                </a:lnTo>
                <a:lnTo>
                  <a:pt x="509" y="714"/>
                </a:lnTo>
                <a:lnTo>
                  <a:pt x="513" y="713"/>
                </a:lnTo>
                <a:lnTo>
                  <a:pt x="517" y="712"/>
                </a:lnTo>
                <a:lnTo>
                  <a:pt x="520" y="711"/>
                </a:lnTo>
                <a:lnTo>
                  <a:pt x="524" y="710"/>
                </a:lnTo>
                <a:lnTo>
                  <a:pt x="527" y="709"/>
                </a:lnTo>
                <a:lnTo>
                  <a:pt x="531" y="708"/>
                </a:lnTo>
                <a:lnTo>
                  <a:pt x="534" y="707"/>
                </a:lnTo>
                <a:lnTo>
                  <a:pt x="537" y="706"/>
                </a:lnTo>
                <a:lnTo>
                  <a:pt x="540" y="705"/>
                </a:lnTo>
                <a:lnTo>
                  <a:pt x="543" y="704"/>
                </a:lnTo>
                <a:lnTo>
                  <a:pt x="546" y="703"/>
                </a:lnTo>
                <a:lnTo>
                  <a:pt x="549" y="702"/>
                </a:lnTo>
                <a:lnTo>
                  <a:pt x="552" y="701"/>
                </a:lnTo>
                <a:lnTo>
                  <a:pt x="555" y="699"/>
                </a:lnTo>
                <a:lnTo>
                  <a:pt x="558" y="698"/>
                </a:lnTo>
                <a:lnTo>
                  <a:pt x="561" y="697"/>
                </a:lnTo>
                <a:lnTo>
                  <a:pt x="563" y="695"/>
                </a:lnTo>
                <a:lnTo>
                  <a:pt x="566" y="694"/>
                </a:lnTo>
                <a:lnTo>
                  <a:pt x="568" y="692"/>
                </a:lnTo>
                <a:lnTo>
                  <a:pt x="571" y="691"/>
                </a:lnTo>
                <a:lnTo>
                  <a:pt x="573" y="689"/>
                </a:lnTo>
                <a:lnTo>
                  <a:pt x="575" y="688"/>
                </a:lnTo>
                <a:lnTo>
                  <a:pt x="577" y="686"/>
                </a:lnTo>
                <a:lnTo>
                  <a:pt x="579" y="684"/>
                </a:lnTo>
                <a:lnTo>
                  <a:pt x="581" y="682"/>
                </a:lnTo>
                <a:lnTo>
                  <a:pt x="583" y="681"/>
                </a:lnTo>
                <a:lnTo>
                  <a:pt x="585" y="679"/>
                </a:lnTo>
                <a:lnTo>
                  <a:pt x="587" y="677"/>
                </a:lnTo>
                <a:lnTo>
                  <a:pt x="589" y="675"/>
                </a:lnTo>
                <a:lnTo>
                  <a:pt x="591" y="673"/>
                </a:lnTo>
                <a:lnTo>
                  <a:pt x="592" y="670"/>
                </a:lnTo>
                <a:lnTo>
                  <a:pt x="594" y="668"/>
                </a:lnTo>
                <a:lnTo>
                  <a:pt x="595" y="666"/>
                </a:lnTo>
                <a:lnTo>
                  <a:pt x="597" y="664"/>
                </a:lnTo>
                <a:lnTo>
                  <a:pt x="597" y="662"/>
                </a:lnTo>
                <a:lnTo>
                  <a:pt x="598" y="660"/>
                </a:lnTo>
                <a:lnTo>
                  <a:pt x="598" y="658"/>
                </a:lnTo>
                <a:lnTo>
                  <a:pt x="598" y="657"/>
                </a:lnTo>
                <a:lnTo>
                  <a:pt x="597" y="655"/>
                </a:lnTo>
                <a:lnTo>
                  <a:pt x="596" y="654"/>
                </a:lnTo>
                <a:lnTo>
                  <a:pt x="595" y="653"/>
                </a:lnTo>
                <a:lnTo>
                  <a:pt x="594" y="652"/>
                </a:lnTo>
                <a:lnTo>
                  <a:pt x="592" y="651"/>
                </a:lnTo>
                <a:lnTo>
                  <a:pt x="590" y="650"/>
                </a:lnTo>
                <a:lnTo>
                  <a:pt x="588" y="649"/>
                </a:lnTo>
                <a:lnTo>
                  <a:pt x="585" y="649"/>
                </a:lnTo>
                <a:lnTo>
                  <a:pt x="582" y="648"/>
                </a:lnTo>
                <a:lnTo>
                  <a:pt x="578" y="648"/>
                </a:lnTo>
                <a:lnTo>
                  <a:pt x="575" y="647"/>
                </a:lnTo>
                <a:lnTo>
                  <a:pt x="572" y="647"/>
                </a:lnTo>
                <a:lnTo>
                  <a:pt x="568" y="646"/>
                </a:lnTo>
                <a:lnTo>
                  <a:pt x="565" y="646"/>
                </a:lnTo>
                <a:lnTo>
                  <a:pt x="562" y="645"/>
                </a:lnTo>
                <a:lnTo>
                  <a:pt x="559" y="644"/>
                </a:lnTo>
                <a:lnTo>
                  <a:pt x="556" y="643"/>
                </a:lnTo>
                <a:lnTo>
                  <a:pt x="553" y="642"/>
                </a:lnTo>
                <a:lnTo>
                  <a:pt x="550" y="641"/>
                </a:lnTo>
                <a:lnTo>
                  <a:pt x="548" y="640"/>
                </a:lnTo>
                <a:lnTo>
                  <a:pt x="545" y="638"/>
                </a:lnTo>
                <a:lnTo>
                  <a:pt x="542" y="637"/>
                </a:lnTo>
                <a:lnTo>
                  <a:pt x="540" y="636"/>
                </a:lnTo>
                <a:lnTo>
                  <a:pt x="538" y="634"/>
                </a:lnTo>
                <a:lnTo>
                  <a:pt x="535" y="632"/>
                </a:lnTo>
                <a:lnTo>
                  <a:pt x="533" y="631"/>
                </a:lnTo>
                <a:lnTo>
                  <a:pt x="531" y="629"/>
                </a:lnTo>
                <a:lnTo>
                  <a:pt x="529" y="627"/>
                </a:lnTo>
                <a:lnTo>
                  <a:pt x="527" y="625"/>
                </a:lnTo>
                <a:lnTo>
                  <a:pt x="525" y="624"/>
                </a:lnTo>
                <a:lnTo>
                  <a:pt x="524" y="622"/>
                </a:lnTo>
                <a:lnTo>
                  <a:pt x="522" y="620"/>
                </a:lnTo>
                <a:lnTo>
                  <a:pt x="520" y="618"/>
                </a:lnTo>
                <a:lnTo>
                  <a:pt x="519" y="617"/>
                </a:lnTo>
                <a:lnTo>
                  <a:pt x="517" y="615"/>
                </a:lnTo>
                <a:lnTo>
                  <a:pt x="516" y="613"/>
                </a:lnTo>
                <a:lnTo>
                  <a:pt x="514" y="611"/>
                </a:lnTo>
                <a:lnTo>
                  <a:pt x="513" y="610"/>
                </a:lnTo>
                <a:lnTo>
                  <a:pt x="512" y="608"/>
                </a:lnTo>
                <a:lnTo>
                  <a:pt x="511" y="606"/>
                </a:lnTo>
                <a:lnTo>
                  <a:pt x="510" y="605"/>
                </a:lnTo>
                <a:lnTo>
                  <a:pt x="509" y="603"/>
                </a:lnTo>
                <a:lnTo>
                  <a:pt x="508" y="601"/>
                </a:lnTo>
                <a:lnTo>
                  <a:pt x="508" y="600"/>
                </a:lnTo>
                <a:lnTo>
                  <a:pt x="507" y="599"/>
                </a:lnTo>
                <a:lnTo>
                  <a:pt x="506" y="598"/>
                </a:lnTo>
                <a:lnTo>
                  <a:pt x="506" y="597"/>
                </a:lnTo>
                <a:lnTo>
                  <a:pt x="506" y="597"/>
                </a:lnTo>
                <a:lnTo>
                  <a:pt x="506" y="596"/>
                </a:lnTo>
                <a:lnTo>
                  <a:pt x="506" y="596"/>
                </a:lnTo>
                <a:lnTo>
                  <a:pt x="506" y="596"/>
                </a:lnTo>
                <a:lnTo>
                  <a:pt x="506" y="597"/>
                </a:lnTo>
                <a:lnTo>
                  <a:pt x="506" y="597"/>
                </a:lnTo>
                <a:lnTo>
                  <a:pt x="506" y="598"/>
                </a:lnTo>
                <a:lnTo>
                  <a:pt x="507" y="599"/>
                </a:lnTo>
                <a:lnTo>
                  <a:pt x="508" y="600"/>
                </a:lnTo>
                <a:lnTo>
                  <a:pt x="508" y="601"/>
                </a:lnTo>
                <a:lnTo>
                  <a:pt x="509" y="603"/>
                </a:lnTo>
                <a:lnTo>
                  <a:pt x="510" y="605"/>
                </a:lnTo>
                <a:lnTo>
                  <a:pt x="511" y="606"/>
                </a:lnTo>
                <a:lnTo>
                  <a:pt x="512" y="608"/>
                </a:lnTo>
                <a:lnTo>
                  <a:pt x="513" y="610"/>
                </a:lnTo>
                <a:lnTo>
                  <a:pt x="514" y="611"/>
                </a:lnTo>
                <a:lnTo>
                  <a:pt x="516" y="613"/>
                </a:lnTo>
                <a:lnTo>
                  <a:pt x="517" y="615"/>
                </a:lnTo>
                <a:lnTo>
                  <a:pt x="519" y="617"/>
                </a:lnTo>
                <a:lnTo>
                  <a:pt x="520" y="618"/>
                </a:lnTo>
                <a:lnTo>
                  <a:pt x="522" y="620"/>
                </a:lnTo>
                <a:lnTo>
                  <a:pt x="524" y="622"/>
                </a:lnTo>
                <a:lnTo>
                  <a:pt x="525" y="624"/>
                </a:lnTo>
                <a:lnTo>
                  <a:pt x="527" y="625"/>
                </a:lnTo>
                <a:lnTo>
                  <a:pt x="529" y="627"/>
                </a:lnTo>
                <a:lnTo>
                  <a:pt x="531" y="629"/>
                </a:lnTo>
                <a:lnTo>
                  <a:pt x="533" y="631"/>
                </a:lnTo>
                <a:lnTo>
                  <a:pt x="535" y="632"/>
                </a:lnTo>
                <a:lnTo>
                  <a:pt x="538" y="634"/>
                </a:lnTo>
                <a:lnTo>
                  <a:pt x="540" y="636"/>
                </a:lnTo>
                <a:lnTo>
                  <a:pt x="542" y="637"/>
                </a:lnTo>
                <a:lnTo>
                  <a:pt x="545" y="638"/>
                </a:lnTo>
                <a:lnTo>
                  <a:pt x="548" y="640"/>
                </a:lnTo>
                <a:lnTo>
                  <a:pt x="550" y="641"/>
                </a:lnTo>
                <a:lnTo>
                  <a:pt x="553" y="642"/>
                </a:lnTo>
                <a:lnTo>
                  <a:pt x="556" y="643"/>
                </a:lnTo>
                <a:lnTo>
                  <a:pt x="559" y="644"/>
                </a:lnTo>
                <a:lnTo>
                  <a:pt x="562" y="645"/>
                </a:lnTo>
                <a:lnTo>
                  <a:pt x="565" y="646"/>
                </a:lnTo>
                <a:lnTo>
                  <a:pt x="568" y="646"/>
                </a:lnTo>
                <a:lnTo>
                  <a:pt x="572" y="647"/>
                </a:lnTo>
                <a:lnTo>
                  <a:pt x="575" y="647"/>
                </a:lnTo>
                <a:lnTo>
                  <a:pt x="578" y="648"/>
                </a:lnTo>
                <a:lnTo>
                  <a:pt x="582" y="648"/>
                </a:lnTo>
                <a:lnTo>
                  <a:pt x="585" y="648"/>
                </a:lnTo>
                <a:lnTo>
                  <a:pt x="589" y="649"/>
                </a:lnTo>
                <a:lnTo>
                  <a:pt x="592" y="649"/>
                </a:lnTo>
                <a:lnTo>
                  <a:pt x="596" y="649"/>
                </a:lnTo>
                <a:lnTo>
                  <a:pt x="599" y="649"/>
                </a:lnTo>
                <a:lnTo>
                  <a:pt x="603" y="649"/>
                </a:lnTo>
                <a:lnTo>
                  <a:pt x="606" y="649"/>
                </a:lnTo>
                <a:lnTo>
                  <a:pt x="610" y="650"/>
                </a:lnTo>
                <a:lnTo>
                  <a:pt x="613" y="650"/>
                </a:lnTo>
                <a:lnTo>
                  <a:pt x="617" y="650"/>
                </a:lnTo>
                <a:lnTo>
                  <a:pt x="620" y="650"/>
                </a:lnTo>
                <a:lnTo>
                  <a:pt x="624" y="650"/>
                </a:lnTo>
                <a:lnTo>
                  <a:pt x="627" y="650"/>
                </a:lnTo>
                <a:lnTo>
                  <a:pt x="630" y="650"/>
                </a:lnTo>
                <a:lnTo>
                  <a:pt x="634" y="649"/>
                </a:lnTo>
                <a:lnTo>
                  <a:pt x="637" y="649"/>
                </a:lnTo>
                <a:lnTo>
                  <a:pt x="641" y="649"/>
                </a:lnTo>
                <a:lnTo>
                  <a:pt x="644" y="649"/>
                </a:lnTo>
                <a:lnTo>
                  <a:pt x="647" y="648"/>
                </a:lnTo>
                <a:lnTo>
                  <a:pt x="650" y="648"/>
                </a:lnTo>
                <a:lnTo>
                  <a:pt x="653" y="648"/>
                </a:lnTo>
                <a:lnTo>
                  <a:pt x="656" y="647"/>
                </a:lnTo>
                <a:lnTo>
                  <a:pt x="660" y="647"/>
                </a:lnTo>
                <a:lnTo>
                  <a:pt x="662" y="646"/>
                </a:lnTo>
                <a:lnTo>
                  <a:pt x="665" y="645"/>
                </a:lnTo>
                <a:lnTo>
                  <a:pt x="668" y="644"/>
                </a:lnTo>
                <a:lnTo>
                  <a:pt x="671" y="644"/>
                </a:lnTo>
                <a:lnTo>
                  <a:pt x="674" y="643"/>
                </a:lnTo>
                <a:lnTo>
                  <a:pt x="677" y="642"/>
                </a:lnTo>
                <a:lnTo>
                  <a:pt x="679" y="641"/>
                </a:lnTo>
                <a:lnTo>
                  <a:pt x="682" y="640"/>
                </a:lnTo>
                <a:lnTo>
                  <a:pt x="685" y="638"/>
                </a:lnTo>
                <a:lnTo>
                  <a:pt x="687" y="637"/>
                </a:lnTo>
                <a:lnTo>
                  <a:pt x="689" y="636"/>
                </a:lnTo>
                <a:lnTo>
                  <a:pt x="690" y="635"/>
                </a:lnTo>
                <a:lnTo>
                  <a:pt x="692" y="633"/>
                </a:lnTo>
                <a:lnTo>
                  <a:pt x="693" y="632"/>
                </a:lnTo>
                <a:lnTo>
                  <a:pt x="693" y="630"/>
                </a:lnTo>
                <a:lnTo>
                  <a:pt x="694" y="628"/>
                </a:lnTo>
                <a:lnTo>
                  <a:pt x="694" y="626"/>
                </a:lnTo>
                <a:lnTo>
                  <a:pt x="694" y="625"/>
                </a:lnTo>
                <a:lnTo>
                  <a:pt x="693" y="623"/>
                </a:lnTo>
                <a:lnTo>
                  <a:pt x="693" y="621"/>
                </a:lnTo>
                <a:lnTo>
                  <a:pt x="692" y="619"/>
                </a:lnTo>
                <a:lnTo>
                  <a:pt x="690" y="616"/>
                </a:lnTo>
                <a:lnTo>
                  <a:pt x="689" y="614"/>
                </a:lnTo>
                <a:lnTo>
                  <a:pt x="687" y="612"/>
                </a:lnTo>
                <a:lnTo>
                  <a:pt x="685" y="610"/>
                </a:lnTo>
                <a:lnTo>
                  <a:pt x="683" y="608"/>
                </a:lnTo>
                <a:lnTo>
                  <a:pt x="682" y="606"/>
                </a:lnTo>
                <a:lnTo>
                  <a:pt x="681" y="605"/>
                </a:lnTo>
                <a:lnTo>
                  <a:pt x="680" y="604"/>
                </a:lnTo>
                <a:lnTo>
                  <a:pt x="679" y="603"/>
                </a:lnTo>
                <a:lnTo>
                  <a:pt x="679" y="603"/>
                </a:lnTo>
                <a:lnTo>
                  <a:pt x="679" y="603"/>
                </a:lnTo>
                <a:lnTo>
                  <a:pt x="679" y="603"/>
                </a:lnTo>
                <a:lnTo>
                  <a:pt x="680" y="604"/>
                </a:lnTo>
                <a:lnTo>
                  <a:pt x="680" y="605"/>
                </a:lnTo>
                <a:lnTo>
                  <a:pt x="682" y="606"/>
                </a:lnTo>
                <a:lnTo>
                  <a:pt x="683" y="607"/>
                </a:lnTo>
                <a:lnTo>
                  <a:pt x="684" y="609"/>
                </a:lnTo>
                <a:lnTo>
                  <a:pt x="686" y="611"/>
                </a:lnTo>
                <a:lnTo>
                  <a:pt x="688" y="614"/>
                </a:lnTo>
                <a:lnTo>
                  <a:pt x="691" y="616"/>
                </a:lnTo>
                <a:lnTo>
                  <a:pt x="693" y="619"/>
                </a:lnTo>
                <a:lnTo>
                  <a:pt x="695" y="621"/>
                </a:lnTo>
                <a:lnTo>
                  <a:pt x="698" y="623"/>
                </a:lnTo>
                <a:lnTo>
                  <a:pt x="701" y="626"/>
                </a:lnTo>
                <a:lnTo>
                  <a:pt x="704" y="628"/>
                </a:lnTo>
                <a:lnTo>
                  <a:pt x="706" y="630"/>
                </a:lnTo>
                <a:lnTo>
                  <a:pt x="709" y="632"/>
                </a:lnTo>
                <a:lnTo>
                  <a:pt x="712" y="634"/>
                </a:lnTo>
                <a:lnTo>
                  <a:pt x="716" y="636"/>
                </a:lnTo>
                <a:lnTo>
                  <a:pt x="719" y="637"/>
                </a:lnTo>
                <a:lnTo>
                  <a:pt x="722" y="639"/>
                </a:lnTo>
                <a:lnTo>
                  <a:pt x="726" y="641"/>
                </a:lnTo>
                <a:lnTo>
                  <a:pt x="729" y="642"/>
                </a:lnTo>
                <a:lnTo>
                  <a:pt x="733" y="644"/>
                </a:lnTo>
                <a:lnTo>
                  <a:pt x="737" y="645"/>
                </a:lnTo>
                <a:lnTo>
                  <a:pt x="740" y="646"/>
                </a:lnTo>
                <a:lnTo>
                  <a:pt x="744" y="647"/>
                </a:lnTo>
                <a:lnTo>
                  <a:pt x="748" y="648"/>
                </a:lnTo>
                <a:lnTo>
                  <a:pt x="752" y="649"/>
                </a:lnTo>
                <a:lnTo>
                  <a:pt x="756" y="650"/>
                </a:lnTo>
                <a:lnTo>
                  <a:pt x="760" y="650"/>
                </a:lnTo>
                <a:lnTo>
                  <a:pt x="763" y="651"/>
                </a:lnTo>
                <a:lnTo>
                  <a:pt x="767" y="651"/>
                </a:lnTo>
                <a:lnTo>
                  <a:pt x="771" y="651"/>
                </a:lnTo>
                <a:lnTo>
                  <a:pt x="775" y="651"/>
                </a:lnTo>
                <a:lnTo>
                  <a:pt x="779" y="651"/>
                </a:lnTo>
                <a:lnTo>
                  <a:pt x="783" y="650"/>
                </a:lnTo>
                <a:lnTo>
                  <a:pt x="787" y="650"/>
                </a:lnTo>
                <a:lnTo>
                  <a:pt x="790" y="649"/>
                </a:lnTo>
                <a:lnTo>
                  <a:pt x="794" y="649"/>
                </a:lnTo>
                <a:lnTo>
                  <a:pt x="798" y="648"/>
                </a:lnTo>
                <a:lnTo>
                  <a:pt x="802" y="647"/>
                </a:lnTo>
                <a:lnTo>
                  <a:pt x="806" y="645"/>
                </a:lnTo>
                <a:lnTo>
                  <a:pt x="809" y="644"/>
                </a:lnTo>
                <a:lnTo>
                  <a:pt x="813" y="643"/>
                </a:lnTo>
                <a:lnTo>
                  <a:pt x="816" y="642"/>
                </a:lnTo>
                <a:lnTo>
                  <a:pt x="819" y="640"/>
                </a:lnTo>
                <a:lnTo>
                  <a:pt x="822" y="639"/>
                </a:lnTo>
                <a:lnTo>
                  <a:pt x="825" y="637"/>
                </a:lnTo>
                <a:lnTo>
                  <a:pt x="828" y="635"/>
                </a:lnTo>
                <a:lnTo>
                  <a:pt x="831" y="634"/>
                </a:lnTo>
                <a:lnTo>
                  <a:pt x="833" y="632"/>
                </a:lnTo>
                <a:lnTo>
                  <a:pt x="836" y="630"/>
                </a:lnTo>
                <a:lnTo>
                  <a:pt x="838" y="628"/>
                </a:lnTo>
                <a:lnTo>
                  <a:pt x="840" y="626"/>
                </a:lnTo>
                <a:lnTo>
                  <a:pt x="842" y="624"/>
                </a:lnTo>
                <a:lnTo>
                  <a:pt x="844" y="622"/>
                </a:lnTo>
                <a:lnTo>
                  <a:pt x="846" y="619"/>
                </a:lnTo>
                <a:lnTo>
                  <a:pt x="848" y="617"/>
                </a:lnTo>
                <a:lnTo>
                  <a:pt x="850" y="615"/>
                </a:lnTo>
                <a:lnTo>
                  <a:pt x="851" y="613"/>
                </a:lnTo>
                <a:lnTo>
                  <a:pt x="853" y="611"/>
                </a:lnTo>
                <a:lnTo>
                  <a:pt x="855" y="609"/>
                </a:lnTo>
                <a:lnTo>
                  <a:pt x="856" y="606"/>
                </a:lnTo>
                <a:lnTo>
                  <a:pt x="858" y="604"/>
                </a:lnTo>
                <a:lnTo>
                  <a:pt x="859" y="602"/>
                </a:lnTo>
                <a:lnTo>
                  <a:pt x="861" y="600"/>
                </a:lnTo>
                <a:lnTo>
                  <a:pt x="862" y="598"/>
                </a:lnTo>
                <a:lnTo>
                  <a:pt x="864" y="596"/>
                </a:lnTo>
                <a:lnTo>
                  <a:pt x="865" y="594"/>
                </a:lnTo>
                <a:lnTo>
                  <a:pt x="867" y="592"/>
                </a:lnTo>
                <a:lnTo>
                  <a:pt x="868" y="590"/>
                </a:lnTo>
                <a:lnTo>
                  <a:pt x="869" y="588"/>
                </a:lnTo>
                <a:lnTo>
                  <a:pt x="870" y="586"/>
                </a:lnTo>
                <a:lnTo>
                  <a:pt x="872" y="584"/>
                </a:lnTo>
                <a:lnTo>
                  <a:pt x="873" y="582"/>
                </a:lnTo>
                <a:lnTo>
                  <a:pt x="874" y="579"/>
                </a:lnTo>
                <a:lnTo>
                  <a:pt x="875" y="577"/>
                </a:lnTo>
                <a:lnTo>
                  <a:pt x="877" y="575"/>
                </a:lnTo>
                <a:lnTo>
                  <a:pt x="878" y="573"/>
                </a:lnTo>
                <a:lnTo>
                  <a:pt x="879" y="571"/>
                </a:lnTo>
                <a:lnTo>
                  <a:pt x="881" y="568"/>
                </a:lnTo>
                <a:lnTo>
                  <a:pt x="882" y="566"/>
                </a:lnTo>
                <a:lnTo>
                  <a:pt x="883" y="564"/>
                </a:lnTo>
                <a:lnTo>
                  <a:pt x="884" y="561"/>
                </a:lnTo>
                <a:lnTo>
                  <a:pt x="886" y="559"/>
                </a:lnTo>
                <a:lnTo>
                  <a:pt x="887" y="556"/>
                </a:lnTo>
                <a:lnTo>
                  <a:pt x="888" y="554"/>
                </a:lnTo>
                <a:lnTo>
                  <a:pt x="889" y="551"/>
                </a:lnTo>
                <a:lnTo>
                  <a:pt x="891" y="549"/>
                </a:lnTo>
                <a:lnTo>
                  <a:pt x="892" y="547"/>
                </a:lnTo>
                <a:lnTo>
                  <a:pt x="893" y="545"/>
                </a:lnTo>
                <a:lnTo>
                  <a:pt x="893" y="543"/>
                </a:lnTo>
                <a:lnTo>
                  <a:pt x="894" y="542"/>
                </a:lnTo>
                <a:lnTo>
                  <a:pt x="894" y="542"/>
                </a:lnTo>
                <a:lnTo>
                  <a:pt x="894" y="541"/>
                </a:lnTo>
                <a:lnTo>
                  <a:pt x="894" y="541"/>
                </a:lnTo>
                <a:lnTo>
                  <a:pt x="894" y="541"/>
                </a:lnTo>
                <a:lnTo>
                  <a:pt x="894" y="542"/>
                </a:lnTo>
                <a:lnTo>
                  <a:pt x="894" y="542"/>
                </a:lnTo>
                <a:lnTo>
                  <a:pt x="893" y="543"/>
                </a:lnTo>
                <a:lnTo>
                  <a:pt x="893" y="545"/>
                </a:lnTo>
                <a:lnTo>
                  <a:pt x="892" y="547"/>
                </a:lnTo>
                <a:lnTo>
                  <a:pt x="891" y="549"/>
                </a:lnTo>
                <a:lnTo>
                  <a:pt x="889" y="551"/>
                </a:lnTo>
                <a:lnTo>
                  <a:pt x="888" y="554"/>
                </a:lnTo>
                <a:lnTo>
                  <a:pt x="887" y="556"/>
                </a:lnTo>
                <a:lnTo>
                  <a:pt x="887" y="559"/>
                </a:lnTo>
                <a:lnTo>
                  <a:pt x="886" y="561"/>
                </a:lnTo>
                <a:lnTo>
                  <a:pt x="886" y="564"/>
                </a:lnTo>
                <a:lnTo>
                  <a:pt x="886" y="566"/>
                </a:lnTo>
                <a:lnTo>
                  <a:pt x="886" y="569"/>
                </a:lnTo>
                <a:lnTo>
                  <a:pt x="886" y="571"/>
                </a:lnTo>
                <a:lnTo>
                  <a:pt x="886" y="574"/>
                </a:lnTo>
                <a:lnTo>
                  <a:pt x="887" y="576"/>
                </a:lnTo>
                <a:lnTo>
                  <a:pt x="888" y="579"/>
                </a:lnTo>
                <a:lnTo>
                  <a:pt x="889" y="581"/>
                </a:lnTo>
                <a:lnTo>
                  <a:pt x="890" y="583"/>
                </a:lnTo>
                <a:lnTo>
                  <a:pt x="892" y="586"/>
                </a:lnTo>
                <a:lnTo>
                  <a:pt x="894" y="588"/>
                </a:lnTo>
                <a:lnTo>
                  <a:pt x="896" y="590"/>
                </a:lnTo>
                <a:lnTo>
                  <a:pt x="898" y="593"/>
                </a:lnTo>
                <a:lnTo>
                  <a:pt x="900" y="595"/>
                </a:lnTo>
                <a:lnTo>
                  <a:pt x="902" y="597"/>
                </a:lnTo>
                <a:lnTo>
                  <a:pt x="905" y="599"/>
                </a:lnTo>
                <a:lnTo>
                  <a:pt x="907" y="601"/>
                </a:lnTo>
                <a:lnTo>
                  <a:pt x="910" y="603"/>
                </a:lnTo>
                <a:lnTo>
                  <a:pt x="912" y="605"/>
                </a:lnTo>
                <a:lnTo>
                  <a:pt x="915" y="606"/>
                </a:lnTo>
                <a:lnTo>
                  <a:pt x="918" y="608"/>
                </a:lnTo>
                <a:lnTo>
                  <a:pt x="921" y="609"/>
                </a:lnTo>
                <a:lnTo>
                  <a:pt x="924" y="611"/>
                </a:lnTo>
                <a:lnTo>
                  <a:pt x="927" y="612"/>
                </a:lnTo>
                <a:lnTo>
                  <a:pt x="930" y="613"/>
                </a:lnTo>
                <a:lnTo>
                  <a:pt x="934" y="614"/>
                </a:lnTo>
                <a:lnTo>
                  <a:pt x="937" y="615"/>
                </a:lnTo>
                <a:lnTo>
                  <a:pt x="941" y="616"/>
                </a:lnTo>
                <a:lnTo>
                  <a:pt x="944" y="617"/>
                </a:lnTo>
                <a:lnTo>
                  <a:pt x="948" y="618"/>
                </a:lnTo>
                <a:lnTo>
                  <a:pt x="952" y="619"/>
                </a:lnTo>
                <a:lnTo>
                  <a:pt x="955" y="619"/>
                </a:lnTo>
                <a:lnTo>
                  <a:pt x="959" y="619"/>
                </a:lnTo>
                <a:lnTo>
                  <a:pt x="963" y="620"/>
                </a:lnTo>
                <a:lnTo>
                  <a:pt x="967" y="620"/>
                </a:lnTo>
                <a:lnTo>
                  <a:pt x="970" y="620"/>
                </a:lnTo>
                <a:lnTo>
                  <a:pt x="974" y="620"/>
                </a:lnTo>
                <a:lnTo>
                  <a:pt x="978" y="620"/>
                </a:lnTo>
                <a:lnTo>
                  <a:pt x="982" y="619"/>
                </a:lnTo>
                <a:lnTo>
                  <a:pt x="985" y="619"/>
                </a:lnTo>
                <a:lnTo>
                  <a:pt x="989" y="619"/>
                </a:lnTo>
                <a:lnTo>
                  <a:pt x="993" y="618"/>
                </a:lnTo>
                <a:lnTo>
                  <a:pt x="997" y="617"/>
                </a:lnTo>
                <a:lnTo>
                  <a:pt x="1001" y="616"/>
                </a:lnTo>
                <a:lnTo>
                  <a:pt x="1005" y="615"/>
                </a:lnTo>
                <a:lnTo>
                  <a:pt x="1009" y="615"/>
                </a:lnTo>
                <a:lnTo>
                  <a:pt x="1012" y="614"/>
                </a:lnTo>
                <a:lnTo>
                  <a:pt x="1016" y="613"/>
                </a:lnTo>
                <a:lnTo>
                  <a:pt x="1020" y="611"/>
                </a:lnTo>
                <a:lnTo>
                  <a:pt x="1023" y="610"/>
                </a:lnTo>
                <a:lnTo>
                  <a:pt x="1027" y="609"/>
                </a:lnTo>
                <a:lnTo>
                  <a:pt x="1030" y="608"/>
                </a:lnTo>
                <a:lnTo>
                  <a:pt x="1034" y="607"/>
                </a:lnTo>
                <a:lnTo>
                  <a:pt x="1037" y="606"/>
                </a:lnTo>
                <a:lnTo>
                  <a:pt x="1040" y="604"/>
                </a:lnTo>
                <a:lnTo>
                  <a:pt x="1044" y="603"/>
                </a:lnTo>
                <a:lnTo>
                  <a:pt x="1047" y="602"/>
                </a:lnTo>
                <a:lnTo>
                  <a:pt x="1050" y="600"/>
                </a:lnTo>
                <a:lnTo>
                  <a:pt x="1053" y="599"/>
                </a:lnTo>
                <a:lnTo>
                  <a:pt x="1056" y="598"/>
                </a:lnTo>
                <a:lnTo>
                  <a:pt x="1059" y="596"/>
                </a:lnTo>
                <a:lnTo>
                  <a:pt x="1062" y="595"/>
                </a:lnTo>
                <a:lnTo>
                  <a:pt x="1065" y="593"/>
                </a:lnTo>
                <a:lnTo>
                  <a:pt x="1068" y="591"/>
                </a:lnTo>
                <a:lnTo>
                  <a:pt x="1070" y="590"/>
                </a:lnTo>
                <a:lnTo>
                  <a:pt x="1073" y="588"/>
                </a:lnTo>
                <a:lnTo>
                  <a:pt x="1075" y="586"/>
                </a:lnTo>
                <a:lnTo>
                  <a:pt x="1078" y="585"/>
                </a:lnTo>
                <a:lnTo>
                  <a:pt x="1080" y="583"/>
                </a:lnTo>
                <a:lnTo>
                  <a:pt x="1082" y="581"/>
                </a:lnTo>
                <a:lnTo>
                  <a:pt x="1084" y="579"/>
                </a:lnTo>
                <a:lnTo>
                  <a:pt x="1086" y="577"/>
                </a:lnTo>
                <a:lnTo>
                  <a:pt x="1088" y="575"/>
                </a:lnTo>
                <a:lnTo>
                  <a:pt x="1090" y="573"/>
                </a:lnTo>
                <a:lnTo>
                  <a:pt x="1092" y="571"/>
                </a:lnTo>
                <a:lnTo>
                  <a:pt x="1094" y="569"/>
                </a:lnTo>
                <a:lnTo>
                  <a:pt x="1095" y="567"/>
                </a:lnTo>
                <a:lnTo>
                  <a:pt x="1097" y="565"/>
                </a:lnTo>
                <a:lnTo>
                  <a:pt x="1099" y="562"/>
                </a:lnTo>
                <a:lnTo>
                  <a:pt x="1101" y="560"/>
                </a:lnTo>
                <a:lnTo>
                  <a:pt x="1103" y="557"/>
                </a:lnTo>
                <a:lnTo>
                  <a:pt x="1105" y="554"/>
                </a:lnTo>
                <a:lnTo>
                  <a:pt x="1107" y="551"/>
                </a:lnTo>
                <a:lnTo>
                  <a:pt x="1109" y="548"/>
                </a:lnTo>
                <a:lnTo>
                  <a:pt x="1111" y="545"/>
                </a:lnTo>
                <a:lnTo>
                  <a:pt x="1113" y="542"/>
                </a:lnTo>
                <a:lnTo>
                  <a:pt x="1115" y="539"/>
                </a:lnTo>
                <a:lnTo>
                  <a:pt x="1117" y="536"/>
                </a:lnTo>
                <a:lnTo>
                  <a:pt x="1120" y="532"/>
                </a:lnTo>
                <a:lnTo>
                  <a:pt x="1122" y="528"/>
                </a:lnTo>
                <a:lnTo>
                  <a:pt x="1125" y="525"/>
                </a:lnTo>
                <a:lnTo>
                  <a:pt x="1127" y="521"/>
                </a:lnTo>
                <a:lnTo>
                  <a:pt x="1130" y="517"/>
                </a:lnTo>
                <a:lnTo>
                  <a:pt x="1132" y="513"/>
                </a:lnTo>
                <a:lnTo>
                  <a:pt x="1134" y="509"/>
                </a:lnTo>
                <a:lnTo>
                  <a:pt x="1136" y="505"/>
                </a:lnTo>
                <a:lnTo>
                  <a:pt x="1138" y="501"/>
                </a:lnTo>
                <a:lnTo>
                  <a:pt x="1140" y="497"/>
                </a:lnTo>
                <a:lnTo>
                  <a:pt x="1141" y="493"/>
                </a:lnTo>
                <a:lnTo>
                  <a:pt x="1143" y="489"/>
                </a:lnTo>
                <a:lnTo>
                  <a:pt x="1144" y="484"/>
                </a:lnTo>
                <a:lnTo>
                  <a:pt x="1145" y="480"/>
                </a:lnTo>
                <a:lnTo>
                  <a:pt x="1146" y="476"/>
                </a:lnTo>
                <a:lnTo>
                  <a:pt x="1147" y="472"/>
                </a:lnTo>
                <a:lnTo>
                  <a:pt x="1147" y="468"/>
                </a:lnTo>
                <a:lnTo>
                  <a:pt x="1148" y="463"/>
                </a:lnTo>
                <a:lnTo>
                  <a:pt x="1148" y="459"/>
                </a:lnTo>
                <a:lnTo>
                  <a:pt x="1148" y="455"/>
                </a:lnTo>
                <a:lnTo>
                  <a:pt x="1148" y="450"/>
                </a:lnTo>
                <a:lnTo>
                  <a:pt x="1148" y="446"/>
                </a:lnTo>
                <a:lnTo>
                  <a:pt x="1148" y="442"/>
                </a:lnTo>
                <a:lnTo>
                  <a:pt x="1148" y="438"/>
                </a:lnTo>
                <a:lnTo>
                  <a:pt x="1148" y="434"/>
                </a:lnTo>
                <a:lnTo>
                  <a:pt x="1147" y="431"/>
                </a:lnTo>
                <a:lnTo>
                  <a:pt x="1147" y="427"/>
                </a:lnTo>
                <a:lnTo>
                  <a:pt x="1147" y="424"/>
                </a:lnTo>
                <a:lnTo>
                  <a:pt x="1146" y="421"/>
                </a:lnTo>
                <a:lnTo>
                  <a:pt x="1146" y="417"/>
                </a:lnTo>
                <a:lnTo>
                  <a:pt x="1145" y="414"/>
                </a:lnTo>
                <a:lnTo>
                  <a:pt x="1144" y="411"/>
                </a:lnTo>
                <a:lnTo>
                  <a:pt x="1143" y="409"/>
                </a:lnTo>
                <a:lnTo>
                  <a:pt x="1142" y="406"/>
                </a:lnTo>
                <a:lnTo>
                  <a:pt x="1141" y="403"/>
                </a:lnTo>
                <a:lnTo>
                  <a:pt x="1140" y="401"/>
                </a:lnTo>
                <a:lnTo>
                  <a:pt x="1139" y="399"/>
                </a:lnTo>
                <a:lnTo>
                  <a:pt x="1138" y="397"/>
                </a:lnTo>
                <a:lnTo>
                  <a:pt x="1137" y="394"/>
                </a:lnTo>
                <a:lnTo>
                  <a:pt x="1136" y="392"/>
                </a:lnTo>
                <a:lnTo>
                  <a:pt x="1135" y="390"/>
                </a:lnTo>
                <a:lnTo>
                  <a:pt x="1134" y="388"/>
                </a:lnTo>
                <a:lnTo>
                  <a:pt x="1132" y="386"/>
                </a:lnTo>
                <a:lnTo>
                  <a:pt x="1131" y="384"/>
                </a:lnTo>
                <a:lnTo>
                  <a:pt x="1130" y="383"/>
                </a:lnTo>
                <a:lnTo>
                  <a:pt x="1128" y="381"/>
                </a:lnTo>
                <a:lnTo>
                  <a:pt x="1127" y="379"/>
                </a:lnTo>
                <a:lnTo>
                  <a:pt x="1126" y="377"/>
                </a:lnTo>
                <a:lnTo>
                  <a:pt x="1124" y="376"/>
                </a:lnTo>
                <a:lnTo>
                  <a:pt x="1123" y="374"/>
                </a:lnTo>
                <a:lnTo>
                  <a:pt x="1122" y="373"/>
                </a:lnTo>
                <a:lnTo>
                  <a:pt x="1120" y="372"/>
                </a:lnTo>
                <a:lnTo>
                  <a:pt x="1119" y="370"/>
                </a:lnTo>
                <a:lnTo>
                  <a:pt x="1117" y="369"/>
                </a:lnTo>
                <a:lnTo>
                  <a:pt x="1116" y="369"/>
                </a:lnTo>
                <a:lnTo>
                  <a:pt x="1114" y="368"/>
                </a:lnTo>
                <a:lnTo>
                  <a:pt x="1112" y="368"/>
                </a:lnTo>
                <a:lnTo>
                  <a:pt x="1110" y="368"/>
                </a:lnTo>
                <a:lnTo>
                  <a:pt x="1109" y="369"/>
                </a:lnTo>
                <a:lnTo>
                  <a:pt x="1107" y="369"/>
                </a:lnTo>
                <a:lnTo>
                  <a:pt x="1105" y="370"/>
                </a:lnTo>
                <a:lnTo>
                  <a:pt x="1103" y="371"/>
                </a:lnTo>
                <a:lnTo>
                  <a:pt x="1101" y="372"/>
                </a:lnTo>
                <a:lnTo>
                  <a:pt x="1099" y="374"/>
                </a:lnTo>
                <a:lnTo>
                  <a:pt x="1097" y="376"/>
                </a:lnTo>
                <a:lnTo>
                  <a:pt x="1094" y="378"/>
                </a:lnTo>
                <a:lnTo>
                  <a:pt x="1092" y="381"/>
                </a:lnTo>
                <a:lnTo>
                  <a:pt x="1090" y="383"/>
                </a:lnTo>
                <a:lnTo>
                  <a:pt x="1088" y="386"/>
                </a:lnTo>
                <a:lnTo>
                  <a:pt x="1086" y="388"/>
                </a:lnTo>
                <a:lnTo>
                  <a:pt x="1084" y="390"/>
                </a:lnTo>
                <a:lnTo>
                  <a:pt x="1083" y="392"/>
                </a:lnTo>
                <a:lnTo>
                  <a:pt x="1082" y="393"/>
                </a:lnTo>
                <a:lnTo>
                  <a:pt x="1081" y="394"/>
                </a:lnTo>
                <a:lnTo>
                  <a:pt x="1081" y="394"/>
                </a:lnTo>
                <a:lnTo>
                  <a:pt x="1081" y="395"/>
                </a:lnTo>
                <a:lnTo>
                  <a:pt x="1081" y="394"/>
                </a:lnTo>
                <a:lnTo>
                  <a:pt x="1081" y="394"/>
                </a:lnTo>
                <a:lnTo>
                  <a:pt x="1082" y="393"/>
                </a:lnTo>
                <a:lnTo>
                  <a:pt x="1083" y="392"/>
                </a:lnTo>
                <a:lnTo>
                  <a:pt x="1085" y="391"/>
                </a:lnTo>
                <a:lnTo>
                  <a:pt x="1086" y="389"/>
                </a:lnTo>
                <a:lnTo>
                  <a:pt x="1088" y="387"/>
                </a:lnTo>
                <a:lnTo>
                  <a:pt x="1091" y="384"/>
                </a:lnTo>
                <a:lnTo>
                  <a:pt x="1093" y="381"/>
                </a:lnTo>
                <a:lnTo>
                  <a:pt x="1095" y="378"/>
                </a:lnTo>
                <a:lnTo>
                  <a:pt x="1098" y="375"/>
                </a:lnTo>
                <a:lnTo>
                  <a:pt x="1100" y="372"/>
                </a:lnTo>
                <a:lnTo>
                  <a:pt x="1102" y="368"/>
                </a:lnTo>
                <a:lnTo>
                  <a:pt x="1104" y="364"/>
                </a:lnTo>
                <a:lnTo>
                  <a:pt x="1106" y="360"/>
                </a:lnTo>
                <a:lnTo>
                  <a:pt x="1108" y="356"/>
                </a:lnTo>
                <a:lnTo>
                  <a:pt x="1110" y="351"/>
                </a:lnTo>
                <a:lnTo>
                  <a:pt x="1112" y="346"/>
                </a:lnTo>
                <a:lnTo>
                  <a:pt x="1114" y="341"/>
                </a:lnTo>
                <a:lnTo>
                  <a:pt x="1116" y="336"/>
                </a:lnTo>
                <a:lnTo>
                  <a:pt x="1118" y="330"/>
                </a:lnTo>
                <a:lnTo>
                  <a:pt x="1120" y="325"/>
                </a:lnTo>
                <a:lnTo>
                  <a:pt x="1122" y="319"/>
                </a:lnTo>
                <a:lnTo>
                  <a:pt x="1123" y="313"/>
                </a:lnTo>
                <a:lnTo>
                  <a:pt x="1125" y="306"/>
                </a:lnTo>
                <a:lnTo>
                  <a:pt x="1126" y="300"/>
                </a:lnTo>
                <a:lnTo>
                  <a:pt x="1127" y="294"/>
                </a:lnTo>
                <a:lnTo>
                  <a:pt x="1128" y="289"/>
                </a:lnTo>
                <a:lnTo>
                  <a:pt x="1129" y="283"/>
                </a:lnTo>
                <a:lnTo>
                  <a:pt x="1130" y="277"/>
                </a:lnTo>
                <a:lnTo>
                  <a:pt x="1130" y="272"/>
                </a:lnTo>
                <a:lnTo>
                  <a:pt x="1131" y="266"/>
                </a:lnTo>
                <a:lnTo>
                  <a:pt x="1131" y="261"/>
                </a:lnTo>
                <a:lnTo>
                  <a:pt x="1131" y="256"/>
                </a:lnTo>
                <a:lnTo>
                  <a:pt x="1130" y="251"/>
                </a:lnTo>
                <a:lnTo>
                  <a:pt x="1130" y="246"/>
                </a:lnTo>
                <a:lnTo>
                  <a:pt x="1129" y="241"/>
                </a:lnTo>
                <a:lnTo>
                  <a:pt x="1129" y="237"/>
                </a:lnTo>
                <a:lnTo>
                  <a:pt x="1128" y="232"/>
                </a:lnTo>
                <a:lnTo>
                  <a:pt x="1126" y="228"/>
                </a:lnTo>
                <a:lnTo>
                  <a:pt x="1125" y="223"/>
                </a:lnTo>
                <a:lnTo>
                  <a:pt x="1124" y="219"/>
                </a:lnTo>
                <a:lnTo>
                  <a:pt x="1122" y="215"/>
                </a:lnTo>
                <a:lnTo>
                  <a:pt x="1121" y="211"/>
                </a:lnTo>
                <a:lnTo>
                  <a:pt x="1119" y="207"/>
                </a:lnTo>
                <a:lnTo>
                  <a:pt x="1118" y="203"/>
                </a:lnTo>
                <a:lnTo>
                  <a:pt x="1116" y="199"/>
                </a:lnTo>
                <a:lnTo>
                  <a:pt x="1114" y="195"/>
                </a:lnTo>
                <a:lnTo>
                  <a:pt x="1113" y="191"/>
                </a:lnTo>
                <a:lnTo>
                  <a:pt x="1111" y="187"/>
                </a:lnTo>
                <a:lnTo>
                  <a:pt x="1109" y="184"/>
                </a:lnTo>
                <a:lnTo>
                  <a:pt x="1107" y="180"/>
                </a:lnTo>
                <a:lnTo>
                  <a:pt x="1105" y="176"/>
                </a:lnTo>
                <a:lnTo>
                  <a:pt x="1103" y="173"/>
                </a:lnTo>
                <a:lnTo>
                  <a:pt x="1101" y="170"/>
                </a:lnTo>
                <a:lnTo>
                  <a:pt x="1098" y="166"/>
                </a:lnTo>
                <a:lnTo>
                  <a:pt x="1096" y="163"/>
                </a:lnTo>
                <a:lnTo>
                  <a:pt x="1094" y="160"/>
                </a:lnTo>
                <a:lnTo>
                  <a:pt x="1091" y="156"/>
                </a:lnTo>
                <a:lnTo>
                  <a:pt x="1089" y="153"/>
                </a:lnTo>
                <a:lnTo>
                  <a:pt x="1086" y="150"/>
                </a:lnTo>
                <a:lnTo>
                  <a:pt x="1083" y="147"/>
                </a:lnTo>
                <a:lnTo>
                  <a:pt x="1081" y="144"/>
                </a:lnTo>
                <a:lnTo>
                  <a:pt x="1078" y="141"/>
                </a:lnTo>
                <a:lnTo>
                  <a:pt x="1075" y="139"/>
                </a:lnTo>
                <a:lnTo>
                  <a:pt x="1072" y="136"/>
                </a:lnTo>
                <a:lnTo>
                  <a:pt x="1069" y="133"/>
                </a:lnTo>
                <a:lnTo>
                  <a:pt x="1066" y="130"/>
                </a:lnTo>
                <a:lnTo>
                  <a:pt x="1062" y="128"/>
                </a:lnTo>
                <a:lnTo>
                  <a:pt x="1059" y="125"/>
                </a:lnTo>
                <a:lnTo>
                  <a:pt x="1056" y="123"/>
                </a:lnTo>
                <a:lnTo>
                  <a:pt x="1052" y="121"/>
                </a:lnTo>
                <a:lnTo>
                  <a:pt x="1049" y="118"/>
                </a:lnTo>
                <a:lnTo>
                  <a:pt x="1045" y="116"/>
                </a:lnTo>
                <a:lnTo>
                  <a:pt x="1042" y="114"/>
                </a:lnTo>
                <a:lnTo>
                  <a:pt x="1038" y="112"/>
                </a:lnTo>
                <a:lnTo>
                  <a:pt x="1034" y="110"/>
                </a:lnTo>
                <a:lnTo>
                  <a:pt x="1031" y="108"/>
                </a:lnTo>
                <a:lnTo>
                  <a:pt x="1027" y="106"/>
                </a:lnTo>
                <a:lnTo>
                  <a:pt x="1023" y="104"/>
                </a:lnTo>
                <a:lnTo>
                  <a:pt x="1020" y="102"/>
                </a:lnTo>
                <a:lnTo>
                  <a:pt x="1016" y="100"/>
                </a:lnTo>
                <a:lnTo>
                  <a:pt x="1012" y="99"/>
                </a:lnTo>
                <a:lnTo>
                  <a:pt x="1008" y="97"/>
                </a:lnTo>
                <a:lnTo>
                  <a:pt x="1004" y="95"/>
                </a:lnTo>
                <a:lnTo>
                  <a:pt x="1000" y="94"/>
                </a:lnTo>
                <a:lnTo>
                  <a:pt x="996" y="92"/>
                </a:lnTo>
                <a:lnTo>
                  <a:pt x="992" y="91"/>
                </a:lnTo>
                <a:lnTo>
                  <a:pt x="988" y="90"/>
                </a:lnTo>
                <a:lnTo>
                  <a:pt x="984" y="89"/>
                </a:lnTo>
                <a:lnTo>
                  <a:pt x="981" y="87"/>
                </a:lnTo>
                <a:lnTo>
                  <a:pt x="977" y="86"/>
                </a:lnTo>
                <a:lnTo>
                  <a:pt x="973" y="86"/>
                </a:lnTo>
                <a:lnTo>
                  <a:pt x="970" y="85"/>
                </a:lnTo>
                <a:lnTo>
                  <a:pt x="966" y="84"/>
                </a:lnTo>
                <a:lnTo>
                  <a:pt x="963" y="83"/>
                </a:lnTo>
                <a:lnTo>
                  <a:pt x="959" y="83"/>
                </a:lnTo>
                <a:lnTo>
                  <a:pt x="956" y="82"/>
                </a:lnTo>
                <a:lnTo>
                  <a:pt x="952" y="82"/>
                </a:lnTo>
                <a:lnTo>
                  <a:pt x="949" y="82"/>
                </a:lnTo>
                <a:lnTo>
                  <a:pt x="946" y="81"/>
                </a:lnTo>
                <a:lnTo>
                  <a:pt x="943" y="81"/>
                </a:lnTo>
                <a:lnTo>
                  <a:pt x="940" y="81"/>
                </a:lnTo>
                <a:lnTo>
                  <a:pt x="937" y="81"/>
                </a:lnTo>
                <a:lnTo>
                  <a:pt x="934" y="81"/>
                </a:lnTo>
                <a:lnTo>
                  <a:pt x="932" y="81"/>
                </a:lnTo>
                <a:lnTo>
                  <a:pt x="930" y="82"/>
                </a:lnTo>
                <a:lnTo>
                  <a:pt x="928" y="82"/>
                </a:lnTo>
                <a:lnTo>
                  <a:pt x="927" y="82"/>
                </a:lnTo>
                <a:lnTo>
                  <a:pt x="926" y="82"/>
                </a:lnTo>
                <a:lnTo>
                  <a:pt x="925" y="82"/>
                </a:lnTo>
                <a:lnTo>
                  <a:pt x="925" y="82"/>
                </a:lnTo>
                <a:lnTo>
                  <a:pt x="925" y="82"/>
                </a:lnTo>
                <a:lnTo>
                  <a:pt x="926" y="82"/>
                </a:lnTo>
                <a:lnTo>
                  <a:pt x="927" y="82"/>
                </a:lnTo>
                <a:lnTo>
                  <a:pt x="928" y="82"/>
                </a:lnTo>
                <a:lnTo>
                  <a:pt x="930" y="82"/>
                </a:lnTo>
                <a:lnTo>
                  <a:pt x="932" y="81"/>
                </a:lnTo>
                <a:lnTo>
                  <a:pt x="934" y="81"/>
                </a:lnTo>
                <a:lnTo>
                  <a:pt x="937" y="81"/>
                </a:lnTo>
                <a:lnTo>
                  <a:pt x="940" y="81"/>
                </a:lnTo>
                <a:lnTo>
                  <a:pt x="942" y="81"/>
                </a:lnTo>
                <a:lnTo>
                  <a:pt x="944" y="80"/>
                </a:lnTo>
                <a:lnTo>
                  <a:pt x="946" y="80"/>
                </a:lnTo>
                <a:lnTo>
                  <a:pt x="948" y="79"/>
                </a:lnTo>
                <a:lnTo>
                  <a:pt x="949" y="78"/>
                </a:lnTo>
                <a:lnTo>
                  <a:pt x="950" y="77"/>
                </a:lnTo>
                <a:lnTo>
                  <a:pt x="951" y="76"/>
                </a:lnTo>
                <a:lnTo>
                  <a:pt x="951" y="75"/>
                </a:lnTo>
                <a:lnTo>
                  <a:pt x="951" y="73"/>
                </a:lnTo>
                <a:lnTo>
                  <a:pt x="951" y="72"/>
                </a:lnTo>
                <a:lnTo>
                  <a:pt x="951" y="70"/>
                </a:lnTo>
                <a:lnTo>
                  <a:pt x="950" y="68"/>
                </a:lnTo>
                <a:lnTo>
                  <a:pt x="949" y="66"/>
                </a:lnTo>
                <a:lnTo>
                  <a:pt x="947" y="64"/>
                </a:lnTo>
                <a:lnTo>
                  <a:pt x="946" y="62"/>
                </a:lnTo>
                <a:lnTo>
                  <a:pt x="944" y="59"/>
                </a:lnTo>
                <a:lnTo>
                  <a:pt x="942" y="57"/>
                </a:lnTo>
                <a:lnTo>
                  <a:pt x="939" y="54"/>
                </a:lnTo>
                <a:lnTo>
                  <a:pt x="937" y="52"/>
                </a:lnTo>
                <a:lnTo>
                  <a:pt x="935" y="50"/>
                </a:lnTo>
                <a:lnTo>
                  <a:pt x="932" y="47"/>
                </a:lnTo>
                <a:lnTo>
                  <a:pt x="930" y="45"/>
                </a:lnTo>
                <a:lnTo>
                  <a:pt x="927" y="42"/>
                </a:lnTo>
                <a:lnTo>
                  <a:pt x="924" y="40"/>
                </a:lnTo>
                <a:lnTo>
                  <a:pt x="921" y="37"/>
                </a:lnTo>
                <a:lnTo>
                  <a:pt x="918" y="35"/>
                </a:lnTo>
                <a:lnTo>
                  <a:pt x="915" y="32"/>
                </a:lnTo>
                <a:lnTo>
                  <a:pt x="912" y="29"/>
                </a:lnTo>
                <a:lnTo>
                  <a:pt x="908" y="27"/>
                </a:lnTo>
                <a:lnTo>
                  <a:pt x="905" y="24"/>
                </a:lnTo>
                <a:lnTo>
                  <a:pt x="901" y="21"/>
                </a:lnTo>
                <a:lnTo>
                  <a:pt x="897" y="19"/>
                </a:lnTo>
                <a:lnTo>
                  <a:pt x="894" y="16"/>
                </a:lnTo>
                <a:lnTo>
                  <a:pt x="890" y="14"/>
                </a:lnTo>
                <a:lnTo>
                  <a:pt x="887" y="12"/>
                </a:lnTo>
                <a:lnTo>
                  <a:pt x="883" y="10"/>
                </a:lnTo>
                <a:lnTo>
                  <a:pt x="880" y="8"/>
                </a:lnTo>
                <a:lnTo>
                  <a:pt x="876" y="7"/>
                </a:lnTo>
                <a:lnTo>
                  <a:pt x="873" y="5"/>
                </a:lnTo>
                <a:lnTo>
                  <a:pt x="870" y="4"/>
                </a:lnTo>
                <a:lnTo>
                  <a:pt x="866" y="3"/>
                </a:lnTo>
                <a:lnTo>
                  <a:pt x="863" y="2"/>
                </a:lnTo>
                <a:lnTo>
                  <a:pt x="860" y="1"/>
                </a:lnTo>
                <a:lnTo>
                  <a:pt x="857" y="1"/>
                </a:lnTo>
                <a:lnTo>
                  <a:pt x="853" y="0"/>
                </a:lnTo>
                <a:lnTo>
                  <a:pt x="850" y="0"/>
                </a:lnTo>
                <a:lnTo>
                  <a:pt x="847" y="0"/>
                </a:lnTo>
                <a:lnTo>
                  <a:pt x="844" y="0"/>
                </a:lnTo>
                <a:lnTo>
                  <a:pt x="841" y="0"/>
                </a:lnTo>
                <a:lnTo>
                  <a:pt x="838" y="0"/>
                </a:lnTo>
                <a:lnTo>
                  <a:pt x="835" y="1"/>
                </a:lnTo>
                <a:lnTo>
                  <a:pt x="832" y="1"/>
                </a:lnTo>
                <a:lnTo>
                  <a:pt x="829" y="1"/>
                </a:lnTo>
                <a:lnTo>
                  <a:pt x="826" y="2"/>
                </a:lnTo>
                <a:lnTo>
                  <a:pt x="823" y="3"/>
                </a:lnTo>
                <a:lnTo>
                  <a:pt x="820" y="3"/>
                </a:lnTo>
                <a:lnTo>
                  <a:pt x="817" y="4"/>
                </a:lnTo>
                <a:lnTo>
                  <a:pt x="814" y="5"/>
                </a:lnTo>
                <a:lnTo>
                  <a:pt x="812" y="6"/>
                </a:lnTo>
                <a:lnTo>
                  <a:pt x="809" y="7"/>
                </a:lnTo>
                <a:lnTo>
                  <a:pt x="806" y="8"/>
                </a:lnTo>
                <a:lnTo>
                  <a:pt x="803" y="9"/>
                </a:lnTo>
                <a:lnTo>
                  <a:pt x="800" y="11"/>
                </a:lnTo>
                <a:lnTo>
                  <a:pt x="797" y="12"/>
                </a:lnTo>
                <a:lnTo>
                  <a:pt x="794" y="14"/>
                </a:lnTo>
                <a:lnTo>
                  <a:pt x="791" y="15"/>
                </a:lnTo>
                <a:lnTo>
                  <a:pt x="789" y="17"/>
                </a:lnTo>
                <a:lnTo>
                  <a:pt x="786" y="19"/>
                </a:lnTo>
                <a:lnTo>
                  <a:pt x="783" y="21"/>
                </a:lnTo>
                <a:lnTo>
                  <a:pt x="781" y="22"/>
                </a:lnTo>
                <a:lnTo>
                  <a:pt x="778" y="25"/>
                </a:lnTo>
                <a:lnTo>
                  <a:pt x="776" y="27"/>
                </a:lnTo>
                <a:lnTo>
                  <a:pt x="773" y="29"/>
                </a:lnTo>
                <a:lnTo>
                  <a:pt x="771" y="31"/>
                </a:lnTo>
                <a:lnTo>
                  <a:pt x="769" y="34"/>
                </a:lnTo>
                <a:lnTo>
                  <a:pt x="766" y="36"/>
                </a:lnTo>
                <a:lnTo>
                  <a:pt x="764" y="39"/>
                </a:lnTo>
                <a:lnTo>
                  <a:pt x="762" y="42"/>
                </a:lnTo>
                <a:lnTo>
                  <a:pt x="760" y="45"/>
                </a:lnTo>
                <a:lnTo>
                  <a:pt x="758" y="48"/>
                </a:lnTo>
                <a:lnTo>
                  <a:pt x="756" y="50"/>
                </a:lnTo>
                <a:lnTo>
                  <a:pt x="755" y="53"/>
                </a:lnTo>
                <a:lnTo>
                  <a:pt x="754" y="56"/>
                </a:lnTo>
                <a:lnTo>
                  <a:pt x="753" y="58"/>
                </a:lnTo>
                <a:lnTo>
                  <a:pt x="752" y="61"/>
                </a:lnTo>
                <a:lnTo>
                  <a:pt x="752" y="63"/>
                </a:lnTo>
                <a:lnTo>
                  <a:pt x="752" y="66"/>
                </a:lnTo>
                <a:lnTo>
                  <a:pt x="752" y="68"/>
                </a:lnTo>
                <a:lnTo>
                  <a:pt x="752" y="71"/>
                </a:lnTo>
                <a:lnTo>
                  <a:pt x="753" y="73"/>
                </a:lnTo>
                <a:lnTo>
                  <a:pt x="754" y="75"/>
                </a:lnTo>
                <a:lnTo>
                  <a:pt x="755" y="77"/>
                </a:lnTo>
                <a:lnTo>
                  <a:pt x="756" y="79"/>
                </a:lnTo>
                <a:lnTo>
                  <a:pt x="758" y="81"/>
                </a:lnTo>
                <a:lnTo>
                  <a:pt x="760" y="83"/>
                </a:lnTo>
                <a:lnTo>
                  <a:pt x="762" y="85"/>
                </a:lnTo>
                <a:lnTo>
                  <a:pt x="764" y="86"/>
                </a:lnTo>
                <a:lnTo>
                  <a:pt x="765" y="88"/>
                </a:lnTo>
                <a:lnTo>
                  <a:pt x="766" y="89"/>
                </a:lnTo>
                <a:lnTo>
                  <a:pt x="767" y="90"/>
                </a:lnTo>
                <a:lnTo>
                  <a:pt x="768" y="90"/>
                </a:lnTo>
                <a:lnTo>
                  <a:pt x="768" y="91"/>
                </a:lnTo>
                <a:lnTo>
                  <a:pt x="768" y="91"/>
                </a:lnTo>
                <a:lnTo>
                  <a:pt x="768" y="91"/>
                </a:lnTo>
                <a:lnTo>
                  <a:pt x="768" y="90"/>
                </a:lnTo>
                <a:lnTo>
                  <a:pt x="767" y="90"/>
                </a:lnTo>
                <a:lnTo>
                  <a:pt x="766" y="89"/>
                </a:lnTo>
                <a:lnTo>
                  <a:pt x="765" y="88"/>
                </a:lnTo>
                <a:lnTo>
                  <a:pt x="764" y="86"/>
                </a:lnTo>
                <a:lnTo>
                  <a:pt x="762" y="85"/>
                </a:lnTo>
                <a:lnTo>
                  <a:pt x="760" y="83"/>
                </a:lnTo>
                <a:lnTo>
                  <a:pt x="758" y="81"/>
                </a:lnTo>
                <a:lnTo>
                  <a:pt x="756" y="79"/>
                </a:lnTo>
                <a:lnTo>
                  <a:pt x="754" y="77"/>
                </a:lnTo>
                <a:lnTo>
                  <a:pt x="751" y="75"/>
                </a:lnTo>
                <a:lnTo>
                  <a:pt x="749" y="73"/>
                </a:lnTo>
                <a:lnTo>
                  <a:pt x="746" y="71"/>
                </a:lnTo>
                <a:lnTo>
                  <a:pt x="744" y="69"/>
                </a:lnTo>
                <a:lnTo>
                  <a:pt x="741" y="67"/>
                </a:lnTo>
                <a:lnTo>
                  <a:pt x="738" y="65"/>
                </a:lnTo>
                <a:lnTo>
                  <a:pt x="735" y="63"/>
                </a:lnTo>
                <a:lnTo>
                  <a:pt x="732" y="61"/>
                </a:lnTo>
                <a:lnTo>
                  <a:pt x="729" y="59"/>
                </a:lnTo>
                <a:lnTo>
                  <a:pt x="726" y="57"/>
                </a:lnTo>
                <a:lnTo>
                  <a:pt x="723" y="54"/>
                </a:lnTo>
                <a:lnTo>
                  <a:pt x="720" y="52"/>
                </a:lnTo>
                <a:lnTo>
                  <a:pt x="716" y="50"/>
                </a:lnTo>
                <a:lnTo>
                  <a:pt x="713" y="48"/>
                </a:lnTo>
                <a:lnTo>
                  <a:pt x="709" y="46"/>
                </a:lnTo>
                <a:lnTo>
                  <a:pt x="706" y="44"/>
                </a:lnTo>
                <a:lnTo>
                  <a:pt x="702" y="42"/>
                </a:lnTo>
                <a:lnTo>
                  <a:pt x="698" y="40"/>
                </a:lnTo>
                <a:lnTo>
                  <a:pt x="694" y="38"/>
                </a:lnTo>
                <a:lnTo>
                  <a:pt x="690" y="36"/>
                </a:lnTo>
                <a:lnTo>
                  <a:pt x="686" y="34"/>
                </a:lnTo>
                <a:lnTo>
                  <a:pt x="681" y="32"/>
                </a:lnTo>
                <a:lnTo>
                  <a:pt x="677" y="30"/>
                </a:lnTo>
                <a:lnTo>
                  <a:pt x="672" y="29"/>
                </a:lnTo>
                <a:lnTo>
                  <a:pt x="668" y="27"/>
                </a:lnTo>
                <a:lnTo>
                  <a:pt x="663" y="26"/>
                </a:lnTo>
                <a:lnTo>
                  <a:pt x="658" y="24"/>
                </a:lnTo>
                <a:lnTo>
                  <a:pt x="653" y="23"/>
                </a:lnTo>
                <a:lnTo>
                  <a:pt x="648" y="21"/>
                </a:lnTo>
                <a:lnTo>
                  <a:pt x="643" y="20"/>
                </a:lnTo>
                <a:lnTo>
                  <a:pt x="638" y="19"/>
                </a:lnTo>
                <a:lnTo>
                  <a:pt x="633" y="18"/>
                </a:lnTo>
                <a:lnTo>
                  <a:pt x="628" y="17"/>
                </a:lnTo>
                <a:lnTo>
                  <a:pt x="623" y="16"/>
                </a:lnTo>
                <a:lnTo>
                  <a:pt x="619" y="16"/>
                </a:lnTo>
                <a:lnTo>
                  <a:pt x="614" y="15"/>
                </a:lnTo>
                <a:lnTo>
                  <a:pt x="610" y="15"/>
                </a:lnTo>
                <a:lnTo>
                  <a:pt x="606" y="14"/>
                </a:lnTo>
                <a:lnTo>
                  <a:pt x="602" y="14"/>
                </a:lnTo>
                <a:lnTo>
                  <a:pt x="598" y="14"/>
                </a:lnTo>
                <a:lnTo>
                  <a:pt x="594" y="14"/>
                </a:lnTo>
                <a:lnTo>
                  <a:pt x="590" y="14"/>
                </a:lnTo>
                <a:lnTo>
                  <a:pt x="586" y="14"/>
                </a:lnTo>
                <a:lnTo>
                  <a:pt x="583" y="15"/>
                </a:lnTo>
                <a:lnTo>
                  <a:pt x="579" y="15"/>
                </a:lnTo>
                <a:lnTo>
                  <a:pt x="576" y="16"/>
                </a:lnTo>
                <a:lnTo>
                  <a:pt x="572" y="17"/>
                </a:lnTo>
                <a:lnTo>
                  <a:pt x="569" y="18"/>
                </a:lnTo>
                <a:lnTo>
                  <a:pt x="566" y="19"/>
                </a:lnTo>
                <a:lnTo>
                  <a:pt x="562" y="20"/>
                </a:lnTo>
                <a:lnTo>
                  <a:pt x="559" y="22"/>
                </a:lnTo>
                <a:lnTo>
                  <a:pt x="556" y="23"/>
                </a:lnTo>
                <a:lnTo>
                  <a:pt x="553" y="25"/>
                </a:lnTo>
                <a:lnTo>
                  <a:pt x="549" y="27"/>
                </a:lnTo>
                <a:lnTo>
                  <a:pt x="546" y="29"/>
                </a:lnTo>
                <a:lnTo>
                  <a:pt x="543" y="32"/>
                </a:lnTo>
                <a:lnTo>
                  <a:pt x="540" y="34"/>
                </a:lnTo>
                <a:lnTo>
                  <a:pt x="536" y="37"/>
                </a:lnTo>
                <a:lnTo>
                  <a:pt x="533" y="40"/>
                </a:lnTo>
                <a:lnTo>
                  <a:pt x="530" y="43"/>
                </a:lnTo>
                <a:lnTo>
                  <a:pt x="527" y="46"/>
                </a:lnTo>
                <a:lnTo>
                  <a:pt x="524" y="50"/>
                </a:lnTo>
                <a:lnTo>
                  <a:pt x="522" y="52"/>
                </a:lnTo>
                <a:lnTo>
                  <a:pt x="519" y="55"/>
                </a:lnTo>
                <a:lnTo>
                  <a:pt x="518" y="56"/>
                </a:lnTo>
                <a:lnTo>
                  <a:pt x="516" y="58"/>
                </a:lnTo>
                <a:lnTo>
                  <a:pt x="515" y="59"/>
                </a:lnTo>
                <a:lnTo>
                  <a:pt x="515" y="60"/>
                </a:lnTo>
                <a:lnTo>
                  <a:pt x="515" y="60"/>
                </a:lnTo>
                <a:lnTo>
                  <a:pt x="515" y="60"/>
                </a:lnTo>
                <a:lnTo>
                  <a:pt x="515" y="59"/>
                </a:lnTo>
                <a:lnTo>
                  <a:pt x="516" y="58"/>
                </a:lnTo>
                <a:lnTo>
                  <a:pt x="518" y="56"/>
                </a:lnTo>
                <a:lnTo>
                  <a:pt x="519" y="55"/>
                </a:lnTo>
                <a:lnTo>
                  <a:pt x="522" y="52"/>
                </a:lnTo>
                <a:lnTo>
                  <a:pt x="524" y="50"/>
                </a:lnTo>
                <a:lnTo>
                  <a:pt x="527" y="46"/>
                </a:lnTo>
                <a:lnTo>
                  <a:pt x="530" y="43"/>
                </a:lnTo>
                <a:lnTo>
                  <a:pt x="532" y="40"/>
                </a:lnTo>
                <a:lnTo>
                  <a:pt x="534" y="37"/>
                </a:lnTo>
                <a:lnTo>
                  <a:pt x="535" y="34"/>
                </a:lnTo>
                <a:lnTo>
                  <a:pt x="536" y="32"/>
                </a:lnTo>
                <a:lnTo>
                  <a:pt x="536" y="30"/>
                </a:lnTo>
                <a:lnTo>
                  <a:pt x="536" y="27"/>
                </a:lnTo>
                <a:lnTo>
                  <a:pt x="535" y="25"/>
                </a:lnTo>
                <a:lnTo>
                  <a:pt x="534" y="24"/>
                </a:lnTo>
                <a:lnTo>
                  <a:pt x="532" y="22"/>
                </a:lnTo>
                <a:lnTo>
                  <a:pt x="530" y="21"/>
                </a:lnTo>
                <a:lnTo>
                  <a:pt x="527" y="19"/>
                </a:lnTo>
                <a:lnTo>
                  <a:pt x="524" y="18"/>
                </a:lnTo>
                <a:lnTo>
                  <a:pt x="520" y="17"/>
                </a:lnTo>
                <a:lnTo>
                  <a:pt x="516" y="17"/>
                </a:lnTo>
                <a:lnTo>
                  <a:pt x="511" y="16"/>
                </a:lnTo>
                <a:lnTo>
                  <a:pt x="505" y="16"/>
                </a:lnTo>
                <a:lnTo>
                  <a:pt x="500" y="15"/>
                </a:lnTo>
                <a:lnTo>
                  <a:pt x="495" y="15"/>
                </a:lnTo>
                <a:lnTo>
                  <a:pt x="490" y="15"/>
                </a:lnTo>
                <a:lnTo>
                  <a:pt x="485" y="15"/>
                </a:lnTo>
                <a:lnTo>
                  <a:pt x="480" y="15"/>
                </a:lnTo>
                <a:lnTo>
                  <a:pt x="475" y="15"/>
                </a:lnTo>
                <a:lnTo>
                  <a:pt x="470" y="15"/>
                </a:lnTo>
                <a:lnTo>
                  <a:pt x="465" y="15"/>
                </a:lnTo>
                <a:lnTo>
                  <a:pt x="460" y="15"/>
                </a:lnTo>
                <a:lnTo>
                  <a:pt x="455" y="16"/>
                </a:lnTo>
                <a:lnTo>
                  <a:pt x="450" y="16"/>
                </a:lnTo>
                <a:lnTo>
                  <a:pt x="446" y="17"/>
                </a:lnTo>
                <a:lnTo>
                  <a:pt x="441" y="17"/>
                </a:lnTo>
                <a:lnTo>
                  <a:pt x="436" y="18"/>
                </a:lnTo>
                <a:lnTo>
                  <a:pt x="431" y="19"/>
                </a:lnTo>
                <a:lnTo>
                  <a:pt x="426" y="20"/>
                </a:lnTo>
                <a:lnTo>
                  <a:pt x="422" y="20"/>
                </a:lnTo>
                <a:lnTo>
                  <a:pt x="417" y="22"/>
                </a:lnTo>
                <a:lnTo>
                  <a:pt x="412" y="23"/>
                </a:lnTo>
                <a:lnTo>
                  <a:pt x="408" y="24"/>
                </a:lnTo>
                <a:lnTo>
                  <a:pt x="403" y="25"/>
                </a:lnTo>
                <a:lnTo>
                  <a:pt x="399" y="26"/>
                </a:lnTo>
                <a:lnTo>
                  <a:pt x="394" y="28"/>
                </a:lnTo>
                <a:lnTo>
                  <a:pt x="390" y="29"/>
                </a:lnTo>
                <a:lnTo>
                  <a:pt x="386" y="31"/>
                </a:lnTo>
                <a:lnTo>
                  <a:pt x="381" y="33"/>
                </a:lnTo>
                <a:lnTo>
                  <a:pt x="377" y="35"/>
                </a:lnTo>
                <a:lnTo>
                  <a:pt x="373" y="37"/>
                </a:lnTo>
                <a:lnTo>
                  <a:pt x="368" y="39"/>
                </a:lnTo>
                <a:lnTo>
                  <a:pt x="364" y="41"/>
                </a:lnTo>
                <a:lnTo>
                  <a:pt x="360" y="43"/>
                </a:lnTo>
                <a:lnTo>
                  <a:pt x="356" y="45"/>
                </a:lnTo>
                <a:lnTo>
                  <a:pt x="352" y="47"/>
                </a:lnTo>
                <a:lnTo>
                  <a:pt x="348" y="50"/>
                </a:lnTo>
                <a:lnTo>
                  <a:pt x="345" y="52"/>
                </a:lnTo>
                <a:lnTo>
                  <a:pt x="341" y="55"/>
                </a:lnTo>
                <a:lnTo>
                  <a:pt x="338" y="58"/>
                </a:lnTo>
                <a:lnTo>
                  <a:pt x="335" y="60"/>
                </a:lnTo>
                <a:lnTo>
                  <a:pt x="331" y="63"/>
                </a:lnTo>
                <a:lnTo>
                  <a:pt x="328" y="66"/>
                </a:lnTo>
                <a:lnTo>
                  <a:pt x="325" y="69"/>
                </a:lnTo>
                <a:lnTo>
                  <a:pt x="323" y="72"/>
                </a:lnTo>
                <a:lnTo>
                  <a:pt x="320" y="75"/>
                </a:lnTo>
                <a:lnTo>
                  <a:pt x="317" y="78"/>
                </a:lnTo>
                <a:lnTo>
                  <a:pt x="315" y="82"/>
                </a:lnTo>
                <a:lnTo>
                  <a:pt x="313" y="85"/>
                </a:lnTo>
                <a:lnTo>
                  <a:pt x="310" y="88"/>
                </a:lnTo>
                <a:lnTo>
                  <a:pt x="308" y="92"/>
                </a:lnTo>
                <a:lnTo>
                  <a:pt x="306" y="95"/>
                </a:lnTo>
                <a:lnTo>
                  <a:pt x="304" y="98"/>
                </a:lnTo>
                <a:lnTo>
                  <a:pt x="303" y="102"/>
                </a:lnTo>
                <a:lnTo>
                  <a:pt x="301" y="105"/>
                </a:lnTo>
                <a:lnTo>
                  <a:pt x="300" y="108"/>
                </a:lnTo>
                <a:lnTo>
                  <a:pt x="298" y="111"/>
                </a:lnTo>
                <a:lnTo>
                  <a:pt x="297" y="113"/>
                </a:lnTo>
                <a:lnTo>
                  <a:pt x="296" y="116"/>
                </a:lnTo>
                <a:lnTo>
                  <a:pt x="295" y="119"/>
                </a:lnTo>
                <a:lnTo>
                  <a:pt x="294" y="121"/>
                </a:lnTo>
                <a:lnTo>
                  <a:pt x="294" y="124"/>
                </a:lnTo>
                <a:lnTo>
                  <a:pt x="293" y="126"/>
                </a:lnTo>
                <a:lnTo>
                  <a:pt x="293" y="129"/>
                </a:lnTo>
                <a:lnTo>
                  <a:pt x="293" y="131"/>
                </a:lnTo>
                <a:lnTo>
                  <a:pt x="292" y="133"/>
                </a:lnTo>
                <a:lnTo>
                  <a:pt x="292" y="135"/>
                </a:lnTo>
                <a:lnTo>
                  <a:pt x="292" y="137"/>
                </a:lnTo>
                <a:lnTo>
                  <a:pt x="292" y="138"/>
                </a:lnTo>
                <a:lnTo>
                  <a:pt x="292" y="139"/>
                </a:lnTo>
                <a:lnTo>
                  <a:pt x="292" y="140"/>
                </a:lnTo>
                <a:lnTo>
                  <a:pt x="292" y="141"/>
                </a:lnTo>
                <a:lnTo>
                  <a:pt x="292" y="141"/>
                </a:lnTo>
                <a:lnTo>
                  <a:pt x="292" y="142"/>
                </a:lnTo>
                <a:lnTo>
                  <a:pt x="292" y="141"/>
                </a:lnTo>
                <a:lnTo>
                  <a:pt x="292" y="141"/>
                </a:lnTo>
                <a:lnTo>
                  <a:pt x="292" y="140"/>
                </a:lnTo>
                <a:lnTo>
                  <a:pt x="292" y="139"/>
                </a:lnTo>
                <a:lnTo>
                  <a:pt x="292" y="138"/>
                </a:lnTo>
                <a:lnTo>
                  <a:pt x="292" y="137"/>
                </a:lnTo>
                <a:lnTo>
                  <a:pt x="292" y="135"/>
                </a:lnTo>
                <a:lnTo>
                  <a:pt x="292" y="133"/>
                </a:lnTo>
                <a:lnTo>
                  <a:pt x="292" y="131"/>
                </a:lnTo>
                <a:lnTo>
                  <a:pt x="292" y="129"/>
                </a:lnTo>
                <a:lnTo>
                  <a:pt x="292" y="127"/>
                </a:lnTo>
                <a:lnTo>
                  <a:pt x="292" y="124"/>
                </a:lnTo>
                <a:lnTo>
                  <a:pt x="291" y="122"/>
                </a:lnTo>
                <a:lnTo>
                  <a:pt x="290" y="120"/>
                </a:lnTo>
                <a:lnTo>
                  <a:pt x="289" y="118"/>
                </a:lnTo>
                <a:lnTo>
                  <a:pt x="288" y="115"/>
                </a:lnTo>
                <a:lnTo>
                  <a:pt x="287" y="113"/>
                </a:lnTo>
                <a:lnTo>
                  <a:pt x="285" y="111"/>
                </a:lnTo>
                <a:lnTo>
                  <a:pt x="284" y="108"/>
                </a:lnTo>
                <a:lnTo>
                  <a:pt x="282" y="106"/>
                </a:lnTo>
                <a:lnTo>
                  <a:pt x="280" y="104"/>
                </a:lnTo>
                <a:lnTo>
                  <a:pt x="278" y="101"/>
                </a:lnTo>
                <a:lnTo>
                  <a:pt x="276" y="99"/>
                </a:lnTo>
                <a:lnTo>
                  <a:pt x="274" y="96"/>
                </a:lnTo>
                <a:lnTo>
                  <a:pt x="271" y="94"/>
                </a:lnTo>
                <a:lnTo>
                  <a:pt x="269" y="92"/>
                </a:lnTo>
                <a:lnTo>
                  <a:pt x="266" y="90"/>
                </a:lnTo>
                <a:lnTo>
                  <a:pt x="263" y="87"/>
                </a:lnTo>
                <a:lnTo>
                  <a:pt x="260" y="85"/>
                </a:lnTo>
                <a:lnTo>
                  <a:pt x="257" y="84"/>
                </a:lnTo>
                <a:lnTo>
                  <a:pt x="254" y="82"/>
                </a:lnTo>
                <a:lnTo>
                  <a:pt x="251" y="80"/>
                </a:lnTo>
                <a:lnTo>
                  <a:pt x="248" y="79"/>
                </a:lnTo>
                <a:lnTo>
                  <a:pt x="244" y="77"/>
                </a:lnTo>
                <a:lnTo>
                  <a:pt x="241" y="76"/>
                </a:lnTo>
                <a:lnTo>
                  <a:pt x="237" y="75"/>
                </a:lnTo>
                <a:lnTo>
                  <a:pt x="233" y="73"/>
                </a:lnTo>
                <a:lnTo>
                  <a:pt x="229" y="72"/>
                </a:lnTo>
                <a:lnTo>
                  <a:pt x="226" y="71"/>
                </a:lnTo>
                <a:lnTo>
                  <a:pt x="221" y="71"/>
                </a:lnTo>
                <a:lnTo>
                  <a:pt x="217" y="70"/>
                </a:lnTo>
                <a:lnTo>
                  <a:pt x="213" y="69"/>
                </a:lnTo>
                <a:lnTo>
                  <a:pt x="210" y="69"/>
                </a:lnTo>
                <a:lnTo>
                  <a:pt x="206" y="68"/>
                </a:lnTo>
                <a:lnTo>
                  <a:pt x="202" y="68"/>
                </a:lnTo>
                <a:lnTo>
                  <a:pt x="198" y="68"/>
                </a:lnTo>
                <a:lnTo>
                  <a:pt x="195" y="68"/>
                </a:lnTo>
                <a:lnTo>
                  <a:pt x="191" y="68"/>
                </a:lnTo>
                <a:lnTo>
                  <a:pt x="188" y="68"/>
                </a:lnTo>
                <a:lnTo>
                  <a:pt x="184" y="68"/>
                </a:lnTo>
                <a:lnTo>
                  <a:pt x="181" y="69"/>
                </a:lnTo>
                <a:lnTo>
                  <a:pt x="178" y="69"/>
                </a:lnTo>
                <a:lnTo>
                  <a:pt x="174" y="70"/>
                </a:lnTo>
                <a:lnTo>
                  <a:pt x="171" y="71"/>
                </a:lnTo>
                <a:lnTo>
                  <a:pt x="168" y="71"/>
                </a:lnTo>
                <a:lnTo>
                  <a:pt x="165" y="72"/>
                </a:lnTo>
                <a:lnTo>
                  <a:pt x="162" y="73"/>
                </a:lnTo>
                <a:lnTo>
                  <a:pt x="160" y="74"/>
                </a:lnTo>
                <a:lnTo>
                  <a:pt x="157" y="76"/>
                </a:lnTo>
                <a:lnTo>
                  <a:pt x="154" y="77"/>
                </a:lnTo>
                <a:lnTo>
                  <a:pt x="151" y="78"/>
                </a:lnTo>
                <a:lnTo>
                  <a:pt x="149" y="80"/>
                </a:lnTo>
                <a:lnTo>
                  <a:pt x="146" y="81"/>
                </a:lnTo>
                <a:lnTo>
                  <a:pt x="144" y="83"/>
                </a:lnTo>
                <a:lnTo>
                  <a:pt x="141" y="84"/>
                </a:lnTo>
                <a:lnTo>
                  <a:pt x="139" y="86"/>
                </a:lnTo>
                <a:lnTo>
                  <a:pt x="136" y="88"/>
                </a:lnTo>
                <a:lnTo>
                  <a:pt x="134" y="89"/>
                </a:lnTo>
                <a:lnTo>
                  <a:pt x="131" y="91"/>
                </a:lnTo>
                <a:lnTo>
                  <a:pt x="129" y="93"/>
                </a:lnTo>
                <a:lnTo>
                  <a:pt x="127" y="95"/>
                </a:lnTo>
                <a:lnTo>
                  <a:pt x="125" y="97"/>
                </a:lnTo>
                <a:lnTo>
                  <a:pt x="123" y="99"/>
                </a:lnTo>
                <a:lnTo>
                  <a:pt x="121" y="102"/>
                </a:lnTo>
                <a:lnTo>
                  <a:pt x="119" y="104"/>
                </a:lnTo>
                <a:lnTo>
                  <a:pt x="117" y="106"/>
                </a:lnTo>
                <a:lnTo>
                  <a:pt x="115" y="108"/>
                </a:lnTo>
                <a:lnTo>
                  <a:pt x="113" y="110"/>
                </a:lnTo>
                <a:lnTo>
                  <a:pt x="111" y="112"/>
                </a:lnTo>
                <a:lnTo>
                  <a:pt x="109" y="114"/>
                </a:lnTo>
                <a:lnTo>
                  <a:pt x="107" y="116"/>
                </a:lnTo>
                <a:lnTo>
                  <a:pt x="105" y="118"/>
                </a:lnTo>
                <a:lnTo>
                  <a:pt x="103" y="119"/>
                </a:lnTo>
                <a:lnTo>
                  <a:pt x="102" y="121"/>
                </a:lnTo>
                <a:lnTo>
                  <a:pt x="100" y="123"/>
                </a:lnTo>
                <a:lnTo>
                  <a:pt x="98" y="125"/>
                </a:lnTo>
                <a:lnTo>
                  <a:pt x="97" y="127"/>
                </a:lnTo>
                <a:lnTo>
                  <a:pt x="95" y="129"/>
                </a:lnTo>
                <a:lnTo>
                  <a:pt x="94" y="130"/>
                </a:lnTo>
                <a:lnTo>
                  <a:pt x="93" y="132"/>
                </a:lnTo>
                <a:lnTo>
                  <a:pt x="92" y="133"/>
                </a:lnTo>
                <a:lnTo>
                  <a:pt x="91" y="134"/>
                </a:lnTo>
                <a:lnTo>
                  <a:pt x="91" y="135"/>
                </a:lnTo>
                <a:lnTo>
                  <a:pt x="91" y="136"/>
                </a:lnTo>
                <a:lnTo>
                  <a:pt x="91" y="136"/>
                </a:lnTo>
                <a:lnTo>
                  <a:pt x="91" y="137"/>
                </a:lnTo>
                <a:lnTo>
                  <a:pt x="92" y="137"/>
                </a:lnTo>
                <a:lnTo>
                  <a:pt x="93" y="137"/>
                </a:lnTo>
                <a:lnTo>
                  <a:pt x="94" y="136"/>
                </a:lnTo>
                <a:lnTo>
                  <a:pt x="95" y="136"/>
                </a:lnTo>
                <a:lnTo>
                  <a:pt x="97" y="135"/>
                </a:lnTo>
                <a:lnTo>
                  <a:pt x="99" y="134"/>
                </a:lnTo>
                <a:lnTo>
                  <a:pt x="101" y="133"/>
                </a:lnTo>
                <a:lnTo>
                  <a:pt x="104" y="132"/>
                </a:lnTo>
                <a:lnTo>
                  <a:pt x="106" y="131"/>
                </a:lnTo>
                <a:lnTo>
                  <a:pt x="109" y="130"/>
                </a:lnTo>
                <a:lnTo>
                  <a:pt x="112" y="129"/>
                </a:lnTo>
                <a:lnTo>
                  <a:pt x="114" y="128"/>
                </a:lnTo>
                <a:lnTo>
                  <a:pt x="117" y="127"/>
                </a:lnTo>
                <a:lnTo>
                  <a:pt x="120" y="126"/>
                </a:lnTo>
                <a:lnTo>
                  <a:pt x="123" y="125"/>
                </a:lnTo>
                <a:lnTo>
                  <a:pt x="125" y="125"/>
                </a:lnTo>
                <a:lnTo>
                  <a:pt x="128" y="124"/>
                </a:lnTo>
                <a:lnTo>
                  <a:pt x="131" y="124"/>
                </a:lnTo>
                <a:lnTo>
                  <a:pt x="134" y="123"/>
                </a:lnTo>
                <a:lnTo>
                  <a:pt x="137" y="123"/>
                </a:lnTo>
                <a:lnTo>
                  <a:pt x="140" y="123"/>
                </a:lnTo>
                <a:lnTo>
                  <a:pt x="142" y="123"/>
                </a:lnTo>
                <a:lnTo>
                  <a:pt x="145" y="123"/>
                </a:lnTo>
                <a:lnTo>
                  <a:pt x="148" y="123"/>
                </a:lnTo>
                <a:lnTo>
                  <a:pt x="151" y="123"/>
                </a:lnTo>
                <a:lnTo>
                  <a:pt x="153" y="124"/>
                </a:lnTo>
                <a:lnTo>
                  <a:pt x="155" y="124"/>
                </a:lnTo>
                <a:lnTo>
                  <a:pt x="157" y="124"/>
                </a:lnTo>
                <a:lnTo>
                  <a:pt x="158" y="124"/>
                </a:lnTo>
                <a:lnTo>
                  <a:pt x="159" y="124"/>
                </a:lnTo>
                <a:lnTo>
                  <a:pt x="160" y="124"/>
                </a:lnTo>
                <a:lnTo>
                  <a:pt x="160" y="124"/>
                </a:lnTo>
                <a:lnTo>
                  <a:pt x="160" y="124"/>
                </a:lnTo>
                <a:lnTo>
                  <a:pt x="159" y="124"/>
                </a:lnTo>
                <a:lnTo>
                  <a:pt x="158" y="124"/>
                </a:lnTo>
                <a:lnTo>
                  <a:pt x="157" y="124"/>
                </a:lnTo>
                <a:lnTo>
                  <a:pt x="155" y="124"/>
                </a:lnTo>
                <a:lnTo>
                  <a:pt x="153" y="124"/>
                </a:lnTo>
                <a:lnTo>
                  <a:pt x="151" y="123"/>
                </a:lnTo>
                <a:lnTo>
                  <a:pt x="148" y="123"/>
                </a:lnTo>
                <a:lnTo>
                  <a:pt x="145" y="123"/>
                </a:lnTo>
                <a:lnTo>
                  <a:pt x="142" y="123"/>
                </a:lnTo>
                <a:lnTo>
                  <a:pt x="140" y="123"/>
                </a:lnTo>
                <a:lnTo>
                  <a:pt x="137" y="123"/>
                </a:lnTo>
                <a:lnTo>
                  <a:pt x="134" y="123"/>
                </a:lnTo>
                <a:lnTo>
                  <a:pt x="131" y="124"/>
                </a:lnTo>
                <a:lnTo>
                  <a:pt x="128" y="124"/>
                </a:lnTo>
                <a:lnTo>
                  <a:pt x="125" y="125"/>
                </a:lnTo>
                <a:lnTo>
                  <a:pt x="123" y="125"/>
                </a:lnTo>
                <a:lnTo>
                  <a:pt x="120" y="126"/>
                </a:lnTo>
                <a:lnTo>
                  <a:pt x="117" y="127"/>
                </a:lnTo>
                <a:lnTo>
                  <a:pt x="114" y="128"/>
                </a:lnTo>
                <a:lnTo>
                  <a:pt x="112" y="129"/>
                </a:lnTo>
                <a:lnTo>
                  <a:pt x="109" y="130"/>
                </a:lnTo>
                <a:lnTo>
                  <a:pt x="106" y="131"/>
                </a:lnTo>
                <a:lnTo>
                  <a:pt x="104" y="132"/>
                </a:lnTo>
                <a:lnTo>
                  <a:pt x="101" y="134"/>
                </a:lnTo>
                <a:lnTo>
                  <a:pt x="99" y="135"/>
                </a:lnTo>
                <a:lnTo>
                  <a:pt x="96" y="136"/>
                </a:lnTo>
                <a:lnTo>
                  <a:pt x="93" y="138"/>
                </a:lnTo>
                <a:lnTo>
                  <a:pt x="91" y="139"/>
                </a:lnTo>
                <a:lnTo>
                  <a:pt x="88" y="141"/>
                </a:lnTo>
                <a:lnTo>
                  <a:pt x="86" y="142"/>
                </a:lnTo>
                <a:lnTo>
                  <a:pt x="83" y="144"/>
                </a:lnTo>
                <a:lnTo>
                  <a:pt x="80" y="145"/>
                </a:lnTo>
                <a:lnTo>
                  <a:pt x="78" y="147"/>
                </a:lnTo>
                <a:lnTo>
                  <a:pt x="75" y="148"/>
                </a:lnTo>
                <a:lnTo>
                  <a:pt x="73" y="150"/>
                </a:lnTo>
                <a:lnTo>
                  <a:pt x="70" y="151"/>
                </a:lnTo>
                <a:lnTo>
                  <a:pt x="68" y="153"/>
                </a:lnTo>
                <a:lnTo>
                  <a:pt x="65" y="155"/>
                </a:lnTo>
                <a:lnTo>
                  <a:pt x="62" y="156"/>
                </a:lnTo>
                <a:lnTo>
                  <a:pt x="60" y="158"/>
                </a:lnTo>
                <a:lnTo>
                  <a:pt x="57" y="160"/>
                </a:lnTo>
                <a:lnTo>
                  <a:pt x="55" y="162"/>
                </a:lnTo>
                <a:lnTo>
                  <a:pt x="52" y="165"/>
                </a:lnTo>
                <a:lnTo>
                  <a:pt x="50" y="167"/>
                </a:lnTo>
                <a:lnTo>
                  <a:pt x="47" y="170"/>
                </a:lnTo>
                <a:lnTo>
                  <a:pt x="45" y="173"/>
                </a:lnTo>
                <a:lnTo>
                  <a:pt x="43" y="177"/>
                </a:lnTo>
                <a:lnTo>
                  <a:pt x="40" y="180"/>
                </a:lnTo>
                <a:lnTo>
                  <a:pt x="38" y="184"/>
                </a:lnTo>
                <a:lnTo>
                  <a:pt x="35" y="188"/>
                </a:lnTo>
                <a:lnTo>
                  <a:pt x="33" y="192"/>
                </a:lnTo>
                <a:lnTo>
                  <a:pt x="31" y="196"/>
                </a:lnTo>
                <a:lnTo>
                  <a:pt x="28" y="201"/>
                </a:lnTo>
                <a:lnTo>
                  <a:pt x="26" y="206"/>
                </a:lnTo>
                <a:lnTo>
                  <a:pt x="23" y="211"/>
                </a:lnTo>
                <a:lnTo>
                  <a:pt x="21" y="216"/>
                </a:lnTo>
                <a:lnTo>
                  <a:pt x="19" y="221"/>
                </a:lnTo>
                <a:lnTo>
                  <a:pt x="17" y="227"/>
                </a:lnTo>
                <a:lnTo>
                  <a:pt x="15" y="232"/>
                </a:lnTo>
                <a:lnTo>
                  <a:pt x="13" y="237"/>
                </a:lnTo>
                <a:lnTo>
                  <a:pt x="12" y="243"/>
                </a:lnTo>
                <a:lnTo>
                  <a:pt x="10" y="249"/>
                </a:lnTo>
                <a:lnTo>
                  <a:pt x="8" y="254"/>
                </a:lnTo>
                <a:lnTo>
                  <a:pt x="7" y="260"/>
                </a:lnTo>
                <a:lnTo>
                  <a:pt x="6" y="266"/>
                </a:lnTo>
                <a:lnTo>
                  <a:pt x="5" y="272"/>
                </a:lnTo>
                <a:lnTo>
                  <a:pt x="4" y="278"/>
                </a:lnTo>
                <a:lnTo>
                  <a:pt x="3" y="284"/>
                </a:lnTo>
                <a:lnTo>
                  <a:pt x="2" y="290"/>
                </a:lnTo>
                <a:lnTo>
                  <a:pt x="1" y="296"/>
                </a:lnTo>
                <a:lnTo>
                  <a:pt x="1" y="303"/>
                </a:lnTo>
                <a:lnTo>
                  <a:pt x="0" y="309"/>
                </a:lnTo>
                <a:lnTo>
                  <a:pt x="0" y="315"/>
                </a:lnTo>
                <a:lnTo>
                  <a:pt x="0" y="321"/>
                </a:lnTo>
                <a:lnTo>
                  <a:pt x="0" y="327"/>
                </a:lnTo>
                <a:lnTo>
                  <a:pt x="0" y="333"/>
                </a:lnTo>
                <a:lnTo>
                  <a:pt x="1" y="339"/>
                </a:lnTo>
                <a:lnTo>
                  <a:pt x="1" y="345"/>
                </a:lnTo>
                <a:lnTo>
                  <a:pt x="2" y="351"/>
                </a:lnTo>
                <a:lnTo>
                  <a:pt x="3" y="356"/>
                </a:lnTo>
                <a:lnTo>
                  <a:pt x="4" y="362"/>
                </a:lnTo>
                <a:lnTo>
                  <a:pt x="5" y="367"/>
                </a:lnTo>
                <a:lnTo>
                  <a:pt x="6" y="372"/>
                </a:lnTo>
                <a:lnTo>
                  <a:pt x="7" y="377"/>
                </a:lnTo>
                <a:lnTo>
                  <a:pt x="9" y="382"/>
                </a:lnTo>
                <a:lnTo>
                  <a:pt x="11" y="387"/>
                </a:lnTo>
                <a:lnTo>
                  <a:pt x="13" y="392"/>
                </a:lnTo>
                <a:lnTo>
                  <a:pt x="15" y="397"/>
                </a:lnTo>
                <a:lnTo>
                  <a:pt x="17" y="401"/>
                </a:lnTo>
                <a:lnTo>
                  <a:pt x="19" y="406"/>
                </a:lnTo>
                <a:lnTo>
                  <a:pt x="21" y="410"/>
                </a:lnTo>
                <a:lnTo>
                  <a:pt x="23" y="414"/>
                </a:lnTo>
                <a:lnTo>
                  <a:pt x="25" y="418"/>
                </a:lnTo>
                <a:lnTo>
                  <a:pt x="27" y="422"/>
                </a:lnTo>
                <a:lnTo>
                  <a:pt x="30" y="426"/>
                </a:lnTo>
                <a:lnTo>
                  <a:pt x="32" y="429"/>
                </a:lnTo>
                <a:lnTo>
                  <a:pt x="34" y="433"/>
                </a:lnTo>
                <a:lnTo>
                  <a:pt x="37" y="436"/>
                </a:lnTo>
                <a:lnTo>
                  <a:pt x="39" y="439"/>
                </a:lnTo>
                <a:lnTo>
                  <a:pt x="42" y="442"/>
                </a:lnTo>
                <a:lnTo>
                  <a:pt x="44" y="445"/>
                </a:lnTo>
                <a:lnTo>
                  <a:pt x="47" y="448"/>
                </a:lnTo>
                <a:lnTo>
                  <a:pt x="49" y="450"/>
                </a:lnTo>
                <a:lnTo>
                  <a:pt x="49" y="450"/>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707" name=""/>
          <p:cNvSpPr/>
          <p:nvPr/>
        </p:nvSpPr>
        <p:spPr>
          <a:xfrm>
            <a:off x="3352680" y="4610160"/>
            <a:ext cx="2362320" cy="102852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49"/>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4" y="676"/>
                </a:lnTo>
                <a:lnTo>
                  <a:pt x="810" y="679"/>
                </a:lnTo>
                <a:lnTo>
                  <a:pt x="807" y="682"/>
                </a:lnTo>
                <a:lnTo>
                  <a:pt x="803" y="684"/>
                </a:lnTo>
                <a:lnTo>
                  <a:pt x="800" y="687"/>
                </a:lnTo>
                <a:lnTo>
                  <a:pt x="796" y="689"/>
                </a:lnTo>
                <a:lnTo>
                  <a:pt x="792" y="691"/>
                </a:lnTo>
                <a:lnTo>
                  <a:pt x="789" y="694"/>
                </a:lnTo>
                <a:lnTo>
                  <a:pt x="785" y="696"/>
                </a:lnTo>
                <a:lnTo>
                  <a:pt x="781" y="698"/>
                </a:lnTo>
                <a:lnTo>
                  <a:pt x="777" y="699"/>
                </a:lnTo>
                <a:lnTo>
                  <a:pt x="773" y="701"/>
                </a:lnTo>
                <a:lnTo>
                  <a:pt x="769"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7"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6"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6"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8"/>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4"/>
                </a:lnTo>
                <a:lnTo>
                  <a:pt x="456" y="633"/>
                </a:lnTo>
                <a:lnTo>
                  <a:pt x="455" y="631"/>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8"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19"/>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4"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4"/>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7"/>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9" y="54"/>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1"/>
                </a:lnTo>
                <a:lnTo>
                  <a:pt x="322" y="2"/>
                </a:lnTo>
                <a:lnTo>
                  <a:pt x="325" y="3"/>
                </a:lnTo>
                <a:lnTo>
                  <a:pt x="328" y="3"/>
                </a:lnTo>
                <a:lnTo>
                  <a:pt x="331" y="4"/>
                </a:lnTo>
                <a:lnTo>
                  <a:pt x="334"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4"/>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6"/>
                </a:lnTo>
                <a:lnTo>
                  <a:pt x="632" y="58"/>
                </a:lnTo>
                <a:lnTo>
                  <a:pt x="633" y="59"/>
                </a:lnTo>
                <a:lnTo>
                  <a:pt x="633" y="60"/>
                </a:lnTo>
                <a:lnTo>
                  <a:pt x="633" y="60"/>
                </a:lnTo>
                <a:lnTo>
                  <a:pt x="633" y="60"/>
                </a:lnTo>
                <a:lnTo>
                  <a:pt x="633" y="59"/>
                </a:lnTo>
                <a:lnTo>
                  <a:pt x="632" y="58"/>
                </a:lnTo>
                <a:lnTo>
                  <a:pt x="630" y="56"/>
                </a:lnTo>
                <a:lnTo>
                  <a:pt x="629" y="55"/>
                </a:lnTo>
                <a:lnTo>
                  <a:pt x="626" y="52"/>
                </a:lnTo>
                <a:lnTo>
                  <a:pt x="624" y="50"/>
                </a:lnTo>
                <a:lnTo>
                  <a:pt x="621" y="46"/>
                </a:lnTo>
                <a:lnTo>
                  <a:pt x="618" y="43"/>
                </a:lnTo>
                <a:lnTo>
                  <a:pt x="616" y="40"/>
                </a:lnTo>
                <a:lnTo>
                  <a:pt x="614" y="37"/>
                </a:lnTo>
                <a:lnTo>
                  <a:pt x="613" y="34"/>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3"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0"/>
                </a:lnTo>
                <a:lnTo>
                  <a:pt x="731" y="21"/>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7"/>
                </a:lnTo>
                <a:lnTo>
                  <a:pt x="800"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4"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5"/>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4"/>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1"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40" y="254"/>
                </a:lnTo>
                <a:lnTo>
                  <a:pt x="1141" y="260"/>
                </a:lnTo>
                <a:lnTo>
                  <a:pt x="1142" y="266"/>
                </a:lnTo>
                <a:lnTo>
                  <a:pt x="1143" y="272"/>
                </a:lnTo>
                <a:lnTo>
                  <a:pt x="1144" y="278"/>
                </a:lnTo>
                <a:lnTo>
                  <a:pt x="1145" y="284"/>
                </a:lnTo>
                <a:lnTo>
                  <a:pt x="1146" y="290"/>
                </a:lnTo>
                <a:lnTo>
                  <a:pt x="1147" y="296"/>
                </a:lnTo>
                <a:lnTo>
                  <a:pt x="1147" y="303"/>
                </a:lnTo>
                <a:lnTo>
                  <a:pt x="1148" y="309"/>
                </a:lnTo>
                <a:lnTo>
                  <a:pt x="1148" y="315"/>
                </a:lnTo>
                <a:lnTo>
                  <a:pt x="1148" y="321"/>
                </a:lnTo>
                <a:lnTo>
                  <a:pt x="1148" y="327"/>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708" name=""/>
          <p:cNvSpPr/>
          <p:nvPr/>
        </p:nvSpPr>
        <p:spPr>
          <a:xfrm>
            <a:off x="1066680" y="4000680"/>
            <a:ext cx="1976400" cy="1333440"/>
          </a:xfrm>
          <a:custGeom>
            <a:avLst/>
            <a:gdLst/>
            <a:ahLst/>
            <a:rect l="l" t="t" r="r" b="b"/>
            <a:pathLst>
              <a:path w="1149" h="719">
                <a:moveTo>
                  <a:pt x="1099" y="268"/>
                </a:moveTo>
                <a:lnTo>
                  <a:pt x="1096" y="265"/>
                </a:lnTo>
                <a:lnTo>
                  <a:pt x="1094" y="262"/>
                </a:lnTo>
                <a:lnTo>
                  <a:pt x="1091" y="259"/>
                </a:lnTo>
                <a:lnTo>
                  <a:pt x="1088" y="255"/>
                </a:lnTo>
                <a:lnTo>
                  <a:pt x="1085" y="252"/>
                </a:lnTo>
                <a:lnTo>
                  <a:pt x="1083" y="247"/>
                </a:lnTo>
                <a:lnTo>
                  <a:pt x="1080" y="243"/>
                </a:lnTo>
                <a:lnTo>
                  <a:pt x="1077" y="238"/>
                </a:lnTo>
                <a:lnTo>
                  <a:pt x="1075" y="233"/>
                </a:lnTo>
                <a:lnTo>
                  <a:pt x="1072" y="227"/>
                </a:lnTo>
                <a:lnTo>
                  <a:pt x="1069" y="222"/>
                </a:lnTo>
                <a:lnTo>
                  <a:pt x="1066" y="216"/>
                </a:lnTo>
                <a:lnTo>
                  <a:pt x="1064" y="209"/>
                </a:lnTo>
                <a:lnTo>
                  <a:pt x="1061" y="203"/>
                </a:lnTo>
                <a:lnTo>
                  <a:pt x="1058" y="196"/>
                </a:lnTo>
                <a:lnTo>
                  <a:pt x="1055" y="188"/>
                </a:lnTo>
                <a:lnTo>
                  <a:pt x="1052" y="181"/>
                </a:lnTo>
                <a:lnTo>
                  <a:pt x="1049" y="174"/>
                </a:lnTo>
                <a:lnTo>
                  <a:pt x="1046" y="167"/>
                </a:lnTo>
                <a:lnTo>
                  <a:pt x="1043" y="160"/>
                </a:lnTo>
                <a:lnTo>
                  <a:pt x="1040" y="154"/>
                </a:lnTo>
                <a:lnTo>
                  <a:pt x="1037" y="148"/>
                </a:lnTo>
                <a:lnTo>
                  <a:pt x="1034" y="142"/>
                </a:lnTo>
                <a:lnTo>
                  <a:pt x="1030" y="136"/>
                </a:lnTo>
                <a:lnTo>
                  <a:pt x="1027" y="130"/>
                </a:lnTo>
                <a:lnTo>
                  <a:pt x="1023" y="125"/>
                </a:lnTo>
                <a:lnTo>
                  <a:pt x="1020" y="120"/>
                </a:lnTo>
                <a:lnTo>
                  <a:pt x="1016" y="115"/>
                </a:lnTo>
                <a:lnTo>
                  <a:pt x="1012" y="110"/>
                </a:lnTo>
                <a:lnTo>
                  <a:pt x="1008" y="106"/>
                </a:lnTo>
                <a:lnTo>
                  <a:pt x="1005" y="102"/>
                </a:lnTo>
                <a:lnTo>
                  <a:pt x="1001" y="98"/>
                </a:lnTo>
                <a:lnTo>
                  <a:pt x="997" y="94"/>
                </a:lnTo>
                <a:lnTo>
                  <a:pt x="993" y="91"/>
                </a:lnTo>
                <a:lnTo>
                  <a:pt x="989" y="88"/>
                </a:lnTo>
                <a:lnTo>
                  <a:pt x="985" y="85"/>
                </a:lnTo>
                <a:lnTo>
                  <a:pt x="981" y="82"/>
                </a:lnTo>
                <a:lnTo>
                  <a:pt x="977" y="79"/>
                </a:lnTo>
                <a:lnTo>
                  <a:pt x="973" y="77"/>
                </a:lnTo>
                <a:lnTo>
                  <a:pt x="969" y="74"/>
                </a:lnTo>
                <a:lnTo>
                  <a:pt x="965" y="72"/>
                </a:lnTo>
                <a:lnTo>
                  <a:pt x="962" y="71"/>
                </a:lnTo>
                <a:lnTo>
                  <a:pt x="958" y="69"/>
                </a:lnTo>
                <a:lnTo>
                  <a:pt x="954" y="68"/>
                </a:lnTo>
                <a:lnTo>
                  <a:pt x="950" y="66"/>
                </a:lnTo>
                <a:lnTo>
                  <a:pt x="946" y="65"/>
                </a:lnTo>
                <a:lnTo>
                  <a:pt x="943" y="65"/>
                </a:lnTo>
                <a:lnTo>
                  <a:pt x="939" y="64"/>
                </a:lnTo>
                <a:lnTo>
                  <a:pt x="935" y="64"/>
                </a:lnTo>
                <a:lnTo>
                  <a:pt x="932" y="64"/>
                </a:lnTo>
                <a:lnTo>
                  <a:pt x="928" y="63"/>
                </a:lnTo>
                <a:lnTo>
                  <a:pt x="924" y="64"/>
                </a:lnTo>
                <a:lnTo>
                  <a:pt x="921" y="64"/>
                </a:lnTo>
                <a:lnTo>
                  <a:pt x="917" y="64"/>
                </a:lnTo>
                <a:lnTo>
                  <a:pt x="914" y="65"/>
                </a:lnTo>
                <a:lnTo>
                  <a:pt x="910" y="65"/>
                </a:lnTo>
                <a:lnTo>
                  <a:pt x="907" y="66"/>
                </a:lnTo>
                <a:lnTo>
                  <a:pt x="903" y="67"/>
                </a:lnTo>
                <a:lnTo>
                  <a:pt x="900" y="68"/>
                </a:lnTo>
                <a:lnTo>
                  <a:pt x="896" y="70"/>
                </a:lnTo>
                <a:lnTo>
                  <a:pt x="893" y="71"/>
                </a:lnTo>
                <a:lnTo>
                  <a:pt x="890" y="73"/>
                </a:lnTo>
                <a:lnTo>
                  <a:pt x="886" y="75"/>
                </a:lnTo>
                <a:lnTo>
                  <a:pt x="883" y="77"/>
                </a:lnTo>
                <a:lnTo>
                  <a:pt x="880" y="79"/>
                </a:lnTo>
                <a:lnTo>
                  <a:pt x="877" y="81"/>
                </a:lnTo>
                <a:lnTo>
                  <a:pt x="874" y="83"/>
                </a:lnTo>
                <a:lnTo>
                  <a:pt x="871" y="85"/>
                </a:lnTo>
                <a:lnTo>
                  <a:pt x="869" y="87"/>
                </a:lnTo>
                <a:lnTo>
                  <a:pt x="867" y="89"/>
                </a:lnTo>
                <a:lnTo>
                  <a:pt x="865" y="92"/>
                </a:lnTo>
                <a:lnTo>
                  <a:pt x="863" y="94"/>
                </a:lnTo>
                <a:lnTo>
                  <a:pt x="861" y="96"/>
                </a:lnTo>
                <a:lnTo>
                  <a:pt x="860" y="98"/>
                </a:lnTo>
                <a:lnTo>
                  <a:pt x="859" y="101"/>
                </a:lnTo>
                <a:lnTo>
                  <a:pt x="858" y="103"/>
                </a:lnTo>
                <a:lnTo>
                  <a:pt x="857" y="106"/>
                </a:lnTo>
                <a:lnTo>
                  <a:pt x="857" y="108"/>
                </a:lnTo>
                <a:lnTo>
                  <a:pt x="857" y="111"/>
                </a:lnTo>
                <a:lnTo>
                  <a:pt x="856" y="113"/>
                </a:lnTo>
                <a:lnTo>
                  <a:pt x="856" y="116"/>
                </a:lnTo>
                <a:lnTo>
                  <a:pt x="856" y="118"/>
                </a:lnTo>
                <a:lnTo>
                  <a:pt x="856" y="119"/>
                </a:lnTo>
                <a:lnTo>
                  <a:pt x="856" y="121"/>
                </a:lnTo>
                <a:lnTo>
                  <a:pt x="856" y="122"/>
                </a:lnTo>
                <a:lnTo>
                  <a:pt x="856" y="123"/>
                </a:lnTo>
                <a:lnTo>
                  <a:pt x="856" y="123"/>
                </a:lnTo>
                <a:lnTo>
                  <a:pt x="856" y="123"/>
                </a:lnTo>
                <a:lnTo>
                  <a:pt x="856" y="123"/>
                </a:lnTo>
                <a:lnTo>
                  <a:pt x="856" y="123"/>
                </a:lnTo>
                <a:lnTo>
                  <a:pt x="856" y="122"/>
                </a:lnTo>
                <a:lnTo>
                  <a:pt x="856" y="121"/>
                </a:lnTo>
                <a:lnTo>
                  <a:pt x="856" y="119"/>
                </a:lnTo>
                <a:lnTo>
                  <a:pt x="856" y="118"/>
                </a:lnTo>
                <a:lnTo>
                  <a:pt x="856" y="116"/>
                </a:lnTo>
                <a:lnTo>
                  <a:pt x="856" y="113"/>
                </a:lnTo>
                <a:lnTo>
                  <a:pt x="856" y="111"/>
                </a:lnTo>
                <a:lnTo>
                  <a:pt x="856" y="108"/>
                </a:lnTo>
                <a:lnTo>
                  <a:pt x="856" y="105"/>
                </a:lnTo>
                <a:lnTo>
                  <a:pt x="855" y="102"/>
                </a:lnTo>
                <a:lnTo>
                  <a:pt x="854" y="100"/>
                </a:lnTo>
                <a:lnTo>
                  <a:pt x="853" y="97"/>
                </a:lnTo>
                <a:lnTo>
                  <a:pt x="852" y="94"/>
                </a:lnTo>
                <a:lnTo>
                  <a:pt x="851" y="91"/>
                </a:lnTo>
                <a:lnTo>
                  <a:pt x="849" y="88"/>
                </a:lnTo>
                <a:lnTo>
                  <a:pt x="848" y="84"/>
                </a:lnTo>
                <a:lnTo>
                  <a:pt x="846" y="81"/>
                </a:lnTo>
                <a:lnTo>
                  <a:pt x="844" y="78"/>
                </a:lnTo>
                <a:lnTo>
                  <a:pt x="842" y="75"/>
                </a:lnTo>
                <a:lnTo>
                  <a:pt x="840" y="71"/>
                </a:lnTo>
                <a:lnTo>
                  <a:pt x="837" y="68"/>
                </a:lnTo>
                <a:lnTo>
                  <a:pt x="835" y="64"/>
                </a:lnTo>
                <a:lnTo>
                  <a:pt x="832" y="61"/>
                </a:lnTo>
                <a:lnTo>
                  <a:pt x="829" y="57"/>
                </a:lnTo>
                <a:lnTo>
                  <a:pt x="826" y="54"/>
                </a:lnTo>
                <a:lnTo>
                  <a:pt x="823" y="51"/>
                </a:lnTo>
                <a:lnTo>
                  <a:pt x="820" y="48"/>
                </a:lnTo>
                <a:lnTo>
                  <a:pt x="817" y="45"/>
                </a:lnTo>
                <a:lnTo>
                  <a:pt x="814" y="42"/>
                </a:lnTo>
                <a:lnTo>
                  <a:pt x="810" y="39"/>
                </a:lnTo>
                <a:lnTo>
                  <a:pt x="807" y="36"/>
                </a:lnTo>
                <a:lnTo>
                  <a:pt x="803" y="34"/>
                </a:lnTo>
                <a:lnTo>
                  <a:pt x="800" y="31"/>
                </a:lnTo>
                <a:lnTo>
                  <a:pt x="796" y="29"/>
                </a:lnTo>
                <a:lnTo>
                  <a:pt x="792" y="26"/>
                </a:lnTo>
                <a:lnTo>
                  <a:pt x="789" y="24"/>
                </a:lnTo>
                <a:lnTo>
                  <a:pt x="785" y="22"/>
                </a:lnTo>
                <a:lnTo>
                  <a:pt x="781" y="20"/>
                </a:lnTo>
                <a:lnTo>
                  <a:pt x="777" y="18"/>
                </a:lnTo>
                <a:lnTo>
                  <a:pt x="773" y="17"/>
                </a:lnTo>
                <a:lnTo>
                  <a:pt x="769" y="15"/>
                </a:lnTo>
                <a:lnTo>
                  <a:pt x="764" y="13"/>
                </a:lnTo>
                <a:lnTo>
                  <a:pt x="760" y="12"/>
                </a:lnTo>
                <a:lnTo>
                  <a:pt x="756" y="11"/>
                </a:lnTo>
                <a:lnTo>
                  <a:pt x="751" y="9"/>
                </a:lnTo>
                <a:lnTo>
                  <a:pt x="747" y="8"/>
                </a:lnTo>
                <a:lnTo>
                  <a:pt x="742" y="7"/>
                </a:lnTo>
                <a:lnTo>
                  <a:pt x="738" y="6"/>
                </a:lnTo>
                <a:lnTo>
                  <a:pt x="733" y="5"/>
                </a:lnTo>
                <a:lnTo>
                  <a:pt x="728" y="4"/>
                </a:lnTo>
                <a:lnTo>
                  <a:pt x="724" y="3"/>
                </a:lnTo>
                <a:lnTo>
                  <a:pt x="719" y="3"/>
                </a:lnTo>
                <a:lnTo>
                  <a:pt x="714" y="2"/>
                </a:lnTo>
                <a:lnTo>
                  <a:pt x="709" y="2"/>
                </a:lnTo>
                <a:lnTo>
                  <a:pt x="704" y="1"/>
                </a:lnTo>
                <a:lnTo>
                  <a:pt x="699" y="1"/>
                </a:lnTo>
                <a:lnTo>
                  <a:pt x="695" y="1"/>
                </a:lnTo>
                <a:lnTo>
                  <a:pt x="690" y="0"/>
                </a:lnTo>
                <a:lnTo>
                  <a:pt x="685" y="0"/>
                </a:lnTo>
                <a:lnTo>
                  <a:pt x="681" y="0"/>
                </a:lnTo>
                <a:lnTo>
                  <a:pt x="676" y="0"/>
                </a:lnTo>
                <a:lnTo>
                  <a:pt x="672" y="0"/>
                </a:lnTo>
                <a:lnTo>
                  <a:pt x="667" y="1"/>
                </a:lnTo>
                <a:lnTo>
                  <a:pt x="663" y="1"/>
                </a:lnTo>
                <a:lnTo>
                  <a:pt x="659" y="1"/>
                </a:lnTo>
                <a:lnTo>
                  <a:pt x="655" y="2"/>
                </a:lnTo>
                <a:lnTo>
                  <a:pt x="651" y="2"/>
                </a:lnTo>
                <a:lnTo>
                  <a:pt x="647" y="3"/>
                </a:lnTo>
                <a:lnTo>
                  <a:pt x="643" y="3"/>
                </a:lnTo>
                <a:lnTo>
                  <a:pt x="639" y="4"/>
                </a:lnTo>
                <a:lnTo>
                  <a:pt x="635" y="5"/>
                </a:lnTo>
                <a:lnTo>
                  <a:pt x="631" y="6"/>
                </a:lnTo>
                <a:lnTo>
                  <a:pt x="628" y="7"/>
                </a:lnTo>
                <a:lnTo>
                  <a:pt x="624" y="8"/>
                </a:lnTo>
                <a:lnTo>
                  <a:pt x="621" y="9"/>
                </a:lnTo>
                <a:lnTo>
                  <a:pt x="617" y="10"/>
                </a:lnTo>
                <a:lnTo>
                  <a:pt x="614" y="11"/>
                </a:lnTo>
                <a:lnTo>
                  <a:pt x="611" y="12"/>
                </a:lnTo>
                <a:lnTo>
                  <a:pt x="608" y="13"/>
                </a:lnTo>
                <a:lnTo>
                  <a:pt x="605" y="14"/>
                </a:lnTo>
                <a:lnTo>
                  <a:pt x="602" y="15"/>
                </a:lnTo>
                <a:lnTo>
                  <a:pt x="599" y="16"/>
                </a:lnTo>
                <a:lnTo>
                  <a:pt x="596" y="17"/>
                </a:lnTo>
                <a:lnTo>
                  <a:pt x="593" y="19"/>
                </a:lnTo>
                <a:lnTo>
                  <a:pt x="590" y="20"/>
                </a:lnTo>
                <a:lnTo>
                  <a:pt x="587" y="21"/>
                </a:lnTo>
                <a:lnTo>
                  <a:pt x="585" y="23"/>
                </a:lnTo>
                <a:lnTo>
                  <a:pt x="582" y="24"/>
                </a:lnTo>
                <a:lnTo>
                  <a:pt x="580" y="25"/>
                </a:lnTo>
                <a:lnTo>
                  <a:pt x="578" y="27"/>
                </a:lnTo>
                <a:lnTo>
                  <a:pt x="575" y="29"/>
                </a:lnTo>
                <a:lnTo>
                  <a:pt x="573" y="30"/>
                </a:lnTo>
                <a:lnTo>
                  <a:pt x="571" y="32"/>
                </a:lnTo>
                <a:lnTo>
                  <a:pt x="569" y="34"/>
                </a:lnTo>
                <a:lnTo>
                  <a:pt x="567" y="36"/>
                </a:lnTo>
                <a:lnTo>
                  <a:pt x="565" y="37"/>
                </a:lnTo>
                <a:lnTo>
                  <a:pt x="563" y="39"/>
                </a:lnTo>
                <a:lnTo>
                  <a:pt x="561" y="41"/>
                </a:lnTo>
                <a:lnTo>
                  <a:pt x="559" y="43"/>
                </a:lnTo>
                <a:lnTo>
                  <a:pt x="557" y="45"/>
                </a:lnTo>
                <a:lnTo>
                  <a:pt x="556" y="48"/>
                </a:lnTo>
                <a:lnTo>
                  <a:pt x="554" y="50"/>
                </a:lnTo>
                <a:lnTo>
                  <a:pt x="553" y="52"/>
                </a:lnTo>
                <a:lnTo>
                  <a:pt x="551" y="54"/>
                </a:lnTo>
                <a:lnTo>
                  <a:pt x="551" y="56"/>
                </a:lnTo>
                <a:lnTo>
                  <a:pt x="550" y="58"/>
                </a:lnTo>
                <a:lnTo>
                  <a:pt x="550" y="59"/>
                </a:lnTo>
                <a:lnTo>
                  <a:pt x="550" y="61"/>
                </a:lnTo>
                <a:lnTo>
                  <a:pt x="551" y="63"/>
                </a:lnTo>
                <a:lnTo>
                  <a:pt x="552" y="64"/>
                </a:lnTo>
                <a:lnTo>
                  <a:pt x="553" y="65"/>
                </a:lnTo>
                <a:lnTo>
                  <a:pt x="554" y="66"/>
                </a:lnTo>
                <a:lnTo>
                  <a:pt x="556" y="67"/>
                </a:lnTo>
                <a:lnTo>
                  <a:pt x="558" y="68"/>
                </a:lnTo>
                <a:lnTo>
                  <a:pt x="560" y="69"/>
                </a:lnTo>
                <a:lnTo>
                  <a:pt x="563" y="69"/>
                </a:lnTo>
                <a:lnTo>
                  <a:pt x="566" y="70"/>
                </a:lnTo>
                <a:lnTo>
                  <a:pt x="570" y="70"/>
                </a:lnTo>
                <a:lnTo>
                  <a:pt x="573" y="71"/>
                </a:lnTo>
                <a:lnTo>
                  <a:pt x="576" y="71"/>
                </a:lnTo>
                <a:lnTo>
                  <a:pt x="580" y="72"/>
                </a:lnTo>
                <a:lnTo>
                  <a:pt x="583" y="72"/>
                </a:lnTo>
                <a:lnTo>
                  <a:pt x="586" y="73"/>
                </a:lnTo>
                <a:lnTo>
                  <a:pt x="589" y="74"/>
                </a:lnTo>
                <a:lnTo>
                  <a:pt x="592" y="75"/>
                </a:lnTo>
                <a:lnTo>
                  <a:pt x="595" y="76"/>
                </a:lnTo>
                <a:lnTo>
                  <a:pt x="598" y="77"/>
                </a:lnTo>
                <a:lnTo>
                  <a:pt x="600" y="78"/>
                </a:lnTo>
                <a:lnTo>
                  <a:pt x="603" y="80"/>
                </a:lnTo>
                <a:lnTo>
                  <a:pt x="606" y="81"/>
                </a:lnTo>
                <a:lnTo>
                  <a:pt x="608" y="82"/>
                </a:lnTo>
                <a:lnTo>
                  <a:pt x="610" y="84"/>
                </a:lnTo>
                <a:lnTo>
                  <a:pt x="613" y="86"/>
                </a:lnTo>
                <a:lnTo>
                  <a:pt x="615" y="87"/>
                </a:lnTo>
                <a:lnTo>
                  <a:pt x="617" y="89"/>
                </a:lnTo>
                <a:lnTo>
                  <a:pt x="619" y="91"/>
                </a:lnTo>
                <a:lnTo>
                  <a:pt x="621" y="93"/>
                </a:lnTo>
                <a:lnTo>
                  <a:pt x="623" y="94"/>
                </a:lnTo>
                <a:lnTo>
                  <a:pt x="625" y="96"/>
                </a:lnTo>
                <a:lnTo>
                  <a:pt x="626" y="98"/>
                </a:lnTo>
                <a:lnTo>
                  <a:pt x="628" y="100"/>
                </a:lnTo>
                <a:lnTo>
                  <a:pt x="629" y="101"/>
                </a:lnTo>
                <a:lnTo>
                  <a:pt x="631" y="103"/>
                </a:lnTo>
                <a:lnTo>
                  <a:pt x="632" y="105"/>
                </a:lnTo>
                <a:lnTo>
                  <a:pt x="634" y="107"/>
                </a:lnTo>
                <a:lnTo>
                  <a:pt x="635" y="108"/>
                </a:lnTo>
                <a:lnTo>
                  <a:pt x="636" y="110"/>
                </a:lnTo>
                <a:lnTo>
                  <a:pt x="637" y="112"/>
                </a:lnTo>
                <a:lnTo>
                  <a:pt x="638" y="113"/>
                </a:lnTo>
                <a:lnTo>
                  <a:pt x="639" y="115"/>
                </a:lnTo>
                <a:lnTo>
                  <a:pt x="640" y="117"/>
                </a:lnTo>
                <a:lnTo>
                  <a:pt x="640" y="118"/>
                </a:lnTo>
                <a:lnTo>
                  <a:pt x="641" y="119"/>
                </a:lnTo>
                <a:lnTo>
                  <a:pt x="642" y="120"/>
                </a:lnTo>
                <a:lnTo>
                  <a:pt x="642" y="121"/>
                </a:lnTo>
                <a:lnTo>
                  <a:pt x="642" y="121"/>
                </a:lnTo>
                <a:lnTo>
                  <a:pt x="642" y="122"/>
                </a:lnTo>
                <a:lnTo>
                  <a:pt x="642" y="122"/>
                </a:lnTo>
                <a:lnTo>
                  <a:pt x="642" y="122"/>
                </a:lnTo>
                <a:lnTo>
                  <a:pt x="642" y="121"/>
                </a:lnTo>
                <a:lnTo>
                  <a:pt x="642" y="121"/>
                </a:lnTo>
                <a:lnTo>
                  <a:pt x="642" y="120"/>
                </a:lnTo>
                <a:lnTo>
                  <a:pt x="641" y="119"/>
                </a:lnTo>
                <a:lnTo>
                  <a:pt x="640" y="118"/>
                </a:lnTo>
                <a:lnTo>
                  <a:pt x="640" y="117"/>
                </a:lnTo>
                <a:lnTo>
                  <a:pt x="639" y="115"/>
                </a:lnTo>
                <a:lnTo>
                  <a:pt x="638" y="113"/>
                </a:lnTo>
                <a:lnTo>
                  <a:pt x="637" y="112"/>
                </a:lnTo>
                <a:lnTo>
                  <a:pt x="636" y="110"/>
                </a:lnTo>
                <a:lnTo>
                  <a:pt x="635" y="108"/>
                </a:lnTo>
                <a:lnTo>
                  <a:pt x="634" y="107"/>
                </a:lnTo>
                <a:lnTo>
                  <a:pt x="632" y="105"/>
                </a:lnTo>
                <a:lnTo>
                  <a:pt x="631" y="103"/>
                </a:lnTo>
                <a:lnTo>
                  <a:pt x="629" y="101"/>
                </a:lnTo>
                <a:lnTo>
                  <a:pt x="628" y="100"/>
                </a:lnTo>
                <a:lnTo>
                  <a:pt x="626" y="98"/>
                </a:lnTo>
                <a:lnTo>
                  <a:pt x="625" y="96"/>
                </a:lnTo>
                <a:lnTo>
                  <a:pt x="623" y="94"/>
                </a:lnTo>
                <a:lnTo>
                  <a:pt x="621" y="93"/>
                </a:lnTo>
                <a:lnTo>
                  <a:pt x="619" y="91"/>
                </a:lnTo>
                <a:lnTo>
                  <a:pt x="617" y="89"/>
                </a:lnTo>
                <a:lnTo>
                  <a:pt x="615" y="87"/>
                </a:lnTo>
                <a:lnTo>
                  <a:pt x="613" y="86"/>
                </a:lnTo>
                <a:lnTo>
                  <a:pt x="610" y="84"/>
                </a:lnTo>
                <a:lnTo>
                  <a:pt x="608" y="82"/>
                </a:lnTo>
                <a:lnTo>
                  <a:pt x="606" y="81"/>
                </a:lnTo>
                <a:lnTo>
                  <a:pt x="603" y="80"/>
                </a:lnTo>
                <a:lnTo>
                  <a:pt x="600" y="78"/>
                </a:lnTo>
                <a:lnTo>
                  <a:pt x="598" y="77"/>
                </a:lnTo>
                <a:lnTo>
                  <a:pt x="595" y="76"/>
                </a:lnTo>
                <a:lnTo>
                  <a:pt x="592" y="75"/>
                </a:lnTo>
                <a:lnTo>
                  <a:pt x="589" y="74"/>
                </a:lnTo>
                <a:lnTo>
                  <a:pt x="586" y="73"/>
                </a:lnTo>
                <a:lnTo>
                  <a:pt x="583" y="72"/>
                </a:lnTo>
                <a:lnTo>
                  <a:pt x="580" y="72"/>
                </a:lnTo>
                <a:lnTo>
                  <a:pt x="576" y="71"/>
                </a:lnTo>
                <a:lnTo>
                  <a:pt x="573" y="71"/>
                </a:lnTo>
                <a:lnTo>
                  <a:pt x="570" y="70"/>
                </a:lnTo>
                <a:lnTo>
                  <a:pt x="566" y="70"/>
                </a:lnTo>
                <a:lnTo>
                  <a:pt x="563" y="70"/>
                </a:lnTo>
                <a:lnTo>
                  <a:pt x="559" y="69"/>
                </a:lnTo>
                <a:lnTo>
                  <a:pt x="556" y="69"/>
                </a:lnTo>
                <a:lnTo>
                  <a:pt x="552" y="69"/>
                </a:lnTo>
                <a:lnTo>
                  <a:pt x="549" y="69"/>
                </a:lnTo>
                <a:lnTo>
                  <a:pt x="545" y="69"/>
                </a:lnTo>
                <a:lnTo>
                  <a:pt x="542" y="69"/>
                </a:lnTo>
                <a:lnTo>
                  <a:pt x="538" y="68"/>
                </a:lnTo>
                <a:lnTo>
                  <a:pt x="535" y="68"/>
                </a:lnTo>
                <a:lnTo>
                  <a:pt x="531" y="68"/>
                </a:lnTo>
                <a:lnTo>
                  <a:pt x="528" y="68"/>
                </a:lnTo>
                <a:lnTo>
                  <a:pt x="524" y="68"/>
                </a:lnTo>
                <a:lnTo>
                  <a:pt x="521" y="68"/>
                </a:lnTo>
                <a:lnTo>
                  <a:pt x="518" y="68"/>
                </a:lnTo>
                <a:lnTo>
                  <a:pt x="514" y="69"/>
                </a:lnTo>
                <a:lnTo>
                  <a:pt x="511" y="69"/>
                </a:lnTo>
                <a:lnTo>
                  <a:pt x="508" y="69"/>
                </a:lnTo>
                <a:lnTo>
                  <a:pt x="504" y="69"/>
                </a:lnTo>
                <a:lnTo>
                  <a:pt x="501" y="70"/>
                </a:lnTo>
                <a:lnTo>
                  <a:pt x="498" y="70"/>
                </a:lnTo>
                <a:lnTo>
                  <a:pt x="495" y="70"/>
                </a:lnTo>
                <a:lnTo>
                  <a:pt x="492" y="71"/>
                </a:lnTo>
                <a:lnTo>
                  <a:pt x="489" y="71"/>
                </a:lnTo>
                <a:lnTo>
                  <a:pt x="486" y="72"/>
                </a:lnTo>
                <a:lnTo>
                  <a:pt x="483" y="73"/>
                </a:lnTo>
                <a:lnTo>
                  <a:pt x="480" y="74"/>
                </a:lnTo>
                <a:lnTo>
                  <a:pt x="477" y="74"/>
                </a:lnTo>
                <a:lnTo>
                  <a:pt x="474" y="75"/>
                </a:lnTo>
                <a:lnTo>
                  <a:pt x="471" y="76"/>
                </a:lnTo>
                <a:lnTo>
                  <a:pt x="469" y="77"/>
                </a:lnTo>
                <a:lnTo>
                  <a:pt x="466" y="78"/>
                </a:lnTo>
                <a:lnTo>
                  <a:pt x="463" y="80"/>
                </a:lnTo>
                <a:lnTo>
                  <a:pt x="461" y="81"/>
                </a:lnTo>
                <a:lnTo>
                  <a:pt x="459" y="82"/>
                </a:lnTo>
                <a:lnTo>
                  <a:pt x="458" y="83"/>
                </a:lnTo>
                <a:lnTo>
                  <a:pt x="456" y="85"/>
                </a:lnTo>
                <a:lnTo>
                  <a:pt x="455" y="86"/>
                </a:lnTo>
                <a:lnTo>
                  <a:pt x="455" y="88"/>
                </a:lnTo>
                <a:lnTo>
                  <a:pt x="454" y="90"/>
                </a:lnTo>
                <a:lnTo>
                  <a:pt x="454" y="92"/>
                </a:lnTo>
                <a:lnTo>
                  <a:pt x="454" y="93"/>
                </a:lnTo>
                <a:lnTo>
                  <a:pt x="455" y="95"/>
                </a:lnTo>
                <a:lnTo>
                  <a:pt x="455" y="97"/>
                </a:lnTo>
                <a:lnTo>
                  <a:pt x="456" y="99"/>
                </a:lnTo>
                <a:lnTo>
                  <a:pt x="458" y="102"/>
                </a:lnTo>
                <a:lnTo>
                  <a:pt x="459" y="104"/>
                </a:lnTo>
                <a:lnTo>
                  <a:pt x="461" y="106"/>
                </a:lnTo>
                <a:lnTo>
                  <a:pt x="463" y="108"/>
                </a:lnTo>
                <a:lnTo>
                  <a:pt x="465" y="110"/>
                </a:lnTo>
                <a:lnTo>
                  <a:pt x="466" y="112"/>
                </a:lnTo>
                <a:lnTo>
                  <a:pt x="467" y="113"/>
                </a:lnTo>
                <a:lnTo>
                  <a:pt x="468" y="114"/>
                </a:lnTo>
                <a:lnTo>
                  <a:pt x="469" y="115"/>
                </a:lnTo>
                <a:lnTo>
                  <a:pt x="469" y="115"/>
                </a:lnTo>
                <a:lnTo>
                  <a:pt x="469" y="115"/>
                </a:lnTo>
                <a:lnTo>
                  <a:pt x="469" y="115"/>
                </a:lnTo>
                <a:lnTo>
                  <a:pt x="468" y="114"/>
                </a:lnTo>
                <a:lnTo>
                  <a:pt x="468" y="113"/>
                </a:lnTo>
                <a:lnTo>
                  <a:pt x="466" y="112"/>
                </a:lnTo>
                <a:lnTo>
                  <a:pt x="465" y="111"/>
                </a:lnTo>
                <a:lnTo>
                  <a:pt x="464" y="109"/>
                </a:lnTo>
                <a:lnTo>
                  <a:pt x="462" y="107"/>
                </a:lnTo>
                <a:lnTo>
                  <a:pt x="460" y="104"/>
                </a:lnTo>
                <a:lnTo>
                  <a:pt x="457" y="102"/>
                </a:lnTo>
                <a:lnTo>
                  <a:pt x="455" y="99"/>
                </a:lnTo>
                <a:lnTo>
                  <a:pt x="453" y="97"/>
                </a:lnTo>
                <a:lnTo>
                  <a:pt x="450" y="95"/>
                </a:lnTo>
                <a:lnTo>
                  <a:pt x="447" y="92"/>
                </a:lnTo>
                <a:lnTo>
                  <a:pt x="444" y="90"/>
                </a:lnTo>
                <a:lnTo>
                  <a:pt x="442" y="88"/>
                </a:lnTo>
                <a:lnTo>
                  <a:pt x="439" y="86"/>
                </a:lnTo>
                <a:lnTo>
                  <a:pt x="436" y="84"/>
                </a:lnTo>
                <a:lnTo>
                  <a:pt x="432" y="82"/>
                </a:lnTo>
                <a:lnTo>
                  <a:pt x="429" y="81"/>
                </a:lnTo>
                <a:lnTo>
                  <a:pt x="426" y="79"/>
                </a:lnTo>
                <a:lnTo>
                  <a:pt x="422" y="77"/>
                </a:lnTo>
                <a:lnTo>
                  <a:pt x="419" y="76"/>
                </a:lnTo>
                <a:lnTo>
                  <a:pt x="415" y="74"/>
                </a:lnTo>
                <a:lnTo>
                  <a:pt x="411" y="73"/>
                </a:lnTo>
                <a:lnTo>
                  <a:pt x="408" y="72"/>
                </a:lnTo>
                <a:lnTo>
                  <a:pt x="404" y="71"/>
                </a:lnTo>
                <a:lnTo>
                  <a:pt x="400" y="70"/>
                </a:lnTo>
                <a:lnTo>
                  <a:pt x="396" y="69"/>
                </a:lnTo>
                <a:lnTo>
                  <a:pt x="392" y="68"/>
                </a:lnTo>
                <a:lnTo>
                  <a:pt x="388" y="68"/>
                </a:lnTo>
                <a:lnTo>
                  <a:pt x="385" y="67"/>
                </a:lnTo>
                <a:lnTo>
                  <a:pt x="381" y="67"/>
                </a:lnTo>
                <a:lnTo>
                  <a:pt x="377" y="67"/>
                </a:lnTo>
                <a:lnTo>
                  <a:pt x="373" y="67"/>
                </a:lnTo>
                <a:lnTo>
                  <a:pt x="369" y="67"/>
                </a:lnTo>
                <a:lnTo>
                  <a:pt x="365" y="67"/>
                </a:lnTo>
                <a:lnTo>
                  <a:pt x="361" y="68"/>
                </a:lnTo>
                <a:lnTo>
                  <a:pt x="358" y="69"/>
                </a:lnTo>
                <a:lnTo>
                  <a:pt x="354" y="69"/>
                </a:lnTo>
                <a:lnTo>
                  <a:pt x="350" y="70"/>
                </a:lnTo>
                <a:lnTo>
                  <a:pt x="346" y="71"/>
                </a:lnTo>
                <a:lnTo>
                  <a:pt x="342" y="73"/>
                </a:lnTo>
                <a:lnTo>
                  <a:pt x="339" y="74"/>
                </a:lnTo>
                <a:lnTo>
                  <a:pt x="335" y="75"/>
                </a:lnTo>
                <a:lnTo>
                  <a:pt x="332" y="76"/>
                </a:lnTo>
                <a:lnTo>
                  <a:pt x="329" y="78"/>
                </a:lnTo>
                <a:lnTo>
                  <a:pt x="326" y="79"/>
                </a:lnTo>
                <a:lnTo>
                  <a:pt x="323" y="81"/>
                </a:lnTo>
                <a:lnTo>
                  <a:pt x="320" y="82"/>
                </a:lnTo>
                <a:lnTo>
                  <a:pt x="317" y="84"/>
                </a:lnTo>
                <a:lnTo>
                  <a:pt x="315" y="86"/>
                </a:lnTo>
                <a:lnTo>
                  <a:pt x="312" y="88"/>
                </a:lnTo>
                <a:lnTo>
                  <a:pt x="310" y="90"/>
                </a:lnTo>
                <a:lnTo>
                  <a:pt x="308" y="92"/>
                </a:lnTo>
                <a:lnTo>
                  <a:pt x="306" y="94"/>
                </a:lnTo>
                <a:lnTo>
                  <a:pt x="304" y="96"/>
                </a:lnTo>
                <a:lnTo>
                  <a:pt x="302" y="98"/>
                </a:lnTo>
                <a:lnTo>
                  <a:pt x="300" y="101"/>
                </a:lnTo>
                <a:lnTo>
                  <a:pt x="298" y="103"/>
                </a:lnTo>
                <a:lnTo>
                  <a:pt x="297" y="105"/>
                </a:lnTo>
                <a:lnTo>
                  <a:pt x="295" y="107"/>
                </a:lnTo>
                <a:lnTo>
                  <a:pt x="293" y="109"/>
                </a:lnTo>
                <a:lnTo>
                  <a:pt x="292" y="112"/>
                </a:lnTo>
                <a:lnTo>
                  <a:pt x="290" y="114"/>
                </a:lnTo>
                <a:lnTo>
                  <a:pt x="289" y="116"/>
                </a:lnTo>
                <a:lnTo>
                  <a:pt x="287" y="118"/>
                </a:lnTo>
                <a:lnTo>
                  <a:pt x="286" y="120"/>
                </a:lnTo>
                <a:lnTo>
                  <a:pt x="284" y="122"/>
                </a:lnTo>
                <a:lnTo>
                  <a:pt x="283" y="124"/>
                </a:lnTo>
                <a:lnTo>
                  <a:pt x="281" y="126"/>
                </a:lnTo>
                <a:lnTo>
                  <a:pt x="280" y="128"/>
                </a:lnTo>
                <a:lnTo>
                  <a:pt x="279" y="130"/>
                </a:lnTo>
                <a:lnTo>
                  <a:pt x="278" y="132"/>
                </a:lnTo>
                <a:lnTo>
                  <a:pt x="276" y="134"/>
                </a:lnTo>
                <a:lnTo>
                  <a:pt x="275" y="136"/>
                </a:lnTo>
                <a:lnTo>
                  <a:pt x="274" y="139"/>
                </a:lnTo>
                <a:lnTo>
                  <a:pt x="273" y="141"/>
                </a:lnTo>
                <a:lnTo>
                  <a:pt x="271" y="143"/>
                </a:lnTo>
                <a:lnTo>
                  <a:pt x="270" y="145"/>
                </a:lnTo>
                <a:lnTo>
                  <a:pt x="269" y="147"/>
                </a:lnTo>
                <a:lnTo>
                  <a:pt x="267" y="150"/>
                </a:lnTo>
                <a:lnTo>
                  <a:pt x="266" y="152"/>
                </a:lnTo>
                <a:lnTo>
                  <a:pt x="265" y="154"/>
                </a:lnTo>
                <a:lnTo>
                  <a:pt x="264" y="157"/>
                </a:lnTo>
                <a:lnTo>
                  <a:pt x="262" y="159"/>
                </a:lnTo>
                <a:lnTo>
                  <a:pt x="261" y="162"/>
                </a:lnTo>
                <a:lnTo>
                  <a:pt x="260" y="164"/>
                </a:lnTo>
                <a:lnTo>
                  <a:pt x="259" y="167"/>
                </a:lnTo>
                <a:lnTo>
                  <a:pt x="257" y="169"/>
                </a:lnTo>
                <a:lnTo>
                  <a:pt x="256" y="171"/>
                </a:lnTo>
                <a:lnTo>
                  <a:pt x="255" y="173"/>
                </a:lnTo>
                <a:lnTo>
                  <a:pt x="255" y="175"/>
                </a:lnTo>
                <a:lnTo>
                  <a:pt x="254" y="176"/>
                </a:lnTo>
                <a:lnTo>
                  <a:pt x="254" y="176"/>
                </a:lnTo>
                <a:lnTo>
                  <a:pt x="254" y="177"/>
                </a:lnTo>
                <a:lnTo>
                  <a:pt x="254" y="177"/>
                </a:lnTo>
                <a:lnTo>
                  <a:pt x="254" y="177"/>
                </a:lnTo>
                <a:lnTo>
                  <a:pt x="254" y="176"/>
                </a:lnTo>
                <a:lnTo>
                  <a:pt x="254" y="176"/>
                </a:lnTo>
                <a:lnTo>
                  <a:pt x="255" y="175"/>
                </a:lnTo>
                <a:lnTo>
                  <a:pt x="255" y="173"/>
                </a:lnTo>
                <a:lnTo>
                  <a:pt x="256" y="171"/>
                </a:lnTo>
                <a:lnTo>
                  <a:pt x="257" y="169"/>
                </a:lnTo>
                <a:lnTo>
                  <a:pt x="259" y="167"/>
                </a:lnTo>
                <a:lnTo>
                  <a:pt x="260" y="164"/>
                </a:lnTo>
                <a:lnTo>
                  <a:pt x="261" y="162"/>
                </a:lnTo>
                <a:lnTo>
                  <a:pt x="261" y="159"/>
                </a:lnTo>
                <a:lnTo>
                  <a:pt x="262" y="157"/>
                </a:lnTo>
                <a:lnTo>
                  <a:pt x="262" y="154"/>
                </a:lnTo>
                <a:lnTo>
                  <a:pt x="262" y="152"/>
                </a:lnTo>
                <a:lnTo>
                  <a:pt x="262" y="149"/>
                </a:lnTo>
                <a:lnTo>
                  <a:pt x="262" y="147"/>
                </a:lnTo>
                <a:lnTo>
                  <a:pt x="262" y="144"/>
                </a:lnTo>
                <a:lnTo>
                  <a:pt x="261" y="142"/>
                </a:lnTo>
                <a:lnTo>
                  <a:pt x="260" y="139"/>
                </a:lnTo>
                <a:lnTo>
                  <a:pt x="259" y="137"/>
                </a:lnTo>
                <a:lnTo>
                  <a:pt x="258" y="135"/>
                </a:lnTo>
                <a:lnTo>
                  <a:pt x="256" y="132"/>
                </a:lnTo>
                <a:lnTo>
                  <a:pt x="254" y="130"/>
                </a:lnTo>
                <a:lnTo>
                  <a:pt x="252" y="128"/>
                </a:lnTo>
                <a:lnTo>
                  <a:pt x="250" y="125"/>
                </a:lnTo>
                <a:lnTo>
                  <a:pt x="248" y="123"/>
                </a:lnTo>
                <a:lnTo>
                  <a:pt x="246" y="121"/>
                </a:lnTo>
                <a:lnTo>
                  <a:pt x="243" y="119"/>
                </a:lnTo>
                <a:lnTo>
                  <a:pt x="241" y="117"/>
                </a:lnTo>
                <a:lnTo>
                  <a:pt x="238" y="115"/>
                </a:lnTo>
                <a:lnTo>
                  <a:pt x="236" y="113"/>
                </a:lnTo>
                <a:lnTo>
                  <a:pt x="233" y="112"/>
                </a:lnTo>
                <a:lnTo>
                  <a:pt x="230" y="110"/>
                </a:lnTo>
                <a:lnTo>
                  <a:pt x="227" y="109"/>
                </a:lnTo>
                <a:lnTo>
                  <a:pt x="224" y="107"/>
                </a:lnTo>
                <a:lnTo>
                  <a:pt x="221" y="106"/>
                </a:lnTo>
                <a:lnTo>
                  <a:pt x="218" y="105"/>
                </a:lnTo>
                <a:lnTo>
                  <a:pt x="214" y="104"/>
                </a:lnTo>
                <a:lnTo>
                  <a:pt x="211" y="103"/>
                </a:lnTo>
                <a:lnTo>
                  <a:pt x="207" y="102"/>
                </a:lnTo>
                <a:lnTo>
                  <a:pt x="204" y="101"/>
                </a:lnTo>
                <a:lnTo>
                  <a:pt x="200" y="100"/>
                </a:lnTo>
                <a:lnTo>
                  <a:pt x="196" y="99"/>
                </a:lnTo>
                <a:lnTo>
                  <a:pt x="193" y="99"/>
                </a:lnTo>
                <a:lnTo>
                  <a:pt x="189" y="99"/>
                </a:lnTo>
                <a:lnTo>
                  <a:pt x="185" y="98"/>
                </a:lnTo>
                <a:lnTo>
                  <a:pt x="181" y="98"/>
                </a:lnTo>
                <a:lnTo>
                  <a:pt x="178" y="98"/>
                </a:lnTo>
                <a:lnTo>
                  <a:pt x="174" y="98"/>
                </a:lnTo>
                <a:lnTo>
                  <a:pt x="170" y="98"/>
                </a:lnTo>
                <a:lnTo>
                  <a:pt x="166" y="99"/>
                </a:lnTo>
                <a:lnTo>
                  <a:pt x="163" y="99"/>
                </a:lnTo>
                <a:lnTo>
                  <a:pt x="159" y="99"/>
                </a:lnTo>
                <a:lnTo>
                  <a:pt x="155" y="100"/>
                </a:lnTo>
                <a:lnTo>
                  <a:pt x="151" y="101"/>
                </a:lnTo>
                <a:lnTo>
                  <a:pt x="147" y="102"/>
                </a:lnTo>
                <a:lnTo>
                  <a:pt x="143" y="103"/>
                </a:lnTo>
                <a:lnTo>
                  <a:pt x="139" y="103"/>
                </a:lnTo>
                <a:lnTo>
                  <a:pt x="136" y="104"/>
                </a:lnTo>
                <a:lnTo>
                  <a:pt x="132" y="105"/>
                </a:lnTo>
                <a:lnTo>
                  <a:pt x="128" y="107"/>
                </a:lnTo>
                <a:lnTo>
                  <a:pt x="125" y="108"/>
                </a:lnTo>
                <a:lnTo>
                  <a:pt x="121" y="109"/>
                </a:lnTo>
                <a:lnTo>
                  <a:pt x="118" y="110"/>
                </a:lnTo>
                <a:lnTo>
                  <a:pt x="114" y="111"/>
                </a:lnTo>
                <a:lnTo>
                  <a:pt x="111" y="112"/>
                </a:lnTo>
                <a:lnTo>
                  <a:pt x="108" y="114"/>
                </a:lnTo>
                <a:lnTo>
                  <a:pt x="104" y="115"/>
                </a:lnTo>
                <a:lnTo>
                  <a:pt x="101" y="116"/>
                </a:lnTo>
                <a:lnTo>
                  <a:pt x="98" y="118"/>
                </a:lnTo>
                <a:lnTo>
                  <a:pt x="95" y="119"/>
                </a:lnTo>
                <a:lnTo>
                  <a:pt x="92" y="120"/>
                </a:lnTo>
                <a:lnTo>
                  <a:pt x="89" y="122"/>
                </a:lnTo>
                <a:lnTo>
                  <a:pt x="86" y="123"/>
                </a:lnTo>
                <a:lnTo>
                  <a:pt x="83" y="125"/>
                </a:lnTo>
                <a:lnTo>
                  <a:pt x="80" y="127"/>
                </a:lnTo>
                <a:lnTo>
                  <a:pt x="78" y="128"/>
                </a:lnTo>
                <a:lnTo>
                  <a:pt x="75" y="130"/>
                </a:lnTo>
                <a:lnTo>
                  <a:pt x="73" y="132"/>
                </a:lnTo>
                <a:lnTo>
                  <a:pt x="70" y="133"/>
                </a:lnTo>
                <a:lnTo>
                  <a:pt x="68" y="135"/>
                </a:lnTo>
                <a:lnTo>
                  <a:pt x="66" y="137"/>
                </a:lnTo>
                <a:lnTo>
                  <a:pt x="64" y="139"/>
                </a:lnTo>
                <a:lnTo>
                  <a:pt x="62" y="141"/>
                </a:lnTo>
                <a:lnTo>
                  <a:pt x="60" y="143"/>
                </a:lnTo>
                <a:lnTo>
                  <a:pt x="58" y="145"/>
                </a:lnTo>
                <a:lnTo>
                  <a:pt x="56" y="147"/>
                </a:lnTo>
                <a:lnTo>
                  <a:pt x="54" y="149"/>
                </a:lnTo>
                <a:lnTo>
                  <a:pt x="53" y="151"/>
                </a:lnTo>
                <a:lnTo>
                  <a:pt x="51" y="153"/>
                </a:lnTo>
                <a:lnTo>
                  <a:pt x="49" y="156"/>
                </a:lnTo>
                <a:lnTo>
                  <a:pt x="47" y="158"/>
                </a:lnTo>
                <a:lnTo>
                  <a:pt x="45" y="161"/>
                </a:lnTo>
                <a:lnTo>
                  <a:pt x="43" y="164"/>
                </a:lnTo>
                <a:lnTo>
                  <a:pt x="41" y="167"/>
                </a:lnTo>
                <a:lnTo>
                  <a:pt x="39" y="170"/>
                </a:lnTo>
                <a:lnTo>
                  <a:pt x="37" y="173"/>
                </a:lnTo>
                <a:lnTo>
                  <a:pt x="35" y="176"/>
                </a:lnTo>
                <a:lnTo>
                  <a:pt x="33" y="179"/>
                </a:lnTo>
                <a:lnTo>
                  <a:pt x="31" y="182"/>
                </a:lnTo>
                <a:lnTo>
                  <a:pt x="28" y="186"/>
                </a:lnTo>
                <a:lnTo>
                  <a:pt x="26" y="190"/>
                </a:lnTo>
                <a:lnTo>
                  <a:pt x="23" y="193"/>
                </a:lnTo>
                <a:lnTo>
                  <a:pt x="21" y="197"/>
                </a:lnTo>
                <a:lnTo>
                  <a:pt x="18" y="201"/>
                </a:lnTo>
                <a:lnTo>
                  <a:pt x="16" y="205"/>
                </a:lnTo>
                <a:lnTo>
                  <a:pt x="14" y="209"/>
                </a:lnTo>
                <a:lnTo>
                  <a:pt x="12" y="213"/>
                </a:lnTo>
                <a:lnTo>
                  <a:pt x="10" y="217"/>
                </a:lnTo>
                <a:lnTo>
                  <a:pt x="8" y="221"/>
                </a:lnTo>
                <a:lnTo>
                  <a:pt x="7" y="225"/>
                </a:lnTo>
                <a:lnTo>
                  <a:pt x="5" y="229"/>
                </a:lnTo>
                <a:lnTo>
                  <a:pt x="4" y="233"/>
                </a:lnTo>
                <a:lnTo>
                  <a:pt x="3" y="238"/>
                </a:lnTo>
                <a:lnTo>
                  <a:pt x="2" y="242"/>
                </a:lnTo>
                <a:lnTo>
                  <a:pt x="1" y="246"/>
                </a:lnTo>
                <a:lnTo>
                  <a:pt x="1" y="250"/>
                </a:lnTo>
                <a:lnTo>
                  <a:pt x="0" y="255"/>
                </a:lnTo>
                <a:lnTo>
                  <a:pt x="0" y="259"/>
                </a:lnTo>
                <a:lnTo>
                  <a:pt x="0" y="263"/>
                </a:lnTo>
                <a:lnTo>
                  <a:pt x="0" y="268"/>
                </a:lnTo>
                <a:lnTo>
                  <a:pt x="0" y="272"/>
                </a:lnTo>
                <a:lnTo>
                  <a:pt x="0" y="276"/>
                </a:lnTo>
                <a:lnTo>
                  <a:pt x="0" y="280"/>
                </a:lnTo>
                <a:lnTo>
                  <a:pt x="0" y="283"/>
                </a:lnTo>
                <a:lnTo>
                  <a:pt x="1" y="287"/>
                </a:lnTo>
                <a:lnTo>
                  <a:pt x="1" y="291"/>
                </a:lnTo>
                <a:lnTo>
                  <a:pt x="1" y="294"/>
                </a:lnTo>
                <a:lnTo>
                  <a:pt x="2" y="297"/>
                </a:lnTo>
                <a:lnTo>
                  <a:pt x="2" y="301"/>
                </a:lnTo>
                <a:lnTo>
                  <a:pt x="3" y="304"/>
                </a:lnTo>
                <a:lnTo>
                  <a:pt x="4" y="307"/>
                </a:lnTo>
                <a:lnTo>
                  <a:pt x="5" y="309"/>
                </a:lnTo>
                <a:lnTo>
                  <a:pt x="6" y="312"/>
                </a:lnTo>
                <a:lnTo>
                  <a:pt x="7" y="314"/>
                </a:lnTo>
                <a:lnTo>
                  <a:pt x="8" y="317"/>
                </a:lnTo>
                <a:lnTo>
                  <a:pt x="9" y="319"/>
                </a:lnTo>
                <a:lnTo>
                  <a:pt x="10" y="321"/>
                </a:lnTo>
                <a:lnTo>
                  <a:pt x="11" y="324"/>
                </a:lnTo>
                <a:lnTo>
                  <a:pt x="12" y="326"/>
                </a:lnTo>
                <a:lnTo>
                  <a:pt x="13" y="328"/>
                </a:lnTo>
                <a:lnTo>
                  <a:pt x="14" y="330"/>
                </a:lnTo>
                <a:lnTo>
                  <a:pt x="16" y="332"/>
                </a:lnTo>
                <a:lnTo>
                  <a:pt x="17" y="334"/>
                </a:lnTo>
                <a:lnTo>
                  <a:pt x="18" y="335"/>
                </a:lnTo>
                <a:lnTo>
                  <a:pt x="20" y="337"/>
                </a:lnTo>
                <a:lnTo>
                  <a:pt x="21" y="339"/>
                </a:lnTo>
                <a:lnTo>
                  <a:pt x="22" y="341"/>
                </a:lnTo>
                <a:lnTo>
                  <a:pt x="24" y="342"/>
                </a:lnTo>
                <a:lnTo>
                  <a:pt x="25" y="344"/>
                </a:lnTo>
                <a:lnTo>
                  <a:pt x="26" y="345"/>
                </a:lnTo>
                <a:lnTo>
                  <a:pt x="28" y="346"/>
                </a:lnTo>
                <a:lnTo>
                  <a:pt x="29" y="348"/>
                </a:lnTo>
                <a:lnTo>
                  <a:pt x="31" y="349"/>
                </a:lnTo>
                <a:lnTo>
                  <a:pt x="33" y="349"/>
                </a:lnTo>
                <a:lnTo>
                  <a:pt x="34" y="350"/>
                </a:lnTo>
                <a:lnTo>
                  <a:pt x="36" y="350"/>
                </a:lnTo>
                <a:lnTo>
                  <a:pt x="38" y="350"/>
                </a:lnTo>
                <a:lnTo>
                  <a:pt x="39" y="349"/>
                </a:lnTo>
                <a:lnTo>
                  <a:pt x="41" y="349"/>
                </a:lnTo>
                <a:lnTo>
                  <a:pt x="43" y="348"/>
                </a:lnTo>
                <a:lnTo>
                  <a:pt x="45" y="347"/>
                </a:lnTo>
                <a:lnTo>
                  <a:pt x="47" y="345"/>
                </a:lnTo>
                <a:lnTo>
                  <a:pt x="49" y="344"/>
                </a:lnTo>
                <a:lnTo>
                  <a:pt x="52" y="342"/>
                </a:lnTo>
                <a:lnTo>
                  <a:pt x="54" y="340"/>
                </a:lnTo>
                <a:lnTo>
                  <a:pt x="56" y="337"/>
                </a:lnTo>
                <a:lnTo>
                  <a:pt x="58" y="335"/>
                </a:lnTo>
                <a:lnTo>
                  <a:pt x="60" y="332"/>
                </a:lnTo>
                <a:lnTo>
                  <a:pt x="62" y="330"/>
                </a:lnTo>
                <a:lnTo>
                  <a:pt x="64" y="328"/>
                </a:lnTo>
                <a:lnTo>
                  <a:pt x="65" y="326"/>
                </a:lnTo>
                <a:lnTo>
                  <a:pt x="66" y="325"/>
                </a:lnTo>
                <a:lnTo>
                  <a:pt x="67" y="324"/>
                </a:lnTo>
                <a:lnTo>
                  <a:pt x="67" y="324"/>
                </a:lnTo>
                <a:lnTo>
                  <a:pt x="67" y="323"/>
                </a:lnTo>
                <a:lnTo>
                  <a:pt x="67" y="323"/>
                </a:lnTo>
                <a:lnTo>
                  <a:pt x="67" y="324"/>
                </a:lnTo>
                <a:lnTo>
                  <a:pt x="66" y="325"/>
                </a:lnTo>
                <a:lnTo>
                  <a:pt x="65" y="326"/>
                </a:lnTo>
                <a:lnTo>
                  <a:pt x="63" y="327"/>
                </a:lnTo>
                <a:lnTo>
                  <a:pt x="62" y="329"/>
                </a:lnTo>
                <a:lnTo>
                  <a:pt x="60" y="331"/>
                </a:lnTo>
                <a:lnTo>
                  <a:pt x="57" y="334"/>
                </a:lnTo>
                <a:lnTo>
                  <a:pt x="55" y="337"/>
                </a:lnTo>
                <a:lnTo>
                  <a:pt x="53" y="340"/>
                </a:lnTo>
                <a:lnTo>
                  <a:pt x="50" y="343"/>
                </a:lnTo>
                <a:lnTo>
                  <a:pt x="48" y="346"/>
                </a:lnTo>
                <a:lnTo>
                  <a:pt x="46" y="350"/>
                </a:lnTo>
                <a:lnTo>
                  <a:pt x="44" y="354"/>
                </a:lnTo>
                <a:lnTo>
                  <a:pt x="42" y="358"/>
                </a:lnTo>
                <a:lnTo>
                  <a:pt x="40" y="362"/>
                </a:lnTo>
                <a:lnTo>
                  <a:pt x="38" y="367"/>
                </a:lnTo>
                <a:lnTo>
                  <a:pt x="36" y="372"/>
                </a:lnTo>
                <a:lnTo>
                  <a:pt x="34" y="377"/>
                </a:lnTo>
                <a:lnTo>
                  <a:pt x="32" y="382"/>
                </a:lnTo>
                <a:lnTo>
                  <a:pt x="30" y="388"/>
                </a:lnTo>
                <a:lnTo>
                  <a:pt x="28" y="393"/>
                </a:lnTo>
                <a:lnTo>
                  <a:pt x="26" y="399"/>
                </a:lnTo>
                <a:lnTo>
                  <a:pt x="25" y="405"/>
                </a:lnTo>
                <a:lnTo>
                  <a:pt x="23" y="412"/>
                </a:lnTo>
                <a:lnTo>
                  <a:pt x="22" y="418"/>
                </a:lnTo>
                <a:lnTo>
                  <a:pt x="21" y="424"/>
                </a:lnTo>
                <a:lnTo>
                  <a:pt x="20" y="429"/>
                </a:lnTo>
                <a:lnTo>
                  <a:pt x="19" y="435"/>
                </a:lnTo>
                <a:lnTo>
                  <a:pt x="18" y="441"/>
                </a:lnTo>
                <a:lnTo>
                  <a:pt x="18" y="446"/>
                </a:lnTo>
                <a:lnTo>
                  <a:pt x="17" y="452"/>
                </a:lnTo>
                <a:lnTo>
                  <a:pt x="17" y="457"/>
                </a:lnTo>
                <a:lnTo>
                  <a:pt x="17" y="462"/>
                </a:lnTo>
                <a:lnTo>
                  <a:pt x="18" y="467"/>
                </a:lnTo>
                <a:lnTo>
                  <a:pt x="18" y="472"/>
                </a:lnTo>
                <a:lnTo>
                  <a:pt x="19" y="477"/>
                </a:lnTo>
                <a:lnTo>
                  <a:pt x="19" y="481"/>
                </a:lnTo>
                <a:lnTo>
                  <a:pt x="20" y="486"/>
                </a:lnTo>
                <a:lnTo>
                  <a:pt x="22" y="490"/>
                </a:lnTo>
                <a:lnTo>
                  <a:pt x="23" y="495"/>
                </a:lnTo>
                <a:lnTo>
                  <a:pt x="24" y="499"/>
                </a:lnTo>
                <a:lnTo>
                  <a:pt x="26" y="503"/>
                </a:lnTo>
                <a:lnTo>
                  <a:pt x="27" y="507"/>
                </a:lnTo>
                <a:lnTo>
                  <a:pt x="29" y="511"/>
                </a:lnTo>
                <a:lnTo>
                  <a:pt x="30" y="515"/>
                </a:lnTo>
                <a:lnTo>
                  <a:pt x="32" y="519"/>
                </a:lnTo>
                <a:lnTo>
                  <a:pt x="34" y="523"/>
                </a:lnTo>
                <a:lnTo>
                  <a:pt x="36" y="527"/>
                </a:lnTo>
                <a:lnTo>
                  <a:pt x="37" y="531"/>
                </a:lnTo>
                <a:lnTo>
                  <a:pt x="39" y="534"/>
                </a:lnTo>
                <a:lnTo>
                  <a:pt x="41" y="538"/>
                </a:lnTo>
                <a:lnTo>
                  <a:pt x="43" y="541"/>
                </a:lnTo>
                <a:lnTo>
                  <a:pt x="45" y="545"/>
                </a:lnTo>
                <a:lnTo>
                  <a:pt x="47" y="548"/>
                </a:lnTo>
                <a:lnTo>
                  <a:pt x="50" y="552"/>
                </a:lnTo>
                <a:lnTo>
                  <a:pt x="52" y="555"/>
                </a:lnTo>
                <a:lnTo>
                  <a:pt x="54" y="558"/>
                </a:lnTo>
                <a:lnTo>
                  <a:pt x="57" y="562"/>
                </a:lnTo>
                <a:lnTo>
                  <a:pt x="59" y="565"/>
                </a:lnTo>
                <a:lnTo>
                  <a:pt x="62" y="568"/>
                </a:lnTo>
                <a:lnTo>
                  <a:pt x="65" y="571"/>
                </a:lnTo>
                <a:lnTo>
                  <a:pt x="67" y="574"/>
                </a:lnTo>
                <a:lnTo>
                  <a:pt x="70" y="577"/>
                </a:lnTo>
                <a:lnTo>
                  <a:pt x="73" y="579"/>
                </a:lnTo>
                <a:lnTo>
                  <a:pt x="76" y="582"/>
                </a:lnTo>
                <a:lnTo>
                  <a:pt x="79" y="585"/>
                </a:lnTo>
                <a:lnTo>
                  <a:pt x="82" y="588"/>
                </a:lnTo>
                <a:lnTo>
                  <a:pt x="86" y="590"/>
                </a:lnTo>
                <a:lnTo>
                  <a:pt x="89" y="593"/>
                </a:lnTo>
                <a:lnTo>
                  <a:pt x="92" y="595"/>
                </a:lnTo>
                <a:lnTo>
                  <a:pt x="96" y="597"/>
                </a:lnTo>
                <a:lnTo>
                  <a:pt x="99" y="600"/>
                </a:lnTo>
                <a:lnTo>
                  <a:pt x="103" y="602"/>
                </a:lnTo>
                <a:lnTo>
                  <a:pt x="106" y="604"/>
                </a:lnTo>
                <a:lnTo>
                  <a:pt x="110" y="606"/>
                </a:lnTo>
                <a:lnTo>
                  <a:pt x="114" y="608"/>
                </a:lnTo>
                <a:lnTo>
                  <a:pt x="117" y="610"/>
                </a:lnTo>
                <a:lnTo>
                  <a:pt x="121" y="612"/>
                </a:lnTo>
                <a:lnTo>
                  <a:pt x="125" y="614"/>
                </a:lnTo>
                <a:lnTo>
                  <a:pt x="128" y="616"/>
                </a:lnTo>
                <a:lnTo>
                  <a:pt x="132" y="618"/>
                </a:lnTo>
                <a:lnTo>
                  <a:pt x="136" y="619"/>
                </a:lnTo>
                <a:lnTo>
                  <a:pt x="140" y="621"/>
                </a:lnTo>
                <a:lnTo>
                  <a:pt x="144" y="623"/>
                </a:lnTo>
                <a:lnTo>
                  <a:pt x="148" y="624"/>
                </a:lnTo>
                <a:lnTo>
                  <a:pt x="152" y="625"/>
                </a:lnTo>
                <a:lnTo>
                  <a:pt x="156" y="627"/>
                </a:lnTo>
                <a:lnTo>
                  <a:pt x="160" y="628"/>
                </a:lnTo>
                <a:lnTo>
                  <a:pt x="164" y="629"/>
                </a:lnTo>
                <a:lnTo>
                  <a:pt x="167" y="630"/>
                </a:lnTo>
                <a:lnTo>
                  <a:pt x="171" y="631"/>
                </a:lnTo>
                <a:lnTo>
                  <a:pt x="175" y="632"/>
                </a:lnTo>
                <a:lnTo>
                  <a:pt x="178" y="633"/>
                </a:lnTo>
                <a:lnTo>
                  <a:pt x="182" y="634"/>
                </a:lnTo>
                <a:lnTo>
                  <a:pt x="186" y="635"/>
                </a:lnTo>
                <a:lnTo>
                  <a:pt x="189" y="635"/>
                </a:lnTo>
                <a:lnTo>
                  <a:pt x="192" y="636"/>
                </a:lnTo>
                <a:lnTo>
                  <a:pt x="196" y="636"/>
                </a:lnTo>
                <a:lnTo>
                  <a:pt x="199" y="636"/>
                </a:lnTo>
                <a:lnTo>
                  <a:pt x="202" y="637"/>
                </a:lnTo>
                <a:lnTo>
                  <a:pt x="205" y="637"/>
                </a:lnTo>
                <a:lnTo>
                  <a:pt x="208" y="637"/>
                </a:lnTo>
                <a:lnTo>
                  <a:pt x="211" y="637"/>
                </a:lnTo>
                <a:lnTo>
                  <a:pt x="214" y="637"/>
                </a:lnTo>
                <a:lnTo>
                  <a:pt x="216" y="636"/>
                </a:lnTo>
                <a:lnTo>
                  <a:pt x="218" y="636"/>
                </a:lnTo>
                <a:lnTo>
                  <a:pt x="220" y="636"/>
                </a:lnTo>
                <a:lnTo>
                  <a:pt x="221" y="636"/>
                </a:lnTo>
                <a:lnTo>
                  <a:pt x="222" y="636"/>
                </a:lnTo>
                <a:lnTo>
                  <a:pt x="223" y="636"/>
                </a:lnTo>
                <a:lnTo>
                  <a:pt x="223" y="636"/>
                </a:lnTo>
                <a:lnTo>
                  <a:pt x="223" y="636"/>
                </a:lnTo>
                <a:lnTo>
                  <a:pt x="222" y="636"/>
                </a:lnTo>
                <a:lnTo>
                  <a:pt x="221" y="636"/>
                </a:lnTo>
                <a:lnTo>
                  <a:pt x="220" y="636"/>
                </a:lnTo>
                <a:lnTo>
                  <a:pt x="218" y="636"/>
                </a:lnTo>
                <a:lnTo>
                  <a:pt x="216" y="636"/>
                </a:lnTo>
                <a:lnTo>
                  <a:pt x="214" y="637"/>
                </a:lnTo>
                <a:lnTo>
                  <a:pt x="211" y="637"/>
                </a:lnTo>
                <a:lnTo>
                  <a:pt x="208" y="637"/>
                </a:lnTo>
                <a:lnTo>
                  <a:pt x="206" y="637"/>
                </a:lnTo>
                <a:lnTo>
                  <a:pt x="204" y="638"/>
                </a:lnTo>
                <a:lnTo>
                  <a:pt x="202" y="638"/>
                </a:lnTo>
                <a:lnTo>
                  <a:pt x="200" y="639"/>
                </a:lnTo>
                <a:lnTo>
                  <a:pt x="199" y="640"/>
                </a:lnTo>
                <a:lnTo>
                  <a:pt x="198" y="641"/>
                </a:lnTo>
                <a:lnTo>
                  <a:pt x="197" y="642"/>
                </a:lnTo>
                <a:lnTo>
                  <a:pt x="197" y="643"/>
                </a:lnTo>
                <a:lnTo>
                  <a:pt x="197" y="645"/>
                </a:lnTo>
                <a:lnTo>
                  <a:pt x="197" y="646"/>
                </a:lnTo>
                <a:lnTo>
                  <a:pt x="197" y="648"/>
                </a:lnTo>
                <a:lnTo>
                  <a:pt x="198" y="650"/>
                </a:lnTo>
                <a:lnTo>
                  <a:pt x="199" y="652"/>
                </a:lnTo>
                <a:lnTo>
                  <a:pt x="201" y="654"/>
                </a:lnTo>
                <a:lnTo>
                  <a:pt x="202" y="656"/>
                </a:lnTo>
                <a:lnTo>
                  <a:pt x="204" y="659"/>
                </a:lnTo>
                <a:lnTo>
                  <a:pt x="206" y="661"/>
                </a:lnTo>
                <a:lnTo>
                  <a:pt x="209" y="663"/>
                </a:lnTo>
                <a:lnTo>
                  <a:pt x="211" y="666"/>
                </a:lnTo>
                <a:lnTo>
                  <a:pt x="213" y="668"/>
                </a:lnTo>
                <a:lnTo>
                  <a:pt x="216" y="671"/>
                </a:lnTo>
                <a:lnTo>
                  <a:pt x="218" y="673"/>
                </a:lnTo>
                <a:lnTo>
                  <a:pt x="221" y="676"/>
                </a:lnTo>
                <a:lnTo>
                  <a:pt x="224" y="678"/>
                </a:lnTo>
                <a:lnTo>
                  <a:pt x="227" y="681"/>
                </a:lnTo>
                <a:lnTo>
                  <a:pt x="230" y="683"/>
                </a:lnTo>
                <a:lnTo>
                  <a:pt x="233" y="686"/>
                </a:lnTo>
                <a:lnTo>
                  <a:pt x="236" y="689"/>
                </a:lnTo>
                <a:lnTo>
                  <a:pt x="240" y="691"/>
                </a:lnTo>
                <a:lnTo>
                  <a:pt x="243" y="694"/>
                </a:lnTo>
                <a:lnTo>
                  <a:pt x="247" y="697"/>
                </a:lnTo>
                <a:lnTo>
                  <a:pt x="251" y="699"/>
                </a:lnTo>
                <a:lnTo>
                  <a:pt x="254" y="702"/>
                </a:lnTo>
                <a:lnTo>
                  <a:pt x="258" y="704"/>
                </a:lnTo>
                <a:lnTo>
                  <a:pt x="261" y="706"/>
                </a:lnTo>
                <a:lnTo>
                  <a:pt x="265" y="708"/>
                </a:lnTo>
                <a:lnTo>
                  <a:pt x="268" y="710"/>
                </a:lnTo>
                <a:lnTo>
                  <a:pt x="272" y="711"/>
                </a:lnTo>
                <a:lnTo>
                  <a:pt x="275" y="713"/>
                </a:lnTo>
                <a:lnTo>
                  <a:pt x="278" y="714"/>
                </a:lnTo>
                <a:lnTo>
                  <a:pt x="282" y="715"/>
                </a:lnTo>
                <a:lnTo>
                  <a:pt x="285" y="716"/>
                </a:lnTo>
                <a:lnTo>
                  <a:pt x="288" y="717"/>
                </a:lnTo>
                <a:lnTo>
                  <a:pt x="291" y="717"/>
                </a:lnTo>
                <a:lnTo>
                  <a:pt x="295" y="718"/>
                </a:lnTo>
                <a:lnTo>
                  <a:pt x="298" y="718"/>
                </a:lnTo>
                <a:lnTo>
                  <a:pt x="301" y="718"/>
                </a:lnTo>
                <a:lnTo>
                  <a:pt x="304" y="718"/>
                </a:lnTo>
                <a:lnTo>
                  <a:pt x="307" y="718"/>
                </a:lnTo>
                <a:lnTo>
                  <a:pt x="310" y="718"/>
                </a:lnTo>
                <a:lnTo>
                  <a:pt x="313" y="717"/>
                </a:lnTo>
                <a:lnTo>
                  <a:pt x="316" y="717"/>
                </a:lnTo>
                <a:lnTo>
                  <a:pt x="319" y="716"/>
                </a:lnTo>
                <a:lnTo>
                  <a:pt x="322" y="716"/>
                </a:lnTo>
                <a:lnTo>
                  <a:pt x="325" y="715"/>
                </a:lnTo>
                <a:lnTo>
                  <a:pt x="328" y="715"/>
                </a:lnTo>
                <a:lnTo>
                  <a:pt x="331" y="714"/>
                </a:lnTo>
                <a:lnTo>
                  <a:pt x="334" y="713"/>
                </a:lnTo>
                <a:lnTo>
                  <a:pt x="336" y="712"/>
                </a:lnTo>
                <a:lnTo>
                  <a:pt x="339" y="711"/>
                </a:lnTo>
                <a:lnTo>
                  <a:pt x="342" y="710"/>
                </a:lnTo>
                <a:lnTo>
                  <a:pt x="345" y="709"/>
                </a:lnTo>
                <a:lnTo>
                  <a:pt x="348" y="707"/>
                </a:lnTo>
                <a:lnTo>
                  <a:pt x="351" y="706"/>
                </a:lnTo>
                <a:lnTo>
                  <a:pt x="354" y="704"/>
                </a:lnTo>
                <a:lnTo>
                  <a:pt x="357" y="703"/>
                </a:lnTo>
                <a:lnTo>
                  <a:pt x="359" y="701"/>
                </a:lnTo>
                <a:lnTo>
                  <a:pt x="362" y="699"/>
                </a:lnTo>
                <a:lnTo>
                  <a:pt x="365" y="697"/>
                </a:lnTo>
                <a:lnTo>
                  <a:pt x="367" y="695"/>
                </a:lnTo>
                <a:lnTo>
                  <a:pt x="370" y="693"/>
                </a:lnTo>
                <a:lnTo>
                  <a:pt x="372" y="691"/>
                </a:lnTo>
                <a:lnTo>
                  <a:pt x="375" y="689"/>
                </a:lnTo>
                <a:lnTo>
                  <a:pt x="377" y="687"/>
                </a:lnTo>
                <a:lnTo>
                  <a:pt x="379" y="684"/>
                </a:lnTo>
                <a:lnTo>
                  <a:pt x="382" y="682"/>
                </a:lnTo>
                <a:lnTo>
                  <a:pt x="384" y="679"/>
                </a:lnTo>
                <a:lnTo>
                  <a:pt x="386" y="676"/>
                </a:lnTo>
                <a:lnTo>
                  <a:pt x="388" y="673"/>
                </a:lnTo>
                <a:lnTo>
                  <a:pt x="390" y="670"/>
                </a:lnTo>
                <a:lnTo>
                  <a:pt x="392" y="668"/>
                </a:lnTo>
                <a:lnTo>
                  <a:pt x="393" y="665"/>
                </a:lnTo>
                <a:lnTo>
                  <a:pt x="394" y="662"/>
                </a:lnTo>
                <a:lnTo>
                  <a:pt x="395" y="660"/>
                </a:lnTo>
                <a:lnTo>
                  <a:pt x="396" y="657"/>
                </a:lnTo>
                <a:lnTo>
                  <a:pt x="396" y="655"/>
                </a:lnTo>
                <a:lnTo>
                  <a:pt x="396" y="652"/>
                </a:lnTo>
                <a:lnTo>
                  <a:pt x="396" y="650"/>
                </a:lnTo>
                <a:lnTo>
                  <a:pt x="396" y="647"/>
                </a:lnTo>
                <a:lnTo>
                  <a:pt x="395" y="645"/>
                </a:lnTo>
                <a:lnTo>
                  <a:pt x="394" y="643"/>
                </a:lnTo>
                <a:lnTo>
                  <a:pt x="393" y="641"/>
                </a:lnTo>
                <a:lnTo>
                  <a:pt x="392" y="639"/>
                </a:lnTo>
                <a:lnTo>
                  <a:pt x="390" y="637"/>
                </a:lnTo>
                <a:lnTo>
                  <a:pt x="388" y="635"/>
                </a:lnTo>
                <a:lnTo>
                  <a:pt x="386" y="633"/>
                </a:lnTo>
                <a:lnTo>
                  <a:pt x="384" y="632"/>
                </a:lnTo>
                <a:lnTo>
                  <a:pt x="383" y="630"/>
                </a:lnTo>
                <a:lnTo>
                  <a:pt x="382" y="629"/>
                </a:lnTo>
                <a:lnTo>
                  <a:pt x="381" y="628"/>
                </a:lnTo>
                <a:lnTo>
                  <a:pt x="380" y="628"/>
                </a:lnTo>
                <a:lnTo>
                  <a:pt x="380" y="627"/>
                </a:lnTo>
                <a:lnTo>
                  <a:pt x="380" y="627"/>
                </a:lnTo>
                <a:lnTo>
                  <a:pt x="380" y="627"/>
                </a:lnTo>
                <a:lnTo>
                  <a:pt x="380" y="628"/>
                </a:lnTo>
                <a:lnTo>
                  <a:pt x="381" y="628"/>
                </a:lnTo>
                <a:lnTo>
                  <a:pt x="382" y="629"/>
                </a:lnTo>
                <a:lnTo>
                  <a:pt x="383" y="630"/>
                </a:lnTo>
                <a:lnTo>
                  <a:pt x="384" y="632"/>
                </a:lnTo>
                <a:lnTo>
                  <a:pt x="386" y="633"/>
                </a:lnTo>
                <a:lnTo>
                  <a:pt x="388" y="635"/>
                </a:lnTo>
                <a:lnTo>
                  <a:pt x="390" y="637"/>
                </a:lnTo>
                <a:lnTo>
                  <a:pt x="392" y="639"/>
                </a:lnTo>
                <a:lnTo>
                  <a:pt x="394" y="641"/>
                </a:lnTo>
                <a:lnTo>
                  <a:pt x="397" y="643"/>
                </a:lnTo>
                <a:lnTo>
                  <a:pt x="399" y="645"/>
                </a:lnTo>
                <a:lnTo>
                  <a:pt x="402" y="647"/>
                </a:lnTo>
                <a:lnTo>
                  <a:pt x="404" y="649"/>
                </a:lnTo>
                <a:lnTo>
                  <a:pt x="407" y="651"/>
                </a:lnTo>
                <a:lnTo>
                  <a:pt x="410" y="653"/>
                </a:lnTo>
                <a:lnTo>
                  <a:pt x="413" y="655"/>
                </a:lnTo>
                <a:lnTo>
                  <a:pt x="416" y="657"/>
                </a:lnTo>
                <a:lnTo>
                  <a:pt x="419" y="659"/>
                </a:lnTo>
                <a:lnTo>
                  <a:pt x="422" y="661"/>
                </a:lnTo>
                <a:lnTo>
                  <a:pt x="425" y="664"/>
                </a:lnTo>
                <a:lnTo>
                  <a:pt x="428" y="666"/>
                </a:lnTo>
                <a:lnTo>
                  <a:pt x="432" y="668"/>
                </a:lnTo>
                <a:lnTo>
                  <a:pt x="435" y="670"/>
                </a:lnTo>
                <a:lnTo>
                  <a:pt x="439" y="672"/>
                </a:lnTo>
                <a:lnTo>
                  <a:pt x="442" y="674"/>
                </a:lnTo>
                <a:lnTo>
                  <a:pt x="446" y="676"/>
                </a:lnTo>
                <a:lnTo>
                  <a:pt x="450" y="678"/>
                </a:lnTo>
                <a:lnTo>
                  <a:pt x="454" y="680"/>
                </a:lnTo>
                <a:lnTo>
                  <a:pt x="458" y="682"/>
                </a:lnTo>
                <a:lnTo>
                  <a:pt x="462" y="684"/>
                </a:lnTo>
                <a:lnTo>
                  <a:pt x="467" y="686"/>
                </a:lnTo>
                <a:lnTo>
                  <a:pt x="471" y="687"/>
                </a:lnTo>
                <a:lnTo>
                  <a:pt x="476" y="689"/>
                </a:lnTo>
                <a:lnTo>
                  <a:pt x="480" y="691"/>
                </a:lnTo>
                <a:lnTo>
                  <a:pt x="485" y="692"/>
                </a:lnTo>
                <a:lnTo>
                  <a:pt x="490" y="694"/>
                </a:lnTo>
                <a:lnTo>
                  <a:pt x="495" y="695"/>
                </a:lnTo>
                <a:lnTo>
                  <a:pt x="500" y="697"/>
                </a:lnTo>
                <a:lnTo>
                  <a:pt x="505" y="698"/>
                </a:lnTo>
                <a:lnTo>
                  <a:pt x="510" y="699"/>
                </a:lnTo>
                <a:lnTo>
                  <a:pt x="515" y="700"/>
                </a:lnTo>
                <a:lnTo>
                  <a:pt x="520" y="701"/>
                </a:lnTo>
                <a:lnTo>
                  <a:pt x="525" y="702"/>
                </a:lnTo>
                <a:lnTo>
                  <a:pt x="529" y="702"/>
                </a:lnTo>
                <a:lnTo>
                  <a:pt x="534" y="703"/>
                </a:lnTo>
                <a:lnTo>
                  <a:pt x="538" y="703"/>
                </a:lnTo>
                <a:lnTo>
                  <a:pt x="542" y="704"/>
                </a:lnTo>
                <a:lnTo>
                  <a:pt x="546" y="704"/>
                </a:lnTo>
                <a:lnTo>
                  <a:pt x="550" y="704"/>
                </a:lnTo>
                <a:lnTo>
                  <a:pt x="554" y="704"/>
                </a:lnTo>
                <a:lnTo>
                  <a:pt x="558" y="704"/>
                </a:lnTo>
                <a:lnTo>
                  <a:pt x="562" y="704"/>
                </a:lnTo>
                <a:lnTo>
                  <a:pt x="565" y="703"/>
                </a:lnTo>
                <a:lnTo>
                  <a:pt x="569" y="703"/>
                </a:lnTo>
                <a:lnTo>
                  <a:pt x="572" y="702"/>
                </a:lnTo>
                <a:lnTo>
                  <a:pt x="576" y="701"/>
                </a:lnTo>
                <a:lnTo>
                  <a:pt x="579" y="700"/>
                </a:lnTo>
                <a:lnTo>
                  <a:pt x="582" y="699"/>
                </a:lnTo>
                <a:lnTo>
                  <a:pt x="586" y="698"/>
                </a:lnTo>
                <a:lnTo>
                  <a:pt x="589" y="696"/>
                </a:lnTo>
                <a:lnTo>
                  <a:pt x="592" y="695"/>
                </a:lnTo>
                <a:lnTo>
                  <a:pt x="595" y="693"/>
                </a:lnTo>
                <a:lnTo>
                  <a:pt x="599" y="691"/>
                </a:lnTo>
                <a:lnTo>
                  <a:pt x="602" y="688"/>
                </a:lnTo>
                <a:lnTo>
                  <a:pt x="605" y="686"/>
                </a:lnTo>
                <a:lnTo>
                  <a:pt x="608" y="684"/>
                </a:lnTo>
                <a:lnTo>
                  <a:pt x="612" y="681"/>
                </a:lnTo>
                <a:lnTo>
                  <a:pt x="615" y="678"/>
                </a:lnTo>
                <a:lnTo>
                  <a:pt x="618" y="675"/>
                </a:lnTo>
                <a:lnTo>
                  <a:pt x="621" y="672"/>
                </a:lnTo>
                <a:lnTo>
                  <a:pt x="624" y="668"/>
                </a:lnTo>
                <a:lnTo>
                  <a:pt x="626" y="666"/>
                </a:lnTo>
                <a:lnTo>
                  <a:pt x="629" y="663"/>
                </a:lnTo>
                <a:lnTo>
                  <a:pt x="630" y="661"/>
                </a:lnTo>
                <a:lnTo>
                  <a:pt x="632" y="660"/>
                </a:lnTo>
                <a:lnTo>
                  <a:pt x="633" y="659"/>
                </a:lnTo>
                <a:lnTo>
                  <a:pt x="633" y="658"/>
                </a:lnTo>
                <a:lnTo>
                  <a:pt x="633" y="658"/>
                </a:lnTo>
                <a:lnTo>
                  <a:pt x="633" y="658"/>
                </a:lnTo>
                <a:lnTo>
                  <a:pt x="633" y="659"/>
                </a:lnTo>
                <a:lnTo>
                  <a:pt x="632" y="660"/>
                </a:lnTo>
                <a:lnTo>
                  <a:pt x="630" y="661"/>
                </a:lnTo>
                <a:lnTo>
                  <a:pt x="629" y="663"/>
                </a:lnTo>
                <a:lnTo>
                  <a:pt x="626" y="666"/>
                </a:lnTo>
                <a:lnTo>
                  <a:pt x="624" y="668"/>
                </a:lnTo>
                <a:lnTo>
                  <a:pt x="621" y="672"/>
                </a:lnTo>
                <a:lnTo>
                  <a:pt x="618" y="675"/>
                </a:lnTo>
                <a:lnTo>
                  <a:pt x="616" y="678"/>
                </a:lnTo>
                <a:lnTo>
                  <a:pt x="614" y="681"/>
                </a:lnTo>
                <a:lnTo>
                  <a:pt x="613" y="683"/>
                </a:lnTo>
                <a:lnTo>
                  <a:pt x="612" y="686"/>
                </a:lnTo>
                <a:lnTo>
                  <a:pt x="612" y="688"/>
                </a:lnTo>
                <a:lnTo>
                  <a:pt x="612" y="691"/>
                </a:lnTo>
                <a:lnTo>
                  <a:pt x="613" y="693"/>
                </a:lnTo>
                <a:lnTo>
                  <a:pt x="614" y="694"/>
                </a:lnTo>
                <a:lnTo>
                  <a:pt x="616" y="696"/>
                </a:lnTo>
                <a:lnTo>
                  <a:pt x="618" y="697"/>
                </a:lnTo>
                <a:lnTo>
                  <a:pt x="621" y="699"/>
                </a:lnTo>
                <a:lnTo>
                  <a:pt x="624" y="700"/>
                </a:lnTo>
                <a:lnTo>
                  <a:pt x="628" y="701"/>
                </a:lnTo>
                <a:lnTo>
                  <a:pt x="632" y="701"/>
                </a:lnTo>
                <a:lnTo>
                  <a:pt x="637" y="702"/>
                </a:lnTo>
                <a:lnTo>
                  <a:pt x="643" y="702"/>
                </a:lnTo>
                <a:lnTo>
                  <a:pt x="648" y="703"/>
                </a:lnTo>
                <a:lnTo>
                  <a:pt x="653" y="703"/>
                </a:lnTo>
                <a:lnTo>
                  <a:pt x="658" y="703"/>
                </a:lnTo>
                <a:lnTo>
                  <a:pt x="663" y="703"/>
                </a:lnTo>
                <a:lnTo>
                  <a:pt x="668" y="703"/>
                </a:lnTo>
                <a:lnTo>
                  <a:pt x="673" y="703"/>
                </a:lnTo>
                <a:lnTo>
                  <a:pt x="678" y="703"/>
                </a:lnTo>
                <a:lnTo>
                  <a:pt x="683" y="703"/>
                </a:lnTo>
                <a:lnTo>
                  <a:pt x="688" y="703"/>
                </a:lnTo>
                <a:lnTo>
                  <a:pt x="693" y="702"/>
                </a:lnTo>
                <a:lnTo>
                  <a:pt x="698" y="702"/>
                </a:lnTo>
                <a:lnTo>
                  <a:pt x="702" y="701"/>
                </a:lnTo>
                <a:lnTo>
                  <a:pt x="707" y="701"/>
                </a:lnTo>
                <a:lnTo>
                  <a:pt x="712" y="700"/>
                </a:lnTo>
                <a:lnTo>
                  <a:pt x="717" y="699"/>
                </a:lnTo>
                <a:lnTo>
                  <a:pt x="722" y="698"/>
                </a:lnTo>
                <a:lnTo>
                  <a:pt x="726" y="697"/>
                </a:lnTo>
                <a:lnTo>
                  <a:pt x="731" y="696"/>
                </a:lnTo>
                <a:lnTo>
                  <a:pt x="736" y="695"/>
                </a:lnTo>
                <a:lnTo>
                  <a:pt x="740" y="694"/>
                </a:lnTo>
                <a:lnTo>
                  <a:pt x="745" y="693"/>
                </a:lnTo>
                <a:lnTo>
                  <a:pt x="749" y="692"/>
                </a:lnTo>
                <a:lnTo>
                  <a:pt x="754" y="690"/>
                </a:lnTo>
                <a:lnTo>
                  <a:pt x="758" y="689"/>
                </a:lnTo>
                <a:lnTo>
                  <a:pt x="762" y="687"/>
                </a:lnTo>
                <a:lnTo>
                  <a:pt x="767" y="685"/>
                </a:lnTo>
                <a:lnTo>
                  <a:pt x="771" y="683"/>
                </a:lnTo>
                <a:lnTo>
                  <a:pt x="775" y="681"/>
                </a:lnTo>
                <a:lnTo>
                  <a:pt x="780" y="679"/>
                </a:lnTo>
                <a:lnTo>
                  <a:pt x="784" y="677"/>
                </a:lnTo>
                <a:lnTo>
                  <a:pt x="788" y="675"/>
                </a:lnTo>
                <a:lnTo>
                  <a:pt x="792" y="673"/>
                </a:lnTo>
                <a:lnTo>
                  <a:pt x="796" y="670"/>
                </a:lnTo>
                <a:lnTo>
                  <a:pt x="800" y="668"/>
                </a:lnTo>
                <a:lnTo>
                  <a:pt x="803" y="666"/>
                </a:lnTo>
                <a:lnTo>
                  <a:pt x="807" y="663"/>
                </a:lnTo>
                <a:lnTo>
                  <a:pt x="810" y="660"/>
                </a:lnTo>
                <a:lnTo>
                  <a:pt x="813" y="658"/>
                </a:lnTo>
                <a:lnTo>
                  <a:pt x="817" y="655"/>
                </a:lnTo>
                <a:lnTo>
                  <a:pt x="820" y="652"/>
                </a:lnTo>
                <a:lnTo>
                  <a:pt x="823" y="649"/>
                </a:lnTo>
                <a:lnTo>
                  <a:pt x="825" y="646"/>
                </a:lnTo>
                <a:lnTo>
                  <a:pt x="828" y="643"/>
                </a:lnTo>
                <a:lnTo>
                  <a:pt x="831" y="640"/>
                </a:lnTo>
                <a:lnTo>
                  <a:pt x="833" y="636"/>
                </a:lnTo>
                <a:lnTo>
                  <a:pt x="835" y="633"/>
                </a:lnTo>
                <a:lnTo>
                  <a:pt x="838" y="630"/>
                </a:lnTo>
                <a:lnTo>
                  <a:pt x="840" y="626"/>
                </a:lnTo>
                <a:lnTo>
                  <a:pt x="842" y="623"/>
                </a:lnTo>
                <a:lnTo>
                  <a:pt x="844" y="620"/>
                </a:lnTo>
                <a:lnTo>
                  <a:pt x="845" y="616"/>
                </a:lnTo>
                <a:lnTo>
                  <a:pt x="847" y="613"/>
                </a:lnTo>
                <a:lnTo>
                  <a:pt x="848" y="610"/>
                </a:lnTo>
                <a:lnTo>
                  <a:pt x="850" y="607"/>
                </a:lnTo>
                <a:lnTo>
                  <a:pt x="851" y="605"/>
                </a:lnTo>
                <a:lnTo>
                  <a:pt x="852" y="602"/>
                </a:lnTo>
                <a:lnTo>
                  <a:pt x="853" y="599"/>
                </a:lnTo>
                <a:lnTo>
                  <a:pt x="854" y="597"/>
                </a:lnTo>
                <a:lnTo>
                  <a:pt x="854" y="594"/>
                </a:lnTo>
                <a:lnTo>
                  <a:pt x="855" y="592"/>
                </a:lnTo>
                <a:lnTo>
                  <a:pt x="855" y="589"/>
                </a:lnTo>
                <a:lnTo>
                  <a:pt x="855" y="587"/>
                </a:lnTo>
                <a:lnTo>
                  <a:pt x="856" y="585"/>
                </a:lnTo>
                <a:lnTo>
                  <a:pt x="856" y="583"/>
                </a:lnTo>
                <a:lnTo>
                  <a:pt x="856" y="581"/>
                </a:lnTo>
                <a:lnTo>
                  <a:pt x="856" y="580"/>
                </a:lnTo>
                <a:lnTo>
                  <a:pt x="856" y="579"/>
                </a:lnTo>
                <a:lnTo>
                  <a:pt x="856" y="578"/>
                </a:lnTo>
                <a:lnTo>
                  <a:pt x="856" y="577"/>
                </a:lnTo>
                <a:lnTo>
                  <a:pt x="856" y="577"/>
                </a:lnTo>
                <a:lnTo>
                  <a:pt x="856" y="576"/>
                </a:lnTo>
                <a:lnTo>
                  <a:pt x="856" y="577"/>
                </a:lnTo>
                <a:lnTo>
                  <a:pt x="856" y="577"/>
                </a:lnTo>
                <a:lnTo>
                  <a:pt x="856" y="578"/>
                </a:lnTo>
                <a:lnTo>
                  <a:pt x="856" y="579"/>
                </a:lnTo>
                <a:lnTo>
                  <a:pt x="856" y="580"/>
                </a:lnTo>
                <a:lnTo>
                  <a:pt x="856" y="581"/>
                </a:lnTo>
                <a:lnTo>
                  <a:pt x="856" y="583"/>
                </a:lnTo>
                <a:lnTo>
                  <a:pt x="856" y="585"/>
                </a:lnTo>
                <a:lnTo>
                  <a:pt x="856" y="587"/>
                </a:lnTo>
                <a:lnTo>
                  <a:pt x="856" y="589"/>
                </a:lnTo>
                <a:lnTo>
                  <a:pt x="856" y="591"/>
                </a:lnTo>
                <a:lnTo>
                  <a:pt x="856" y="594"/>
                </a:lnTo>
                <a:lnTo>
                  <a:pt x="857" y="596"/>
                </a:lnTo>
                <a:lnTo>
                  <a:pt x="858" y="598"/>
                </a:lnTo>
                <a:lnTo>
                  <a:pt x="859" y="600"/>
                </a:lnTo>
                <a:lnTo>
                  <a:pt x="860" y="603"/>
                </a:lnTo>
                <a:lnTo>
                  <a:pt x="861" y="605"/>
                </a:lnTo>
                <a:lnTo>
                  <a:pt x="863" y="607"/>
                </a:lnTo>
                <a:lnTo>
                  <a:pt x="864" y="609"/>
                </a:lnTo>
                <a:lnTo>
                  <a:pt x="866" y="612"/>
                </a:lnTo>
                <a:lnTo>
                  <a:pt x="868" y="614"/>
                </a:lnTo>
                <a:lnTo>
                  <a:pt x="870" y="617"/>
                </a:lnTo>
                <a:lnTo>
                  <a:pt x="872" y="619"/>
                </a:lnTo>
                <a:lnTo>
                  <a:pt x="874" y="622"/>
                </a:lnTo>
                <a:lnTo>
                  <a:pt x="877" y="624"/>
                </a:lnTo>
                <a:lnTo>
                  <a:pt x="879" y="626"/>
                </a:lnTo>
                <a:lnTo>
                  <a:pt x="882" y="628"/>
                </a:lnTo>
                <a:lnTo>
                  <a:pt x="885" y="630"/>
                </a:lnTo>
                <a:lnTo>
                  <a:pt x="888" y="632"/>
                </a:lnTo>
                <a:lnTo>
                  <a:pt x="891" y="634"/>
                </a:lnTo>
                <a:lnTo>
                  <a:pt x="894" y="636"/>
                </a:lnTo>
                <a:lnTo>
                  <a:pt x="897" y="638"/>
                </a:lnTo>
                <a:lnTo>
                  <a:pt x="900" y="639"/>
                </a:lnTo>
                <a:lnTo>
                  <a:pt x="904" y="641"/>
                </a:lnTo>
                <a:lnTo>
                  <a:pt x="907" y="642"/>
                </a:lnTo>
                <a:lnTo>
                  <a:pt x="911" y="643"/>
                </a:lnTo>
                <a:lnTo>
                  <a:pt x="915" y="645"/>
                </a:lnTo>
                <a:lnTo>
                  <a:pt x="919" y="646"/>
                </a:lnTo>
                <a:lnTo>
                  <a:pt x="923" y="647"/>
                </a:lnTo>
                <a:lnTo>
                  <a:pt x="927" y="647"/>
                </a:lnTo>
                <a:lnTo>
                  <a:pt x="931" y="648"/>
                </a:lnTo>
                <a:lnTo>
                  <a:pt x="935" y="649"/>
                </a:lnTo>
                <a:lnTo>
                  <a:pt x="938" y="649"/>
                </a:lnTo>
                <a:lnTo>
                  <a:pt x="942" y="650"/>
                </a:lnTo>
                <a:lnTo>
                  <a:pt x="946" y="650"/>
                </a:lnTo>
                <a:lnTo>
                  <a:pt x="950" y="650"/>
                </a:lnTo>
                <a:lnTo>
                  <a:pt x="953" y="650"/>
                </a:lnTo>
                <a:lnTo>
                  <a:pt x="957" y="650"/>
                </a:lnTo>
                <a:lnTo>
                  <a:pt x="960" y="650"/>
                </a:lnTo>
                <a:lnTo>
                  <a:pt x="964" y="650"/>
                </a:lnTo>
                <a:lnTo>
                  <a:pt x="967" y="649"/>
                </a:lnTo>
                <a:lnTo>
                  <a:pt x="970" y="649"/>
                </a:lnTo>
                <a:lnTo>
                  <a:pt x="974" y="648"/>
                </a:lnTo>
                <a:lnTo>
                  <a:pt x="977" y="647"/>
                </a:lnTo>
                <a:lnTo>
                  <a:pt x="980" y="647"/>
                </a:lnTo>
                <a:lnTo>
                  <a:pt x="983" y="646"/>
                </a:lnTo>
                <a:lnTo>
                  <a:pt x="986" y="645"/>
                </a:lnTo>
                <a:lnTo>
                  <a:pt x="988" y="643"/>
                </a:lnTo>
                <a:lnTo>
                  <a:pt x="991" y="642"/>
                </a:lnTo>
                <a:lnTo>
                  <a:pt x="994" y="641"/>
                </a:lnTo>
                <a:lnTo>
                  <a:pt x="997" y="640"/>
                </a:lnTo>
                <a:lnTo>
                  <a:pt x="999" y="638"/>
                </a:lnTo>
                <a:lnTo>
                  <a:pt x="1002" y="637"/>
                </a:lnTo>
                <a:lnTo>
                  <a:pt x="1004" y="635"/>
                </a:lnTo>
                <a:lnTo>
                  <a:pt x="1007" y="634"/>
                </a:lnTo>
                <a:lnTo>
                  <a:pt x="1009" y="632"/>
                </a:lnTo>
                <a:lnTo>
                  <a:pt x="1012" y="630"/>
                </a:lnTo>
                <a:lnTo>
                  <a:pt x="1014" y="629"/>
                </a:lnTo>
                <a:lnTo>
                  <a:pt x="1017" y="627"/>
                </a:lnTo>
                <a:lnTo>
                  <a:pt x="1019" y="625"/>
                </a:lnTo>
                <a:lnTo>
                  <a:pt x="1021" y="623"/>
                </a:lnTo>
                <a:lnTo>
                  <a:pt x="1023" y="621"/>
                </a:lnTo>
                <a:lnTo>
                  <a:pt x="1025" y="619"/>
                </a:lnTo>
                <a:lnTo>
                  <a:pt x="1027" y="616"/>
                </a:lnTo>
                <a:lnTo>
                  <a:pt x="1029" y="614"/>
                </a:lnTo>
                <a:lnTo>
                  <a:pt x="1031" y="612"/>
                </a:lnTo>
                <a:lnTo>
                  <a:pt x="1033" y="610"/>
                </a:lnTo>
                <a:lnTo>
                  <a:pt x="1035" y="608"/>
                </a:lnTo>
                <a:lnTo>
                  <a:pt x="1037" y="606"/>
                </a:lnTo>
                <a:lnTo>
                  <a:pt x="1039" y="604"/>
                </a:lnTo>
                <a:lnTo>
                  <a:pt x="1041" y="602"/>
                </a:lnTo>
                <a:lnTo>
                  <a:pt x="1043" y="600"/>
                </a:lnTo>
                <a:lnTo>
                  <a:pt x="1045" y="599"/>
                </a:lnTo>
                <a:lnTo>
                  <a:pt x="1046" y="597"/>
                </a:lnTo>
                <a:lnTo>
                  <a:pt x="1048" y="595"/>
                </a:lnTo>
                <a:lnTo>
                  <a:pt x="1050" y="593"/>
                </a:lnTo>
                <a:lnTo>
                  <a:pt x="1051" y="591"/>
                </a:lnTo>
                <a:lnTo>
                  <a:pt x="1053" y="589"/>
                </a:lnTo>
                <a:lnTo>
                  <a:pt x="1054" y="588"/>
                </a:lnTo>
                <a:lnTo>
                  <a:pt x="1055" y="586"/>
                </a:lnTo>
                <a:lnTo>
                  <a:pt x="1056" y="585"/>
                </a:lnTo>
                <a:lnTo>
                  <a:pt x="1057" y="584"/>
                </a:lnTo>
                <a:lnTo>
                  <a:pt x="1057" y="583"/>
                </a:lnTo>
                <a:lnTo>
                  <a:pt x="1057" y="582"/>
                </a:lnTo>
                <a:lnTo>
                  <a:pt x="1057" y="582"/>
                </a:lnTo>
                <a:lnTo>
                  <a:pt x="1057" y="581"/>
                </a:lnTo>
                <a:lnTo>
                  <a:pt x="1056" y="581"/>
                </a:lnTo>
                <a:lnTo>
                  <a:pt x="1055" y="581"/>
                </a:lnTo>
                <a:lnTo>
                  <a:pt x="1054" y="582"/>
                </a:lnTo>
                <a:lnTo>
                  <a:pt x="1053" y="582"/>
                </a:lnTo>
                <a:lnTo>
                  <a:pt x="1051" y="583"/>
                </a:lnTo>
                <a:lnTo>
                  <a:pt x="1049" y="583"/>
                </a:lnTo>
                <a:lnTo>
                  <a:pt x="1047" y="585"/>
                </a:lnTo>
                <a:lnTo>
                  <a:pt x="1044" y="586"/>
                </a:lnTo>
                <a:lnTo>
                  <a:pt x="1042" y="587"/>
                </a:lnTo>
                <a:lnTo>
                  <a:pt x="1039" y="588"/>
                </a:lnTo>
                <a:lnTo>
                  <a:pt x="1036" y="589"/>
                </a:lnTo>
                <a:lnTo>
                  <a:pt x="1034" y="590"/>
                </a:lnTo>
                <a:lnTo>
                  <a:pt x="1031" y="591"/>
                </a:lnTo>
                <a:lnTo>
                  <a:pt x="1028" y="592"/>
                </a:lnTo>
                <a:lnTo>
                  <a:pt x="1025" y="593"/>
                </a:lnTo>
                <a:lnTo>
                  <a:pt x="1023" y="593"/>
                </a:lnTo>
                <a:lnTo>
                  <a:pt x="1020" y="594"/>
                </a:lnTo>
                <a:lnTo>
                  <a:pt x="1017" y="594"/>
                </a:lnTo>
                <a:lnTo>
                  <a:pt x="1014" y="595"/>
                </a:lnTo>
                <a:lnTo>
                  <a:pt x="1011" y="595"/>
                </a:lnTo>
                <a:lnTo>
                  <a:pt x="1009" y="595"/>
                </a:lnTo>
                <a:lnTo>
                  <a:pt x="1006" y="595"/>
                </a:lnTo>
                <a:lnTo>
                  <a:pt x="1003" y="595"/>
                </a:lnTo>
                <a:lnTo>
                  <a:pt x="1000" y="595"/>
                </a:lnTo>
                <a:lnTo>
                  <a:pt x="997" y="594"/>
                </a:lnTo>
                <a:lnTo>
                  <a:pt x="995" y="594"/>
                </a:lnTo>
                <a:lnTo>
                  <a:pt x="993" y="594"/>
                </a:lnTo>
                <a:lnTo>
                  <a:pt x="991" y="594"/>
                </a:lnTo>
                <a:lnTo>
                  <a:pt x="990" y="594"/>
                </a:lnTo>
                <a:lnTo>
                  <a:pt x="989" y="594"/>
                </a:lnTo>
                <a:lnTo>
                  <a:pt x="988" y="594"/>
                </a:lnTo>
                <a:lnTo>
                  <a:pt x="988" y="594"/>
                </a:lnTo>
                <a:lnTo>
                  <a:pt x="988" y="594"/>
                </a:lnTo>
                <a:lnTo>
                  <a:pt x="989" y="594"/>
                </a:lnTo>
                <a:lnTo>
                  <a:pt x="990" y="594"/>
                </a:lnTo>
                <a:lnTo>
                  <a:pt x="991" y="594"/>
                </a:lnTo>
                <a:lnTo>
                  <a:pt x="993" y="594"/>
                </a:lnTo>
                <a:lnTo>
                  <a:pt x="995" y="594"/>
                </a:lnTo>
                <a:lnTo>
                  <a:pt x="997" y="594"/>
                </a:lnTo>
                <a:lnTo>
                  <a:pt x="1000" y="595"/>
                </a:lnTo>
                <a:lnTo>
                  <a:pt x="1003" y="595"/>
                </a:lnTo>
                <a:lnTo>
                  <a:pt x="1006" y="595"/>
                </a:lnTo>
                <a:lnTo>
                  <a:pt x="1008" y="595"/>
                </a:lnTo>
                <a:lnTo>
                  <a:pt x="1011" y="595"/>
                </a:lnTo>
                <a:lnTo>
                  <a:pt x="1014" y="595"/>
                </a:lnTo>
                <a:lnTo>
                  <a:pt x="1017" y="594"/>
                </a:lnTo>
                <a:lnTo>
                  <a:pt x="1020" y="594"/>
                </a:lnTo>
                <a:lnTo>
                  <a:pt x="1023" y="593"/>
                </a:lnTo>
                <a:lnTo>
                  <a:pt x="1025" y="593"/>
                </a:lnTo>
                <a:lnTo>
                  <a:pt x="1028" y="592"/>
                </a:lnTo>
                <a:lnTo>
                  <a:pt x="1031" y="591"/>
                </a:lnTo>
                <a:lnTo>
                  <a:pt x="1034" y="590"/>
                </a:lnTo>
                <a:lnTo>
                  <a:pt x="1036" y="589"/>
                </a:lnTo>
                <a:lnTo>
                  <a:pt x="1039" y="588"/>
                </a:lnTo>
                <a:lnTo>
                  <a:pt x="1042" y="587"/>
                </a:lnTo>
                <a:lnTo>
                  <a:pt x="1044" y="586"/>
                </a:lnTo>
                <a:lnTo>
                  <a:pt x="1047" y="584"/>
                </a:lnTo>
                <a:lnTo>
                  <a:pt x="1049" y="583"/>
                </a:lnTo>
                <a:lnTo>
                  <a:pt x="1052" y="582"/>
                </a:lnTo>
                <a:lnTo>
                  <a:pt x="1055" y="580"/>
                </a:lnTo>
                <a:lnTo>
                  <a:pt x="1057" y="579"/>
                </a:lnTo>
                <a:lnTo>
                  <a:pt x="1060" y="577"/>
                </a:lnTo>
                <a:lnTo>
                  <a:pt x="1063" y="576"/>
                </a:lnTo>
                <a:lnTo>
                  <a:pt x="1065" y="574"/>
                </a:lnTo>
                <a:lnTo>
                  <a:pt x="1068" y="573"/>
                </a:lnTo>
                <a:lnTo>
                  <a:pt x="1070" y="571"/>
                </a:lnTo>
                <a:lnTo>
                  <a:pt x="1073" y="570"/>
                </a:lnTo>
                <a:lnTo>
                  <a:pt x="1075" y="568"/>
                </a:lnTo>
                <a:lnTo>
                  <a:pt x="1078" y="567"/>
                </a:lnTo>
                <a:lnTo>
                  <a:pt x="1080" y="565"/>
                </a:lnTo>
                <a:lnTo>
                  <a:pt x="1083" y="563"/>
                </a:lnTo>
                <a:lnTo>
                  <a:pt x="1086" y="562"/>
                </a:lnTo>
                <a:lnTo>
                  <a:pt x="1088" y="560"/>
                </a:lnTo>
                <a:lnTo>
                  <a:pt x="1091" y="558"/>
                </a:lnTo>
                <a:lnTo>
                  <a:pt x="1093" y="556"/>
                </a:lnTo>
                <a:lnTo>
                  <a:pt x="1096" y="553"/>
                </a:lnTo>
                <a:lnTo>
                  <a:pt x="1098" y="551"/>
                </a:lnTo>
                <a:lnTo>
                  <a:pt x="1101" y="548"/>
                </a:lnTo>
                <a:lnTo>
                  <a:pt x="1103" y="545"/>
                </a:lnTo>
                <a:lnTo>
                  <a:pt x="1105" y="541"/>
                </a:lnTo>
                <a:lnTo>
                  <a:pt x="1108" y="538"/>
                </a:lnTo>
                <a:lnTo>
                  <a:pt x="1110" y="534"/>
                </a:lnTo>
                <a:lnTo>
                  <a:pt x="1113" y="530"/>
                </a:lnTo>
                <a:lnTo>
                  <a:pt x="1115" y="526"/>
                </a:lnTo>
                <a:lnTo>
                  <a:pt x="1117" y="522"/>
                </a:lnTo>
                <a:lnTo>
                  <a:pt x="1120" y="517"/>
                </a:lnTo>
                <a:lnTo>
                  <a:pt x="1122" y="512"/>
                </a:lnTo>
                <a:lnTo>
                  <a:pt x="1125" y="507"/>
                </a:lnTo>
                <a:lnTo>
                  <a:pt x="1127" y="502"/>
                </a:lnTo>
                <a:lnTo>
                  <a:pt x="1129" y="497"/>
                </a:lnTo>
                <a:lnTo>
                  <a:pt x="1131" y="491"/>
                </a:lnTo>
                <a:lnTo>
                  <a:pt x="1133" y="486"/>
                </a:lnTo>
                <a:lnTo>
                  <a:pt x="1135" y="481"/>
                </a:lnTo>
                <a:lnTo>
                  <a:pt x="1136" y="475"/>
                </a:lnTo>
                <a:lnTo>
                  <a:pt x="1138" y="469"/>
                </a:lnTo>
                <a:lnTo>
                  <a:pt x="1140" y="464"/>
                </a:lnTo>
                <a:lnTo>
                  <a:pt x="1141" y="458"/>
                </a:lnTo>
                <a:lnTo>
                  <a:pt x="1142" y="452"/>
                </a:lnTo>
                <a:lnTo>
                  <a:pt x="1143" y="446"/>
                </a:lnTo>
                <a:lnTo>
                  <a:pt x="1144" y="440"/>
                </a:lnTo>
                <a:lnTo>
                  <a:pt x="1145" y="434"/>
                </a:lnTo>
                <a:lnTo>
                  <a:pt x="1146" y="428"/>
                </a:lnTo>
                <a:lnTo>
                  <a:pt x="1147" y="421"/>
                </a:lnTo>
                <a:lnTo>
                  <a:pt x="1147" y="415"/>
                </a:lnTo>
                <a:lnTo>
                  <a:pt x="1148" y="409"/>
                </a:lnTo>
                <a:lnTo>
                  <a:pt x="1148" y="403"/>
                </a:lnTo>
                <a:lnTo>
                  <a:pt x="1148" y="397"/>
                </a:lnTo>
                <a:lnTo>
                  <a:pt x="1148" y="390"/>
                </a:lnTo>
                <a:lnTo>
                  <a:pt x="1148" y="385"/>
                </a:lnTo>
                <a:lnTo>
                  <a:pt x="1147" y="379"/>
                </a:lnTo>
                <a:lnTo>
                  <a:pt x="1147" y="373"/>
                </a:lnTo>
                <a:lnTo>
                  <a:pt x="1146" y="367"/>
                </a:lnTo>
                <a:lnTo>
                  <a:pt x="1145" y="362"/>
                </a:lnTo>
                <a:lnTo>
                  <a:pt x="1144" y="356"/>
                </a:lnTo>
                <a:lnTo>
                  <a:pt x="1143" y="351"/>
                </a:lnTo>
                <a:lnTo>
                  <a:pt x="1142" y="346"/>
                </a:lnTo>
                <a:lnTo>
                  <a:pt x="1141" y="341"/>
                </a:lnTo>
                <a:lnTo>
                  <a:pt x="1139" y="336"/>
                </a:lnTo>
                <a:lnTo>
                  <a:pt x="1137" y="331"/>
                </a:lnTo>
                <a:lnTo>
                  <a:pt x="1135" y="326"/>
                </a:lnTo>
                <a:lnTo>
                  <a:pt x="1133" y="321"/>
                </a:lnTo>
                <a:lnTo>
                  <a:pt x="1131" y="317"/>
                </a:lnTo>
                <a:lnTo>
                  <a:pt x="1129" y="312"/>
                </a:lnTo>
                <a:lnTo>
                  <a:pt x="1127" y="308"/>
                </a:lnTo>
                <a:lnTo>
                  <a:pt x="1125" y="304"/>
                </a:lnTo>
                <a:lnTo>
                  <a:pt x="1123" y="300"/>
                </a:lnTo>
                <a:lnTo>
                  <a:pt x="1121" y="296"/>
                </a:lnTo>
                <a:lnTo>
                  <a:pt x="1118" y="292"/>
                </a:lnTo>
                <a:lnTo>
                  <a:pt x="1116" y="289"/>
                </a:lnTo>
                <a:lnTo>
                  <a:pt x="1114" y="285"/>
                </a:lnTo>
                <a:lnTo>
                  <a:pt x="1111" y="282"/>
                </a:lnTo>
                <a:lnTo>
                  <a:pt x="1109" y="279"/>
                </a:lnTo>
                <a:lnTo>
                  <a:pt x="1107" y="276"/>
                </a:lnTo>
                <a:lnTo>
                  <a:pt x="1104" y="273"/>
                </a:lnTo>
                <a:lnTo>
                  <a:pt x="1101" y="270"/>
                </a:lnTo>
                <a:lnTo>
                  <a:pt x="1099" y="268"/>
                </a:lnTo>
                <a:lnTo>
                  <a:pt x="1099" y="268"/>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709" name=""/>
          <p:cNvGrpSpPr/>
          <p:nvPr/>
        </p:nvGrpSpPr>
        <p:grpSpPr>
          <a:xfrm>
            <a:off x="3390840" y="3178080"/>
            <a:ext cx="680760" cy="399960"/>
            <a:chOff x="3390840" y="3178080"/>
            <a:chExt cx="680760" cy="399960"/>
          </a:xfrm>
        </p:grpSpPr>
        <p:sp>
          <p:nvSpPr>
            <p:cNvPr id="1710" name=""/>
            <p:cNvSpPr/>
            <p:nvPr/>
          </p:nvSpPr>
          <p:spPr>
            <a:xfrm>
              <a:off x="3390840" y="3178080"/>
              <a:ext cx="309240" cy="13356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11" name=""/>
            <p:cNvSpPr/>
            <p:nvPr/>
          </p:nvSpPr>
          <p:spPr>
            <a:xfrm>
              <a:off x="3638160" y="3377880"/>
              <a:ext cx="24732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1712" name=""/>
            <p:cNvSpPr/>
            <p:nvPr/>
          </p:nvSpPr>
          <p:spPr>
            <a:xfrm>
              <a:off x="3885840" y="3511440"/>
              <a:ext cx="18576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grpSp>
        <p:nvGrpSpPr>
          <p:cNvPr id="1713" name=""/>
          <p:cNvGrpSpPr/>
          <p:nvPr/>
        </p:nvGrpSpPr>
        <p:grpSpPr>
          <a:xfrm>
            <a:off x="4933800" y="3178080"/>
            <a:ext cx="680760" cy="399960"/>
            <a:chOff x="4933800" y="3178080"/>
            <a:chExt cx="680760" cy="399960"/>
          </a:xfrm>
        </p:grpSpPr>
        <p:sp>
          <p:nvSpPr>
            <p:cNvPr id="1714" name=""/>
            <p:cNvSpPr/>
            <p:nvPr/>
          </p:nvSpPr>
          <p:spPr>
            <a:xfrm>
              <a:off x="5304960" y="3178080"/>
              <a:ext cx="309600" cy="13356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15" name=""/>
            <p:cNvSpPr/>
            <p:nvPr/>
          </p:nvSpPr>
          <p:spPr>
            <a:xfrm>
              <a:off x="5119200" y="3377880"/>
              <a:ext cx="24768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1716" name=""/>
            <p:cNvSpPr/>
            <p:nvPr/>
          </p:nvSpPr>
          <p:spPr>
            <a:xfrm>
              <a:off x="4933800" y="3511440"/>
              <a:ext cx="18540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grpSp>
        <p:nvGrpSpPr>
          <p:cNvPr id="1717" name=""/>
          <p:cNvGrpSpPr/>
          <p:nvPr/>
        </p:nvGrpSpPr>
        <p:grpSpPr>
          <a:xfrm>
            <a:off x="5162400" y="3978360"/>
            <a:ext cx="680760" cy="399240"/>
            <a:chOff x="5162400" y="3978360"/>
            <a:chExt cx="680760" cy="399240"/>
          </a:xfrm>
        </p:grpSpPr>
        <p:sp>
          <p:nvSpPr>
            <p:cNvPr id="1718" name=""/>
            <p:cNvSpPr/>
            <p:nvPr/>
          </p:nvSpPr>
          <p:spPr>
            <a:xfrm>
              <a:off x="5533560" y="4244760"/>
              <a:ext cx="309600" cy="13284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19" name=""/>
            <p:cNvSpPr/>
            <p:nvPr/>
          </p:nvSpPr>
          <p:spPr>
            <a:xfrm>
              <a:off x="5347800" y="4111200"/>
              <a:ext cx="24768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1720" name=""/>
            <p:cNvSpPr/>
            <p:nvPr/>
          </p:nvSpPr>
          <p:spPr>
            <a:xfrm>
              <a:off x="5162400" y="3978360"/>
              <a:ext cx="185400" cy="6624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0" bIns="0" anchor="ctr">
              <a:spAutoFit/>
            </a:bodyPr>
            <a:p>
              <a:endParaRPr b="0" lang="en-US" sz="2400" spc="-1" strike="noStrike">
                <a:solidFill>
                  <a:srgbClr val="000066"/>
                </a:solidFill>
                <a:latin typeface="Times New Roman"/>
              </a:endParaRPr>
            </a:p>
          </p:txBody>
        </p:sp>
      </p:grpSp>
      <p:grpSp>
        <p:nvGrpSpPr>
          <p:cNvPr id="1721" name=""/>
          <p:cNvGrpSpPr/>
          <p:nvPr/>
        </p:nvGrpSpPr>
        <p:grpSpPr>
          <a:xfrm>
            <a:off x="4038480" y="4035600"/>
            <a:ext cx="371160" cy="466200"/>
            <a:chOff x="4038480" y="4035600"/>
            <a:chExt cx="371160" cy="466200"/>
          </a:xfrm>
        </p:grpSpPr>
        <p:sp>
          <p:nvSpPr>
            <p:cNvPr id="1722" name=""/>
            <p:cNvSpPr/>
            <p:nvPr/>
          </p:nvSpPr>
          <p:spPr>
            <a:xfrm>
              <a:off x="4038480" y="4346280"/>
              <a:ext cx="168120" cy="15552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23" name=""/>
            <p:cNvSpPr/>
            <p:nvPr/>
          </p:nvSpPr>
          <p:spPr>
            <a:xfrm>
              <a:off x="4174200" y="4191120"/>
              <a:ext cx="133920" cy="774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8280" bIns="8280" anchor="ctr">
              <a:spAutoFit/>
            </a:bodyPr>
            <a:p>
              <a:endParaRPr b="0" lang="en-US" sz="2400" spc="-1" strike="noStrike">
                <a:solidFill>
                  <a:srgbClr val="000066"/>
                </a:solidFill>
                <a:latin typeface="Times New Roman"/>
              </a:endParaRPr>
            </a:p>
          </p:txBody>
        </p:sp>
        <p:sp>
          <p:nvSpPr>
            <p:cNvPr id="1724" name=""/>
            <p:cNvSpPr/>
            <p:nvPr/>
          </p:nvSpPr>
          <p:spPr>
            <a:xfrm>
              <a:off x="4308480" y="4035600"/>
              <a:ext cx="101160" cy="774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8280" bIns="8280" anchor="ctr">
              <a:spAutoFit/>
            </a:bodyPr>
            <a:p>
              <a:endParaRPr b="0" lang="en-US" sz="2400" spc="-1" strike="noStrike">
                <a:solidFill>
                  <a:srgbClr val="000066"/>
                </a:solidFill>
                <a:latin typeface="Times New Roman"/>
              </a:endParaRPr>
            </a:p>
          </p:txBody>
        </p:sp>
      </p:grpSp>
      <p:grpSp>
        <p:nvGrpSpPr>
          <p:cNvPr id="1725" name=""/>
          <p:cNvGrpSpPr/>
          <p:nvPr/>
        </p:nvGrpSpPr>
        <p:grpSpPr>
          <a:xfrm>
            <a:off x="2990880" y="4035600"/>
            <a:ext cx="680760" cy="399600"/>
            <a:chOff x="2990880" y="4035600"/>
            <a:chExt cx="680760" cy="399600"/>
          </a:xfrm>
        </p:grpSpPr>
        <p:sp>
          <p:nvSpPr>
            <p:cNvPr id="1726" name=""/>
            <p:cNvSpPr/>
            <p:nvPr/>
          </p:nvSpPr>
          <p:spPr>
            <a:xfrm>
              <a:off x="2990880" y="4302000"/>
              <a:ext cx="309600" cy="1332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27" name=""/>
            <p:cNvSpPr/>
            <p:nvPr/>
          </p:nvSpPr>
          <p:spPr>
            <a:xfrm>
              <a:off x="3238560" y="4168800"/>
              <a:ext cx="24768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1728" name=""/>
            <p:cNvSpPr/>
            <p:nvPr/>
          </p:nvSpPr>
          <p:spPr>
            <a:xfrm>
              <a:off x="3486240" y="4035600"/>
              <a:ext cx="185400" cy="666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sp>
        <p:nvSpPr>
          <p:cNvPr id="1729" name=""/>
          <p:cNvSpPr/>
          <p:nvPr/>
        </p:nvSpPr>
        <p:spPr>
          <a:xfrm>
            <a:off x="3564000" y="1752480"/>
            <a:ext cx="1976400" cy="1333800"/>
          </a:xfrm>
          <a:custGeom>
            <a:avLst/>
            <a:gdLst/>
            <a:ahLst/>
            <a:rect l="l" t="t" r="r" b="b"/>
            <a:pathLst>
              <a:path w="1149" h="719">
                <a:moveTo>
                  <a:pt x="1099" y="268"/>
                </a:moveTo>
                <a:lnTo>
                  <a:pt x="1096" y="265"/>
                </a:lnTo>
                <a:lnTo>
                  <a:pt x="1093" y="262"/>
                </a:lnTo>
                <a:lnTo>
                  <a:pt x="1091" y="259"/>
                </a:lnTo>
                <a:lnTo>
                  <a:pt x="1088" y="255"/>
                </a:lnTo>
                <a:lnTo>
                  <a:pt x="1085" y="252"/>
                </a:lnTo>
                <a:lnTo>
                  <a:pt x="1083" y="247"/>
                </a:lnTo>
                <a:lnTo>
                  <a:pt x="1080" y="243"/>
                </a:lnTo>
                <a:lnTo>
                  <a:pt x="1077" y="238"/>
                </a:lnTo>
                <a:lnTo>
                  <a:pt x="1075" y="233"/>
                </a:lnTo>
                <a:lnTo>
                  <a:pt x="1072" y="228"/>
                </a:lnTo>
                <a:lnTo>
                  <a:pt x="1069" y="222"/>
                </a:lnTo>
                <a:lnTo>
                  <a:pt x="1066" y="216"/>
                </a:lnTo>
                <a:lnTo>
                  <a:pt x="1064" y="209"/>
                </a:lnTo>
                <a:lnTo>
                  <a:pt x="1061" y="203"/>
                </a:lnTo>
                <a:lnTo>
                  <a:pt x="1058" y="196"/>
                </a:lnTo>
                <a:lnTo>
                  <a:pt x="1055" y="188"/>
                </a:lnTo>
                <a:lnTo>
                  <a:pt x="1052" y="181"/>
                </a:lnTo>
                <a:lnTo>
                  <a:pt x="1049" y="174"/>
                </a:lnTo>
                <a:lnTo>
                  <a:pt x="1046" y="167"/>
                </a:lnTo>
                <a:lnTo>
                  <a:pt x="1043" y="160"/>
                </a:lnTo>
                <a:lnTo>
                  <a:pt x="1040" y="154"/>
                </a:lnTo>
                <a:lnTo>
                  <a:pt x="1037" y="148"/>
                </a:lnTo>
                <a:lnTo>
                  <a:pt x="1034" y="142"/>
                </a:lnTo>
                <a:lnTo>
                  <a:pt x="1030" y="136"/>
                </a:lnTo>
                <a:lnTo>
                  <a:pt x="1027" y="130"/>
                </a:lnTo>
                <a:lnTo>
                  <a:pt x="1023" y="125"/>
                </a:lnTo>
                <a:lnTo>
                  <a:pt x="1020" y="120"/>
                </a:lnTo>
                <a:lnTo>
                  <a:pt x="1016" y="115"/>
                </a:lnTo>
                <a:lnTo>
                  <a:pt x="1012" y="110"/>
                </a:lnTo>
                <a:lnTo>
                  <a:pt x="1008" y="106"/>
                </a:lnTo>
                <a:lnTo>
                  <a:pt x="1005" y="102"/>
                </a:lnTo>
                <a:lnTo>
                  <a:pt x="1001" y="98"/>
                </a:lnTo>
                <a:lnTo>
                  <a:pt x="997" y="94"/>
                </a:lnTo>
                <a:lnTo>
                  <a:pt x="993" y="91"/>
                </a:lnTo>
                <a:lnTo>
                  <a:pt x="989" y="88"/>
                </a:lnTo>
                <a:lnTo>
                  <a:pt x="985" y="85"/>
                </a:lnTo>
                <a:lnTo>
                  <a:pt x="981" y="82"/>
                </a:lnTo>
                <a:lnTo>
                  <a:pt x="977" y="79"/>
                </a:lnTo>
                <a:lnTo>
                  <a:pt x="973" y="77"/>
                </a:lnTo>
                <a:lnTo>
                  <a:pt x="969" y="74"/>
                </a:lnTo>
                <a:lnTo>
                  <a:pt x="965" y="72"/>
                </a:lnTo>
                <a:lnTo>
                  <a:pt x="962" y="71"/>
                </a:lnTo>
                <a:lnTo>
                  <a:pt x="958" y="69"/>
                </a:lnTo>
                <a:lnTo>
                  <a:pt x="954" y="68"/>
                </a:lnTo>
                <a:lnTo>
                  <a:pt x="950" y="66"/>
                </a:lnTo>
                <a:lnTo>
                  <a:pt x="946" y="65"/>
                </a:lnTo>
                <a:lnTo>
                  <a:pt x="943" y="65"/>
                </a:lnTo>
                <a:lnTo>
                  <a:pt x="939" y="64"/>
                </a:lnTo>
                <a:lnTo>
                  <a:pt x="935" y="64"/>
                </a:lnTo>
                <a:lnTo>
                  <a:pt x="932" y="64"/>
                </a:lnTo>
                <a:lnTo>
                  <a:pt x="928" y="63"/>
                </a:lnTo>
                <a:lnTo>
                  <a:pt x="924" y="64"/>
                </a:lnTo>
                <a:lnTo>
                  <a:pt x="921" y="64"/>
                </a:lnTo>
                <a:lnTo>
                  <a:pt x="917" y="64"/>
                </a:lnTo>
                <a:lnTo>
                  <a:pt x="914" y="65"/>
                </a:lnTo>
                <a:lnTo>
                  <a:pt x="910" y="65"/>
                </a:lnTo>
                <a:lnTo>
                  <a:pt x="907" y="66"/>
                </a:lnTo>
                <a:lnTo>
                  <a:pt x="903" y="67"/>
                </a:lnTo>
                <a:lnTo>
                  <a:pt x="900" y="68"/>
                </a:lnTo>
                <a:lnTo>
                  <a:pt x="896" y="70"/>
                </a:lnTo>
                <a:lnTo>
                  <a:pt x="893" y="71"/>
                </a:lnTo>
                <a:lnTo>
                  <a:pt x="890" y="73"/>
                </a:lnTo>
                <a:lnTo>
                  <a:pt x="886" y="75"/>
                </a:lnTo>
                <a:lnTo>
                  <a:pt x="883" y="77"/>
                </a:lnTo>
                <a:lnTo>
                  <a:pt x="880" y="79"/>
                </a:lnTo>
                <a:lnTo>
                  <a:pt x="877" y="81"/>
                </a:lnTo>
                <a:lnTo>
                  <a:pt x="874" y="83"/>
                </a:lnTo>
                <a:lnTo>
                  <a:pt x="871" y="85"/>
                </a:lnTo>
                <a:lnTo>
                  <a:pt x="869" y="87"/>
                </a:lnTo>
                <a:lnTo>
                  <a:pt x="867" y="89"/>
                </a:lnTo>
                <a:lnTo>
                  <a:pt x="865" y="92"/>
                </a:lnTo>
                <a:lnTo>
                  <a:pt x="863" y="94"/>
                </a:lnTo>
                <a:lnTo>
                  <a:pt x="861" y="96"/>
                </a:lnTo>
                <a:lnTo>
                  <a:pt x="860" y="98"/>
                </a:lnTo>
                <a:lnTo>
                  <a:pt x="859" y="101"/>
                </a:lnTo>
                <a:lnTo>
                  <a:pt x="858" y="103"/>
                </a:lnTo>
                <a:lnTo>
                  <a:pt x="857" y="106"/>
                </a:lnTo>
                <a:lnTo>
                  <a:pt x="857" y="108"/>
                </a:lnTo>
                <a:lnTo>
                  <a:pt x="856" y="111"/>
                </a:lnTo>
                <a:lnTo>
                  <a:pt x="856" y="113"/>
                </a:lnTo>
                <a:lnTo>
                  <a:pt x="856" y="116"/>
                </a:lnTo>
                <a:lnTo>
                  <a:pt x="856" y="118"/>
                </a:lnTo>
                <a:lnTo>
                  <a:pt x="856" y="120"/>
                </a:lnTo>
                <a:lnTo>
                  <a:pt x="856" y="121"/>
                </a:lnTo>
                <a:lnTo>
                  <a:pt x="856" y="122"/>
                </a:lnTo>
                <a:lnTo>
                  <a:pt x="856" y="123"/>
                </a:lnTo>
                <a:lnTo>
                  <a:pt x="856" y="123"/>
                </a:lnTo>
                <a:lnTo>
                  <a:pt x="856" y="124"/>
                </a:lnTo>
                <a:lnTo>
                  <a:pt x="856" y="123"/>
                </a:lnTo>
                <a:lnTo>
                  <a:pt x="856" y="123"/>
                </a:lnTo>
                <a:lnTo>
                  <a:pt x="856" y="122"/>
                </a:lnTo>
                <a:lnTo>
                  <a:pt x="856" y="121"/>
                </a:lnTo>
                <a:lnTo>
                  <a:pt x="856" y="120"/>
                </a:lnTo>
                <a:lnTo>
                  <a:pt x="856" y="118"/>
                </a:lnTo>
                <a:lnTo>
                  <a:pt x="856" y="116"/>
                </a:lnTo>
                <a:lnTo>
                  <a:pt x="856" y="113"/>
                </a:lnTo>
                <a:lnTo>
                  <a:pt x="856" y="111"/>
                </a:lnTo>
                <a:lnTo>
                  <a:pt x="856" y="108"/>
                </a:lnTo>
                <a:lnTo>
                  <a:pt x="856" y="105"/>
                </a:lnTo>
                <a:lnTo>
                  <a:pt x="855" y="102"/>
                </a:lnTo>
                <a:lnTo>
                  <a:pt x="854" y="100"/>
                </a:lnTo>
                <a:lnTo>
                  <a:pt x="853" y="97"/>
                </a:lnTo>
                <a:lnTo>
                  <a:pt x="852" y="94"/>
                </a:lnTo>
                <a:lnTo>
                  <a:pt x="851" y="91"/>
                </a:lnTo>
                <a:lnTo>
                  <a:pt x="849" y="88"/>
                </a:lnTo>
                <a:lnTo>
                  <a:pt x="848" y="84"/>
                </a:lnTo>
                <a:lnTo>
                  <a:pt x="846" y="81"/>
                </a:lnTo>
                <a:lnTo>
                  <a:pt x="844" y="78"/>
                </a:lnTo>
                <a:lnTo>
                  <a:pt x="842" y="75"/>
                </a:lnTo>
                <a:lnTo>
                  <a:pt x="840" y="71"/>
                </a:lnTo>
                <a:lnTo>
                  <a:pt x="837" y="68"/>
                </a:lnTo>
                <a:lnTo>
                  <a:pt x="835" y="64"/>
                </a:lnTo>
                <a:lnTo>
                  <a:pt x="832" y="61"/>
                </a:lnTo>
                <a:lnTo>
                  <a:pt x="829" y="57"/>
                </a:lnTo>
                <a:lnTo>
                  <a:pt x="826" y="54"/>
                </a:lnTo>
                <a:lnTo>
                  <a:pt x="823" y="51"/>
                </a:lnTo>
                <a:lnTo>
                  <a:pt x="820" y="48"/>
                </a:lnTo>
                <a:lnTo>
                  <a:pt x="817" y="45"/>
                </a:lnTo>
                <a:lnTo>
                  <a:pt x="814" y="42"/>
                </a:lnTo>
                <a:lnTo>
                  <a:pt x="810" y="39"/>
                </a:lnTo>
                <a:lnTo>
                  <a:pt x="807" y="36"/>
                </a:lnTo>
                <a:lnTo>
                  <a:pt x="803" y="34"/>
                </a:lnTo>
                <a:lnTo>
                  <a:pt x="800" y="31"/>
                </a:lnTo>
                <a:lnTo>
                  <a:pt x="796" y="29"/>
                </a:lnTo>
                <a:lnTo>
                  <a:pt x="792" y="27"/>
                </a:lnTo>
                <a:lnTo>
                  <a:pt x="789" y="24"/>
                </a:lnTo>
                <a:lnTo>
                  <a:pt x="785" y="22"/>
                </a:lnTo>
                <a:lnTo>
                  <a:pt x="781" y="20"/>
                </a:lnTo>
                <a:lnTo>
                  <a:pt x="777" y="18"/>
                </a:lnTo>
                <a:lnTo>
                  <a:pt x="773" y="17"/>
                </a:lnTo>
                <a:lnTo>
                  <a:pt x="769" y="15"/>
                </a:lnTo>
                <a:lnTo>
                  <a:pt x="764" y="13"/>
                </a:lnTo>
                <a:lnTo>
                  <a:pt x="760" y="12"/>
                </a:lnTo>
                <a:lnTo>
                  <a:pt x="756" y="11"/>
                </a:lnTo>
                <a:lnTo>
                  <a:pt x="751" y="9"/>
                </a:lnTo>
                <a:lnTo>
                  <a:pt x="747" y="8"/>
                </a:lnTo>
                <a:lnTo>
                  <a:pt x="742" y="7"/>
                </a:lnTo>
                <a:lnTo>
                  <a:pt x="738" y="6"/>
                </a:lnTo>
                <a:lnTo>
                  <a:pt x="733" y="5"/>
                </a:lnTo>
                <a:lnTo>
                  <a:pt x="728" y="4"/>
                </a:lnTo>
                <a:lnTo>
                  <a:pt x="724" y="3"/>
                </a:lnTo>
                <a:lnTo>
                  <a:pt x="719" y="3"/>
                </a:lnTo>
                <a:lnTo>
                  <a:pt x="714" y="2"/>
                </a:lnTo>
                <a:lnTo>
                  <a:pt x="709" y="2"/>
                </a:lnTo>
                <a:lnTo>
                  <a:pt x="704" y="1"/>
                </a:lnTo>
                <a:lnTo>
                  <a:pt x="699" y="1"/>
                </a:lnTo>
                <a:lnTo>
                  <a:pt x="694" y="1"/>
                </a:lnTo>
                <a:lnTo>
                  <a:pt x="690" y="0"/>
                </a:lnTo>
                <a:lnTo>
                  <a:pt x="685" y="0"/>
                </a:lnTo>
                <a:lnTo>
                  <a:pt x="681" y="0"/>
                </a:lnTo>
                <a:lnTo>
                  <a:pt x="676" y="0"/>
                </a:lnTo>
                <a:lnTo>
                  <a:pt x="672" y="0"/>
                </a:lnTo>
                <a:lnTo>
                  <a:pt x="667" y="1"/>
                </a:lnTo>
                <a:lnTo>
                  <a:pt x="663" y="1"/>
                </a:lnTo>
                <a:lnTo>
                  <a:pt x="659" y="1"/>
                </a:lnTo>
                <a:lnTo>
                  <a:pt x="655" y="2"/>
                </a:lnTo>
                <a:lnTo>
                  <a:pt x="651" y="2"/>
                </a:lnTo>
                <a:lnTo>
                  <a:pt x="647" y="3"/>
                </a:lnTo>
                <a:lnTo>
                  <a:pt x="643" y="4"/>
                </a:lnTo>
                <a:lnTo>
                  <a:pt x="639" y="4"/>
                </a:lnTo>
                <a:lnTo>
                  <a:pt x="635" y="5"/>
                </a:lnTo>
                <a:lnTo>
                  <a:pt x="631" y="6"/>
                </a:lnTo>
                <a:lnTo>
                  <a:pt x="628" y="7"/>
                </a:lnTo>
                <a:lnTo>
                  <a:pt x="624" y="8"/>
                </a:lnTo>
                <a:lnTo>
                  <a:pt x="621" y="9"/>
                </a:lnTo>
                <a:lnTo>
                  <a:pt x="617" y="10"/>
                </a:lnTo>
                <a:lnTo>
                  <a:pt x="614" y="11"/>
                </a:lnTo>
                <a:lnTo>
                  <a:pt x="611" y="12"/>
                </a:lnTo>
                <a:lnTo>
                  <a:pt x="608" y="13"/>
                </a:lnTo>
                <a:lnTo>
                  <a:pt x="605" y="14"/>
                </a:lnTo>
                <a:lnTo>
                  <a:pt x="602" y="15"/>
                </a:lnTo>
                <a:lnTo>
                  <a:pt x="599" y="16"/>
                </a:lnTo>
                <a:lnTo>
                  <a:pt x="596" y="17"/>
                </a:lnTo>
                <a:lnTo>
                  <a:pt x="593" y="19"/>
                </a:lnTo>
                <a:lnTo>
                  <a:pt x="590" y="20"/>
                </a:lnTo>
                <a:lnTo>
                  <a:pt x="587" y="21"/>
                </a:lnTo>
                <a:lnTo>
                  <a:pt x="585" y="23"/>
                </a:lnTo>
                <a:lnTo>
                  <a:pt x="582" y="24"/>
                </a:lnTo>
                <a:lnTo>
                  <a:pt x="580" y="26"/>
                </a:lnTo>
                <a:lnTo>
                  <a:pt x="577" y="27"/>
                </a:lnTo>
                <a:lnTo>
                  <a:pt x="575" y="29"/>
                </a:lnTo>
                <a:lnTo>
                  <a:pt x="573" y="30"/>
                </a:lnTo>
                <a:lnTo>
                  <a:pt x="571" y="32"/>
                </a:lnTo>
                <a:lnTo>
                  <a:pt x="569" y="34"/>
                </a:lnTo>
                <a:lnTo>
                  <a:pt x="567" y="36"/>
                </a:lnTo>
                <a:lnTo>
                  <a:pt x="565" y="37"/>
                </a:lnTo>
                <a:lnTo>
                  <a:pt x="563" y="39"/>
                </a:lnTo>
                <a:lnTo>
                  <a:pt x="561" y="41"/>
                </a:lnTo>
                <a:lnTo>
                  <a:pt x="559" y="43"/>
                </a:lnTo>
                <a:lnTo>
                  <a:pt x="557" y="45"/>
                </a:lnTo>
                <a:lnTo>
                  <a:pt x="556" y="48"/>
                </a:lnTo>
                <a:lnTo>
                  <a:pt x="554" y="50"/>
                </a:lnTo>
                <a:lnTo>
                  <a:pt x="553" y="52"/>
                </a:lnTo>
                <a:lnTo>
                  <a:pt x="551" y="54"/>
                </a:lnTo>
                <a:lnTo>
                  <a:pt x="551" y="56"/>
                </a:lnTo>
                <a:lnTo>
                  <a:pt x="550" y="58"/>
                </a:lnTo>
                <a:lnTo>
                  <a:pt x="550" y="60"/>
                </a:lnTo>
                <a:lnTo>
                  <a:pt x="550" y="61"/>
                </a:lnTo>
                <a:lnTo>
                  <a:pt x="551" y="63"/>
                </a:lnTo>
                <a:lnTo>
                  <a:pt x="552" y="64"/>
                </a:lnTo>
                <a:lnTo>
                  <a:pt x="553" y="65"/>
                </a:lnTo>
                <a:lnTo>
                  <a:pt x="554" y="66"/>
                </a:lnTo>
                <a:lnTo>
                  <a:pt x="556" y="67"/>
                </a:lnTo>
                <a:lnTo>
                  <a:pt x="558" y="68"/>
                </a:lnTo>
                <a:lnTo>
                  <a:pt x="560" y="69"/>
                </a:lnTo>
                <a:lnTo>
                  <a:pt x="563" y="69"/>
                </a:lnTo>
                <a:lnTo>
                  <a:pt x="566" y="70"/>
                </a:lnTo>
                <a:lnTo>
                  <a:pt x="570" y="70"/>
                </a:lnTo>
                <a:lnTo>
                  <a:pt x="573" y="71"/>
                </a:lnTo>
                <a:lnTo>
                  <a:pt x="576" y="71"/>
                </a:lnTo>
                <a:lnTo>
                  <a:pt x="580" y="72"/>
                </a:lnTo>
                <a:lnTo>
                  <a:pt x="583" y="72"/>
                </a:lnTo>
                <a:lnTo>
                  <a:pt x="586" y="73"/>
                </a:lnTo>
                <a:lnTo>
                  <a:pt x="589" y="74"/>
                </a:lnTo>
                <a:lnTo>
                  <a:pt x="592" y="75"/>
                </a:lnTo>
                <a:lnTo>
                  <a:pt x="595" y="76"/>
                </a:lnTo>
                <a:lnTo>
                  <a:pt x="598" y="77"/>
                </a:lnTo>
                <a:lnTo>
                  <a:pt x="600" y="78"/>
                </a:lnTo>
                <a:lnTo>
                  <a:pt x="603" y="80"/>
                </a:lnTo>
                <a:lnTo>
                  <a:pt x="606" y="81"/>
                </a:lnTo>
                <a:lnTo>
                  <a:pt x="608" y="82"/>
                </a:lnTo>
                <a:lnTo>
                  <a:pt x="610" y="84"/>
                </a:lnTo>
                <a:lnTo>
                  <a:pt x="613" y="86"/>
                </a:lnTo>
                <a:lnTo>
                  <a:pt x="615" y="87"/>
                </a:lnTo>
                <a:lnTo>
                  <a:pt x="617" y="89"/>
                </a:lnTo>
                <a:lnTo>
                  <a:pt x="619" y="91"/>
                </a:lnTo>
                <a:lnTo>
                  <a:pt x="621" y="93"/>
                </a:lnTo>
                <a:lnTo>
                  <a:pt x="623" y="94"/>
                </a:lnTo>
                <a:lnTo>
                  <a:pt x="624" y="96"/>
                </a:lnTo>
                <a:lnTo>
                  <a:pt x="626" y="98"/>
                </a:lnTo>
                <a:lnTo>
                  <a:pt x="628" y="100"/>
                </a:lnTo>
                <a:lnTo>
                  <a:pt x="629" y="101"/>
                </a:lnTo>
                <a:lnTo>
                  <a:pt x="631" y="103"/>
                </a:lnTo>
                <a:lnTo>
                  <a:pt x="632" y="105"/>
                </a:lnTo>
                <a:lnTo>
                  <a:pt x="634" y="107"/>
                </a:lnTo>
                <a:lnTo>
                  <a:pt x="635" y="108"/>
                </a:lnTo>
                <a:lnTo>
                  <a:pt x="636" y="110"/>
                </a:lnTo>
                <a:lnTo>
                  <a:pt x="637" y="112"/>
                </a:lnTo>
                <a:lnTo>
                  <a:pt x="638" y="113"/>
                </a:lnTo>
                <a:lnTo>
                  <a:pt x="639" y="115"/>
                </a:lnTo>
                <a:lnTo>
                  <a:pt x="640" y="117"/>
                </a:lnTo>
                <a:lnTo>
                  <a:pt x="640" y="118"/>
                </a:lnTo>
                <a:lnTo>
                  <a:pt x="641" y="119"/>
                </a:lnTo>
                <a:lnTo>
                  <a:pt x="642" y="120"/>
                </a:lnTo>
                <a:lnTo>
                  <a:pt x="642" y="121"/>
                </a:lnTo>
                <a:lnTo>
                  <a:pt x="642" y="121"/>
                </a:lnTo>
                <a:lnTo>
                  <a:pt x="642" y="122"/>
                </a:lnTo>
                <a:lnTo>
                  <a:pt x="642" y="122"/>
                </a:lnTo>
                <a:lnTo>
                  <a:pt x="642" y="122"/>
                </a:lnTo>
                <a:lnTo>
                  <a:pt x="642" y="121"/>
                </a:lnTo>
                <a:lnTo>
                  <a:pt x="642" y="121"/>
                </a:lnTo>
                <a:lnTo>
                  <a:pt x="642" y="120"/>
                </a:lnTo>
                <a:lnTo>
                  <a:pt x="641" y="119"/>
                </a:lnTo>
                <a:lnTo>
                  <a:pt x="640" y="118"/>
                </a:lnTo>
                <a:lnTo>
                  <a:pt x="640" y="117"/>
                </a:lnTo>
                <a:lnTo>
                  <a:pt x="639" y="115"/>
                </a:lnTo>
                <a:lnTo>
                  <a:pt x="638" y="113"/>
                </a:lnTo>
                <a:lnTo>
                  <a:pt x="637" y="112"/>
                </a:lnTo>
                <a:lnTo>
                  <a:pt x="636" y="110"/>
                </a:lnTo>
                <a:lnTo>
                  <a:pt x="635" y="108"/>
                </a:lnTo>
                <a:lnTo>
                  <a:pt x="634" y="107"/>
                </a:lnTo>
                <a:lnTo>
                  <a:pt x="632" y="105"/>
                </a:lnTo>
                <a:lnTo>
                  <a:pt x="631" y="103"/>
                </a:lnTo>
                <a:lnTo>
                  <a:pt x="629" y="101"/>
                </a:lnTo>
                <a:lnTo>
                  <a:pt x="628" y="100"/>
                </a:lnTo>
                <a:lnTo>
                  <a:pt x="626" y="98"/>
                </a:lnTo>
                <a:lnTo>
                  <a:pt x="624" y="96"/>
                </a:lnTo>
                <a:lnTo>
                  <a:pt x="623" y="94"/>
                </a:lnTo>
                <a:lnTo>
                  <a:pt x="621" y="93"/>
                </a:lnTo>
                <a:lnTo>
                  <a:pt x="619" y="91"/>
                </a:lnTo>
                <a:lnTo>
                  <a:pt x="617" y="89"/>
                </a:lnTo>
                <a:lnTo>
                  <a:pt x="615" y="87"/>
                </a:lnTo>
                <a:lnTo>
                  <a:pt x="613" y="86"/>
                </a:lnTo>
                <a:lnTo>
                  <a:pt x="610" y="84"/>
                </a:lnTo>
                <a:lnTo>
                  <a:pt x="608" y="82"/>
                </a:lnTo>
                <a:lnTo>
                  <a:pt x="606" y="81"/>
                </a:lnTo>
                <a:lnTo>
                  <a:pt x="603" y="80"/>
                </a:lnTo>
                <a:lnTo>
                  <a:pt x="600" y="78"/>
                </a:lnTo>
                <a:lnTo>
                  <a:pt x="598" y="77"/>
                </a:lnTo>
                <a:lnTo>
                  <a:pt x="595" y="76"/>
                </a:lnTo>
                <a:lnTo>
                  <a:pt x="592" y="75"/>
                </a:lnTo>
                <a:lnTo>
                  <a:pt x="589" y="74"/>
                </a:lnTo>
                <a:lnTo>
                  <a:pt x="586" y="73"/>
                </a:lnTo>
                <a:lnTo>
                  <a:pt x="583" y="72"/>
                </a:lnTo>
                <a:lnTo>
                  <a:pt x="580" y="72"/>
                </a:lnTo>
                <a:lnTo>
                  <a:pt x="576" y="71"/>
                </a:lnTo>
                <a:lnTo>
                  <a:pt x="573" y="71"/>
                </a:lnTo>
                <a:lnTo>
                  <a:pt x="570" y="70"/>
                </a:lnTo>
                <a:lnTo>
                  <a:pt x="566" y="70"/>
                </a:lnTo>
                <a:lnTo>
                  <a:pt x="563" y="70"/>
                </a:lnTo>
                <a:lnTo>
                  <a:pt x="559" y="69"/>
                </a:lnTo>
                <a:lnTo>
                  <a:pt x="556" y="69"/>
                </a:lnTo>
                <a:lnTo>
                  <a:pt x="552" y="69"/>
                </a:lnTo>
                <a:lnTo>
                  <a:pt x="549" y="69"/>
                </a:lnTo>
                <a:lnTo>
                  <a:pt x="545" y="69"/>
                </a:lnTo>
                <a:lnTo>
                  <a:pt x="542" y="69"/>
                </a:lnTo>
                <a:lnTo>
                  <a:pt x="538" y="68"/>
                </a:lnTo>
                <a:lnTo>
                  <a:pt x="535" y="68"/>
                </a:lnTo>
                <a:lnTo>
                  <a:pt x="531" y="68"/>
                </a:lnTo>
                <a:lnTo>
                  <a:pt x="528" y="68"/>
                </a:lnTo>
                <a:lnTo>
                  <a:pt x="524" y="68"/>
                </a:lnTo>
                <a:lnTo>
                  <a:pt x="521" y="68"/>
                </a:lnTo>
                <a:lnTo>
                  <a:pt x="518" y="68"/>
                </a:lnTo>
                <a:lnTo>
                  <a:pt x="514" y="69"/>
                </a:lnTo>
                <a:lnTo>
                  <a:pt x="511" y="69"/>
                </a:lnTo>
                <a:lnTo>
                  <a:pt x="507" y="69"/>
                </a:lnTo>
                <a:lnTo>
                  <a:pt x="504" y="69"/>
                </a:lnTo>
                <a:lnTo>
                  <a:pt x="501" y="70"/>
                </a:lnTo>
                <a:lnTo>
                  <a:pt x="498" y="70"/>
                </a:lnTo>
                <a:lnTo>
                  <a:pt x="495" y="70"/>
                </a:lnTo>
                <a:lnTo>
                  <a:pt x="492" y="71"/>
                </a:lnTo>
                <a:lnTo>
                  <a:pt x="488" y="71"/>
                </a:lnTo>
                <a:lnTo>
                  <a:pt x="485" y="72"/>
                </a:lnTo>
                <a:lnTo>
                  <a:pt x="483" y="73"/>
                </a:lnTo>
                <a:lnTo>
                  <a:pt x="480" y="74"/>
                </a:lnTo>
                <a:lnTo>
                  <a:pt x="477" y="74"/>
                </a:lnTo>
                <a:lnTo>
                  <a:pt x="474" y="75"/>
                </a:lnTo>
                <a:lnTo>
                  <a:pt x="471" y="76"/>
                </a:lnTo>
                <a:lnTo>
                  <a:pt x="469" y="77"/>
                </a:lnTo>
                <a:lnTo>
                  <a:pt x="466" y="78"/>
                </a:lnTo>
                <a:lnTo>
                  <a:pt x="463" y="80"/>
                </a:lnTo>
                <a:lnTo>
                  <a:pt x="461" y="81"/>
                </a:lnTo>
                <a:lnTo>
                  <a:pt x="459" y="82"/>
                </a:lnTo>
                <a:lnTo>
                  <a:pt x="458" y="83"/>
                </a:lnTo>
                <a:lnTo>
                  <a:pt x="456" y="85"/>
                </a:lnTo>
                <a:lnTo>
                  <a:pt x="455" y="86"/>
                </a:lnTo>
                <a:lnTo>
                  <a:pt x="455" y="88"/>
                </a:lnTo>
                <a:lnTo>
                  <a:pt x="454" y="90"/>
                </a:lnTo>
                <a:lnTo>
                  <a:pt x="454" y="92"/>
                </a:lnTo>
                <a:lnTo>
                  <a:pt x="454" y="93"/>
                </a:lnTo>
                <a:lnTo>
                  <a:pt x="455" y="95"/>
                </a:lnTo>
                <a:lnTo>
                  <a:pt x="455" y="97"/>
                </a:lnTo>
                <a:lnTo>
                  <a:pt x="456" y="99"/>
                </a:lnTo>
                <a:lnTo>
                  <a:pt x="458" y="102"/>
                </a:lnTo>
                <a:lnTo>
                  <a:pt x="459" y="104"/>
                </a:lnTo>
                <a:lnTo>
                  <a:pt x="461" y="106"/>
                </a:lnTo>
                <a:lnTo>
                  <a:pt x="463" y="108"/>
                </a:lnTo>
                <a:lnTo>
                  <a:pt x="465" y="110"/>
                </a:lnTo>
                <a:lnTo>
                  <a:pt x="466" y="112"/>
                </a:lnTo>
                <a:lnTo>
                  <a:pt x="467" y="113"/>
                </a:lnTo>
                <a:lnTo>
                  <a:pt x="468" y="114"/>
                </a:lnTo>
                <a:lnTo>
                  <a:pt x="469" y="115"/>
                </a:lnTo>
                <a:lnTo>
                  <a:pt x="469" y="115"/>
                </a:lnTo>
                <a:lnTo>
                  <a:pt x="469" y="115"/>
                </a:lnTo>
                <a:lnTo>
                  <a:pt x="469" y="115"/>
                </a:lnTo>
                <a:lnTo>
                  <a:pt x="468" y="114"/>
                </a:lnTo>
                <a:lnTo>
                  <a:pt x="468" y="113"/>
                </a:lnTo>
                <a:lnTo>
                  <a:pt x="466" y="112"/>
                </a:lnTo>
                <a:lnTo>
                  <a:pt x="465" y="111"/>
                </a:lnTo>
                <a:lnTo>
                  <a:pt x="464" y="109"/>
                </a:lnTo>
                <a:lnTo>
                  <a:pt x="462" y="107"/>
                </a:lnTo>
                <a:lnTo>
                  <a:pt x="460" y="104"/>
                </a:lnTo>
                <a:lnTo>
                  <a:pt x="457" y="102"/>
                </a:lnTo>
                <a:lnTo>
                  <a:pt x="455" y="99"/>
                </a:lnTo>
                <a:lnTo>
                  <a:pt x="452" y="97"/>
                </a:lnTo>
                <a:lnTo>
                  <a:pt x="450" y="95"/>
                </a:lnTo>
                <a:lnTo>
                  <a:pt x="447" y="92"/>
                </a:lnTo>
                <a:lnTo>
                  <a:pt x="444" y="90"/>
                </a:lnTo>
                <a:lnTo>
                  <a:pt x="442" y="88"/>
                </a:lnTo>
                <a:lnTo>
                  <a:pt x="439" y="86"/>
                </a:lnTo>
                <a:lnTo>
                  <a:pt x="436" y="84"/>
                </a:lnTo>
                <a:lnTo>
                  <a:pt x="432" y="82"/>
                </a:lnTo>
                <a:lnTo>
                  <a:pt x="429" y="81"/>
                </a:lnTo>
                <a:lnTo>
                  <a:pt x="426" y="79"/>
                </a:lnTo>
                <a:lnTo>
                  <a:pt x="422" y="77"/>
                </a:lnTo>
                <a:lnTo>
                  <a:pt x="419" y="76"/>
                </a:lnTo>
                <a:lnTo>
                  <a:pt x="415" y="74"/>
                </a:lnTo>
                <a:lnTo>
                  <a:pt x="411" y="73"/>
                </a:lnTo>
                <a:lnTo>
                  <a:pt x="408" y="72"/>
                </a:lnTo>
                <a:lnTo>
                  <a:pt x="404" y="71"/>
                </a:lnTo>
                <a:lnTo>
                  <a:pt x="400" y="70"/>
                </a:lnTo>
                <a:lnTo>
                  <a:pt x="396" y="69"/>
                </a:lnTo>
                <a:lnTo>
                  <a:pt x="392" y="68"/>
                </a:lnTo>
                <a:lnTo>
                  <a:pt x="388" y="68"/>
                </a:lnTo>
                <a:lnTo>
                  <a:pt x="385" y="67"/>
                </a:lnTo>
                <a:lnTo>
                  <a:pt x="381" y="67"/>
                </a:lnTo>
                <a:lnTo>
                  <a:pt x="377" y="67"/>
                </a:lnTo>
                <a:lnTo>
                  <a:pt x="373" y="67"/>
                </a:lnTo>
                <a:lnTo>
                  <a:pt x="369" y="67"/>
                </a:lnTo>
                <a:lnTo>
                  <a:pt x="365" y="68"/>
                </a:lnTo>
                <a:lnTo>
                  <a:pt x="361" y="68"/>
                </a:lnTo>
                <a:lnTo>
                  <a:pt x="358" y="69"/>
                </a:lnTo>
                <a:lnTo>
                  <a:pt x="354" y="69"/>
                </a:lnTo>
                <a:lnTo>
                  <a:pt x="350" y="70"/>
                </a:lnTo>
                <a:lnTo>
                  <a:pt x="346" y="71"/>
                </a:lnTo>
                <a:lnTo>
                  <a:pt x="342" y="73"/>
                </a:lnTo>
                <a:lnTo>
                  <a:pt x="339" y="74"/>
                </a:lnTo>
                <a:lnTo>
                  <a:pt x="335" y="75"/>
                </a:lnTo>
                <a:lnTo>
                  <a:pt x="332" y="76"/>
                </a:lnTo>
                <a:lnTo>
                  <a:pt x="329" y="78"/>
                </a:lnTo>
                <a:lnTo>
                  <a:pt x="326" y="79"/>
                </a:lnTo>
                <a:lnTo>
                  <a:pt x="323" y="81"/>
                </a:lnTo>
                <a:lnTo>
                  <a:pt x="320" y="83"/>
                </a:lnTo>
                <a:lnTo>
                  <a:pt x="317" y="84"/>
                </a:lnTo>
                <a:lnTo>
                  <a:pt x="315" y="86"/>
                </a:lnTo>
                <a:lnTo>
                  <a:pt x="312" y="88"/>
                </a:lnTo>
                <a:lnTo>
                  <a:pt x="310" y="90"/>
                </a:lnTo>
                <a:lnTo>
                  <a:pt x="308" y="92"/>
                </a:lnTo>
                <a:lnTo>
                  <a:pt x="306" y="94"/>
                </a:lnTo>
                <a:lnTo>
                  <a:pt x="304" y="96"/>
                </a:lnTo>
                <a:lnTo>
                  <a:pt x="302" y="98"/>
                </a:lnTo>
                <a:lnTo>
                  <a:pt x="300" y="101"/>
                </a:lnTo>
                <a:lnTo>
                  <a:pt x="298" y="103"/>
                </a:lnTo>
                <a:lnTo>
                  <a:pt x="297" y="105"/>
                </a:lnTo>
                <a:lnTo>
                  <a:pt x="295" y="107"/>
                </a:lnTo>
                <a:lnTo>
                  <a:pt x="293" y="109"/>
                </a:lnTo>
                <a:lnTo>
                  <a:pt x="292" y="112"/>
                </a:lnTo>
                <a:lnTo>
                  <a:pt x="290" y="114"/>
                </a:lnTo>
                <a:lnTo>
                  <a:pt x="289" y="116"/>
                </a:lnTo>
                <a:lnTo>
                  <a:pt x="287" y="118"/>
                </a:lnTo>
                <a:lnTo>
                  <a:pt x="286" y="120"/>
                </a:lnTo>
                <a:lnTo>
                  <a:pt x="284" y="122"/>
                </a:lnTo>
                <a:lnTo>
                  <a:pt x="283" y="124"/>
                </a:lnTo>
                <a:lnTo>
                  <a:pt x="281" y="126"/>
                </a:lnTo>
                <a:lnTo>
                  <a:pt x="280" y="128"/>
                </a:lnTo>
                <a:lnTo>
                  <a:pt x="279" y="130"/>
                </a:lnTo>
                <a:lnTo>
                  <a:pt x="278" y="132"/>
                </a:lnTo>
                <a:lnTo>
                  <a:pt x="276" y="134"/>
                </a:lnTo>
                <a:lnTo>
                  <a:pt x="275" y="136"/>
                </a:lnTo>
                <a:lnTo>
                  <a:pt x="274" y="139"/>
                </a:lnTo>
                <a:lnTo>
                  <a:pt x="272" y="141"/>
                </a:lnTo>
                <a:lnTo>
                  <a:pt x="271" y="143"/>
                </a:lnTo>
                <a:lnTo>
                  <a:pt x="270" y="145"/>
                </a:lnTo>
                <a:lnTo>
                  <a:pt x="269" y="147"/>
                </a:lnTo>
                <a:lnTo>
                  <a:pt x="267" y="150"/>
                </a:lnTo>
                <a:lnTo>
                  <a:pt x="266" y="152"/>
                </a:lnTo>
                <a:lnTo>
                  <a:pt x="265" y="154"/>
                </a:lnTo>
                <a:lnTo>
                  <a:pt x="264" y="157"/>
                </a:lnTo>
                <a:lnTo>
                  <a:pt x="262" y="159"/>
                </a:lnTo>
                <a:lnTo>
                  <a:pt x="261" y="162"/>
                </a:lnTo>
                <a:lnTo>
                  <a:pt x="260" y="164"/>
                </a:lnTo>
                <a:lnTo>
                  <a:pt x="259" y="167"/>
                </a:lnTo>
                <a:lnTo>
                  <a:pt x="257" y="169"/>
                </a:lnTo>
                <a:lnTo>
                  <a:pt x="256" y="171"/>
                </a:lnTo>
                <a:lnTo>
                  <a:pt x="255" y="173"/>
                </a:lnTo>
                <a:lnTo>
                  <a:pt x="255" y="175"/>
                </a:lnTo>
                <a:lnTo>
                  <a:pt x="254" y="176"/>
                </a:lnTo>
                <a:lnTo>
                  <a:pt x="254" y="176"/>
                </a:lnTo>
                <a:lnTo>
                  <a:pt x="254" y="177"/>
                </a:lnTo>
                <a:lnTo>
                  <a:pt x="253" y="177"/>
                </a:lnTo>
                <a:lnTo>
                  <a:pt x="254" y="177"/>
                </a:lnTo>
                <a:lnTo>
                  <a:pt x="254" y="176"/>
                </a:lnTo>
                <a:lnTo>
                  <a:pt x="254" y="176"/>
                </a:lnTo>
                <a:lnTo>
                  <a:pt x="255" y="175"/>
                </a:lnTo>
                <a:lnTo>
                  <a:pt x="255" y="173"/>
                </a:lnTo>
                <a:lnTo>
                  <a:pt x="256" y="171"/>
                </a:lnTo>
                <a:lnTo>
                  <a:pt x="257" y="169"/>
                </a:lnTo>
                <a:lnTo>
                  <a:pt x="259" y="167"/>
                </a:lnTo>
                <a:lnTo>
                  <a:pt x="260" y="164"/>
                </a:lnTo>
                <a:lnTo>
                  <a:pt x="261" y="162"/>
                </a:lnTo>
                <a:lnTo>
                  <a:pt x="261" y="159"/>
                </a:lnTo>
                <a:lnTo>
                  <a:pt x="262" y="157"/>
                </a:lnTo>
                <a:lnTo>
                  <a:pt x="262" y="154"/>
                </a:lnTo>
                <a:lnTo>
                  <a:pt x="262" y="152"/>
                </a:lnTo>
                <a:lnTo>
                  <a:pt x="262" y="149"/>
                </a:lnTo>
                <a:lnTo>
                  <a:pt x="262" y="147"/>
                </a:lnTo>
                <a:lnTo>
                  <a:pt x="262" y="144"/>
                </a:lnTo>
                <a:lnTo>
                  <a:pt x="261" y="142"/>
                </a:lnTo>
                <a:lnTo>
                  <a:pt x="260" y="139"/>
                </a:lnTo>
                <a:lnTo>
                  <a:pt x="259" y="137"/>
                </a:lnTo>
                <a:lnTo>
                  <a:pt x="258" y="135"/>
                </a:lnTo>
                <a:lnTo>
                  <a:pt x="256" y="132"/>
                </a:lnTo>
                <a:lnTo>
                  <a:pt x="254" y="130"/>
                </a:lnTo>
                <a:lnTo>
                  <a:pt x="252" y="128"/>
                </a:lnTo>
                <a:lnTo>
                  <a:pt x="250" y="125"/>
                </a:lnTo>
                <a:lnTo>
                  <a:pt x="248" y="123"/>
                </a:lnTo>
                <a:lnTo>
                  <a:pt x="246" y="121"/>
                </a:lnTo>
                <a:lnTo>
                  <a:pt x="243" y="119"/>
                </a:lnTo>
                <a:lnTo>
                  <a:pt x="241" y="117"/>
                </a:lnTo>
                <a:lnTo>
                  <a:pt x="238" y="115"/>
                </a:lnTo>
                <a:lnTo>
                  <a:pt x="236" y="113"/>
                </a:lnTo>
                <a:lnTo>
                  <a:pt x="233" y="112"/>
                </a:lnTo>
                <a:lnTo>
                  <a:pt x="230" y="110"/>
                </a:lnTo>
                <a:lnTo>
                  <a:pt x="227" y="109"/>
                </a:lnTo>
                <a:lnTo>
                  <a:pt x="224" y="107"/>
                </a:lnTo>
                <a:lnTo>
                  <a:pt x="221" y="106"/>
                </a:lnTo>
                <a:lnTo>
                  <a:pt x="217" y="105"/>
                </a:lnTo>
                <a:lnTo>
                  <a:pt x="214" y="104"/>
                </a:lnTo>
                <a:lnTo>
                  <a:pt x="211" y="103"/>
                </a:lnTo>
                <a:lnTo>
                  <a:pt x="207" y="102"/>
                </a:lnTo>
                <a:lnTo>
                  <a:pt x="204" y="101"/>
                </a:lnTo>
                <a:lnTo>
                  <a:pt x="200" y="100"/>
                </a:lnTo>
                <a:lnTo>
                  <a:pt x="196" y="99"/>
                </a:lnTo>
                <a:lnTo>
                  <a:pt x="193" y="99"/>
                </a:lnTo>
                <a:lnTo>
                  <a:pt x="189" y="99"/>
                </a:lnTo>
                <a:lnTo>
                  <a:pt x="185" y="98"/>
                </a:lnTo>
                <a:lnTo>
                  <a:pt x="181" y="98"/>
                </a:lnTo>
                <a:lnTo>
                  <a:pt x="178" y="98"/>
                </a:lnTo>
                <a:lnTo>
                  <a:pt x="174" y="98"/>
                </a:lnTo>
                <a:lnTo>
                  <a:pt x="170" y="98"/>
                </a:lnTo>
                <a:lnTo>
                  <a:pt x="166" y="99"/>
                </a:lnTo>
                <a:lnTo>
                  <a:pt x="163" y="99"/>
                </a:lnTo>
                <a:lnTo>
                  <a:pt x="159" y="99"/>
                </a:lnTo>
                <a:lnTo>
                  <a:pt x="155" y="100"/>
                </a:lnTo>
                <a:lnTo>
                  <a:pt x="151" y="101"/>
                </a:lnTo>
                <a:lnTo>
                  <a:pt x="147" y="102"/>
                </a:lnTo>
                <a:lnTo>
                  <a:pt x="143" y="103"/>
                </a:lnTo>
                <a:lnTo>
                  <a:pt x="139" y="103"/>
                </a:lnTo>
                <a:lnTo>
                  <a:pt x="136" y="104"/>
                </a:lnTo>
                <a:lnTo>
                  <a:pt x="132" y="105"/>
                </a:lnTo>
                <a:lnTo>
                  <a:pt x="128" y="107"/>
                </a:lnTo>
                <a:lnTo>
                  <a:pt x="125" y="108"/>
                </a:lnTo>
                <a:lnTo>
                  <a:pt x="121" y="109"/>
                </a:lnTo>
                <a:lnTo>
                  <a:pt x="118" y="110"/>
                </a:lnTo>
                <a:lnTo>
                  <a:pt x="114" y="111"/>
                </a:lnTo>
                <a:lnTo>
                  <a:pt x="111" y="112"/>
                </a:lnTo>
                <a:lnTo>
                  <a:pt x="108" y="114"/>
                </a:lnTo>
                <a:lnTo>
                  <a:pt x="104" y="115"/>
                </a:lnTo>
                <a:lnTo>
                  <a:pt x="101" y="116"/>
                </a:lnTo>
                <a:lnTo>
                  <a:pt x="98" y="118"/>
                </a:lnTo>
                <a:lnTo>
                  <a:pt x="95" y="119"/>
                </a:lnTo>
                <a:lnTo>
                  <a:pt x="92" y="120"/>
                </a:lnTo>
                <a:lnTo>
                  <a:pt x="89" y="122"/>
                </a:lnTo>
                <a:lnTo>
                  <a:pt x="86" y="123"/>
                </a:lnTo>
                <a:lnTo>
                  <a:pt x="83" y="125"/>
                </a:lnTo>
                <a:lnTo>
                  <a:pt x="80" y="127"/>
                </a:lnTo>
                <a:lnTo>
                  <a:pt x="78" y="128"/>
                </a:lnTo>
                <a:lnTo>
                  <a:pt x="75" y="130"/>
                </a:lnTo>
                <a:lnTo>
                  <a:pt x="73" y="132"/>
                </a:lnTo>
                <a:lnTo>
                  <a:pt x="70" y="133"/>
                </a:lnTo>
                <a:lnTo>
                  <a:pt x="68" y="135"/>
                </a:lnTo>
                <a:lnTo>
                  <a:pt x="66" y="137"/>
                </a:lnTo>
                <a:lnTo>
                  <a:pt x="64" y="139"/>
                </a:lnTo>
                <a:lnTo>
                  <a:pt x="62" y="141"/>
                </a:lnTo>
                <a:lnTo>
                  <a:pt x="60" y="143"/>
                </a:lnTo>
                <a:lnTo>
                  <a:pt x="58" y="145"/>
                </a:lnTo>
                <a:lnTo>
                  <a:pt x="56" y="147"/>
                </a:lnTo>
                <a:lnTo>
                  <a:pt x="54" y="149"/>
                </a:lnTo>
                <a:lnTo>
                  <a:pt x="53" y="151"/>
                </a:lnTo>
                <a:lnTo>
                  <a:pt x="51" y="153"/>
                </a:lnTo>
                <a:lnTo>
                  <a:pt x="49" y="156"/>
                </a:lnTo>
                <a:lnTo>
                  <a:pt x="47" y="158"/>
                </a:lnTo>
                <a:lnTo>
                  <a:pt x="45" y="161"/>
                </a:lnTo>
                <a:lnTo>
                  <a:pt x="43" y="164"/>
                </a:lnTo>
                <a:lnTo>
                  <a:pt x="41" y="167"/>
                </a:lnTo>
                <a:lnTo>
                  <a:pt x="39" y="170"/>
                </a:lnTo>
                <a:lnTo>
                  <a:pt x="37" y="173"/>
                </a:lnTo>
                <a:lnTo>
                  <a:pt x="35" y="176"/>
                </a:lnTo>
                <a:lnTo>
                  <a:pt x="33" y="179"/>
                </a:lnTo>
                <a:lnTo>
                  <a:pt x="31" y="182"/>
                </a:lnTo>
                <a:lnTo>
                  <a:pt x="28" y="186"/>
                </a:lnTo>
                <a:lnTo>
                  <a:pt x="26" y="190"/>
                </a:lnTo>
                <a:lnTo>
                  <a:pt x="23" y="193"/>
                </a:lnTo>
                <a:lnTo>
                  <a:pt x="21" y="197"/>
                </a:lnTo>
                <a:lnTo>
                  <a:pt x="18" y="201"/>
                </a:lnTo>
                <a:lnTo>
                  <a:pt x="16" y="205"/>
                </a:lnTo>
                <a:lnTo>
                  <a:pt x="14" y="209"/>
                </a:lnTo>
                <a:lnTo>
                  <a:pt x="12" y="213"/>
                </a:lnTo>
                <a:lnTo>
                  <a:pt x="10" y="217"/>
                </a:lnTo>
                <a:lnTo>
                  <a:pt x="8" y="221"/>
                </a:lnTo>
                <a:lnTo>
                  <a:pt x="7" y="225"/>
                </a:lnTo>
                <a:lnTo>
                  <a:pt x="5" y="229"/>
                </a:lnTo>
                <a:lnTo>
                  <a:pt x="4" y="234"/>
                </a:lnTo>
                <a:lnTo>
                  <a:pt x="3" y="238"/>
                </a:lnTo>
                <a:lnTo>
                  <a:pt x="2" y="242"/>
                </a:lnTo>
                <a:lnTo>
                  <a:pt x="1" y="246"/>
                </a:lnTo>
                <a:lnTo>
                  <a:pt x="1" y="250"/>
                </a:lnTo>
                <a:lnTo>
                  <a:pt x="0" y="255"/>
                </a:lnTo>
                <a:lnTo>
                  <a:pt x="0" y="259"/>
                </a:lnTo>
                <a:lnTo>
                  <a:pt x="0" y="263"/>
                </a:lnTo>
                <a:lnTo>
                  <a:pt x="0" y="268"/>
                </a:lnTo>
                <a:lnTo>
                  <a:pt x="0" y="272"/>
                </a:lnTo>
                <a:lnTo>
                  <a:pt x="0" y="276"/>
                </a:lnTo>
                <a:lnTo>
                  <a:pt x="0" y="280"/>
                </a:lnTo>
                <a:lnTo>
                  <a:pt x="0" y="284"/>
                </a:lnTo>
                <a:lnTo>
                  <a:pt x="1" y="287"/>
                </a:lnTo>
                <a:lnTo>
                  <a:pt x="1" y="291"/>
                </a:lnTo>
                <a:lnTo>
                  <a:pt x="1" y="294"/>
                </a:lnTo>
                <a:lnTo>
                  <a:pt x="2" y="297"/>
                </a:lnTo>
                <a:lnTo>
                  <a:pt x="2" y="301"/>
                </a:lnTo>
                <a:lnTo>
                  <a:pt x="3" y="304"/>
                </a:lnTo>
                <a:lnTo>
                  <a:pt x="4" y="307"/>
                </a:lnTo>
                <a:lnTo>
                  <a:pt x="5" y="309"/>
                </a:lnTo>
                <a:lnTo>
                  <a:pt x="6" y="312"/>
                </a:lnTo>
                <a:lnTo>
                  <a:pt x="7" y="315"/>
                </a:lnTo>
                <a:lnTo>
                  <a:pt x="8" y="317"/>
                </a:lnTo>
                <a:lnTo>
                  <a:pt x="9" y="319"/>
                </a:lnTo>
                <a:lnTo>
                  <a:pt x="10" y="321"/>
                </a:lnTo>
                <a:lnTo>
                  <a:pt x="11" y="324"/>
                </a:lnTo>
                <a:lnTo>
                  <a:pt x="12" y="326"/>
                </a:lnTo>
                <a:lnTo>
                  <a:pt x="13" y="328"/>
                </a:lnTo>
                <a:lnTo>
                  <a:pt x="14" y="330"/>
                </a:lnTo>
                <a:lnTo>
                  <a:pt x="16" y="332"/>
                </a:lnTo>
                <a:lnTo>
                  <a:pt x="17" y="334"/>
                </a:lnTo>
                <a:lnTo>
                  <a:pt x="18" y="335"/>
                </a:lnTo>
                <a:lnTo>
                  <a:pt x="20" y="337"/>
                </a:lnTo>
                <a:lnTo>
                  <a:pt x="21" y="339"/>
                </a:lnTo>
                <a:lnTo>
                  <a:pt x="22" y="341"/>
                </a:lnTo>
                <a:lnTo>
                  <a:pt x="24" y="342"/>
                </a:lnTo>
                <a:lnTo>
                  <a:pt x="25" y="344"/>
                </a:lnTo>
                <a:lnTo>
                  <a:pt x="26" y="345"/>
                </a:lnTo>
                <a:lnTo>
                  <a:pt x="28" y="346"/>
                </a:lnTo>
                <a:lnTo>
                  <a:pt x="29" y="348"/>
                </a:lnTo>
                <a:lnTo>
                  <a:pt x="31" y="349"/>
                </a:lnTo>
                <a:lnTo>
                  <a:pt x="32" y="349"/>
                </a:lnTo>
                <a:lnTo>
                  <a:pt x="34" y="350"/>
                </a:lnTo>
                <a:lnTo>
                  <a:pt x="36" y="350"/>
                </a:lnTo>
                <a:lnTo>
                  <a:pt x="38" y="350"/>
                </a:lnTo>
                <a:lnTo>
                  <a:pt x="39" y="349"/>
                </a:lnTo>
                <a:lnTo>
                  <a:pt x="41" y="349"/>
                </a:lnTo>
                <a:lnTo>
                  <a:pt x="43" y="348"/>
                </a:lnTo>
                <a:lnTo>
                  <a:pt x="45" y="347"/>
                </a:lnTo>
                <a:lnTo>
                  <a:pt x="47" y="346"/>
                </a:lnTo>
                <a:lnTo>
                  <a:pt x="49" y="344"/>
                </a:lnTo>
                <a:lnTo>
                  <a:pt x="51" y="342"/>
                </a:lnTo>
                <a:lnTo>
                  <a:pt x="54" y="340"/>
                </a:lnTo>
                <a:lnTo>
                  <a:pt x="56" y="337"/>
                </a:lnTo>
                <a:lnTo>
                  <a:pt x="58" y="335"/>
                </a:lnTo>
                <a:lnTo>
                  <a:pt x="60" y="332"/>
                </a:lnTo>
                <a:lnTo>
                  <a:pt x="62" y="330"/>
                </a:lnTo>
                <a:lnTo>
                  <a:pt x="64" y="328"/>
                </a:lnTo>
                <a:lnTo>
                  <a:pt x="65" y="326"/>
                </a:lnTo>
                <a:lnTo>
                  <a:pt x="66" y="325"/>
                </a:lnTo>
                <a:lnTo>
                  <a:pt x="67" y="324"/>
                </a:lnTo>
                <a:lnTo>
                  <a:pt x="67" y="324"/>
                </a:lnTo>
                <a:lnTo>
                  <a:pt x="67" y="323"/>
                </a:lnTo>
                <a:lnTo>
                  <a:pt x="67" y="324"/>
                </a:lnTo>
                <a:lnTo>
                  <a:pt x="67" y="324"/>
                </a:lnTo>
                <a:lnTo>
                  <a:pt x="66" y="325"/>
                </a:lnTo>
                <a:lnTo>
                  <a:pt x="65" y="326"/>
                </a:lnTo>
                <a:lnTo>
                  <a:pt x="63" y="327"/>
                </a:lnTo>
                <a:lnTo>
                  <a:pt x="62" y="329"/>
                </a:lnTo>
                <a:lnTo>
                  <a:pt x="60" y="331"/>
                </a:lnTo>
                <a:lnTo>
                  <a:pt x="57" y="334"/>
                </a:lnTo>
                <a:lnTo>
                  <a:pt x="55" y="337"/>
                </a:lnTo>
                <a:lnTo>
                  <a:pt x="53" y="340"/>
                </a:lnTo>
                <a:lnTo>
                  <a:pt x="50" y="343"/>
                </a:lnTo>
                <a:lnTo>
                  <a:pt x="48" y="346"/>
                </a:lnTo>
                <a:lnTo>
                  <a:pt x="46" y="350"/>
                </a:lnTo>
                <a:lnTo>
                  <a:pt x="44" y="354"/>
                </a:lnTo>
                <a:lnTo>
                  <a:pt x="42" y="358"/>
                </a:lnTo>
                <a:lnTo>
                  <a:pt x="40" y="362"/>
                </a:lnTo>
                <a:lnTo>
                  <a:pt x="38" y="367"/>
                </a:lnTo>
                <a:lnTo>
                  <a:pt x="36" y="372"/>
                </a:lnTo>
                <a:lnTo>
                  <a:pt x="34" y="377"/>
                </a:lnTo>
                <a:lnTo>
                  <a:pt x="32" y="382"/>
                </a:lnTo>
                <a:lnTo>
                  <a:pt x="30" y="388"/>
                </a:lnTo>
                <a:lnTo>
                  <a:pt x="28" y="393"/>
                </a:lnTo>
                <a:lnTo>
                  <a:pt x="26" y="399"/>
                </a:lnTo>
                <a:lnTo>
                  <a:pt x="25" y="405"/>
                </a:lnTo>
                <a:lnTo>
                  <a:pt x="23" y="412"/>
                </a:lnTo>
                <a:lnTo>
                  <a:pt x="22" y="418"/>
                </a:lnTo>
                <a:lnTo>
                  <a:pt x="21" y="424"/>
                </a:lnTo>
                <a:lnTo>
                  <a:pt x="20" y="429"/>
                </a:lnTo>
                <a:lnTo>
                  <a:pt x="19" y="435"/>
                </a:lnTo>
                <a:lnTo>
                  <a:pt x="18" y="441"/>
                </a:lnTo>
                <a:lnTo>
                  <a:pt x="18" y="446"/>
                </a:lnTo>
                <a:lnTo>
                  <a:pt x="17" y="452"/>
                </a:lnTo>
                <a:lnTo>
                  <a:pt x="17" y="457"/>
                </a:lnTo>
                <a:lnTo>
                  <a:pt x="17" y="462"/>
                </a:lnTo>
                <a:lnTo>
                  <a:pt x="18" y="467"/>
                </a:lnTo>
                <a:lnTo>
                  <a:pt x="18" y="472"/>
                </a:lnTo>
                <a:lnTo>
                  <a:pt x="19" y="477"/>
                </a:lnTo>
                <a:lnTo>
                  <a:pt x="19" y="481"/>
                </a:lnTo>
                <a:lnTo>
                  <a:pt x="20" y="486"/>
                </a:lnTo>
                <a:lnTo>
                  <a:pt x="22" y="490"/>
                </a:lnTo>
                <a:lnTo>
                  <a:pt x="23" y="495"/>
                </a:lnTo>
                <a:lnTo>
                  <a:pt x="24" y="499"/>
                </a:lnTo>
                <a:lnTo>
                  <a:pt x="26" y="503"/>
                </a:lnTo>
                <a:lnTo>
                  <a:pt x="27" y="507"/>
                </a:lnTo>
                <a:lnTo>
                  <a:pt x="29" y="511"/>
                </a:lnTo>
                <a:lnTo>
                  <a:pt x="30" y="515"/>
                </a:lnTo>
                <a:lnTo>
                  <a:pt x="32" y="519"/>
                </a:lnTo>
                <a:lnTo>
                  <a:pt x="34" y="523"/>
                </a:lnTo>
                <a:lnTo>
                  <a:pt x="35" y="527"/>
                </a:lnTo>
                <a:lnTo>
                  <a:pt x="37" y="531"/>
                </a:lnTo>
                <a:lnTo>
                  <a:pt x="39" y="534"/>
                </a:lnTo>
                <a:lnTo>
                  <a:pt x="41" y="538"/>
                </a:lnTo>
                <a:lnTo>
                  <a:pt x="43" y="542"/>
                </a:lnTo>
                <a:lnTo>
                  <a:pt x="45" y="545"/>
                </a:lnTo>
                <a:lnTo>
                  <a:pt x="47" y="548"/>
                </a:lnTo>
                <a:lnTo>
                  <a:pt x="50" y="552"/>
                </a:lnTo>
                <a:lnTo>
                  <a:pt x="52" y="555"/>
                </a:lnTo>
                <a:lnTo>
                  <a:pt x="54" y="558"/>
                </a:lnTo>
                <a:lnTo>
                  <a:pt x="57" y="562"/>
                </a:lnTo>
                <a:lnTo>
                  <a:pt x="59" y="565"/>
                </a:lnTo>
                <a:lnTo>
                  <a:pt x="62" y="568"/>
                </a:lnTo>
                <a:lnTo>
                  <a:pt x="65" y="571"/>
                </a:lnTo>
                <a:lnTo>
                  <a:pt x="67" y="574"/>
                </a:lnTo>
                <a:lnTo>
                  <a:pt x="70" y="577"/>
                </a:lnTo>
                <a:lnTo>
                  <a:pt x="73" y="579"/>
                </a:lnTo>
                <a:lnTo>
                  <a:pt x="76" y="582"/>
                </a:lnTo>
                <a:lnTo>
                  <a:pt x="79" y="585"/>
                </a:lnTo>
                <a:lnTo>
                  <a:pt x="82" y="588"/>
                </a:lnTo>
                <a:lnTo>
                  <a:pt x="85" y="590"/>
                </a:lnTo>
                <a:lnTo>
                  <a:pt x="89" y="593"/>
                </a:lnTo>
                <a:lnTo>
                  <a:pt x="92" y="595"/>
                </a:lnTo>
                <a:lnTo>
                  <a:pt x="96" y="597"/>
                </a:lnTo>
                <a:lnTo>
                  <a:pt x="99" y="600"/>
                </a:lnTo>
                <a:lnTo>
                  <a:pt x="103" y="602"/>
                </a:lnTo>
                <a:lnTo>
                  <a:pt x="106" y="604"/>
                </a:lnTo>
                <a:lnTo>
                  <a:pt x="110" y="606"/>
                </a:lnTo>
                <a:lnTo>
                  <a:pt x="114" y="608"/>
                </a:lnTo>
                <a:lnTo>
                  <a:pt x="117" y="610"/>
                </a:lnTo>
                <a:lnTo>
                  <a:pt x="121" y="612"/>
                </a:lnTo>
                <a:lnTo>
                  <a:pt x="125" y="614"/>
                </a:lnTo>
                <a:lnTo>
                  <a:pt x="128" y="616"/>
                </a:lnTo>
                <a:lnTo>
                  <a:pt x="132" y="618"/>
                </a:lnTo>
                <a:lnTo>
                  <a:pt x="136" y="619"/>
                </a:lnTo>
                <a:lnTo>
                  <a:pt x="140" y="621"/>
                </a:lnTo>
                <a:lnTo>
                  <a:pt x="144" y="623"/>
                </a:lnTo>
                <a:lnTo>
                  <a:pt x="148" y="624"/>
                </a:lnTo>
                <a:lnTo>
                  <a:pt x="152" y="626"/>
                </a:lnTo>
                <a:lnTo>
                  <a:pt x="156" y="627"/>
                </a:lnTo>
                <a:lnTo>
                  <a:pt x="160" y="628"/>
                </a:lnTo>
                <a:lnTo>
                  <a:pt x="164" y="629"/>
                </a:lnTo>
                <a:lnTo>
                  <a:pt x="167" y="630"/>
                </a:lnTo>
                <a:lnTo>
                  <a:pt x="171" y="632"/>
                </a:lnTo>
                <a:lnTo>
                  <a:pt x="175" y="632"/>
                </a:lnTo>
                <a:lnTo>
                  <a:pt x="178" y="633"/>
                </a:lnTo>
                <a:lnTo>
                  <a:pt x="182" y="634"/>
                </a:lnTo>
                <a:lnTo>
                  <a:pt x="185" y="635"/>
                </a:lnTo>
                <a:lnTo>
                  <a:pt x="189" y="635"/>
                </a:lnTo>
                <a:lnTo>
                  <a:pt x="192" y="636"/>
                </a:lnTo>
                <a:lnTo>
                  <a:pt x="196" y="636"/>
                </a:lnTo>
                <a:lnTo>
                  <a:pt x="199" y="636"/>
                </a:lnTo>
                <a:lnTo>
                  <a:pt x="202" y="637"/>
                </a:lnTo>
                <a:lnTo>
                  <a:pt x="205" y="637"/>
                </a:lnTo>
                <a:lnTo>
                  <a:pt x="208" y="637"/>
                </a:lnTo>
                <a:lnTo>
                  <a:pt x="211" y="637"/>
                </a:lnTo>
                <a:lnTo>
                  <a:pt x="214" y="637"/>
                </a:lnTo>
                <a:lnTo>
                  <a:pt x="216" y="637"/>
                </a:lnTo>
                <a:lnTo>
                  <a:pt x="218" y="636"/>
                </a:lnTo>
                <a:lnTo>
                  <a:pt x="220" y="636"/>
                </a:lnTo>
                <a:lnTo>
                  <a:pt x="221" y="636"/>
                </a:lnTo>
                <a:lnTo>
                  <a:pt x="222" y="636"/>
                </a:lnTo>
                <a:lnTo>
                  <a:pt x="223" y="636"/>
                </a:lnTo>
                <a:lnTo>
                  <a:pt x="223" y="636"/>
                </a:lnTo>
                <a:lnTo>
                  <a:pt x="223" y="636"/>
                </a:lnTo>
                <a:lnTo>
                  <a:pt x="222" y="636"/>
                </a:lnTo>
                <a:lnTo>
                  <a:pt x="221" y="636"/>
                </a:lnTo>
                <a:lnTo>
                  <a:pt x="220" y="636"/>
                </a:lnTo>
                <a:lnTo>
                  <a:pt x="218" y="636"/>
                </a:lnTo>
                <a:lnTo>
                  <a:pt x="216" y="637"/>
                </a:lnTo>
                <a:lnTo>
                  <a:pt x="214" y="637"/>
                </a:lnTo>
                <a:lnTo>
                  <a:pt x="211" y="637"/>
                </a:lnTo>
                <a:lnTo>
                  <a:pt x="208" y="637"/>
                </a:lnTo>
                <a:lnTo>
                  <a:pt x="206" y="637"/>
                </a:lnTo>
                <a:lnTo>
                  <a:pt x="204" y="638"/>
                </a:lnTo>
                <a:lnTo>
                  <a:pt x="202" y="638"/>
                </a:lnTo>
                <a:lnTo>
                  <a:pt x="200" y="639"/>
                </a:lnTo>
                <a:lnTo>
                  <a:pt x="199" y="640"/>
                </a:lnTo>
                <a:lnTo>
                  <a:pt x="198" y="641"/>
                </a:lnTo>
                <a:lnTo>
                  <a:pt x="197" y="642"/>
                </a:lnTo>
                <a:lnTo>
                  <a:pt x="197" y="643"/>
                </a:lnTo>
                <a:lnTo>
                  <a:pt x="197" y="645"/>
                </a:lnTo>
                <a:lnTo>
                  <a:pt x="197" y="646"/>
                </a:lnTo>
                <a:lnTo>
                  <a:pt x="197" y="648"/>
                </a:lnTo>
                <a:lnTo>
                  <a:pt x="198" y="650"/>
                </a:lnTo>
                <a:lnTo>
                  <a:pt x="199" y="652"/>
                </a:lnTo>
                <a:lnTo>
                  <a:pt x="201" y="654"/>
                </a:lnTo>
                <a:lnTo>
                  <a:pt x="202" y="656"/>
                </a:lnTo>
                <a:lnTo>
                  <a:pt x="204" y="659"/>
                </a:lnTo>
                <a:lnTo>
                  <a:pt x="206" y="661"/>
                </a:lnTo>
                <a:lnTo>
                  <a:pt x="209" y="663"/>
                </a:lnTo>
                <a:lnTo>
                  <a:pt x="211" y="666"/>
                </a:lnTo>
                <a:lnTo>
                  <a:pt x="213" y="668"/>
                </a:lnTo>
                <a:lnTo>
                  <a:pt x="216" y="671"/>
                </a:lnTo>
                <a:lnTo>
                  <a:pt x="218" y="673"/>
                </a:lnTo>
                <a:lnTo>
                  <a:pt x="221" y="676"/>
                </a:lnTo>
                <a:lnTo>
                  <a:pt x="224" y="678"/>
                </a:lnTo>
                <a:lnTo>
                  <a:pt x="227" y="681"/>
                </a:lnTo>
                <a:lnTo>
                  <a:pt x="230" y="683"/>
                </a:lnTo>
                <a:lnTo>
                  <a:pt x="233" y="686"/>
                </a:lnTo>
                <a:lnTo>
                  <a:pt x="236" y="689"/>
                </a:lnTo>
                <a:lnTo>
                  <a:pt x="240" y="691"/>
                </a:lnTo>
                <a:lnTo>
                  <a:pt x="243" y="694"/>
                </a:lnTo>
                <a:lnTo>
                  <a:pt x="247" y="697"/>
                </a:lnTo>
                <a:lnTo>
                  <a:pt x="251" y="699"/>
                </a:lnTo>
                <a:lnTo>
                  <a:pt x="254" y="702"/>
                </a:lnTo>
                <a:lnTo>
                  <a:pt x="258" y="704"/>
                </a:lnTo>
                <a:lnTo>
                  <a:pt x="261" y="706"/>
                </a:lnTo>
                <a:lnTo>
                  <a:pt x="265" y="708"/>
                </a:lnTo>
                <a:lnTo>
                  <a:pt x="268" y="710"/>
                </a:lnTo>
                <a:lnTo>
                  <a:pt x="272" y="711"/>
                </a:lnTo>
                <a:lnTo>
                  <a:pt x="275" y="713"/>
                </a:lnTo>
                <a:lnTo>
                  <a:pt x="278" y="714"/>
                </a:lnTo>
                <a:lnTo>
                  <a:pt x="282" y="715"/>
                </a:lnTo>
                <a:lnTo>
                  <a:pt x="285" y="716"/>
                </a:lnTo>
                <a:lnTo>
                  <a:pt x="288" y="717"/>
                </a:lnTo>
                <a:lnTo>
                  <a:pt x="291" y="717"/>
                </a:lnTo>
                <a:lnTo>
                  <a:pt x="295" y="718"/>
                </a:lnTo>
                <a:lnTo>
                  <a:pt x="298" y="718"/>
                </a:lnTo>
                <a:lnTo>
                  <a:pt x="301" y="718"/>
                </a:lnTo>
                <a:lnTo>
                  <a:pt x="304" y="718"/>
                </a:lnTo>
                <a:lnTo>
                  <a:pt x="307" y="718"/>
                </a:lnTo>
                <a:lnTo>
                  <a:pt x="310" y="718"/>
                </a:lnTo>
                <a:lnTo>
                  <a:pt x="313" y="717"/>
                </a:lnTo>
                <a:lnTo>
                  <a:pt x="316" y="717"/>
                </a:lnTo>
                <a:lnTo>
                  <a:pt x="319" y="716"/>
                </a:lnTo>
                <a:lnTo>
                  <a:pt x="322" y="716"/>
                </a:lnTo>
                <a:lnTo>
                  <a:pt x="325" y="715"/>
                </a:lnTo>
                <a:lnTo>
                  <a:pt x="328" y="715"/>
                </a:lnTo>
                <a:lnTo>
                  <a:pt x="331" y="714"/>
                </a:lnTo>
                <a:lnTo>
                  <a:pt x="334" y="713"/>
                </a:lnTo>
                <a:lnTo>
                  <a:pt x="336" y="712"/>
                </a:lnTo>
                <a:lnTo>
                  <a:pt x="339" y="711"/>
                </a:lnTo>
                <a:lnTo>
                  <a:pt x="342" y="710"/>
                </a:lnTo>
                <a:lnTo>
                  <a:pt x="345" y="709"/>
                </a:lnTo>
                <a:lnTo>
                  <a:pt x="348" y="707"/>
                </a:lnTo>
                <a:lnTo>
                  <a:pt x="351" y="706"/>
                </a:lnTo>
                <a:lnTo>
                  <a:pt x="354" y="704"/>
                </a:lnTo>
                <a:lnTo>
                  <a:pt x="357" y="703"/>
                </a:lnTo>
                <a:lnTo>
                  <a:pt x="359" y="701"/>
                </a:lnTo>
                <a:lnTo>
                  <a:pt x="362" y="699"/>
                </a:lnTo>
                <a:lnTo>
                  <a:pt x="365" y="697"/>
                </a:lnTo>
                <a:lnTo>
                  <a:pt x="367" y="696"/>
                </a:lnTo>
                <a:lnTo>
                  <a:pt x="370" y="693"/>
                </a:lnTo>
                <a:lnTo>
                  <a:pt x="372" y="691"/>
                </a:lnTo>
                <a:lnTo>
                  <a:pt x="375" y="689"/>
                </a:lnTo>
                <a:lnTo>
                  <a:pt x="377" y="687"/>
                </a:lnTo>
                <a:lnTo>
                  <a:pt x="379" y="684"/>
                </a:lnTo>
                <a:lnTo>
                  <a:pt x="382" y="682"/>
                </a:lnTo>
                <a:lnTo>
                  <a:pt x="384" y="679"/>
                </a:lnTo>
                <a:lnTo>
                  <a:pt x="386" y="676"/>
                </a:lnTo>
                <a:lnTo>
                  <a:pt x="388" y="673"/>
                </a:lnTo>
                <a:lnTo>
                  <a:pt x="390" y="670"/>
                </a:lnTo>
                <a:lnTo>
                  <a:pt x="392" y="668"/>
                </a:lnTo>
                <a:lnTo>
                  <a:pt x="393" y="665"/>
                </a:lnTo>
                <a:lnTo>
                  <a:pt x="394" y="662"/>
                </a:lnTo>
                <a:lnTo>
                  <a:pt x="395" y="660"/>
                </a:lnTo>
                <a:lnTo>
                  <a:pt x="396" y="657"/>
                </a:lnTo>
                <a:lnTo>
                  <a:pt x="396" y="655"/>
                </a:lnTo>
                <a:lnTo>
                  <a:pt x="396" y="652"/>
                </a:lnTo>
                <a:lnTo>
                  <a:pt x="396" y="650"/>
                </a:lnTo>
                <a:lnTo>
                  <a:pt x="396" y="647"/>
                </a:lnTo>
                <a:lnTo>
                  <a:pt x="395" y="645"/>
                </a:lnTo>
                <a:lnTo>
                  <a:pt x="394" y="643"/>
                </a:lnTo>
                <a:lnTo>
                  <a:pt x="393" y="641"/>
                </a:lnTo>
                <a:lnTo>
                  <a:pt x="392" y="639"/>
                </a:lnTo>
                <a:lnTo>
                  <a:pt x="390" y="637"/>
                </a:lnTo>
                <a:lnTo>
                  <a:pt x="388" y="635"/>
                </a:lnTo>
                <a:lnTo>
                  <a:pt x="386" y="633"/>
                </a:lnTo>
                <a:lnTo>
                  <a:pt x="384" y="632"/>
                </a:lnTo>
                <a:lnTo>
                  <a:pt x="383" y="630"/>
                </a:lnTo>
                <a:lnTo>
                  <a:pt x="382" y="629"/>
                </a:lnTo>
                <a:lnTo>
                  <a:pt x="381" y="628"/>
                </a:lnTo>
                <a:lnTo>
                  <a:pt x="380" y="628"/>
                </a:lnTo>
                <a:lnTo>
                  <a:pt x="380" y="627"/>
                </a:lnTo>
                <a:lnTo>
                  <a:pt x="380" y="627"/>
                </a:lnTo>
                <a:lnTo>
                  <a:pt x="380" y="627"/>
                </a:lnTo>
                <a:lnTo>
                  <a:pt x="380" y="628"/>
                </a:lnTo>
                <a:lnTo>
                  <a:pt x="381" y="628"/>
                </a:lnTo>
                <a:lnTo>
                  <a:pt x="382" y="629"/>
                </a:lnTo>
                <a:lnTo>
                  <a:pt x="383" y="630"/>
                </a:lnTo>
                <a:lnTo>
                  <a:pt x="384" y="632"/>
                </a:lnTo>
                <a:lnTo>
                  <a:pt x="386" y="633"/>
                </a:lnTo>
                <a:lnTo>
                  <a:pt x="388" y="635"/>
                </a:lnTo>
                <a:lnTo>
                  <a:pt x="390" y="637"/>
                </a:lnTo>
                <a:lnTo>
                  <a:pt x="392" y="639"/>
                </a:lnTo>
                <a:lnTo>
                  <a:pt x="394" y="641"/>
                </a:lnTo>
                <a:lnTo>
                  <a:pt x="397" y="643"/>
                </a:lnTo>
                <a:lnTo>
                  <a:pt x="399" y="645"/>
                </a:lnTo>
                <a:lnTo>
                  <a:pt x="402" y="647"/>
                </a:lnTo>
                <a:lnTo>
                  <a:pt x="404" y="649"/>
                </a:lnTo>
                <a:lnTo>
                  <a:pt x="407" y="651"/>
                </a:lnTo>
                <a:lnTo>
                  <a:pt x="410" y="653"/>
                </a:lnTo>
                <a:lnTo>
                  <a:pt x="413" y="655"/>
                </a:lnTo>
                <a:lnTo>
                  <a:pt x="416" y="657"/>
                </a:lnTo>
                <a:lnTo>
                  <a:pt x="419" y="659"/>
                </a:lnTo>
                <a:lnTo>
                  <a:pt x="422" y="661"/>
                </a:lnTo>
                <a:lnTo>
                  <a:pt x="425" y="664"/>
                </a:lnTo>
                <a:lnTo>
                  <a:pt x="428" y="666"/>
                </a:lnTo>
                <a:lnTo>
                  <a:pt x="432" y="668"/>
                </a:lnTo>
                <a:lnTo>
                  <a:pt x="435" y="670"/>
                </a:lnTo>
                <a:lnTo>
                  <a:pt x="439" y="672"/>
                </a:lnTo>
                <a:lnTo>
                  <a:pt x="442" y="674"/>
                </a:lnTo>
                <a:lnTo>
                  <a:pt x="446" y="676"/>
                </a:lnTo>
                <a:lnTo>
                  <a:pt x="450" y="678"/>
                </a:lnTo>
                <a:lnTo>
                  <a:pt x="454" y="680"/>
                </a:lnTo>
                <a:lnTo>
                  <a:pt x="458" y="682"/>
                </a:lnTo>
                <a:lnTo>
                  <a:pt x="462" y="684"/>
                </a:lnTo>
                <a:lnTo>
                  <a:pt x="467" y="686"/>
                </a:lnTo>
                <a:lnTo>
                  <a:pt x="471" y="688"/>
                </a:lnTo>
                <a:lnTo>
                  <a:pt x="476" y="689"/>
                </a:lnTo>
                <a:lnTo>
                  <a:pt x="480" y="691"/>
                </a:lnTo>
                <a:lnTo>
                  <a:pt x="485" y="692"/>
                </a:lnTo>
                <a:lnTo>
                  <a:pt x="490" y="694"/>
                </a:lnTo>
                <a:lnTo>
                  <a:pt x="495" y="695"/>
                </a:lnTo>
                <a:lnTo>
                  <a:pt x="500" y="697"/>
                </a:lnTo>
                <a:lnTo>
                  <a:pt x="505" y="698"/>
                </a:lnTo>
                <a:lnTo>
                  <a:pt x="510" y="699"/>
                </a:lnTo>
                <a:lnTo>
                  <a:pt x="515" y="700"/>
                </a:lnTo>
                <a:lnTo>
                  <a:pt x="520" y="701"/>
                </a:lnTo>
                <a:lnTo>
                  <a:pt x="525" y="702"/>
                </a:lnTo>
                <a:lnTo>
                  <a:pt x="529" y="702"/>
                </a:lnTo>
                <a:lnTo>
                  <a:pt x="534" y="703"/>
                </a:lnTo>
                <a:lnTo>
                  <a:pt x="538" y="703"/>
                </a:lnTo>
                <a:lnTo>
                  <a:pt x="542" y="704"/>
                </a:lnTo>
                <a:lnTo>
                  <a:pt x="546" y="704"/>
                </a:lnTo>
                <a:lnTo>
                  <a:pt x="550" y="704"/>
                </a:lnTo>
                <a:lnTo>
                  <a:pt x="554" y="704"/>
                </a:lnTo>
                <a:lnTo>
                  <a:pt x="558" y="704"/>
                </a:lnTo>
                <a:lnTo>
                  <a:pt x="562" y="704"/>
                </a:lnTo>
                <a:lnTo>
                  <a:pt x="565" y="703"/>
                </a:lnTo>
                <a:lnTo>
                  <a:pt x="569" y="703"/>
                </a:lnTo>
                <a:lnTo>
                  <a:pt x="572" y="702"/>
                </a:lnTo>
                <a:lnTo>
                  <a:pt x="576" y="701"/>
                </a:lnTo>
                <a:lnTo>
                  <a:pt x="579" y="700"/>
                </a:lnTo>
                <a:lnTo>
                  <a:pt x="582" y="699"/>
                </a:lnTo>
                <a:lnTo>
                  <a:pt x="586" y="698"/>
                </a:lnTo>
                <a:lnTo>
                  <a:pt x="589" y="696"/>
                </a:lnTo>
                <a:lnTo>
                  <a:pt x="592" y="695"/>
                </a:lnTo>
                <a:lnTo>
                  <a:pt x="595" y="693"/>
                </a:lnTo>
                <a:lnTo>
                  <a:pt x="599" y="691"/>
                </a:lnTo>
                <a:lnTo>
                  <a:pt x="602" y="689"/>
                </a:lnTo>
                <a:lnTo>
                  <a:pt x="605" y="686"/>
                </a:lnTo>
                <a:lnTo>
                  <a:pt x="608" y="684"/>
                </a:lnTo>
                <a:lnTo>
                  <a:pt x="612" y="681"/>
                </a:lnTo>
                <a:lnTo>
                  <a:pt x="615" y="678"/>
                </a:lnTo>
                <a:lnTo>
                  <a:pt x="618" y="675"/>
                </a:lnTo>
                <a:lnTo>
                  <a:pt x="621" y="672"/>
                </a:lnTo>
                <a:lnTo>
                  <a:pt x="624" y="668"/>
                </a:lnTo>
                <a:lnTo>
                  <a:pt x="626" y="666"/>
                </a:lnTo>
                <a:lnTo>
                  <a:pt x="629" y="663"/>
                </a:lnTo>
                <a:lnTo>
                  <a:pt x="630" y="661"/>
                </a:lnTo>
                <a:lnTo>
                  <a:pt x="632" y="660"/>
                </a:lnTo>
                <a:lnTo>
                  <a:pt x="633" y="659"/>
                </a:lnTo>
                <a:lnTo>
                  <a:pt x="633" y="658"/>
                </a:lnTo>
                <a:lnTo>
                  <a:pt x="633" y="658"/>
                </a:lnTo>
                <a:lnTo>
                  <a:pt x="633" y="658"/>
                </a:lnTo>
                <a:lnTo>
                  <a:pt x="633" y="659"/>
                </a:lnTo>
                <a:lnTo>
                  <a:pt x="632" y="660"/>
                </a:lnTo>
                <a:lnTo>
                  <a:pt x="630" y="661"/>
                </a:lnTo>
                <a:lnTo>
                  <a:pt x="629" y="663"/>
                </a:lnTo>
                <a:lnTo>
                  <a:pt x="626" y="666"/>
                </a:lnTo>
                <a:lnTo>
                  <a:pt x="624" y="668"/>
                </a:lnTo>
                <a:lnTo>
                  <a:pt x="621" y="672"/>
                </a:lnTo>
                <a:lnTo>
                  <a:pt x="618" y="675"/>
                </a:lnTo>
                <a:lnTo>
                  <a:pt x="616" y="678"/>
                </a:lnTo>
                <a:lnTo>
                  <a:pt x="614" y="681"/>
                </a:lnTo>
                <a:lnTo>
                  <a:pt x="613" y="683"/>
                </a:lnTo>
                <a:lnTo>
                  <a:pt x="612" y="686"/>
                </a:lnTo>
                <a:lnTo>
                  <a:pt x="612" y="688"/>
                </a:lnTo>
                <a:lnTo>
                  <a:pt x="612" y="691"/>
                </a:lnTo>
                <a:lnTo>
                  <a:pt x="613" y="693"/>
                </a:lnTo>
                <a:lnTo>
                  <a:pt x="614" y="694"/>
                </a:lnTo>
                <a:lnTo>
                  <a:pt x="616" y="696"/>
                </a:lnTo>
                <a:lnTo>
                  <a:pt x="618" y="697"/>
                </a:lnTo>
                <a:lnTo>
                  <a:pt x="621" y="699"/>
                </a:lnTo>
                <a:lnTo>
                  <a:pt x="624" y="700"/>
                </a:lnTo>
                <a:lnTo>
                  <a:pt x="628" y="701"/>
                </a:lnTo>
                <a:lnTo>
                  <a:pt x="632" y="701"/>
                </a:lnTo>
                <a:lnTo>
                  <a:pt x="637" y="702"/>
                </a:lnTo>
                <a:lnTo>
                  <a:pt x="643" y="702"/>
                </a:lnTo>
                <a:lnTo>
                  <a:pt x="648" y="703"/>
                </a:lnTo>
                <a:lnTo>
                  <a:pt x="653" y="703"/>
                </a:lnTo>
                <a:lnTo>
                  <a:pt x="658" y="703"/>
                </a:lnTo>
                <a:lnTo>
                  <a:pt x="663" y="703"/>
                </a:lnTo>
                <a:lnTo>
                  <a:pt x="668" y="703"/>
                </a:lnTo>
                <a:lnTo>
                  <a:pt x="673" y="703"/>
                </a:lnTo>
                <a:lnTo>
                  <a:pt x="678" y="703"/>
                </a:lnTo>
                <a:lnTo>
                  <a:pt x="683" y="703"/>
                </a:lnTo>
                <a:lnTo>
                  <a:pt x="688" y="703"/>
                </a:lnTo>
                <a:lnTo>
                  <a:pt x="693" y="702"/>
                </a:lnTo>
                <a:lnTo>
                  <a:pt x="698" y="702"/>
                </a:lnTo>
                <a:lnTo>
                  <a:pt x="702" y="701"/>
                </a:lnTo>
                <a:lnTo>
                  <a:pt x="707" y="701"/>
                </a:lnTo>
                <a:lnTo>
                  <a:pt x="712" y="700"/>
                </a:lnTo>
                <a:lnTo>
                  <a:pt x="717" y="699"/>
                </a:lnTo>
                <a:lnTo>
                  <a:pt x="722" y="698"/>
                </a:lnTo>
                <a:lnTo>
                  <a:pt x="726" y="697"/>
                </a:lnTo>
                <a:lnTo>
                  <a:pt x="731" y="696"/>
                </a:lnTo>
                <a:lnTo>
                  <a:pt x="736" y="695"/>
                </a:lnTo>
                <a:lnTo>
                  <a:pt x="740" y="694"/>
                </a:lnTo>
                <a:lnTo>
                  <a:pt x="745" y="693"/>
                </a:lnTo>
                <a:lnTo>
                  <a:pt x="749" y="692"/>
                </a:lnTo>
                <a:lnTo>
                  <a:pt x="754" y="690"/>
                </a:lnTo>
                <a:lnTo>
                  <a:pt x="758" y="689"/>
                </a:lnTo>
                <a:lnTo>
                  <a:pt x="762" y="687"/>
                </a:lnTo>
                <a:lnTo>
                  <a:pt x="767" y="685"/>
                </a:lnTo>
                <a:lnTo>
                  <a:pt x="771" y="683"/>
                </a:lnTo>
                <a:lnTo>
                  <a:pt x="775" y="681"/>
                </a:lnTo>
                <a:lnTo>
                  <a:pt x="780" y="679"/>
                </a:lnTo>
                <a:lnTo>
                  <a:pt x="784" y="677"/>
                </a:lnTo>
                <a:lnTo>
                  <a:pt x="788" y="675"/>
                </a:lnTo>
                <a:lnTo>
                  <a:pt x="792" y="673"/>
                </a:lnTo>
                <a:lnTo>
                  <a:pt x="796" y="671"/>
                </a:lnTo>
                <a:lnTo>
                  <a:pt x="800" y="668"/>
                </a:lnTo>
                <a:lnTo>
                  <a:pt x="803" y="666"/>
                </a:lnTo>
                <a:lnTo>
                  <a:pt x="807" y="663"/>
                </a:lnTo>
                <a:lnTo>
                  <a:pt x="810" y="660"/>
                </a:lnTo>
                <a:lnTo>
                  <a:pt x="813" y="658"/>
                </a:lnTo>
                <a:lnTo>
                  <a:pt x="817" y="655"/>
                </a:lnTo>
                <a:lnTo>
                  <a:pt x="820" y="652"/>
                </a:lnTo>
                <a:lnTo>
                  <a:pt x="823" y="649"/>
                </a:lnTo>
                <a:lnTo>
                  <a:pt x="825" y="646"/>
                </a:lnTo>
                <a:lnTo>
                  <a:pt x="828" y="643"/>
                </a:lnTo>
                <a:lnTo>
                  <a:pt x="831" y="640"/>
                </a:lnTo>
                <a:lnTo>
                  <a:pt x="833" y="636"/>
                </a:lnTo>
                <a:lnTo>
                  <a:pt x="835" y="633"/>
                </a:lnTo>
                <a:lnTo>
                  <a:pt x="838" y="630"/>
                </a:lnTo>
                <a:lnTo>
                  <a:pt x="840" y="626"/>
                </a:lnTo>
                <a:lnTo>
                  <a:pt x="842" y="623"/>
                </a:lnTo>
                <a:lnTo>
                  <a:pt x="844" y="620"/>
                </a:lnTo>
                <a:lnTo>
                  <a:pt x="845" y="616"/>
                </a:lnTo>
                <a:lnTo>
                  <a:pt x="847" y="613"/>
                </a:lnTo>
                <a:lnTo>
                  <a:pt x="848" y="610"/>
                </a:lnTo>
                <a:lnTo>
                  <a:pt x="850" y="607"/>
                </a:lnTo>
                <a:lnTo>
                  <a:pt x="851" y="605"/>
                </a:lnTo>
                <a:lnTo>
                  <a:pt x="852" y="602"/>
                </a:lnTo>
                <a:lnTo>
                  <a:pt x="853" y="599"/>
                </a:lnTo>
                <a:lnTo>
                  <a:pt x="854" y="597"/>
                </a:lnTo>
                <a:lnTo>
                  <a:pt x="854" y="594"/>
                </a:lnTo>
                <a:lnTo>
                  <a:pt x="855" y="592"/>
                </a:lnTo>
                <a:lnTo>
                  <a:pt x="855" y="589"/>
                </a:lnTo>
                <a:lnTo>
                  <a:pt x="855" y="587"/>
                </a:lnTo>
                <a:lnTo>
                  <a:pt x="856" y="585"/>
                </a:lnTo>
                <a:lnTo>
                  <a:pt x="856" y="583"/>
                </a:lnTo>
                <a:lnTo>
                  <a:pt x="856" y="581"/>
                </a:lnTo>
                <a:lnTo>
                  <a:pt x="856" y="580"/>
                </a:lnTo>
                <a:lnTo>
                  <a:pt x="856" y="579"/>
                </a:lnTo>
                <a:lnTo>
                  <a:pt x="856" y="578"/>
                </a:lnTo>
                <a:lnTo>
                  <a:pt x="856" y="577"/>
                </a:lnTo>
                <a:lnTo>
                  <a:pt x="856" y="577"/>
                </a:lnTo>
                <a:lnTo>
                  <a:pt x="856" y="576"/>
                </a:lnTo>
                <a:lnTo>
                  <a:pt x="856" y="577"/>
                </a:lnTo>
                <a:lnTo>
                  <a:pt x="856" y="577"/>
                </a:lnTo>
                <a:lnTo>
                  <a:pt x="856" y="578"/>
                </a:lnTo>
                <a:lnTo>
                  <a:pt x="856" y="579"/>
                </a:lnTo>
                <a:lnTo>
                  <a:pt x="856" y="580"/>
                </a:lnTo>
                <a:lnTo>
                  <a:pt x="856" y="581"/>
                </a:lnTo>
                <a:lnTo>
                  <a:pt x="856" y="583"/>
                </a:lnTo>
                <a:lnTo>
                  <a:pt x="856" y="585"/>
                </a:lnTo>
                <a:lnTo>
                  <a:pt x="856" y="587"/>
                </a:lnTo>
                <a:lnTo>
                  <a:pt x="856" y="589"/>
                </a:lnTo>
                <a:lnTo>
                  <a:pt x="856" y="591"/>
                </a:lnTo>
                <a:lnTo>
                  <a:pt x="856" y="594"/>
                </a:lnTo>
                <a:lnTo>
                  <a:pt x="857" y="596"/>
                </a:lnTo>
                <a:lnTo>
                  <a:pt x="858" y="598"/>
                </a:lnTo>
                <a:lnTo>
                  <a:pt x="859" y="600"/>
                </a:lnTo>
                <a:lnTo>
                  <a:pt x="860" y="603"/>
                </a:lnTo>
                <a:lnTo>
                  <a:pt x="861" y="605"/>
                </a:lnTo>
                <a:lnTo>
                  <a:pt x="863" y="607"/>
                </a:lnTo>
                <a:lnTo>
                  <a:pt x="864" y="610"/>
                </a:lnTo>
                <a:lnTo>
                  <a:pt x="866" y="612"/>
                </a:lnTo>
                <a:lnTo>
                  <a:pt x="868" y="614"/>
                </a:lnTo>
                <a:lnTo>
                  <a:pt x="870" y="617"/>
                </a:lnTo>
                <a:lnTo>
                  <a:pt x="872" y="619"/>
                </a:lnTo>
                <a:lnTo>
                  <a:pt x="874" y="622"/>
                </a:lnTo>
                <a:lnTo>
                  <a:pt x="877" y="624"/>
                </a:lnTo>
                <a:lnTo>
                  <a:pt x="879" y="626"/>
                </a:lnTo>
                <a:lnTo>
                  <a:pt x="882" y="628"/>
                </a:lnTo>
                <a:lnTo>
                  <a:pt x="885" y="631"/>
                </a:lnTo>
                <a:lnTo>
                  <a:pt x="888" y="632"/>
                </a:lnTo>
                <a:lnTo>
                  <a:pt x="891" y="634"/>
                </a:lnTo>
                <a:lnTo>
                  <a:pt x="894" y="636"/>
                </a:lnTo>
                <a:lnTo>
                  <a:pt x="897" y="638"/>
                </a:lnTo>
                <a:lnTo>
                  <a:pt x="900" y="639"/>
                </a:lnTo>
                <a:lnTo>
                  <a:pt x="904" y="641"/>
                </a:lnTo>
                <a:lnTo>
                  <a:pt x="907" y="642"/>
                </a:lnTo>
                <a:lnTo>
                  <a:pt x="911" y="643"/>
                </a:lnTo>
                <a:lnTo>
                  <a:pt x="915" y="645"/>
                </a:lnTo>
                <a:lnTo>
                  <a:pt x="919" y="646"/>
                </a:lnTo>
                <a:lnTo>
                  <a:pt x="922" y="647"/>
                </a:lnTo>
                <a:lnTo>
                  <a:pt x="927" y="647"/>
                </a:lnTo>
                <a:lnTo>
                  <a:pt x="931" y="648"/>
                </a:lnTo>
                <a:lnTo>
                  <a:pt x="935" y="649"/>
                </a:lnTo>
                <a:lnTo>
                  <a:pt x="938" y="649"/>
                </a:lnTo>
                <a:lnTo>
                  <a:pt x="942" y="650"/>
                </a:lnTo>
                <a:lnTo>
                  <a:pt x="946" y="650"/>
                </a:lnTo>
                <a:lnTo>
                  <a:pt x="950" y="650"/>
                </a:lnTo>
                <a:lnTo>
                  <a:pt x="953" y="650"/>
                </a:lnTo>
                <a:lnTo>
                  <a:pt x="957" y="650"/>
                </a:lnTo>
                <a:lnTo>
                  <a:pt x="960" y="650"/>
                </a:lnTo>
                <a:lnTo>
                  <a:pt x="964" y="650"/>
                </a:lnTo>
                <a:lnTo>
                  <a:pt x="967" y="649"/>
                </a:lnTo>
                <a:lnTo>
                  <a:pt x="970" y="649"/>
                </a:lnTo>
                <a:lnTo>
                  <a:pt x="974" y="648"/>
                </a:lnTo>
                <a:lnTo>
                  <a:pt x="977" y="647"/>
                </a:lnTo>
                <a:lnTo>
                  <a:pt x="980" y="647"/>
                </a:lnTo>
                <a:lnTo>
                  <a:pt x="983" y="646"/>
                </a:lnTo>
                <a:lnTo>
                  <a:pt x="986" y="645"/>
                </a:lnTo>
                <a:lnTo>
                  <a:pt x="988" y="643"/>
                </a:lnTo>
                <a:lnTo>
                  <a:pt x="991" y="642"/>
                </a:lnTo>
                <a:lnTo>
                  <a:pt x="994" y="641"/>
                </a:lnTo>
                <a:lnTo>
                  <a:pt x="997" y="640"/>
                </a:lnTo>
                <a:lnTo>
                  <a:pt x="999" y="638"/>
                </a:lnTo>
                <a:lnTo>
                  <a:pt x="1002" y="637"/>
                </a:lnTo>
                <a:lnTo>
                  <a:pt x="1004" y="635"/>
                </a:lnTo>
                <a:lnTo>
                  <a:pt x="1007" y="634"/>
                </a:lnTo>
                <a:lnTo>
                  <a:pt x="1009" y="632"/>
                </a:lnTo>
                <a:lnTo>
                  <a:pt x="1012" y="630"/>
                </a:lnTo>
                <a:lnTo>
                  <a:pt x="1014" y="629"/>
                </a:lnTo>
                <a:lnTo>
                  <a:pt x="1017" y="627"/>
                </a:lnTo>
                <a:lnTo>
                  <a:pt x="1019" y="625"/>
                </a:lnTo>
                <a:lnTo>
                  <a:pt x="1021" y="623"/>
                </a:lnTo>
                <a:lnTo>
                  <a:pt x="1023" y="621"/>
                </a:lnTo>
                <a:lnTo>
                  <a:pt x="1025" y="619"/>
                </a:lnTo>
                <a:lnTo>
                  <a:pt x="1027" y="616"/>
                </a:lnTo>
                <a:lnTo>
                  <a:pt x="1029" y="614"/>
                </a:lnTo>
                <a:lnTo>
                  <a:pt x="1031" y="612"/>
                </a:lnTo>
                <a:lnTo>
                  <a:pt x="1033" y="610"/>
                </a:lnTo>
                <a:lnTo>
                  <a:pt x="1035" y="608"/>
                </a:lnTo>
                <a:lnTo>
                  <a:pt x="1037" y="606"/>
                </a:lnTo>
                <a:lnTo>
                  <a:pt x="1039" y="604"/>
                </a:lnTo>
                <a:lnTo>
                  <a:pt x="1041" y="602"/>
                </a:lnTo>
                <a:lnTo>
                  <a:pt x="1043" y="600"/>
                </a:lnTo>
                <a:lnTo>
                  <a:pt x="1045" y="599"/>
                </a:lnTo>
                <a:lnTo>
                  <a:pt x="1046" y="597"/>
                </a:lnTo>
                <a:lnTo>
                  <a:pt x="1048" y="595"/>
                </a:lnTo>
                <a:lnTo>
                  <a:pt x="1050" y="593"/>
                </a:lnTo>
                <a:lnTo>
                  <a:pt x="1051" y="591"/>
                </a:lnTo>
                <a:lnTo>
                  <a:pt x="1053" y="589"/>
                </a:lnTo>
                <a:lnTo>
                  <a:pt x="1054" y="588"/>
                </a:lnTo>
                <a:lnTo>
                  <a:pt x="1055" y="586"/>
                </a:lnTo>
                <a:lnTo>
                  <a:pt x="1056" y="585"/>
                </a:lnTo>
                <a:lnTo>
                  <a:pt x="1057" y="584"/>
                </a:lnTo>
                <a:lnTo>
                  <a:pt x="1057" y="583"/>
                </a:lnTo>
                <a:lnTo>
                  <a:pt x="1057" y="582"/>
                </a:lnTo>
                <a:lnTo>
                  <a:pt x="1057" y="582"/>
                </a:lnTo>
                <a:lnTo>
                  <a:pt x="1057" y="581"/>
                </a:lnTo>
                <a:lnTo>
                  <a:pt x="1056" y="581"/>
                </a:lnTo>
                <a:lnTo>
                  <a:pt x="1055" y="581"/>
                </a:lnTo>
                <a:lnTo>
                  <a:pt x="1054" y="582"/>
                </a:lnTo>
                <a:lnTo>
                  <a:pt x="1053" y="582"/>
                </a:lnTo>
                <a:lnTo>
                  <a:pt x="1051" y="583"/>
                </a:lnTo>
                <a:lnTo>
                  <a:pt x="1049" y="584"/>
                </a:lnTo>
                <a:lnTo>
                  <a:pt x="1047" y="585"/>
                </a:lnTo>
                <a:lnTo>
                  <a:pt x="1044" y="586"/>
                </a:lnTo>
                <a:lnTo>
                  <a:pt x="1042" y="587"/>
                </a:lnTo>
                <a:lnTo>
                  <a:pt x="1039" y="588"/>
                </a:lnTo>
                <a:lnTo>
                  <a:pt x="1036" y="589"/>
                </a:lnTo>
                <a:lnTo>
                  <a:pt x="1034" y="590"/>
                </a:lnTo>
                <a:lnTo>
                  <a:pt x="1031" y="591"/>
                </a:lnTo>
                <a:lnTo>
                  <a:pt x="1028" y="592"/>
                </a:lnTo>
                <a:lnTo>
                  <a:pt x="1025" y="593"/>
                </a:lnTo>
                <a:lnTo>
                  <a:pt x="1023" y="593"/>
                </a:lnTo>
                <a:lnTo>
                  <a:pt x="1020" y="594"/>
                </a:lnTo>
                <a:lnTo>
                  <a:pt x="1017" y="594"/>
                </a:lnTo>
                <a:lnTo>
                  <a:pt x="1014" y="595"/>
                </a:lnTo>
                <a:lnTo>
                  <a:pt x="1011" y="595"/>
                </a:lnTo>
                <a:lnTo>
                  <a:pt x="1008" y="595"/>
                </a:lnTo>
                <a:lnTo>
                  <a:pt x="1006" y="595"/>
                </a:lnTo>
                <a:lnTo>
                  <a:pt x="1003" y="595"/>
                </a:lnTo>
                <a:lnTo>
                  <a:pt x="1000" y="595"/>
                </a:lnTo>
                <a:lnTo>
                  <a:pt x="997" y="595"/>
                </a:lnTo>
                <a:lnTo>
                  <a:pt x="995" y="594"/>
                </a:lnTo>
                <a:lnTo>
                  <a:pt x="993" y="594"/>
                </a:lnTo>
                <a:lnTo>
                  <a:pt x="991" y="594"/>
                </a:lnTo>
                <a:lnTo>
                  <a:pt x="990" y="594"/>
                </a:lnTo>
                <a:lnTo>
                  <a:pt x="989" y="594"/>
                </a:lnTo>
                <a:lnTo>
                  <a:pt x="988" y="594"/>
                </a:lnTo>
                <a:lnTo>
                  <a:pt x="988" y="594"/>
                </a:lnTo>
                <a:lnTo>
                  <a:pt x="988" y="594"/>
                </a:lnTo>
                <a:lnTo>
                  <a:pt x="989" y="594"/>
                </a:lnTo>
                <a:lnTo>
                  <a:pt x="990" y="594"/>
                </a:lnTo>
                <a:lnTo>
                  <a:pt x="991" y="594"/>
                </a:lnTo>
                <a:lnTo>
                  <a:pt x="993" y="594"/>
                </a:lnTo>
                <a:lnTo>
                  <a:pt x="995" y="594"/>
                </a:lnTo>
                <a:lnTo>
                  <a:pt x="997" y="595"/>
                </a:lnTo>
                <a:lnTo>
                  <a:pt x="1000" y="595"/>
                </a:lnTo>
                <a:lnTo>
                  <a:pt x="1003" y="595"/>
                </a:lnTo>
                <a:lnTo>
                  <a:pt x="1006" y="595"/>
                </a:lnTo>
                <a:lnTo>
                  <a:pt x="1008" y="595"/>
                </a:lnTo>
                <a:lnTo>
                  <a:pt x="1011" y="595"/>
                </a:lnTo>
                <a:lnTo>
                  <a:pt x="1014" y="595"/>
                </a:lnTo>
                <a:lnTo>
                  <a:pt x="1017" y="594"/>
                </a:lnTo>
                <a:lnTo>
                  <a:pt x="1020" y="594"/>
                </a:lnTo>
                <a:lnTo>
                  <a:pt x="1023" y="593"/>
                </a:lnTo>
                <a:lnTo>
                  <a:pt x="1025" y="593"/>
                </a:lnTo>
                <a:lnTo>
                  <a:pt x="1028" y="592"/>
                </a:lnTo>
                <a:lnTo>
                  <a:pt x="1031" y="591"/>
                </a:lnTo>
                <a:lnTo>
                  <a:pt x="1034" y="590"/>
                </a:lnTo>
                <a:lnTo>
                  <a:pt x="1036" y="589"/>
                </a:lnTo>
                <a:lnTo>
                  <a:pt x="1039" y="588"/>
                </a:lnTo>
                <a:lnTo>
                  <a:pt x="1042" y="587"/>
                </a:lnTo>
                <a:lnTo>
                  <a:pt x="1044" y="586"/>
                </a:lnTo>
                <a:lnTo>
                  <a:pt x="1047" y="584"/>
                </a:lnTo>
                <a:lnTo>
                  <a:pt x="1049" y="583"/>
                </a:lnTo>
                <a:lnTo>
                  <a:pt x="1052" y="582"/>
                </a:lnTo>
                <a:lnTo>
                  <a:pt x="1055" y="580"/>
                </a:lnTo>
                <a:lnTo>
                  <a:pt x="1057" y="579"/>
                </a:lnTo>
                <a:lnTo>
                  <a:pt x="1060" y="577"/>
                </a:lnTo>
                <a:lnTo>
                  <a:pt x="1062" y="576"/>
                </a:lnTo>
                <a:lnTo>
                  <a:pt x="1065" y="574"/>
                </a:lnTo>
                <a:lnTo>
                  <a:pt x="1068" y="573"/>
                </a:lnTo>
                <a:lnTo>
                  <a:pt x="1070" y="571"/>
                </a:lnTo>
                <a:lnTo>
                  <a:pt x="1073" y="570"/>
                </a:lnTo>
                <a:lnTo>
                  <a:pt x="1075" y="568"/>
                </a:lnTo>
                <a:lnTo>
                  <a:pt x="1078" y="567"/>
                </a:lnTo>
                <a:lnTo>
                  <a:pt x="1080" y="565"/>
                </a:lnTo>
                <a:lnTo>
                  <a:pt x="1083" y="563"/>
                </a:lnTo>
                <a:lnTo>
                  <a:pt x="1086" y="562"/>
                </a:lnTo>
                <a:lnTo>
                  <a:pt x="1088" y="560"/>
                </a:lnTo>
                <a:lnTo>
                  <a:pt x="1091" y="558"/>
                </a:lnTo>
                <a:lnTo>
                  <a:pt x="1093" y="556"/>
                </a:lnTo>
                <a:lnTo>
                  <a:pt x="1096" y="553"/>
                </a:lnTo>
                <a:lnTo>
                  <a:pt x="1098" y="551"/>
                </a:lnTo>
                <a:lnTo>
                  <a:pt x="1101" y="548"/>
                </a:lnTo>
                <a:lnTo>
                  <a:pt x="1103" y="545"/>
                </a:lnTo>
                <a:lnTo>
                  <a:pt x="1105" y="541"/>
                </a:lnTo>
                <a:lnTo>
                  <a:pt x="1108" y="538"/>
                </a:lnTo>
                <a:lnTo>
                  <a:pt x="1110" y="534"/>
                </a:lnTo>
                <a:lnTo>
                  <a:pt x="1113" y="530"/>
                </a:lnTo>
                <a:lnTo>
                  <a:pt x="1115" y="526"/>
                </a:lnTo>
                <a:lnTo>
                  <a:pt x="1117" y="522"/>
                </a:lnTo>
                <a:lnTo>
                  <a:pt x="1120" y="517"/>
                </a:lnTo>
                <a:lnTo>
                  <a:pt x="1122" y="512"/>
                </a:lnTo>
                <a:lnTo>
                  <a:pt x="1124" y="507"/>
                </a:lnTo>
                <a:lnTo>
                  <a:pt x="1127" y="502"/>
                </a:lnTo>
                <a:lnTo>
                  <a:pt x="1129" y="497"/>
                </a:lnTo>
                <a:lnTo>
                  <a:pt x="1131" y="491"/>
                </a:lnTo>
                <a:lnTo>
                  <a:pt x="1133" y="486"/>
                </a:lnTo>
                <a:lnTo>
                  <a:pt x="1135" y="481"/>
                </a:lnTo>
                <a:lnTo>
                  <a:pt x="1136" y="475"/>
                </a:lnTo>
                <a:lnTo>
                  <a:pt x="1138" y="469"/>
                </a:lnTo>
                <a:lnTo>
                  <a:pt x="1140" y="464"/>
                </a:lnTo>
                <a:lnTo>
                  <a:pt x="1141" y="458"/>
                </a:lnTo>
                <a:lnTo>
                  <a:pt x="1142" y="452"/>
                </a:lnTo>
                <a:lnTo>
                  <a:pt x="1143" y="446"/>
                </a:lnTo>
                <a:lnTo>
                  <a:pt x="1144" y="440"/>
                </a:lnTo>
                <a:lnTo>
                  <a:pt x="1145" y="434"/>
                </a:lnTo>
                <a:lnTo>
                  <a:pt x="1146" y="428"/>
                </a:lnTo>
                <a:lnTo>
                  <a:pt x="1147" y="422"/>
                </a:lnTo>
                <a:lnTo>
                  <a:pt x="1147" y="415"/>
                </a:lnTo>
                <a:lnTo>
                  <a:pt x="1148" y="409"/>
                </a:lnTo>
                <a:lnTo>
                  <a:pt x="1148" y="403"/>
                </a:lnTo>
                <a:lnTo>
                  <a:pt x="1148" y="397"/>
                </a:lnTo>
                <a:lnTo>
                  <a:pt x="1148" y="390"/>
                </a:lnTo>
                <a:lnTo>
                  <a:pt x="1148" y="385"/>
                </a:lnTo>
                <a:lnTo>
                  <a:pt x="1147" y="379"/>
                </a:lnTo>
                <a:lnTo>
                  <a:pt x="1147" y="373"/>
                </a:lnTo>
                <a:lnTo>
                  <a:pt x="1146" y="367"/>
                </a:lnTo>
                <a:lnTo>
                  <a:pt x="1145" y="362"/>
                </a:lnTo>
                <a:lnTo>
                  <a:pt x="1144" y="356"/>
                </a:lnTo>
                <a:lnTo>
                  <a:pt x="1143" y="351"/>
                </a:lnTo>
                <a:lnTo>
                  <a:pt x="1142" y="346"/>
                </a:lnTo>
                <a:lnTo>
                  <a:pt x="1141" y="341"/>
                </a:lnTo>
                <a:lnTo>
                  <a:pt x="1139" y="336"/>
                </a:lnTo>
                <a:lnTo>
                  <a:pt x="1137" y="331"/>
                </a:lnTo>
                <a:lnTo>
                  <a:pt x="1135" y="326"/>
                </a:lnTo>
                <a:lnTo>
                  <a:pt x="1133" y="321"/>
                </a:lnTo>
                <a:lnTo>
                  <a:pt x="1131" y="317"/>
                </a:lnTo>
                <a:lnTo>
                  <a:pt x="1129" y="312"/>
                </a:lnTo>
                <a:lnTo>
                  <a:pt x="1127" y="308"/>
                </a:lnTo>
                <a:lnTo>
                  <a:pt x="1125" y="304"/>
                </a:lnTo>
                <a:lnTo>
                  <a:pt x="1123" y="300"/>
                </a:lnTo>
                <a:lnTo>
                  <a:pt x="1121" y="296"/>
                </a:lnTo>
                <a:lnTo>
                  <a:pt x="1118" y="292"/>
                </a:lnTo>
                <a:lnTo>
                  <a:pt x="1116" y="289"/>
                </a:lnTo>
                <a:lnTo>
                  <a:pt x="1114" y="285"/>
                </a:lnTo>
                <a:lnTo>
                  <a:pt x="1111" y="282"/>
                </a:lnTo>
                <a:lnTo>
                  <a:pt x="1109" y="279"/>
                </a:lnTo>
                <a:lnTo>
                  <a:pt x="1106" y="276"/>
                </a:lnTo>
                <a:lnTo>
                  <a:pt x="1104" y="273"/>
                </a:lnTo>
                <a:lnTo>
                  <a:pt x="1101" y="270"/>
                </a:lnTo>
                <a:lnTo>
                  <a:pt x="1099" y="268"/>
                </a:lnTo>
                <a:lnTo>
                  <a:pt x="1099" y="268"/>
                </a:lnTo>
                <a:close/>
              </a:path>
            </a:pathLst>
          </a:custGeom>
          <a:solidFill>
            <a:srgbClr val="f3f6ff"/>
          </a:solidFill>
          <a:ln w="19080">
            <a:solidFill>
              <a:srgbClr val="6699ff"/>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1730" name=""/>
          <p:cNvGrpSpPr/>
          <p:nvPr/>
        </p:nvGrpSpPr>
        <p:grpSpPr>
          <a:xfrm>
            <a:off x="4305240" y="3121200"/>
            <a:ext cx="371160" cy="466200"/>
            <a:chOff x="4305240" y="3121200"/>
            <a:chExt cx="371160" cy="466200"/>
          </a:xfrm>
        </p:grpSpPr>
        <p:sp>
          <p:nvSpPr>
            <p:cNvPr id="1731" name=""/>
            <p:cNvSpPr/>
            <p:nvPr/>
          </p:nvSpPr>
          <p:spPr>
            <a:xfrm>
              <a:off x="4508280" y="3121200"/>
              <a:ext cx="168120" cy="15552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1732" name=""/>
            <p:cNvSpPr/>
            <p:nvPr/>
          </p:nvSpPr>
          <p:spPr>
            <a:xfrm>
              <a:off x="4406760" y="3354120"/>
              <a:ext cx="133920" cy="7740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8280" bIns="8280" anchor="ctr">
              <a:spAutoFit/>
            </a:bodyPr>
            <a:p>
              <a:endParaRPr b="0" lang="en-US" sz="2400" spc="-1" strike="noStrike">
                <a:solidFill>
                  <a:srgbClr val="000066"/>
                </a:solidFill>
                <a:latin typeface="Times New Roman"/>
              </a:endParaRPr>
            </a:p>
          </p:txBody>
        </p:sp>
        <p:sp>
          <p:nvSpPr>
            <p:cNvPr id="1733" name=""/>
            <p:cNvSpPr/>
            <p:nvPr/>
          </p:nvSpPr>
          <p:spPr>
            <a:xfrm>
              <a:off x="4305240" y="3509640"/>
              <a:ext cx="101520" cy="77760"/>
            </a:xfrm>
            <a:prstGeom prst="ellipse">
              <a:avLst/>
            </a:prstGeom>
            <a:solidFill>
              <a:srgbClr val="f3f6ff"/>
            </a:solidFill>
            <a:ln w="19080">
              <a:solidFill>
                <a:srgbClr val="6699ff"/>
              </a:solidFill>
              <a:miter/>
            </a:ln>
          </p:spPr>
          <p:style>
            <a:lnRef idx="0"/>
            <a:fillRef idx="0"/>
            <a:effectRef idx="0"/>
            <a:fontRef idx="minor"/>
          </p:style>
          <p:txBody>
            <a:bodyPr wrap="none" lIns="90000" rIns="90000" tIns="8640" bIns="8640" anchor="ctr">
              <a:spAutoFit/>
            </a:bodyPr>
            <a:p>
              <a:endParaRPr b="0" lang="en-US" sz="2400" spc="-1" strike="noStrike">
                <a:solidFill>
                  <a:srgbClr val="000066"/>
                </a:solidFill>
                <a:latin typeface="Times New Roman"/>
              </a:endParaRPr>
            </a:p>
          </p:txBody>
        </p:sp>
      </p:grpSp>
      <p:sp>
        <p:nvSpPr>
          <p:cNvPr id="1734" name=""/>
          <p:cNvSpPr/>
          <p:nvPr/>
        </p:nvSpPr>
        <p:spPr>
          <a:xfrm>
            <a:off x="3886200" y="2254320"/>
            <a:ext cx="144792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业务安全角度</a:t>
            </a:r>
            <a:endParaRPr b="0" lang="en-US" sz="1600" spc="-1" strike="noStrike">
              <a:solidFill>
                <a:srgbClr val="000066"/>
              </a:solidFill>
              <a:latin typeface="Times New Roman"/>
            </a:endParaRPr>
          </a:p>
        </p:txBody>
      </p:sp>
      <p:sp>
        <p:nvSpPr>
          <p:cNvPr id="1735" name=""/>
          <p:cNvSpPr/>
          <p:nvPr/>
        </p:nvSpPr>
        <p:spPr>
          <a:xfrm>
            <a:off x="5943600" y="2940120"/>
            <a:ext cx="152388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运行安全角度</a:t>
            </a:r>
            <a:endParaRPr b="0" lang="en-US" sz="1600" spc="-1" strike="noStrike">
              <a:solidFill>
                <a:srgbClr val="000066"/>
              </a:solidFill>
              <a:latin typeface="Times New Roman"/>
            </a:endParaRPr>
          </a:p>
        </p:txBody>
      </p:sp>
      <p:sp>
        <p:nvSpPr>
          <p:cNvPr id="1736" name=""/>
          <p:cNvSpPr/>
          <p:nvPr/>
        </p:nvSpPr>
        <p:spPr>
          <a:xfrm>
            <a:off x="5867280" y="4387680"/>
            <a:ext cx="20574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智能卡系统安全角度</a:t>
            </a:r>
            <a:endParaRPr b="0" lang="en-US" sz="1600" spc="-1" strike="noStrike">
              <a:solidFill>
                <a:srgbClr val="000066"/>
              </a:solidFill>
              <a:latin typeface="Times New Roman"/>
            </a:endParaRPr>
          </a:p>
        </p:txBody>
      </p:sp>
      <p:sp>
        <p:nvSpPr>
          <p:cNvPr id="1737" name=""/>
          <p:cNvSpPr/>
          <p:nvPr/>
        </p:nvSpPr>
        <p:spPr>
          <a:xfrm>
            <a:off x="3581280" y="4952880"/>
            <a:ext cx="198144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财务系统严谨性角度</a:t>
            </a:r>
            <a:endParaRPr b="0" lang="en-US" sz="1600" spc="-1" strike="noStrike">
              <a:solidFill>
                <a:srgbClr val="000066"/>
              </a:solidFill>
              <a:latin typeface="Times New Roman"/>
            </a:endParaRPr>
          </a:p>
        </p:txBody>
      </p:sp>
      <p:sp>
        <p:nvSpPr>
          <p:cNvPr id="1738" name=""/>
          <p:cNvSpPr/>
          <p:nvPr/>
        </p:nvSpPr>
        <p:spPr>
          <a:xfrm>
            <a:off x="1295280" y="4540320"/>
            <a:ext cx="148608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日常管理角度</a:t>
            </a:r>
            <a:endParaRPr b="0" lang="en-US" sz="1600" spc="-1" strike="noStrike">
              <a:solidFill>
                <a:srgbClr val="000066"/>
              </a:solidFill>
              <a:latin typeface="Times New Roman"/>
            </a:endParaRPr>
          </a:p>
        </p:txBody>
      </p:sp>
      <p:sp>
        <p:nvSpPr>
          <p:cNvPr id="1739" name=""/>
          <p:cNvSpPr/>
          <p:nvPr/>
        </p:nvSpPr>
        <p:spPr>
          <a:xfrm>
            <a:off x="1600200" y="2940120"/>
            <a:ext cx="154296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传统安全角度</a:t>
            </a:r>
            <a:endParaRPr b="0" lang="en-US" sz="1600" spc="-1" strike="noStrike">
              <a:solidFill>
                <a:srgbClr val="000066"/>
              </a:solidFill>
              <a:latin typeface="Times New Roman"/>
            </a:endParaRPr>
          </a:p>
        </p:txBody>
      </p:sp>
      <p:sp>
        <p:nvSpPr>
          <p:cNvPr id="1740" name=""/>
          <p:cNvSpPr/>
          <p:nvPr/>
        </p:nvSpPr>
        <p:spPr>
          <a:xfrm>
            <a:off x="3276720" y="3581280"/>
            <a:ext cx="2286000" cy="52056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246e"/>
                </a:solidFill>
                <a:latin typeface="Arial"/>
              </a:rPr>
              <a:t>系 统 安 全</a:t>
            </a:r>
            <a:endParaRPr b="0" lang="en-US" sz="2800" spc="-1" strike="noStrike">
              <a:solidFill>
                <a:srgbClr val="000066"/>
              </a:solidFill>
              <a:latin typeface="Times New Roman"/>
            </a:endParaRPr>
          </a:p>
        </p:txBody>
      </p:sp>
      <p:sp>
        <p:nvSpPr>
          <p:cNvPr id="174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4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7"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8"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5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6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7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系统安全性要素</a:t>
            </a:r>
            <a:r>
              <a:rPr b="0" lang="zh-CN" sz="4800" spc="-1" strike="noStrike">
                <a:solidFill>
                  <a:srgbClr val="000099"/>
                </a:solidFill>
                <a:latin typeface="Times New Roman"/>
                <a:ea typeface="宋体"/>
              </a:rPr>
              <a:t>(2)</a:t>
            </a:r>
            <a:endParaRPr b="0" lang="en-US" sz="4800" spc="-1" strike="noStrike">
              <a:solidFill>
                <a:srgbClr val="000099"/>
              </a:solidFill>
              <a:latin typeface="Times New Roman"/>
            </a:endParaRPr>
          </a:p>
        </p:txBody>
      </p:sp>
      <p:sp>
        <p:nvSpPr>
          <p:cNvPr id="177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777" name=""/>
          <p:cNvSpPr/>
          <p:nvPr/>
        </p:nvSpPr>
        <p:spPr>
          <a:xfrm>
            <a:off x="3357720" y="2895480"/>
            <a:ext cx="1984320" cy="1663920"/>
          </a:xfrm>
          <a:prstGeom prst="hexagon">
            <a:avLst>
              <a:gd name="adj" fmla="val 29814"/>
              <a:gd name="vf" fmla="val 115470"/>
            </a:avLst>
          </a:prstGeom>
          <a:solidFill>
            <a:srgbClr val="e7eeff"/>
          </a:solidFill>
          <a:ln w="25560">
            <a:solidFill>
              <a:srgbClr val="000080"/>
            </a:solidFill>
            <a:miter/>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78" name=""/>
          <p:cNvSpPr/>
          <p:nvPr/>
        </p:nvSpPr>
        <p:spPr>
          <a:xfrm>
            <a:off x="4863960" y="2179800"/>
            <a:ext cx="1765440" cy="712800"/>
          </a:xfrm>
          <a:custGeom>
            <a:avLst/>
            <a:gdLst/>
            <a:ahLst/>
            <a:rect l="l" t="t" r="r" b="b"/>
            <a:pathLst>
              <a:path w="2365" h="448">
                <a:moveTo>
                  <a:pt x="0" y="448"/>
                </a:moveTo>
                <a:lnTo>
                  <a:pt x="349" y="0"/>
                </a:lnTo>
                <a:lnTo>
                  <a:pt x="2365" y="0"/>
                </a:lnTo>
              </a:path>
            </a:pathLst>
          </a:custGeom>
          <a:noFill/>
          <a:ln w="22320">
            <a:solidFill>
              <a:srgbClr val="000080"/>
            </a:solidFill>
            <a:round/>
            <a:headEnd len="lg" type="triangle" w="med"/>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79" name=""/>
          <p:cNvSpPr/>
          <p:nvPr/>
        </p:nvSpPr>
        <p:spPr>
          <a:xfrm flipH="1">
            <a:off x="2057400" y="3728880"/>
            <a:ext cx="1293840" cy="5040"/>
          </a:xfrm>
          <a:prstGeom prst="line">
            <a:avLst/>
          </a:prstGeom>
          <a:ln w="22320">
            <a:solidFill>
              <a:srgbClr val="000080"/>
            </a:solidFill>
            <a:miter/>
            <a:headEnd len="lg" type="triangle" w="med"/>
          </a:ln>
        </p:spPr>
        <p:style>
          <a:lnRef idx="0"/>
          <a:fillRef idx="0"/>
          <a:effectRef idx="0"/>
          <a:fontRef idx="minor"/>
        </p:style>
        <p:txBody>
          <a:bodyPr lIns="0" rIns="0" tIns="0" bIns="0" anchor="ctr">
            <a:noAutofit/>
          </a:bodyPr>
          <a:p>
            <a:endParaRPr b="0" lang="en-US" sz="2400" spc="-1" strike="noStrike">
              <a:solidFill>
                <a:srgbClr val="000066"/>
              </a:solidFill>
              <a:latin typeface="Times New Roman"/>
            </a:endParaRPr>
          </a:p>
        </p:txBody>
      </p:sp>
      <p:sp>
        <p:nvSpPr>
          <p:cNvPr id="1780" name=""/>
          <p:cNvSpPr/>
          <p:nvPr/>
        </p:nvSpPr>
        <p:spPr>
          <a:xfrm flipH="1">
            <a:off x="2057400" y="2179800"/>
            <a:ext cx="1773360" cy="711000"/>
          </a:xfrm>
          <a:custGeom>
            <a:avLst/>
            <a:gdLst/>
            <a:ahLst/>
            <a:rect l="l" t="t" r="r" b="b"/>
            <a:pathLst>
              <a:path w="2365" h="448">
                <a:moveTo>
                  <a:pt x="0" y="448"/>
                </a:moveTo>
                <a:lnTo>
                  <a:pt x="349" y="0"/>
                </a:lnTo>
                <a:lnTo>
                  <a:pt x="2365" y="0"/>
                </a:lnTo>
              </a:path>
            </a:pathLst>
          </a:custGeom>
          <a:noFill/>
          <a:ln w="22320">
            <a:solidFill>
              <a:srgbClr val="000080"/>
            </a:solidFill>
            <a:round/>
            <a:headEnd len="lg" type="triangle" w="med"/>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81" name=""/>
          <p:cNvSpPr/>
          <p:nvPr/>
        </p:nvSpPr>
        <p:spPr>
          <a:xfrm flipV="1">
            <a:off x="4863960" y="4560840"/>
            <a:ext cx="1765440" cy="712800"/>
          </a:xfrm>
          <a:custGeom>
            <a:avLst/>
            <a:gdLst/>
            <a:ahLst/>
            <a:rect l="l" t="t" r="r" b="b"/>
            <a:pathLst>
              <a:path w="2365" h="448">
                <a:moveTo>
                  <a:pt x="0" y="448"/>
                </a:moveTo>
                <a:lnTo>
                  <a:pt x="349" y="0"/>
                </a:lnTo>
                <a:lnTo>
                  <a:pt x="2365" y="0"/>
                </a:lnTo>
              </a:path>
            </a:pathLst>
          </a:custGeom>
          <a:noFill/>
          <a:ln w="22320">
            <a:solidFill>
              <a:srgbClr val="000080"/>
            </a:solidFill>
            <a:round/>
            <a:headEnd len="lg" type="triangle" w="med"/>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82" name=""/>
          <p:cNvSpPr/>
          <p:nvPr/>
        </p:nvSpPr>
        <p:spPr>
          <a:xfrm flipH="1" flipV="1">
            <a:off x="2057400" y="4560840"/>
            <a:ext cx="1773360" cy="711360"/>
          </a:xfrm>
          <a:custGeom>
            <a:avLst/>
            <a:gdLst/>
            <a:ahLst/>
            <a:rect l="l" t="t" r="r" b="b"/>
            <a:pathLst>
              <a:path w="2365" h="448">
                <a:moveTo>
                  <a:pt x="0" y="448"/>
                </a:moveTo>
                <a:lnTo>
                  <a:pt x="349" y="0"/>
                </a:lnTo>
                <a:lnTo>
                  <a:pt x="2365" y="0"/>
                </a:lnTo>
              </a:path>
            </a:pathLst>
          </a:custGeom>
          <a:noFill/>
          <a:ln w="22320">
            <a:solidFill>
              <a:srgbClr val="000080"/>
            </a:solidFill>
            <a:round/>
            <a:headEnd len="lg" type="triangle" w="med"/>
          </a:ln>
        </p:spPr>
        <p:style>
          <a:lnRef idx="0"/>
          <a:fillRef idx="0"/>
          <a:effectRef idx="0"/>
          <a:fontRef idx="minor"/>
        </p:style>
        <p:txBody>
          <a:bodyPr lIns="0" rIns="0" tIns="0" bIns="0" anchor="ctr">
            <a:spAutoFit/>
          </a:bodyPr>
          <a:p>
            <a:endParaRPr b="0" lang="en-US" sz="2400" spc="-1" strike="noStrike">
              <a:solidFill>
                <a:srgbClr val="000066"/>
              </a:solidFill>
              <a:latin typeface="Times New Roman"/>
            </a:endParaRPr>
          </a:p>
        </p:txBody>
      </p:sp>
      <p:sp>
        <p:nvSpPr>
          <p:cNvPr id="1783" name=""/>
          <p:cNvSpPr/>
          <p:nvPr/>
        </p:nvSpPr>
        <p:spPr>
          <a:xfrm>
            <a:off x="5343480" y="3728880"/>
            <a:ext cx="1209600" cy="5040"/>
          </a:xfrm>
          <a:prstGeom prst="line">
            <a:avLst/>
          </a:prstGeom>
          <a:ln w="22320">
            <a:solidFill>
              <a:srgbClr val="000080"/>
            </a:solidFill>
            <a:miter/>
            <a:headEnd len="lg" type="triangle" w="med"/>
          </a:ln>
        </p:spPr>
        <p:style>
          <a:lnRef idx="0"/>
          <a:fillRef idx="0"/>
          <a:effectRef idx="0"/>
          <a:fontRef idx="minor"/>
        </p:style>
        <p:txBody>
          <a:bodyPr lIns="0" rIns="0" tIns="0" bIns="0" anchor="ctr">
            <a:noAutofit/>
          </a:bodyPr>
          <a:p>
            <a:endParaRPr b="0" lang="en-US" sz="2400" spc="-1" strike="noStrike">
              <a:solidFill>
                <a:srgbClr val="000066"/>
              </a:solidFill>
              <a:latin typeface="Times New Roman"/>
            </a:endParaRPr>
          </a:p>
        </p:txBody>
      </p:sp>
      <p:sp>
        <p:nvSpPr>
          <p:cNvPr id="1784" name=""/>
          <p:cNvSpPr/>
          <p:nvPr/>
        </p:nvSpPr>
        <p:spPr>
          <a:xfrm>
            <a:off x="5334120" y="3398760"/>
            <a:ext cx="190476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财务严谨性</a:t>
            </a:r>
            <a:endParaRPr b="0" lang="en-US" sz="1800" spc="-1" strike="noStrike">
              <a:solidFill>
                <a:srgbClr val="000066"/>
              </a:solidFill>
              <a:latin typeface="Times New Roman"/>
            </a:endParaRPr>
          </a:p>
        </p:txBody>
      </p:sp>
      <p:sp>
        <p:nvSpPr>
          <p:cNvPr id="1785" name=""/>
          <p:cNvSpPr/>
          <p:nvPr/>
        </p:nvSpPr>
        <p:spPr>
          <a:xfrm>
            <a:off x="3621240" y="3522600"/>
            <a:ext cx="1458720" cy="426960"/>
          </a:xfrm>
          <a:prstGeom prst="rect">
            <a:avLst/>
          </a:prstGeom>
          <a:noFill/>
          <a:ln w="0">
            <a:noFill/>
          </a:ln>
        </p:spPr>
        <p:style>
          <a:lnRef idx="0"/>
          <a:fillRef idx="0"/>
          <a:effectRef idx="0"/>
          <a:fontRef idx="minor"/>
        </p:style>
        <p:txBody>
          <a:bodyPr lIns="0" rIns="0" tIns="0" bIns="0" anchor="ctr">
            <a:spAutoFit/>
          </a:bodyPr>
          <a:p>
            <a:pPr algn="ctr">
              <a:tabLst>
                <a:tab algn="l" pos="0"/>
                <a:tab algn="r" pos="8521560"/>
                <a:tab algn="l" pos="8585280"/>
                <a:tab algn="l" pos="8915400"/>
                <a:tab algn="l" pos="9245520"/>
                <a:tab algn="l" pos="9575640"/>
                <a:tab algn="l" pos="9906120"/>
                <a:tab algn="l" pos="10236240"/>
                <a:tab algn="l" pos="10566360"/>
                <a:tab algn="l" pos="10896480"/>
              </a:tabLst>
            </a:pPr>
            <a:r>
              <a:rPr b="1" lang="zh-CN" sz="2800" spc="-1" strike="noStrike">
                <a:solidFill>
                  <a:srgbClr val="24246e"/>
                </a:solidFill>
                <a:latin typeface="Times New Roman"/>
              </a:rPr>
              <a:t>系统安全</a:t>
            </a:r>
            <a:endParaRPr b="0" lang="en-US" sz="2800" spc="-1" strike="noStrike">
              <a:solidFill>
                <a:srgbClr val="000066"/>
              </a:solidFill>
              <a:latin typeface="Times New Roman"/>
            </a:endParaRPr>
          </a:p>
        </p:txBody>
      </p:sp>
      <p:sp>
        <p:nvSpPr>
          <p:cNvPr id="1786" name=""/>
          <p:cNvSpPr/>
          <p:nvPr/>
        </p:nvSpPr>
        <p:spPr>
          <a:xfrm>
            <a:off x="1981080" y="4938840"/>
            <a:ext cx="167652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智能卡系统特性</a:t>
            </a:r>
            <a:endParaRPr b="0" lang="en-US" sz="1800" spc="-1" strike="noStrike">
              <a:solidFill>
                <a:srgbClr val="000066"/>
              </a:solidFill>
              <a:latin typeface="Times New Roman"/>
            </a:endParaRPr>
          </a:p>
        </p:txBody>
      </p:sp>
      <p:sp>
        <p:nvSpPr>
          <p:cNvPr id="1787" name=""/>
          <p:cNvSpPr/>
          <p:nvPr/>
        </p:nvSpPr>
        <p:spPr>
          <a:xfrm>
            <a:off x="5264280" y="1859040"/>
            <a:ext cx="189864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运行角度</a:t>
            </a:r>
            <a:endParaRPr b="0" lang="en-US" sz="1800" spc="-1" strike="noStrike">
              <a:solidFill>
                <a:srgbClr val="000066"/>
              </a:solidFill>
              <a:latin typeface="Times New Roman"/>
            </a:endParaRPr>
          </a:p>
        </p:txBody>
      </p:sp>
      <p:sp>
        <p:nvSpPr>
          <p:cNvPr id="1788" name=""/>
          <p:cNvSpPr/>
          <p:nvPr/>
        </p:nvSpPr>
        <p:spPr>
          <a:xfrm>
            <a:off x="5264280" y="4922640"/>
            <a:ext cx="189864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日常管理</a:t>
            </a:r>
            <a:endParaRPr b="0" lang="en-US" sz="1800" spc="-1" strike="noStrike">
              <a:solidFill>
                <a:srgbClr val="000066"/>
              </a:solidFill>
              <a:latin typeface="Times New Roman"/>
            </a:endParaRPr>
          </a:p>
        </p:txBody>
      </p:sp>
      <p:sp>
        <p:nvSpPr>
          <p:cNvPr id="1789" name=""/>
          <p:cNvSpPr/>
          <p:nvPr/>
        </p:nvSpPr>
        <p:spPr>
          <a:xfrm>
            <a:off x="2133720" y="3414600"/>
            <a:ext cx="143172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业务角度</a:t>
            </a:r>
            <a:endParaRPr b="0" lang="en-US" sz="1800" spc="-1" strike="noStrike">
              <a:solidFill>
                <a:srgbClr val="000066"/>
              </a:solidFill>
              <a:latin typeface="Times New Roman"/>
            </a:endParaRPr>
          </a:p>
        </p:txBody>
      </p:sp>
      <p:sp>
        <p:nvSpPr>
          <p:cNvPr id="1790" name=""/>
          <p:cNvSpPr/>
          <p:nvPr/>
        </p:nvSpPr>
        <p:spPr>
          <a:xfrm>
            <a:off x="2133720" y="1874880"/>
            <a:ext cx="1431720" cy="274680"/>
          </a:xfrm>
          <a:prstGeom prst="rect">
            <a:avLst/>
          </a:prstGeom>
          <a:noFill/>
          <a:ln w="0">
            <a:noFill/>
          </a:ln>
        </p:spPr>
        <p:style>
          <a:lnRef idx="0"/>
          <a:fillRef idx="0"/>
          <a:effectRef idx="0"/>
          <a:fontRef idx="minor"/>
        </p:style>
        <p:txBody>
          <a:bodyPr lIns="0" rIns="0" tIns="0" bIns="0" anchor="b">
            <a:spAutoFit/>
          </a:bodyPr>
          <a:p>
            <a:pPr>
              <a:tabLst>
                <a:tab algn="l" pos="0"/>
                <a:tab algn="r" pos="8521560"/>
                <a:tab algn="l" pos="8585280"/>
                <a:tab algn="l" pos="8915400"/>
                <a:tab algn="l" pos="9245520"/>
                <a:tab algn="l" pos="9575640"/>
                <a:tab algn="l" pos="9906120"/>
                <a:tab algn="l" pos="10236240"/>
                <a:tab algn="l" pos="10566360"/>
                <a:tab algn="l" pos="10896480"/>
              </a:tabLst>
            </a:pPr>
            <a:r>
              <a:rPr b="1" lang="zh-CN" sz="1800" spc="-1" strike="noStrike">
                <a:solidFill>
                  <a:srgbClr val="24246e"/>
                </a:solidFill>
                <a:latin typeface="Times New Roman"/>
              </a:rPr>
              <a:t>传统角度</a:t>
            </a:r>
            <a:endParaRPr b="0" lang="en-US" sz="1800" spc="-1" strike="noStrike">
              <a:solidFill>
                <a:srgbClr val="000066"/>
              </a:solidFill>
              <a:latin typeface="Times New Roman"/>
            </a:endParaRPr>
          </a:p>
        </p:txBody>
      </p:sp>
      <p:sp>
        <p:nvSpPr>
          <p:cNvPr id="1791" name=""/>
          <p:cNvSpPr/>
          <p:nvPr/>
        </p:nvSpPr>
        <p:spPr>
          <a:xfrm>
            <a:off x="6705720" y="1714680"/>
            <a:ext cx="1828800" cy="91440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4246e"/>
                </a:solidFill>
                <a:latin typeface="Arial"/>
              </a:rPr>
              <a:t>7*24</a:t>
            </a:r>
            <a:r>
              <a:rPr b="1" lang="zh-CN" sz="1400" spc="-1" strike="noStrike">
                <a:solidFill>
                  <a:srgbClr val="24246e"/>
                </a:solidFill>
                <a:latin typeface="Arial"/>
              </a:rPr>
              <a:t>小时不间断运行</a:t>
            </a:r>
            <a:endParaRPr b="0" lang="en-US" sz="14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4246e"/>
                </a:solidFill>
                <a:latin typeface="Arial"/>
              </a:rPr>
              <a:t>高稳定性和高可靠性</a:t>
            </a:r>
            <a:endParaRPr b="0" lang="en-US" sz="1400" spc="-1" strike="noStrike">
              <a:solidFill>
                <a:srgbClr val="000066"/>
              </a:solidFill>
              <a:latin typeface="Times New Roman"/>
            </a:endParaRPr>
          </a:p>
        </p:txBody>
      </p:sp>
      <p:sp>
        <p:nvSpPr>
          <p:cNvPr id="1792" name=""/>
          <p:cNvSpPr/>
          <p:nvPr/>
        </p:nvSpPr>
        <p:spPr>
          <a:xfrm>
            <a:off x="6705720" y="3149640"/>
            <a:ext cx="1676160" cy="114300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严格的对账机制</a:t>
            </a: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黑名单管理</a:t>
            </a: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结算管理优化</a:t>
            </a:r>
            <a:endParaRPr b="0" lang="en-US" sz="1600" spc="-1" strike="noStrike">
              <a:solidFill>
                <a:srgbClr val="000066"/>
              </a:solidFill>
              <a:latin typeface="Times New Roman"/>
            </a:endParaRPr>
          </a:p>
        </p:txBody>
      </p:sp>
      <p:sp>
        <p:nvSpPr>
          <p:cNvPr id="1793" name=""/>
          <p:cNvSpPr/>
          <p:nvPr/>
        </p:nvSpPr>
        <p:spPr>
          <a:xfrm>
            <a:off x="6705720" y="4876920"/>
            <a:ext cx="1676160" cy="68580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加强病毒防范</a:t>
            </a:r>
            <a:endParaRPr b="0" lang="en-US" sz="1600" spc="-1" strike="noStrike">
              <a:solidFill>
                <a:srgbClr val="000066"/>
              </a:solidFill>
              <a:latin typeface="Times New Roman"/>
            </a:endParaRPr>
          </a:p>
        </p:txBody>
      </p:sp>
      <p:sp>
        <p:nvSpPr>
          <p:cNvPr id="1794" name=""/>
          <p:cNvSpPr/>
          <p:nvPr/>
        </p:nvSpPr>
        <p:spPr>
          <a:xfrm>
            <a:off x="685800" y="1803240"/>
            <a:ext cx="1295280" cy="73692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通信安全</a:t>
            </a:r>
            <a:endParaRPr b="0" lang="en-US" sz="1600" spc="-1" strike="noStrike">
              <a:solidFill>
                <a:srgbClr val="000066"/>
              </a:solidFill>
              <a:latin typeface="Times New Roman"/>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网络安全</a:t>
            </a:r>
            <a:endParaRPr b="0" lang="en-US" sz="1600" spc="-1" strike="noStrike">
              <a:solidFill>
                <a:srgbClr val="000066"/>
              </a:solidFill>
              <a:latin typeface="Times New Roman"/>
            </a:endParaRPr>
          </a:p>
        </p:txBody>
      </p:sp>
      <p:sp>
        <p:nvSpPr>
          <p:cNvPr id="1795" name=""/>
          <p:cNvSpPr/>
          <p:nvPr/>
        </p:nvSpPr>
        <p:spPr>
          <a:xfrm>
            <a:off x="685800" y="3352680"/>
            <a:ext cx="1295280" cy="73656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操作安全</a:t>
            </a:r>
            <a:endParaRPr b="0" lang="en-US" sz="1600" spc="-1" strike="noStrike">
              <a:solidFill>
                <a:srgbClr val="000066"/>
              </a:solidFill>
              <a:latin typeface="Times New Roman"/>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数据安全</a:t>
            </a:r>
            <a:endParaRPr b="0" lang="en-US" sz="1600" spc="-1" strike="noStrike">
              <a:solidFill>
                <a:srgbClr val="000066"/>
              </a:solidFill>
              <a:latin typeface="Times New Roman"/>
            </a:endParaRPr>
          </a:p>
        </p:txBody>
      </p:sp>
      <p:sp>
        <p:nvSpPr>
          <p:cNvPr id="1796" name=""/>
          <p:cNvSpPr/>
          <p:nvPr/>
        </p:nvSpPr>
        <p:spPr>
          <a:xfrm>
            <a:off x="685800" y="4686480"/>
            <a:ext cx="1295280" cy="1143000"/>
          </a:xfrm>
          <a:prstGeom prst="rect">
            <a:avLst/>
          </a:prstGeom>
          <a:solidFill>
            <a:srgbClr val="e7eeff"/>
          </a:solidFill>
          <a:ln w="6480">
            <a:solidFill>
              <a:srgbClr val="3366ff"/>
            </a:solidFill>
            <a:miter/>
          </a:ln>
          <a:effectLst>
            <a:outerShdw dist="57021" dir="2700000" blurRad="0" rotWithShape="0">
              <a:srgbClr val="888888">
                <a:alpha val="50000"/>
              </a:srgbClr>
            </a:outerShdw>
          </a:effectLst>
        </p:spPr>
        <p:style>
          <a:lnRef idx="0"/>
          <a:fillRef idx="0"/>
          <a:effectRef idx="0"/>
          <a:fontRef idx="minor"/>
        </p:style>
        <p:txBody>
          <a:bodyPr tIns="91440" bIns="9144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密钥安全</a:t>
            </a:r>
            <a:endParaRPr b="0" lang="en-US" sz="1600" spc="-1" strike="noStrike">
              <a:solidFill>
                <a:srgbClr val="000066"/>
              </a:solidFill>
              <a:latin typeface="Times New Roman"/>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卡片安全</a:t>
            </a:r>
            <a:endParaRPr b="0" lang="en-US" sz="1600" spc="-1" strike="noStrike">
              <a:solidFill>
                <a:srgbClr val="000066"/>
              </a:solidFill>
              <a:latin typeface="Times New Roman"/>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终端安全</a:t>
            </a:r>
            <a:endParaRPr b="0" lang="en-US" sz="1600" spc="-1" strike="noStrike">
              <a:solidFill>
                <a:srgbClr val="000066"/>
              </a:solidFill>
              <a:latin typeface="Times New Roman"/>
            </a:endParaRPr>
          </a:p>
        </p:txBody>
      </p:sp>
      <p:sp>
        <p:nvSpPr>
          <p:cNvPr id="179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9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79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8"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09"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0"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1"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2"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3"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4"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5"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6"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7"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8"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19"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0"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2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3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系统安全防范体系</a:t>
            </a:r>
            <a:endParaRPr b="0" lang="en-US" sz="4800" spc="-1" strike="noStrike">
              <a:solidFill>
                <a:srgbClr val="000099"/>
              </a:solidFill>
              <a:latin typeface="Times New Roman"/>
            </a:endParaRPr>
          </a:p>
        </p:txBody>
      </p:sp>
      <p:sp>
        <p:nvSpPr>
          <p:cNvPr id="1832"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833" name=""/>
          <p:cNvSpPr/>
          <p:nvPr/>
        </p:nvSpPr>
        <p:spPr>
          <a:xfrm>
            <a:off x="232416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graphicFrame>
        <p:nvGraphicFramePr>
          <p:cNvPr id="1834" name=""/>
          <p:cNvGraphicFramePr/>
          <p:nvPr/>
        </p:nvGraphicFramePr>
        <p:xfrm>
          <a:off x="557280" y="1130400"/>
          <a:ext cx="8358120" cy="4883040"/>
        </p:xfrm>
        <a:graphic>
          <a:graphicData uri="http://schemas.openxmlformats.org/presentationml/2006/ole">
            <p:oleObj r:id="rId1" spid="">
              <p:embed/>
              <p:pic>
                <p:nvPicPr>
                  <p:cNvPr id="1835" name="" descr=""/>
                  <p:cNvPicPr/>
                  <p:nvPr/>
                </p:nvPicPr>
                <p:blipFill>
                  <a:blip r:embed="rId2"/>
                  <a:stretch/>
                </p:blipFill>
                <p:spPr>
                  <a:xfrm>
                    <a:off x="557280" y="1130400"/>
                    <a:ext cx="8358120" cy="4883040"/>
                  </a:xfrm>
                  <a:prstGeom prst="rect">
                    <a:avLst/>
                  </a:prstGeom>
                  <a:ln w="0">
                    <a:noFill/>
                  </a:ln>
                </p:spPr>
              </p:pic>
            </p:oleObj>
          </a:graphicData>
        </a:graphic>
      </p:graphicFrame>
      <p:sp>
        <p:nvSpPr>
          <p:cNvPr id="1836" name=""/>
          <p:cNvSpPr/>
          <p:nvPr/>
        </p:nvSpPr>
        <p:spPr>
          <a:xfrm>
            <a:off x="533520" y="6004080"/>
            <a:ext cx="8229600" cy="2462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66"/>
                </a:solidFill>
                <a:latin typeface="Times New Roman"/>
              </a:rPr>
              <a:t>新模式下的校园一卡通系统针对交易过程的每一个关键节点都设计了有针对性的安全措施，从而构筑了一个立体的、完整的安全防范体系</a:t>
            </a:r>
            <a:endParaRPr b="0" lang="en-US" sz="1000" spc="-1" strike="noStrike">
              <a:solidFill>
                <a:srgbClr val="000066"/>
              </a:solidFill>
              <a:latin typeface="Times New Roman"/>
            </a:endParaRPr>
          </a:p>
        </p:txBody>
      </p:sp>
      <p:sp>
        <p:nvSpPr>
          <p:cNvPr id="183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3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3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8"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49"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0"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1"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2"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3"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4"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5"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6"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7"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8"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59"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0"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6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7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71" name=""/>
          <p:cNvSpPr/>
          <p:nvPr/>
        </p:nvSpPr>
        <p:spPr>
          <a:xfrm>
            <a:off x="5257800" y="3048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neteye</a:t>
            </a:r>
            <a:endParaRPr b="0" lang="en-US" sz="1200" spc="-1" strike="noStrike">
              <a:solidFill>
                <a:srgbClr val="000066"/>
              </a:solidFill>
              <a:latin typeface="Times New Roman"/>
            </a:endParaRPr>
          </a:p>
        </p:txBody>
      </p:sp>
      <p:sp>
        <p:nvSpPr>
          <p:cNvPr id="1872" name=""/>
          <p:cNvSpPr/>
          <p:nvPr/>
        </p:nvSpPr>
        <p:spPr>
          <a:xfrm>
            <a:off x="4317840" y="4673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neteye</a:t>
            </a:r>
            <a:endParaRPr b="0" lang="en-US" sz="1200" spc="-1" strike="noStrike">
              <a:solidFill>
                <a:srgbClr val="000066"/>
              </a:solidFill>
              <a:latin typeface="Times New Roman"/>
            </a:endParaRPr>
          </a:p>
        </p:txBody>
      </p:sp>
      <p:sp>
        <p:nvSpPr>
          <p:cNvPr id="1873" name=""/>
          <p:cNvSpPr/>
          <p:nvPr/>
        </p:nvSpPr>
        <p:spPr>
          <a:xfrm>
            <a:off x="7327800" y="116856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neteye</a:t>
            </a:r>
            <a:endParaRPr b="0" lang="en-US" sz="1200" spc="-1" strike="noStrike">
              <a:solidFill>
                <a:srgbClr val="0000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通讯安全</a:t>
            </a:r>
            <a:endParaRPr b="0" lang="en-US" sz="4800" spc="-1" strike="noStrike">
              <a:solidFill>
                <a:srgbClr val="000099"/>
              </a:solidFill>
              <a:latin typeface="Times New Roman"/>
            </a:endParaRPr>
          </a:p>
        </p:txBody>
      </p:sp>
      <p:sp>
        <p:nvSpPr>
          <p:cNvPr id="1875"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876" name=""/>
          <p:cNvSpPr/>
          <p:nvPr/>
        </p:nvSpPr>
        <p:spPr>
          <a:xfrm>
            <a:off x="3330720" y="3429000"/>
            <a:ext cx="2373120" cy="1035000"/>
          </a:xfrm>
          <a:custGeom>
            <a:avLst/>
            <a:gdLst/>
            <a:ahLst/>
            <a:rect l="l" t="t" r="r" b="b"/>
            <a:pathLst>
              <a:path w="2140" h="932">
                <a:moveTo>
                  <a:pt x="1047" y="296"/>
                </a:moveTo>
                <a:lnTo>
                  <a:pt x="1068" y="295"/>
                </a:lnTo>
                <a:lnTo>
                  <a:pt x="1089" y="295"/>
                </a:lnTo>
                <a:lnTo>
                  <a:pt x="1109" y="293"/>
                </a:lnTo>
                <a:lnTo>
                  <a:pt x="1120" y="292"/>
                </a:lnTo>
                <a:lnTo>
                  <a:pt x="1131" y="291"/>
                </a:lnTo>
                <a:lnTo>
                  <a:pt x="1151" y="288"/>
                </a:lnTo>
                <a:lnTo>
                  <a:pt x="1171" y="285"/>
                </a:lnTo>
                <a:lnTo>
                  <a:pt x="1191" y="280"/>
                </a:lnTo>
                <a:lnTo>
                  <a:pt x="1211" y="276"/>
                </a:lnTo>
                <a:lnTo>
                  <a:pt x="1231" y="270"/>
                </a:lnTo>
                <a:lnTo>
                  <a:pt x="1250" y="264"/>
                </a:lnTo>
                <a:lnTo>
                  <a:pt x="1269" y="258"/>
                </a:lnTo>
                <a:lnTo>
                  <a:pt x="1288" y="250"/>
                </a:lnTo>
                <a:lnTo>
                  <a:pt x="1307" y="243"/>
                </a:lnTo>
                <a:lnTo>
                  <a:pt x="1325" y="234"/>
                </a:lnTo>
                <a:lnTo>
                  <a:pt x="1334" y="230"/>
                </a:lnTo>
                <a:lnTo>
                  <a:pt x="1342" y="225"/>
                </a:lnTo>
                <a:lnTo>
                  <a:pt x="1360" y="216"/>
                </a:lnTo>
                <a:lnTo>
                  <a:pt x="1377" y="205"/>
                </a:lnTo>
                <a:lnTo>
                  <a:pt x="1394" y="195"/>
                </a:lnTo>
                <a:lnTo>
                  <a:pt x="1410" y="184"/>
                </a:lnTo>
                <a:lnTo>
                  <a:pt x="1426" y="172"/>
                </a:lnTo>
                <a:lnTo>
                  <a:pt x="1442" y="160"/>
                </a:lnTo>
                <a:lnTo>
                  <a:pt x="1458" y="148"/>
                </a:lnTo>
                <a:lnTo>
                  <a:pt x="1473" y="135"/>
                </a:lnTo>
                <a:lnTo>
                  <a:pt x="1488" y="122"/>
                </a:lnTo>
                <a:lnTo>
                  <a:pt x="1502" y="108"/>
                </a:lnTo>
                <a:lnTo>
                  <a:pt x="1515" y="94"/>
                </a:lnTo>
                <a:lnTo>
                  <a:pt x="1529" y="79"/>
                </a:lnTo>
                <a:lnTo>
                  <a:pt x="1541" y="64"/>
                </a:lnTo>
                <a:lnTo>
                  <a:pt x="1554" y="48"/>
                </a:lnTo>
                <a:lnTo>
                  <a:pt x="1566" y="32"/>
                </a:lnTo>
                <a:lnTo>
                  <a:pt x="1577" y="16"/>
                </a:lnTo>
                <a:lnTo>
                  <a:pt x="1588" y="0"/>
                </a:lnTo>
                <a:lnTo>
                  <a:pt x="1730" y="322"/>
                </a:lnTo>
                <a:lnTo>
                  <a:pt x="2140" y="319"/>
                </a:lnTo>
                <a:lnTo>
                  <a:pt x="2119" y="353"/>
                </a:lnTo>
                <a:lnTo>
                  <a:pt x="2108" y="369"/>
                </a:lnTo>
                <a:lnTo>
                  <a:pt x="2096" y="387"/>
                </a:lnTo>
                <a:lnTo>
                  <a:pt x="2072" y="419"/>
                </a:lnTo>
                <a:lnTo>
                  <a:pt x="2047" y="451"/>
                </a:lnTo>
                <a:lnTo>
                  <a:pt x="2035" y="466"/>
                </a:lnTo>
                <a:lnTo>
                  <a:pt x="2022" y="482"/>
                </a:lnTo>
                <a:lnTo>
                  <a:pt x="2009" y="497"/>
                </a:lnTo>
                <a:lnTo>
                  <a:pt x="1995" y="512"/>
                </a:lnTo>
                <a:lnTo>
                  <a:pt x="1968" y="542"/>
                </a:lnTo>
                <a:lnTo>
                  <a:pt x="1940" y="570"/>
                </a:lnTo>
                <a:lnTo>
                  <a:pt x="1910" y="597"/>
                </a:lnTo>
                <a:lnTo>
                  <a:pt x="1895" y="611"/>
                </a:lnTo>
                <a:lnTo>
                  <a:pt x="1880" y="624"/>
                </a:lnTo>
                <a:lnTo>
                  <a:pt x="1864" y="637"/>
                </a:lnTo>
                <a:lnTo>
                  <a:pt x="1849" y="650"/>
                </a:lnTo>
                <a:lnTo>
                  <a:pt x="1817" y="674"/>
                </a:lnTo>
                <a:lnTo>
                  <a:pt x="1785" y="699"/>
                </a:lnTo>
                <a:lnTo>
                  <a:pt x="1751" y="721"/>
                </a:lnTo>
                <a:lnTo>
                  <a:pt x="1717" y="743"/>
                </a:lnTo>
                <a:lnTo>
                  <a:pt x="1683" y="763"/>
                </a:lnTo>
                <a:lnTo>
                  <a:pt x="1647" y="783"/>
                </a:lnTo>
                <a:lnTo>
                  <a:pt x="1629" y="792"/>
                </a:lnTo>
                <a:lnTo>
                  <a:pt x="1611" y="801"/>
                </a:lnTo>
                <a:lnTo>
                  <a:pt x="1592" y="810"/>
                </a:lnTo>
                <a:lnTo>
                  <a:pt x="1574" y="819"/>
                </a:lnTo>
                <a:lnTo>
                  <a:pt x="1555" y="827"/>
                </a:lnTo>
                <a:lnTo>
                  <a:pt x="1537" y="835"/>
                </a:lnTo>
                <a:lnTo>
                  <a:pt x="1518" y="842"/>
                </a:lnTo>
                <a:lnTo>
                  <a:pt x="1499" y="850"/>
                </a:lnTo>
                <a:lnTo>
                  <a:pt x="1480" y="858"/>
                </a:lnTo>
                <a:lnTo>
                  <a:pt x="1460" y="864"/>
                </a:lnTo>
                <a:lnTo>
                  <a:pt x="1440" y="871"/>
                </a:lnTo>
                <a:lnTo>
                  <a:pt x="1421" y="877"/>
                </a:lnTo>
                <a:lnTo>
                  <a:pt x="1401" y="883"/>
                </a:lnTo>
                <a:lnTo>
                  <a:pt x="1381" y="888"/>
                </a:lnTo>
                <a:lnTo>
                  <a:pt x="1361" y="893"/>
                </a:lnTo>
                <a:lnTo>
                  <a:pt x="1341" y="898"/>
                </a:lnTo>
                <a:lnTo>
                  <a:pt x="1321" y="903"/>
                </a:lnTo>
                <a:lnTo>
                  <a:pt x="1301" y="907"/>
                </a:lnTo>
                <a:lnTo>
                  <a:pt x="1279" y="911"/>
                </a:lnTo>
                <a:lnTo>
                  <a:pt x="1259" y="915"/>
                </a:lnTo>
                <a:lnTo>
                  <a:pt x="1217" y="921"/>
                </a:lnTo>
                <a:lnTo>
                  <a:pt x="1196" y="924"/>
                </a:lnTo>
                <a:lnTo>
                  <a:pt x="1175" y="926"/>
                </a:lnTo>
                <a:lnTo>
                  <a:pt x="1154" y="928"/>
                </a:lnTo>
                <a:lnTo>
                  <a:pt x="1133" y="929"/>
                </a:lnTo>
                <a:lnTo>
                  <a:pt x="1111" y="931"/>
                </a:lnTo>
                <a:lnTo>
                  <a:pt x="1090" y="931"/>
                </a:lnTo>
                <a:lnTo>
                  <a:pt x="1047" y="932"/>
                </a:lnTo>
                <a:lnTo>
                  <a:pt x="1007" y="932"/>
                </a:lnTo>
                <a:lnTo>
                  <a:pt x="967" y="930"/>
                </a:lnTo>
                <a:lnTo>
                  <a:pt x="946" y="928"/>
                </a:lnTo>
                <a:lnTo>
                  <a:pt x="926" y="927"/>
                </a:lnTo>
                <a:lnTo>
                  <a:pt x="887" y="922"/>
                </a:lnTo>
                <a:lnTo>
                  <a:pt x="867" y="920"/>
                </a:lnTo>
                <a:lnTo>
                  <a:pt x="848" y="917"/>
                </a:lnTo>
                <a:lnTo>
                  <a:pt x="810" y="910"/>
                </a:lnTo>
                <a:lnTo>
                  <a:pt x="771" y="903"/>
                </a:lnTo>
                <a:lnTo>
                  <a:pt x="733" y="894"/>
                </a:lnTo>
                <a:lnTo>
                  <a:pt x="714" y="889"/>
                </a:lnTo>
                <a:lnTo>
                  <a:pt x="696" y="884"/>
                </a:lnTo>
                <a:lnTo>
                  <a:pt x="659" y="873"/>
                </a:lnTo>
                <a:lnTo>
                  <a:pt x="640" y="867"/>
                </a:lnTo>
                <a:lnTo>
                  <a:pt x="622" y="861"/>
                </a:lnTo>
                <a:lnTo>
                  <a:pt x="586" y="847"/>
                </a:lnTo>
                <a:lnTo>
                  <a:pt x="551" y="833"/>
                </a:lnTo>
                <a:lnTo>
                  <a:pt x="516" y="818"/>
                </a:lnTo>
                <a:lnTo>
                  <a:pt x="481" y="801"/>
                </a:lnTo>
                <a:lnTo>
                  <a:pt x="448" y="784"/>
                </a:lnTo>
                <a:lnTo>
                  <a:pt x="415" y="766"/>
                </a:lnTo>
                <a:lnTo>
                  <a:pt x="382" y="747"/>
                </a:lnTo>
                <a:lnTo>
                  <a:pt x="351" y="727"/>
                </a:lnTo>
                <a:lnTo>
                  <a:pt x="318" y="706"/>
                </a:lnTo>
                <a:lnTo>
                  <a:pt x="303" y="696"/>
                </a:lnTo>
                <a:lnTo>
                  <a:pt x="288" y="684"/>
                </a:lnTo>
                <a:lnTo>
                  <a:pt x="258" y="661"/>
                </a:lnTo>
                <a:lnTo>
                  <a:pt x="229" y="638"/>
                </a:lnTo>
                <a:lnTo>
                  <a:pt x="201" y="613"/>
                </a:lnTo>
                <a:lnTo>
                  <a:pt x="173" y="588"/>
                </a:lnTo>
                <a:lnTo>
                  <a:pt x="145" y="562"/>
                </a:lnTo>
                <a:lnTo>
                  <a:pt x="119" y="536"/>
                </a:lnTo>
                <a:lnTo>
                  <a:pt x="94" y="507"/>
                </a:lnTo>
                <a:lnTo>
                  <a:pt x="69" y="479"/>
                </a:lnTo>
                <a:lnTo>
                  <a:pt x="46" y="450"/>
                </a:lnTo>
                <a:lnTo>
                  <a:pt x="23" y="421"/>
                </a:lnTo>
                <a:lnTo>
                  <a:pt x="0" y="390"/>
                </a:lnTo>
                <a:lnTo>
                  <a:pt x="177" y="51"/>
                </a:lnTo>
                <a:lnTo>
                  <a:pt x="365" y="62"/>
                </a:lnTo>
                <a:lnTo>
                  <a:pt x="495" y="69"/>
                </a:lnTo>
                <a:lnTo>
                  <a:pt x="537" y="72"/>
                </a:lnTo>
                <a:lnTo>
                  <a:pt x="554" y="73"/>
                </a:lnTo>
                <a:lnTo>
                  <a:pt x="578" y="97"/>
                </a:lnTo>
                <a:lnTo>
                  <a:pt x="603" y="120"/>
                </a:lnTo>
                <a:lnTo>
                  <a:pt x="627" y="142"/>
                </a:lnTo>
                <a:lnTo>
                  <a:pt x="640" y="152"/>
                </a:lnTo>
                <a:lnTo>
                  <a:pt x="654" y="162"/>
                </a:lnTo>
                <a:lnTo>
                  <a:pt x="666" y="172"/>
                </a:lnTo>
                <a:lnTo>
                  <a:pt x="679" y="182"/>
                </a:lnTo>
                <a:lnTo>
                  <a:pt x="693" y="191"/>
                </a:lnTo>
                <a:lnTo>
                  <a:pt x="706" y="200"/>
                </a:lnTo>
                <a:lnTo>
                  <a:pt x="734" y="217"/>
                </a:lnTo>
                <a:lnTo>
                  <a:pt x="748" y="225"/>
                </a:lnTo>
                <a:lnTo>
                  <a:pt x="762" y="233"/>
                </a:lnTo>
                <a:lnTo>
                  <a:pt x="777" y="240"/>
                </a:lnTo>
                <a:lnTo>
                  <a:pt x="792" y="246"/>
                </a:lnTo>
                <a:lnTo>
                  <a:pt x="809" y="253"/>
                </a:lnTo>
                <a:lnTo>
                  <a:pt x="824" y="259"/>
                </a:lnTo>
                <a:lnTo>
                  <a:pt x="840" y="264"/>
                </a:lnTo>
                <a:lnTo>
                  <a:pt x="857" y="269"/>
                </a:lnTo>
                <a:lnTo>
                  <a:pt x="874" y="274"/>
                </a:lnTo>
                <a:lnTo>
                  <a:pt x="891" y="278"/>
                </a:lnTo>
                <a:lnTo>
                  <a:pt x="909" y="282"/>
                </a:lnTo>
                <a:lnTo>
                  <a:pt x="927" y="285"/>
                </a:lnTo>
                <a:lnTo>
                  <a:pt x="945" y="288"/>
                </a:lnTo>
                <a:lnTo>
                  <a:pt x="964" y="291"/>
                </a:lnTo>
                <a:lnTo>
                  <a:pt x="985" y="293"/>
                </a:lnTo>
                <a:lnTo>
                  <a:pt x="1005" y="294"/>
                </a:lnTo>
                <a:lnTo>
                  <a:pt x="1026" y="295"/>
                </a:lnTo>
                <a:lnTo>
                  <a:pt x="1047" y="296"/>
                </a:lnTo>
                <a:close/>
              </a:path>
            </a:pathLst>
          </a:custGeom>
          <a:solidFill>
            <a:srgbClr val="cddb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7" name=""/>
          <p:cNvSpPr/>
          <p:nvPr/>
        </p:nvSpPr>
        <p:spPr>
          <a:xfrm>
            <a:off x="3025800" y="1600200"/>
            <a:ext cx="1585800" cy="2174760"/>
          </a:xfrm>
          <a:custGeom>
            <a:avLst/>
            <a:gdLst/>
            <a:ahLst/>
            <a:rect l="l" t="t" r="r" b="b"/>
            <a:pathLst>
              <a:path w="1431" h="1961">
                <a:moveTo>
                  <a:pt x="196" y="1961"/>
                </a:moveTo>
                <a:lnTo>
                  <a:pt x="384" y="1617"/>
                </a:lnTo>
                <a:lnTo>
                  <a:pt x="750" y="1645"/>
                </a:lnTo>
                <a:lnTo>
                  <a:pt x="737" y="1625"/>
                </a:lnTo>
                <a:lnTo>
                  <a:pt x="725" y="1605"/>
                </a:lnTo>
                <a:lnTo>
                  <a:pt x="713" y="1584"/>
                </a:lnTo>
                <a:lnTo>
                  <a:pt x="702" y="1563"/>
                </a:lnTo>
                <a:lnTo>
                  <a:pt x="692" y="1542"/>
                </a:lnTo>
                <a:lnTo>
                  <a:pt x="683" y="1519"/>
                </a:lnTo>
                <a:lnTo>
                  <a:pt x="674" y="1497"/>
                </a:lnTo>
                <a:lnTo>
                  <a:pt x="666" y="1474"/>
                </a:lnTo>
                <a:lnTo>
                  <a:pt x="660" y="1451"/>
                </a:lnTo>
                <a:lnTo>
                  <a:pt x="654" y="1427"/>
                </a:lnTo>
                <a:lnTo>
                  <a:pt x="649" y="1404"/>
                </a:lnTo>
                <a:lnTo>
                  <a:pt x="644" y="1380"/>
                </a:lnTo>
                <a:lnTo>
                  <a:pt x="641" y="1354"/>
                </a:lnTo>
                <a:lnTo>
                  <a:pt x="639" y="1330"/>
                </a:lnTo>
                <a:lnTo>
                  <a:pt x="637" y="1305"/>
                </a:lnTo>
                <a:lnTo>
                  <a:pt x="637" y="1280"/>
                </a:lnTo>
                <a:lnTo>
                  <a:pt x="637" y="1248"/>
                </a:lnTo>
                <a:lnTo>
                  <a:pt x="638" y="1232"/>
                </a:lnTo>
                <a:lnTo>
                  <a:pt x="640" y="1217"/>
                </a:lnTo>
                <a:lnTo>
                  <a:pt x="644" y="1185"/>
                </a:lnTo>
                <a:lnTo>
                  <a:pt x="646" y="1170"/>
                </a:lnTo>
                <a:lnTo>
                  <a:pt x="649" y="1155"/>
                </a:lnTo>
                <a:lnTo>
                  <a:pt x="655" y="1125"/>
                </a:lnTo>
                <a:lnTo>
                  <a:pt x="659" y="1110"/>
                </a:lnTo>
                <a:lnTo>
                  <a:pt x="663" y="1095"/>
                </a:lnTo>
                <a:lnTo>
                  <a:pt x="673" y="1067"/>
                </a:lnTo>
                <a:lnTo>
                  <a:pt x="678" y="1053"/>
                </a:lnTo>
                <a:lnTo>
                  <a:pt x="683" y="1038"/>
                </a:lnTo>
                <a:lnTo>
                  <a:pt x="695" y="1010"/>
                </a:lnTo>
                <a:lnTo>
                  <a:pt x="708" y="983"/>
                </a:lnTo>
                <a:lnTo>
                  <a:pt x="715" y="970"/>
                </a:lnTo>
                <a:lnTo>
                  <a:pt x="723" y="957"/>
                </a:lnTo>
                <a:lnTo>
                  <a:pt x="731" y="945"/>
                </a:lnTo>
                <a:lnTo>
                  <a:pt x="739" y="932"/>
                </a:lnTo>
                <a:lnTo>
                  <a:pt x="747" y="920"/>
                </a:lnTo>
                <a:lnTo>
                  <a:pt x="756" y="908"/>
                </a:lnTo>
                <a:lnTo>
                  <a:pt x="764" y="896"/>
                </a:lnTo>
                <a:lnTo>
                  <a:pt x="773" y="884"/>
                </a:lnTo>
                <a:lnTo>
                  <a:pt x="782" y="871"/>
                </a:lnTo>
                <a:lnTo>
                  <a:pt x="792" y="860"/>
                </a:lnTo>
                <a:lnTo>
                  <a:pt x="812" y="838"/>
                </a:lnTo>
                <a:lnTo>
                  <a:pt x="822" y="827"/>
                </a:lnTo>
                <a:lnTo>
                  <a:pt x="832" y="817"/>
                </a:lnTo>
                <a:lnTo>
                  <a:pt x="843" y="807"/>
                </a:lnTo>
                <a:lnTo>
                  <a:pt x="854" y="797"/>
                </a:lnTo>
                <a:lnTo>
                  <a:pt x="865" y="787"/>
                </a:lnTo>
                <a:lnTo>
                  <a:pt x="877" y="778"/>
                </a:lnTo>
                <a:lnTo>
                  <a:pt x="889" y="769"/>
                </a:lnTo>
                <a:lnTo>
                  <a:pt x="901" y="760"/>
                </a:lnTo>
                <a:lnTo>
                  <a:pt x="925" y="743"/>
                </a:lnTo>
                <a:lnTo>
                  <a:pt x="938" y="735"/>
                </a:lnTo>
                <a:lnTo>
                  <a:pt x="950" y="727"/>
                </a:lnTo>
                <a:lnTo>
                  <a:pt x="976" y="712"/>
                </a:lnTo>
                <a:lnTo>
                  <a:pt x="989" y="705"/>
                </a:lnTo>
                <a:lnTo>
                  <a:pt x="1003" y="698"/>
                </a:lnTo>
                <a:lnTo>
                  <a:pt x="1016" y="692"/>
                </a:lnTo>
                <a:lnTo>
                  <a:pt x="1030" y="686"/>
                </a:lnTo>
                <a:lnTo>
                  <a:pt x="1045" y="680"/>
                </a:lnTo>
                <a:lnTo>
                  <a:pt x="1059" y="675"/>
                </a:lnTo>
                <a:lnTo>
                  <a:pt x="1087" y="665"/>
                </a:lnTo>
                <a:lnTo>
                  <a:pt x="1116" y="657"/>
                </a:lnTo>
                <a:lnTo>
                  <a:pt x="1131" y="653"/>
                </a:lnTo>
                <a:lnTo>
                  <a:pt x="1146" y="650"/>
                </a:lnTo>
                <a:lnTo>
                  <a:pt x="1176" y="644"/>
                </a:lnTo>
                <a:lnTo>
                  <a:pt x="1191" y="642"/>
                </a:lnTo>
                <a:lnTo>
                  <a:pt x="1208" y="640"/>
                </a:lnTo>
                <a:lnTo>
                  <a:pt x="1223" y="638"/>
                </a:lnTo>
                <a:lnTo>
                  <a:pt x="1239" y="637"/>
                </a:lnTo>
                <a:lnTo>
                  <a:pt x="1431" y="334"/>
                </a:lnTo>
                <a:lnTo>
                  <a:pt x="1238" y="0"/>
                </a:lnTo>
                <a:lnTo>
                  <a:pt x="1206" y="1"/>
                </a:lnTo>
                <a:lnTo>
                  <a:pt x="1174" y="3"/>
                </a:lnTo>
                <a:lnTo>
                  <a:pt x="1142" y="6"/>
                </a:lnTo>
                <a:lnTo>
                  <a:pt x="1111" y="10"/>
                </a:lnTo>
                <a:lnTo>
                  <a:pt x="1080" y="15"/>
                </a:lnTo>
                <a:lnTo>
                  <a:pt x="1049" y="20"/>
                </a:lnTo>
                <a:lnTo>
                  <a:pt x="1018" y="26"/>
                </a:lnTo>
                <a:lnTo>
                  <a:pt x="987" y="32"/>
                </a:lnTo>
                <a:lnTo>
                  <a:pt x="957" y="40"/>
                </a:lnTo>
                <a:lnTo>
                  <a:pt x="928" y="48"/>
                </a:lnTo>
                <a:lnTo>
                  <a:pt x="898" y="57"/>
                </a:lnTo>
                <a:lnTo>
                  <a:pt x="868" y="66"/>
                </a:lnTo>
                <a:lnTo>
                  <a:pt x="839" y="76"/>
                </a:lnTo>
                <a:lnTo>
                  <a:pt x="811" y="88"/>
                </a:lnTo>
                <a:lnTo>
                  <a:pt x="783" y="100"/>
                </a:lnTo>
                <a:lnTo>
                  <a:pt x="755" y="112"/>
                </a:lnTo>
                <a:lnTo>
                  <a:pt x="727" y="125"/>
                </a:lnTo>
                <a:lnTo>
                  <a:pt x="699" y="138"/>
                </a:lnTo>
                <a:lnTo>
                  <a:pt x="673" y="152"/>
                </a:lnTo>
                <a:lnTo>
                  <a:pt x="646" y="167"/>
                </a:lnTo>
                <a:lnTo>
                  <a:pt x="620" y="182"/>
                </a:lnTo>
                <a:lnTo>
                  <a:pt x="595" y="198"/>
                </a:lnTo>
                <a:lnTo>
                  <a:pt x="570" y="214"/>
                </a:lnTo>
                <a:lnTo>
                  <a:pt x="544" y="231"/>
                </a:lnTo>
                <a:lnTo>
                  <a:pt x="520" y="250"/>
                </a:lnTo>
                <a:lnTo>
                  <a:pt x="496" y="268"/>
                </a:lnTo>
                <a:lnTo>
                  <a:pt x="472" y="287"/>
                </a:lnTo>
                <a:lnTo>
                  <a:pt x="449" y="306"/>
                </a:lnTo>
                <a:lnTo>
                  <a:pt x="427" y="326"/>
                </a:lnTo>
                <a:lnTo>
                  <a:pt x="405" y="346"/>
                </a:lnTo>
                <a:lnTo>
                  <a:pt x="382" y="366"/>
                </a:lnTo>
                <a:lnTo>
                  <a:pt x="361" y="388"/>
                </a:lnTo>
                <a:lnTo>
                  <a:pt x="340" y="410"/>
                </a:lnTo>
                <a:lnTo>
                  <a:pt x="320" y="433"/>
                </a:lnTo>
                <a:lnTo>
                  <a:pt x="301" y="455"/>
                </a:lnTo>
                <a:lnTo>
                  <a:pt x="282" y="478"/>
                </a:lnTo>
                <a:lnTo>
                  <a:pt x="263" y="502"/>
                </a:lnTo>
                <a:lnTo>
                  <a:pt x="245" y="526"/>
                </a:lnTo>
                <a:lnTo>
                  <a:pt x="227" y="550"/>
                </a:lnTo>
                <a:lnTo>
                  <a:pt x="210" y="576"/>
                </a:lnTo>
                <a:lnTo>
                  <a:pt x="194" y="602"/>
                </a:lnTo>
                <a:lnTo>
                  <a:pt x="178" y="627"/>
                </a:lnTo>
                <a:lnTo>
                  <a:pt x="163" y="653"/>
                </a:lnTo>
                <a:lnTo>
                  <a:pt x="149" y="680"/>
                </a:lnTo>
                <a:lnTo>
                  <a:pt x="135" y="707"/>
                </a:lnTo>
                <a:lnTo>
                  <a:pt x="122" y="735"/>
                </a:lnTo>
                <a:lnTo>
                  <a:pt x="109" y="763"/>
                </a:lnTo>
                <a:lnTo>
                  <a:pt x="97" y="790"/>
                </a:lnTo>
                <a:lnTo>
                  <a:pt x="86" y="819"/>
                </a:lnTo>
                <a:lnTo>
                  <a:pt x="74" y="847"/>
                </a:lnTo>
                <a:lnTo>
                  <a:pt x="64" y="876"/>
                </a:lnTo>
                <a:lnTo>
                  <a:pt x="55" y="906"/>
                </a:lnTo>
                <a:lnTo>
                  <a:pt x="47" y="936"/>
                </a:lnTo>
                <a:lnTo>
                  <a:pt x="39" y="966"/>
                </a:lnTo>
                <a:lnTo>
                  <a:pt x="31" y="996"/>
                </a:lnTo>
                <a:lnTo>
                  <a:pt x="25" y="1026"/>
                </a:lnTo>
                <a:lnTo>
                  <a:pt x="19" y="1058"/>
                </a:lnTo>
                <a:lnTo>
                  <a:pt x="14" y="1089"/>
                </a:lnTo>
                <a:lnTo>
                  <a:pt x="10" y="1120"/>
                </a:lnTo>
                <a:lnTo>
                  <a:pt x="6" y="1151"/>
                </a:lnTo>
                <a:lnTo>
                  <a:pt x="4" y="1183"/>
                </a:lnTo>
                <a:lnTo>
                  <a:pt x="2" y="1215"/>
                </a:lnTo>
                <a:lnTo>
                  <a:pt x="1" y="1247"/>
                </a:lnTo>
                <a:lnTo>
                  <a:pt x="0" y="1280"/>
                </a:lnTo>
                <a:lnTo>
                  <a:pt x="1" y="1326"/>
                </a:lnTo>
                <a:lnTo>
                  <a:pt x="2" y="1349"/>
                </a:lnTo>
                <a:lnTo>
                  <a:pt x="3" y="1373"/>
                </a:lnTo>
                <a:lnTo>
                  <a:pt x="5" y="1396"/>
                </a:lnTo>
                <a:lnTo>
                  <a:pt x="8" y="1419"/>
                </a:lnTo>
                <a:lnTo>
                  <a:pt x="10" y="1441"/>
                </a:lnTo>
                <a:lnTo>
                  <a:pt x="13" y="1464"/>
                </a:lnTo>
                <a:lnTo>
                  <a:pt x="17" y="1486"/>
                </a:lnTo>
                <a:lnTo>
                  <a:pt x="20" y="1509"/>
                </a:lnTo>
                <a:lnTo>
                  <a:pt x="25" y="1532"/>
                </a:lnTo>
                <a:lnTo>
                  <a:pt x="29" y="1554"/>
                </a:lnTo>
                <a:lnTo>
                  <a:pt x="34" y="1575"/>
                </a:lnTo>
                <a:lnTo>
                  <a:pt x="39" y="1597"/>
                </a:lnTo>
                <a:lnTo>
                  <a:pt x="45" y="1619"/>
                </a:lnTo>
                <a:lnTo>
                  <a:pt x="51" y="1640"/>
                </a:lnTo>
                <a:lnTo>
                  <a:pt x="58" y="1661"/>
                </a:lnTo>
                <a:lnTo>
                  <a:pt x="64" y="1683"/>
                </a:lnTo>
                <a:lnTo>
                  <a:pt x="72" y="1704"/>
                </a:lnTo>
                <a:lnTo>
                  <a:pt x="79" y="1725"/>
                </a:lnTo>
                <a:lnTo>
                  <a:pt x="88" y="1745"/>
                </a:lnTo>
                <a:lnTo>
                  <a:pt x="96" y="1766"/>
                </a:lnTo>
                <a:lnTo>
                  <a:pt x="105" y="1786"/>
                </a:lnTo>
                <a:lnTo>
                  <a:pt x="114" y="1806"/>
                </a:lnTo>
                <a:lnTo>
                  <a:pt x="123" y="1826"/>
                </a:lnTo>
                <a:lnTo>
                  <a:pt x="132" y="1847"/>
                </a:lnTo>
                <a:lnTo>
                  <a:pt x="152" y="1885"/>
                </a:lnTo>
                <a:lnTo>
                  <a:pt x="174" y="1923"/>
                </a:lnTo>
                <a:lnTo>
                  <a:pt x="185" y="1942"/>
                </a:lnTo>
                <a:lnTo>
                  <a:pt x="196" y="1961"/>
                </a:lnTo>
                <a:close/>
              </a:path>
            </a:pathLst>
          </a:custGeom>
          <a:solidFill>
            <a:srgbClr val="cddb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
          <p:cNvSpPr/>
          <p:nvPr/>
        </p:nvSpPr>
        <p:spPr>
          <a:xfrm>
            <a:off x="4524480" y="1600200"/>
            <a:ext cx="1396800" cy="2103480"/>
          </a:xfrm>
          <a:custGeom>
            <a:avLst/>
            <a:gdLst/>
            <a:ahLst/>
            <a:rect l="l" t="t" r="r" b="b"/>
            <a:pathLst>
              <a:path w="1261" h="1899">
                <a:moveTo>
                  <a:pt x="0" y="0"/>
                </a:moveTo>
                <a:lnTo>
                  <a:pt x="33" y="1"/>
                </a:lnTo>
                <a:lnTo>
                  <a:pt x="66" y="3"/>
                </a:lnTo>
                <a:lnTo>
                  <a:pt x="98" y="5"/>
                </a:lnTo>
                <a:lnTo>
                  <a:pt x="130" y="8"/>
                </a:lnTo>
                <a:lnTo>
                  <a:pt x="161" y="13"/>
                </a:lnTo>
                <a:lnTo>
                  <a:pt x="193" y="17"/>
                </a:lnTo>
                <a:lnTo>
                  <a:pt x="225" y="23"/>
                </a:lnTo>
                <a:lnTo>
                  <a:pt x="255" y="29"/>
                </a:lnTo>
                <a:lnTo>
                  <a:pt x="286" y="36"/>
                </a:lnTo>
                <a:lnTo>
                  <a:pt x="316" y="44"/>
                </a:lnTo>
                <a:lnTo>
                  <a:pt x="346" y="53"/>
                </a:lnTo>
                <a:lnTo>
                  <a:pt x="376" y="62"/>
                </a:lnTo>
                <a:lnTo>
                  <a:pt x="406" y="72"/>
                </a:lnTo>
                <a:lnTo>
                  <a:pt x="435" y="83"/>
                </a:lnTo>
                <a:lnTo>
                  <a:pt x="463" y="94"/>
                </a:lnTo>
                <a:lnTo>
                  <a:pt x="492" y="106"/>
                </a:lnTo>
                <a:lnTo>
                  <a:pt x="520" y="119"/>
                </a:lnTo>
                <a:lnTo>
                  <a:pt x="548" y="132"/>
                </a:lnTo>
                <a:lnTo>
                  <a:pt x="576" y="146"/>
                </a:lnTo>
                <a:lnTo>
                  <a:pt x="602" y="161"/>
                </a:lnTo>
                <a:lnTo>
                  <a:pt x="629" y="176"/>
                </a:lnTo>
                <a:lnTo>
                  <a:pt x="655" y="191"/>
                </a:lnTo>
                <a:lnTo>
                  <a:pt x="680" y="208"/>
                </a:lnTo>
                <a:lnTo>
                  <a:pt x="707" y="225"/>
                </a:lnTo>
                <a:lnTo>
                  <a:pt x="731" y="243"/>
                </a:lnTo>
                <a:lnTo>
                  <a:pt x="756" y="261"/>
                </a:lnTo>
                <a:lnTo>
                  <a:pt x="780" y="280"/>
                </a:lnTo>
                <a:lnTo>
                  <a:pt x="803" y="299"/>
                </a:lnTo>
                <a:lnTo>
                  <a:pt x="826" y="319"/>
                </a:lnTo>
                <a:lnTo>
                  <a:pt x="848" y="339"/>
                </a:lnTo>
                <a:lnTo>
                  <a:pt x="871" y="360"/>
                </a:lnTo>
                <a:lnTo>
                  <a:pt x="893" y="381"/>
                </a:lnTo>
                <a:lnTo>
                  <a:pt x="914" y="404"/>
                </a:lnTo>
                <a:lnTo>
                  <a:pt x="934" y="426"/>
                </a:lnTo>
                <a:lnTo>
                  <a:pt x="954" y="449"/>
                </a:lnTo>
                <a:lnTo>
                  <a:pt x="974" y="472"/>
                </a:lnTo>
                <a:lnTo>
                  <a:pt x="993" y="496"/>
                </a:lnTo>
                <a:lnTo>
                  <a:pt x="1011" y="520"/>
                </a:lnTo>
                <a:lnTo>
                  <a:pt x="1030" y="545"/>
                </a:lnTo>
                <a:lnTo>
                  <a:pt x="1047" y="571"/>
                </a:lnTo>
                <a:lnTo>
                  <a:pt x="1063" y="596"/>
                </a:lnTo>
                <a:lnTo>
                  <a:pt x="1079" y="622"/>
                </a:lnTo>
                <a:lnTo>
                  <a:pt x="1095" y="648"/>
                </a:lnTo>
                <a:lnTo>
                  <a:pt x="1109" y="675"/>
                </a:lnTo>
                <a:lnTo>
                  <a:pt x="1124" y="702"/>
                </a:lnTo>
                <a:lnTo>
                  <a:pt x="1137" y="730"/>
                </a:lnTo>
                <a:lnTo>
                  <a:pt x="1150" y="758"/>
                </a:lnTo>
                <a:lnTo>
                  <a:pt x="1162" y="786"/>
                </a:lnTo>
                <a:lnTo>
                  <a:pt x="1174" y="815"/>
                </a:lnTo>
                <a:lnTo>
                  <a:pt x="1185" y="844"/>
                </a:lnTo>
                <a:lnTo>
                  <a:pt x="1196" y="873"/>
                </a:lnTo>
                <a:lnTo>
                  <a:pt x="1205" y="903"/>
                </a:lnTo>
                <a:lnTo>
                  <a:pt x="1214" y="933"/>
                </a:lnTo>
                <a:lnTo>
                  <a:pt x="1222" y="963"/>
                </a:lnTo>
                <a:lnTo>
                  <a:pt x="1229" y="994"/>
                </a:lnTo>
                <a:lnTo>
                  <a:pt x="1236" y="1024"/>
                </a:lnTo>
                <a:lnTo>
                  <a:pt x="1242" y="1056"/>
                </a:lnTo>
                <a:lnTo>
                  <a:pt x="1247" y="1088"/>
                </a:lnTo>
                <a:lnTo>
                  <a:pt x="1251" y="1119"/>
                </a:lnTo>
                <a:lnTo>
                  <a:pt x="1255" y="1151"/>
                </a:lnTo>
                <a:lnTo>
                  <a:pt x="1258" y="1183"/>
                </a:lnTo>
                <a:lnTo>
                  <a:pt x="1260" y="1216"/>
                </a:lnTo>
                <a:lnTo>
                  <a:pt x="1261" y="1248"/>
                </a:lnTo>
                <a:lnTo>
                  <a:pt x="1261" y="1281"/>
                </a:lnTo>
                <a:lnTo>
                  <a:pt x="1261" y="1321"/>
                </a:lnTo>
                <a:lnTo>
                  <a:pt x="1260" y="1342"/>
                </a:lnTo>
                <a:lnTo>
                  <a:pt x="1259" y="1363"/>
                </a:lnTo>
                <a:lnTo>
                  <a:pt x="1257" y="1383"/>
                </a:lnTo>
                <a:lnTo>
                  <a:pt x="1255" y="1403"/>
                </a:lnTo>
                <a:lnTo>
                  <a:pt x="1251" y="1443"/>
                </a:lnTo>
                <a:lnTo>
                  <a:pt x="1248" y="1463"/>
                </a:lnTo>
                <a:lnTo>
                  <a:pt x="1245" y="1483"/>
                </a:lnTo>
                <a:lnTo>
                  <a:pt x="1242" y="1502"/>
                </a:lnTo>
                <a:lnTo>
                  <a:pt x="1238" y="1523"/>
                </a:lnTo>
                <a:lnTo>
                  <a:pt x="1230" y="1562"/>
                </a:lnTo>
                <a:lnTo>
                  <a:pt x="1221" y="1600"/>
                </a:lnTo>
                <a:lnTo>
                  <a:pt x="1216" y="1619"/>
                </a:lnTo>
                <a:lnTo>
                  <a:pt x="1211" y="1638"/>
                </a:lnTo>
                <a:lnTo>
                  <a:pt x="1199" y="1675"/>
                </a:lnTo>
                <a:lnTo>
                  <a:pt x="1186" y="1713"/>
                </a:lnTo>
                <a:lnTo>
                  <a:pt x="1172" y="1749"/>
                </a:lnTo>
                <a:lnTo>
                  <a:pt x="1157" y="1785"/>
                </a:lnTo>
                <a:lnTo>
                  <a:pt x="1141" y="1820"/>
                </a:lnTo>
                <a:lnTo>
                  <a:pt x="1124" y="1856"/>
                </a:lnTo>
                <a:lnTo>
                  <a:pt x="1106" y="1890"/>
                </a:lnTo>
                <a:lnTo>
                  <a:pt x="709" y="1899"/>
                </a:lnTo>
                <a:lnTo>
                  <a:pt x="554" y="1574"/>
                </a:lnTo>
                <a:lnTo>
                  <a:pt x="562" y="1557"/>
                </a:lnTo>
                <a:lnTo>
                  <a:pt x="570" y="1541"/>
                </a:lnTo>
                <a:lnTo>
                  <a:pt x="577" y="1524"/>
                </a:lnTo>
                <a:lnTo>
                  <a:pt x="584" y="1505"/>
                </a:lnTo>
                <a:lnTo>
                  <a:pt x="590" y="1488"/>
                </a:lnTo>
                <a:lnTo>
                  <a:pt x="596" y="1470"/>
                </a:lnTo>
                <a:lnTo>
                  <a:pt x="601" y="1452"/>
                </a:lnTo>
                <a:lnTo>
                  <a:pt x="606" y="1434"/>
                </a:lnTo>
                <a:lnTo>
                  <a:pt x="610" y="1416"/>
                </a:lnTo>
                <a:lnTo>
                  <a:pt x="614" y="1397"/>
                </a:lnTo>
                <a:lnTo>
                  <a:pt x="617" y="1378"/>
                </a:lnTo>
                <a:lnTo>
                  <a:pt x="620" y="1358"/>
                </a:lnTo>
                <a:lnTo>
                  <a:pt x="622" y="1339"/>
                </a:lnTo>
                <a:lnTo>
                  <a:pt x="624" y="1320"/>
                </a:lnTo>
                <a:lnTo>
                  <a:pt x="624" y="1300"/>
                </a:lnTo>
                <a:lnTo>
                  <a:pt x="625" y="1281"/>
                </a:lnTo>
                <a:lnTo>
                  <a:pt x="624" y="1248"/>
                </a:lnTo>
                <a:lnTo>
                  <a:pt x="623" y="1232"/>
                </a:lnTo>
                <a:lnTo>
                  <a:pt x="622" y="1216"/>
                </a:lnTo>
                <a:lnTo>
                  <a:pt x="620" y="1200"/>
                </a:lnTo>
                <a:lnTo>
                  <a:pt x="618" y="1184"/>
                </a:lnTo>
                <a:lnTo>
                  <a:pt x="615" y="1169"/>
                </a:lnTo>
                <a:lnTo>
                  <a:pt x="612" y="1153"/>
                </a:lnTo>
                <a:lnTo>
                  <a:pt x="609" y="1138"/>
                </a:lnTo>
                <a:lnTo>
                  <a:pt x="605" y="1123"/>
                </a:lnTo>
                <a:lnTo>
                  <a:pt x="601" y="1108"/>
                </a:lnTo>
                <a:lnTo>
                  <a:pt x="597" y="1093"/>
                </a:lnTo>
                <a:lnTo>
                  <a:pt x="587" y="1064"/>
                </a:lnTo>
                <a:lnTo>
                  <a:pt x="576" y="1034"/>
                </a:lnTo>
                <a:lnTo>
                  <a:pt x="564" y="1006"/>
                </a:lnTo>
                <a:lnTo>
                  <a:pt x="557" y="993"/>
                </a:lnTo>
                <a:lnTo>
                  <a:pt x="550" y="979"/>
                </a:lnTo>
                <a:lnTo>
                  <a:pt x="534" y="953"/>
                </a:lnTo>
                <a:lnTo>
                  <a:pt x="518" y="927"/>
                </a:lnTo>
                <a:lnTo>
                  <a:pt x="510" y="915"/>
                </a:lnTo>
                <a:lnTo>
                  <a:pt x="501" y="902"/>
                </a:lnTo>
                <a:lnTo>
                  <a:pt x="483" y="877"/>
                </a:lnTo>
                <a:lnTo>
                  <a:pt x="473" y="866"/>
                </a:lnTo>
                <a:lnTo>
                  <a:pt x="463" y="854"/>
                </a:lnTo>
                <a:lnTo>
                  <a:pt x="453" y="843"/>
                </a:lnTo>
                <a:lnTo>
                  <a:pt x="443" y="832"/>
                </a:lnTo>
                <a:lnTo>
                  <a:pt x="432" y="822"/>
                </a:lnTo>
                <a:lnTo>
                  <a:pt x="421" y="811"/>
                </a:lnTo>
                <a:lnTo>
                  <a:pt x="410" y="801"/>
                </a:lnTo>
                <a:lnTo>
                  <a:pt x="399" y="791"/>
                </a:lnTo>
                <a:lnTo>
                  <a:pt x="375" y="772"/>
                </a:lnTo>
                <a:lnTo>
                  <a:pt x="363" y="763"/>
                </a:lnTo>
                <a:lnTo>
                  <a:pt x="350" y="754"/>
                </a:lnTo>
                <a:lnTo>
                  <a:pt x="338" y="746"/>
                </a:lnTo>
                <a:lnTo>
                  <a:pt x="325" y="737"/>
                </a:lnTo>
                <a:lnTo>
                  <a:pt x="312" y="729"/>
                </a:lnTo>
                <a:lnTo>
                  <a:pt x="299" y="722"/>
                </a:lnTo>
                <a:lnTo>
                  <a:pt x="273" y="706"/>
                </a:lnTo>
                <a:lnTo>
                  <a:pt x="245" y="693"/>
                </a:lnTo>
                <a:lnTo>
                  <a:pt x="231" y="687"/>
                </a:lnTo>
                <a:lnTo>
                  <a:pt x="216" y="681"/>
                </a:lnTo>
                <a:lnTo>
                  <a:pt x="202" y="676"/>
                </a:lnTo>
                <a:lnTo>
                  <a:pt x="187" y="671"/>
                </a:lnTo>
                <a:lnTo>
                  <a:pt x="158" y="662"/>
                </a:lnTo>
                <a:lnTo>
                  <a:pt x="143" y="657"/>
                </a:lnTo>
                <a:lnTo>
                  <a:pt x="128" y="654"/>
                </a:lnTo>
                <a:lnTo>
                  <a:pt x="97" y="647"/>
                </a:lnTo>
                <a:lnTo>
                  <a:pt x="82" y="645"/>
                </a:lnTo>
                <a:lnTo>
                  <a:pt x="66" y="642"/>
                </a:lnTo>
                <a:lnTo>
                  <a:pt x="49" y="641"/>
                </a:lnTo>
                <a:lnTo>
                  <a:pt x="34" y="639"/>
                </a:lnTo>
                <a:lnTo>
                  <a:pt x="18" y="638"/>
                </a:lnTo>
                <a:lnTo>
                  <a:pt x="2" y="637"/>
                </a:lnTo>
                <a:lnTo>
                  <a:pt x="199" y="348"/>
                </a:lnTo>
                <a:lnTo>
                  <a:pt x="0" y="0"/>
                </a:lnTo>
                <a:close/>
              </a:path>
            </a:pathLst>
          </a:custGeom>
          <a:solidFill>
            <a:srgbClr val="cddb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9" name=""/>
          <p:cNvSpPr/>
          <p:nvPr/>
        </p:nvSpPr>
        <p:spPr>
          <a:xfrm>
            <a:off x="3178080" y="4038480"/>
            <a:ext cx="274320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VLAN technology</a:t>
            </a:r>
            <a:endParaRPr b="0" lang="en-US" sz="2400" spc="-1" strike="noStrike">
              <a:solidFill>
                <a:srgbClr val="000066"/>
              </a:solidFill>
              <a:latin typeface="Times New Roman"/>
            </a:endParaRPr>
          </a:p>
        </p:txBody>
      </p:sp>
      <p:sp>
        <p:nvSpPr>
          <p:cNvPr id="1880" name=""/>
          <p:cNvSpPr/>
          <p:nvPr/>
        </p:nvSpPr>
        <p:spPr>
          <a:xfrm>
            <a:off x="5006880" y="2819520"/>
            <a:ext cx="137160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Firewall</a:t>
            </a:r>
            <a:endParaRPr b="0" lang="en-US" sz="2400" spc="-1" strike="noStrike">
              <a:solidFill>
                <a:srgbClr val="000066"/>
              </a:solidFill>
              <a:latin typeface="Times New Roman"/>
            </a:endParaRPr>
          </a:p>
        </p:txBody>
      </p:sp>
      <p:sp>
        <p:nvSpPr>
          <p:cNvPr id="1881" name=""/>
          <p:cNvSpPr/>
          <p:nvPr/>
        </p:nvSpPr>
        <p:spPr>
          <a:xfrm>
            <a:off x="2492280" y="2819520"/>
            <a:ext cx="160020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visiting id</a:t>
            </a:r>
            <a:endParaRPr b="0" lang="en-US" sz="2400" spc="-1" strike="noStrike">
              <a:solidFill>
                <a:srgbClr val="000066"/>
              </a:solidFill>
              <a:latin typeface="Times New Roman"/>
            </a:endParaRPr>
          </a:p>
        </p:txBody>
      </p:sp>
      <p:sp>
        <p:nvSpPr>
          <p:cNvPr id="1882" name=""/>
          <p:cNvSpPr/>
          <p:nvPr/>
        </p:nvSpPr>
        <p:spPr>
          <a:xfrm>
            <a:off x="558720" y="2122560"/>
            <a:ext cx="1600200" cy="1585800"/>
          </a:xfrm>
          <a:custGeom>
            <a:avLst/>
            <a:gdLst/>
            <a:ahLst/>
            <a:rect l="l" t="t" r="r" b="b"/>
            <a:pathLst>
              <a:path w="1729" h="865">
                <a:moveTo>
                  <a:pt x="1728" y="360"/>
                </a:moveTo>
                <a:lnTo>
                  <a:pt x="1728" y="0"/>
                </a:lnTo>
                <a:lnTo>
                  <a:pt x="0" y="0"/>
                </a:lnTo>
                <a:lnTo>
                  <a:pt x="0" y="864"/>
                </a:lnTo>
                <a:lnTo>
                  <a:pt x="1728" y="864"/>
                </a:lnTo>
                <a:lnTo>
                  <a:pt x="1728"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3" name=""/>
          <p:cNvSpPr/>
          <p:nvPr/>
        </p:nvSpPr>
        <p:spPr>
          <a:xfrm>
            <a:off x="2158920" y="2678040"/>
            <a:ext cx="304920" cy="459000"/>
          </a:xfrm>
          <a:custGeom>
            <a:avLst/>
            <a:gdLst/>
            <a:ahLst/>
            <a:rect l="l" t="t" r="r" b="b"/>
            <a:pathLst>
              <a:path w="505" h="289">
                <a:moveTo>
                  <a:pt x="0" y="72"/>
                </a:moveTo>
                <a:lnTo>
                  <a:pt x="360" y="72"/>
                </a:lnTo>
                <a:lnTo>
                  <a:pt x="360" y="0"/>
                </a:lnTo>
                <a:lnTo>
                  <a:pt x="504" y="144"/>
                </a:lnTo>
                <a:lnTo>
                  <a:pt x="360" y="288"/>
                </a:lnTo>
                <a:lnTo>
                  <a:pt x="360" y="216"/>
                </a:lnTo>
                <a:lnTo>
                  <a:pt x="0" y="216"/>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4" name=""/>
          <p:cNvSpPr/>
          <p:nvPr/>
        </p:nvSpPr>
        <p:spPr>
          <a:xfrm>
            <a:off x="596880" y="2384280"/>
            <a:ext cx="1562040" cy="72900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rPr>
              <a:t>· </a:t>
            </a:r>
            <a:r>
              <a:rPr b="1" lang="zh-CN" sz="1600" spc="-1" strike="noStrike">
                <a:solidFill>
                  <a:srgbClr val="000066"/>
                </a:solidFill>
                <a:latin typeface="Times New Roman"/>
              </a:rPr>
              <a:t>校园数据中心系统对访问的权限有严格的限制</a:t>
            </a:r>
            <a:endParaRPr b="0" lang="en-US" sz="1600" spc="-1" strike="noStrike">
              <a:solidFill>
                <a:srgbClr val="000066"/>
              </a:solidFill>
              <a:latin typeface="Times New Roman"/>
            </a:endParaRPr>
          </a:p>
        </p:txBody>
      </p:sp>
      <p:sp>
        <p:nvSpPr>
          <p:cNvPr id="1885" name=""/>
          <p:cNvSpPr/>
          <p:nvPr/>
        </p:nvSpPr>
        <p:spPr>
          <a:xfrm>
            <a:off x="6350040" y="2666880"/>
            <a:ext cx="304920" cy="459000"/>
          </a:xfrm>
          <a:custGeom>
            <a:avLst/>
            <a:gdLst/>
            <a:ahLst/>
            <a:rect l="l" t="t" r="r" b="b"/>
            <a:pathLst>
              <a:path w="505" h="289">
                <a:moveTo>
                  <a:pt x="504" y="72"/>
                </a:moveTo>
                <a:lnTo>
                  <a:pt x="144" y="72"/>
                </a:lnTo>
                <a:lnTo>
                  <a:pt x="144" y="0"/>
                </a:lnTo>
                <a:lnTo>
                  <a:pt x="0" y="144"/>
                </a:lnTo>
                <a:lnTo>
                  <a:pt x="144" y="288"/>
                </a:lnTo>
                <a:lnTo>
                  <a:pt x="144" y="216"/>
                </a:lnTo>
                <a:lnTo>
                  <a:pt x="504" y="216"/>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6" name=""/>
          <p:cNvSpPr/>
          <p:nvPr/>
        </p:nvSpPr>
        <p:spPr>
          <a:xfrm>
            <a:off x="6654960" y="2209680"/>
            <a:ext cx="1904760" cy="1373400"/>
          </a:xfrm>
          <a:custGeom>
            <a:avLst/>
            <a:gdLst/>
            <a:ahLst/>
            <a:rect l="l" t="t" r="r" b="b"/>
            <a:pathLst>
              <a:path w="1729" h="865">
                <a:moveTo>
                  <a:pt x="0" y="360"/>
                </a:moveTo>
                <a:lnTo>
                  <a:pt x="0" y="0"/>
                </a:lnTo>
                <a:lnTo>
                  <a:pt x="1728" y="0"/>
                </a:lnTo>
                <a:lnTo>
                  <a:pt x="1728" y="864"/>
                </a:lnTo>
                <a:lnTo>
                  <a:pt x="0" y="864"/>
                </a:lnTo>
                <a:lnTo>
                  <a:pt x="0"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7" name=""/>
          <p:cNvSpPr/>
          <p:nvPr/>
        </p:nvSpPr>
        <p:spPr>
          <a:xfrm>
            <a:off x="6730920" y="2209680"/>
            <a:ext cx="1752840" cy="104652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 </a:t>
            </a:r>
            <a:r>
              <a:rPr b="1" lang="zh-CN" sz="1600" spc="-1" strike="noStrike">
                <a:solidFill>
                  <a:srgbClr val="000066"/>
                </a:solidFill>
                <a:latin typeface="Times New Roman"/>
              </a:rPr>
              <a:t>在数据区域的出入口放置防火墙，执行安全及访问控制功能</a:t>
            </a:r>
            <a:endParaRPr b="0" lang="en-US" sz="1600" spc="-1" strike="noStrike">
              <a:solidFill>
                <a:srgbClr val="000066"/>
              </a:solidFill>
              <a:latin typeface="Times New Roman"/>
            </a:endParaRPr>
          </a:p>
        </p:txBody>
      </p:sp>
      <p:sp>
        <p:nvSpPr>
          <p:cNvPr id="1888" name=""/>
          <p:cNvSpPr/>
          <p:nvPr/>
        </p:nvSpPr>
        <p:spPr>
          <a:xfrm>
            <a:off x="4245120" y="4495680"/>
            <a:ext cx="609480" cy="38124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89" name=""/>
          <p:cNvSpPr/>
          <p:nvPr/>
        </p:nvSpPr>
        <p:spPr>
          <a:xfrm>
            <a:off x="2720880" y="4876920"/>
            <a:ext cx="3657600" cy="106668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890" name=""/>
          <p:cNvSpPr/>
          <p:nvPr/>
        </p:nvSpPr>
        <p:spPr>
          <a:xfrm>
            <a:off x="2797200" y="4876920"/>
            <a:ext cx="3505320" cy="104652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 </a:t>
            </a:r>
            <a:r>
              <a:rPr b="1" lang="zh-CN" sz="1600" spc="-1" strike="noStrike">
                <a:solidFill>
                  <a:srgbClr val="000066"/>
                </a:solidFill>
                <a:latin typeface="Times New Roman"/>
              </a:rPr>
              <a:t>使用</a:t>
            </a:r>
            <a:r>
              <a:rPr b="1" lang="en-US" sz="1600" spc="-1" strike="noStrike">
                <a:solidFill>
                  <a:srgbClr val="000066"/>
                </a:solidFill>
                <a:latin typeface="Times New Roman"/>
              </a:rPr>
              <a:t>VLAN</a:t>
            </a:r>
            <a:r>
              <a:rPr b="1" lang="zh-CN" sz="1600" spc="-1" strike="noStrike">
                <a:solidFill>
                  <a:srgbClr val="000066"/>
                </a:solidFill>
                <a:latin typeface="Times New Roman"/>
              </a:rPr>
              <a:t>技术隔离不同业务部分</a:t>
            </a:r>
            <a:endParaRPr b="0" lang="en-US" sz="1600" spc="-1" strike="noStrike">
              <a:solidFill>
                <a:srgbClr val="000066"/>
              </a:solidFill>
              <a:latin typeface="Times New Roman"/>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zh-CN" sz="1600" spc="-1" strike="noStrike">
                <a:solidFill>
                  <a:srgbClr val="000066"/>
                </a:solidFill>
                <a:latin typeface="Times New Roman"/>
              </a:rPr>
              <a:t>根据路由策略进行按需通讯</a:t>
            </a:r>
            <a:endParaRPr b="0" lang="en-US" sz="1600" spc="-1" strike="noStrike">
              <a:solidFill>
                <a:srgbClr val="000066"/>
              </a:solidFill>
              <a:latin typeface="Times New Roman"/>
            </a:endParaRPr>
          </a:p>
        </p:txBody>
      </p:sp>
      <p:sp>
        <p:nvSpPr>
          <p:cNvPr id="189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89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7"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8"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09"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0"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1"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1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2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交易安全</a:t>
            </a:r>
            <a:r>
              <a:rPr b="0" lang="zh-CN" sz="4800" spc="-1" strike="noStrike">
                <a:solidFill>
                  <a:srgbClr val="000099"/>
                </a:solidFill>
                <a:latin typeface="Times New Roman"/>
                <a:ea typeface="宋体"/>
              </a:rPr>
              <a:t>(1)</a:t>
            </a:r>
            <a:endParaRPr b="0" lang="en-US" sz="4800" spc="-1" strike="noStrike">
              <a:solidFill>
                <a:srgbClr val="000099"/>
              </a:solidFill>
              <a:latin typeface="Times New Roman"/>
            </a:endParaRPr>
          </a:p>
        </p:txBody>
      </p:sp>
      <p:sp>
        <p:nvSpPr>
          <p:cNvPr id="192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通过黑白名单管理实现了交易的安全</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有效期识别功能</a:t>
            </a:r>
            <a:endParaRPr b="1" lang="en-US" sz="3200" spc="-1" strike="noStrike">
              <a:solidFill>
                <a:srgbClr val="000099"/>
              </a:solidFill>
              <a:latin typeface="Times New Roman"/>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imes New Roman"/>
              </a:rPr>
              <a:t>能有效的防止过期卡片使用</a:t>
            </a:r>
            <a:endParaRPr b="0" lang="en-US" sz="28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还提供了非法卡、黑卡报警功能</a:t>
            </a:r>
            <a:endParaRPr b="1" lang="en-US" sz="3200" spc="-1" strike="noStrike">
              <a:solidFill>
                <a:srgbClr val="000099"/>
              </a:solidFill>
              <a:latin typeface="Times New Roman"/>
            </a:endParaRPr>
          </a:p>
        </p:txBody>
      </p:sp>
      <p:sp>
        <p:nvSpPr>
          <p:cNvPr id="1927" name=""/>
          <p:cNvSpPr/>
          <p:nvPr/>
        </p:nvSpPr>
        <p:spPr>
          <a:xfrm>
            <a:off x="3352680" y="1965240"/>
            <a:ext cx="472464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POS</a:t>
            </a:r>
            <a:r>
              <a:rPr b="1" lang="zh-CN" sz="1800" spc="-1" strike="noStrike">
                <a:solidFill>
                  <a:srgbClr val="000099"/>
                </a:solidFill>
                <a:latin typeface="Times New Roman"/>
              </a:rPr>
              <a:t>机每次开机时从校园一卡通系统服务器联机下载各类所需数据，各类卡交易都达到了高度的实时性</a:t>
            </a:r>
            <a:endParaRPr b="0" lang="en-US" sz="1800" spc="-1" strike="noStrike">
              <a:solidFill>
                <a:srgbClr val="000066"/>
              </a:solidFill>
              <a:latin typeface="Times New Roman"/>
            </a:endParaRPr>
          </a:p>
        </p:txBody>
      </p:sp>
      <p:sp>
        <p:nvSpPr>
          <p:cNvPr id="1928" name=""/>
          <p:cNvSpPr/>
          <p:nvPr/>
        </p:nvSpPr>
        <p:spPr>
          <a:xfrm>
            <a:off x="3352680" y="3032280"/>
            <a:ext cx="472464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黑名单</a:t>
            </a:r>
            <a:r>
              <a:rPr b="1" lang="zh-CN" sz="1800" spc="-1" strike="noStrike">
                <a:solidFill>
                  <a:srgbClr val="000099"/>
                </a:solidFill>
                <a:latin typeface="Times New Roman"/>
              </a:rPr>
              <a:t>/</a:t>
            </a:r>
            <a:r>
              <a:rPr b="1" lang="zh-CN" sz="1800" spc="-1" strike="noStrike">
                <a:solidFill>
                  <a:srgbClr val="000099"/>
                </a:solidFill>
                <a:latin typeface="Times New Roman"/>
              </a:rPr>
              <a:t>白名单在</a:t>
            </a:r>
            <a:r>
              <a:rPr b="1" lang="en-US" sz="1800" spc="-1" strike="noStrike">
                <a:solidFill>
                  <a:srgbClr val="000099"/>
                </a:solidFill>
                <a:latin typeface="Times New Roman"/>
              </a:rPr>
              <a:t>POS</a:t>
            </a:r>
            <a:r>
              <a:rPr b="1" lang="zh-CN" sz="1800" spc="-1" strike="noStrike">
                <a:solidFill>
                  <a:srgbClr val="000099"/>
                </a:solidFill>
                <a:latin typeface="Times New Roman"/>
              </a:rPr>
              <a:t>每次开机时从校园一卡通系统服务器联机下载，因此脱机模式下仍可保持绝大部分黑</a:t>
            </a:r>
            <a:r>
              <a:rPr b="1" lang="zh-CN" sz="1800" spc="-1" strike="noStrike">
                <a:solidFill>
                  <a:srgbClr val="000099"/>
                </a:solidFill>
                <a:latin typeface="Times New Roman"/>
              </a:rPr>
              <a:t>/</a:t>
            </a:r>
            <a:r>
              <a:rPr b="1" lang="zh-CN" sz="1800" spc="-1" strike="noStrike">
                <a:solidFill>
                  <a:srgbClr val="000099"/>
                </a:solidFill>
                <a:latin typeface="Times New Roman"/>
              </a:rPr>
              <a:t>白名单的有效性</a:t>
            </a:r>
            <a:endParaRPr b="0" lang="en-US" sz="1800" spc="-1" strike="noStrike">
              <a:solidFill>
                <a:srgbClr val="000066"/>
              </a:solidFill>
              <a:latin typeface="Times New Roman"/>
            </a:endParaRPr>
          </a:p>
        </p:txBody>
      </p:sp>
      <p:sp>
        <p:nvSpPr>
          <p:cNvPr id="1929" name=""/>
          <p:cNvSpPr/>
          <p:nvPr/>
        </p:nvSpPr>
        <p:spPr>
          <a:xfrm>
            <a:off x="851040" y="1905120"/>
            <a:ext cx="1739880" cy="825480"/>
          </a:xfrm>
          <a:custGeom>
            <a:avLst/>
            <a:gdLst/>
            <a:ahLst/>
            <a:rect l="l" t="t" r="r" b="b"/>
            <a:pathLst>
              <a:path w="1729" h="865">
                <a:moveTo>
                  <a:pt x="1728" y="360"/>
                </a:moveTo>
                <a:lnTo>
                  <a:pt x="1728" y="0"/>
                </a:lnTo>
                <a:lnTo>
                  <a:pt x="0" y="0"/>
                </a:lnTo>
                <a:lnTo>
                  <a:pt x="0" y="864"/>
                </a:lnTo>
                <a:lnTo>
                  <a:pt x="1728" y="864"/>
                </a:lnTo>
                <a:lnTo>
                  <a:pt x="1728"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30" name=""/>
          <p:cNvSpPr/>
          <p:nvPr/>
        </p:nvSpPr>
        <p:spPr>
          <a:xfrm>
            <a:off x="2590920" y="2090880"/>
            <a:ext cx="457200" cy="458640"/>
          </a:xfrm>
          <a:custGeom>
            <a:avLst/>
            <a:gdLst/>
            <a:ahLst/>
            <a:rect l="l" t="t" r="r" b="b"/>
            <a:pathLst>
              <a:path w="505" h="289">
                <a:moveTo>
                  <a:pt x="0" y="72"/>
                </a:moveTo>
                <a:lnTo>
                  <a:pt x="360" y="72"/>
                </a:lnTo>
                <a:lnTo>
                  <a:pt x="360" y="0"/>
                </a:lnTo>
                <a:lnTo>
                  <a:pt x="504" y="144"/>
                </a:lnTo>
                <a:lnTo>
                  <a:pt x="360" y="288"/>
                </a:lnTo>
                <a:lnTo>
                  <a:pt x="360" y="216"/>
                </a:lnTo>
                <a:lnTo>
                  <a:pt x="0" y="216"/>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31" name=""/>
          <p:cNvSpPr/>
          <p:nvPr/>
        </p:nvSpPr>
        <p:spPr>
          <a:xfrm>
            <a:off x="1041480" y="2209680"/>
            <a:ext cx="1473120" cy="246240"/>
          </a:xfrm>
          <a:prstGeom prst="rect">
            <a:avLst/>
          </a:prstGeom>
          <a:noFill/>
          <a:ln w="0">
            <a:noFill/>
          </a:ln>
        </p:spPr>
        <p:style>
          <a:lnRef idx="0"/>
          <a:fillRef idx="0"/>
          <a:effectRef idx="0"/>
          <a:fontRef idx="minor"/>
        </p:style>
        <p:txBody>
          <a:bodyPr lIns="45720" rIns="4572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 </a:t>
            </a:r>
            <a:r>
              <a:rPr b="1" lang="zh-CN" sz="2000" spc="-1" strike="noStrike">
                <a:solidFill>
                  <a:srgbClr val="000099"/>
                </a:solidFill>
                <a:latin typeface="Arial"/>
              </a:rPr>
              <a:t>联机模式</a:t>
            </a:r>
            <a:endParaRPr b="0" lang="en-US" sz="2000" spc="-1" strike="noStrike">
              <a:solidFill>
                <a:srgbClr val="000066"/>
              </a:solidFill>
              <a:latin typeface="Times New Roman"/>
            </a:endParaRPr>
          </a:p>
        </p:txBody>
      </p:sp>
      <p:sp>
        <p:nvSpPr>
          <p:cNvPr id="1932" name=""/>
          <p:cNvSpPr/>
          <p:nvPr/>
        </p:nvSpPr>
        <p:spPr>
          <a:xfrm>
            <a:off x="851040" y="3048120"/>
            <a:ext cx="1739880" cy="825480"/>
          </a:xfrm>
          <a:custGeom>
            <a:avLst/>
            <a:gdLst/>
            <a:ahLst/>
            <a:rect l="l" t="t" r="r" b="b"/>
            <a:pathLst>
              <a:path w="1729" h="865">
                <a:moveTo>
                  <a:pt x="1728" y="360"/>
                </a:moveTo>
                <a:lnTo>
                  <a:pt x="1728" y="0"/>
                </a:lnTo>
                <a:lnTo>
                  <a:pt x="0" y="0"/>
                </a:lnTo>
                <a:lnTo>
                  <a:pt x="0" y="864"/>
                </a:lnTo>
                <a:lnTo>
                  <a:pt x="1728" y="864"/>
                </a:lnTo>
                <a:lnTo>
                  <a:pt x="1728"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33" name=""/>
          <p:cNvSpPr/>
          <p:nvPr/>
        </p:nvSpPr>
        <p:spPr>
          <a:xfrm>
            <a:off x="2590920" y="3233880"/>
            <a:ext cx="457200" cy="458640"/>
          </a:xfrm>
          <a:custGeom>
            <a:avLst/>
            <a:gdLst/>
            <a:ahLst/>
            <a:rect l="l" t="t" r="r" b="b"/>
            <a:pathLst>
              <a:path w="505" h="289">
                <a:moveTo>
                  <a:pt x="0" y="72"/>
                </a:moveTo>
                <a:lnTo>
                  <a:pt x="360" y="72"/>
                </a:lnTo>
                <a:lnTo>
                  <a:pt x="360" y="0"/>
                </a:lnTo>
                <a:lnTo>
                  <a:pt x="504" y="144"/>
                </a:lnTo>
                <a:lnTo>
                  <a:pt x="360" y="288"/>
                </a:lnTo>
                <a:lnTo>
                  <a:pt x="360" y="216"/>
                </a:lnTo>
                <a:lnTo>
                  <a:pt x="0" y="216"/>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34" name=""/>
          <p:cNvSpPr/>
          <p:nvPr/>
        </p:nvSpPr>
        <p:spPr>
          <a:xfrm>
            <a:off x="1041480" y="3352680"/>
            <a:ext cx="1473120" cy="246240"/>
          </a:xfrm>
          <a:prstGeom prst="rect">
            <a:avLst/>
          </a:prstGeom>
          <a:noFill/>
          <a:ln w="0">
            <a:noFill/>
          </a:ln>
        </p:spPr>
        <p:style>
          <a:lnRef idx="0"/>
          <a:fillRef idx="0"/>
          <a:effectRef idx="0"/>
          <a:fontRef idx="minor"/>
        </p:style>
        <p:txBody>
          <a:bodyPr lIns="45720" rIns="4572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 </a:t>
            </a:r>
            <a:r>
              <a:rPr b="1" lang="zh-CN" sz="2000" spc="-1" strike="noStrike">
                <a:solidFill>
                  <a:srgbClr val="000099"/>
                </a:solidFill>
                <a:latin typeface="Arial"/>
              </a:rPr>
              <a:t>脱机模式</a:t>
            </a:r>
            <a:endParaRPr b="0" lang="en-US" sz="2000" spc="-1" strike="noStrike">
              <a:solidFill>
                <a:srgbClr val="000066"/>
              </a:solidFill>
              <a:latin typeface="Times New Roman"/>
            </a:endParaRPr>
          </a:p>
        </p:txBody>
      </p:sp>
      <p:sp>
        <p:nvSpPr>
          <p:cNvPr id="193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3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49"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0"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1"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2"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3"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4"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5"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6"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7"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8"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59"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0"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1"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2"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3"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4"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5"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6"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7"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6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交易安全</a:t>
            </a:r>
            <a:r>
              <a:rPr b="0" lang="zh-CN" sz="4800" spc="-1" strike="noStrike">
                <a:solidFill>
                  <a:srgbClr val="000099"/>
                </a:solidFill>
                <a:latin typeface="Times New Roman"/>
                <a:ea typeface="宋体"/>
              </a:rPr>
              <a:t>(2)</a:t>
            </a:r>
            <a:endParaRPr b="0" lang="en-US" sz="4800" spc="-1" strike="noStrike">
              <a:solidFill>
                <a:srgbClr val="000099"/>
              </a:solidFill>
              <a:latin typeface="Times New Roman"/>
            </a:endParaRPr>
          </a:p>
        </p:txBody>
      </p:sp>
      <p:sp>
        <p:nvSpPr>
          <p:cNvPr id="1970"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交易安全还通过数字签名、双向认证实现</a:t>
            </a:r>
            <a:endParaRPr b="1" lang="en-US" sz="3200" spc="-1" strike="noStrike">
              <a:solidFill>
                <a:srgbClr val="000099"/>
              </a:solidFill>
              <a:latin typeface="Times New Roman"/>
            </a:endParaRPr>
          </a:p>
        </p:txBody>
      </p:sp>
      <p:sp>
        <p:nvSpPr>
          <p:cNvPr id="1971" name=""/>
          <p:cNvSpPr/>
          <p:nvPr/>
        </p:nvSpPr>
        <p:spPr>
          <a:xfrm>
            <a:off x="2895480" y="4800600"/>
            <a:ext cx="382680" cy="22860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72" name=""/>
          <p:cNvSpPr/>
          <p:nvPr/>
        </p:nvSpPr>
        <p:spPr>
          <a:xfrm>
            <a:off x="2133720" y="5029200"/>
            <a:ext cx="1904760" cy="99072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73" name=""/>
          <p:cNvSpPr/>
          <p:nvPr/>
        </p:nvSpPr>
        <p:spPr>
          <a:xfrm>
            <a:off x="2209680" y="5267160"/>
            <a:ext cx="180360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终端和用户卡首先进行相互认证</a:t>
            </a:r>
            <a:endParaRPr b="0" lang="en-US" sz="1800" spc="-1" strike="noStrike">
              <a:solidFill>
                <a:srgbClr val="000066"/>
              </a:solidFill>
              <a:latin typeface="Times New Roman"/>
            </a:endParaRPr>
          </a:p>
        </p:txBody>
      </p:sp>
      <p:sp>
        <p:nvSpPr>
          <p:cNvPr id="1974" name=""/>
          <p:cNvSpPr/>
          <p:nvPr/>
        </p:nvSpPr>
        <p:spPr>
          <a:xfrm>
            <a:off x="5410080" y="4800600"/>
            <a:ext cx="381240" cy="22860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75" name=""/>
          <p:cNvSpPr/>
          <p:nvPr/>
        </p:nvSpPr>
        <p:spPr>
          <a:xfrm>
            <a:off x="4648320" y="5029200"/>
            <a:ext cx="1904760" cy="99072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976" name=""/>
          <p:cNvSpPr/>
          <p:nvPr/>
        </p:nvSpPr>
        <p:spPr>
          <a:xfrm>
            <a:off x="4800600" y="5114880"/>
            <a:ext cx="182880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用于该交易流水上送主机后进行合法性校验</a:t>
            </a:r>
            <a:endParaRPr b="0" lang="en-US" sz="1800" spc="-1" strike="noStrike">
              <a:solidFill>
                <a:srgbClr val="000066"/>
              </a:solidFill>
              <a:latin typeface="Times New Roman"/>
            </a:endParaRPr>
          </a:p>
        </p:txBody>
      </p:sp>
      <p:sp>
        <p:nvSpPr>
          <p:cNvPr id="1977" name=""/>
          <p:cNvSpPr/>
          <p:nvPr/>
        </p:nvSpPr>
        <p:spPr>
          <a:xfrm>
            <a:off x="1955880" y="2232000"/>
            <a:ext cx="3301920" cy="436680"/>
          </a:xfrm>
          <a:prstGeom prst="rect">
            <a:avLst/>
          </a:prstGeom>
          <a:noFill/>
          <a:ln w="0">
            <a:noFill/>
          </a:ln>
        </p:spPr>
        <p:style>
          <a:lnRef idx="0"/>
          <a:fillRef idx="0"/>
          <a:effectRef idx="0"/>
          <a:fontRef idx="minor"/>
        </p:style>
        <p:txBody>
          <a:bodyPr lIns="45720" rIns="45720" tIns="46800" bIns="46800" anchor="t">
            <a:spAutoFit/>
          </a:bodyPr>
          <a:p>
            <a:pPr lvl="1">
              <a:lnSpc>
                <a:spcPts val="2699"/>
              </a:lnSpc>
              <a:spcBef>
                <a:spcPts val="901"/>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Times New Roman"/>
              </a:rPr>
              <a:t>储蓄卡交易</a:t>
            </a:r>
            <a:endParaRPr b="0" lang="en-US" sz="2400" spc="-1" strike="noStrike">
              <a:solidFill>
                <a:srgbClr val="000066"/>
              </a:solidFill>
              <a:latin typeface="Times New Roman"/>
            </a:endParaRPr>
          </a:p>
        </p:txBody>
      </p:sp>
      <p:sp>
        <p:nvSpPr>
          <p:cNvPr id="1978" name=""/>
          <p:cNvSpPr/>
          <p:nvPr/>
        </p:nvSpPr>
        <p:spPr>
          <a:xfrm>
            <a:off x="1968480" y="3603600"/>
            <a:ext cx="3301920" cy="436680"/>
          </a:xfrm>
          <a:prstGeom prst="rect">
            <a:avLst/>
          </a:prstGeom>
          <a:noFill/>
          <a:ln w="0">
            <a:noFill/>
          </a:ln>
        </p:spPr>
        <p:style>
          <a:lnRef idx="0"/>
          <a:fillRef idx="0"/>
          <a:effectRef idx="0"/>
          <a:fontRef idx="minor"/>
        </p:style>
        <p:txBody>
          <a:bodyPr lIns="45720" rIns="45720" tIns="46800" bIns="46800" anchor="t">
            <a:spAutoFit/>
          </a:bodyPr>
          <a:p>
            <a:pPr lvl="1">
              <a:lnSpc>
                <a:spcPts val="2699"/>
              </a:lnSpc>
              <a:spcBef>
                <a:spcPts val="901"/>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99"/>
                </a:solidFill>
                <a:latin typeface="Arial"/>
                <a:ea typeface="Times New Roman"/>
              </a:rPr>
              <a:t>电子钱包的消费</a:t>
            </a:r>
            <a:endParaRPr b="0" lang="en-US" sz="2400" spc="-1" strike="noStrike">
              <a:solidFill>
                <a:srgbClr val="000066"/>
              </a:solidFill>
              <a:latin typeface="Times New Roman"/>
            </a:endParaRPr>
          </a:p>
        </p:txBody>
      </p:sp>
      <p:sp>
        <p:nvSpPr>
          <p:cNvPr id="1979" name=""/>
          <p:cNvSpPr/>
          <p:nvPr/>
        </p:nvSpPr>
        <p:spPr>
          <a:xfrm>
            <a:off x="2514600" y="2895480"/>
            <a:ext cx="4724280" cy="436680"/>
          </a:xfrm>
          <a:prstGeom prst="rect">
            <a:avLst/>
          </a:prstGeom>
          <a:noFill/>
          <a:ln w="0">
            <a:noFill/>
          </a:ln>
        </p:spPr>
        <p:style>
          <a:lnRef idx="0"/>
          <a:fillRef idx="0"/>
          <a:effectRef idx="0"/>
          <a:fontRef idx="minor"/>
        </p:style>
        <p:txBody>
          <a:bodyPr lIns="45720" rIns="45720" tIns="46800" bIns="46800" anchor="t">
            <a:spAutoFit/>
          </a:bodyPr>
          <a:p>
            <a:pPr lvl="1">
              <a:lnSpc>
                <a:spcPts val="2699"/>
              </a:lnSpc>
              <a:spcBef>
                <a:spcPts val="901"/>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Times New Roman"/>
              </a:rPr>
              <a:t>银行和一卡通系统安全体系来保障</a:t>
            </a:r>
            <a:endParaRPr b="0" lang="en-US" sz="2000" spc="-1" strike="noStrike">
              <a:solidFill>
                <a:srgbClr val="000066"/>
              </a:solidFill>
              <a:latin typeface="Times New Roman"/>
            </a:endParaRPr>
          </a:p>
        </p:txBody>
      </p:sp>
      <p:sp>
        <p:nvSpPr>
          <p:cNvPr id="1980" name=""/>
          <p:cNvSpPr/>
          <p:nvPr/>
        </p:nvSpPr>
        <p:spPr>
          <a:xfrm>
            <a:off x="2514600" y="4343400"/>
            <a:ext cx="4800600" cy="436680"/>
          </a:xfrm>
          <a:prstGeom prst="rect">
            <a:avLst/>
          </a:prstGeom>
          <a:noFill/>
          <a:ln w="0">
            <a:noFill/>
          </a:ln>
        </p:spPr>
        <p:style>
          <a:lnRef idx="0"/>
          <a:fillRef idx="0"/>
          <a:effectRef idx="0"/>
          <a:fontRef idx="minor"/>
        </p:style>
        <p:txBody>
          <a:bodyPr lIns="45720" rIns="45720" tIns="46800" bIns="46800" anchor="t">
            <a:spAutoFit/>
          </a:bodyPr>
          <a:p>
            <a:pPr lvl="1">
              <a:lnSpc>
                <a:spcPts val="2699"/>
              </a:lnSpc>
              <a:spcBef>
                <a:spcPts val="901"/>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宋体"/>
              </a:rPr>
              <a:t> </a:t>
            </a:r>
            <a:r>
              <a:rPr b="1" lang="zh-CN" sz="2000" spc="-1" strike="noStrike" u="sng">
                <a:solidFill>
                  <a:srgbClr val="333399"/>
                </a:solidFill>
                <a:uFillTx/>
                <a:latin typeface="Arial"/>
                <a:ea typeface="宋体"/>
              </a:rPr>
              <a:t>“</a:t>
            </a:r>
            <a:r>
              <a:rPr b="1" lang="zh-CN" sz="2000" spc="-1" strike="noStrike" u="sng">
                <a:solidFill>
                  <a:srgbClr val="333399"/>
                </a:solidFill>
                <a:uFillTx/>
                <a:latin typeface="Arial"/>
                <a:ea typeface="Times New Roman"/>
              </a:rPr>
              <a:t>安全认证</a:t>
            </a:r>
            <a:r>
              <a:rPr b="1" lang="zh-CN" sz="2000" spc="-1" strike="noStrike" u="sng">
                <a:solidFill>
                  <a:srgbClr val="333399"/>
                </a:solidFill>
                <a:uFillTx/>
                <a:latin typeface="Arial"/>
                <a:ea typeface="宋体"/>
              </a:rPr>
              <a:t>”</a:t>
            </a:r>
            <a:r>
              <a:rPr b="1" lang="zh-CN" sz="2000" spc="-1" strike="noStrike">
                <a:solidFill>
                  <a:srgbClr val="333399"/>
                </a:solidFill>
                <a:latin typeface="Arial"/>
                <a:ea typeface="宋体"/>
              </a:rPr>
              <a:t> </a:t>
            </a:r>
            <a:r>
              <a:rPr b="1" lang="zh-CN" sz="2000" spc="-1" strike="noStrike">
                <a:solidFill>
                  <a:srgbClr val="333399"/>
                </a:solidFill>
                <a:latin typeface="Arial"/>
                <a:ea typeface="Times New Roman"/>
              </a:rPr>
              <a:t>和  </a:t>
            </a:r>
            <a:r>
              <a:rPr b="1" lang="zh-CN" sz="2000" spc="-1" strike="noStrike" u="sng">
                <a:solidFill>
                  <a:srgbClr val="333399"/>
                </a:solidFill>
                <a:uFillTx/>
                <a:latin typeface="Arial"/>
                <a:ea typeface="宋体"/>
              </a:rPr>
              <a:t>“</a:t>
            </a:r>
            <a:r>
              <a:rPr b="1" lang="zh-CN" sz="2000" spc="-1" strike="noStrike" u="sng">
                <a:solidFill>
                  <a:srgbClr val="333399"/>
                </a:solidFill>
                <a:uFillTx/>
                <a:latin typeface="Arial"/>
                <a:ea typeface="Times New Roman"/>
              </a:rPr>
              <a:t>交易签名</a:t>
            </a:r>
            <a:r>
              <a:rPr b="1" lang="zh-CN" sz="2000" spc="-1" strike="noStrike" u="sng">
                <a:solidFill>
                  <a:srgbClr val="333399"/>
                </a:solidFill>
                <a:uFillTx/>
                <a:latin typeface="Arial"/>
                <a:ea typeface="宋体"/>
              </a:rPr>
              <a:t>”</a:t>
            </a:r>
            <a:r>
              <a:rPr b="1" lang="zh-CN" sz="2000" spc="-1" strike="noStrike">
                <a:solidFill>
                  <a:srgbClr val="333399"/>
                </a:solidFill>
                <a:latin typeface="Arial"/>
                <a:ea typeface="宋体"/>
              </a:rPr>
              <a:t> </a:t>
            </a:r>
            <a:r>
              <a:rPr b="1" lang="zh-CN" sz="2000" spc="-1" strike="noStrike">
                <a:solidFill>
                  <a:srgbClr val="333399"/>
                </a:solidFill>
                <a:latin typeface="Arial"/>
                <a:ea typeface="Times New Roman"/>
              </a:rPr>
              <a:t>来保障</a:t>
            </a:r>
            <a:endParaRPr b="0" lang="en-US" sz="2000" spc="-1" strike="noStrike">
              <a:solidFill>
                <a:srgbClr val="000066"/>
              </a:solidFill>
              <a:latin typeface="Times New Roman"/>
            </a:endParaRPr>
          </a:p>
        </p:txBody>
      </p:sp>
      <p:sp>
        <p:nvSpPr>
          <p:cNvPr id="198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8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7"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8"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1999"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0"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1"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2"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3"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0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1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操作安全</a:t>
            </a:r>
            <a:endParaRPr b="0" lang="en-US" sz="4800" spc="-1" strike="noStrike">
              <a:solidFill>
                <a:srgbClr val="000099"/>
              </a:solidFill>
              <a:latin typeface="Times New Roman"/>
            </a:endParaRPr>
          </a:p>
        </p:txBody>
      </p:sp>
      <p:sp>
        <p:nvSpPr>
          <p:cNvPr id="201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采取设置分级管理来保障操作的安全性</a:t>
            </a:r>
            <a:endParaRPr b="1" lang="en-US" sz="3200" spc="-1" strike="noStrike">
              <a:solidFill>
                <a:srgbClr val="000099"/>
              </a:solidFill>
              <a:latin typeface="Times New Roman"/>
            </a:endParaRPr>
          </a:p>
        </p:txBody>
      </p:sp>
      <p:sp>
        <p:nvSpPr>
          <p:cNvPr id="2017" name=""/>
          <p:cNvSpPr/>
          <p:nvPr/>
        </p:nvSpPr>
        <p:spPr>
          <a:xfrm>
            <a:off x="609480" y="5200560"/>
            <a:ext cx="4648320" cy="438120"/>
          </a:xfrm>
          <a:custGeom>
            <a:avLst/>
            <a:gdLst/>
            <a:ahLst/>
            <a:rect l="l" t="t" r="r" b="b"/>
            <a:pathLst>
              <a:path w="3925" h="397">
                <a:moveTo>
                  <a:pt x="3924" y="0"/>
                </a:moveTo>
                <a:lnTo>
                  <a:pt x="3924" y="0"/>
                </a:lnTo>
                <a:lnTo>
                  <a:pt x="360" y="36"/>
                </a:lnTo>
                <a:lnTo>
                  <a:pt x="0" y="396"/>
                </a:lnTo>
                <a:lnTo>
                  <a:pt x="3708" y="396"/>
                </a:lnTo>
                <a:lnTo>
                  <a:pt x="3924" y="0"/>
                </a:lnTo>
                <a:close/>
              </a:path>
            </a:pathLst>
          </a:custGeom>
          <a:solidFill>
            <a:srgbClr val="cdd3ff"/>
          </a:solidFill>
          <a:ln w="0">
            <a:no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18" name=""/>
          <p:cNvSpPr/>
          <p:nvPr/>
        </p:nvSpPr>
        <p:spPr>
          <a:xfrm>
            <a:off x="990720" y="2695680"/>
            <a:ext cx="4267080" cy="2573280"/>
          </a:xfrm>
          <a:custGeom>
            <a:avLst/>
            <a:gdLst/>
            <a:ahLst/>
            <a:rect l="l" t="t" r="r" b="b"/>
            <a:pathLst>
              <a:path w="3565" h="1621">
                <a:moveTo>
                  <a:pt x="0" y="36"/>
                </a:moveTo>
                <a:lnTo>
                  <a:pt x="36" y="0"/>
                </a:lnTo>
                <a:lnTo>
                  <a:pt x="3564" y="0"/>
                </a:lnTo>
                <a:lnTo>
                  <a:pt x="3528" y="36"/>
                </a:lnTo>
                <a:lnTo>
                  <a:pt x="3564" y="0"/>
                </a:lnTo>
                <a:lnTo>
                  <a:pt x="3564" y="1584"/>
                </a:lnTo>
                <a:lnTo>
                  <a:pt x="3528" y="1620"/>
                </a:lnTo>
                <a:lnTo>
                  <a:pt x="3528" y="36"/>
                </a:lnTo>
                <a:lnTo>
                  <a:pt x="0" y="36"/>
                </a:lnTo>
                <a:close/>
              </a:path>
            </a:pathLst>
          </a:custGeom>
          <a:solidFill>
            <a:srgbClr val="cddbff"/>
          </a:solidFill>
          <a:ln w="648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19" name=""/>
          <p:cNvSpPr/>
          <p:nvPr/>
        </p:nvSpPr>
        <p:spPr>
          <a:xfrm>
            <a:off x="990720" y="2743200"/>
            <a:ext cx="4228920" cy="2514600"/>
          </a:xfrm>
          <a:prstGeom prst="rect">
            <a:avLst/>
          </a:prstGeom>
          <a:solidFill>
            <a:srgbClr val="fbfbff"/>
          </a:solidFill>
          <a:ln w="6480">
            <a:solidFill>
              <a:srgbClr val="000099"/>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20" name=""/>
          <p:cNvSpPr/>
          <p:nvPr/>
        </p:nvSpPr>
        <p:spPr>
          <a:xfrm>
            <a:off x="1981080" y="4800600"/>
            <a:ext cx="91440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1 &gt;</a:t>
            </a:r>
            <a:endParaRPr b="0" lang="en-US" sz="1200" spc="-1" strike="noStrike">
              <a:solidFill>
                <a:srgbClr val="000066"/>
              </a:solidFill>
              <a:latin typeface="Times New Roman"/>
            </a:endParaRPr>
          </a:p>
        </p:txBody>
      </p:sp>
      <p:sp>
        <p:nvSpPr>
          <p:cNvPr id="2021" name=""/>
          <p:cNvSpPr/>
          <p:nvPr/>
        </p:nvSpPr>
        <p:spPr>
          <a:xfrm>
            <a:off x="2209680" y="4343400"/>
            <a:ext cx="85752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2 &gt;</a:t>
            </a:r>
            <a:endParaRPr b="0" lang="en-US" sz="1200" spc="-1" strike="noStrike">
              <a:solidFill>
                <a:srgbClr val="000066"/>
              </a:solidFill>
              <a:latin typeface="Times New Roman"/>
            </a:endParaRPr>
          </a:p>
        </p:txBody>
      </p:sp>
      <p:sp>
        <p:nvSpPr>
          <p:cNvPr id="2022" name=""/>
          <p:cNvSpPr/>
          <p:nvPr/>
        </p:nvSpPr>
        <p:spPr>
          <a:xfrm>
            <a:off x="2381400" y="3886200"/>
            <a:ext cx="85716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3 &gt;</a:t>
            </a:r>
            <a:endParaRPr b="0" lang="en-US" sz="1200" spc="-1" strike="noStrike">
              <a:solidFill>
                <a:srgbClr val="000066"/>
              </a:solidFill>
              <a:latin typeface="Times New Roman"/>
            </a:endParaRPr>
          </a:p>
        </p:txBody>
      </p:sp>
      <p:sp>
        <p:nvSpPr>
          <p:cNvPr id="2023" name=""/>
          <p:cNvSpPr/>
          <p:nvPr/>
        </p:nvSpPr>
        <p:spPr>
          <a:xfrm>
            <a:off x="2552760" y="3429000"/>
            <a:ext cx="85716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4 &gt;</a:t>
            </a:r>
            <a:endParaRPr b="0" lang="en-US" sz="1200" spc="-1" strike="noStrike">
              <a:solidFill>
                <a:srgbClr val="000066"/>
              </a:solidFill>
              <a:latin typeface="Times New Roman"/>
            </a:endParaRPr>
          </a:p>
        </p:txBody>
      </p:sp>
      <p:sp>
        <p:nvSpPr>
          <p:cNvPr id="2024" name=""/>
          <p:cNvSpPr/>
          <p:nvPr/>
        </p:nvSpPr>
        <p:spPr>
          <a:xfrm>
            <a:off x="2724120" y="2971800"/>
            <a:ext cx="857160" cy="220680"/>
          </a:xfrm>
          <a:prstGeom prst="rect">
            <a:avLst/>
          </a:prstGeom>
          <a:noFill/>
          <a:ln w="0">
            <a:noFill/>
          </a:ln>
        </p:spPr>
        <p:style>
          <a:lnRef idx="0"/>
          <a:fillRef idx="0"/>
          <a:effectRef idx="0"/>
          <a:fontRef idx="minor"/>
        </p:style>
        <p:txBody>
          <a:bodyPr lIns="45720" rIns="4572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2d9e"/>
                </a:solidFill>
                <a:latin typeface="Arial"/>
              </a:rPr>
              <a:t>&lt; level 5 &gt;</a:t>
            </a:r>
            <a:endParaRPr b="0" lang="en-US" sz="1200" spc="-1" strike="noStrike">
              <a:solidFill>
                <a:srgbClr val="000066"/>
              </a:solidFill>
              <a:latin typeface="Times New Roman"/>
            </a:endParaRPr>
          </a:p>
        </p:txBody>
      </p:sp>
      <p:grpSp>
        <p:nvGrpSpPr>
          <p:cNvPr id="2025" name=""/>
          <p:cNvGrpSpPr/>
          <p:nvPr/>
        </p:nvGrpSpPr>
        <p:grpSpPr>
          <a:xfrm>
            <a:off x="952560" y="2306520"/>
            <a:ext cx="1977840" cy="3044880"/>
            <a:chOff x="952560" y="2306520"/>
            <a:chExt cx="1977840" cy="3044880"/>
          </a:xfrm>
        </p:grpSpPr>
        <p:sp>
          <p:nvSpPr>
            <p:cNvPr id="2026" name=""/>
            <p:cNvSpPr/>
            <p:nvPr/>
          </p:nvSpPr>
          <p:spPr>
            <a:xfrm>
              <a:off x="1023840" y="2308320"/>
              <a:ext cx="1306440" cy="3012840"/>
            </a:xfrm>
            <a:custGeom>
              <a:avLst/>
              <a:gdLst/>
              <a:ahLst/>
              <a:rect l="l" t="t" r="r" b="b"/>
              <a:pathLst>
                <a:path w="823" h="1898">
                  <a:moveTo>
                    <a:pt x="0" y="1870"/>
                  </a:moveTo>
                  <a:lnTo>
                    <a:pt x="756" y="0"/>
                  </a:lnTo>
                  <a:lnTo>
                    <a:pt x="822" y="27"/>
                  </a:lnTo>
                  <a:lnTo>
                    <a:pt x="67" y="1897"/>
                  </a:lnTo>
                  <a:lnTo>
                    <a:pt x="0" y="1870"/>
                  </a:lnTo>
                  <a:close/>
                </a:path>
              </a:pathLst>
            </a:custGeom>
            <a:solidFill>
              <a:srgbClr val="ebf1ff"/>
            </a:solidFill>
            <a:ln w="648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27" name=""/>
            <p:cNvSpPr/>
            <p:nvPr/>
          </p:nvSpPr>
          <p:spPr>
            <a:xfrm>
              <a:off x="952560" y="2306520"/>
              <a:ext cx="1274760" cy="3044880"/>
            </a:xfrm>
            <a:custGeom>
              <a:avLst/>
              <a:gdLst/>
              <a:ahLst/>
              <a:rect l="l" t="t" r="r" b="b"/>
              <a:pathLst>
                <a:path w="803" h="1918">
                  <a:moveTo>
                    <a:pt x="802" y="0"/>
                  </a:moveTo>
                  <a:lnTo>
                    <a:pt x="755" y="20"/>
                  </a:lnTo>
                  <a:lnTo>
                    <a:pt x="0" y="1890"/>
                  </a:lnTo>
                  <a:lnTo>
                    <a:pt x="47" y="1870"/>
                  </a:lnTo>
                  <a:lnTo>
                    <a:pt x="0" y="1890"/>
                  </a:lnTo>
                  <a:lnTo>
                    <a:pt x="67" y="1917"/>
                  </a:lnTo>
                  <a:lnTo>
                    <a:pt x="114" y="1897"/>
                  </a:lnTo>
                  <a:lnTo>
                    <a:pt x="47" y="1870"/>
                  </a:lnTo>
                  <a:lnTo>
                    <a:pt x="802" y="0"/>
                  </a:lnTo>
                  <a:close/>
                </a:path>
              </a:pathLst>
            </a:custGeom>
            <a:solidFill>
              <a:srgbClr val="ebf1ff"/>
            </a:solidFill>
            <a:ln w="648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28" name=""/>
            <p:cNvSpPr/>
            <p:nvPr/>
          </p:nvSpPr>
          <p:spPr>
            <a:xfrm>
              <a:off x="2168640" y="2562120"/>
              <a:ext cx="58392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29" name=""/>
            <p:cNvSpPr/>
            <p:nvPr/>
          </p:nvSpPr>
          <p:spPr>
            <a:xfrm>
              <a:off x="2006640" y="2962080"/>
              <a:ext cx="57456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0" name=""/>
            <p:cNvSpPr/>
            <p:nvPr/>
          </p:nvSpPr>
          <p:spPr>
            <a:xfrm>
              <a:off x="1844640" y="3362400"/>
              <a:ext cx="593640" cy="5688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480" bIns="-6480" anchor="ctr">
              <a:spAutoFit/>
            </a:bodyPr>
            <a:p>
              <a:endParaRPr b="0" lang="en-US" sz="2400" spc="-1" strike="noStrike">
                <a:solidFill>
                  <a:srgbClr val="000066"/>
                </a:solidFill>
                <a:latin typeface="Times New Roman"/>
              </a:endParaRPr>
            </a:p>
          </p:txBody>
        </p:sp>
        <p:sp>
          <p:nvSpPr>
            <p:cNvPr id="2031" name=""/>
            <p:cNvSpPr/>
            <p:nvPr/>
          </p:nvSpPr>
          <p:spPr>
            <a:xfrm>
              <a:off x="1682640" y="3762360"/>
              <a:ext cx="58428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2" name=""/>
            <p:cNvSpPr/>
            <p:nvPr/>
          </p:nvSpPr>
          <p:spPr>
            <a:xfrm>
              <a:off x="1517760" y="4162320"/>
              <a:ext cx="57780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3" name=""/>
            <p:cNvSpPr/>
            <p:nvPr/>
          </p:nvSpPr>
          <p:spPr>
            <a:xfrm>
              <a:off x="1355760" y="4562280"/>
              <a:ext cx="596880" cy="5724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4" name=""/>
            <p:cNvSpPr/>
            <p:nvPr/>
          </p:nvSpPr>
          <p:spPr>
            <a:xfrm>
              <a:off x="1193760" y="4962600"/>
              <a:ext cx="587520" cy="56880"/>
            </a:xfrm>
            <a:prstGeom prst="roundRect">
              <a:avLst>
                <a:gd name="adj" fmla="val 50000"/>
              </a:avLst>
            </a:prstGeom>
            <a:solidFill>
              <a:srgbClr val="ebf1ff"/>
            </a:solidFill>
            <a:ln w="6480">
              <a:solidFill>
                <a:srgbClr val="000066"/>
              </a:solidFill>
              <a:miter/>
            </a:ln>
          </p:spPr>
          <p:style>
            <a:lnRef idx="0"/>
            <a:fillRef idx="0"/>
            <a:effectRef idx="0"/>
            <a:fontRef idx="minor"/>
          </p:style>
          <p:txBody>
            <a:bodyPr wrap="none" lIns="90000" rIns="90000" tIns="-6480" bIns="-6480" anchor="ctr">
              <a:spAutoFit/>
            </a:bodyPr>
            <a:p>
              <a:endParaRPr b="0" lang="en-US" sz="2400" spc="-1" strike="noStrike">
                <a:solidFill>
                  <a:srgbClr val="000066"/>
                </a:solidFill>
                <a:latin typeface="Times New Roman"/>
              </a:endParaRPr>
            </a:p>
          </p:txBody>
        </p:sp>
        <p:sp>
          <p:nvSpPr>
            <p:cNvPr id="2035" name=""/>
            <p:cNvSpPr/>
            <p:nvPr/>
          </p:nvSpPr>
          <p:spPr>
            <a:xfrm>
              <a:off x="1623960" y="2308320"/>
              <a:ext cx="1306440" cy="3012840"/>
            </a:xfrm>
            <a:custGeom>
              <a:avLst/>
              <a:gdLst/>
              <a:ahLst/>
              <a:rect l="l" t="t" r="r" b="b"/>
              <a:pathLst>
                <a:path w="823" h="1898">
                  <a:moveTo>
                    <a:pt x="0" y="1870"/>
                  </a:moveTo>
                  <a:lnTo>
                    <a:pt x="756" y="0"/>
                  </a:lnTo>
                  <a:lnTo>
                    <a:pt x="822" y="27"/>
                  </a:lnTo>
                  <a:lnTo>
                    <a:pt x="67" y="1897"/>
                  </a:lnTo>
                  <a:lnTo>
                    <a:pt x="0" y="1870"/>
                  </a:lnTo>
                  <a:close/>
                </a:path>
              </a:pathLst>
            </a:custGeom>
            <a:solidFill>
              <a:srgbClr val="ebf1ff"/>
            </a:solidFill>
            <a:ln w="648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36" name=""/>
            <p:cNvSpPr/>
            <p:nvPr/>
          </p:nvSpPr>
          <p:spPr>
            <a:xfrm>
              <a:off x="1552680" y="2306520"/>
              <a:ext cx="1274760" cy="3044880"/>
            </a:xfrm>
            <a:custGeom>
              <a:avLst/>
              <a:gdLst/>
              <a:ahLst/>
              <a:rect l="l" t="t" r="r" b="b"/>
              <a:pathLst>
                <a:path w="803" h="1918">
                  <a:moveTo>
                    <a:pt x="802" y="0"/>
                  </a:moveTo>
                  <a:lnTo>
                    <a:pt x="755" y="20"/>
                  </a:lnTo>
                  <a:lnTo>
                    <a:pt x="0" y="1890"/>
                  </a:lnTo>
                  <a:lnTo>
                    <a:pt x="47" y="1870"/>
                  </a:lnTo>
                  <a:lnTo>
                    <a:pt x="0" y="1890"/>
                  </a:lnTo>
                  <a:lnTo>
                    <a:pt x="67" y="1917"/>
                  </a:lnTo>
                  <a:lnTo>
                    <a:pt x="114" y="1897"/>
                  </a:lnTo>
                  <a:lnTo>
                    <a:pt x="47" y="1870"/>
                  </a:lnTo>
                  <a:lnTo>
                    <a:pt x="802" y="0"/>
                  </a:lnTo>
                  <a:close/>
                </a:path>
              </a:pathLst>
            </a:custGeom>
            <a:solidFill>
              <a:srgbClr val="ebf1ff"/>
            </a:solidFill>
            <a:ln w="648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037" name=""/>
            <p:cNvGrpSpPr/>
            <p:nvPr/>
          </p:nvGrpSpPr>
          <p:grpSpPr>
            <a:xfrm>
              <a:off x="1774800" y="2562120"/>
              <a:ext cx="1028520" cy="2457360"/>
              <a:chOff x="1774800" y="2562120"/>
              <a:chExt cx="1028520" cy="2457360"/>
            </a:xfrm>
          </p:grpSpPr>
          <p:sp>
            <p:nvSpPr>
              <p:cNvPr id="2038" name=""/>
              <p:cNvSpPr/>
              <p:nvPr/>
            </p:nvSpPr>
            <p:spPr>
              <a:xfrm>
                <a:off x="2746440" y="2562120"/>
                <a:ext cx="5688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39" name=""/>
              <p:cNvSpPr/>
              <p:nvPr/>
            </p:nvSpPr>
            <p:spPr>
              <a:xfrm>
                <a:off x="2584440" y="2962080"/>
                <a:ext cx="5724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40" name=""/>
              <p:cNvSpPr/>
              <p:nvPr/>
            </p:nvSpPr>
            <p:spPr>
              <a:xfrm>
                <a:off x="2422440" y="3362400"/>
                <a:ext cx="57240" cy="56880"/>
              </a:xfrm>
              <a:prstGeom prst="ellipse">
                <a:avLst/>
              </a:prstGeom>
              <a:solidFill>
                <a:srgbClr val="ebf1ff"/>
              </a:solidFill>
              <a:ln w="0">
                <a:solidFill>
                  <a:srgbClr val="000066"/>
                </a:solidFill>
              </a:ln>
            </p:spPr>
            <p:style>
              <a:lnRef idx="0"/>
              <a:fillRef idx="0"/>
              <a:effectRef idx="0"/>
              <a:fontRef idx="minor"/>
            </p:style>
            <p:txBody>
              <a:bodyPr wrap="none" lIns="90000" rIns="90000" tIns="-6480" bIns="-6480" anchor="ctr">
                <a:spAutoFit/>
              </a:bodyPr>
              <a:p>
                <a:endParaRPr b="0" lang="en-US" sz="2400" spc="-1" strike="noStrike">
                  <a:solidFill>
                    <a:srgbClr val="000066"/>
                  </a:solidFill>
                  <a:latin typeface="Times New Roman"/>
                </a:endParaRPr>
              </a:p>
            </p:txBody>
          </p:sp>
          <p:sp>
            <p:nvSpPr>
              <p:cNvPr id="2041" name=""/>
              <p:cNvSpPr/>
              <p:nvPr/>
            </p:nvSpPr>
            <p:spPr>
              <a:xfrm>
                <a:off x="2260440" y="3762360"/>
                <a:ext cx="5724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42" name=""/>
              <p:cNvSpPr/>
              <p:nvPr/>
            </p:nvSpPr>
            <p:spPr>
              <a:xfrm>
                <a:off x="2101680" y="4162320"/>
                <a:ext cx="5724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43" name=""/>
              <p:cNvSpPr/>
              <p:nvPr/>
            </p:nvSpPr>
            <p:spPr>
              <a:xfrm>
                <a:off x="1936800" y="4562280"/>
                <a:ext cx="56880" cy="57240"/>
              </a:xfrm>
              <a:prstGeom prst="ellipse">
                <a:avLst/>
              </a:prstGeom>
              <a:solidFill>
                <a:srgbClr val="ebf1ff"/>
              </a:solidFill>
              <a:ln w="0">
                <a:solidFill>
                  <a:srgbClr val="000066"/>
                </a:solidFill>
              </a:ln>
            </p:spPr>
            <p:style>
              <a:lnRef idx="0"/>
              <a:fillRef idx="0"/>
              <a:effectRef idx="0"/>
              <a:fontRef idx="minor"/>
            </p:style>
            <p:txBody>
              <a:bodyPr wrap="none" lIns="90000" rIns="90000" tIns="-6120" bIns="-6120" anchor="ctr">
                <a:spAutoFit/>
              </a:bodyPr>
              <a:p>
                <a:endParaRPr b="0" lang="en-US" sz="2400" spc="-1" strike="noStrike">
                  <a:solidFill>
                    <a:srgbClr val="000066"/>
                  </a:solidFill>
                  <a:latin typeface="Times New Roman"/>
                </a:endParaRPr>
              </a:p>
            </p:txBody>
          </p:sp>
          <p:sp>
            <p:nvSpPr>
              <p:cNvPr id="2044" name=""/>
              <p:cNvSpPr/>
              <p:nvPr/>
            </p:nvSpPr>
            <p:spPr>
              <a:xfrm>
                <a:off x="1774800" y="4962600"/>
                <a:ext cx="57240" cy="56880"/>
              </a:xfrm>
              <a:prstGeom prst="ellipse">
                <a:avLst/>
              </a:prstGeom>
              <a:solidFill>
                <a:srgbClr val="ebf1ff"/>
              </a:solidFill>
              <a:ln w="0">
                <a:solidFill>
                  <a:srgbClr val="000066"/>
                </a:solidFill>
              </a:ln>
            </p:spPr>
            <p:style>
              <a:lnRef idx="0"/>
              <a:fillRef idx="0"/>
              <a:effectRef idx="0"/>
              <a:fontRef idx="minor"/>
            </p:style>
            <p:txBody>
              <a:bodyPr wrap="none" lIns="90000" rIns="90000" tIns="-6480" bIns="-6480" anchor="ctr">
                <a:spAutoFit/>
              </a:bodyPr>
              <a:p>
                <a:endParaRPr b="0" lang="en-US" sz="2400" spc="-1" strike="noStrike">
                  <a:solidFill>
                    <a:srgbClr val="000066"/>
                  </a:solidFill>
                  <a:latin typeface="Times New Roman"/>
                </a:endParaRPr>
              </a:p>
            </p:txBody>
          </p:sp>
        </p:grpSp>
      </p:grpSp>
      <p:grpSp>
        <p:nvGrpSpPr>
          <p:cNvPr id="2045" name=""/>
          <p:cNvGrpSpPr/>
          <p:nvPr/>
        </p:nvGrpSpPr>
        <p:grpSpPr>
          <a:xfrm>
            <a:off x="819000" y="3809880"/>
            <a:ext cx="552600" cy="1638000"/>
            <a:chOff x="819000" y="3809880"/>
            <a:chExt cx="552600" cy="1638000"/>
          </a:xfrm>
        </p:grpSpPr>
        <p:sp>
          <p:nvSpPr>
            <p:cNvPr id="2046" name=""/>
            <p:cNvSpPr/>
            <p:nvPr/>
          </p:nvSpPr>
          <p:spPr>
            <a:xfrm>
              <a:off x="1033920" y="3809880"/>
              <a:ext cx="224280" cy="270360"/>
            </a:xfrm>
            <a:custGeom>
              <a:avLst/>
              <a:gdLst/>
              <a:ahLst/>
              <a:rect l="l" t="t" r="r" b="b"/>
              <a:pathLst>
                <a:path w="190" h="202">
                  <a:moveTo>
                    <a:pt x="42" y="193"/>
                  </a:moveTo>
                  <a:lnTo>
                    <a:pt x="0" y="147"/>
                  </a:lnTo>
                  <a:lnTo>
                    <a:pt x="9" y="121"/>
                  </a:lnTo>
                  <a:lnTo>
                    <a:pt x="4" y="109"/>
                  </a:lnTo>
                  <a:lnTo>
                    <a:pt x="0" y="88"/>
                  </a:lnTo>
                  <a:lnTo>
                    <a:pt x="4" y="80"/>
                  </a:lnTo>
                  <a:lnTo>
                    <a:pt x="9" y="67"/>
                  </a:lnTo>
                  <a:lnTo>
                    <a:pt x="17" y="63"/>
                  </a:lnTo>
                  <a:lnTo>
                    <a:pt x="21" y="54"/>
                  </a:lnTo>
                  <a:lnTo>
                    <a:pt x="25" y="38"/>
                  </a:lnTo>
                  <a:lnTo>
                    <a:pt x="30" y="29"/>
                  </a:lnTo>
                  <a:lnTo>
                    <a:pt x="34" y="25"/>
                  </a:lnTo>
                  <a:lnTo>
                    <a:pt x="38" y="25"/>
                  </a:lnTo>
                  <a:lnTo>
                    <a:pt x="38" y="17"/>
                  </a:lnTo>
                  <a:lnTo>
                    <a:pt x="42" y="8"/>
                  </a:lnTo>
                  <a:lnTo>
                    <a:pt x="46" y="4"/>
                  </a:lnTo>
                  <a:lnTo>
                    <a:pt x="50" y="4"/>
                  </a:lnTo>
                  <a:lnTo>
                    <a:pt x="55" y="0"/>
                  </a:lnTo>
                  <a:lnTo>
                    <a:pt x="63" y="4"/>
                  </a:lnTo>
                  <a:lnTo>
                    <a:pt x="76" y="8"/>
                  </a:lnTo>
                  <a:lnTo>
                    <a:pt x="80" y="4"/>
                  </a:lnTo>
                  <a:lnTo>
                    <a:pt x="88" y="0"/>
                  </a:lnTo>
                  <a:lnTo>
                    <a:pt x="97" y="0"/>
                  </a:lnTo>
                  <a:lnTo>
                    <a:pt x="105" y="4"/>
                  </a:lnTo>
                  <a:lnTo>
                    <a:pt x="113" y="8"/>
                  </a:lnTo>
                  <a:lnTo>
                    <a:pt x="113" y="17"/>
                  </a:lnTo>
                  <a:lnTo>
                    <a:pt x="138" y="17"/>
                  </a:lnTo>
                  <a:lnTo>
                    <a:pt x="155" y="21"/>
                  </a:lnTo>
                  <a:lnTo>
                    <a:pt x="159" y="21"/>
                  </a:lnTo>
                  <a:lnTo>
                    <a:pt x="164" y="25"/>
                  </a:lnTo>
                  <a:lnTo>
                    <a:pt x="164" y="34"/>
                  </a:lnTo>
                  <a:lnTo>
                    <a:pt x="164" y="42"/>
                  </a:lnTo>
                  <a:lnTo>
                    <a:pt x="172" y="46"/>
                  </a:lnTo>
                  <a:lnTo>
                    <a:pt x="180" y="54"/>
                  </a:lnTo>
                  <a:lnTo>
                    <a:pt x="184" y="63"/>
                  </a:lnTo>
                  <a:lnTo>
                    <a:pt x="189" y="71"/>
                  </a:lnTo>
                  <a:lnTo>
                    <a:pt x="189" y="80"/>
                  </a:lnTo>
                  <a:lnTo>
                    <a:pt x="184" y="92"/>
                  </a:lnTo>
                  <a:lnTo>
                    <a:pt x="180" y="96"/>
                  </a:lnTo>
                  <a:lnTo>
                    <a:pt x="176" y="101"/>
                  </a:lnTo>
                  <a:lnTo>
                    <a:pt x="176" y="109"/>
                  </a:lnTo>
                  <a:lnTo>
                    <a:pt x="176" y="113"/>
                  </a:lnTo>
                  <a:lnTo>
                    <a:pt x="172" y="121"/>
                  </a:lnTo>
                  <a:lnTo>
                    <a:pt x="164" y="130"/>
                  </a:lnTo>
                  <a:lnTo>
                    <a:pt x="159" y="130"/>
                  </a:lnTo>
                  <a:lnTo>
                    <a:pt x="159" y="130"/>
                  </a:lnTo>
                  <a:lnTo>
                    <a:pt x="155" y="134"/>
                  </a:lnTo>
                  <a:lnTo>
                    <a:pt x="155" y="176"/>
                  </a:lnTo>
                  <a:lnTo>
                    <a:pt x="147" y="180"/>
                  </a:lnTo>
                  <a:lnTo>
                    <a:pt x="130" y="163"/>
                  </a:lnTo>
                  <a:lnTo>
                    <a:pt x="130" y="180"/>
                  </a:lnTo>
                  <a:lnTo>
                    <a:pt x="109" y="176"/>
                  </a:lnTo>
                  <a:lnTo>
                    <a:pt x="122" y="188"/>
                  </a:lnTo>
                  <a:lnTo>
                    <a:pt x="101" y="188"/>
                  </a:lnTo>
                  <a:lnTo>
                    <a:pt x="101" y="197"/>
                  </a:lnTo>
                  <a:lnTo>
                    <a:pt x="97" y="201"/>
                  </a:lnTo>
                  <a:lnTo>
                    <a:pt x="88" y="201"/>
                  </a:lnTo>
                  <a:lnTo>
                    <a:pt x="84" y="201"/>
                  </a:lnTo>
                  <a:lnTo>
                    <a:pt x="80" y="197"/>
                  </a:lnTo>
                  <a:lnTo>
                    <a:pt x="76" y="197"/>
                  </a:lnTo>
                  <a:lnTo>
                    <a:pt x="67" y="188"/>
                  </a:lnTo>
                  <a:lnTo>
                    <a:pt x="55" y="180"/>
                  </a:lnTo>
                  <a:lnTo>
                    <a:pt x="46" y="188"/>
                  </a:lnTo>
                  <a:lnTo>
                    <a:pt x="42" y="193"/>
                  </a:lnTo>
                  <a:close/>
                </a:path>
              </a:pathLst>
            </a:custGeom>
            <a:solidFill>
              <a:srgbClr val="cddbff"/>
            </a:solidFill>
            <a:ln w="324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47" name=""/>
            <p:cNvSpPr/>
            <p:nvPr/>
          </p:nvSpPr>
          <p:spPr>
            <a:xfrm>
              <a:off x="1142280" y="4089240"/>
              <a:ext cx="115920" cy="125640"/>
            </a:xfrm>
            <a:custGeom>
              <a:avLst/>
              <a:gdLst/>
              <a:ahLst/>
              <a:rect l="l" t="t" r="r" b="b"/>
              <a:pathLst>
                <a:path w="98" h="94">
                  <a:moveTo>
                    <a:pt x="42" y="93"/>
                  </a:moveTo>
                  <a:lnTo>
                    <a:pt x="34" y="80"/>
                  </a:lnTo>
                  <a:lnTo>
                    <a:pt x="34" y="76"/>
                  </a:lnTo>
                  <a:lnTo>
                    <a:pt x="30" y="72"/>
                  </a:lnTo>
                  <a:lnTo>
                    <a:pt x="25" y="67"/>
                  </a:lnTo>
                  <a:lnTo>
                    <a:pt x="17" y="63"/>
                  </a:lnTo>
                  <a:lnTo>
                    <a:pt x="55" y="34"/>
                  </a:lnTo>
                  <a:lnTo>
                    <a:pt x="38" y="17"/>
                  </a:lnTo>
                  <a:lnTo>
                    <a:pt x="38" y="46"/>
                  </a:lnTo>
                  <a:lnTo>
                    <a:pt x="17" y="63"/>
                  </a:lnTo>
                  <a:lnTo>
                    <a:pt x="17" y="51"/>
                  </a:lnTo>
                  <a:lnTo>
                    <a:pt x="13" y="38"/>
                  </a:lnTo>
                  <a:lnTo>
                    <a:pt x="0" y="17"/>
                  </a:lnTo>
                  <a:lnTo>
                    <a:pt x="5" y="9"/>
                  </a:lnTo>
                  <a:lnTo>
                    <a:pt x="21" y="17"/>
                  </a:lnTo>
                  <a:lnTo>
                    <a:pt x="21" y="13"/>
                  </a:lnTo>
                  <a:lnTo>
                    <a:pt x="21" y="9"/>
                  </a:lnTo>
                  <a:lnTo>
                    <a:pt x="25" y="5"/>
                  </a:lnTo>
                  <a:lnTo>
                    <a:pt x="30" y="5"/>
                  </a:lnTo>
                  <a:lnTo>
                    <a:pt x="30" y="0"/>
                  </a:lnTo>
                  <a:lnTo>
                    <a:pt x="34" y="0"/>
                  </a:lnTo>
                  <a:lnTo>
                    <a:pt x="42" y="0"/>
                  </a:lnTo>
                  <a:lnTo>
                    <a:pt x="51" y="5"/>
                  </a:lnTo>
                  <a:lnTo>
                    <a:pt x="63" y="9"/>
                  </a:lnTo>
                  <a:lnTo>
                    <a:pt x="67" y="13"/>
                  </a:lnTo>
                  <a:lnTo>
                    <a:pt x="72" y="13"/>
                  </a:lnTo>
                  <a:lnTo>
                    <a:pt x="76" y="21"/>
                  </a:lnTo>
                  <a:lnTo>
                    <a:pt x="80" y="34"/>
                  </a:lnTo>
                  <a:lnTo>
                    <a:pt x="84" y="51"/>
                  </a:lnTo>
                  <a:lnTo>
                    <a:pt x="88" y="67"/>
                  </a:lnTo>
                  <a:lnTo>
                    <a:pt x="97" y="93"/>
                  </a:lnTo>
                  <a:lnTo>
                    <a:pt x="42" y="93"/>
                  </a:lnTo>
                  <a:close/>
                </a:path>
              </a:pathLst>
            </a:custGeom>
            <a:solidFill>
              <a:srgbClr val="cddbff"/>
            </a:solidFill>
            <a:ln w="324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48" name=""/>
            <p:cNvSpPr/>
            <p:nvPr/>
          </p:nvSpPr>
          <p:spPr>
            <a:xfrm>
              <a:off x="819000" y="4028040"/>
              <a:ext cx="552600" cy="1419840"/>
            </a:xfrm>
            <a:custGeom>
              <a:avLst/>
              <a:gdLst/>
              <a:ahLst/>
              <a:rect l="l" t="t" r="r" b="b"/>
              <a:pathLst>
                <a:path w="468" h="1061">
                  <a:moveTo>
                    <a:pt x="258" y="532"/>
                  </a:moveTo>
                  <a:lnTo>
                    <a:pt x="325" y="779"/>
                  </a:lnTo>
                  <a:lnTo>
                    <a:pt x="325" y="821"/>
                  </a:lnTo>
                  <a:lnTo>
                    <a:pt x="379" y="930"/>
                  </a:lnTo>
                  <a:lnTo>
                    <a:pt x="371" y="964"/>
                  </a:lnTo>
                  <a:lnTo>
                    <a:pt x="396" y="985"/>
                  </a:lnTo>
                  <a:lnTo>
                    <a:pt x="383" y="1010"/>
                  </a:lnTo>
                  <a:lnTo>
                    <a:pt x="413" y="1027"/>
                  </a:lnTo>
                  <a:lnTo>
                    <a:pt x="425" y="1027"/>
                  </a:lnTo>
                  <a:lnTo>
                    <a:pt x="446" y="1031"/>
                  </a:lnTo>
                  <a:lnTo>
                    <a:pt x="463" y="1043"/>
                  </a:lnTo>
                  <a:lnTo>
                    <a:pt x="467" y="1048"/>
                  </a:lnTo>
                  <a:lnTo>
                    <a:pt x="463" y="1060"/>
                  </a:lnTo>
                  <a:lnTo>
                    <a:pt x="287" y="1060"/>
                  </a:lnTo>
                  <a:lnTo>
                    <a:pt x="287" y="1031"/>
                  </a:lnTo>
                  <a:lnTo>
                    <a:pt x="270" y="1022"/>
                  </a:lnTo>
                  <a:lnTo>
                    <a:pt x="249" y="905"/>
                  </a:lnTo>
                  <a:lnTo>
                    <a:pt x="212" y="750"/>
                  </a:lnTo>
                  <a:lnTo>
                    <a:pt x="165" y="650"/>
                  </a:lnTo>
                  <a:lnTo>
                    <a:pt x="136" y="578"/>
                  </a:lnTo>
                  <a:lnTo>
                    <a:pt x="140" y="805"/>
                  </a:lnTo>
                  <a:lnTo>
                    <a:pt x="132" y="922"/>
                  </a:lnTo>
                  <a:lnTo>
                    <a:pt x="144" y="1006"/>
                  </a:lnTo>
                  <a:lnTo>
                    <a:pt x="170" y="1035"/>
                  </a:lnTo>
                  <a:lnTo>
                    <a:pt x="170" y="1060"/>
                  </a:lnTo>
                  <a:lnTo>
                    <a:pt x="52" y="1060"/>
                  </a:lnTo>
                  <a:lnTo>
                    <a:pt x="52" y="1022"/>
                  </a:lnTo>
                  <a:lnTo>
                    <a:pt x="61" y="1014"/>
                  </a:lnTo>
                  <a:lnTo>
                    <a:pt x="19" y="712"/>
                  </a:lnTo>
                  <a:lnTo>
                    <a:pt x="0" y="556"/>
                  </a:lnTo>
                  <a:lnTo>
                    <a:pt x="0" y="466"/>
                  </a:lnTo>
                  <a:lnTo>
                    <a:pt x="44" y="382"/>
                  </a:lnTo>
                  <a:lnTo>
                    <a:pt x="69" y="314"/>
                  </a:lnTo>
                  <a:lnTo>
                    <a:pt x="86" y="247"/>
                  </a:lnTo>
                  <a:lnTo>
                    <a:pt x="86" y="180"/>
                  </a:lnTo>
                  <a:lnTo>
                    <a:pt x="82" y="118"/>
                  </a:lnTo>
                  <a:lnTo>
                    <a:pt x="94" y="34"/>
                  </a:lnTo>
                  <a:lnTo>
                    <a:pt x="107" y="17"/>
                  </a:lnTo>
                  <a:lnTo>
                    <a:pt x="124" y="17"/>
                  </a:lnTo>
                  <a:lnTo>
                    <a:pt x="132" y="17"/>
                  </a:lnTo>
                  <a:lnTo>
                    <a:pt x="136" y="21"/>
                  </a:lnTo>
                  <a:lnTo>
                    <a:pt x="165" y="0"/>
                  </a:lnTo>
                  <a:lnTo>
                    <a:pt x="249" y="176"/>
                  </a:lnTo>
                  <a:lnTo>
                    <a:pt x="249" y="88"/>
                  </a:lnTo>
                  <a:lnTo>
                    <a:pt x="228" y="76"/>
                  </a:lnTo>
                  <a:lnTo>
                    <a:pt x="253" y="46"/>
                  </a:lnTo>
                  <a:lnTo>
                    <a:pt x="258" y="80"/>
                  </a:lnTo>
                  <a:lnTo>
                    <a:pt x="283" y="109"/>
                  </a:lnTo>
                  <a:lnTo>
                    <a:pt x="291" y="185"/>
                  </a:lnTo>
                  <a:lnTo>
                    <a:pt x="308" y="151"/>
                  </a:lnTo>
                  <a:lnTo>
                    <a:pt x="371" y="151"/>
                  </a:lnTo>
                  <a:lnTo>
                    <a:pt x="362" y="214"/>
                  </a:lnTo>
                  <a:lnTo>
                    <a:pt x="312" y="314"/>
                  </a:lnTo>
                  <a:lnTo>
                    <a:pt x="346" y="361"/>
                  </a:lnTo>
                  <a:lnTo>
                    <a:pt x="287" y="398"/>
                  </a:lnTo>
                  <a:lnTo>
                    <a:pt x="274" y="382"/>
                  </a:lnTo>
                  <a:lnTo>
                    <a:pt x="258" y="457"/>
                  </a:lnTo>
                  <a:lnTo>
                    <a:pt x="258" y="532"/>
                  </a:lnTo>
                  <a:close/>
                </a:path>
              </a:pathLst>
            </a:custGeom>
            <a:solidFill>
              <a:srgbClr val="cddbff"/>
            </a:solidFill>
            <a:ln w="3240">
              <a:solidFill>
                <a:srgbClr val="0000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sp>
        <p:nvSpPr>
          <p:cNvPr id="2049" name=""/>
          <p:cNvSpPr/>
          <p:nvPr/>
        </p:nvSpPr>
        <p:spPr>
          <a:xfrm>
            <a:off x="3200400" y="4390920"/>
            <a:ext cx="1752480" cy="41148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4246e"/>
                </a:solidFill>
                <a:latin typeface="宋体"/>
              </a:rPr>
              <a:t>分级管理</a:t>
            </a:r>
            <a:endParaRPr b="0" lang="en-US" sz="3200" spc="-1" strike="noStrike">
              <a:solidFill>
                <a:srgbClr val="000066"/>
              </a:solidFill>
              <a:latin typeface="Times New Roman"/>
            </a:endParaRPr>
          </a:p>
        </p:txBody>
      </p:sp>
      <p:sp>
        <p:nvSpPr>
          <p:cNvPr id="2050" name=""/>
          <p:cNvSpPr/>
          <p:nvPr/>
        </p:nvSpPr>
        <p:spPr>
          <a:xfrm>
            <a:off x="5486400" y="2895480"/>
            <a:ext cx="304920" cy="459000"/>
          </a:xfrm>
          <a:custGeom>
            <a:avLst/>
            <a:gdLst/>
            <a:ahLst/>
            <a:rect l="l" t="t" r="r" b="b"/>
            <a:pathLst>
              <a:path w="505" h="289">
                <a:moveTo>
                  <a:pt x="504" y="72"/>
                </a:moveTo>
                <a:lnTo>
                  <a:pt x="144" y="72"/>
                </a:lnTo>
                <a:lnTo>
                  <a:pt x="144" y="0"/>
                </a:lnTo>
                <a:lnTo>
                  <a:pt x="0" y="144"/>
                </a:lnTo>
                <a:lnTo>
                  <a:pt x="144" y="288"/>
                </a:lnTo>
                <a:lnTo>
                  <a:pt x="144" y="216"/>
                </a:lnTo>
                <a:lnTo>
                  <a:pt x="504" y="216"/>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51" name=""/>
          <p:cNvSpPr/>
          <p:nvPr/>
        </p:nvSpPr>
        <p:spPr>
          <a:xfrm>
            <a:off x="5791320" y="2362320"/>
            <a:ext cx="2514600" cy="1523880"/>
          </a:xfrm>
          <a:custGeom>
            <a:avLst/>
            <a:gdLst/>
            <a:ahLst/>
            <a:rect l="l" t="t" r="r" b="b"/>
            <a:pathLst>
              <a:path w="1729" h="865">
                <a:moveTo>
                  <a:pt x="0" y="360"/>
                </a:moveTo>
                <a:lnTo>
                  <a:pt x="0" y="0"/>
                </a:lnTo>
                <a:lnTo>
                  <a:pt x="1728" y="0"/>
                </a:lnTo>
                <a:lnTo>
                  <a:pt x="1728" y="864"/>
                </a:lnTo>
                <a:lnTo>
                  <a:pt x="0" y="864"/>
                </a:lnTo>
                <a:lnTo>
                  <a:pt x="0"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52" name=""/>
          <p:cNvSpPr/>
          <p:nvPr/>
        </p:nvSpPr>
        <p:spPr>
          <a:xfrm>
            <a:off x="5943600" y="2590920"/>
            <a:ext cx="2209680" cy="72900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000066"/>
                </a:solidFill>
                <a:latin typeface="Times New Roman"/>
              </a:rPr>
              <a:t>各级管理员在自己权限范围内进行权限分配的工作</a:t>
            </a:r>
            <a:endParaRPr b="0" lang="en-US" sz="2000" spc="-1" strike="noStrike">
              <a:solidFill>
                <a:srgbClr val="000066"/>
              </a:solidFill>
              <a:latin typeface="Times New Roman"/>
            </a:endParaRPr>
          </a:p>
        </p:txBody>
      </p:sp>
      <p:sp>
        <p:nvSpPr>
          <p:cNvPr id="2053" name=""/>
          <p:cNvSpPr/>
          <p:nvPr/>
        </p:nvSpPr>
        <p:spPr>
          <a:xfrm>
            <a:off x="5486400" y="4648320"/>
            <a:ext cx="304920" cy="458640"/>
          </a:xfrm>
          <a:custGeom>
            <a:avLst/>
            <a:gdLst/>
            <a:ahLst/>
            <a:rect l="l" t="t" r="r" b="b"/>
            <a:pathLst>
              <a:path w="505" h="289">
                <a:moveTo>
                  <a:pt x="504" y="72"/>
                </a:moveTo>
                <a:lnTo>
                  <a:pt x="144" y="72"/>
                </a:lnTo>
                <a:lnTo>
                  <a:pt x="144" y="0"/>
                </a:lnTo>
                <a:lnTo>
                  <a:pt x="0" y="144"/>
                </a:lnTo>
                <a:lnTo>
                  <a:pt x="144" y="288"/>
                </a:lnTo>
                <a:lnTo>
                  <a:pt x="144" y="216"/>
                </a:lnTo>
                <a:lnTo>
                  <a:pt x="504" y="216"/>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54" name=""/>
          <p:cNvSpPr/>
          <p:nvPr/>
        </p:nvSpPr>
        <p:spPr>
          <a:xfrm>
            <a:off x="5791320" y="4114800"/>
            <a:ext cx="2514600" cy="1523880"/>
          </a:xfrm>
          <a:custGeom>
            <a:avLst/>
            <a:gdLst/>
            <a:ahLst/>
            <a:rect l="l" t="t" r="r" b="b"/>
            <a:pathLst>
              <a:path w="1729" h="865">
                <a:moveTo>
                  <a:pt x="0" y="360"/>
                </a:moveTo>
                <a:lnTo>
                  <a:pt x="0" y="0"/>
                </a:lnTo>
                <a:lnTo>
                  <a:pt x="1728" y="0"/>
                </a:lnTo>
                <a:lnTo>
                  <a:pt x="1728" y="864"/>
                </a:lnTo>
                <a:lnTo>
                  <a:pt x="0" y="864"/>
                </a:lnTo>
                <a:lnTo>
                  <a:pt x="0"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055" name=""/>
          <p:cNvSpPr/>
          <p:nvPr/>
        </p:nvSpPr>
        <p:spPr>
          <a:xfrm>
            <a:off x="5943600" y="4343400"/>
            <a:ext cx="2209680" cy="729000"/>
          </a:xfrm>
          <a:prstGeom prst="rect">
            <a:avLst/>
          </a:prstGeom>
          <a:noFill/>
          <a:ln w="0">
            <a:noFill/>
          </a:ln>
        </p:spPr>
        <p:style>
          <a:lnRef idx="0"/>
          <a:fillRef idx="0"/>
          <a:effectRef idx="0"/>
          <a:fontRef idx="minor"/>
        </p:style>
        <p:txBody>
          <a:bodyPr lIns="45720" rIns="4572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000066"/>
                </a:solidFill>
                <a:latin typeface="Times New Roman"/>
              </a:rPr>
              <a:t>各部门间同级操作员，采用了部门隔离的处理方法</a:t>
            </a:r>
            <a:endParaRPr b="0" lang="en-US" sz="2000" spc="-1" strike="noStrike">
              <a:solidFill>
                <a:srgbClr val="000066"/>
              </a:solidFill>
              <a:latin typeface="Times New Roman"/>
            </a:endParaRPr>
          </a:p>
        </p:txBody>
      </p:sp>
      <p:sp>
        <p:nvSpPr>
          <p:cNvPr id="2056" name=""/>
          <p:cNvSpPr/>
          <p:nvPr/>
        </p:nvSpPr>
        <p:spPr>
          <a:xfrm>
            <a:off x="1752480" y="5257800"/>
            <a:ext cx="3429000" cy="276480"/>
          </a:xfrm>
          <a:prstGeom prst="rect">
            <a:avLst/>
          </a:prstGeom>
          <a:noFill/>
          <a:ln w="0">
            <a:noFill/>
          </a:ln>
        </p:spPr>
        <p:style>
          <a:lnRef idx="0"/>
          <a:fillRef idx="0"/>
          <a:effectRef idx="0"/>
          <a:fontRef idx="minor"/>
        </p:style>
        <p:txBody>
          <a:bodyPr lIns="45720" rIns="4572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作为系统总管理员，只需管理各专业的分管理员</a:t>
            </a:r>
            <a:endParaRPr b="0" lang="en-US" sz="1200" spc="-1" strike="noStrike">
              <a:solidFill>
                <a:srgbClr val="000066"/>
              </a:solidFill>
              <a:latin typeface="Times New Roman"/>
            </a:endParaRPr>
          </a:p>
        </p:txBody>
      </p:sp>
      <p:sp>
        <p:nvSpPr>
          <p:cNvPr id="2057"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58"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59"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0"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1"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2"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3"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4"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5"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6"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7"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8"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69"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0"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1"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2"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3"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4"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5"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6"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7"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8"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79"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0"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1"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2"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3"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4"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5"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6"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7"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8"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89"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090"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217"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结语</a:t>
            </a:r>
            <a:endParaRPr b="1" lang="en-US" sz="3200" spc="-1" strike="noStrike">
              <a:solidFill>
                <a:srgbClr val="000099"/>
              </a:solidFill>
              <a:latin typeface="Times New Roman"/>
            </a:endParaRPr>
          </a:p>
        </p:txBody>
      </p:sp>
      <p:sp>
        <p:nvSpPr>
          <p:cNvPr id="218"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0" name=""/>
          <p:cNvSpPr/>
          <p:nvPr/>
        </p:nvSpPr>
        <p:spPr>
          <a:xfrm flipV="1">
            <a:off x="2000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1" name=""/>
          <p:cNvSpPr/>
          <p:nvPr/>
        </p:nvSpPr>
        <p:spPr>
          <a:xfrm flipV="1">
            <a:off x="2095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 name=""/>
          <p:cNvSpPr/>
          <p:nvPr/>
        </p:nvSpPr>
        <p:spPr>
          <a:xfrm flipV="1">
            <a:off x="2190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6"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7"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1"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2"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6"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4"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5"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0"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1"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数据安全</a:t>
            </a:r>
            <a:endParaRPr b="0" lang="en-US" sz="4800" spc="-1" strike="noStrike">
              <a:solidFill>
                <a:srgbClr val="000099"/>
              </a:solidFill>
              <a:latin typeface="Times New Roman"/>
            </a:endParaRPr>
          </a:p>
        </p:txBody>
      </p:sp>
      <p:sp>
        <p:nvSpPr>
          <p:cNvPr id="2092"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grpSp>
        <p:nvGrpSpPr>
          <p:cNvPr id="2093" name=""/>
          <p:cNvGrpSpPr/>
          <p:nvPr/>
        </p:nvGrpSpPr>
        <p:grpSpPr>
          <a:xfrm>
            <a:off x="2286000" y="2034720"/>
            <a:ext cx="4537080" cy="2408760"/>
            <a:chOff x="2286000" y="2034720"/>
            <a:chExt cx="4537080" cy="2408760"/>
          </a:xfrm>
        </p:grpSpPr>
        <p:sp>
          <p:nvSpPr>
            <p:cNvPr id="2094" name=""/>
            <p:cNvSpPr/>
            <p:nvPr/>
          </p:nvSpPr>
          <p:spPr>
            <a:xfrm>
              <a:off x="2286000" y="3239640"/>
              <a:ext cx="181800" cy="921240"/>
            </a:xfrm>
            <a:custGeom>
              <a:avLst/>
              <a:gdLst/>
              <a:ahLst/>
              <a:rect l="l" t="t" r="r" b="b"/>
              <a:pathLst>
                <a:path w="97" h="440">
                  <a:moveTo>
                    <a:pt x="79" y="420"/>
                  </a:moveTo>
                  <a:lnTo>
                    <a:pt x="81" y="422"/>
                  </a:lnTo>
                  <a:lnTo>
                    <a:pt x="83" y="424"/>
                  </a:lnTo>
                  <a:lnTo>
                    <a:pt x="85" y="426"/>
                  </a:lnTo>
                  <a:lnTo>
                    <a:pt x="86" y="428"/>
                  </a:lnTo>
                  <a:lnTo>
                    <a:pt x="88" y="430"/>
                  </a:lnTo>
                  <a:lnTo>
                    <a:pt x="89" y="432"/>
                  </a:lnTo>
                  <a:lnTo>
                    <a:pt x="91" y="433"/>
                  </a:lnTo>
                  <a:lnTo>
                    <a:pt x="92" y="434"/>
                  </a:lnTo>
                  <a:lnTo>
                    <a:pt x="93" y="435"/>
                  </a:lnTo>
                  <a:lnTo>
                    <a:pt x="94" y="436"/>
                  </a:lnTo>
                  <a:lnTo>
                    <a:pt x="94" y="437"/>
                  </a:lnTo>
                  <a:lnTo>
                    <a:pt x="95" y="438"/>
                  </a:lnTo>
                  <a:lnTo>
                    <a:pt x="95" y="438"/>
                  </a:lnTo>
                  <a:lnTo>
                    <a:pt x="96" y="439"/>
                  </a:lnTo>
                  <a:lnTo>
                    <a:pt x="96" y="439"/>
                  </a:lnTo>
                  <a:lnTo>
                    <a:pt x="96" y="439"/>
                  </a:lnTo>
                  <a:lnTo>
                    <a:pt x="96" y="439"/>
                  </a:lnTo>
                  <a:lnTo>
                    <a:pt x="96" y="437"/>
                  </a:lnTo>
                  <a:lnTo>
                    <a:pt x="96" y="435"/>
                  </a:lnTo>
                  <a:lnTo>
                    <a:pt x="96" y="432"/>
                  </a:lnTo>
                  <a:lnTo>
                    <a:pt x="96" y="428"/>
                  </a:lnTo>
                  <a:lnTo>
                    <a:pt x="96" y="424"/>
                  </a:lnTo>
                  <a:lnTo>
                    <a:pt x="96" y="418"/>
                  </a:lnTo>
                  <a:lnTo>
                    <a:pt x="96" y="412"/>
                  </a:lnTo>
                  <a:lnTo>
                    <a:pt x="96" y="405"/>
                  </a:lnTo>
                  <a:lnTo>
                    <a:pt x="96" y="397"/>
                  </a:lnTo>
                  <a:lnTo>
                    <a:pt x="96" y="388"/>
                  </a:lnTo>
                  <a:lnTo>
                    <a:pt x="96" y="379"/>
                  </a:lnTo>
                  <a:lnTo>
                    <a:pt x="96" y="368"/>
                  </a:lnTo>
                  <a:lnTo>
                    <a:pt x="96" y="357"/>
                  </a:lnTo>
                  <a:lnTo>
                    <a:pt x="96" y="345"/>
                  </a:lnTo>
                  <a:lnTo>
                    <a:pt x="96" y="331"/>
                  </a:lnTo>
                  <a:lnTo>
                    <a:pt x="96" y="318"/>
                  </a:lnTo>
                  <a:lnTo>
                    <a:pt x="96" y="306"/>
                  </a:lnTo>
                  <a:lnTo>
                    <a:pt x="96" y="295"/>
                  </a:lnTo>
                  <a:lnTo>
                    <a:pt x="96" y="284"/>
                  </a:lnTo>
                  <a:lnTo>
                    <a:pt x="96" y="275"/>
                  </a:lnTo>
                  <a:lnTo>
                    <a:pt x="96" y="266"/>
                  </a:lnTo>
                  <a:lnTo>
                    <a:pt x="96" y="258"/>
                  </a:lnTo>
                  <a:lnTo>
                    <a:pt x="96" y="251"/>
                  </a:lnTo>
                  <a:lnTo>
                    <a:pt x="96" y="245"/>
                  </a:lnTo>
                  <a:lnTo>
                    <a:pt x="96" y="239"/>
                  </a:lnTo>
                  <a:lnTo>
                    <a:pt x="96" y="234"/>
                  </a:lnTo>
                  <a:lnTo>
                    <a:pt x="96" y="231"/>
                  </a:lnTo>
                  <a:lnTo>
                    <a:pt x="96" y="228"/>
                  </a:lnTo>
                  <a:lnTo>
                    <a:pt x="96" y="226"/>
                  </a:lnTo>
                  <a:lnTo>
                    <a:pt x="96" y="224"/>
                  </a:lnTo>
                  <a:lnTo>
                    <a:pt x="96" y="224"/>
                  </a:lnTo>
                  <a:lnTo>
                    <a:pt x="96" y="224"/>
                  </a:lnTo>
                  <a:lnTo>
                    <a:pt x="96" y="224"/>
                  </a:lnTo>
                  <a:lnTo>
                    <a:pt x="95" y="223"/>
                  </a:lnTo>
                  <a:lnTo>
                    <a:pt x="95" y="222"/>
                  </a:lnTo>
                  <a:lnTo>
                    <a:pt x="94" y="222"/>
                  </a:lnTo>
                  <a:lnTo>
                    <a:pt x="93" y="221"/>
                  </a:lnTo>
                  <a:lnTo>
                    <a:pt x="92" y="219"/>
                  </a:lnTo>
                  <a:lnTo>
                    <a:pt x="91" y="218"/>
                  </a:lnTo>
                  <a:lnTo>
                    <a:pt x="90" y="216"/>
                  </a:lnTo>
                  <a:lnTo>
                    <a:pt x="88" y="215"/>
                  </a:lnTo>
                  <a:lnTo>
                    <a:pt x="87" y="213"/>
                  </a:lnTo>
                  <a:lnTo>
                    <a:pt x="85" y="210"/>
                  </a:lnTo>
                  <a:lnTo>
                    <a:pt x="83" y="208"/>
                  </a:lnTo>
                  <a:lnTo>
                    <a:pt x="81" y="206"/>
                  </a:lnTo>
                  <a:lnTo>
                    <a:pt x="78" y="203"/>
                  </a:lnTo>
                  <a:lnTo>
                    <a:pt x="76" y="200"/>
                  </a:lnTo>
                  <a:lnTo>
                    <a:pt x="74" y="197"/>
                  </a:lnTo>
                  <a:lnTo>
                    <a:pt x="71" y="194"/>
                  </a:lnTo>
                  <a:lnTo>
                    <a:pt x="69" y="191"/>
                  </a:lnTo>
                  <a:lnTo>
                    <a:pt x="66" y="187"/>
                  </a:lnTo>
                  <a:lnTo>
                    <a:pt x="64" y="184"/>
                  </a:lnTo>
                  <a:lnTo>
                    <a:pt x="61" y="180"/>
                  </a:lnTo>
                  <a:lnTo>
                    <a:pt x="59" y="177"/>
                  </a:lnTo>
                  <a:lnTo>
                    <a:pt x="56" y="173"/>
                  </a:lnTo>
                  <a:lnTo>
                    <a:pt x="54" y="170"/>
                  </a:lnTo>
                  <a:lnTo>
                    <a:pt x="52" y="166"/>
                  </a:lnTo>
                  <a:lnTo>
                    <a:pt x="49" y="162"/>
                  </a:lnTo>
                  <a:lnTo>
                    <a:pt x="47" y="158"/>
                  </a:lnTo>
                  <a:lnTo>
                    <a:pt x="45" y="154"/>
                  </a:lnTo>
                  <a:lnTo>
                    <a:pt x="42" y="150"/>
                  </a:lnTo>
                  <a:lnTo>
                    <a:pt x="40" y="145"/>
                  </a:lnTo>
                  <a:lnTo>
                    <a:pt x="38" y="141"/>
                  </a:lnTo>
                  <a:lnTo>
                    <a:pt x="35" y="137"/>
                  </a:lnTo>
                  <a:lnTo>
                    <a:pt x="33" y="132"/>
                  </a:lnTo>
                  <a:lnTo>
                    <a:pt x="31" y="128"/>
                  </a:lnTo>
                  <a:lnTo>
                    <a:pt x="29" y="124"/>
                  </a:lnTo>
                  <a:lnTo>
                    <a:pt x="27" y="120"/>
                  </a:lnTo>
                  <a:lnTo>
                    <a:pt x="25" y="116"/>
                  </a:lnTo>
                  <a:lnTo>
                    <a:pt x="23" y="112"/>
                  </a:lnTo>
                  <a:lnTo>
                    <a:pt x="22" y="108"/>
                  </a:lnTo>
                  <a:lnTo>
                    <a:pt x="20" y="104"/>
                  </a:lnTo>
                  <a:lnTo>
                    <a:pt x="19" y="100"/>
                  </a:lnTo>
                  <a:lnTo>
                    <a:pt x="17" y="96"/>
                  </a:lnTo>
                  <a:lnTo>
                    <a:pt x="16" y="92"/>
                  </a:lnTo>
                  <a:lnTo>
                    <a:pt x="15" y="89"/>
                  </a:lnTo>
                  <a:lnTo>
                    <a:pt x="14" y="85"/>
                  </a:lnTo>
                  <a:lnTo>
                    <a:pt x="13" y="82"/>
                  </a:lnTo>
                  <a:lnTo>
                    <a:pt x="12" y="78"/>
                  </a:lnTo>
                  <a:lnTo>
                    <a:pt x="11" y="75"/>
                  </a:lnTo>
                  <a:lnTo>
                    <a:pt x="10" y="71"/>
                  </a:lnTo>
                  <a:lnTo>
                    <a:pt x="9" y="68"/>
                  </a:lnTo>
                  <a:lnTo>
                    <a:pt x="8" y="64"/>
                  </a:lnTo>
                  <a:lnTo>
                    <a:pt x="7" y="61"/>
                  </a:lnTo>
                  <a:lnTo>
                    <a:pt x="7" y="57"/>
                  </a:lnTo>
                  <a:lnTo>
                    <a:pt x="6" y="54"/>
                  </a:lnTo>
                  <a:lnTo>
                    <a:pt x="5" y="51"/>
                  </a:lnTo>
                  <a:lnTo>
                    <a:pt x="5" y="47"/>
                  </a:lnTo>
                  <a:lnTo>
                    <a:pt x="4" y="44"/>
                  </a:lnTo>
                  <a:lnTo>
                    <a:pt x="4" y="41"/>
                  </a:lnTo>
                  <a:lnTo>
                    <a:pt x="3" y="38"/>
                  </a:lnTo>
                  <a:lnTo>
                    <a:pt x="3" y="34"/>
                  </a:lnTo>
                  <a:lnTo>
                    <a:pt x="3" y="31"/>
                  </a:lnTo>
                  <a:lnTo>
                    <a:pt x="2" y="28"/>
                  </a:lnTo>
                  <a:lnTo>
                    <a:pt x="2" y="25"/>
                  </a:lnTo>
                  <a:lnTo>
                    <a:pt x="2" y="22"/>
                  </a:lnTo>
                  <a:lnTo>
                    <a:pt x="2" y="19"/>
                  </a:lnTo>
                  <a:lnTo>
                    <a:pt x="1" y="16"/>
                  </a:lnTo>
                  <a:lnTo>
                    <a:pt x="1" y="14"/>
                  </a:lnTo>
                  <a:lnTo>
                    <a:pt x="1" y="12"/>
                  </a:lnTo>
                  <a:lnTo>
                    <a:pt x="1" y="10"/>
                  </a:lnTo>
                  <a:lnTo>
                    <a:pt x="1" y="8"/>
                  </a:lnTo>
                  <a:lnTo>
                    <a:pt x="1" y="6"/>
                  </a:lnTo>
                  <a:lnTo>
                    <a:pt x="0" y="5"/>
                  </a:lnTo>
                  <a:lnTo>
                    <a:pt x="0" y="4"/>
                  </a:lnTo>
                  <a:lnTo>
                    <a:pt x="0" y="2"/>
                  </a:lnTo>
                  <a:lnTo>
                    <a:pt x="0" y="2"/>
                  </a:lnTo>
                  <a:lnTo>
                    <a:pt x="0" y="1"/>
                  </a:lnTo>
                  <a:lnTo>
                    <a:pt x="0" y="0"/>
                  </a:lnTo>
                  <a:lnTo>
                    <a:pt x="0" y="0"/>
                  </a:lnTo>
                  <a:lnTo>
                    <a:pt x="0" y="0"/>
                  </a:lnTo>
                  <a:lnTo>
                    <a:pt x="0" y="0"/>
                  </a:lnTo>
                  <a:lnTo>
                    <a:pt x="0" y="2"/>
                  </a:lnTo>
                  <a:lnTo>
                    <a:pt x="0" y="4"/>
                  </a:lnTo>
                  <a:lnTo>
                    <a:pt x="0" y="7"/>
                  </a:lnTo>
                  <a:lnTo>
                    <a:pt x="0" y="11"/>
                  </a:lnTo>
                  <a:lnTo>
                    <a:pt x="0" y="16"/>
                  </a:lnTo>
                  <a:lnTo>
                    <a:pt x="0" y="22"/>
                  </a:lnTo>
                  <a:lnTo>
                    <a:pt x="0" y="29"/>
                  </a:lnTo>
                  <a:lnTo>
                    <a:pt x="0" y="37"/>
                  </a:lnTo>
                  <a:lnTo>
                    <a:pt x="0" y="46"/>
                  </a:lnTo>
                  <a:lnTo>
                    <a:pt x="0" y="55"/>
                  </a:lnTo>
                  <a:lnTo>
                    <a:pt x="0" y="66"/>
                  </a:lnTo>
                  <a:lnTo>
                    <a:pt x="0" y="77"/>
                  </a:lnTo>
                  <a:lnTo>
                    <a:pt x="0" y="90"/>
                  </a:lnTo>
                  <a:lnTo>
                    <a:pt x="0" y="103"/>
                  </a:lnTo>
                  <a:lnTo>
                    <a:pt x="0" y="117"/>
                  </a:lnTo>
                  <a:lnTo>
                    <a:pt x="0" y="131"/>
                  </a:lnTo>
                  <a:lnTo>
                    <a:pt x="0" y="144"/>
                  </a:lnTo>
                  <a:lnTo>
                    <a:pt x="0" y="157"/>
                  </a:lnTo>
                  <a:lnTo>
                    <a:pt x="0" y="168"/>
                  </a:lnTo>
                  <a:lnTo>
                    <a:pt x="0" y="179"/>
                  </a:lnTo>
                  <a:lnTo>
                    <a:pt x="0" y="188"/>
                  </a:lnTo>
                  <a:lnTo>
                    <a:pt x="0" y="197"/>
                  </a:lnTo>
                  <a:lnTo>
                    <a:pt x="0" y="205"/>
                  </a:lnTo>
                  <a:lnTo>
                    <a:pt x="0" y="212"/>
                  </a:lnTo>
                  <a:lnTo>
                    <a:pt x="0" y="218"/>
                  </a:lnTo>
                  <a:lnTo>
                    <a:pt x="0" y="223"/>
                  </a:lnTo>
                  <a:lnTo>
                    <a:pt x="0" y="227"/>
                  </a:lnTo>
                  <a:lnTo>
                    <a:pt x="0" y="230"/>
                  </a:lnTo>
                  <a:lnTo>
                    <a:pt x="0" y="232"/>
                  </a:lnTo>
                  <a:lnTo>
                    <a:pt x="0" y="234"/>
                  </a:lnTo>
                  <a:lnTo>
                    <a:pt x="0" y="234"/>
                  </a:lnTo>
                  <a:lnTo>
                    <a:pt x="0" y="234"/>
                  </a:lnTo>
                  <a:lnTo>
                    <a:pt x="0" y="235"/>
                  </a:lnTo>
                  <a:lnTo>
                    <a:pt x="0" y="235"/>
                  </a:lnTo>
                  <a:lnTo>
                    <a:pt x="0" y="236"/>
                  </a:lnTo>
                  <a:lnTo>
                    <a:pt x="1" y="238"/>
                  </a:lnTo>
                  <a:lnTo>
                    <a:pt x="1" y="240"/>
                  </a:lnTo>
                  <a:lnTo>
                    <a:pt x="1" y="242"/>
                  </a:lnTo>
                  <a:lnTo>
                    <a:pt x="2" y="244"/>
                  </a:lnTo>
                  <a:lnTo>
                    <a:pt x="2" y="246"/>
                  </a:lnTo>
                  <a:lnTo>
                    <a:pt x="3" y="249"/>
                  </a:lnTo>
                  <a:lnTo>
                    <a:pt x="3" y="253"/>
                  </a:lnTo>
                  <a:lnTo>
                    <a:pt x="4" y="256"/>
                  </a:lnTo>
                  <a:lnTo>
                    <a:pt x="5" y="260"/>
                  </a:lnTo>
                  <a:lnTo>
                    <a:pt x="5" y="264"/>
                  </a:lnTo>
                  <a:lnTo>
                    <a:pt x="6" y="269"/>
                  </a:lnTo>
                  <a:lnTo>
                    <a:pt x="7" y="273"/>
                  </a:lnTo>
                  <a:lnTo>
                    <a:pt x="8" y="278"/>
                  </a:lnTo>
                  <a:lnTo>
                    <a:pt x="9" y="283"/>
                  </a:lnTo>
                  <a:lnTo>
                    <a:pt x="10" y="288"/>
                  </a:lnTo>
                  <a:lnTo>
                    <a:pt x="12" y="294"/>
                  </a:lnTo>
                  <a:lnTo>
                    <a:pt x="13" y="299"/>
                  </a:lnTo>
                  <a:lnTo>
                    <a:pt x="15" y="304"/>
                  </a:lnTo>
                  <a:lnTo>
                    <a:pt x="16" y="309"/>
                  </a:lnTo>
                  <a:lnTo>
                    <a:pt x="18" y="314"/>
                  </a:lnTo>
                  <a:lnTo>
                    <a:pt x="20" y="319"/>
                  </a:lnTo>
                  <a:lnTo>
                    <a:pt x="22" y="325"/>
                  </a:lnTo>
                  <a:lnTo>
                    <a:pt x="25" y="330"/>
                  </a:lnTo>
                  <a:lnTo>
                    <a:pt x="27" y="335"/>
                  </a:lnTo>
                  <a:lnTo>
                    <a:pt x="30" y="341"/>
                  </a:lnTo>
                  <a:lnTo>
                    <a:pt x="32" y="346"/>
                  </a:lnTo>
                  <a:lnTo>
                    <a:pt x="35" y="352"/>
                  </a:lnTo>
                  <a:lnTo>
                    <a:pt x="38" y="357"/>
                  </a:lnTo>
                  <a:lnTo>
                    <a:pt x="41" y="362"/>
                  </a:lnTo>
                  <a:lnTo>
                    <a:pt x="44" y="368"/>
                  </a:lnTo>
                  <a:lnTo>
                    <a:pt x="47" y="373"/>
                  </a:lnTo>
                  <a:lnTo>
                    <a:pt x="50" y="377"/>
                  </a:lnTo>
                  <a:lnTo>
                    <a:pt x="52" y="382"/>
                  </a:lnTo>
                  <a:lnTo>
                    <a:pt x="55" y="386"/>
                  </a:lnTo>
                  <a:lnTo>
                    <a:pt x="58" y="391"/>
                  </a:lnTo>
                  <a:lnTo>
                    <a:pt x="60" y="395"/>
                  </a:lnTo>
                  <a:lnTo>
                    <a:pt x="63" y="399"/>
                  </a:lnTo>
                  <a:lnTo>
                    <a:pt x="65" y="402"/>
                  </a:lnTo>
                  <a:lnTo>
                    <a:pt x="68" y="406"/>
                  </a:lnTo>
                  <a:lnTo>
                    <a:pt x="70" y="409"/>
                  </a:lnTo>
                  <a:lnTo>
                    <a:pt x="72" y="412"/>
                  </a:lnTo>
                  <a:lnTo>
                    <a:pt x="75" y="415"/>
                  </a:lnTo>
                  <a:lnTo>
                    <a:pt x="77" y="418"/>
                  </a:lnTo>
                  <a:lnTo>
                    <a:pt x="79" y="420"/>
                  </a:lnTo>
                  <a:lnTo>
                    <a:pt x="79" y="420"/>
                  </a:lnTo>
                  <a:close/>
                </a:path>
              </a:pathLst>
            </a:custGeom>
            <a:solidFill>
              <a:srgbClr val="edf0f9"/>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95" name=""/>
            <p:cNvSpPr/>
            <p:nvPr/>
          </p:nvSpPr>
          <p:spPr>
            <a:xfrm>
              <a:off x="2467800" y="3239640"/>
              <a:ext cx="2089440" cy="927360"/>
            </a:xfrm>
            <a:custGeom>
              <a:avLst/>
              <a:gdLst/>
              <a:ahLst/>
              <a:rect l="l" t="t" r="r" b="b"/>
              <a:pathLst>
                <a:path w="1115" h="443">
                  <a:moveTo>
                    <a:pt x="1114" y="0"/>
                  </a:moveTo>
                  <a:lnTo>
                    <a:pt x="1114" y="216"/>
                  </a:lnTo>
                  <a:lnTo>
                    <a:pt x="0" y="442"/>
                  </a:lnTo>
                  <a:lnTo>
                    <a:pt x="0" y="224"/>
                  </a:lnTo>
                  <a:lnTo>
                    <a:pt x="1114" y="0"/>
                  </a:lnTo>
                  <a:close/>
                </a:path>
              </a:pathLst>
            </a:custGeom>
            <a:solidFill>
              <a:srgbClr val="edf0f9"/>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096" name=""/>
            <p:cNvGrpSpPr/>
            <p:nvPr/>
          </p:nvGrpSpPr>
          <p:grpSpPr>
            <a:xfrm>
              <a:off x="2287440" y="2034720"/>
              <a:ext cx="4535640" cy="2408760"/>
              <a:chOff x="2287440" y="2034720"/>
              <a:chExt cx="4535640" cy="2408760"/>
            </a:xfrm>
          </p:grpSpPr>
          <p:sp>
            <p:nvSpPr>
              <p:cNvPr id="2097" name=""/>
              <p:cNvSpPr/>
              <p:nvPr/>
            </p:nvSpPr>
            <p:spPr>
              <a:xfrm>
                <a:off x="2287440" y="2034720"/>
                <a:ext cx="4535640" cy="2408760"/>
              </a:xfrm>
              <a:custGeom>
                <a:avLst/>
                <a:gdLst/>
                <a:ahLst/>
                <a:rect l="l" t="t" r="r" b="b"/>
                <a:pathLst>
                  <a:path stroke="0" w="21600" h="21600">
                    <a:moveTo>
                      <a:pt x="859" y="15020"/>
                    </a:moveTo>
                    <a:arcTo wR="10800" hR="10800" stAng="9420000" swAng="5400000"/>
                    <a:lnTo>
                      <a:pt x="10800" y="10800"/>
                    </a:lnTo>
                    <a:close/>
                  </a:path>
                  <a:path fill="none" w="21600" h="21600">
                    <a:moveTo>
                      <a:pt x="859" y="15020"/>
                    </a:moveTo>
                    <a:arcTo wR="10800" hR="10800" stAng="9420000" swAng="5400000"/>
                  </a:path>
                </a:pathLst>
              </a:custGeom>
              <a:solidFill>
                <a:srgbClr val="edf0f9"/>
              </a:solidFill>
              <a:ln w="3240">
                <a:solidFill>
                  <a:srgbClr val="1f5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098" name=""/>
              <p:cNvSpPr/>
              <p:nvPr/>
            </p:nvSpPr>
            <p:spPr>
              <a:xfrm>
                <a:off x="2469240" y="2130480"/>
                <a:ext cx="2087640" cy="1581840"/>
              </a:xfrm>
              <a:custGeom>
                <a:avLst/>
                <a:gdLst/>
                <a:ahLst/>
                <a:rect l="l" t="t" r="r" b="b"/>
                <a:pathLst>
                  <a:path w="1114" h="756">
                    <a:moveTo>
                      <a:pt x="0" y="755"/>
                    </a:moveTo>
                    <a:lnTo>
                      <a:pt x="1113" y="530"/>
                    </a:lnTo>
                    <a:lnTo>
                      <a:pt x="640" y="0"/>
                    </a:lnTo>
                  </a:path>
                </a:pathLst>
              </a:custGeom>
              <a:solidFill>
                <a:srgbClr val="edf0f9"/>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grpSp>
      <p:grpSp>
        <p:nvGrpSpPr>
          <p:cNvPr id="2099" name=""/>
          <p:cNvGrpSpPr/>
          <p:nvPr/>
        </p:nvGrpSpPr>
        <p:grpSpPr>
          <a:xfrm>
            <a:off x="2283840" y="2327040"/>
            <a:ext cx="4535640" cy="2462040"/>
            <a:chOff x="2283840" y="2327040"/>
            <a:chExt cx="4535640" cy="2462040"/>
          </a:xfrm>
        </p:grpSpPr>
        <p:sp>
          <p:nvSpPr>
            <p:cNvPr id="2100" name=""/>
            <p:cNvSpPr/>
            <p:nvPr/>
          </p:nvSpPr>
          <p:spPr>
            <a:xfrm>
              <a:off x="5436000" y="3565080"/>
              <a:ext cx="1383480" cy="1224000"/>
            </a:xfrm>
            <a:custGeom>
              <a:avLst/>
              <a:gdLst/>
              <a:ahLst/>
              <a:rect l="l" t="t" r="r" b="b"/>
              <a:pathLst>
                <a:path w="738" h="585">
                  <a:moveTo>
                    <a:pt x="17" y="509"/>
                  </a:moveTo>
                  <a:lnTo>
                    <a:pt x="15" y="510"/>
                  </a:lnTo>
                  <a:lnTo>
                    <a:pt x="13" y="510"/>
                  </a:lnTo>
                  <a:lnTo>
                    <a:pt x="12" y="511"/>
                  </a:lnTo>
                  <a:lnTo>
                    <a:pt x="10" y="511"/>
                  </a:lnTo>
                  <a:lnTo>
                    <a:pt x="8" y="511"/>
                  </a:lnTo>
                  <a:lnTo>
                    <a:pt x="7" y="512"/>
                  </a:lnTo>
                  <a:lnTo>
                    <a:pt x="6" y="512"/>
                  </a:lnTo>
                  <a:lnTo>
                    <a:pt x="4" y="512"/>
                  </a:lnTo>
                  <a:lnTo>
                    <a:pt x="3" y="512"/>
                  </a:lnTo>
                  <a:lnTo>
                    <a:pt x="2" y="512"/>
                  </a:lnTo>
                  <a:lnTo>
                    <a:pt x="2" y="513"/>
                  </a:lnTo>
                  <a:lnTo>
                    <a:pt x="1" y="513"/>
                  </a:lnTo>
                  <a:lnTo>
                    <a:pt x="1" y="513"/>
                  </a:lnTo>
                  <a:lnTo>
                    <a:pt x="0" y="513"/>
                  </a:lnTo>
                  <a:lnTo>
                    <a:pt x="0" y="513"/>
                  </a:lnTo>
                  <a:lnTo>
                    <a:pt x="0" y="513"/>
                  </a:lnTo>
                  <a:lnTo>
                    <a:pt x="0" y="513"/>
                  </a:lnTo>
                  <a:lnTo>
                    <a:pt x="0" y="514"/>
                  </a:lnTo>
                  <a:lnTo>
                    <a:pt x="0" y="514"/>
                  </a:lnTo>
                  <a:lnTo>
                    <a:pt x="0" y="515"/>
                  </a:lnTo>
                  <a:lnTo>
                    <a:pt x="0" y="516"/>
                  </a:lnTo>
                  <a:lnTo>
                    <a:pt x="0" y="518"/>
                  </a:lnTo>
                  <a:lnTo>
                    <a:pt x="0" y="520"/>
                  </a:lnTo>
                  <a:lnTo>
                    <a:pt x="0" y="522"/>
                  </a:lnTo>
                  <a:lnTo>
                    <a:pt x="0" y="524"/>
                  </a:lnTo>
                  <a:lnTo>
                    <a:pt x="0" y="527"/>
                  </a:lnTo>
                  <a:lnTo>
                    <a:pt x="0" y="530"/>
                  </a:lnTo>
                  <a:lnTo>
                    <a:pt x="0" y="533"/>
                  </a:lnTo>
                  <a:lnTo>
                    <a:pt x="0" y="536"/>
                  </a:lnTo>
                  <a:lnTo>
                    <a:pt x="0" y="540"/>
                  </a:lnTo>
                  <a:lnTo>
                    <a:pt x="0" y="544"/>
                  </a:lnTo>
                  <a:lnTo>
                    <a:pt x="0" y="548"/>
                  </a:lnTo>
                  <a:lnTo>
                    <a:pt x="0" y="553"/>
                  </a:lnTo>
                  <a:lnTo>
                    <a:pt x="0" y="557"/>
                  </a:lnTo>
                  <a:lnTo>
                    <a:pt x="0" y="561"/>
                  </a:lnTo>
                  <a:lnTo>
                    <a:pt x="0" y="564"/>
                  </a:lnTo>
                  <a:lnTo>
                    <a:pt x="0" y="567"/>
                  </a:lnTo>
                  <a:lnTo>
                    <a:pt x="0" y="570"/>
                  </a:lnTo>
                  <a:lnTo>
                    <a:pt x="0" y="573"/>
                  </a:lnTo>
                  <a:lnTo>
                    <a:pt x="0" y="575"/>
                  </a:lnTo>
                  <a:lnTo>
                    <a:pt x="0" y="577"/>
                  </a:lnTo>
                  <a:lnTo>
                    <a:pt x="0" y="579"/>
                  </a:lnTo>
                  <a:lnTo>
                    <a:pt x="0" y="581"/>
                  </a:lnTo>
                  <a:lnTo>
                    <a:pt x="0" y="582"/>
                  </a:lnTo>
                  <a:lnTo>
                    <a:pt x="0" y="583"/>
                  </a:lnTo>
                  <a:lnTo>
                    <a:pt x="0" y="583"/>
                  </a:lnTo>
                  <a:lnTo>
                    <a:pt x="0" y="584"/>
                  </a:lnTo>
                  <a:lnTo>
                    <a:pt x="0" y="584"/>
                  </a:lnTo>
                  <a:lnTo>
                    <a:pt x="0" y="584"/>
                  </a:lnTo>
                  <a:lnTo>
                    <a:pt x="0" y="584"/>
                  </a:lnTo>
                  <a:lnTo>
                    <a:pt x="0" y="584"/>
                  </a:lnTo>
                  <a:lnTo>
                    <a:pt x="1" y="584"/>
                  </a:lnTo>
                  <a:lnTo>
                    <a:pt x="1" y="584"/>
                  </a:lnTo>
                  <a:lnTo>
                    <a:pt x="1" y="584"/>
                  </a:lnTo>
                  <a:lnTo>
                    <a:pt x="2" y="584"/>
                  </a:lnTo>
                  <a:lnTo>
                    <a:pt x="3" y="584"/>
                  </a:lnTo>
                  <a:lnTo>
                    <a:pt x="3" y="584"/>
                  </a:lnTo>
                  <a:lnTo>
                    <a:pt x="4" y="583"/>
                  </a:lnTo>
                  <a:lnTo>
                    <a:pt x="5" y="583"/>
                  </a:lnTo>
                  <a:lnTo>
                    <a:pt x="6" y="583"/>
                  </a:lnTo>
                  <a:lnTo>
                    <a:pt x="7" y="583"/>
                  </a:lnTo>
                  <a:lnTo>
                    <a:pt x="8" y="583"/>
                  </a:lnTo>
                  <a:lnTo>
                    <a:pt x="9" y="583"/>
                  </a:lnTo>
                  <a:lnTo>
                    <a:pt x="10" y="582"/>
                  </a:lnTo>
                  <a:lnTo>
                    <a:pt x="12" y="582"/>
                  </a:lnTo>
                  <a:lnTo>
                    <a:pt x="13" y="582"/>
                  </a:lnTo>
                  <a:lnTo>
                    <a:pt x="15" y="582"/>
                  </a:lnTo>
                  <a:lnTo>
                    <a:pt x="16" y="582"/>
                  </a:lnTo>
                  <a:lnTo>
                    <a:pt x="18" y="581"/>
                  </a:lnTo>
                  <a:lnTo>
                    <a:pt x="20" y="581"/>
                  </a:lnTo>
                  <a:lnTo>
                    <a:pt x="22" y="580"/>
                  </a:lnTo>
                  <a:lnTo>
                    <a:pt x="24" y="580"/>
                  </a:lnTo>
                  <a:lnTo>
                    <a:pt x="26" y="580"/>
                  </a:lnTo>
                  <a:lnTo>
                    <a:pt x="28" y="579"/>
                  </a:lnTo>
                  <a:lnTo>
                    <a:pt x="30" y="579"/>
                  </a:lnTo>
                  <a:lnTo>
                    <a:pt x="32" y="578"/>
                  </a:lnTo>
                  <a:lnTo>
                    <a:pt x="35" y="578"/>
                  </a:lnTo>
                  <a:lnTo>
                    <a:pt x="37" y="577"/>
                  </a:lnTo>
                  <a:lnTo>
                    <a:pt x="40" y="577"/>
                  </a:lnTo>
                  <a:lnTo>
                    <a:pt x="42" y="576"/>
                  </a:lnTo>
                  <a:lnTo>
                    <a:pt x="45" y="575"/>
                  </a:lnTo>
                  <a:lnTo>
                    <a:pt x="48" y="575"/>
                  </a:lnTo>
                  <a:lnTo>
                    <a:pt x="51" y="574"/>
                  </a:lnTo>
                  <a:lnTo>
                    <a:pt x="54" y="573"/>
                  </a:lnTo>
                  <a:lnTo>
                    <a:pt x="57" y="572"/>
                  </a:lnTo>
                  <a:lnTo>
                    <a:pt x="61" y="572"/>
                  </a:lnTo>
                  <a:lnTo>
                    <a:pt x="64" y="571"/>
                  </a:lnTo>
                  <a:lnTo>
                    <a:pt x="68" y="570"/>
                  </a:lnTo>
                  <a:lnTo>
                    <a:pt x="72" y="569"/>
                  </a:lnTo>
                  <a:lnTo>
                    <a:pt x="76" y="568"/>
                  </a:lnTo>
                  <a:lnTo>
                    <a:pt x="80" y="567"/>
                  </a:lnTo>
                  <a:lnTo>
                    <a:pt x="84" y="566"/>
                  </a:lnTo>
                  <a:lnTo>
                    <a:pt x="88" y="565"/>
                  </a:lnTo>
                  <a:lnTo>
                    <a:pt x="92" y="564"/>
                  </a:lnTo>
                  <a:lnTo>
                    <a:pt x="97" y="563"/>
                  </a:lnTo>
                  <a:lnTo>
                    <a:pt x="101" y="561"/>
                  </a:lnTo>
                  <a:lnTo>
                    <a:pt x="106" y="560"/>
                  </a:lnTo>
                  <a:lnTo>
                    <a:pt x="111" y="559"/>
                  </a:lnTo>
                  <a:lnTo>
                    <a:pt x="116" y="558"/>
                  </a:lnTo>
                  <a:lnTo>
                    <a:pt x="120" y="557"/>
                  </a:lnTo>
                  <a:lnTo>
                    <a:pt x="125" y="555"/>
                  </a:lnTo>
                  <a:lnTo>
                    <a:pt x="130" y="554"/>
                  </a:lnTo>
                  <a:lnTo>
                    <a:pt x="134" y="553"/>
                  </a:lnTo>
                  <a:lnTo>
                    <a:pt x="139" y="551"/>
                  </a:lnTo>
                  <a:lnTo>
                    <a:pt x="144" y="550"/>
                  </a:lnTo>
                  <a:lnTo>
                    <a:pt x="149" y="549"/>
                  </a:lnTo>
                  <a:lnTo>
                    <a:pt x="154" y="547"/>
                  </a:lnTo>
                  <a:lnTo>
                    <a:pt x="158" y="546"/>
                  </a:lnTo>
                  <a:lnTo>
                    <a:pt x="163" y="545"/>
                  </a:lnTo>
                  <a:lnTo>
                    <a:pt x="168" y="543"/>
                  </a:lnTo>
                  <a:lnTo>
                    <a:pt x="173" y="542"/>
                  </a:lnTo>
                  <a:lnTo>
                    <a:pt x="177" y="540"/>
                  </a:lnTo>
                  <a:lnTo>
                    <a:pt x="182" y="539"/>
                  </a:lnTo>
                  <a:lnTo>
                    <a:pt x="187" y="538"/>
                  </a:lnTo>
                  <a:lnTo>
                    <a:pt x="192" y="536"/>
                  </a:lnTo>
                  <a:lnTo>
                    <a:pt x="197" y="534"/>
                  </a:lnTo>
                  <a:lnTo>
                    <a:pt x="202" y="533"/>
                  </a:lnTo>
                  <a:lnTo>
                    <a:pt x="208" y="531"/>
                  </a:lnTo>
                  <a:lnTo>
                    <a:pt x="213" y="529"/>
                  </a:lnTo>
                  <a:lnTo>
                    <a:pt x="218" y="527"/>
                  </a:lnTo>
                  <a:lnTo>
                    <a:pt x="224" y="526"/>
                  </a:lnTo>
                  <a:lnTo>
                    <a:pt x="229" y="524"/>
                  </a:lnTo>
                  <a:lnTo>
                    <a:pt x="235" y="522"/>
                  </a:lnTo>
                  <a:lnTo>
                    <a:pt x="240" y="520"/>
                  </a:lnTo>
                  <a:lnTo>
                    <a:pt x="246" y="518"/>
                  </a:lnTo>
                  <a:lnTo>
                    <a:pt x="252" y="516"/>
                  </a:lnTo>
                  <a:lnTo>
                    <a:pt x="258" y="514"/>
                  </a:lnTo>
                  <a:lnTo>
                    <a:pt x="263" y="511"/>
                  </a:lnTo>
                  <a:lnTo>
                    <a:pt x="269" y="509"/>
                  </a:lnTo>
                  <a:lnTo>
                    <a:pt x="275" y="507"/>
                  </a:lnTo>
                  <a:lnTo>
                    <a:pt x="281" y="505"/>
                  </a:lnTo>
                  <a:lnTo>
                    <a:pt x="286" y="503"/>
                  </a:lnTo>
                  <a:lnTo>
                    <a:pt x="292" y="501"/>
                  </a:lnTo>
                  <a:lnTo>
                    <a:pt x="297" y="499"/>
                  </a:lnTo>
                  <a:lnTo>
                    <a:pt x="302" y="497"/>
                  </a:lnTo>
                  <a:lnTo>
                    <a:pt x="307" y="495"/>
                  </a:lnTo>
                  <a:lnTo>
                    <a:pt x="313" y="493"/>
                  </a:lnTo>
                  <a:lnTo>
                    <a:pt x="317" y="491"/>
                  </a:lnTo>
                  <a:lnTo>
                    <a:pt x="322" y="489"/>
                  </a:lnTo>
                  <a:lnTo>
                    <a:pt x="327" y="487"/>
                  </a:lnTo>
                  <a:lnTo>
                    <a:pt x="331" y="485"/>
                  </a:lnTo>
                  <a:lnTo>
                    <a:pt x="336" y="483"/>
                  </a:lnTo>
                  <a:lnTo>
                    <a:pt x="340" y="481"/>
                  </a:lnTo>
                  <a:lnTo>
                    <a:pt x="344" y="479"/>
                  </a:lnTo>
                  <a:lnTo>
                    <a:pt x="349" y="478"/>
                  </a:lnTo>
                  <a:lnTo>
                    <a:pt x="353" y="476"/>
                  </a:lnTo>
                  <a:lnTo>
                    <a:pt x="357" y="474"/>
                  </a:lnTo>
                  <a:lnTo>
                    <a:pt x="361" y="472"/>
                  </a:lnTo>
                  <a:lnTo>
                    <a:pt x="365" y="470"/>
                  </a:lnTo>
                  <a:lnTo>
                    <a:pt x="369" y="469"/>
                  </a:lnTo>
                  <a:lnTo>
                    <a:pt x="373" y="467"/>
                  </a:lnTo>
                  <a:lnTo>
                    <a:pt x="377" y="465"/>
                  </a:lnTo>
                  <a:lnTo>
                    <a:pt x="381" y="463"/>
                  </a:lnTo>
                  <a:lnTo>
                    <a:pt x="385" y="461"/>
                  </a:lnTo>
                  <a:lnTo>
                    <a:pt x="388" y="459"/>
                  </a:lnTo>
                  <a:lnTo>
                    <a:pt x="392" y="457"/>
                  </a:lnTo>
                  <a:lnTo>
                    <a:pt x="396" y="456"/>
                  </a:lnTo>
                  <a:lnTo>
                    <a:pt x="400" y="454"/>
                  </a:lnTo>
                  <a:lnTo>
                    <a:pt x="403" y="452"/>
                  </a:lnTo>
                  <a:lnTo>
                    <a:pt x="407" y="450"/>
                  </a:lnTo>
                  <a:lnTo>
                    <a:pt x="411" y="448"/>
                  </a:lnTo>
                  <a:lnTo>
                    <a:pt x="414" y="446"/>
                  </a:lnTo>
                  <a:lnTo>
                    <a:pt x="418" y="444"/>
                  </a:lnTo>
                  <a:lnTo>
                    <a:pt x="422" y="442"/>
                  </a:lnTo>
                  <a:lnTo>
                    <a:pt x="425" y="440"/>
                  </a:lnTo>
                  <a:lnTo>
                    <a:pt x="429" y="438"/>
                  </a:lnTo>
                  <a:lnTo>
                    <a:pt x="432" y="436"/>
                  </a:lnTo>
                  <a:lnTo>
                    <a:pt x="436" y="434"/>
                  </a:lnTo>
                  <a:lnTo>
                    <a:pt x="440" y="432"/>
                  </a:lnTo>
                  <a:lnTo>
                    <a:pt x="443" y="430"/>
                  </a:lnTo>
                  <a:lnTo>
                    <a:pt x="447" y="428"/>
                  </a:lnTo>
                  <a:lnTo>
                    <a:pt x="451" y="426"/>
                  </a:lnTo>
                  <a:lnTo>
                    <a:pt x="454" y="424"/>
                  </a:lnTo>
                  <a:lnTo>
                    <a:pt x="458" y="422"/>
                  </a:lnTo>
                  <a:lnTo>
                    <a:pt x="462" y="420"/>
                  </a:lnTo>
                  <a:lnTo>
                    <a:pt x="465" y="418"/>
                  </a:lnTo>
                  <a:lnTo>
                    <a:pt x="469" y="416"/>
                  </a:lnTo>
                  <a:lnTo>
                    <a:pt x="473" y="414"/>
                  </a:lnTo>
                  <a:lnTo>
                    <a:pt x="476" y="412"/>
                  </a:lnTo>
                  <a:lnTo>
                    <a:pt x="480" y="409"/>
                  </a:lnTo>
                  <a:lnTo>
                    <a:pt x="483" y="407"/>
                  </a:lnTo>
                  <a:lnTo>
                    <a:pt x="487" y="405"/>
                  </a:lnTo>
                  <a:lnTo>
                    <a:pt x="490" y="403"/>
                  </a:lnTo>
                  <a:lnTo>
                    <a:pt x="494" y="401"/>
                  </a:lnTo>
                  <a:lnTo>
                    <a:pt x="497" y="399"/>
                  </a:lnTo>
                  <a:lnTo>
                    <a:pt x="500" y="397"/>
                  </a:lnTo>
                  <a:lnTo>
                    <a:pt x="504" y="395"/>
                  </a:lnTo>
                  <a:lnTo>
                    <a:pt x="507" y="392"/>
                  </a:lnTo>
                  <a:lnTo>
                    <a:pt x="510" y="390"/>
                  </a:lnTo>
                  <a:lnTo>
                    <a:pt x="513" y="388"/>
                  </a:lnTo>
                  <a:lnTo>
                    <a:pt x="516" y="386"/>
                  </a:lnTo>
                  <a:lnTo>
                    <a:pt x="519" y="384"/>
                  </a:lnTo>
                  <a:lnTo>
                    <a:pt x="523" y="382"/>
                  </a:lnTo>
                  <a:lnTo>
                    <a:pt x="526" y="380"/>
                  </a:lnTo>
                  <a:lnTo>
                    <a:pt x="529" y="378"/>
                  </a:lnTo>
                  <a:lnTo>
                    <a:pt x="532" y="375"/>
                  </a:lnTo>
                  <a:lnTo>
                    <a:pt x="535" y="373"/>
                  </a:lnTo>
                  <a:lnTo>
                    <a:pt x="538" y="371"/>
                  </a:lnTo>
                  <a:lnTo>
                    <a:pt x="541" y="369"/>
                  </a:lnTo>
                  <a:lnTo>
                    <a:pt x="544" y="366"/>
                  </a:lnTo>
                  <a:lnTo>
                    <a:pt x="547" y="364"/>
                  </a:lnTo>
                  <a:lnTo>
                    <a:pt x="550" y="362"/>
                  </a:lnTo>
                  <a:lnTo>
                    <a:pt x="553" y="359"/>
                  </a:lnTo>
                  <a:lnTo>
                    <a:pt x="556" y="357"/>
                  </a:lnTo>
                  <a:lnTo>
                    <a:pt x="559" y="355"/>
                  </a:lnTo>
                  <a:lnTo>
                    <a:pt x="562" y="352"/>
                  </a:lnTo>
                  <a:lnTo>
                    <a:pt x="565" y="350"/>
                  </a:lnTo>
                  <a:lnTo>
                    <a:pt x="568" y="347"/>
                  </a:lnTo>
                  <a:lnTo>
                    <a:pt x="572" y="345"/>
                  </a:lnTo>
                  <a:lnTo>
                    <a:pt x="575" y="343"/>
                  </a:lnTo>
                  <a:lnTo>
                    <a:pt x="578" y="340"/>
                  </a:lnTo>
                  <a:lnTo>
                    <a:pt x="580" y="338"/>
                  </a:lnTo>
                  <a:lnTo>
                    <a:pt x="583" y="335"/>
                  </a:lnTo>
                  <a:lnTo>
                    <a:pt x="586" y="333"/>
                  </a:lnTo>
                  <a:lnTo>
                    <a:pt x="589" y="331"/>
                  </a:lnTo>
                  <a:lnTo>
                    <a:pt x="592" y="328"/>
                  </a:lnTo>
                  <a:lnTo>
                    <a:pt x="594" y="326"/>
                  </a:lnTo>
                  <a:lnTo>
                    <a:pt x="597" y="323"/>
                  </a:lnTo>
                  <a:lnTo>
                    <a:pt x="600" y="321"/>
                  </a:lnTo>
                  <a:lnTo>
                    <a:pt x="602" y="319"/>
                  </a:lnTo>
                  <a:lnTo>
                    <a:pt x="605" y="316"/>
                  </a:lnTo>
                  <a:lnTo>
                    <a:pt x="608" y="314"/>
                  </a:lnTo>
                  <a:lnTo>
                    <a:pt x="610" y="311"/>
                  </a:lnTo>
                  <a:lnTo>
                    <a:pt x="612" y="309"/>
                  </a:lnTo>
                  <a:lnTo>
                    <a:pt x="615" y="307"/>
                  </a:lnTo>
                  <a:lnTo>
                    <a:pt x="617" y="304"/>
                  </a:lnTo>
                  <a:lnTo>
                    <a:pt x="620" y="302"/>
                  </a:lnTo>
                  <a:lnTo>
                    <a:pt x="622" y="299"/>
                  </a:lnTo>
                  <a:lnTo>
                    <a:pt x="625" y="297"/>
                  </a:lnTo>
                  <a:lnTo>
                    <a:pt x="627" y="294"/>
                  </a:lnTo>
                  <a:lnTo>
                    <a:pt x="630" y="291"/>
                  </a:lnTo>
                  <a:lnTo>
                    <a:pt x="632" y="289"/>
                  </a:lnTo>
                  <a:lnTo>
                    <a:pt x="635" y="286"/>
                  </a:lnTo>
                  <a:lnTo>
                    <a:pt x="637" y="283"/>
                  </a:lnTo>
                  <a:lnTo>
                    <a:pt x="640" y="280"/>
                  </a:lnTo>
                  <a:lnTo>
                    <a:pt x="643" y="278"/>
                  </a:lnTo>
                  <a:lnTo>
                    <a:pt x="645" y="275"/>
                  </a:lnTo>
                  <a:lnTo>
                    <a:pt x="648" y="272"/>
                  </a:lnTo>
                  <a:lnTo>
                    <a:pt x="650" y="269"/>
                  </a:lnTo>
                  <a:lnTo>
                    <a:pt x="653" y="266"/>
                  </a:lnTo>
                  <a:lnTo>
                    <a:pt x="656" y="263"/>
                  </a:lnTo>
                  <a:lnTo>
                    <a:pt x="658" y="260"/>
                  </a:lnTo>
                  <a:lnTo>
                    <a:pt x="661" y="257"/>
                  </a:lnTo>
                  <a:lnTo>
                    <a:pt x="663" y="254"/>
                  </a:lnTo>
                  <a:lnTo>
                    <a:pt x="666" y="251"/>
                  </a:lnTo>
                  <a:lnTo>
                    <a:pt x="668" y="248"/>
                  </a:lnTo>
                  <a:lnTo>
                    <a:pt x="670" y="244"/>
                  </a:lnTo>
                  <a:lnTo>
                    <a:pt x="673" y="241"/>
                  </a:lnTo>
                  <a:lnTo>
                    <a:pt x="675" y="238"/>
                  </a:lnTo>
                  <a:lnTo>
                    <a:pt x="677" y="235"/>
                  </a:lnTo>
                  <a:lnTo>
                    <a:pt x="679" y="232"/>
                  </a:lnTo>
                  <a:lnTo>
                    <a:pt x="681" y="228"/>
                  </a:lnTo>
                  <a:lnTo>
                    <a:pt x="683" y="225"/>
                  </a:lnTo>
                  <a:lnTo>
                    <a:pt x="686" y="222"/>
                  </a:lnTo>
                  <a:lnTo>
                    <a:pt x="688" y="218"/>
                  </a:lnTo>
                  <a:lnTo>
                    <a:pt x="689" y="215"/>
                  </a:lnTo>
                  <a:lnTo>
                    <a:pt x="691" y="212"/>
                  </a:lnTo>
                  <a:lnTo>
                    <a:pt x="693" y="208"/>
                  </a:lnTo>
                  <a:lnTo>
                    <a:pt x="695" y="205"/>
                  </a:lnTo>
                  <a:lnTo>
                    <a:pt x="697" y="202"/>
                  </a:lnTo>
                  <a:lnTo>
                    <a:pt x="699" y="198"/>
                  </a:lnTo>
                  <a:lnTo>
                    <a:pt x="700" y="195"/>
                  </a:lnTo>
                  <a:lnTo>
                    <a:pt x="702" y="192"/>
                  </a:lnTo>
                  <a:lnTo>
                    <a:pt x="704" y="189"/>
                  </a:lnTo>
                  <a:lnTo>
                    <a:pt x="705" y="186"/>
                  </a:lnTo>
                  <a:lnTo>
                    <a:pt x="707" y="182"/>
                  </a:lnTo>
                  <a:lnTo>
                    <a:pt x="708" y="179"/>
                  </a:lnTo>
                  <a:lnTo>
                    <a:pt x="710" y="176"/>
                  </a:lnTo>
                  <a:lnTo>
                    <a:pt x="711" y="173"/>
                  </a:lnTo>
                  <a:lnTo>
                    <a:pt x="712" y="170"/>
                  </a:lnTo>
                  <a:lnTo>
                    <a:pt x="714" y="167"/>
                  </a:lnTo>
                  <a:lnTo>
                    <a:pt x="715" y="164"/>
                  </a:lnTo>
                  <a:lnTo>
                    <a:pt x="716" y="161"/>
                  </a:lnTo>
                  <a:lnTo>
                    <a:pt x="717" y="158"/>
                  </a:lnTo>
                  <a:lnTo>
                    <a:pt x="719" y="155"/>
                  </a:lnTo>
                  <a:lnTo>
                    <a:pt x="720" y="152"/>
                  </a:lnTo>
                  <a:lnTo>
                    <a:pt x="721" y="150"/>
                  </a:lnTo>
                  <a:lnTo>
                    <a:pt x="722" y="147"/>
                  </a:lnTo>
                  <a:lnTo>
                    <a:pt x="723" y="144"/>
                  </a:lnTo>
                  <a:lnTo>
                    <a:pt x="723" y="142"/>
                  </a:lnTo>
                  <a:lnTo>
                    <a:pt x="724" y="139"/>
                  </a:lnTo>
                  <a:lnTo>
                    <a:pt x="725" y="137"/>
                  </a:lnTo>
                  <a:lnTo>
                    <a:pt x="726" y="134"/>
                  </a:lnTo>
                  <a:lnTo>
                    <a:pt x="727" y="132"/>
                  </a:lnTo>
                  <a:lnTo>
                    <a:pt x="727" y="129"/>
                  </a:lnTo>
                  <a:lnTo>
                    <a:pt x="728" y="127"/>
                  </a:lnTo>
                  <a:lnTo>
                    <a:pt x="728" y="125"/>
                  </a:lnTo>
                  <a:lnTo>
                    <a:pt x="729" y="122"/>
                  </a:lnTo>
                  <a:lnTo>
                    <a:pt x="729" y="120"/>
                  </a:lnTo>
                  <a:lnTo>
                    <a:pt x="730" y="118"/>
                  </a:lnTo>
                  <a:lnTo>
                    <a:pt x="730" y="116"/>
                  </a:lnTo>
                  <a:lnTo>
                    <a:pt x="731" y="114"/>
                  </a:lnTo>
                  <a:lnTo>
                    <a:pt x="731" y="112"/>
                  </a:lnTo>
                  <a:lnTo>
                    <a:pt x="732" y="110"/>
                  </a:lnTo>
                  <a:lnTo>
                    <a:pt x="732" y="108"/>
                  </a:lnTo>
                  <a:lnTo>
                    <a:pt x="732" y="106"/>
                  </a:lnTo>
                  <a:lnTo>
                    <a:pt x="733" y="104"/>
                  </a:lnTo>
                  <a:lnTo>
                    <a:pt x="733" y="102"/>
                  </a:lnTo>
                  <a:lnTo>
                    <a:pt x="734" y="101"/>
                  </a:lnTo>
                  <a:lnTo>
                    <a:pt x="734" y="99"/>
                  </a:lnTo>
                  <a:lnTo>
                    <a:pt x="734" y="97"/>
                  </a:lnTo>
                  <a:lnTo>
                    <a:pt x="734" y="95"/>
                  </a:lnTo>
                  <a:lnTo>
                    <a:pt x="735" y="94"/>
                  </a:lnTo>
                  <a:lnTo>
                    <a:pt x="735" y="92"/>
                  </a:lnTo>
                  <a:lnTo>
                    <a:pt x="735" y="90"/>
                  </a:lnTo>
                  <a:lnTo>
                    <a:pt x="735" y="89"/>
                  </a:lnTo>
                  <a:lnTo>
                    <a:pt x="736" y="88"/>
                  </a:lnTo>
                  <a:lnTo>
                    <a:pt x="736" y="86"/>
                  </a:lnTo>
                  <a:lnTo>
                    <a:pt x="736" y="85"/>
                  </a:lnTo>
                  <a:lnTo>
                    <a:pt x="736" y="84"/>
                  </a:lnTo>
                  <a:lnTo>
                    <a:pt x="736" y="83"/>
                  </a:lnTo>
                  <a:lnTo>
                    <a:pt x="736" y="82"/>
                  </a:lnTo>
                  <a:lnTo>
                    <a:pt x="737" y="81"/>
                  </a:lnTo>
                  <a:lnTo>
                    <a:pt x="737" y="81"/>
                  </a:lnTo>
                  <a:lnTo>
                    <a:pt x="737" y="80"/>
                  </a:lnTo>
                  <a:lnTo>
                    <a:pt x="737" y="80"/>
                  </a:lnTo>
                  <a:lnTo>
                    <a:pt x="737" y="79"/>
                  </a:lnTo>
                  <a:lnTo>
                    <a:pt x="737" y="79"/>
                  </a:lnTo>
                  <a:lnTo>
                    <a:pt x="737" y="79"/>
                  </a:lnTo>
                  <a:lnTo>
                    <a:pt x="737" y="79"/>
                  </a:lnTo>
                  <a:lnTo>
                    <a:pt x="737" y="79"/>
                  </a:lnTo>
                  <a:lnTo>
                    <a:pt x="737" y="78"/>
                  </a:lnTo>
                  <a:lnTo>
                    <a:pt x="737" y="78"/>
                  </a:lnTo>
                  <a:lnTo>
                    <a:pt x="737" y="77"/>
                  </a:lnTo>
                  <a:lnTo>
                    <a:pt x="737" y="75"/>
                  </a:lnTo>
                  <a:lnTo>
                    <a:pt x="737" y="73"/>
                  </a:lnTo>
                  <a:lnTo>
                    <a:pt x="737" y="71"/>
                  </a:lnTo>
                  <a:lnTo>
                    <a:pt x="737" y="69"/>
                  </a:lnTo>
                  <a:lnTo>
                    <a:pt x="737" y="66"/>
                  </a:lnTo>
                  <a:lnTo>
                    <a:pt x="737" y="64"/>
                  </a:lnTo>
                  <a:lnTo>
                    <a:pt x="737" y="60"/>
                  </a:lnTo>
                  <a:lnTo>
                    <a:pt x="737" y="57"/>
                  </a:lnTo>
                  <a:lnTo>
                    <a:pt x="737" y="53"/>
                  </a:lnTo>
                  <a:lnTo>
                    <a:pt x="737" y="49"/>
                  </a:lnTo>
                  <a:lnTo>
                    <a:pt x="737" y="44"/>
                  </a:lnTo>
                  <a:lnTo>
                    <a:pt x="736" y="39"/>
                  </a:lnTo>
                  <a:lnTo>
                    <a:pt x="736" y="35"/>
                  </a:lnTo>
                  <a:lnTo>
                    <a:pt x="736" y="30"/>
                  </a:lnTo>
                  <a:lnTo>
                    <a:pt x="736" y="26"/>
                  </a:lnTo>
                  <a:lnTo>
                    <a:pt x="736" y="22"/>
                  </a:lnTo>
                  <a:lnTo>
                    <a:pt x="736" y="19"/>
                  </a:lnTo>
                  <a:lnTo>
                    <a:pt x="736" y="15"/>
                  </a:lnTo>
                  <a:lnTo>
                    <a:pt x="736" y="12"/>
                  </a:lnTo>
                  <a:lnTo>
                    <a:pt x="736" y="10"/>
                  </a:lnTo>
                  <a:lnTo>
                    <a:pt x="736" y="8"/>
                  </a:lnTo>
                  <a:lnTo>
                    <a:pt x="736" y="6"/>
                  </a:lnTo>
                  <a:lnTo>
                    <a:pt x="736" y="4"/>
                  </a:lnTo>
                  <a:lnTo>
                    <a:pt x="736" y="2"/>
                  </a:lnTo>
                  <a:lnTo>
                    <a:pt x="736" y="1"/>
                  </a:lnTo>
                  <a:lnTo>
                    <a:pt x="736" y="1"/>
                  </a:lnTo>
                  <a:lnTo>
                    <a:pt x="736" y="0"/>
                  </a:lnTo>
                  <a:lnTo>
                    <a:pt x="736" y="0"/>
                  </a:lnTo>
                  <a:lnTo>
                    <a:pt x="736" y="0"/>
                  </a:lnTo>
                  <a:lnTo>
                    <a:pt x="736" y="0"/>
                  </a:lnTo>
                  <a:lnTo>
                    <a:pt x="736" y="1"/>
                  </a:lnTo>
                  <a:lnTo>
                    <a:pt x="736" y="2"/>
                  </a:lnTo>
                  <a:lnTo>
                    <a:pt x="736" y="2"/>
                  </a:lnTo>
                  <a:lnTo>
                    <a:pt x="735" y="4"/>
                  </a:lnTo>
                  <a:lnTo>
                    <a:pt x="735" y="5"/>
                  </a:lnTo>
                  <a:lnTo>
                    <a:pt x="735" y="6"/>
                  </a:lnTo>
                  <a:lnTo>
                    <a:pt x="735" y="8"/>
                  </a:lnTo>
                  <a:lnTo>
                    <a:pt x="735" y="10"/>
                  </a:lnTo>
                  <a:lnTo>
                    <a:pt x="734" y="12"/>
                  </a:lnTo>
                  <a:lnTo>
                    <a:pt x="734" y="14"/>
                  </a:lnTo>
                  <a:lnTo>
                    <a:pt x="734" y="17"/>
                  </a:lnTo>
                  <a:lnTo>
                    <a:pt x="733" y="20"/>
                  </a:lnTo>
                  <a:lnTo>
                    <a:pt x="733" y="22"/>
                  </a:lnTo>
                  <a:lnTo>
                    <a:pt x="732" y="25"/>
                  </a:lnTo>
                  <a:lnTo>
                    <a:pt x="732" y="29"/>
                  </a:lnTo>
                  <a:lnTo>
                    <a:pt x="732" y="32"/>
                  </a:lnTo>
                  <a:lnTo>
                    <a:pt x="731" y="35"/>
                  </a:lnTo>
                  <a:lnTo>
                    <a:pt x="730" y="38"/>
                  </a:lnTo>
                  <a:lnTo>
                    <a:pt x="730" y="42"/>
                  </a:lnTo>
                  <a:lnTo>
                    <a:pt x="729" y="45"/>
                  </a:lnTo>
                  <a:lnTo>
                    <a:pt x="728" y="48"/>
                  </a:lnTo>
                  <a:lnTo>
                    <a:pt x="728" y="51"/>
                  </a:lnTo>
                  <a:lnTo>
                    <a:pt x="727" y="54"/>
                  </a:lnTo>
                  <a:lnTo>
                    <a:pt x="726" y="58"/>
                  </a:lnTo>
                  <a:lnTo>
                    <a:pt x="725" y="61"/>
                  </a:lnTo>
                  <a:lnTo>
                    <a:pt x="724" y="64"/>
                  </a:lnTo>
                  <a:lnTo>
                    <a:pt x="723" y="68"/>
                  </a:lnTo>
                  <a:lnTo>
                    <a:pt x="722" y="71"/>
                  </a:lnTo>
                  <a:lnTo>
                    <a:pt x="721" y="74"/>
                  </a:lnTo>
                  <a:lnTo>
                    <a:pt x="720" y="77"/>
                  </a:lnTo>
                  <a:lnTo>
                    <a:pt x="719" y="81"/>
                  </a:lnTo>
                  <a:lnTo>
                    <a:pt x="718" y="84"/>
                  </a:lnTo>
                  <a:lnTo>
                    <a:pt x="716" y="87"/>
                  </a:lnTo>
                  <a:lnTo>
                    <a:pt x="715" y="91"/>
                  </a:lnTo>
                  <a:lnTo>
                    <a:pt x="714" y="94"/>
                  </a:lnTo>
                  <a:lnTo>
                    <a:pt x="712" y="97"/>
                  </a:lnTo>
                  <a:lnTo>
                    <a:pt x="711" y="101"/>
                  </a:lnTo>
                  <a:lnTo>
                    <a:pt x="710" y="104"/>
                  </a:lnTo>
                  <a:lnTo>
                    <a:pt x="708" y="107"/>
                  </a:lnTo>
                  <a:lnTo>
                    <a:pt x="707" y="110"/>
                  </a:lnTo>
                  <a:lnTo>
                    <a:pt x="705" y="114"/>
                  </a:lnTo>
                  <a:lnTo>
                    <a:pt x="703" y="117"/>
                  </a:lnTo>
                  <a:lnTo>
                    <a:pt x="702" y="120"/>
                  </a:lnTo>
                  <a:lnTo>
                    <a:pt x="700" y="123"/>
                  </a:lnTo>
                  <a:lnTo>
                    <a:pt x="698" y="127"/>
                  </a:lnTo>
                  <a:lnTo>
                    <a:pt x="696" y="130"/>
                  </a:lnTo>
                  <a:lnTo>
                    <a:pt x="695" y="133"/>
                  </a:lnTo>
                  <a:lnTo>
                    <a:pt x="693" y="136"/>
                  </a:lnTo>
                  <a:lnTo>
                    <a:pt x="691" y="140"/>
                  </a:lnTo>
                  <a:lnTo>
                    <a:pt x="689" y="143"/>
                  </a:lnTo>
                  <a:lnTo>
                    <a:pt x="687" y="146"/>
                  </a:lnTo>
                  <a:lnTo>
                    <a:pt x="685" y="150"/>
                  </a:lnTo>
                  <a:lnTo>
                    <a:pt x="683" y="153"/>
                  </a:lnTo>
                  <a:lnTo>
                    <a:pt x="680" y="156"/>
                  </a:lnTo>
                  <a:lnTo>
                    <a:pt x="678" y="159"/>
                  </a:lnTo>
                  <a:lnTo>
                    <a:pt x="676" y="163"/>
                  </a:lnTo>
                  <a:lnTo>
                    <a:pt x="674" y="166"/>
                  </a:lnTo>
                  <a:lnTo>
                    <a:pt x="671" y="169"/>
                  </a:lnTo>
                  <a:lnTo>
                    <a:pt x="669" y="173"/>
                  </a:lnTo>
                  <a:lnTo>
                    <a:pt x="667" y="176"/>
                  </a:lnTo>
                  <a:lnTo>
                    <a:pt x="664" y="179"/>
                  </a:lnTo>
                  <a:lnTo>
                    <a:pt x="661" y="182"/>
                  </a:lnTo>
                  <a:lnTo>
                    <a:pt x="659" y="186"/>
                  </a:lnTo>
                  <a:lnTo>
                    <a:pt x="656" y="189"/>
                  </a:lnTo>
                  <a:lnTo>
                    <a:pt x="654" y="192"/>
                  </a:lnTo>
                  <a:lnTo>
                    <a:pt x="651" y="195"/>
                  </a:lnTo>
                  <a:lnTo>
                    <a:pt x="649" y="198"/>
                  </a:lnTo>
                  <a:lnTo>
                    <a:pt x="646" y="201"/>
                  </a:lnTo>
                  <a:lnTo>
                    <a:pt x="644" y="204"/>
                  </a:lnTo>
                  <a:lnTo>
                    <a:pt x="641" y="207"/>
                  </a:lnTo>
                  <a:lnTo>
                    <a:pt x="638" y="210"/>
                  </a:lnTo>
                  <a:lnTo>
                    <a:pt x="636" y="213"/>
                  </a:lnTo>
                  <a:lnTo>
                    <a:pt x="633" y="216"/>
                  </a:lnTo>
                  <a:lnTo>
                    <a:pt x="631" y="219"/>
                  </a:lnTo>
                  <a:lnTo>
                    <a:pt x="628" y="221"/>
                  </a:lnTo>
                  <a:lnTo>
                    <a:pt x="626" y="224"/>
                  </a:lnTo>
                  <a:lnTo>
                    <a:pt x="623" y="226"/>
                  </a:lnTo>
                  <a:lnTo>
                    <a:pt x="620" y="229"/>
                  </a:lnTo>
                  <a:lnTo>
                    <a:pt x="618" y="232"/>
                  </a:lnTo>
                  <a:lnTo>
                    <a:pt x="615" y="234"/>
                  </a:lnTo>
                  <a:lnTo>
                    <a:pt x="612" y="237"/>
                  </a:lnTo>
                  <a:lnTo>
                    <a:pt x="610" y="239"/>
                  </a:lnTo>
                  <a:lnTo>
                    <a:pt x="607" y="242"/>
                  </a:lnTo>
                  <a:lnTo>
                    <a:pt x="604" y="245"/>
                  </a:lnTo>
                  <a:lnTo>
                    <a:pt x="600" y="248"/>
                  </a:lnTo>
                  <a:lnTo>
                    <a:pt x="597" y="250"/>
                  </a:lnTo>
                  <a:lnTo>
                    <a:pt x="594" y="253"/>
                  </a:lnTo>
                  <a:lnTo>
                    <a:pt x="591" y="256"/>
                  </a:lnTo>
                  <a:lnTo>
                    <a:pt x="587" y="259"/>
                  </a:lnTo>
                  <a:lnTo>
                    <a:pt x="584" y="262"/>
                  </a:lnTo>
                  <a:lnTo>
                    <a:pt x="580" y="265"/>
                  </a:lnTo>
                  <a:lnTo>
                    <a:pt x="576" y="268"/>
                  </a:lnTo>
                  <a:lnTo>
                    <a:pt x="572" y="271"/>
                  </a:lnTo>
                  <a:lnTo>
                    <a:pt x="568" y="274"/>
                  </a:lnTo>
                  <a:lnTo>
                    <a:pt x="565" y="278"/>
                  </a:lnTo>
                  <a:lnTo>
                    <a:pt x="561" y="281"/>
                  </a:lnTo>
                  <a:lnTo>
                    <a:pt x="557" y="284"/>
                  </a:lnTo>
                  <a:lnTo>
                    <a:pt x="553" y="287"/>
                  </a:lnTo>
                  <a:lnTo>
                    <a:pt x="549" y="290"/>
                  </a:lnTo>
                  <a:lnTo>
                    <a:pt x="545" y="293"/>
                  </a:lnTo>
                  <a:lnTo>
                    <a:pt x="542" y="296"/>
                  </a:lnTo>
                  <a:lnTo>
                    <a:pt x="538" y="298"/>
                  </a:lnTo>
                  <a:lnTo>
                    <a:pt x="534" y="301"/>
                  </a:lnTo>
                  <a:lnTo>
                    <a:pt x="530" y="304"/>
                  </a:lnTo>
                  <a:lnTo>
                    <a:pt x="527" y="306"/>
                  </a:lnTo>
                  <a:lnTo>
                    <a:pt x="523" y="309"/>
                  </a:lnTo>
                  <a:lnTo>
                    <a:pt x="519" y="312"/>
                  </a:lnTo>
                  <a:lnTo>
                    <a:pt x="516" y="314"/>
                  </a:lnTo>
                  <a:lnTo>
                    <a:pt x="512" y="317"/>
                  </a:lnTo>
                  <a:lnTo>
                    <a:pt x="508" y="319"/>
                  </a:lnTo>
                  <a:lnTo>
                    <a:pt x="505" y="321"/>
                  </a:lnTo>
                  <a:lnTo>
                    <a:pt x="501" y="324"/>
                  </a:lnTo>
                  <a:lnTo>
                    <a:pt x="498" y="326"/>
                  </a:lnTo>
                  <a:lnTo>
                    <a:pt x="494" y="328"/>
                  </a:lnTo>
                  <a:lnTo>
                    <a:pt x="491" y="331"/>
                  </a:lnTo>
                  <a:lnTo>
                    <a:pt x="487" y="333"/>
                  </a:lnTo>
                  <a:lnTo>
                    <a:pt x="484" y="335"/>
                  </a:lnTo>
                  <a:lnTo>
                    <a:pt x="480" y="337"/>
                  </a:lnTo>
                  <a:lnTo>
                    <a:pt x="477" y="339"/>
                  </a:lnTo>
                  <a:lnTo>
                    <a:pt x="473" y="341"/>
                  </a:lnTo>
                  <a:lnTo>
                    <a:pt x="470" y="343"/>
                  </a:lnTo>
                  <a:lnTo>
                    <a:pt x="467" y="346"/>
                  </a:lnTo>
                  <a:lnTo>
                    <a:pt x="463" y="348"/>
                  </a:lnTo>
                  <a:lnTo>
                    <a:pt x="460" y="350"/>
                  </a:lnTo>
                  <a:lnTo>
                    <a:pt x="456" y="352"/>
                  </a:lnTo>
                  <a:lnTo>
                    <a:pt x="453" y="353"/>
                  </a:lnTo>
                  <a:lnTo>
                    <a:pt x="450" y="355"/>
                  </a:lnTo>
                  <a:lnTo>
                    <a:pt x="446" y="357"/>
                  </a:lnTo>
                  <a:lnTo>
                    <a:pt x="443" y="359"/>
                  </a:lnTo>
                  <a:lnTo>
                    <a:pt x="439" y="361"/>
                  </a:lnTo>
                  <a:lnTo>
                    <a:pt x="436" y="363"/>
                  </a:lnTo>
                  <a:lnTo>
                    <a:pt x="432" y="365"/>
                  </a:lnTo>
                  <a:lnTo>
                    <a:pt x="429" y="367"/>
                  </a:lnTo>
                  <a:lnTo>
                    <a:pt x="425" y="369"/>
                  </a:lnTo>
                  <a:lnTo>
                    <a:pt x="422" y="370"/>
                  </a:lnTo>
                  <a:lnTo>
                    <a:pt x="418" y="372"/>
                  </a:lnTo>
                  <a:lnTo>
                    <a:pt x="415" y="374"/>
                  </a:lnTo>
                  <a:lnTo>
                    <a:pt x="411" y="376"/>
                  </a:lnTo>
                  <a:lnTo>
                    <a:pt x="408" y="378"/>
                  </a:lnTo>
                  <a:lnTo>
                    <a:pt x="404" y="379"/>
                  </a:lnTo>
                  <a:lnTo>
                    <a:pt x="401" y="381"/>
                  </a:lnTo>
                  <a:lnTo>
                    <a:pt x="397" y="383"/>
                  </a:lnTo>
                  <a:lnTo>
                    <a:pt x="393" y="385"/>
                  </a:lnTo>
                  <a:lnTo>
                    <a:pt x="390" y="386"/>
                  </a:lnTo>
                  <a:lnTo>
                    <a:pt x="386" y="388"/>
                  </a:lnTo>
                  <a:lnTo>
                    <a:pt x="383" y="390"/>
                  </a:lnTo>
                  <a:lnTo>
                    <a:pt x="379" y="391"/>
                  </a:lnTo>
                  <a:lnTo>
                    <a:pt x="376" y="393"/>
                  </a:lnTo>
                  <a:lnTo>
                    <a:pt x="372" y="395"/>
                  </a:lnTo>
                  <a:lnTo>
                    <a:pt x="369" y="396"/>
                  </a:lnTo>
                  <a:lnTo>
                    <a:pt x="365" y="398"/>
                  </a:lnTo>
                  <a:lnTo>
                    <a:pt x="362" y="400"/>
                  </a:lnTo>
                  <a:lnTo>
                    <a:pt x="359" y="401"/>
                  </a:lnTo>
                  <a:lnTo>
                    <a:pt x="355" y="403"/>
                  </a:lnTo>
                  <a:lnTo>
                    <a:pt x="352" y="404"/>
                  </a:lnTo>
                  <a:lnTo>
                    <a:pt x="349" y="406"/>
                  </a:lnTo>
                  <a:lnTo>
                    <a:pt x="345" y="407"/>
                  </a:lnTo>
                  <a:lnTo>
                    <a:pt x="342" y="408"/>
                  </a:lnTo>
                  <a:lnTo>
                    <a:pt x="339" y="410"/>
                  </a:lnTo>
                  <a:lnTo>
                    <a:pt x="335" y="411"/>
                  </a:lnTo>
                  <a:lnTo>
                    <a:pt x="332" y="413"/>
                  </a:lnTo>
                  <a:lnTo>
                    <a:pt x="328" y="414"/>
                  </a:lnTo>
                  <a:lnTo>
                    <a:pt x="325" y="416"/>
                  </a:lnTo>
                  <a:lnTo>
                    <a:pt x="321" y="417"/>
                  </a:lnTo>
                  <a:lnTo>
                    <a:pt x="317" y="419"/>
                  </a:lnTo>
                  <a:lnTo>
                    <a:pt x="313" y="421"/>
                  </a:lnTo>
                  <a:lnTo>
                    <a:pt x="309" y="422"/>
                  </a:lnTo>
                  <a:lnTo>
                    <a:pt x="305" y="424"/>
                  </a:lnTo>
                  <a:lnTo>
                    <a:pt x="301" y="425"/>
                  </a:lnTo>
                  <a:lnTo>
                    <a:pt x="297" y="427"/>
                  </a:lnTo>
                  <a:lnTo>
                    <a:pt x="292" y="429"/>
                  </a:lnTo>
                  <a:lnTo>
                    <a:pt x="288" y="431"/>
                  </a:lnTo>
                  <a:lnTo>
                    <a:pt x="284" y="432"/>
                  </a:lnTo>
                  <a:lnTo>
                    <a:pt x="279" y="434"/>
                  </a:lnTo>
                  <a:lnTo>
                    <a:pt x="274" y="436"/>
                  </a:lnTo>
                  <a:lnTo>
                    <a:pt x="270" y="437"/>
                  </a:lnTo>
                  <a:lnTo>
                    <a:pt x="265" y="439"/>
                  </a:lnTo>
                  <a:lnTo>
                    <a:pt x="261" y="441"/>
                  </a:lnTo>
                  <a:lnTo>
                    <a:pt x="256" y="442"/>
                  </a:lnTo>
                  <a:lnTo>
                    <a:pt x="252" y="444"/>
                  </a:lnTo>
                  <a:lnTo>
                    <a:pt x="247" y="446"/>
                  </a:lnTo>
                  <a:lnTo>
                    <a:pt x="243" y="447"/>
                  </a:lnTo>
                  <a:lnTo>
                    <a:pt x="239" y="449"/>
                  </a:lnTo>
                  <a:lnTo>
                    <a:pt x="234" y="450"/>
                  </a:lnTo>
                  <a:lnTo>
                    <a:pt x="230" y="452"/>
                  </a:lnTo>
                  <a:lnTo>
                    <a:pt x="226" y="453"/>
                  </a:lnTo>
                  <a:lnTo>
                    <a:pt x="222" y="454"/>
                  </a:lnTo>
                  <a:lnTo>
                    <a:pt x="217" y="456"/>
                  </a:lnTo>
                  <a:lnTo>
                    <a:pt x="213" y="457"/>
                  </a:lnTo>
                  <a:lnTo>
                    <a:pt x="209" y="458"/>
                  </a:lnTo>
                  <a:lnTo>
                    <a:pt x="205" y="460"/>
                  </a:lnTo>
                  <a:lnTo>
                    <a:pt x="201" y="461"/>
                  </a:lnTo>
                  <a:lnTo>
                    <a:pt x="197" y="462"/>
                  </a:lnTo>
                  <a:lnTo>
                    <a:pt x="193" y="464"/>
                  </a:lnTo>
                  <a:lnTo>
                    <a:pt x="189" y="465"/>
                  </a:lnTo>
                  <a:lnTo>
                    <a:pt x="184" y="466"/>
                  </a:lnTo>
                  <a:lnTo>
                    <a:pt x="180" y="467"/>
                  </a:lnTo>
                  <a:lnTo>
                    <a:pt x="176" y="469"/>
                  </a:lnTo>
                  <a:lnTo>
                    <a:pt x="172" y="470"/>
                  </a:lnTo>
                  <a:lnTo>
                    <a:pt x="168" y="471"/>
                  </a:lnTo>
                  <a:lnTo>
                    <a:pt x="164" y="472"/>
                  </a:lnTo>
                  <a:lnTo>
                    <a:pt x="160" y="473"/>
                  </a:lnTo>
                  <a:lnTo>
                    <a:pt x="156" y="475"/>
                  </a:lnTo>
                  <a:lnTo>
                    <a:pt x="152" y="476"/>
                  </a:lnTo>
                  <a:lnTo>
                    <a:pt x="148" y="477"/>
                  </a:lnTo>
                  <a:lnTo>
                    <a:pt x="144" y="478"/>
                  </a:lnTo>
                  <a:lnTo>
                    <a:pt x="141" y="479"/>
                  </a:lnTo>
                  <a:lnTo>
                    <a:pt x="137" y="480"/>
                  </a:lnTo>
                  <a:lnTo>
                    <a:pt x="132" y="481"/>
                  </a:lnTo>
                  <a:lnTo>
                    <a:pt x="128" y="483"/>
                  </a:lnTo>
                  <a:lnTo>
                    <a:pt x="124" y="484"/>
                  </a:lnTo>
                  <a:lnTo>
                    <a:pt x="120" y="485"/>
                  </a:lnTo>
                  <a:lnTo>
                    <a:pt x="115" y="486"/>
                  </a:lnTo>
                  <a:lnTo>
                    <a:pt x="111" y="487"/>
                  </a:lnTo>
                  <a:lnTo>
                    <a:pt x="107" y="488"/>
                  </a:lnTo>
                  <a:lnTo>
                    <a:pt x="102" y="489"/>
                  </a:lnTo>
                  <a:lnTo>
                    <a:pt x="98" y="491"/>
                  </a:lnTo>
                  <a:lnTo>
                    <a:pt x="93" y="492"/>
                  </a:lnTo>
                  <a:lnTo>
                    <a:pt x="88" y="493"/>
                  </a:lnTo>
                  <a:lnTo>
                    <a:pt x="84" y="494"/>
                  </a:lnTo>
                  <a:lnTo>
                    <a:pt x="79" y="495"/>
                  </a:lnTo>
                  <a:lnTo>
                    <a:pt x="74" y="496"/>
                  </a:lnTo>
                  <a:lnTo>
                    <a:pt x="69" y="498"/>
                  </a:lnTo>
                  <a:lnTo>
                    <a:pt x="65" y="499"/>
                  </a:lnTo>
                  <a:lnTo>
                    <a:pt x="60" y="500"/>
                  </a:lnTo>
                  <a:lnTo>
                    <a:pt x="56" y="501"/>
                  </a:lnTo>
                  <a:lnTo>
                    <a:pt x="52" y="502"/>
                  </a:lnTo>
                  <a:lnTo>
                    <a:pt x="48" y="503"/>
                  </a:lnTo>
                  <a:lnTo>
                    <a:pt x="44" y="504"/>
                  </a:lnTo>
                  <a:lnTo>
                    <a:pt x="40" y="504"/>
                  </a:lnTo>
                  <a:lnTo>
                    <a:pt x="37" y="505"/>
                  </a:lnTo>
                  <a:lnTo>
                    <a:pt x="34" y="506"/>
                  </a:lnTo>
                  <a:lnTo>
                    <a:pt x="31" y="507"/>
                  </a:lnTo>
                  <a:lnTo>
                    <a:pt x="28" y="507"/>
                  </a:lnTo>
                  <a:lnTo>
                    <a:pt x="25" y="508"/>
                  </a:lnTo>
                  <a:lnTo>
                    <a:pt x="22" y="509"/>
                  </a:lnTo>
                  <a:lnTo>
                    <a:pt x="20" y="509"/>
                  </a:lnTo>
                  <a:lnTo>
                    <a:pt x="17" y="509"/>
                  </a:lnTo>
                  <a:lnTo>
                    <a:pt x="17" y="509"/>
                  </a:lnTo>
                  <a:close/>
                </a:path>
              </a:pathLst>
            </a:custGeom>
            <a:solidFill>
              <a:srgbClr val="cddb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101" name=""/>
            <p:cNvGrpSpPr/>
            <p:nvPr/>
          </p:nvGrpSpPr>
          <p:grpSpPr>
            <a:xfrm>
              <a:off x="2283840" y="2327040"/>
              <a:ext cx="4534920" cy="2408400"/>
              <a:chOff x="2283840" y="2327040"/>
              <a:chExt cx="4534920" cy="2408400"/>
            </a:xfrm>
          </p:grpSpPr>
          <p:sp>
            <p:nvSpPr>
              <p:cNvPr id="2102" name=""/>
              <p:cNvSpPr/>
              <p:nvPr/>
            </p:nvSpPr>
            <p:spPr>
              <a:xfrm>
                <a:off x="2283840" y="2327040"/>
                <a:ext cx="4534920" cy="2408400"/>
              </a:xfrm>
              <a:custGeom>
                <a:avLst/>
                <a:gdLst/>
                <a:ahLst/>
                <a:rect l="l" t="t" r="r" b="b"/>
                <a:pathLst>
                  <a:path stroke="0" w="21600" h="21600">
                    <a:moveTo>
                      <a:pt x="20741" y="6580"/>
                    </a:moveTo>
                    <a:arcTo wR="10800" hR="10800" stAng="-1380000" swAng="5400000"/>
                    <a:lnTo>
                      <a:pt x="10800" y="10800"/>
                    </a:lnTo>
                    <a:close/>
                  </a:path>
                  <a:path fill="none" w="21600" h="21600">
                    <a:moveTo>
                      <a:pt x="20741" y="6580"/>
                    </a:moveTo>
                    <a:arcTo wR="10800" hR="10800" stAng="-1380000" swAng="5400000"/>
                  </a:path>
                </a:pathLst>
              </a:custGeom>
              <a:solidFill>
                <a:srgbClr val="cddbff"/>
              </a:solidFill>
              <a:ln w="3240">
                <a:solidFill>
                  <a:srgbClr val="1f5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103" name=""/>
              <p:cNvSpPr/>
              <p:nvPr/>
            </p:nvSpPr>
            <p:spPr>
              <a:xfrm>
                <a:off x="4551480" y="3060720"/>
                <a:ext cx="2087640" cy="1581480"/>
              </a:xfrm>
              <a:custGeom>
                <a:avLst/>
                <a:gdLst/>
                <a:ahLst/>
                <a:rect l="l" t="t" r="r" b="b"/>
                <a:pathLst>
                  <a:path w="1114" h="756">
                    <a:moveTo>
                      <a:pt x="1113" y="0"/>
                    </a:moveTo>
                    <a:lnTo>
                      <a:pt x="0" y="225"/>
                    </a:lnTo>
                    <a:lnTo>
                      <a:pt x="473" y="755"/>
                    </a:lnTo>
                  </a:path>
                </a:pathLst>
              </a:custGeom>
              <a:solidFill>
                <a:srgbClr val="cddb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grpSp>
      <p:grpSp>
        <p:nvGrpSpPr>
          <p:cNvPr id="2104" name=""/>
          <p:cNvGrpSpPr/>
          <p:nvPr/>
        </p:nvGrpSpPr>
        <p:grpSpPr>
          <a:xfrm>
            <a:off x="2287440" y="2166480"/>
            <a:ext cx="4535640" cy="2710080"/>
            <a:chOff x="2287440" y="2166480"/>
            <a:chExt cx="4535640" cy="2710080"/>
          </a:xfrm>
        </p:grpSpPr>
        <p:sp>
          <p:nvSpPr>
            <p:cNvPr id="2105" name=""/>
            <p:cNvSpPr/>
            <p:nvPr/>
          </p:nvSpPr>
          <p:spPr>
            <a:xfrm>
              <a:off x="2463840" y="3834000"/>
              <a:ext cx="2977920" cy="1042560"/>
            </a:xfrm>
            <a:custGeom>
              <a:avLst/>
              <a:gdLst/>
              <a:ahLst/>
              <a:rect l="l" t="t" r="r" b="b"/>
              <a:pathLst>
                <a:path w="1588" h="498">
                  <a:moveTo>
                    <a:pt x="1541" y="316"/>
                  </a:moveTo>
                  <a:lnTo>
                    <a:pt x="1547" y="315"/>
                  </a:lnTo>
                  <a:lnTo>
                    <a:pt x="1552" y="314"/>
                  </a:lnTo>
                  <a:lnTo>
                    <a:pt x="1557" y="314"/>
                  </a:lnTo>
                  <a:lnTo>
                    <a:pt x="1561" y="313"/>
                  </a:lnTo>
                  <a:lnTo>
                    <a:pt x="1565" y="312"/>
                  </a:lnTo>
                  <a:lnTo>
                    <a:pt x="1569" y="311"/>
                  </a:lnTo>
                  <a:lnTo>
                    <a:pt x="1573" y="311"/>
                  </a:lnTo>
                  <a:lnTo>
                    <a:pt x="1576" y="310"/>
                  </a:lnTo>
                  <a:lnTo>
                    <a:pt x="1578" y="310"/>
                  </a:lnTo>
                  <a:lnTo>
                    <a:pt x="1581" y="309"/>
                  </a:lnTo>
                  <a:lnTo>
                    <a:pt x="1583" y="309"/>
                  </a:lnTo>
                  <a:lnTo>
                    <a:pt x="1584" y="309"/>
                  </a:lnTo>
                  <a:lnTo>
                    <a:pt x="1585" y="308"/>
                  </a:lnTo>
                  <a:lnTo>
                    <a:pt x="1586" y="308"/>
                  </a:lnTo>
                  <a:lnTo>
                    <a:pt x="1587" y="308"/>
                  </a:lnTo>
                  <a:lnTo>
                    <a:pt x="1587" y="308"/>
                  </a:lnTo>
                  <a:lnTo>
                    <a:pt x="1587" y="308"/>
                  </a:lnTo>
                  <a:lnTo>
                    <a:pt x="1587" y="309"/>
                  </a:lnTo>
                  <a:lnTo>
                    <a:pt x="1587" y="311"/>
                  </a:lnTo>
                  <a:lnTo>
                    <a:pt x="1587" y="312"/>
                  </a:lnTo>
                  <a:lnTo>
                    <a:pt x="1587" y="315"/>
                  </a:lnTo>
                  <a:lnTo>
                    <a:pt x="1587" y="318"/>
                  </a:lnTo>
                  <a:lnTo>
                    <a:pt x="1587" y="322"/>
                  </a:lnTo>
                  <a:lnTo>
                    <a:pt x="1587" y="326"/>
                  </a:lnTo>
                  <a:lnTo>
                    <a:pt x="1587" y="331"/>
                  </a:lnTo>
                  <a:lnTo>
                    <a:pt x="1587" y="336"/>
                  </a:lnTo>
                  <a:lnTo>
                    <a:pt x="1587" y="342"/>
                  </a:lnTo>
                  <a:lnTo>
                    <a:pt x="1587" y="348"/>
                  </a:lnTo>
                  <a:lnTo>
                    <a:pt x="1587" y="356"/>
                  </a:lnTo>
                  <a:lnTo>
                    <a:pt x="1587" y="363"/>
                  </a:lnTo>
                  <a:lnTo>
                    <a:pt x="1587" y="371"/>
                  </a:lnTo>
                  <a:lnTo>
                    <a:pt x="1587" y="380"/>
                  </a:lnTo>
                  <a:lnTo>
                    <a:pt x="1587" y="389"/>
                  </a:lnTo>
                  <a:lnTo>
                    <a:pt x="1587" y="397"/>
                  </a:lnTo>
                  <a:lnTo>
                    <a:pt x="1587" y="404"/>
                  </a:lnTo>
                  <a:lnTo>
                    <a:pt x="1587" y="411"/>
                  </a:lnTo>
                  <a:lnTo>
                    <a:pt x="1587" y="418"/>
                  </a:lnTo>
                  <a:lnTo>
                    <a:pt x="1587" y="424"/>
                  </a:lnTo>
                  <a:lnTo>
                    <a:pt x="1587" y="429"/>
                  </a:lnTo>
                  <a:lnTo>
                    <a:pt x="1587" y="434"/>
                  </a:lnTo>
                  <a:lnTo>
                    <a:pt x="1587" y="438"/>
                  </a:lnTo>
                  <a:lnTo>
                    <a:pt x="1587" y="442"/>
                  </a:lnTo>
                  <a:lnTo>
                    <a:pt x="1587" y="445"/>
                  </a:lnTo>
                  <a:lnTo>
                    <a:pt x="1587" y="447"/>
                  </a:lnTo>
                  <a:lnTo>
                    <a:pt x="1587" y="449"/>
                  </a:lnTo>
                  <a:lnTo>
                    <a:pt x="1587" y="451"/>
                  </a:lnTo>
                  <a:lnTo>
                    <a:pt x="1587" y="452"/>
                  </a:lnTo>
                  <a:lnTo>
                    <a:pt x="1587" y="452"/>
                  </a:lnTo>
                  <a:lnTo>
                    <a:pt x="1587" y="452"/>
                  </a:lnTo>
                  <a:lnTo>
                    <a:pt x="1586" y="452"/>
                  </a:lnTo>
                  <a:lnTo>
                    <a:pt x="1585" y="452"/>
                  </a:lnTo>
                  <a:lnTo>
                    <a:pt x="1583" y="453"/>
                  </a:lnTo>
                  <a:lnTo>
                    <a:pt x="1581" y="453"/>
                  </a:lnTo>
                  <a:lnTo>
                    <a:pt x="1578" y="454"/>
                  </a:lnTo>
                  <a:lnTo>
                    <a:pt x="1575" y="454"/>
                  </a:lnTo>
                  <a:lnTo>
                    <a:pt x="1571" y="455"/>
                  </a:lnTo>
                  <a:lnTo>
                    <a:pt x="1567" y="456"/>
                  </a:lnTo>
                  <a:lnTo>
                    <a:pt x="1562" y="456"/>
                  </a:lnTo>
                  <a:lnTo>
                    <a:pt x="1557" y="457"/>
                  </a:lnTo>
                  <a:lnTo>
                    <a:pt x="1551" y="458"/>
                  </a:lnTo>
                  <a:lnTo>
                    <a:pt x="1545" y="460"/>
                  </a:lnTo>
                  <a:lnTo>
                    <a:pt x="1538" y="461"/>
                  </a:lnTo>
                  <a:lnTo>
                    <a:pt x="1531" y="462"/>
                  </a:lnTo>
                  <a:lnTo>
                    <a:pt x="1523" y="463"/>
                  </a:lnTo>
                  <a:lnTo>
                    <a:pt x="1515" y="465"/>
                  </a:lnTo>
                  <a:lnTo>
                    <a:pt x="1507" y="466"/>
                  </a:lnTo>
                  <a:lnTo>
                    <a:pt x="1499" y="468"/>
                  </a:lnTo>
                  <a:lnTo>
                    <a:pt x="1490" y="469"/>
                  </a:lnTo>
                  <a:lnTo>
                    <a:pt x="1481" y="470"/>
                  </a:lnTo>
                  <a:lnTo>
                    <a:pt x="1472" y="472"/>
                  </a:lnTo>
                  <a:lnTo>
                    <a:pt x="1463" y="473"/>
                  </a:lnTo>
                  <a:lnTo>
                    <a:pt x="1453" y="474"/>
                  </a:lnTo>
                  <a:lnTo>
                    <a:pt x="1444" y="476"/>
                  </a:lnTo>
                  <a:lnTo>
                    <a:pt x="1434" y="477"/>
                  </a:lnTo>
                  <a:lnTo>
                    <a:pt x="1424" y="478"/>
                  </a:lnTo>
                  <a:lnTo>
                    <a:pt x="1413" y="480"/>
                  </a:lnTo>
                  <a:lnTo>
                    <a:pt x="1403" y="481"/>
                  </a:lnTo>
                  <a:lnTo>
                    <a:pt x="1392" y="482"/>
                  </a:lnTo>
                  <a:lnTo>
                    <a:pt x="1381" y="483"/>
                  </a:lnTo>
                  <a:lnTo>
                    <a:pt x="1370" y="484"/>
                  </a:lnTo>
                  <a:lnTo>
                    <a:pt x="1359" y="486"/>
                  </a:lnTo>
                  <a:lnTo>
                    <a:pt x="1347" y="487"/>
                  </a:lnTo>
                  <a:lnTo>
                    <a:pt x="1335" y="488"/>
                  </a:lnTo>
                  <a:lnTo>
                    <a:pt x="1324" y="489"/>
                  </a:lnTo>
                  <a:lnTo>
                    <a:pt x="1312" y="490"/>
                  </a:lnTo>
                  <a:lnTo>
                    <a:pt x="1299" y="491"/>
                  </a:lnTo>
                  <a:lnTo>
                    <a:pt x="1287" y="491"/>
                  </a:lnTo>
                  <a:lnTo>
                    <a:pt x="1275" y="492"/>
                  </a:lnTo>
                  <a:lnTo>
                    <a:pt x="1262" y="493"/>
                  </a:lnTo>
                  <a:lnTo>
                    <a:pt x="1249" y="494"/>
                  </a:lnTo>
                  <a:lnTo>
                    <a:pt x="1236" y="494"/>
                  </a:lnTo>
                  <a:lnTo>
                    <a:pt x="1223" y="495"/>
                  </a:lnTo>
                  <a:lnTo>
                    <a:pt x="1210" y="495"/>
                  </a:lnTo>
                  <a:lnTo>
                    <a:pt x="1196" y="496"/>
                  </a:lnTo>
                  <a:lnTo>
                    <a:pt x="1182" y="496"/>
                  </a:lnTo>
                  <a:lnTo>
                    <a:pt x="1169" y="496"/>
                  </a:lnTo>
                  <a:lnTo>
                    <a:pt x="1154" y="497"/>
                  </a:lnTo>
                  <a:lnTo>
                    <a:pt x="1140" y="497"/>
                  </a:lnTo>
                  <a:lnTo>
                    <a:pt x="1126" y="497"/>
                  </a:lnTo>
                  <a:lnTo>
                    <a:pt x="1112" y="497"/>
                  </a:lnTo>
                  <a:lnTo>
                    <a:pt x="1097" y="497"/>
                  </a:lnTo>
                  <a:lnTo>
                    <a:pt x="1082" y="497"/>
                  </a:lnTo>
                  <a:lnTo>
                    <a:pt x="1067" y="497"/>
                  </a:lnTo>
                  <a:lnTo>
                    <a:pt x="1052" y="496"/>
                  </a:lnTo>
                  <a:lnTo>
                    <a:pt x="1037" y="496"/>
                  </a:lnTo>
                  <a:lnTo>
                    <a:pt x="1022" y="495"/>
                  </a:lnTo>
                  <a:lnTo>
                    <a:pt x="1006" y="495"/>
                  </a:lnTo>
                  <a:lnTo>
                    <a:pt x="991" y="494"/>
                  </a:lnTo>
                  <a:lnTo>
                    <a:pt x="975" y="493"/>
                  </a:lnTo>
                  <a:lnTo>
                    <a:pt x="959" y="492"/>
                  </a:lnTo>
                  <a:lnTo>
                    <a:pt x="943" y="491"/>
                  </a:lnTo>
                  <a:lnTo>
                    <a:pt x="927" y="490"/>
                  </a:lnTo>
                  <a:lnTo>
                    <a:pt x="910" y="489"/>
                  </a:lnTo>
                  <a:lnTo>
                    <a:pt x="894" y="488"/>
                  </a:lnTo>
                  <a:lnTo>
                    <a:pt x="878" y="487"/>
                  </a:lnTo>
                  <a:lnTo>
                    <a:pt x="863" y="485"/>
                  </a:lnTo>
                  <a:lnTo>
                    <a:pt x="847" y="484"/>
                  </a:lnTo>
                  <a:lnTo>
                    <a:pt x="832" y="482"/>
                  </a:lnTo>
                  <a:lnTo>
                    <a:pt x="816" y="481"/>
                  </a:lnTo>
                  <a:lnTo>
                    <a:pt x="801" y="479"/>
                  </a:lnTo>
                  <a:lnTo>
                    <a:pt x="786" y="477"/>
                  </a:lnTo>
                  <a:lnTo>
                    <a:pt x="772" y="475"/>
                  </a:lnTo>
                  <a:lnTo>
                    <a:pt x="757" y="473"/>
                  </a:lnTo>
                  <a:lnTo>
                    <a:pt x="743" y="470"/>
                  </a:lnTo>
                  <a:lnTo>
                    <a:pt x="728" y="468"/>
                  </a:lnTo>
                  <a:lnTo>
                    <a:pt x="714" y="466"/>
                  </a:lnTo>
                  <a:lnTo>
                    <a:pt x="700" y="463"/>
                  </a:lnTo>
                  <a:lnTo>
                    <a:pt x="687" y="460"/>
                  </a:lnTo>
                  <a:lnTo>
                    <a:pt x="673" y="458"/>
                  </a:lnTo>
                  <a:lnTo>
                    <a:pt x="660" y="455"/>
                  </a:lnTo>
                  <a:lnTo>
                    <a:pt x="647" y="452"/>
                  </a:lnTo>
                  <a:lnTo>
                    <a:pt x="634" y="450"/>
                  </a:lnTo>
                  <a:lnTo>
                    <a:pt x="621" y="447"/>
                  </a:lnTo>
                  <a:lnTo>
                    <a:pt x="609" y="444"/>
                  </a:lnTo>
                  <a:lnTo>
                    <a:pt x="597" y="442"/>
                  </a:lnTo>
                  <a:lnTo>
                    <a:pt x="585" y="439"/>
                  </a:lnTo>
                  <a:lnTo>
                    <a:pt x="573" y="436"/>
                  </a:lnTo>
                  <a:lnTo>
                    <a:pt x="562" y="434"/>
                  </a:lnTo>
                  <a:lnTo>
                    <a:pt x="551" y="431"/>
                  </a:lnTo>
                  <a:lnTo>
                    <a:pt x="540" y="428"/>
                  </a:lnTo>
                  <a:lnTo>
                    <a:pt x="529" y="426"/>
                  </a:lnTo>
                  <a:lnTo>
                    <a:pt x="519" y="423"/>
                  </a:lnTo>
                  <a:lnTo>
                    <a:pt x="509" y="420"/>
                  </a:lnTo>
                  <a:lnTo>
                    <a:pt x="499" y="417"/>
                  </a:lnTo>
                  <a:lnTo>
                    <a:pt x="489" y="415"/>
                  </a:lnTo>
                  <a:lnTo>
                    <a:pt x="479" y="412"/>
                  </a:lnTo>
                  <a:lnTo>
                    <a:pt x="469" y="409"/>
                  </a:lnTo>
                  <a:lnTo>
                    <a:pt x="460" y="406"/>
                  </a:lnTo>
                  <a:lnTo>
                    <a:pt x="449" y="403"/>
                  </a:lnTo>
                  <a:lnTo>
                    <a:pt x="439" y="400"/>
                  </a:lnTo>
                  <a:lnTo>
                    <a:pt x="429" y="396"/>
                  </a:lnTo>
                  <a:lnTo>
                    <a:pt x="419" y="393"/>
                  </a:lnTo>
                  <a:lnTo>
                    <a:pt x="409" y="389"/>
                  </a:lnTo>
                  <a:lnTo>
                    <a:pt x="398" y="386"/>
                  </a:lnTo>
                  <a:lnTo>
                    <a:pt x="388" y="382"/>
                  </a:lnTo>
                  <a:lnTo>
                    <a:pt x="378" y="378"/>
                  </a:lnTo>
                  <a:lnTo>
                    <a:pt x="367" y="374"/>
                  </a:lnTo>
                  <a:lnTo>
                    <a:pt x="356" y="370"/>
                  </a:lnTo>
                  <a:lnTo>
                    <a:pt x="346" y="366"/>
                  </a:lnTo>
                  <a:lnTo>
                    <a:pt x="335" y="361"/>
                  </a:lnTo>
                  <a:lnTo>
                    <a:pt x="324" y="357"/>
                  </a:lnTo>
                  <a:lnTo>
                    <a:pt x="314" y="353"/>
                  </a:lnTo>
                  <a:lnTo>
                    <a:pt x="304" y="349"/>
                  </a:lnTo>
                  <a:lnTo>
                    <a:pt x="294" y="344"/>
                  </a:lnTo>
                  <a:lnTo>
                    <a:pt x="284" y="340"/>
                  </a:lnTo>
                  <a:lnTo>
                    <a:pt x="275" y="336"/>
                  </a:lnTo>
                  <a:lnTo>
                    <a:pt x="265" y="332"/>
                  </a:lnTo>
                  <a:lnTo>
                    <a:pt x="256" y="327"/>
                  </a:lnTo>
                  <a:lnTo>
                    <a:pt x="247" y="323"/>
                  </a:lnTo>
                  <a:lnTo>
                    <a:pt x="239" y="319"/>
                  </a:lnTo>
                  <a:lnTo>
                    <a:pt x="230" y="315"/>
                  </a:lnTo>
                  <a:lnTo>
                    <a:pt x="222" y="311"/>
                  </a:lnTo>
                  <a:lnTo>
                    <a:pt x="214" y="306"/>
                  </a:lnTo>
                  <a:lnTo>
                    <a:pt x="206" y="302"/>
                  </a:lnTo>
                  <a:lnTo>
                    <a:pt x="199" y="298"/>
                  </a:lnTo>
                  <a:lnTo>
                    <a:pt x="192" y="294"/>
                  </a:lnTo>
                  <a:lnTo>
                    <a:pt x="184" y="290"/>
                  </a:lnTo>
                  <a:lnTo>
                    <a:pt x="177" y="286"/>
                  </a:lnTo>
                  <a:lnTo>
                    <a:pt x="170" y="282"/>
                  </a:lnTo>
                  <a:lnTo>
                    <a:pt x="164" y="277"/>
                  </a:lnTo>
                  <a:lnTo>
                    <a:pt x="157" y="273"/>
                  </a:lnTo>
                  <a:lnTo>
                    <a:pt x="150" y="269"/>
                  </a:lnTo>
                  <a:lnTo>
                    <a:pt x="144" y="265"/>
                  </a:lnTo>
                  <a:lnTo>
                    <a:pt x="137" y="261"/>
                  </a:lnTo>
                  <a:lnTo>
                    <a:pt x="131" y="256"/>
                  </a:lnTo>
                  <a:lnTo>
                    <a:pt x="125" y="252"/>
                  </a:lnTo>
                  <a:lnTo>
                    <a:pt x="118" y="248"/>
                  </a:lnTo>
                  <a:lnTo>
                    <a:pt x="112" y="244"/>
                  </a:lnTo>
                  <a:lnTo>
                    <a:pt x="106" y="239"/>
                  </a:lnTo>
                  <a:lnTo>
                    <a:pt x="100" y="235"/>
                  </a:lnTo>
                  <a:lnTo>
                    <a:pt x="95" y="231"/>
                  </a:lnTo>
                  <a:lnTo>
                    <a:pt x="89" y="226"/>
                  </a:lnTo>
                  <a:lnTo>
                    <a:pt x="83" y="222"/>
                  </a:lnTo>
                  <a:lnTo>
                    <a:pt x="78" y="218"/>
                  </a:lnTo>
                  <a:lnTo>
                    <a:pt x="73" y="214"/>
                  </a:lnTo>
                  <a:lnTo>
                    <a:pt x="68" y="210"/>
                  </a:lnTo>
                  <a:lnTo>
                    <a:pt x="63" y="206"/>
                  </a:lnTo>
                  <a:lnTo>
                    <a:pt x="59" y="202"/>
                  </a:lnTo>
                  <a:lnTo>
                    <a:pt x="54" y="198"/>
                  </a:lnTo>
                  <a:lnTo>
                    <a:pt x="50" y="195"/>
                  </a:lnTo>
                  <a:lnTo>
                    <a:pt x="46" y="191"/>
                  </a:lnTo>
                  <a:lnTo>
                    <a:pt x="42" y="188"/>
                  </a:lnTo>
                  <a:lnTo>
                    <a:pt x="38" y="184"/>
                  </a:lnTo>
                  <a:lnTo>
                    <a:pt x="34" y="181"/>
                  </a:lnTo>
                  <a:lnTo>
                    <a:pt x="31" y="178"/>
                  </a:lnTo>
                  <a:lnTo>
                    <a:pt x="28" y="175"/>
                  </a:lnTo>
                  <a:lnTo>
                    <a:pt x="25" y="171"/>
                  </a:lnTo>
                  <a:lnTo>
                    <a:pt x="22" y="168"/>
                  </a:lnTo>
                  <a:lnTo>
                    <a:pt x="19" y="166"/>
                  </a:lnTo>
                  <a:lnTo>
                    <a:pt x="17" y="163"/>
                  </a:lnTo>
                  <a:lnTo>
                    <a:pt x="15" y="160"/>
                  </a:lnTo>
                  <a:lnTo>
                    <a:pt x="12" y="158"/>
                  </a:lnTo>
                  <a:lnTo>
                    <a:pt x="10" y="156"/>
                  </a:lnTo>
                  <a:lnTo>
                    <a:pt x="9" y="154"/>
                  </a:lnTo>
                  <a:lnTo>
                    <a:pt x="7" y="152"/>
                  </a:lnTo>
                  <a:lnTo>
                    <a:pt x="6" y="151"/>
                  </a:lnTo>
                  <a:lnTo>
                    <a:pt x="4" y="149"/>
                  </a:lnTo>
                  <a:lnTo>
                    <a:pt x="3" y="148"/>
                  </a:lnTo>
                  <a:lnTo>
                    <a:pt x="2" y="147"/>
                  </a:lnTo>
                  <a:lnTo>
                    <a:pt x="1" y="146"/>
                  </a:lnTo>
                  <a:lnTo>
                    <a:pt x="1" y="146"/>
                  </a:lnTo>
                  <a:lnTo>
                    <a:pt x="0" y="145"/>
                  </a:lnTo>
                  <a:lnTo>
                    <a:pt x="0" y="145"/>
                  </a:lnTo>
                  <a:lnTo>
                    <a:pt x="0" y="145"/>
                  </a:lnTo>
                  <a:lnTo>
                    <a:pt x="0" y="145"/>
                  </a:lnTo>
                  <a:lnTo>
                    <a:pt x="0" y="144"/>
                  </a:lnTo>
                  <a:lnTo>
                    <a:pt x="0" y="142"/>
                  </a:lnTo>
                  <a:lnTo>
                    <a:pt x="0" y="140"/>
                  </a:lnTo>
                  <a:lnTo>
                    <a:pt x="0" y="138"/>
                  </a:lnTo>
                  <a:lnTo>
                    <a:pt x="0" y="135"/>
                  </a:lnTo>
                  <a:lnTo>
                    <a:pt x="0" y="131"/>
                  </a:lnTo>
                  <a:lnTo>
                    <a:pt x="0" y="127"/>
                  </a:lnTo>
                  <a:lnTo>
                    <a:pt x="0" y="122"/>
                  </a:lnTo>
                  <a:lnTo>
                    <a:pt x="0" y="117"/>
                  </a:lnTo>
                  <a:lnTo>
                    <a:pt x="0" y="111"/>
                  </a:lnTo>
                  <a:lnTo>
                    <a:pt x="0" y="104"/>
                  </a:lnTo>
                  <a:lnTo>
                    <a:pt x="0" y="97"/>
                  </a:lnTo>
                  <a:lnTo>
                    <a:pt x="0" y="89"/>
                  </a:lnTo>
                  <a:lnTo>
                    <a:pt x="0" y="81"/>
                  </a:lnTo>
                  <a:lnTo>
                    <a:pt x="0" y="72"/>
                  </a:lnTo>
                  <a:lnTo>
                    <a:pt x="0" y="64"/>
                  </a:lnTo>
                  <a:lnTo>
                    <a:pt x="0" y="55"/>
                  </a:lnTo>
                  <a:lnTo>
                    <a:pt x="0" y="48"/>
                  </a:lnTo>
                  <a:lnTo>
                    <a:pt x="0" y="41"/>
                  </a:lnTo>
                  <a:lnTo>
                    <a:pt x="0" y="34"/>
                  </a:lnTo>
                  <a:lnTo>
                    <a:pt x="0" y="28"/>
                  </a:lnTo>
                  <a:lnTo>
                    <a:pt x="0" y="23"/>
                  </a:lnTo>
                  <a:lnTo>
                    <a:pt x="0" y="18"/>
                  </a:lnTo>
                  <a:lnTo>
                    <a:pt x="0" y="14"/>
                  </a:lnTo>
                  <a:lnTo>
                    <a:pt x="0" y="10"/>
                  </a:lnTo>
                  <a:lnTo>
                    <a:pt x="0" y="7"/>
                  </a:lnTo>
                  <a:lnTo>
                    <a:pt x="0" y="5"/>
                  </a:lnTo>
                  <a:lnTo>
                    <a:pt x="0" y="3"/>
                  </a:lnTo>
                  <a:lnTo>
                    <a:pt x="0" y="1"/>
                  </a:lnTo>
                  <a:lnTo>
                    <a:pt x="0" y="0"/>
                  </a:lnTo>
                  <a:lnTo>
                    <a:pt x="0" y="0"/>
                  </a:lnTo>
                  <a:lnTo>
                    <a:pt x="0" y="0"/>
                  </a:lnTo>
                  <a:lnTo>
                    <a:pt x="0" y="0"/>
                  </a:lnTo>
                  <a:lnTo>
                    <a:pt x="1" y="1"/>
                  </a:lnTo>
                  <a:lnTo>
                    <a:pt x="1" y="1"/>
                  </a:lnTo>
                  <a:lnTo>
                    <a:pt x="2" y="2"/>
                  </a:lnTo>
                  <a:lnTo>
                    <a:pt x="3" y="3"/>
                  </a:lnTo>
                  <a:lnTo>
                    <a:pt x="4" y="4"/>
                  </a:lnTo>
                  <a:lnTo>
                    <a:pt x="5" y="5"/>
                  </a:lnTo>
                  <a:lnTo>
                    <a:pt x="6" y="6"/>
                  </a:lnTo>
                  <a:lnTo>
                    <a:pt x="7" y="8"/>
                  </a:lnTo>
                  <a:lnTo>
                    <a:pt x="9" y="9"/>
                  </a:lnTo>
                  <a:lnTo>
                    <a:pt x="10" y="11"/>
                  </a:lnTo>
                  <a:lnTo>
                    <a:pt x="12" y="13"/>
                  </a:lnTo>
                  <a:lnTo>
                    <a:pt x="14" y="15"/>
                  </a:lnTo>
                  <a:lnTo>
                    <a:pt x="16" y="17"/>
                  </a:lnTo>
                  <a:lnTo>
                    <a:pt x="19" y="19"/>
                  </a:lnTo>
                  <a:lnTo>
                    <a:pt x="21" y="22"/>
                  </a:lnTo>
                  <a:lnTo>
                    <a:pt x="24" y="25"/>
                  </a:lnTo>
                  <a:lnTo>
                    <a:pt x="27" y="27"/>
                  </a:lnTo>
                  <a:lnTo>
                    <a:pt x="30" y="30"/>
                  </a:lnTo>
                  <a:lnTo>
                    <a:pt x="33" y="34"/>
                  </a:lnTo>
                  <a:lnTo>
                    <a:pt x="37" y="37"/>
                  </a:lnTo>
                  <a:lnTo>
                    <a:pt x="41" y="40"/>
                  </a:lnTo>
                  <a:lnTo>
                    <a:pt x="45" y="44"/>
                  </a:lnTo>
                  <a:lnTo>
                    <a:pt x="49" y="48"/>
                  </a:lnTo>
                  <a:lnTo>
                    <a:pt x="54" y="51"/>
                  </a:lnTo>
                  <a:lnTo>
                    <a:pt x="59" y="56"/>
                  </a:lnTo>
                  <a:lnTo>
                    <a:pt x="64" y="60"/>
                  </a:lnTo>
                  <a:lnTo>
                    <a:pt x="69" y="64"/>
                  </a:lnTo>
                  <a:lnTo>
                    <a:pt x="75" y="69"/>
                  </a:lnTo>
                  <a:lnTo>
                    <a:pt x="80" y="73"/>
                  </a:lnTo>
                  <a:lnTo>
                    <a:pt x="87" y="78"/>
                  </a:lnTo>
                  <a:lnTo>
                    <a:pt x="93" y="83"/>
                  </a:lnTo>
                  <a:lnTo>
                    <a:pt x="99" y="88"/>
                  </a:lnTo>
                  <a:lnTo>
                    <a:pt x="105" y="92"/>
                  </a:lnTo>
                  <a:lnTo>
                    <a:pt x="111" y="97"/>
                  </a:lnTo>
                  <a:lnTo>
                    <a:pt x="117" y="101"/>
                  </a:lnTo>
                  <a:lnTo>
                    <a:pt x="124" y="106"/>
                  </a:lnTo>
                  <a:lnTo>
                    <a:pt x="130" y="110"/>
                  </a:lnTo>
                  <a:lnTo>
                    <a:pt x="136" y="114"/>
                  </a:lnTo>
                  <a:lnTo>
                    <a:pt x="142" y="118"/>
                  </a:lnTo>
                  <a:lnTo>
                    <a:pt x="148" y="122"/>
                  </a:lnTo>
                  <a:lnTo>
                    <a:pt x="155" y="126"/>
                  </a:lnTo>
                  <a:lnTo>
                    <a:pt x="161" y="130"/>
                  </a:lnTo>
                  <a:lnTo>
                    <a:pt x="167" y="134"/>
                  </a:lnTo>
                  <a:lnTo>
                    <a:pt x="173" y="137"/>
                  </a:lnTo>
                  <a:lnTo>
                    <a:pt x="179" y="141"/>
                  </a:lnTo>
                  <a:lnTo>
                    <a:pt x="186" y="144"/>
                  </a:lnTo>
                  <a:lnTo>
                    <a:pt x="192" y="148"/>
                  </a:lnTo>
                  <a:lnTo>
                    <a:pt x="198" y="151"/>
                  </a:lnTo>
                  <a:lnTo>
                    <a:pt x="205" y="155"/>
                  </a:lnTo>
                  <a:lnTo>
                    <a:pt x="211" y="158"/>
                  </a:lnTo>
                  <a:lnTo>
                    <a:pt x="218" y="162"/>
                  </a:lnTo>
                  <a:lnTo>
                    <a:pt x="225" y="165"/>
                  </a:lnTo>
                  <a:lnTo>
                    <a:pt x="232" y="169"/>
                  </a:lnTo>
                  <a:lnTo>
                    <a:pt x="240" y="173"/>
                  </a:lnTo>
                  <a:lnTo>
                    <a:pt x="247" y="176"/>
                  </a:lnTo>
                  <a:lnTo>
                    <a:pt x="255" y="180"/>
                  </a:lnTo>
                  <a:lnTo>
                    <a:pt x="262" y="183"/>
                  </a:lnTo>
                  <a:lnTo>
                    <a:pt x="270" y="187"/>
                  </a:lnTo>
                  <a:lnTo>
                    <a:pt x="278" y="191"/>
                  </a:lnTo>
                  <a:lnTo>
                    <a:pt x="286" y="195"/>
                  </a:lnTo>
                  <a:lnTo>
                    <a:pt x="295" y="198"/>
                  </a:lnTo>
                  <a:lnTo>
                    <a:pt x="303" y="202"/>
                  </a:lnTo>
                  <a:lnTo>
                    <a:pt x="311" y="206"/>
                  </a:lnTo>
                  <a:lnTo>
                    <a:pt x="320" y="209"/>
                  </a:lnTo>
                  <a:lnTo>
                    <a:pt x="328" y="213"/>
                  </a:lnTo>
                  <a:lnTo>
                    <a:pt x="337" y="216"/>
                  </a:lnTo>
                  <a:lnTo>
                    <a:pt x="345" y="220"/>
                  </a:lnTo>
                  <a:lnTo>
                    <a:pt x="353" y="223"/>
                  </a:lnTo>
                  <a:lnTo>
                    <a:pt x="362" y="226"/>
                  </a:lnTo>
                  <a:lnTo>
                    <a:pt x="370" y="230"/>
                  </a:lnTo>
                  <a:lnTo>
                    <a:pt x="378" y="233"/>
                  </a:lnTo>
                  <a:lnTo>
                    <a:pt x="386" y="236"/>
                  </a:lnTo>
                  <a:lnTo>
                    <a:pt x="394" y="239"/>
                  </a:lnTo>
                  <a:lnTo>
                    <a:pt x="402" y="242"/>
                  </a:lnTo>
                  <a:lnTo>
                    <a:pt x="411" y="244"/>
                  </a:lnTo>
                  <a:lnTo>
                    <a:pt x="419" y="247"/>
                  </a:lnTo>
                  <a:lnTo>
                    <a:pt x="427" y="250"/>
                  </a:lnTo>
                  <a:lnTo>
                    <a:pt x="435" y="252"/>
                  </a:lnTo>
                  <a:lnTo>
                    <a:pt x="442" y="255"/>
                  </a:lnTo>
                  <a:lnTo>
                    <a:pt x="451" y="258"/>
                  </a:lnTo>
                  <a:lnTo>
                    <a:pt x="459" y="260"/>
                  </a:lnTo>
                  <a:lnTo>
                    <a:pt x="467" y="263"/>
                  </a:lnTo>
                  <a:lnTo>
                    <a:pt x="475" y="265"/>
                  </a:lnTo>
                  <a:lnTo>
                    <a:pt x="483" y="268"/>
                  </a:lnTo>
                  <a:lnTo>
                    <a:pt x="492" y="270"/>
                  </a:lnTo>
                  <a:lnTo>
                    <a:pt x="500" y="272"/>
                  </a:lnTo>
                  <a:lnTo>
                    <a:pt x="509" y="275"/>
                  </a:lnTo>
                  <a:lnTo>
                    <a:pt x="517" y="277"/>
                  </a:lnTo>
                  <a:lnTo>
                    <a:pt x="526" y="279"/>
                  </a:lnTo>
                  <a:lnTo>
                    <a:pt x="535" y="282"/>
                  </a:lnTo>
                  <a:lnTo>
                    <a:pt x="544" y="284"/>
                  </a:lnTo>
                  <a:lnTo>
                    <a:pt x="553" y="286"/>
                  </a:lnTo>
                  <a:lnTo>
                    <a:pt x="561" y="289"/>
                  </a:lnTo>
                  <a:lnTo>
                    <a:pt x="571" y="291"/>
                  </a:lnTo>
                  <a:lnTo>
                    <a:pt x="580" y="293"/>
                  </a:lnTo>
                  <a:lnTo>
                    <a:pt x="588" y="295"/>
                  </a:lnTo>
                  <a:lnTo>
                    <a:pt x="597" y="297"/>
                  </a:lnTo>
                  <a:lnTo>
                    <a:pt x="606" y="299"/>
                  </a:lnTo>
                  <a:lnTo>
                    <a:pt x="615" y="301"/>
                  </a:lnTo>
                  <a:lnTo>
                    <a:pt x="623" y="303"/>
                  </a:lnTo>
                  <a:lnTo>
                    <a:pt x="632" y="305"/>
                  </a:lnTo>
                  <a:lnTo>
                    <a:pt x="640" y="307"/>
                  </a:lnTo>
                  <a:lnTo>
                    <a:pt x="648" y="309"/>
                  </a:lnTo>
                  <a:lnTo>
                    <a:pt x="656" y="310"/>
                  </a:lnTo>
                  <a:lnTo>
                    <a:pt x="664" y="312"/>
                  </a:lnTo>
                  <a:lnTo>
                    <a:pt x="672" y="313"/>
                  </a:lnTo>
                  <a:lnTo>
                    <a:pt x="680" y="315"/>
                  </a:lnTo>
                  <a:lnTo>
                    <a:pt x="688" y="316"/>
                  </a:lnTo>
                  <a:lnTo>
                    <a:pt x="695" y="318"/>
                  </a:lnTo>
                  <a:lnTo>
                    <a:pt x="703" y="319"/>
                  </a:lnTo>
                  <a:lnTo>
                    <a:pt x="711" y="320"/>
                  </a:lnTo>
                  <a:lnTo>
                    <a:pt x="718" y="321"/>
                  </a:lnTo>
                  <a:lnTo>
                    <a:pt x="726" y="323"/>
                  </a:lnTo>
                  <a:lnTo>
                    <a:pt x="734" y="324"/>
                  </a:lnTo>
                  <a:lnTo>
                    <a:pt x="742" y="325"/>
                  </a:lnTo>
                  <a:lnTo>
                    <a:pt x="749" y="326"/>
                  </a:lnTo>
                  <a:lnTo>
                    <a:pt x="758" y="327"/>
                  </a:lnTo>
                  <a:lnTo>
                    <a:pt x="766" y="329"/>
                  </a:lnTo>
                  <a:lnTo>
                    <a:pt x="774" y="330"/>
                  </a:lnTo>
                  <a:lnTo>
                    <a:pt x="782" y="331"/>
                  </a:lnTo>
                  <a:lnTo>
                    <a:pt x="790" y="332"/>
                  </a:lnTo>
                  <a:lnTo>
                    <a:pt x="799" y="333"/>
                  </a:lnTo>
                  <a:lnTo>
                    <a:pt x="807" y="334"/>
                  </a:lnTo>
                  <a:lnTo>
                    <a:pt x="816" y="335"/>
                  </a:lnTo>
                  <a:lnTo>
                    <a:pt x="825" y="336"/>
                  </a:lnTo>
                  <a:lnTo>
                    <a:pt x="834" y="337"/>
                  </a:lnTo>
                  <a:lnTo>
                    <a:pt x="842" y="339"/>
                  </a:lnTo>
                  <a:lnTo>
                    <a:pt x="851" y="340"/>
                  </a:lnTo>
                  <a:lnTo>
                    <a:pt x="860" y="341"/>
                  </a:lnTo>
                  <a:lnTo>
                    <a:pt x="870" y="341"/>
                  </a:lnTo>
                  <a:lnTo>
                    <a:pt x="879" y="342"/>
                  </a:lnTo>
                  <a:lnTo>
                    <a:pt x="888" y="343"/>
                  </a:lnTo>
                  <a:lnTo>
                    <a:pt x="898" y="344"/>
                  </a:lnTo>
                  <a:lnTo>
                    <a:pt x="908" y="345"/>
                  </a:lnTo>
                  <a:lnTo>
                    <a:pt x="917" y="346"/>
                  </a:lnTo>
                  <a:lnTo>
                    <a:pt x="927" y="346"/>
                  </a:lnTo>
                  <a:lnTo>
                    <a:pt x="937" y="347"/>
                  </a:lnTo>
                  <a:lnTo>
                    <a:pt x="947" y="348"/>
                  </a:lnTo>
                  <a:lnTo>
                    <a:pt x="957" y="348"/>
                  </a:lnTo>
                  <a:lnTo>
                    <a:pt x="968" y="349"/>
                  </a:lnTo>
                  <a:lnTo>
                    <a:pt x="978" y="349"/>
                  </a:lnTo>
                  <a:lnTo>
                    <a:pt x="989" y="350"/>
                  </a:lnTo>
                  <a:lnTo>
                    <a:pt x="999" y="350"/>
                  </a:lnTo>
                  <a:lnTo>
                    <a:pt x="1010" y="351"/>
                  </a:lnTo>
                  <a:lnTo>
                    <a:pt x="1020" y="351"/>
                  </a:lnTo>
                  <a:lnTo>
                    <a:pt x="1031" y="352"/>
                  </a:lnTo>
                  <a:lnTo>
                    <a:pt x="1041" y="352"/>
                  </a:lnTo>
                  <a:lnTo>
                    <a:pt x="1051" y="352"/>
                  </a:lnTo>
                  <a:lnTo>
                    <a:pt x="1062" y="352"/>
                  </a:lnTo>
                  <a:lnTo>
                    <a:pt x="1072" y="353"/>
                  </a:lnTo>
                  <a:lnTo>
                    <a:pt x="1082" y="353"/>
                  </a:lnTo>
                  <a:lnTo>
                    <a:pt x="1093" y="353"/>
                  </a:lnTo>
                  <a:lnTo>
                    <a:pt x="1103" y="353"/>
                  </a:lnTo>
                  <a:lnTo>
                    <a:pt x="1113" y="353"/>
                  </a:lnTo>
                  <a:lnTo>
                    <a:pt x="1123" y="353"/>
                  </a:lnTo>
                  <a:lnTo>
                    <a:pt x="1133" y="353"/>
                  </a:lnTo>
                  <a:lnTo>
                    <a:pt x="1143" y="353"/>
                  </a:lnTo>
                  <a:lnTo>
                    <a:pt x="1154" y="352"/>
                  </a:lnTo>
                  <a:lnTo>
                    <a:pt x="1164" y="352"/>
                  </a:lnTo>
                  <a:lnTo>
                    <a:pt x="1173" y="352"/>
                  </a:lnTo>
                  <a:lnTo>
                    <a:pt x="1183" y="352"/>
                  </a:lnTo>
                  <a:lnTo>
                    <a:pt x="1193" y="351"/>
                  </a:lnTo>
                  <a:lnTo>
                    <a:pt x="1203" y="351"/>
                  </a:lnTo>
                  <a:lnTo>
                    <a:pt x="1212" y="351"/>
                  </a:lnTo>
                  <a:lnTo>
                    <a:pt x="1222" y="350"/>
                  </a:lnTo>
                  <a:lnTo>
                    <a:pt x="1231" y="350"/>
                  </a:lnTo>
                  <a:lnTo>
                    <a:pt x="1241" y="350"/>
                  </a:lnTo>
                  <a:lnTo>
                    <a:pt x="1250" y="349"/>
                  </a:lnTo>
                  <a:lnTo>
                    <a:pt x="1259" y="349"/>
                  </a:lnTo>
                  <a:lnTo>
                    <a:pt x="1268" y="348"/>
                  </a:lnTo>
                  <a:lnTo>
                    <a:pt x="1277" y="347"/>
                  </a:lnTo>
                  <a:lnTo>
                    <a:pt x="1286" y="347"/>
                  </a:lnTo>
                  <a:lnTo>
                    <a:pt x="1295" y="346"/>
                  </a:lnTo>
                  <a:lnTo>
                    <a:pt x="1304" y="345"/>
                  </a:lnTo>
                  <a:lnTo>
                    <a:pt x="1312" y="345"/>
                  </a:lnTo>
                  <a:lnTo>
                    <a:pt x="1321" y="344"/>
                  </a:lnTo>
                  <a:lnTo>
                    <a:pt x="1329" y="343"/>
                  </a:lnTo>
                  <a:lnTo>
                    <a:pt x="1338" y="343"/>
                  </a:lnTo>
                  <a:lnTo>
                    <a:pt x="1346" y="342"/>
                  </a:lnTo>
                  <a:lnTo>
                    <a:pt x="1355" y="341"/>
                  </a:lnTo>
                  <a:lnTo>
                    <a:pt x="1363" y="340"/>
                  </a:lnTo>
                  <a:lnTo>
                    <a:pt x="1371" y="339"/>
                  </a:lnTo>
                  <a:lnTo>
                    <a:pt x="1379" y="339"/>
                  </a:lnTo>
                  <a:lnTo>
                    <a:pt x="1387" y="338"/>
                  </a:lnTo>
                  <a:lnTo>
                    <a:pt x="1395" y="337"/>
                  </a:lnTo>
                  <a:lnTo>
                    <a:pt x="1403" y="336"/>
                  </a:lnTo>
                  <a:lnTo>
                    <a:pt x="1411" y="335"/>
                  </a:lnTo>
                  <a:lnTo>
                    <a:pt x="1419" y="334"/>
                  </a:lnTo>
                  <a:lnTo>
                    <a:pt x="1427" y="333"/>
                  </a:lnTo>
                  <a:lnTo>
                    <a:pt x="1434" y="332"/>
                  </a:lnTo>
                  <a:lnTo>
                    <a:pt x="1442" y="332"/>
                  </a:lnTo>
                  <a:lnTo>
                    <a:pt x="1450" y="331"/>
                  </a:lnTo>
                  <a:lnTo>
                    <a:pt x="1457" y="330"/>
                  </a:lnTo>
                  <a:lnTo>
                    <a:pt x="1464" y="329"/>
                  </a:lnTo>
                  <a:lnTo>
                    <a:pt x="1471" y="328"/>
                  </a:lnTo>
                  <a:lnTo>
                    <a:pt x="1478" y="327"/>
                  </a:lnTo>
                  <a:lnTo>
                    <a:pt x="1485" y="326"/>
                  </a:lnTo>
                  <a:lnTo>
                    <a:pt x="1492" y="325"/>
                  </a:lnTo>
                  <a:lnTo>
                    <a:pt x="1499" y="324"/>
                  </a:lnTo>
                  <a:lnTo>
                    <a:pt x="1505" y="323"/>
                  </a:lnTo>
                  <a:lnTo>
                    <a:pt x="1511" y="322"/>
                  </a:lnTo>
                  <a:lnTo>
                    <a:pt x="1518" y="321"/>
                  </a:lnTo>
                  <a:lnTo>
                    <a:pt x="1524" y="320"/>
                  </a:lnTo>
                  <a:lnTo>
                    <a:pt x="1530" y="319"/>
                  </a:lnTo>
                  <a:lnTo>
                    <a:pt x="1536" y="318"/>
                  </a:lnTo>
                  <a:lnTo>
                    <a:pt x="1541" y="316"/>
                  </a:lnTo>
                  <a:lnTo>
                    <a:pt x="1541" y="316"/>
                  </a:lnTo>
                  <a:close/>
                </a:path>
              </a:pathLst>
            </a:custGeom>
            <a:solidFill>
              <a:srgbClr val="e1ea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106" name=""/>
            <p:cNvGrpSpPr/>
            <p:nvPr/>
          </p:nvGrpSpPr>
          <p:grpSpPr>
            <a:xfrm>
              <a:off x="2287440" y="2166480"/>
              <a:ext cx="4535640" cy="2410200"/>
              <a:chOff x="2287440" y="2166480"/>
              <a:chExt cx="4535640" cy="2410200"/>
            </a:xfrm>
          </p:grpSpPr>
          <p:sp>
            <p:nvSpPr>
              <p:cNvPr id="2107" name=""/>
              <p:cNvSpPr/>
              <p:nvPr/>
            </p:nvSpPr>
            <p:spPr>
              <a:xfrm>
                <a:off x="2287440" y="2166480"/>
                <a:ext cx="4535640" cy="2410200"/>
              </a:xfrm>
              <a:custGeom>
                <a:avLst/>
                <a:gdLst/>
                <a:ahLst/>
                <a:rect l="l" t="t" r="r" b="b"/>
                <a:pathLst>
                  <a:path stroke="0" w="21600" h="21600">
                    <a:moveTo>
                      <a:pt x="15020" y="20741"/>
                    </a:moveTo>
                    <a:arcTo wR="10800" hR="10800" stAng="4020000" swAng="5400000"/>
                    <a:lnTo>
                      <a:pt x="10800" y="10800"/>
                    </a:lnTo>
                    <a:close/>
                  </a:path>
                  <a:path fill="none" w="21600" h="21600">
                    <a:moveTo>
                      <a:pt x="15020" y="20741"/>
                    </a:moveTo>
                    <a:arcTo wR="10800" hR="10800" stAng="4020000" swAng="5400000"/>
                  </a:path>
                </a:pathLst>
              </a:custGeom>
              <a:solidFill>
                <a:srgbClr val="e1eaff"/>
              </a:solidFill>
              <a:ln w="3240">
                <a:solidFill>
                  <a:srgbClr val="1f5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108" name=""/>
              <p:cNvSpPr/>
              <p:nvPr/>
            </p:nvSpPr>
            <p:spPr>
              <a:xfrm>
                <a:off x="2467440" y="3371760"/>
                <a:ext cx="2975400" cy="1110960"/>
              </a:xfrm>
              <a:custGeom>
                <a:avLst/>
                <a:gdLst/>
                <a:ahLst/>
                <a:rect l="l" t="t" r="r" b="b"/>
                <a:pathLst>
                  <a:path w="1587" h="531">
                    <a:moveTo>
                      <a:pt x="1586" y="530"/>
                    </a:moveTo>
                    <a:lnTo>
                      <a:pt x="1113" y="0"/>
                    </a:lnTo>
                    <a:lnTo>
                      <a:pt x="0" y="225"/>
                    </a:lnTo>
                  </a:path>
                </a:pathLst>
              </a:custGeom>
              <a:solidFill>
                <a:srgbClr val="e1ea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grpSp>
      <p:sp>
        <p:nvSpPr>
          <p:cNvPr id="2109" name=""/>
          <p:cNvSpPr/>
          <p:nvPr/>
        </p:nvSpPr>
        <p:spPr>
          <a:xfrm>
            <a:off x="5029200" y="3565440"/>
            <a:ext cx="1601640" cy="474840"/>
          </a:xfrm>
          <a:prstGeom prst="rect">
            <a:avLst/>
          </a:prstGeom>
          <a:noFill/>
          <a:ln w="0">
            <a:noFill/>
          </a:ln>
        </p:spPr>
        <p:style>
          <a:lnRef idx="0"/>
          <a:fillRef idx="0"/>
          <a:effectRef idx="0"/>
          <a:fontRef idx="minor"/>
        </p:style>
        <p:txBody>
          <a:bodyPr lIns="45720" rIns="4572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负载均衡技术</a:t>
            </a:r>
            <a:r>
              <a:rPr b="1" lang="en-US" sz="1600" spc="-1" strike="noStrike">
                <a:solidFill>
                  <a:srgbClr val="000066"/>
                </a:solidFill>
                <a:latin typeface="Arial"/>
              </a:rPr>
              <a:t>(Load-balance)</a:t>
            </a:r>
            <a:endParaRPr b="0" lang="en-US" sz="1600" spc="-1" strike="noStrike">
              <a:solidFill>
                <a:srgbClr val="000066"/>
              </a:solidFill>
              <a:latin typeface="Times New Roman"/>
            </a:endParaRPr>
          </a:p>
        </p:txBody>
      </p:sp>
      <p:sp>
        <p:nvSpPr>
          <p:cNvPr id="2110" name=""/>
          <p:cNvSpPr/>
          <p:nvPr/>
        </p:nvSpPr>
        <p:spPr>
          <a:xfrm>
            <a:off x="3200400" y="3637080"/>
            <a:ext cx="1803240" cy="605160"/>
          </a:xfrm>
          <a:prstGeom prst="rect">
            <a:avLst/>
          </a:prstGeom>
          <a:noFill/>
          <a:ln w="0">
            <a:noFill/>
          </a:ln>
        </p:spPr>
        <p:style>
          <a:lnRef idx="0"/>
          <a:fillRef idx="0"/>
          <a:effectRef idx="0"/>
          <a:fontRef idx="minor"/>
        </p:style>
        <p:txBody>
          <a:bodyPr lIns="45720" rIns="4572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数据传输的各个环节，采用报文加密和报文验证码的方式</a:t>
            </a:r>
            <a:endParaRPr b="0" lang="en-US" sz="1400" spc="-1" strike="noStrike">
              <a:solidFill>
                <a:srgbClr val="000066"/>
              </a:solidFill>
              <a:latin typeface="Times New Roman"/>
            </a:endParaRPr>
          </a:p>
        </p:txBody>
      </p:sp>
      <p:sp>
        <p:nvSpPr>
          <p:cNvPr id="2111" name=""/>
          <p:cNvSpPr/>
          <p:nvPr/>
        </p:nvSpPr>
        <p:spPr>
          <a:xfrm>
            <a:off x="2527200" y="2608200"/>
            <a:ext cx="1752840" cy="605160"/>
          </a:xfrm>
          <a:prstGeom prst="rect">
            <a:avLst/>
          </a:prstGeom>
          <a:noFill/>
          <a:ln w="0">
            <a:noFill/>
          </a:ln>
        </p:spPr>
        <p:style>
          <a:lnRef idx="0"/>
          <a:fillRef idx="0"/>
          <a:effectRef idx="0"/>
          <a:fontRef idx="minor"/>
        </p:style>
        <p:txBody>
          <a:bodyPr lIns="45720" rIns="4572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系统采用国际通用的</a:t>
            </a:r>
            <a:r>
              <a:rPr b="1" lang="en-US" sz="1400" spc="-1" strike="noStrike">
                <a:solidFill>
                  <a:srgbClr val="000066"/>
                </a:solidFill>
                <a:latin typeface="Arial"/>
              </a:rPr>
              <a:t>DES</a:t>
            </a:r>
            <a:r>
              <a:rPr b="1" lang="zh-CN" sz="1400" spc="-1" strike="noStrike">
                <a:solidFill>
                  <a:srgbClr val="000066"/>
                </a:solidFill>
                <a:latin typeface="Arial"/>
              </a:rPr>
              <a:t>算法将敏感数据加密后保存到数据库</a:t>
            </a:r>
            <a:endParaRPr b="0" lang="en-US" sz="1400" spc="-1" strike="noStrike">
              <a:solidFill>
                <a:srgbClr val="000066"/>
              </a:solidFill>
              <a:latin typeface="Times New Roman"/>
            </a:endParaRPr>
          </a:p>
        </p:txBody>
      </p:sp>
      <p:grpSp>
        <p:nvGrpSpPr>
          <p:cNvPr id="2112" name=""/>
          <p:cNvGrpSpPr/>
          <p:nvPr/>
        </p:nvGrpSpPr>
        <p:grpSpPr>
          <a:xfrm>
            <a:off x="2289960" y="1741320"/>
            <a:ext cx="4535640" cy="2408760"/>
            <a:chOff x="2289960" y="1741320"/>
            <a:chExt cx="4535640" cy="2408760"/>
          </a:xfrm>
        </p:grpSpPr>
        <p:sp>
          <p:nvSpPr>
            <p:cNvPr id="2113" name=""/>
            <p:cNvSpPr/>
            <p:nvPr/>
          </p:nvSpPr>
          <p:spPr>
            <a:xfrm>
              <a:off x="3670200" y="1837440"/>
              <a:ext cx="2979360" cy="1692720"/>
            </a:xfrm>
            <a:custGeom>
              <a:avLst/>
              <a:gdLst/>
              <a:ahLst/>
              <a:rect l="l" t="t" r="r" b="b"/>
              <a:pathLst>
                <a:path w="1589" h="809">
                  <a:moveTo>
                    <a:pt x="0" y="0"/>
                  </a:moveTo>
                  <a:lnTo>
                    <a:pt x="0" y="142"/>
                  </a:lnTo>
                  <a:lnTo>
                    <a:pt x="474" y="674"/>
                  </a:lnTo>
                  <a:lnTo>
                    <a:pt x="474" y="746"/>
                  </a:lnTo>
                  <a:lnTo>
                    <a:pt x="530" y="808"/>
                  </a:lnTo>
                  <a:lnTo>
                    <a:pt x="1588" y="592"/>
                  </a:lnTo>
                  <a:lnTo>
                    <a:pt x="1588" y="304"/>
                  </a:lnTo>
                  <a:lnTo>
                    <a:pt x="474" y="530"/>
                  </a:lnTo>
                  <a:lnTo>
                    <a:pt x="474" y="674"/>
                  </a:lnTo>
                  <a:lnTo>
                    <a:pt x="474" y="530"/>
                  </a:lnTo>
                  <a:lnTo>
                    <a:pt x="0" y="0"/>
                  </a:lnTo>
                  <a:close/>
                </a:path>
              </a:pathLst>
            </a:custGeom>
            <a:solidFill>
              <a:srgbClr val="bdd0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2114" name=""/>
            <p:cNvGrpSpPr/>
            <p:nvPr/>
          </p:nvGrpSpPr>
          <p:grpSpPr>
            <a:xfrm>
              <a:off x="2289960" y="1741320"/>
              <a:ext cx="4535640" cy="2408760"/>
              <a:chOff x="2289960" y="1741320"/>
              <a:chExt cx="4535640" cy="2408760"/>
            </a:xfrm>
          </p:grpSpPr>
          <p:sp>
            <p:nvSpPr>
              <p:cNvPr id="2115" name=""/>
              <p:cNvSpPr/>
              <p:nvPr/>
            </p:nvSpPr>
            <p:spPr>
              <a:xfrm>
                <a:off x="2289960" y="1741320"/>
                <a:ext cx="4535640" cy="2408760"/>
              </a:xfrm>
              <a:custGeom>
                <a:avLst/>
                <a:gdLst/>
                <a:ahLst/>
                <a:rect l="l" t="t" r="r" b="b"/>
                <a:pathLst>
                  <a:path stroke="0" w="21600" h="21600">
                    <a:moveTo>
                      <a:pt x="6580" y="859"/>
                    </a:moveTo>
                    <a:arcTo wR="10800" hR="10800" stAng="-6780000" swAng="5400000"/>
                    <a:lnTo>
                      <a:pt x="10800" y="10800"/>
                    </a:lnTo>
                    <a:close/>
                  </a:path>
                  <a:path fill="none" w="21600" h="21600">
                    <a:moveTo>
                      <a:pt x="6580" y="859"/>
                    </a:moveTo>
                    <a:arcTo wR="10800" hR="10800" stAng="-6780000" swAng="5400000"/>
                  </a:path>
                </a:pathLst>
              </a:custGeom>
              <a:solidFill>
                <a:srgbClr val="bdd0ff"/>
              </a:solidFill>
              <a:ln w="3240">
                <a:solidFill>
                  <a:srgbClr val="1f5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116" name=""/>
              <p:cNvSpPr/>
              <p:nvPr/>
            </p:nvSpPr>
            <p:spPr>
              <a:xfrm>
                <a:off x="3671640" y="1837440"/>
                <a:ext cx="2975400" cy="1110600"/>
              </a:xfrm>
              <a:custGeom>
                <a:avLst/>
                <a:gdLst/>
                <a:ahLst/>
                <a:rect l="l" t="t" r="r" b="b"/>
                <a:pathLst>
                  <a:path w="1587" h="531">
                    <a:moveTo>
                      <a:pt x="0" y="0"/>
                    </a:moveTo>
                    <a:lnTo>
                      <a:pt x="473" y="530"/>
                    </a:lnTo>
                    <a:lnTo>
                      <a:pt x="1586" y="305"/>
                    </a:lnTo>
                  </a:path>
                </a:pathLst>
              </a:custGeom>
              <a:solidFill>
                <a:srgbClr val="bdd0ff"/>
              </a:solidFill>
              <a:ln w="3240">
                <a:solidFill>
                  <a:srgbClr val="1f5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grpSp>
      <p:sp>
        <p:nvSpPr>
          <p:cNvPr id="2117" name=""/>
          <p:cNvSpPr/>
          <p:nvPr/>
        </p:nvSpPr>
        <p:spPr>
          <a:xfrm>
            <a:off x="4189320" y="2122560"/>
            <a:ext cx="1754280" cy="284400"/>
          </a:xfrm>
          <a:prstGeom prst="rect">
            <a:avLst/>
          </a:prstGeom>
          <a:noFill/>
          <a:ln w="0">
            <a:noFill/>
          </a:ln>
        </p:spPr>
        <p:style>
          <a:lnRef idx="0"/>
          <a:fillRef idx="0"/>
          <a:effectRef idx="0"/>
          <a:fontRef idx="minor"/>
        </p:style>
        <p:txBody>
          <a:bodyPr lIns="45720" rIns="4572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群集技术</a:t>
            </a:r>
            <a:r>
              <a:rPr b="1" lang="zh-CN" sz="1600" spc="-1" strike="noStrike">
                <a:solidFill>
                  <a:srgbClr val="000066"/>
                </a:solidFill>
                <a:latin typeface="Arial"/>
              </a:rPr>
              <a:t>(</a:t>
            </a:r>
            <a:r>
              <a:rPr b="1" lang="en-US" sz="1600" spc="-1" strike="noStrike">
                <a:solidFill>
                  <a:srgbClr val="000066"/>
                </a:solidFill>
                <a:latin typeface="Arial"/>
              </a:rPr>
              <a:t>Clusters)</a:t>
            </a:r>
            <a:endParaRPr b="0" lang="en-US" sz="1600" spc="-1" strike="noStrike">
              <a:solidFill>
                <a:srgbClr val="000066"/>
              </a:solidFill>
              <a:latin typeface="Times New Roman"/>
            </a:endParaRPr>
          </a:p>
        </p:txBody>
      </p:sp>
      <p:sp>
        <p:nvSpPr>
          <p:cNvPr id="2118" name=""/>
          <p:cNvSpPr/>
          <p:nvPr/>
        </p:nvSpPr>
        <p:spPr>
          <a:xfrm>
            <a:off x="2895480" y="5003640"/>
            <a:ext cx="2286000" cy="76212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19" name=""/>
          <p:cNvSpPr/>
          <p:nvPr/>
        </p:nvSpPr>
        <p:spPr>
          <a:xfrm>
            <a:off x="3276720" y="5079960"/>
            <a:ext cx="167616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Arial"/>
              </a:rPr>
              <a:t>保证交易报文</a:t>
            </a:r>
            <a:endParaRPr b="0" lang="en-US" sz="18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Arial"/>
              </a:rPr>
              <a:t>的可靠传输</a:t>
            </a:r>
            <a:endParaRPr b="0" lang="en-US" sz="1800" spc="-1" strike="noStrike">
              <a:solidFill>
                <a:srgbClr val="000066"/>
              </a:solidFill>
              <a:latin typeface="Times New Roman"/>
            </a:endParaRPr>
          </a:p>
        </p:txBody>
      </p:sp>
      <p:sp>
        <p:nvSpPr>
          <p:cNvPr id="2120" name=""/>
          <p:cNvSpPr/>
          <p:nvPr/>
        </p:nvSpPr>
        <p:spPr>
          <a:xfrm>
            <a:off x="495360" y="2133720"/>
            <a:ext cx="1523880" cy="1066680"/>
          </a:xfrm>
          <a:custGeom>
            <a:avLst/>
            <a:gdLst/>
            <a:ahLst/>
            <a:rect l="l" t="t" r="r" b="b"/>
            <a:pathLst>
              <a:path w="1729" h="865">
                <a:moveTo>
                  <a:pt x="1728" y="360"/>
                </a:moveTo>
                <a:lnTo>
                  <a:pt x="1728" y="0"/>
                </a:lnTo>
                <a:lnTo>
                  <a:pt x="0" y="0"/>
                </a:lnTo>
                <a:lnTo>
                  <a:pt x="0" y="864"/>
                </a:lnTo>
                <a:lnTo>
                  <a:pt x="1728" y="864"/>
                </a:lnTo>
                <a:lnTo>
                  <a:pt x="1728" y="504"/>
                </a:lnTo>
              </a:path>
            </a:pathLst>
          </a:custGeom>
          <a:solidFill>
            <a:srgbClr val="f3f7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21" name=""/>
          <p:cNvSpPr/>
          <p:nvPr/>
        </p:nvSpPr>
        <p:spPr>
          <a:xfrm>
            <a:off x="609480" y="2362320"/>
            <a:ext cx="140976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Arial"/>
              </a:rPr>
              <a:t>保证系统数据的安全</a:t>
            </a:r>
            <a:endParaRPr b="0" lang="en-US" sz="1800" spc="-1" strike="noStrike">
              <a:solidFill>
                <a:srgbClr val="000066"/>
              </a:solidFill>
              <a:latin typeface="Times New Roman"/>
            </a:endParaRPr>
          </a:p>
        </p:txBody>
      </p:sp>
      <p:sp>
        <p:nvSpPr>
          <p:cNvPr id="2122" name=""/>
          <p:cNvSpPr/>
          <p:nvPr/>
        </p:nvSpPr>
        <p:spPr>
          <a:xfrm>
            <a:off x="2019240" y="2436840"/>
            <a:ext cx="609840" cy="458640"/>
          </a:xfrm>
          <a:custGeom>
            <a:avLst/>
            <a:gdLst/>
            <a:ahLst/>
            <a:rect l="l" t="t" r="r" b="b"/>
            <a:pathLst>
              <a:path w="505" h="289">
                <a:moveTo>
                  <a:pt x="0" y="216"/>
                </a:moveTo>
                <a:lnTo>
                  <a:pt x="18" y="207"/>
                </a:lnTo>
                <a:lnTo>
                  <a:pt x="35" y="200"/>
                </a:lnTo>
                <a:lnTo>
                  <a:pt x="53" y="193"/>
                </a:lnTo>
                <a:lnTo>
                  <a:pt x="70" y="187"/>
                </a:lnTo>
                <a:lnTo>
                  <a:pt x="86" y="182"/>
                </a:lnTo>
                <a:lnTo>
                  <a:pt x="103" y="177"/>
                </a:lnTo>
                <a:lnTo>
                  <a:pt x="119" y="174"/>
                </a:lnTo>
                <a:lnTo>
                  <a:pt x="135" y="171"/>
                </a:lnTo>
                <a:lnTo>
                  <a:pt x="151" y="169"/>
                </a:lnTo>
                <a:lnTo>
                  <a:pt x="166" y="168"/>
                </a:lnTo>
                <a:lnTo>
                  <a:pt x="181" y="168"/>
                </a:lnTo>
                <a:lnTo>
                  <a:pt x="196" y="169"/>
                </a:lnTo>
                <a:lnTo>
                  <a:pt x="210" y="170"/>
                </a:lnTo>
                <a:lnTo>
                  <a:pt x="224" y="173"/>
                </a:lnTo>
                <a:lnTo>
                  <a:pt x="238" y="176"/>
                </a:lnTo>
                <a:lnTo>
                  <a:pt x="252" y="180"/>
                </a:lnTo>
                <a:lnTo>
                  <a:pt x="265" y="184"/>
                </a:lnTo>
                <a:lnTo>
                  <a:pt x="277" y="188"/>
                </a:lnTo>
                <a:lnTo>
                  <a:pt x="289" y="192"/>
                </a:lnTo>
                <a:lnTo>
                  <a:pt x="299" y="196"/>
                </a:lnTo>
                <a:lnTo>
                  <a:pt x="309" y="199"/>
                </a:lnTo>
                <a:lnTo>
                  <a:pt x="318" y="202"/>
                </a:lnTo>
                <a:lnTo>
                  <a:pt x="326" y="205"/>
                </a:lnTo>
                <a:lnTo>
                  <a:pt x="333" y="207"/>
                </a:lnTo>
                <a:lnTo>
                  <a:pt x="339" y="209"/>
                </a:lnTo>
                <a:lnTo>
                  <a:pt x="345" y="211"/>
                </a:lnTo>
                <a:lnTo>
                  <a:pt x="349" y="212"/>
                </a:lnTo>
                <a:lnTo>
                  <a:pt x="353" y="214"/>
                </a:lnTo>
                <a:lnTo>
                  <a:pt x="356" y="215"/>
                </a:lnTo>
                <a:lnTo>
                  <a:pt x="358" y="215"/>
                </a:lnTo>
                <a:lnTo>
                  <a:pt x="360" y="216"/>
                </a:lnTo>
                <a:lnTo>
                  <a:pt x="360" y="216"/>
                </a:lnTo>
                <a:lnTo>
                  <a:pt x="360" y="216"/>
                </a:lnTo>
                <a:lnTo>
                  <a:pt x="360" y="217"/>
                </a:lnTo>
                <a:lnTo>
                  <a:pt x="360" y="217"/>
                </a:lnTo>
                <a:lnTo>
                  <a:pt x="360" y="218"/>
                </a:lnTo>
                <a:lnTo>
                  <a:pt x="360" y="220"/>
                </a:lnTo>
                <a:lnTo>
                  <a:pt x="360" y="221"/>
                </a:lnTo>
                <a:lnTo>
                  <a:pt x="360" y="223"/>
                </a:lnTo>
                <a:lnTo>
                  <a:pt x="360" y="225"/>
                </a:lnTo>
                <a:lnTo>
                  <a:pt x="360" y="227"/>
                </a:lnTo>
                <a:lnTo>
                  <a:pt x="360" y="230"/>
                </a:lnTo>
                <a:lnTo>
                  <a:pt x="360" y="233"/>
                </a:lnTo>
                <a:lnTo>
                  <a:pt x="360" y="236"/>
                </a:lnTo>
                <a:lnTo>
                  <a:pt x="360" y="240"/>
                </a:lnTo>
                <a:lnTo>
                  <a:pt x="360" y="244"/>
                </a:lnTo>
                <a:lnTo>
                  <a:pt x="360" y="248"/>
                </a:lnTo>
                <a:lnTo>
                  <a:pt x="360" y="252"/>
                </a:lnTo>
                <a:lnTo>
                  <a:pt x="360" y="256"/>
                </a:lnTo>
                <a:lnTo>
                  <a:pt x="360" y="260"/>
                </a:lnTo>
                <a:lnTo>
                  <a:pt x="360" y="264"/>
                </a:lnTo>
                <a:lnTo>
                  <a:pt x="360" y="268"/>
                </a:lnTo>
                <a:lnTo>
                  <a:pt x="360" y="271"/>
                </a:lnTo>
                <a:lnTo>
                  <a:pt x="360" y="274"/>
                </a:lnTo>
                <a:lnTo>
                  <a:pt x="360" y="277"/>
                </a:lnTo>
                <a:lnTo>
                  <a:pt x="360" y="279"/>
                </a:lnTo>
                <a:lnTo>
                  <a:pt x="360" y="281"/>
                </a:lnTo>
                <a:lnTo>
                  <a:pt x="360" y="283"/>
                </a:lnTo>
                <a:lnTo>
                  <a:pt x="360" y="284"/>
                </a:lnTo>
                <a:lnTo>
                  <a:pt x="360" y="286"/>
                </a:lnTo>
                <a:lnTo>
                  <a:pt x="360" y="287"/>
                </a:lnTo>
                <a:lnTo>
                  <a:pt x="360" y="287"/>
                </a:lnTo>
                <a:lnTo>
                  <a:pt x="360" y="288"/>
                </a:lnTo>
                <a:lnTo>
                  <a:pt x="360" y="288"/>
                </a:lnTo>
                <a:lnTo>
                  <a:pt x="360" y="288"/>
                </a:lnTo>
                <a:lnTo>
                  <a:pt x="361" y="287"/>
                </a:lnTo>
                <a:lnTo>
                  <a:pt x="363" y="285"/>
                </a:lnTo>
                <a:lnTo>
                  <a:pt x="365" y="283"/>
                </a:lnTo>
                <a:lnTo>
                  <a:pt x="367" y="281"/>
                </a:lnTo>
                <a:lnTo>
                  <a:pt x="370" y="278"/>
                </a:lnTo>
                <a:lnTo>
                  <a:pt x="374" y="274"/>
                </a:lnTo>
                <a:lnTo>
                  <a:pt x="378" y="270"/>
                </a:lnTo>
                <a:lnTo>
                  <a:pt x="383" y="265"/>
                </a:lnTo>
                <a:lnTo>
                  <a:pt x="388" y="260"/>
                </a:lnTo>
                <a:lnTo>
                  <a:pt x="394" y="254"/>
                </a:lnTo>
                <a:lnTo>
                  <a:pt x="401" y="247"/>
                </a:lnTo>
                <a:lnTo>
                  <a:pt x="408" y="240"/>
                </a:lnTo>
                <a:lnTo>
                  <a:pt x="415" y="233"/>
                </a:lnTo>
                <a:lnTo>
                  <a:pt x="423" y="225"/>
                </a:lnTo>
                <a:lnTo>
                  <a:pt x="432" y="216"/>
                </a:lnTo>
                <a:lnTo>
                  <a:pt x="441" y="207"/>
                </a:lnTo>
                <a:lnTo>
                  <a:pt x="449" y="199"/>
                </a:lnTo>
                <a:lnTo>
                  <a:pt x="456" y="192"/>
                </a:lnTo>
                <a:lnTo>
                  <a:pt x="463" y="184"/>
                </a:lnTo>
                <a:lnTo>
                  <a:pt x="470" y="178"/>
                </a:lnTo>
                <a:lnTo>
                  <a:pt x="476" y="172"/>
                </a:lnTo>
                <a:lnTo>
                  <a:pt x="481" y="167"/>
                </a:lnTo>
                <a:lnTo>
                  <a:pt x="486" y="162"/>
                </a:lnTo>
                <a:lnTo>
                  <a:pt x="490" y="158"/>
                </a:lnTo>
                <a:lnTo>
                  <a:pt x="494" y="154"/>
                </a:lnTo>
                <a:lnTo>
                  <a:pt x="497" y="151"/>
                </a:lnTo>
                <a:lnTo>
                  <a:pt x="499" y="148"/>
                </a:lnTo>
                <a:lnTo>
                  <a:pt x="501" y="147"/>
                </a:lnTo>
                <a:lnTo>
                  <a:pt x="503" y="145"/>
                </a:lnTo>
                <a:lnTo>
                  <a:pt x="504" y="144"/>
                </a:lnTo>
                <a:lnTo>
                  <a:pt x="504" y="144"/>
                </a:lnTo>
                <a:lnTo>
                  <a:pt x="504" y="144"/>
                </a:lnTo>
                <a:lnTo>
                  <a:pt x="503" y="143"/>
                </a:lnTo>
                <a:lnTo>
                  <a:pt x="501" y="141"/>
                </a:lnTo>
                <a:lnTo>
                  <a:pt x="499" y="139"/>
                </a:lnTo>
                <a:lnTo>
                  <a:pt x="497" y="137"/>
                </a:lnTo>
                <a:lnTo>
                  <a:pt x="494" y="134"/>
                </a:lnTo>
                <a:lnTo>
                  <a:pt x="490" y="130"/>
                </a:lnTo>
                <a:lnTo>
                  <a:pt x="486" y="126"/>
                </a:lnTo>
                <a:lnTo>
                  <a:pt x="481" y="121"/>
                </a:lnTo>
                <a:lnTo>
                  <a:pt x="476" y="116"/>
                </a:lnTo>
                <a:lnTo>
                  <a:pt x="470" y="110"/>
                </a:lnTo>
                <a:lnTo>
                  <a:pt x="464" y="104"/>
                </a:lnTo>
                <a:lnTo>
                  <a:pt x="456" y="96"/>
                </a:lnTo>
                <a:lnTo>
                  <a:pt x="449" y="89"/>
                </a:lnTo>
                <a:lnTo>
                  <a:pt x="441" y="81"/>
                </a:lnTo>
                <a:lnTo>
                  <a:pt x="432" y="72"/>
                </a:lnTo>
                <a:lnTo>
                  <a:pt x="423" y="63"/>
                </a:lnTo>
                <a:lnTo>
                  <a:pt x="415" y="55"/>
                </a:lnTo>
                <a:lnTo>
                  <a:pt x="408" y="48"/>
                </a:lnTo>
                <a:lnTo>
                  <a:pt x="401" y="41"/>
                </a:lnTo>
                <a:lnTo>
                  <a:pt x="394" y="34"/>
                </a:lnTo>
                <a:lnTo>
                  <a:pt x="388" y="28"/>
                </a:lnTo>
                <a:lnTo>
                  <a:pt x="383" y="23"/>
                </a:lnTo>
                <a:lnTo>
                  <a:pt x="378" y="18"/>
                </a:lnTo>
                <a:lnTo>
                  <a:pt x="374" y="14"/>
                </a:lnTo>
                <a:lnTo>
                  <a:pt x="370" y="10"/>
                </a:lnTo>
                <a:lnTo>
                  <a:pt x="367" y="7"/>
                </a:lnTo>
                <a:lnTo>
                  <a:pt x="365" y="5"/>
                </a:lnTo>
                <a:lnTo>
                  <a:pt x="363" y="3"/>
                </a:lnTo>
                <a:lnTo>
                  <a:pt x="361" y="1"/>
                </a:lnTo>
                <a:lnTo>
                  <a:pt x="360" y="0"/>
                </a:lnTo>
                <a:lnTo>
                  <a:pt x="360" y="0"/>
                </a:lnTo>
                <a:lnTo>
                  <a:pt x="360" y="0"/>
                </a:lnTo>
                <a:lnTo>
                  <a:pt x="360" y="1"/>
                </a:lnTo>
                <a:lnTo>
                  <a:pt x="360" y="1"/>
                </a:lnTo>
                <a:lnTo>
                  <a:pt x="360" y="2"/>
                </a:lnTo>
                <a:lnTo>
                  <a:pt x="360" y="4"/>
                </a:lnTo>
                <a:lnTo>
                  <a:pt x="360" y="5"/>
                </a:lnTo>
                <a:lnTo>
                  <a:pt x="360" y="7"/>
                </a:lnTo>
                <a:lnTo>
                  <a:pt x="360" y="9"/>
                </a:lnTo>
                <a:lnTo>
                  <a:pt x="360" y="11"/>
                </a:lnTo>
                <a:lnTo>
                  <a:pt x="360" y="14"/>
                </a:lnTo>
                <a:lnTo>
                  <a:pt x="360" y="17"/>
                </a:lnTo>
                <a:lnTo>
                  <a:pt x="360" y="20"/>
                </a:lnTo>
                <a:lnTo>
                  <a:pt x="360" y="24"/>
                </a:lnTo>
                <a:lnTo>
                  <a:pt x="360" y="28"/>
                </a:lnTo>
                <a:lnTo>
                  <a:pt x="360" y="32"/>
                </a:lnTo>
                <a:lnTo>
                  <a:pt x="360" y="36"/>
                </a:lnTo>
                <a:lnTo>
                  <a:pt x="360" y="40"/>
                </a:lnTo>
                <a:lnTo>
                  <a:pt x="360" y="44"/>
                </a:lnTo>
                <a:lnTo>
                  <a:pt x="360" y="48"/>
                </a:lnTo>
                <a:lnTo>
                  <a:pt x="360" y="52"/>
                </a:lnTo>
                <a:lnTo>
                  <a:pt x="360" y="55"/>
                </a:lnTo>
                <a:lnTo>
                  <a:pt x="360" y="58"/>
                </a:lnTo>
                <a:lnTo>
                  <a:pt x="360" y="61"/>
                </a:lnTo>
                <a:lnTo>
                  <a:pt x="360" y="63"/>
                </a:lnTo>
                <a:lnTo>
                  <a:pt x="360" y="65"/>
                </a:lnTo>
                <a:lnTo>
                  <a:pt x="360" y="67"/>
                </a:lnTo>
                <a:lnTo>
                  <a:pt x="360" y="68"/>
                </a:lnTo>
                <a:lnTo>
                  <a:pt x="360" y="70"/>
                </a:lnTo>
                <a:lnTo>
                  <a:pt x="360" y="71"/>
                </a:lnTo>
                <a:lnTo>
                  <a:pt x="360" y="71"/>
                </a:lnTo>
                <a:lnTo>
                  <a:pt x="360" y="72"/>
                </a:lnTo>
                <a:lnTo>
                  <a:pt x="360" y="72"/>
                </a:lnTo>
                <a:lnTo>
                  <a:pt x="360" y="72"/>
                </a:lnTo>
                <a:lnTo>
                  <a:pt x="358" y="71"/>
                </a:lnTo>
                <a:lnTo>
                  <a:pt x="356" y="71"/>
                </a:lnTo>
                <a:lnTo>
                  <a:pt x="353" y="70"/>
                </a:lnTo>
                <a:lnTo>
                  <a:pt x="349" y="68"/>
                </a:lnTo>
                <a:lnTo>
                  <a:pt x="345" y="67"/>
                </a:lnTo>
                <a:lnTo>
                  <a:pt x="339" y="65"/>
                </a:lnTo>
                <a:lnTo>
                  <a:pt x="333" y="63"/>
                </a:lnTo>
                <a:lnTo>
                  <a:pt x="326" y="61"/>
                </a:lnTo>
                <a:lnTo>
                  <a:pt x="318" y="58"/>
                </a:lnTo>
                <a:lnTo>
                  <a:pt x="309" y="55"/>
                </a:lnTo>
                <a:lnTo>
                  <a:pt x="299" y="52"/>
                </a:lnTo>
                <a:lnTo>
                  <a:pt x="289" y="48"/>
                </a:lnTo>
                <a:lnTo>
                  <a:pt x="277" y="44"/>
                </a:lnTo>
                <a:lnTo>
                  <a:pt x="265" y="40"/>
                </a:lnTo>
                <a:lnTo>
                  <a:pt x="252" y="36"/>
                </a:lnTo>
                <a:lnTo>
                  <a:pt x="238" y="32"/>
                </a:lnTo>
                <a:lnTo>
                  <a:pt x="224" y="29"/>
                </a:lnTo>
                <a:lnTo>
                  <a:pt x="210" y="26"/>
                </a:lnTo>
                <a:lnTo>
                  <a:pt x="196" y="25"/>
                </a:lnTo>
                <a:lnTo>
                  <a:pt x="181" y="24"/>
                </a:lnTo>
                <a:lnTo>
                  <a:pt x="166" y="24"/>
                </a:lnTo>
                <a:lnTo>
                  <a:pt x="151" y="25"/>
                </a:lnTo>
                <a:lnTo>
                  <a:pt x="135" y="27"/>
                </a:lnTo>
                <a:lnTo>
                  <a:pt x="119" y="30"/>
                </a:lnTo>
                <a:lnTo>
                  <a:pt x="103" y="33"/>
                </a:lnTo>
                <a:lnTo>
                  <a:pt x="86" y="38"/>
                </a:lnTo>
                <a:lnTo>
                  <a:pt x="70" y="43"/>
                </a:lnTo>
                <a:lnTo>
                  <a:pt x="53" y="49"/>
                </a:lnTo>
                <a:lnTo>
                  <a:pt x="35" y="56"/>
                </a:lnTo>
                <a:lnTo>
                  <a:pt x="18" y="63"/>
                </a:lnTo>
                <a:lnTo>
                  <a:pt x="0" y="72"/>
                </a:lnTo>
              </a:path>
            </a:pathLst>
          </a:custGeom>
          <a:solidFill>
            <a:srgbClr val="f3f7ff"/>
          </a:solidFill>
          <a:ln w="6480">
            <a:solidFill>
              <a:srgbClr val="1f5f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23" name=""/>
          <p:cNvSpPr/>
          <p:nvPr/>
        </p:nvSpPr>
        <p:spPr>
          <a:xfrm>
            <a:off x="3770280" y="4470480"/>
            <a:ext cx="459000" cy="533160"/>
          </a:xfrm>
          <a:custGeom>
            <a:avLst/>
            <a:gdLst/>
            <a:ahLst/>
            <a:rect l="l" t="t" r="r" b="b"/>
            <a:pathLst>
              <a:path w="289" h="505">
                <a:moveTo>
                  <a:pt x="216" y="504"/>
                </a:moveTo>
                <a:lnTo>
                  <a:pt x="207" y="486"/>
                </a:lnTo>
                <a:lnTo>
                  <a:pt x="200" y="469"/>
                </a:lnTo>
                <a:lnTo>
                  <a:pt x="193" y="451"/>
                </a:lnTo>
                <a:lnTo>
                  <a:pt x="187" y="434"/>
                </a:lnTo>
                <a:lnTo>
                  <a:pt x="182" y="418"/>
                </a:lnTo>
                <a:lnTo>
                  <a:pt x="177" y="401"/>
                </a:lnTo>
                <a:lnTo>
                  <a:pt x="174" y="385"/>
                </a:lnTo>
                <a:lnTo>
                  <a:pt x="171" y="369"/>
                </a:lnTo>
                <a:lnTo>
                  <a:pt x="169" y="353"/>
                </a:lnTo>
                <a:lnTo>
                  <a:pt x="168" y="338"/>
                </a:lnTo>
                <a:lnTo>
                  <a:pt x="168" y="323"/>
                </a:lnTo>
                <a:lnTo>
                  <a:pt x="169" y="308"/>
                </a:lnTo>
                <a:lnTo>
                  <a:pt x="170" y="294"/>
                </a:lnTo>
                <a:lnTo>
                  <a:pt x="173" y="280"/>
                </a:lnTo>
                <a:lnTo>
                  <a:pt x="176" y="266"/>
                </a:lnTo>
                <a:lnTo>
                  <a:pt x="180" y="252"/>
                </a:lnTo>
                <a:lnTo>
                  <a:pt x="184" y="239"/>
                </a:lnTo>
                <a:lnTo>
                  <a:pt x="188" y="227"/>
                </a:lnTo>
                <a:lnTo>
                  <a:pt x="192" y="215"/>
                </a:lnTo>
                <a:lnTo>
                  <a:pt x="196" y="205"/>
                </a:lnTo>
                <a:lnTo>
                  <a:pt x="199" y="195"/>
                </a:lnTo>
                <a:lnTo>
                  <a:pt x="202" y="186"/>
                </a:lnTo>
                <a:lnTo>
                  <a:pt x="205" y="178"/>
                </a:lnTo>
                <a:lnTo>
                  <a:pt x="207" y="171"/>
                </a:lnTo>
                <a:lnTo>
                  <a:pt x="209" y="165"/>
                </a:lnTo>
                <a:lnTo>
                  <a:pt x="211" y="159"/>
                </a:lnTo>
                <a:lnTo>
                  <a:pt x="212" y="155"/>
                </a:lnTo>
                <a:lnTo>
                  <a:pt x="214" y="151"/>
                </a:lnTo>
                <a:lnTo>
                  <a:pt x="215" y="148"/>
                </a:lnTo>
                <a:lnTo>
                  <a:pt x="215" y="146"/>
                </a:lnTo>
                <a:lnTo>
                  <a:pt x="216" y="144"/>
                </a:lnTo>
                <a:lnTo>
                  <a:pt x="216" y="144"/>
                </a:lnTo>
                <a:lnTo>
                  <a:pt x="216" y="144"/>
                </a:lnTo>
                <a:lnTo>
                  <a:pt x="217" y="144"/>
                </a:lnTo>
                <a:lnTo>
                  <a:pt x="217" y="144"/>
                </a:lnTo>
                <a:lnTo>
                  <a:pt x="218" y="144"/>
                </a:lnTo>
                <a:lnTo>
                  <a:pt x="220" y="144"/>
                </a:lnTo>
                <a:lnTo>
                  <a:pt x="221" y="144"/>
                </a:lnTo>
                <a:lnTo>
                  <a:pt x="223" y="144"/>
                </a:lnTo>
                <a:lnTo>
                  <a:pt x="225" y="144"/>
                </a:lnTo>
                <a:lnTo>
                  <a:pt x="227" y="144"/>
                </a:lnTo>
                <a:lnTo>
                  <a:pt x="230" y="144"/>
                </a:lnTo>
                <a:lnTo>
                  <a:pt x="233" y="144"/>
                </a:lnTo>
                <a:lnTo>
                  <a:pt x="236" y="144"/>
                </a:lnTo>
                <a:lnTo>
                  <a:pt x="240" y="144"/>
                </a:lnTo>
                <a:lnTo>
                  <a:pt x="244" y="144"/>
                </a:lnTo>
                <a:lnTo>
                  <a:pt x="248" y="144"/>
                </a:lnTo>
                <a:lnTo>
                  <a:pt x="252" y="144"/>
                </a:lnTo>
                <a:lnTo>
                  <a:pt x="256" y="144"/>
                </a:lnTo>
                <a:lnTo>
                  <a:pt x="260" y="144"/>
                </a:lnTo>
                <a:lnTo>
                  <a:pt x="264" y="144"/>
                </a:lnTo>
                <a:lnTo>
                  <a:pt x="268" y="144"/>
                </a:lnTo>
                <a:lnTo>
                  <a:pt x="271" y="144"/>
                </a:lnTo>
                <a:lnTo>
                  <a:pt x="274" y="144"/>
                </a:lnTo>
                <a:lnTo>
                  <a:pt x="277" y="144"/>
                </a:lnTo>
                <a:lnTo>
                  <a:pt x="279" y="144"/>
                </a:lnTo>
                <a:lnTo>
                  <a:pt x="281" y="144"/>
                </a:lnTo>
                <a:lnTo>
                  <a:pt x="283" y="144"/>
                </a:lnTo>
                <a:lnTo>
                  <a:pt x="284" y="144"/>
                </a:lnTo>
                <a:lnTo>
                  <a:pt x="286" y="144"/>
                </a:lnTo>
                <a:lnTo>
                  <a:pt x="287" y="144"/>
                </a:lnTo>
                <a:lnTo>
                  <a:pt x="287" y="144"/>
                </a:lnTo>
                <a:lnTo>
                  <a:pt x="288" y="144"/>
                </a:lnTo>
                <a:lnTo>
                  <a:pt x="288" y="144"/>
                </a:lnTo>
                <a:lnTo>
                  <a:pt x="288" y="144"/>
                </a:lnTo>
                <a:lnTo>
                  <a:pt x="287" y="143"/>
                </a:lnTo>
                <a:lnTo>
                  <a:pt x="285" y="141"/>
                </a:lnTo>
                <a:lnTo>
                  <a:pt x="284" y="139"/>
                </a:lnTo>
                <a:lnTo>
                  <a:pt x="281" y="137"/>
                </a:lnTo>
                <a:lnTo>
                  <a:pt x="278" y="134"/>
                </a:lnTo>
                <a:lnTo>
                  <a:pt x="274" y="130"/>
                </a:lnTo>
                <a:lnTo>
                  <a:pt x="270" y="126"/>
                </a:lnTo>
                <a:lnTo>
                  <a:pt x="265" y="121"/>
                </a:lnTo>
                <a:lnTo>
                  <a:pt x="260" y="116"/>
                </a:lnTo>
                <a:lnTo>
                  <a:pt x="254" y="110"/>
                </a:lnTo>
                <a:lnTo>
                  <a:pt x="248" y="103"/>
                </a:lnTo>
                <a:lnTo>
                  <a:pt x="240" y="96"/>
                </a:lnTo>
                <a:lnTo>
                  <a:pt x="233" y="89"/>
                </a:lnTo>
                <a:lnTo>
                  <a:pt x="225" y="81"/>
                </a:lnTo>
                <a:lnTo>
                  <a:pt x="216" y="72"/>
                </a:lnTo>
                <a:lnTo>
                  <a:pt x="207" y="63"/>
                </a:lnTo>
                <a:lnTo>
                  <a:pt x="199" y="55"/>
                </a:lnTo>
                <a:lnTo>
                  <a:pt x="192" y="48"/>
                </a:lnTo>
                <a:lnTo>
                  <a:pt x="185" y="40"/>
                </a:lnTo>
                <a:lnTo>
                  <a:pt x="178" y="34"/>
                </a:lnTo>
                <a:lnTo>
                  <a:pt x="172" y="28"/>
                </a:lnTo>
                <a:lnTo>
                  <a:pt x="167" y="23"/>
                </a:lnTo>
                <a:lnTo>
                  <a:pt x="162" y="18"/>
                </a:lnTo>
                <a:lnTo>
                  <a:pt x="158" y="14"/>
                </a:lnTo>
                <a:lnTo>
                  <a:pt x="154" y="10"/>
                </a:lnTo>
                <a:lnTo>
                  <a:pt x="151" y="7"/>
                </a:lnTo>
                <a:lnTo>
                  <a:pt x="149" y="4"/>
                </a:lnTo>
                <a:lnTo>
                  <a:pt x="147" y="3"/>
                </a:lnTo>
                <a:lnTo>
                  <a:pt x="145" y="1"/>
                </a:lnTo>
                <a:lnTo>
                  <a:pt x="144" y="0"/>
                </a:lnTo>
                <a:lnTo>
                  <a:pt x="144" y="0"/>
                </a:lnTo>
                <a:lnTo>
                  <a:pt x="144" y="0"/>
                </a:lnTo>
                <a:lnTo>
                  <a:pt x="143" y="1"/>
                </a:lnTo>
                <a:lnTo>
                  <a:pt x="141" y="3"/>
                </a:lnTo>
                <a:lnTo>
                  <a:pt x="140" y="4"/>
                </a:lnTo>
                <a:lnTo>
                  <a:pt x="137" y="7"/>
                </a:lnTo>
                <a:lnTo>
                  <a:pt x="134" y="10"/>
                </a:lnTo>
                <a:lnTo>
                  <a:pt x="130" y="14"/>
                </a:lnTo>
                <a:lnTo>
                  <a:pt x="126" y="18"/>
                </a:lnTo>
                <a:lnTo>
                  <a:pt x="121" y="23"/>
                </a:lnTo>
                <a:lnTo>
                  <a:pt x="116" y="28"/>
                </a:lnTo>
                <a:lnTo>
                  <a:pt x="110" y="34"/>
                </a:lnTo>
                <a:lnTo>
                  <a:pt x="104" y="40"/>
                </a:lnTo>
                <a:lnTo>
                  <a:pt x="96" y="48"/>
                </a:lnTo>
                <a:lnTo>
                  <a:pt x="89" y="55"/>
                </a:lnTo>
                <a:lnTo>
                  <a:pt x="81" y="63"/>
                </a:lnTo>
                <a:lnTo>
                  <a:pt x="72" y="72"/>
                </a:lnTo>
                <a:lnTo>
                  <a:pt x="63" y="81"/>
                </a:lnTo>
                <a:lnTo>
                  <a:pt x="55" y="89"/>
                </a:lnTo>
                <a:lnTo>
                  <a:pt x="48" y="96"/>
                </a:lnTo>
                <a:lnTo>
                  <a:pt x="41" y="103"/>
                </a:lnTo>
                <a:lnTo>
                  <a:pt x="34" y="110"/>
                </a:lnTo>
                <a:lnTo>
                  <a:pt x="28" y="116"/>
                </a:lnTo>
                <a:lnTo>
                  <a:pt x="23" y="121"/>
                </a:lnTo>
                <a:lnTo>
                  <a:pt x="18" y="126"/>
                </a:lnTo>
                <a:lnTo>
                  <a:pt x="14" y="130"/>
                </a:lnTo>
                <a:lnTo>
                  <a:pt x="10" y="134"/>
                </a:lnTo>
                <a:lnTo>
                  <a:pt x="7" y="137"/>
                </a:lnTo>
                <a:lnTo>
                  <a:pt x="5" y="139"/>
                </a:lnTo>
                <a:lnTo>
                  <a:pt x="3" y="141"/>
                </a:lnTo>
                <a:lnTo>
                  <a:pt x="1" y="143"/>
                </a:lnTo>
                <a:lnTo>
                  <a:pt x="0" y="144"/>
                </a:lnTo>
                <a:lnTo>
                  <a:pt x="0" y="144"/>
                </a:lnTo>
                <a:lnTo>
                  <a:pt x="0" y="144"/>
                </a:lnTo>
                <a:lnTo>
                  <a:pt x="1" y="144"/>
                </a:lnTo>
                <a:lnTo>
                  <a:pt x="1" y="144"/>
                </a:lnTo>
                <a:lnTo>
                  <a:pt x="2" y="144"/>
                </a:lnTo>
                <a:lnTo>
                  <a:pt x="4" y="144"/>
                </a:lnTo>
                <a:lnTo>
                  <a:pt x="5" y="144"/>
                </a:lnTo>
                <a:lnTo>
                  <a:pt x="7" y="144"/>
                </a:lnTo>
                <a:lnTo>
                  <a:pt x="9" y="144"/>
                </a:lnTo>
                <a:lnTo>
                  <a:pt x="11" y="144"/>
                </a:lnTo>
                <a:lnTo>
                  <a:pt x="14" y="144"/>
                </a:lnTo>
                <a:lnTo>
                  <a:pt x="17" y="144"/>
                </a:lnTo>
                <a:lnTo>
                  <a:pt x="20" y="144"/>
                </a:lnTo>
                <a:lnTo>
                  <a:pt x="24" y="144"/>
                </a:lnTo>
                <a:lnTo>
                  <a:pt x="28" y="144"/>
                </a:lnTo>
                <a:lnTo>
                  <a:pt x="32" y="144"/>
                </a:lnTo>
                <a:lnTo>
                  <a:pt x="36" y="144"/>
                </a:lnTo>
                <a:lnTo>
                  <a:pt x="40" y="144"/>
                </a:lnTo>
                <a:lnTo>
                  <a:pt x="44" y="144"/>
                </a:lnTo>
                <a:lnTo>
                  <a:pt x="48" y="144"/>
                </a:lnTo>
                <a:lnTo>
                  <a:pt x="52" y="144"/>
                </a:lnTo>
                <a:lnTo>
                  <a:pt x="55" y="144"/>
                </a:lnTo>
                <a:lnTo>
                  <a:pt x="58" y="144"/>
                </a:lnTo>
                <a:lnTo>
                  <a:pt x="61" y="144"/>
                </a:lnTo>
                <a:lnTo>
                  <a:pt x="63" y="144"/>
                </a:lnTo>
                <a:lnTo>
                  <a:pt x="65" y="144"/>
                </a:lnTo>
                <a:lnTo>
                  <a:pt x="67" y="144"/>
                </a:lnTo>
                <a:lnTo>
                  <a:pt x="68" y="144"/>
                </a:lnTo>
                <a:lnTo>
                  <a:pt x="70" y="144"/>
                </a:lnTo>
                <a:lnTo>
                  <a:pt x="71" y="144"/>
                </a:lnTo>
                <a:lnTo>
                  <a:pt x="71" y="144"/>
                </a:lnTo>
                <a:lnTo>
                  <a:pt x="72" y="144"/>
                </a:lnTo>
                <a:lnTo>
                  <a:pt x="72" y="144"/>
                </a:lnTo>
                <a:lnTo>
                  <a:pt x="72" y="144"/>
                </a:lnTo>
                <a:lnTo>
                  <a:pt x="71" y="146"/>
                </a:lnTo>
                <a:lnTo>
                  <a:pt x="71" y="148"/>
                </a:lnTo>
                <a:lnTo>
                  <a:pt x="70" y="151"/>
                </a:lnTo>
                <a:lnTo>
                  <a:pt x="68" y="155"/>
                </a:lnTo>
                <a:lnTo>
                  <a:pt x="67" y="159"/>
                </a:lnTo>
                <a:lnTo>
                  <a:pt x="65" y="165"/>
                </a:lnTo>
                <a:lnTo>
                  <a:pt x="63" y="171"/>
                </a:lnTo>
                <a:lnTo>
                  <a:pt x="61" y="178"/>
                </a:lnTo>
                <a:lnTo>
                  <a:pt x="58" y="186"/>
                </a:lnTo>
                <a:lnTo>
                  <a:pt x="55" y="195"/>
                </a:lnTo>
                <a:lnTo>
                  <a:pt x="52" y="205"/>
                </a:lnTo>
                <a:lnTo>
                  <a:pt x="48" y="215"/>
                </a:lnTo>
                <a:lnTo>
                  <a:pt x="44" y="227"/>
                </a:lnTo>
                <a:lnTo>
                  <a:pt x="40" y="239"/>
                </a:lnTo>
                <a:lnTo>
                  <a:pt x="36" y="252"/>
                </a:lnTo>
                <a:lnTo>
                  <a:pt x="32" y="266"/>
                </a:lnTo>
                <a:lnTo>
                  <a:pt x="29" y="280"/>
                </a:lnTo>
                <a:lnTo>
                  <a:pt x="26" y="294"/>
                </a:lnTo>
                <a:lnTo>
                  <a:pt x="25" y="308"/>
                </a:lnTo>
                <a:lnTo>
                  <a:pt x="24" y="323"/>
                </a:lnTo>
                <a:lnTo>
                  <a:pt x="24" y="338"/>
                </a:lnTo>
                <a:lnTo>
                  <a:pt x="25" y="353"/>
                </a:lnTo>
                <a:lnTo>
                  <a:pt x="27" y="369"/>
                </a:lnTo>
                <a:lnTo>
                  <a:pt x="30" y="385"/>
                </a:lnTo>
                <a:lnTo>
                  <a:pt x="33" y="401"/>
                </a:lnTo>
                <a:lnTo>
                  <a:pt x="38" y="418"/>
                </a:lnTo>
                <a:lnTo>
                  <a:pt x="43" y="434"/>
                </a:lnTo>
                <a:lnTo>
                  <a:pt x="49" y="451"/>
                </a:lnTo>
                <a:lnTo>
                  <a:pt x="56" y="469"/>
                </a:lnTo>
                <a:lnTo>
                  <a:pt x="63" y="486"/>
                </a:lnTo>
                <a:lnTo>
                  <a:pt x="72" y="504"/>
                </a:lnTo>
              </a:path>
            </a:pathLst>
          </a:custGeom>
          <a:solidFill>
            <a:srgbClr val="f3f7ff"/>
          </a:solidFill>
          <a:ln w="6480">
            <a:solidFill>
              <a:srgbClr val="1f5f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24" name=""/>
          <p:cNvSpPr/>
          <p:nvPr/>
        </p:nvSpPr>
        <p:spPr>
          <a:xfrm rot="10800000">
            <a:off x="6400440" y="2133360"/>
            <a:ext cx="2133720" cy="2438280"/>
          </a:xfrm>
          <a:custGeom>
            <a:avLst/>
            <a:gdLst/>
            <a:ahLst/>
            <a:rect l="l" t="t" r="r" b="b"/>
            <a:pathLst>
              <a:path w="1945" h="1297">
                <a:moveTo>
                  <a:pt x="0" y="72"/>
                </a:moveTo>
                <a:lnTo>
                  <a:pt x="218" y="72"/>
                </a:lnTo>
                <a:lnTo>
                  <a:pt x="422" y="72"/>
                </a:lnTo>
                <a:lnTo>
                  <a:pt x="612" y="72"/>
                </a:lnTo>
                <a:lnTo>
                  <a:pt x="788" y="72"/>
                </a:lnTo>
                <a:lnTo>
                  <a:pt x="949" y="72"/>
                </a:lnTo>
                <a:lnTo>
                  <a:pt x="1097" y="72"/>
                </a:lnTo>
                <a:lnTo>
                  <a:pt x="1230" y="72"/>
                </a:lnTo>
                <a:lnTo>
                  <a:pt x="1350" y="72"/>
                </a:lnTo>
                <a:lnTo>
                  <a:pt x="1455" y="72"/>
                </a:lnTo>
                <a:lnTo>
                  <a:pt x="1547" y="72"/>
                </a:lnTo>
                <a:lnTo>
                  <a:pt x="1624" y="72"/>
                </a:lnTo>
                <a:lnTo>
                  <a:pt x="1688" y="72"/>
                </a:lnTo>
                <a:lnTo>
                  <a:pt x="1737" y="72"/>
                </a:lnTo>
                <a:lnTo>
                  <a:pt x="1772" y="72"/>
                </a:lnTo>
                <a:lnTo>
                  <a:pt x="1793" y="72"/>
                </a:lnTo>
                <a:lnTo>
                  <a:pt x="1800" y="72"/>
                </a:lnTo>
                <a:lnTo>
                  <a:pt x="1800" y="72"/>
                </a:lnTo>
                <a:lnTo>
                  <a:pt x="1800" y="71"/>
                </a:lnTo>
                <a:lnTo>
                  <a:pt x="1800" y="71"/>
                </a:lnTo>
                <a:lnTo>
                  <a:pt x="1800" y="70"/>
                </a:lnTo>
                <a:lnTo>
                  <a:pt x="1800" y="68"/>
                </a:lnTo>
                <a:lnTo>
                  <a:pt x="1800" y="67"/>
                </a:lnTo>
                <a:lnTo>
                  <a:pt x="1800" y="65"/>
                </a:lnTo>
                <a:lnTo>
                  <a:pt x="1800" y="63"/>
                </a:lnTo>
                <a:lnTo>
                  <a:pt x="1800" y="61"/>
                </a:lnTo>
                <a:lnTo>
                  <a:pt x="1800" y="58"/>
                </a:lnTo>
                <a:lnTo>
                  <a:pt x="1800" y="55"/>
                </a:lnTo>
                <a:lnTo>
                  <a:pt x="1800" y="52"/>
                </a:lnTo>
                <a:lnTo>
                  <a:pt x="1800" y="48"/>
                </a:lnTo>
                <a:lnTo>
                  <a:pt x="1800" y="44"/>
                </a:lnTo>
                <a:lnTo>
                  <a:pt x="1800" y="40"/>
                </a:lnTo>
                <a:lnTo>
                  <a:pt x="1800" y="36"/>
                </a:lnTo>
                <a:lnTo>
                  <a:pt x="1800" y="32"/>
                </a:lnTo>
                <a:lnTo>
                  <a:pt x="1800" y="28"/>
                </a:lnTo>
                <a:lnTo>
                  <a:pt x="1800" y="24"/>
                </a:lnTo>
                <a:lnTo>
                  <a:pt x="1800" y="20"/>
                </a:lnTo>
                <a:lnTo>
                  <a:pt x="1800" y="17"/>
                </a:lnTo>
                <a:lnTo>
                  <a:pt x="1800" y="14"/>
                </a:lnTo>
                <a:lnTo>
                  <a:pt x="1800" y="11"/>
                </a:lnTo>
                <a:lnTo>
                  <a:pt x="1800" y="9"/>
                </a:lnTo>
                <a:lnTo>
                  <a:pt x="1800" y="7"/>
                </a:lnTo>
                <a:lnTo>
                  <a:pt x="1800" y="5"/>
                </a:lnTo>
                <a:lnTo>
                  <a:pt x="1800" y="4"/>
                </a:lnTo>
                <a:lnTo>
                  <a:pt x="1800" y="2"/>
                </a:lnTo>
                <a:lnTo>
                  <a:pt x="1800" y="1"/>
                </a:lnTo>
                <a:lnTo>
                  <a:pt x="1800" y="1"/>
                </a:lnTo>
                <a:lnTo>
                  <a:pt x="1800" y="0"/>
                </a:lnTo>
                <a:lnTo>
                  <a:pt x="1800" y="0"/>
                </a:lnTo>
                <a:lnTo>
                  <a:pt x="1800" y="0"/>
                </a:lnTo>
                <a:lnTo>
                  <a:pt x="1801" y="1"/>
                </a:lnTo>
                <a:lnTo>
                  <a:pt x="1803" y="3"/>
                </a:lnTo>
                <a:lnTo>
                  <a:pt x="1805" y="5"/>
                </a:lnTo>
                <a:lnTo>
                  <a:pt x="1807" y="7"/>
                </a:lnTo>
                <a:lnTo>
                  <a:pt x="1810" y="10"/>
                </a:lnTo>
                <a:lnTo>
                  <a:pt x="1814" y="14"/>
                </a:lnTo>
                <a:lnTo>
                  <a:pt x="1818" y="18"/>
                </a:lnTo>
                <a:lnTo>
                  <a:pt x="1823" y="23"/>
                </a:lnTo>
                <a:lnTo>
                  <a:pt x="1828" y="28"/>
                </a:lnTo>
                <a:lnTo>
                  <a:pt x="1834" y="34"/>
                </a:lnTo>
                <a:lnTo>
                  <a:pt x="1841" y="41"/>
                </a:lnTo>
                <a:lnTo>
                  <a:pt x="1848" y="48"/>
                </a:lnTo>
                <a:lnTo>
                  <a:pt x="1855" y="55"/>
                </a:lnTo>
                <a:lnTo>
                  <a:pt x="1863" y="63"/>
                </a:lnTo>
                <a:lnTo>
                  <a:pt x="1872" y="72"/>
                </a:lnTo>
                <a:lnTo>
                  <a:pt x="1881" y="81"/>
                </a:lnTo>
                <a:lnTo>
                  <a:pt x="1889" y="89"/>
                </a:lnTo>
                <a:lnTo>
                  <a:pt x="1896" y="96"/>
                </a:lnTo>
                <a:lnTo>
                  <a:pt x="1904" y="104"/>
                </a:lnTo>
                <a:lnTo>
                  <a:pt x="1910" y="110"/>
                </a:lnTo>
                <a:lnTo>
                  <a:pt x="1916" y="116"/>
                </a:lnTo>
                <a:lnTo>
                  <a:pt x="1921" y="121"/>
                </a:lnTo>
                <a:lnTo>
                  <a:pt x="1926" y="126"/>
                </a:lnTo>
                <a:lnTo>
                  <a:pt x="1930" y="130"/>
                </a:lnTo>
                <a:lnTo>
                  <a:pt x="1934" y="134"/>
                </a:lnTo>
                <a:lnTo>
                  <a:pt x="1937" y="137"/>
                </a:lnTo>
                <a:lnTo>
                  <a:pt x="1940" y="140"/>
                </a:lnTo>
                <a:lnTo>
                  <a:pt x="1941" y="141"/>
                </a:lnTo>
                <a:lnTo>
                  <a:pt x="1943" y="143"/>
                </a:lnTo>
                <a:lnTo>
                  <a:pt x="1944" y="144"/>
                </a:lnTo>
                <a:lnTo>
                  <a:pt x="1944" y="144"/>
                </a:lnTo>
                <a:lnTo>
                  <a:pt x="1944" y="144"/>
                </a:lnTo>
                <a:lnTo>
                  <a:pt x="1943" y="145"/>
                </a:lnTo>
                <a:lnTo>
                  <a:pt x="1941" y="147"/>
                </a:lnTo>
                <a:lnTo>
                  <a:pt x="1940" y="149"/>
                </a:lnTo>
                <a:lnTo>
                  <a:pt x="1937" y="151"/>
                </a:lnTo>
                <a:lnTo>
                  <a:pt x="1934" y="154"/>
                </a:lnTo>
                <a:lnTo>
                  <a:pt x="1930" y="158"/>
                </a:lnTo>
                <a:lnTo>
                  <a:pt x="1926" y="162"/>
                </a:lnTo>
                <a:lnTo>
                  <a:pt x="1921" y="167"/>
                </a:lnTo>
                <a:lnTo>
                  <a:pt x="1916" y="172"/>
                </a:lnTo>
                <a:lnTo>
                  <a:pt x="1910" y="178"/>
                </a:lnTo>
                <a:lnTo>
                  <a:pt x="1904" y="185"/>
                </a:lnTo>
                <a:lnTo>
                  <a:pt x="1896" y="192"/>
                </a:lnTo>
                <a:lnTo>
                  <a:pt x="1889" y="199"/>
                </a:lnTo>
                <a:lnTo>
                  <a:pt x="1881" y="207"/>
                </a:lnTo>
                <a:lnTo>
                  <a:pt x="1872" y="216"/>
                </a:lnTo>
                <a:lnTo>
                  <a:pt x="1863" y="225"/>
                </a:lnTo>
                <a:lnTo>
                  <a:pt x="1855" y="233"/>
                </a:lnTo>
                <a:lnTo>
                  <a:pt x="1848" y="240"/>
                </a:lnTo>
                <a:lnTo>
                  <a:pt x="1841" y="247"/>
                </a:lnTo>
                <a:lnTo>
                  <a:pt x="1834" y="254"/>
                </a:lnTo>
                <a:lnTo>
                  <a:pt x="1828" y="260"/>
                </a:lnTo>
                <a:lnTo>
                  <a:pt x="1823" y="265"/>
                </a:lnTo>
                <a:lnTo>
                  <a:pt x="1818" y="270"/>
                </a:lnTo>
                <a:lnTo>
                  <a:pt x="1814" y="274"/>
                </a:lnTo>
                <a:lnTo>
                  <a:pt x="1810" y="278"/>
                </a:lnTo>
                <a:lnTo>
                  <a:pt x="1807" y="281"/>
                </a:lnTo>
                <a:lnTo>
                  <a:pt x="1805" y="283"/>
                </a:lnTo>
                <a:lnTo>
                  <a:pt x="1803" y="285"/>
                </a:lnTo>
                <a:lnTo>
                  <a:pt x="1801" y="287"/>
                </a:lnTo>
                <a:lnTo>
                  <a:pt x="1800" y="288"/>
                </a:lnTo>
                <a:lnTo>
                  <a:pt x="1800" y="288"/>
                </a:lnTo>
                <a:lnTo>
                  <a:pt x="1800" y="288"/>
                </a:lnTo>
                <a:lnTo>
                  <a:pt x="1800" y="287"/>
                </a:lnTo>
                <a:lnTo>
                  <a:pt x="1800" y="287"/>
                </a:lnTo>
                <a:lnTo>
                  <a:pt x="1800" y="286"/>
                </a:lnTo>
                <a:lnTo>
                  <a:pt x="1800" y="284"/>
                </a:lnTo>
                <a:lnTo>
                  <a:pt x="1800" y="283"/>
                </a:lnTo>
                <a:lnTo>
                  <a:pt x="1800" y="281"/>
                </a:lnTo>
                <a:lnTo>
                  <a:pt x="1800" y="279"/>
                </a:lnTo>
                <a:lnTo>
                  <a:pt x="1800" y="277"/>
                </a:lnTo>
                <a:lnTo>
                  <a:pt x="1800" y="274"/>
                </a:lnTo>
                <a:lnTo>
                  <a:pt x="1800" y="271"/>
                </a:lnTo>
                <a:lnTo>
                  <a:pt x="1800" y="268"/>
                </a:lnTo>
                <a:lnTo>
                  <a:pt x="1800" y="264"/>
                </a:lnTo>
                <a:lnTo>
                  <a:pt x="1800" y="260"/>
                </a:lnTo>
                <a:lnTo>
                  <a:pt x="1800" y="256"/>
                </a:lnTo>
                <a:lnTo>
                  <a:pt x="1800" y="252"/>
                </a:lnTo>
                <a:lnTo>
                  <a:pt x="1800" y="248"/>
                </a:lnTo>
                <a:lnTo>
                  <a:pt x="1800" y="244"/>
                </a:lnTo>
                <a:lnTo>
                  <a:pt x="1800" y="240"/>
                </a:lnTo>
                <a:lnTo>
                  <a:pt x="1800" y="236"/>
                </a:lnTo>
                <a:lnTo>
                  <a:pt x="1800" y="233"/>
                </a:lnTo>
                <a:lnTo>
                  <a:pt x="1800" y="230"/>
                </a:lnTo>
                <a:lnTo>
                  <a:pt x="1800" y="227"/>
                </a:lnTo>
                <a:lnTo>
                  <a:pt x="1800" y="225"/>
                </a:lnTo>
                <a:lnTo>
                  <a:pt x="1800" y="223"/>
                </a:lnTo>
                <a:lnTo>
                  <a:pt x="1800" y="221"/>
                </a:lnTo>
                <a:lnTo>
                  <a:pt x="1800" y="220"/>
                </a:lnTo>
                <a:lnTo>
                  <a:pt x="1800" y="218"/>
                </a:lnTo>
                <a:lnTo>
                  <a:pt x="1800" y="217"/>
                </a:lnTo>
                <a:lnTo>
                  <a:pt x="1800" y="217"/>
                </a:lnTo>
                <a:lnTo>
                  <a:pt x="1800" y="216"/>
                </a:lnTo>
                <a:lnTo>
                  <a:pt x="1800" y="216"/>
                </a:lnTo>
                <a:lnTo>
                  <a:pt x="1799" y="216"/>
                </a:lnTo>
                <a:lnTo>
                  <a:pt x="1797" y="216"/>
                </a:lnTo>
                <a:lnTo>
                  <a:pt x="1794" y="216"/>
                </a:lnTo>
                <a:lnTo>
                  <a:pt x="1789" y="216"/>
                </a:lnTo>
                <a:lnTo>
                  <a:pt x="1782" y="216"/>
                </a:lnTo>
                <a:lnTo>
                  <a:pt x="1775" y="216"/>
                </a:lnTo>
                <a:lnTo>
                  <a:pt x="1766" y="216"/>
                </a:lnTo>
                <a:lnTo>
                  <a:pt x="1755" y="216"/>
                </a:lnTo>
                <a:lnTo>
                  <a:pt x="1743" y="216"/>
                </a:lnTo>
                <a:lnTo>
                  <a:pt x="1730" y="216"/>
                </a:lnTo>
                <a:lnTo>
                  <a:pt x="1715" y="216"/>
                </a:lnTo>
                <a:lnTo>
                  <a:pt x="1699" y="216"/>
                </a:lnTo>
                <a:lnTo>
                  <a:pt x="1681" y="216"/>
                </a:lnTo>
                <a:lnTo>
                  <a:pt x="1662" y="216"/>
                </a:lnTo>
                <a:lnTo>
                  <a:pt x="1642" y="216"/>
                </a:lnTo>
                <a:lnTo>
                  <a:pt x="1620" y="216"/>
                </a:lnTo>
                <a:lnTo>
                  <a:pt x="1598" y="217"/>
                </a:lnTo>
                <a:lnTo>
                  <a:pt x="1578" y="219"/>
                </a:lnTo>
                <a:lnTo>
                  <a:pt x="1559" y="224"/>
                </a:lnTo>
                <a:lnTo>
                  <a:pt x="1541" y="230"/>
                </a:lnTo>
                <a:lnTo>
                  <a:pt x="1525" y="237"/>
                </a:lnTo>
                <a:lnTo>
                  <a:pt x="1510" y="246"/>
                </a:lnTo>
                <a:lnTo>
                  <a:pt x="1497" y="257"/>
                </a:lnTo>
                <a:lnTo>
                  <a:pt x="1485" y="270"/>
                </a:lnTo>
                <a:lnTo>
                  <a:pt x="1474" y="284"/>
                </a:lnTo>
                <a:lnTo>
                  <a:pt x="1465" y="300"/>
                </a:lnTo>
                <a:lnTo>
                  <a:pt x="1458" y="318"/>
                </a:lnTo>
                <a:lnTo>
                  <a:pt x="1451" y="337"/>
                </a:lnTo>
                <a:lnTo>
                  <a:pt x="1446" y="359"/>
                </a:lnTo>
                <a:lnTo>
                  <a:pt x="1443" y="381"/>
                </a:lnTo>
                <a:lnTo>
                  <a:pt x="1441" y="406"/>
                </a:lnTo>
                <a:lnTo>
                  <a:pt x="1440" y="432"/>
                </a:lnTo>
                <a:lnTo>
                  <a:pt x="1440" y="459"/>
                </a:lnTo>
                <a:lnTo>
                  <a:pt x="1440" y="486"/>
                </a:lnTo>
                <a:lnTo>
                  <a:pt x="1440" y="513"/>
                </a:lnTo>
                <a:lnTo>
                  <a:pt x="1440" y="540"/>
                </a:lnTo>
                <a:lnTo>
                  <a:pt x="1440" y="567"/>
                </a:lnTo>
                <a:lnTo>
                  <a:pt x="1440" y="594"/>
                </a:lnTo>
                <a:lnTo>
                  <a:pt x="1440" y="621"/>
                </a:lnTo>
                <a:lnTo>
                  <a:pt x="1440" y="648"/>
                </a:lnTo>
                <a:lnTo>
                  <a:pt x="1440" y="675"/>
                </a:lnTo>
                <a:lnTo>
                  <a:pt x="1440" y="702"/>
                </a:lnTo>
                <a:lnTo>
                  <a:pt x="1440" y="729"/>
                </a:lnTo>
                <a:lnTo>
                  <a:pt x="1440" y="756"/>
                </a:lnTo>
                <a:lnTo>
                  <a:pt x="1440" y="783"/>
                </a:lnTo>
                <a:lnTo>
                  <a:pt x="1440" y="810"/>
                </a:lnTo>
                <a:lnTo>
                  <a:pt x="1440" y="837"/>
                </a:lnTo>
                <a:lnTo>
                  <a:pt x="1440" y="864"/>
                </a:lnTo>
                <a:lnTo>
                  <a:pt x="1441" y="890"/>
                </a:lnTo>
                <a:lnTo>
                  <a:pt x="1443" y="915"/>
                </a:lnTo>
                <a:lnTo>
                  <a:pt x="1446" y="937"/>
                </a:lnTo>
                <a:lnTo>
                  <a:pt x="1451" y="958"/>
                </a:lnTo>
                <a:lnTo>
                  <a:pt x="1458" y="978"/>
                </a:lnTo>
                <a:lnTo>
                  <a:pt x="1465" y="996"/>
                </a:lnTo>
                <a:lnTo>
                  <a:pt x="1474" y="1012"/>
                </a:lnTo>
                <a:lnTo>
                  <a:pt x="1485" y="1026"/>
                </a:lnTo>
                <a:lnTo>
                  <a:pt x="1497" y="1039"/>
                </a:lnTo>
                <a:lnTo>
                  <a:pt x="1510" y="1050"/>
                </a:lnTo>
                <a:lnTo>
                  <a:pt x="1525" y="1059"/>
                </a:lnTo>
                <a:lnTo>
                  <a:pt x="1541" y="1066"/>
                </a:lnTo>
                <a:lnTo>
                  <a:pt x="1559" y="1072"/>
                </a:lnTo>
                <a:lnTo>
                  <a:pt x="1578" y="1077"/>
                </a:lnTo>
                <a:lnTo>
                  <a:pt x="1598" y="1079"/>
                </a:lnTo>
                <a:lnTo>
                  <a:pt x="1620" y="1080"/>
                </a:lnTo>
                <a:lnTo>
                  <a:pt x="1642" y="1080"/>
                </a:lnTo>
                <a:lnTo>
                  <a:pt x="1662" y="1080"/>
                </a:lnTo>
                <a:lnTo>
                  <a:pt x="1681" y="1080"/>
                </a:lnTo>
                <a:lnTo>
                  <a:pt x="1699" y="1080"/>
                </a:lnTo>
                <a:lnTo>
                  <a:pt x="1715" y="1080"/>
                </a:lnTo>
                <a:lnTo>
                  <a:pt x="1730" y="1080"/>
                </a:lnTo>
                <a:lnTo>
                  <a:pt x="1743" y="1080"/>
                </a:lnTo>
                <a:lnTo>
                  <a:pt x="1755" y="1080"/>
                </a:lnTo>
                <a:lnTo>
                  <a:pt x="1766" y="1080"/>
                </a:lnTo>
                <a:lnTo>
                  <a:pt x="1775" y="1080"/>
                </a:lnTo>
                <a:lnTo>
                  <a:pt x="1782" y="1080"/>
                </a:lnTo>
                <a:lnTo>
                  <a:pt x="1789" y="1080"/>
                </a:lnTo>
                <a:lnTo>
                  <a:pt x="1794" y="1080"/>
                </a:lnTo>
                <a:lnTo>
                  <a:pt x="1797" y="1080"/>
                </a:lnTo>
                <a:lnTo>
                  <a:pt x="1799" y="1080"/>
                </a:lnTo>
                <a:lnTo>
                  <a:pt x="1800" y="1080"/>
                </a:lnTo>
                <a:lnTo>
                  <a:pt x="1800" y="1080"/>
                </a:lnTo>
                <a:lnTo>
                  <a:pt x="1800" y="1079"/>
                </a:lnTo>
                <a:lnTo>
                  <a:pt x="1800" y="1079"/>
                </a:lnTo>
                <a:lnTo>
                  <a:pt x="1800" y="1078"/>
                </a:lnTo>
                <a:lnTo>
                  <a:pt x="1800" y="1076"/>
                </a:lnTo>
                <a:lnTo>
                  <a:pt x="1800" y="1075"/>
                </a:lnTo>
                <a:lnTo>
                  <a:pt x="1800" y="1073"/>
                </a:lnTo>
                <a:lnTo>
                  <a:pt x="1800" y="1071"/>
                </a:lnTo>
                <a:lnTo>
                  <a:pt x="1800" y="1069"/>
                </a:lnTo>
                <a:lnTo>
                  <a:pt x="1800" y="1066"/>
                </a:lnTo>
                <a:lnTo>
                  <a:pt x="1800" y="1063"/>
                </a:lnTo>
                <a:lnTo>
                  <a:pt x="1800" y="1060"/>
                </a:lnTo>
                <a:lnTo>
                  <a:pt x="1800" y="1056"/>
                </a:lnTo>
                <a:lnTo>
                  <a:pt x="1800" y="1052"/>
                </a:lnTo>
                <a:lnTo>
                  <a:pt x="1800" y="1048"/>
                </a:lnTo>
                <a:lnTo>
                  <a:pt x="1800" y="1044"/>
                </a:lnTo>
                <a:lnTo>
                  <a:pt x="1800" y="1040"/>
                </a:lnTo>
                <a:lnTo>
                  <a:pt x="1800" y="1036"/>
                </a:lnTo>
                <a:lnTo>
                  <a:pt x="1800" y="1032"/>
                </a:lnTo>
                <a:lnTo>
                  <a:pt x="1800" y="1028"/>
                </a:lnTo>
                <a:lnTo>
                  <a:pt x="1800" y="1025"/>
                </a:lnTo>
                <a:lnTo>
                  <a:pt x="1800" y="1022"/>
                </a:lnTo>
                <a:lnTo>
                  <a:pt x="1800" y="1019"/>
                </a:lnTo>
                <a:lnTo>
                  <a:pt x="1800" y="1017"/>
                </a:lnTo>
                <a:lnTo>
                  <a:pt x="1800" y="1015"/>
                </a:lnTo>
                <a:lnTo>
                  <a:pt x="1800" y="1013"/>
                </a:lnTo>
                <a:lnTo>
                  <a:pt x="1800" y="1012"/>
                </a:lnTo>
                <a:lnTo>
                  <a:pt x="1800" y="1010"/>
                </a:lnTo>
                <a:lnTo>
                  <a:pt x="1800" y="1009"/>
                </a:lnTo>
                <a:lnTo>
                  <a:pt x="1800" y="1009"/>
                </a:lnTo>
                <a:lnTo>
                  <a:pt x="1800" y="1008"/>
                </a:lnTo>
                <a:lnTo>
                  <a:pt x="1800" y="1008"/>
                </a:lnTo>
                <a:lnTo>
                  <a:pt x="1800" y="1008"/>
                </a:lnTo>
                <a:lnTo>
                  <a:pt x="1801" y="1009"/>
                </a:lnTo>
                <a:lnTo>
                  <a:pt x="1803" y="1011"/>
                </a:lnTo>
                <a:lnTo>
                  <a:pt x="1805" y="1012"/>
                </a:lnTo>
                <a:lnTo>
                  <a:pt x="1807" y="1015"/>
                </a:lnTo>
                <a:lnTo>
                  <a:pt x="1810" y="1018"/>
                </a:lnTo>
                <a:lnTo>
                  <a:pt x="1814" y="1022"/>
                </a:lnTo>
                <a:lnTo>
                  <a:pt x="1818" y="1026"/>
                </a:lnTo>
                <a:lnTo>
                  <a:pt x="1823" y="1031"/>
                </a:lnTo>
                <a:lnTo>
                  <a:pt x="1828" y="1036"/>
                </a:lnTo>
                <a:lnTo>
                  <a:pt x="1834" y="1042"/>
                </a:lnTo>
                <a:lnTo>
                  <a:pt x="1841" y="1048"/>
                </a:lnTo>
                <a:lnTo>
                  <a:pt x="1848" y="1056"/>
                </a:lnTo>
                <a:lnTo>
                  <a:pt x="1855" y="1063"/>
                </a:lnTo>
                <a:lnTo>
                  <a:pt x="1863" y="1071"/>
                </a:lnTo>
                <a:lnTo>
                  <a:pt x="1872" y="1080"/>
                </a:lnTo>
                <a:lnTo>
                  <a:pt x="1881" y="1089"/>
                </a:lnTo>
                <a:lnTo>
                  <a:pt x="1889" y="1097"/>
                </a:lnTo>
                <a:lnTo>
                  <a:pt x="1896" y="1104"/>
                </a:lnTo>
                <a:lnTo>
                  <a:pt x="1904" y="1111"/>
                </a:lnTo>
                <a:lnTo>
                  <a:pt x="1910" y="1118"/>
                </a:lnTo>
                <a:lnTo>
                  <a:pt x="1916" y="1124"/>
                </a:lnTo>
                <a:lnTo>
                  <a:pt x="1921" y="1129"/>
                </a:lnTo>
                <a:lnTo>
                  <a:pt x="1926" y="1134"/>
                </a:lnTo>
                <a:lnTo>
                  <a:pt x="1930" y="1138"/>
                </a:lnTo>
                <a:lnTo>
                  <a:pt x="1934" y="1142"/>
                </a:lnTo>
                <a:lnTo>
                  <a:pt x="1937" y="1145"/>
                </a:lnTo>
                <a:lnTo>
                  <a:pt x="1940" y="1147"/>
                </a:lnTo>
                <a:lnTo>
                  <a:pt x="1941" y="1149"/>
                </a:lnTo>
                <a:lnTo>
                  <a:pt x="1943" y="1151"/>
                </a:lnTo>
                <a:lnTo>
                  <a:pt x="1944" y="1152"/>
                </a:lnTo>
                <a:lnTo>
                  <a:pt x="1944" y="1152"/>
                </a:lnTo>
                <a:lnTo>
                  <a:pt x="1944" y="1152"/>
                </a:lnTo>
                <a:lnTo>
                  <a:pt x="1943" y="1153"/>
                </a:lnTo>
                <a:lnTo>
                  <a:pt x="1941" y="1155"/>
                </a:lnTo>
                <a:lnTo>
                  <a:pt x="1940" y="1156"/>
                </a:lnTo>
                <a:lnTo>
                  <a:pt x="1937" y="1159"/>
                </a:lnTo>
                <a:lnTo>
                  <a:pt x="1934" y="1162"/>
                </a:lnTo>
                <a:lnTo>
                  <a:pt x="1930" y="1166"/>
                </a:lnTo>
                <a:lnTo>
                  <a:pt x="1926" y="1170"/>
                </a:lnTo>
                <a:lnTo>
                  <a:pt x="1921" y="1175"/>
                </a:lnTo>
                <a:lnTo>
                  <a:pt x="1916" y="1180"/>
                </a:lnTo>
                <a:lnTo>
                  <a:pt x="1910" y="1186"/>
                </a:lnTo>
                <a:lnTo>
                  <a:pt x="1904" y="1192"/>
                </a:lnTo>
                <a:lnTo>
                  <a:pt x="1896" y="1200"/>
                </a:lnTo>
                <a:lnTo>
                  <a:pt x="1889" y="1207"/>
                </a:lnTo>
                <a:lnTo>
                  <a:pt x="1881" y="1215"/>
                </a:lnTo>
                <a:lnTo>
                  <a:pt x="1872" y="1224"/>
                </a:lnTo>
                <a:lnTo>
                  <a:pt x="1863" y="1233"/>
                </a:lnTo>
                <a:lnTo>
                  <a:pt x="1855" y="1241"/>
                </a:lnTo>
                <a:lnTo>
                  <a:pt x="1848" y="1248"/>
                </a:lnTo>
                <a:lnTo>
                  <a:pt x="1841" y="1255"/>
                </a:lnTo>
                <a:lnTo>
                  <a:pt x="1834" y="1262"/>
                </a:lnTo>
                <a:lnTo>
                  <a:pt x="1828" y="1268"/>
                </a:lnTo>
                <a:lnTo>
                  <a:pt x="1823" y="1273"/>
                </a:lnTo>
                <a:lnTo>
                  <a:pt x="1818" y="1278"/>
                </a:lnTo>
                <a:lnTo>
                  <a:pt x="1814" y="1282"/>
                </a:lnTo>
                <a:lnTo>
                  <a:pt x="1810" y="1286"/>
                </a:lnTo>
                <a:lnTo>
                  <a:pt x="1807" y="1289"/>
                </a:lnTo>
                <a:lnTo>
                  <a:pt x="1805" y="1291"/>
                </a:lnTo>
                <a:lnTo>
                  <a:pt x="1803" y="1293"/>
                </a:lnTo>
                <a:lnTo>
                  <a:pt x="1801" y="1295"/>
                </a:lnTo>
                <a:lnTo>
                  <a:pt x="1800" y="1296"/>
                </a:lnTo>
                <a:lnTo>
                  <a:pt x="1800" y="1296"/>
                </a:lnTo>
                <a:lnTo>
                  <a:pt x="1800" y="1296"/>
                </a:lnTo>
                <a:lnTo>
                  <a:pt x="1800" y="1295"/>
                </a:lnTo>
                <a:lnTo>
                  <a:pt x="1800" y="1295"/>
                </a:lnTo>
                <a:lnTo>
                  <a:pt x="1800" y="1294"/>
                </a:lnTo>
                <a:lnTo>
                  <a:pt x="1800" y="1292"/>
                </a:lnTo>
                <a:lnTo>
                  <a:pt x="1800" y="1291"/>
                </a:lnTo>
                <a:lnTo>
                  <a:pt x="1800" y="1289"/>
                </a:lnTo>
                <a:lnTo>
                  <a:pt x="1800" y="1287"/>
                </a:lnTo>
                <a:lnTo>
                  <a:pt x="1800" y="1285"/>
                </a:lnTo>
                <a:lnTo>
                  <a:pt x="1800" y="1282"/>
                </a:lnTo>
                <a:lnTo>
                  <a:pt x="1800" y="1279"/>
                </a:lnTo>
                <a:lnTo>
                  <a:pt x="1800" y="1276"/>
                </a:lnTo>
                <a:lnTo>
                  <a:pt x="1800" y="1272"/>
                </a:lnTo>
                <a:lnTo>
                  <a:pt x="1800" y="1268"/>
                </a:lnTo>
                <a:lnTo>
                  <a:pt x="1800" y="1264"/>
                </a:lnTo>
                <a:lnTo>
                  <a:pt x="1800" y="1260"/>
                </a:lnTo>
                <a:lnTo>
                  <a:pt x="1800" y="1256"/>
                </a:lnTo>
                <a:lnTo>
                  <a:pt x="1800" y="1252"/>
                </a:lnTo>
                <a:lnTo>
                  <a:pt x="1800" y="1248"/>
                </a:lnTo>
                <a:lnTo>
                  <a:pt x="1800" y="1244"/>
                </a:lnTo>
                <a:lnTo>
                  <a:pt x="1800" y="1241"/>
                </a:lnTo>
                <a:lnTo>
                  <a:pt x="1800" y="1238"/>
                </a:lnTo>
                <a:lnTo>
                  <a:pt x="1800" y="1235"/>
                </a:lnTo>
                <a:lnTo>
                  <a:pt x="1800" y="1233"/>
                </a:lnTo>
                <a:lnTo>
                  <a:pt x="1800" y="1231"/>
                </a:lnTo>
                <a:lnTo>
                  <a:pt x="1800" y="1229"/>
                </a:lnTo>
                <a:lnTo>
                  <a:pt x="1800" y="1227"/>
                </a:lnTo>
                <a:lnTo>
                  <a:pt x="1800" y="1226"/>
                </a:lnTo>
                <a:lnTo>
                  <a:pt x="1800" y="1225"/>
                </a:lnTo>
                <a:lnTo>
                  <a:pt x="1800" y="1225"/>
                </a:lnTo>
                <a:lnTo>
                  <a:pt x="1800" y="1224"/>
                </a:lnTo>
                <a:lnTo>
                  <a:pt x="1800" y="1224"/>
                </a:lnTo>
                <a:lnTo>
                  <a:pt x="1799" y="1224"/>
                </a:lnTo>
                <a:lnTo>
                  <a:pt x="1797" y="1224"/>
                </a:lnTo>
                <a:lnTo>
                  <a:pt x="1792" y="1224"/>
                </a:lnTo>
                <a:lnTo>
                  <a:pt x="1787" y="1224"/>
                </a:lnTo>
                <a:lnTo>
                  <a:pt x="1779" y="1224"/>
                </a:lnTo>
                <a:lnTo>
                  <a:pt x="1770" y="1224"/>
                </a:lnTo>
                <a:lnTo>
                  <a:pt x="1759" y="1224"/>
                </a:lnTo>
                <a:lnTo>
                  <a:pt x="1746" y="1224"/>
                </a:lnTo>
                <a:lnTo>
                  <a:pt x="1732" y="1224"/>
                </a:lnTo>
                <a:lnTo>
                  <a:pt x="1716" y="1224"/>
                </a:lnTo>
                <a:lnTo>
                  <a:pt x="1698" y="1224"/>
                </a:lnTo>
                <a:lnTo>
                  <a:pt x="1679" y="1224"/>
                </a:lnTo>
                <a:lnTo>
                  <a:pt x="1657" y="1224"/>
                </a:lnTo>
                <a:lnTo>
                  <a:pt x="1635" y="1224"/>
                </a:lnTo>
                <a:lnTo>
                  <a:pt x="1610" y="1224"/>
                </a:lnTo>
                <a:lnTo>
                  <a:pt x="1584" y="1224"/>
                </a:lnTo>
                <a:lnTo>
                  <a:pt x="1557" y="1223"/>
                </a:lnTo>
                <a:lnTo>
                  <a:pt x="1532" y="1221"/>
                </a:lnTo>
                <a:lnTo>
                  <a:pt x="1507" y="1216"/>
                </a:lnTo>
                <a:lnTo>
                  <a:pt x="1483" y="1210"/>
                </a:lnTo>
                <a:lnTo>
                  <a:pt x="1460" y="1203"/>
                </a:lnTo>
                <a:lnTo>
                  <a:pt x="1437" y="1194"/>
                </a:lnTo>
                <a:lnTo>
                  <a:pt x="1416" y="1183"/>
                </a:lnTo>
                <a:lnTo>
                  <a:pt x="1395" y="1170"/>
                </a:lnTo>
                <a:lnTo>
                  <a:pt x="1375" y="1156"/>
                </a:lnTo>
                <a:lnTo>
                  <a:pt x="1356" y="1140"/>
                </a:lnTo>
                <a:lnTo>
                  <a:pt x="1338" y="1122"/>
                </a:lnTo>
                <a:lnTo>
                  <a:pt x="1321" y="1102"/>
                </a:lnTo>
                <a:lnTo>
                  <a:pt x="1304" y="1081"/>
                </a:lnTo>
                <a:lnTo>
                  <a:pt x="1289" y="1059"/>
                </a:lnTo>
                <a:lnTo>
                  <a:pt x="1274" y="1034"/>
                </a:lnTo>
                <a:lnTo>
                  <a:pt x="1260" y="1008"/>
                </a:lnTo>
                <a:lnTo>
                  <a:pt x="1247" y="982"/>
                </a:lnTo>
                <a:lnTo>
                  <a:pt x="1235" y="957"/>
                </a:lnTo>
                <a:lnTo>
                  <a:pt x="1223" y="935"/>
                </a:lnTo>
                <a:lnTo>
                  <a:pt x="1213" y="913"/>
                </a:lnTo>
                <a:lnTo>
                  <a:pt x="1203" y="894"/>
                </a:lnTo>
                <a:lnTo>
                  <a:pt x="1194" y="876"/>
                </a:lnTo>
                <a:lnTo>
                  <a:pt x="1186" y="860"/>
                </a:lnTo>
                <a:lnTo>
                  <a:pt x="1179" y="846"/>
                </a:lnTo>
                <a:lnTo>
                  <a:pt x="1173" y="833"/>
                </a:lnTo>
                <a:lnTo>
                  <a:pt x="1167" y="822"/>
                </a:lnTo>
                <a:lnTo>
                  <a:pt x="1163" y="813"/>
                </a:lnTo>
                <a:lnTo>
                  <a:pt x="1159" y="805"/>
                </a:lnTo>
                <a:lnTo>
                  <a:pt x="1156" y="800"/>
                </a:lnTo>
                <a:lnTo>
                  <a:pt x="1154" y="795"/>
                </a:lnTo>
                <a:lnTo>
                  <a:pt x="1152" y="793"/>
                </a:lnTo>
                <a:lnTo>
                  <a:pt x="1152" y="792"/>
                </a:lnTo>
                <a:lnTo>
                  <a:pt x="1150" y="792"/>
                </a:lnTo>
                <a:lnTo>
                  <a:pt x="1143" y="792"/>
                </a:lnTo>
                <a:lnTo>
                  <a:pt x="1132" y="792"/>
                </a:lnTo>
                <a:lnTo>
                  <a:pt x="1116" y="792"/>
                </a:lnTo>
                <a:lnTo>
                  <a:pt x="1096" y="792"/>
                </a:lnTo>
                <a:lnTo>
                  <a:pt x="1071" y="792"/>
                </a:lnTo>
                <a:lnTo>
                  <a:pt x="1042" y="792"/>
                </a:lnTo>
                <a:lnTo>
                  <a:pt x="1008" y="792"/>
                </a:lnTo>
                <a:lnTo>
                  <a:pt x="970" y="792"/>
                </a:lnTo>
                <a:lnTo>
                  <a:pt x="927" y="792"/>
                </a:lnTo>
                <a:lnTo>
                  <a:pt x="880" y="792"/>
                </a:lnTo>
                <a:lnTo>
                  <a:pt x="828" y="792"/>
                </a:lnTo>
                <a:lnTo>
                  <a:pt x="772" y="792"/>
                </a:lnTo>
                <a:lnTo>
                  <a:pt x="711" y="792"/>
                </a:lnTo>
                <a:lnTo>
                  <a:pt x="646" y="792"/>
                </a:lnTo>
                <a:lnTo>
                  <a:pt x="576" y="792"/>
                </a:lnTo>
                <a:lnTo>
                  <a:pt x="506" y="792"/>
                </a:lnTo>
                <a:lnTo>
                  <a:pt x="441" y="792"/>
                </a:lnTo>
                <a:lnTo>
                  <a:pt x="380" y="792"/>
                </a:lnTo>
                <a:lnTo>
                  <a:pt x="324" y="792"/>
                </a:lnTo>
                <a:lnTo>
                  <a:pt x="272" y="792"/>
                </a:lnTo>
                <a:lnTo>
                  <a:pt x="225" y="792"/>
                </a:lnTo>
                <a:lnTo>
                  <a:pt x="182" y="792"/>
                </a:lnTo>
                <a:lnTo>
                  <a:pt x="144" y="792"/>
                </a:lnTo>
                <a:lnTo>
                  <a:pt x="110" y="792"/>
                </a:lnTo>
                <a:lnTo>
                  <a:pt x="81" y="792"/>
                </a:lnTo>
                <a:lnTo>
                  <a:pt x="56" y="792"/>
                </a:lnTo>
                <a:lnTo>
                  <a:pt x="36" y="792"/>
                </a:lnTo>
                <a:lnTo>
                  <a:pt x="20" y="792"/>
                </a:lnTo>
                <a:lnTo>
                  <a:pt x="9" y="792"/>
                </a:lnTo>
                <a:lnTo>
                  <a:pt x="2" y="792"/>
                </a:lnTo>
                <a:lnTo>
                  <a:pt x="0" y="792"/>
                </a:lnTo>
                <a:lnTo>
                  <a:pt x="0" y="789"/>
                </a:lnTo>
                <a:lnTo>
                  <a:pt x="0" y="781"/>
                </a:lnTo>
                <a:lnTo>
                  <a:pt x="0" y="767"/>
                </a:lnTo>
                <a:lnTo>
                  <a:pt x="0" y="747"/>
                </a:lnTo>
                <a:lnTo>
                  <a:pt x="0" y="722"/>
                </a:lnTo>
                <a:lnTo>
                  <a:pt x="0" y="691"/>
                </a:lnTo>
                <a:lnTo>
                  <a:pt x="0" y="654"/>
                </a:lnTo>
                <a:lnTo>
                  <a:pt x="0" y="612"/>
                </a:lnTo>
                <a:lnTo>
                  <a:pt x="0" y="564"/>
                </a:lnTo>
                <a:lnTo>
                  <a:pt x="0" y="511"/>
                </a:lnTo>
                <a:lnTo>
                  <a:pt x="0" y="452"/>
                </a:lnTo>
                <a:lnTo>
                  <a:pt x="0" y="387"/>
                </a:lnTo>
                <a:lnTo>
                  <a:pt x="0" y="317"/>
                </a:lnTo>
                <a:lnTo>
                  <a:pt x="0" y="241"/>
                </a:lnTo>
                <a:lnTo>
                  <a:pt x="0" y="159"/>
                </a:lnTo>
                <a:lnTo>
                  <a:pt x="0" y="72"/>
                </a:lnTo>
                <a:close/>
              </a:path>
            </a:pathLst>
          </a:custGeom>
          <a:solidFill>
            <a:srgbClr val="f3f7ff"/>
          </a:solidFill>
          <a:ln w="6480">
            <a:solidFill>
              <a:srgbClr val="4d80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25" name=""/>
          <p:cNvSpPr/>
          <p:nvPr/>
        </p:nvSpPr>
        <p:spPr>
          <a:xfrm>
            <a:off x="7010280" y="3083040"/>
            <a:ext cx="1524240" cy="8553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Arial"/>
              </a:rPr>
              <a:t>保障大数据容量系统运行的高可靠性和系统交易的不间断性</a:t>
            </a:r>
            <a:endParaRPr b="0" lang="en-US" sz="1800" spc="-1" strike="noStrike">
              <a:solidFill>
                <a:srgbClr val="000066"/>
              </a:solidFill>
              <a:latin typeface="Times New Roman"/>
            </a:endParaRPr>
          </a:p>
        </p:txBody>
      </p:sp>
      <p:sp>
        <p:nvSpPr>
          <p:cNvPr id="2126"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27"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28"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29"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0"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1"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2"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3"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4"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5"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6"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7"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8"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39"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0"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1"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2"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3"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4"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5"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6"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7"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8"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49"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0"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1"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2"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3"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4"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5"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6"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7"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8"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59"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卡片安全</a:t>
            </a:r>
            <a:endParaRPr b="0" lang="en-US" sz="4800" spc="-1" strike="noStrike">
              <a:solidFill>
                <a:srgbClr val="000099"/>
              </a:solidFill>
              <a:latin typeface="Times New Roman"/>
            </a:endParaRPr>
          </a:p>
        </p:txBody>
      </p:sp>
      <p:sp>
        <p:nvSpPr>
          <p:cNvPr id="216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通过“一卡多密、密钥分散”实现了卡片的安全</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IC</a:t>
            </a:r>
            <a:r>
              <a:rPr b="1" lang="zh-CN" sz="3200" spc="-1" strike="noStrike">
                <a:solidFill>
                  <a:srgbClr val="000099"/>
                </a:solidFill>
                <a:latin typeface="Times New Roman"/>
              </a:rPr>
              <a:t>卡中信息的读写均需经过密钥的认证</a:t>
            </a:r>
            <a:endParaRPr b="1" lang="en-US" sz="3200" spc="-1" strike="noStrike">
              <a:solidFill>
                <a:srgbClr val="000099"/>
              </a:solidFill>
              <a:latin typeface="Times New Roman"/>
            </a:endParaRPr>
          </a:p>
        </p:txBody>
      </p:sp>
      <p:sp>
        <p:nvSpPr>
          <p:cNvPr id="2162" name=""/>
          <p:cNvSpPr/>
          <p:nvPr/>
        </p:nvSpPr>
        <p:spPr>
          <a:xfrm>
            <a:off x="990720" y="2018160"/>
            <a:ext cx="7070760" cy="2124360"/>
          </a:xfrm>
          <a:prstGeom prst="horizontalScroll">
            <a:avLst>
              <a:gd name="adj" fmla="val 16416"/>
            </a:avLst>
          </a:prstGeom>
          <a:solidFill>
            <a:srgbClr val="f3f6ff"/>
          </a:solidFill>
          <a:ln w="31680">
            <a:solidFill>
              <a:srgbClr val="6699ff"/>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Times New Roman"/>
              </a:rPr>
              <a:t>   </a:t>
            </a:r>
            <a:r>
              <a:rPr b="1" lang="zh-CN" sz="2800" spc="-1" strike="noStrike">
                <a:solidFill>
                  <a:srgbClr val="333399"/>
                </a:solidFill>
                <a:latin typeface="Times New Roman"/>
                <a:ea typeface="Times New Roman"/>
              </a:rPr>
              <a:t>一卡多密                         密钥分散</a:t>
            </a:r>
            <a:endParaRPr b="0" lang="en-US" sz="2800" spc="-1" strike="noStrike">
              <a:solidFill>
                <a:srgbClr val="000066"/>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63" name=""/>
          <p:cNvSpPr/>
          <p:nvPr/>
        </p:nvSpPr>
        <p:spPr>
          <a:xfrm>
            <a:off x="2714760" y="3691080"/>
            <a:ext cx="457200" cy="28872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64" name=""/>
          <p:cNvSpPr/>
          <p:nvPr/>
        </p:nvSpPr>
        <p:spPr>
          <a:xfrm>
            <a:off x="1584360" y="3979800"/>
            <a:ext cx="2666880" cy="77796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65" name=""/>
          <p:cNvSpPr/>
          <p:nvPr/>
        </p:nvSpPr>
        <p:spPr>
          <a:xfrm>
            <a:off x="1812960" y="4071960"/>
            <a:ext cx="220968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IC</a:t>
            </a:r>
            <a:r>
              <a:rPr b="1" lang="zh-CN" sz="1800" spc="-1" strike="noStrike">
                <a:solidFill>
                  <a:srgbClr val="24246e"/>
                </a:solidFill>
                <a:latin typeface="宋体"/>
              </a:rPr>
              <a:t>卡根据不同的应用划分不同的应用分区</a:t>
            </a:r>
            <a:endParaRPr b="0" lang="en-US" sz="1800" spc="-1" strike="noStrike">
              <a:solidFill>
                <a:srgbClr val="000066"/>
              </a:solidFill>
              <a:latin typeface="Times New Roman"/>
            </a:endParaRPr>
          </a:p>
        </p:txBody>
      </p:sp>
      <p:sp>
        <p:nvSpPr>
          <p:cNvPr id="2166" name=""/>
          <p:cNvSpPr/>
          <p:nvPr/>
        </p:nvSpPr>
        <p:spPr>
          <a:xfrm>
            <a:off x="6296040" y="3691080"/>
            <a:ext cx="393840" cy="28872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67" name=""/>
          <p:cNvSpPr/>
          <p:nvPr/>
        </p:nvSpPr>
        <p:spPr>
          <a:xfrm>
            <a:off x="5394240" y="3979800"/>
            <a:ext cx="2210040" cy="77796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168" name=""/>
          <p:cNvSpPr/>
          <p:nvPr/>
        </p:nvSpPr>
        <p:spPr>
          <a:xfrm>
            <a:off x="5546880" y="4071960"/>
            <a:ext cx="205740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各应用分区拥有各自不同的密钥管理</a:t>
            </a:r>
            <a:endParaRPr b="0" lang="en-US" sz="1800" spc="-1" strike="noStrike">
              <a:solidFill>
                <a:srgbClr val="000066"/>
              </a:solidFill>
              <a:latin typeface="Times New Roman"/>
            </a:endParaRPr>
          </a:p>
        </p:txBody>
      </p:sp>
      <p:sp>
        <p:nvSpPr>
          <p:cNvPr id="2169"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0"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1"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2"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3"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4"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5"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6"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7"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8"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79"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0"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1"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2"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3"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4"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5"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6"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7"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8"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89"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0"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1"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2"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3"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4"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5"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6"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7"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8"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199"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00"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01"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02"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密钥管理系统</a:t>
            </a:r>
            <a:endParaRPr b="0" lang="en-US" sz="4800" spc="-1" strike="noStrike">
              <a:solidFill>
                <a:srgbClr val="000099"/>
              </a:solidFill>
              <a:latin typeface="Times New Roman"/>
            </a:endParaRPr>
          </a:p>
        </p:txBody>
      </p:sp>
      <p:sp>
        <p:nvSpPr>
          <p:cNvPr id="2204"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金融功能所需的密钥包括</a:t>
            </a:r>
            <a:r>
              <a:rPr b="1" lang="zh-CN" sz="3200" spc="-1" strike="noStrike">
                <a:solidFill>
                  <a:srgbClr val="000099"/>
                </a:solidFill>
                <a:latin typeface="Times New Roman"/>
              </a:rPr>
              <a:t>:</a:t>
            </a:r>
            <a:endParaRPr b="1" lang="en-US" sz="3200" spc="-1" strike="noStrike">
              <a:solidFill>
                <a:srgbClr val="000099"/>
              </a:solidFill>
              <a:latin typeface="Times New Roman"/>
            </a:endParaRPr>
          </a:p>
        </p:txBody>
      </p:sp>
      <p:sp>
        <p:nvSpPr>
          <p:cNvPr id="2205" name=""/>
          <p:cNvSpPr/>
          <p:nvPr/>
        </p:nvSpPr>
        <p:spPr>
          <a:xfrm>
            <a:off x="533520" y="2951280"/>
            <a:ext cx="3809880" cy="590400"/>
          </a:xfrm>
          <a:custGeom>
            <a:avLst/>
            <a:gdLst>
              <a:gd name="textAreaLeft" fmla="*/ 0 w 3809880"/>
              <a:gd name="textAreaRight" fmla="*/ 3810240 w 3809880"/>
              <a:gd name="textAreaTop" fmla="*/ 0 h 590400"/>
              <a:gd name="textAreaBottom" fmla="*/ 590760 h 590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005e74"/>
            </a:outerShdw>
          </a:effectLst>
        </p:spPr>
        <p:style>
          <a:lnRef idx="0"/>
          <a:fillRef idx="0"/>
          <a:effectRef idx="0"/>
          <a:fontRef idx="minor"/>
        </p:style>
        <p:txBody>
          <a:bodyPr lIns="109440" rIns="109440" tIns="54720" bIns="54720" anchor="ctr">
            <a:spAutoFit/>
          </a:bodyPr>
          <a:p>
            <a:endParaRPr b="0" lang="en-US" sz="2400" spc="-1" strike="noStrike">
              <a:solidFill>
                <a:srgbClr val="000066"/>
              </a:solidFill>
              <a:latin typeface="Times New Roman"/>
            </a:endParaRPr>
          </a:p>
        </p:txBody>
      </p:sp>
      <p:grpSp>
        <p:nvGrpSpPr>
          <p:cNvPr id="2206" name=""/>
          <p:cNvGrpSpPr/>
          <p:nvPr/>
        </p:nvGrpSpPr>
        <p:grpSpPr>
          <a:xfrm>
            <a:off x="3048120" y="685800"/>
            <a:ext cx="2971800" cy="5943600"/>
            <a:chOff x="3048120" y="685800"/>
            <a:chExt cx="2971800" cy="5943600"/>
          </a:xfrm>
        </p:grpSpPr>
        <p:sp>
          <p:nvSpPr>
            <p:cNvPr id="2207" name=""/>
            <p:cNvSpPr/>
            <p:nvPr/>
          </p:nvSpPr>
          <p:spPr>
            <a:xfrm>
              <a:off x="4307040" y="1625760"/>
              <a:ext cx="411120" cy="1498680"/>
            </a:xfrm>
            <a:prstGeom prst="ellipse">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8" name=""/>
            <p:cNvSpPr/>
            <p:nvPr/>
          </p:nvSpPr>
          <p:spPr>
            <a:xfrm>
              <a:off x="3237120" y="3137040"/>
              <a:ext cx="2503440" cy="2517840"/>
            </a:xfrm>
            <a:prstGeom prst="donut">
              <a:avLst>
                <a:gd name="adj" fmla="val 6495"/>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9" name=""/>
            <p:cNvSpPr/>
            <p:nvPr/>
          </p:nvSpPr>
          <p:spPr>
            <a:xfrm>
              <a:off x="3048120" y="5119920"/>
              <a:ext cx="396720" cy="1509480"/>
            </a:xfrm>
            <a:prstGeom prst="ellipse">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0" name=""/>
            <p:cNvSpPr/>
            <p:nvPr/>
          </p:nvSpPr>
          <p:spPr>
            <a:xfrm>
              <a:off x="5623200" y="5119920"/>
              <a:ext cx="396720" cy="1509480"/>
            </a:xfrm>
            <a:prstGeom prst="ellipse">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1" name=""/>
            <p:cNvSpPr/>
            <p:nvPr/>
          </p:nvSpPr>
          <p:spPr>
            <a:xfrm>
              <a:off x="3092400" y="685800"/>
              <a:ext cx="2927520" cy="3473640"/>
            </a:xfrm>
            <a:prstGeom prst="ellipse">
              <a:avLst/>
            </a:prstGeom>
            <a:solidFill>
              <a:srgbClr val="c5d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12" name=""/>
          <p:cNvSpPr/>
          <p:nvPr/>
        </p:nvSpPr>
        <p:spPr>
          <a:xfrm flipH="1">
            <a:off x="5729400" y="2914560"/>
            <a:ext cx="2427120" cy="331920"/>
          </a:xfrm>
          <a:custGeom>
            <a:avLst/>
            <a:gdLst>
              <a:gd name="textAreaLeft" fmla="*/ 360 w 2427120"/>
              <a:gd name="textAreaRight" fmla="*/ 2427840 w 2427120"/>
              <a:gd name="textAreaTop" fmla="*/ 0 h 331920"/>
              <a:gd name="textAreaBottom" fmla="*/ 332280 h 331920"/>
            </a:gdLst>
            <a:ahLst/>
            <a:rect l="textAreaLeft" t="textAreaTop" r="textAreaRight" b="textAreaBottom"/>
            <a:pathLst>
              <a:path w="21600" h="21600">
                <a:moveTo>
                  <a:pt x="0" y="0"/>
                </a:moveTo>
                <a:lnTo>
                  <a:pt x="18110" y="0"/>
                </a:lnTo>
                <a:lnTo>
                  <a:pt x="21600" y="10800"/>
                </a:lnTo>
                <a:lnTo>
                  <a:pt x="18110" y="21600"/>
                </a:lnTo>
                <a:lnTo>
                  <a:pt x="0" y="21600"/>
                </a:lnTo>
                <a:close/>
              </a:path>
            </a:pathLst>
          </a:custGeom>
          <a:solidFill>
            <a:srgbClr val="ccecff"/>
          </a:solidFill>
          <a:ln w="0">
            <a:noFill/>
          </a:ln>
          <a:effectLst>
            <a:outerShdw dist="17819" dir="2700000" blurRad="0" rotWithShape="0">
              <a:srgbClr val="005e74"/>
            </a:outerShdw>
          </a:effectLst>
        </p:spPr>
        <p:style>
          <a:lnRef idx="0"/>
          <a:fillRef idx="0"/>
          <a:effectRef idx="0"/>
          <a:fontRef idx="minor"/>
        </p:style>
        <p:txBody>
          <a:bodyPr lIns="109800" rIns="109800" tIns="54720" bIns="5472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13" name=""/>
          <p:cNvSpPr/>
          <p:nvPr/>
        </p:nvSpPr>
        <p:spPr>
          <a:xfrm>
            <a:off x="1219320" y="4633920"/>
            <a:ext cx="2077920" cy="590400"/>
          </a:xfrm>
          <a:custGeom>
            <a:avLst/>
            <a:gdLst>
              <a:gd name="textAreaLeft" fmla="*/ 0 w 2077920"/>
              <a:gd name="textAreaRight" fmla="*/ 2078280 w 2077920"/>
              <a:gd name="textAreaTop" fmla="*/ 0 h 590400"/>
              <a:gd name="textAreaBottom" fmla="*/ 590760 h 590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0">
            <a:noFill/>
          </a:ln>
          <a:effectLst>
            <a:outerShdw dist="17819" dir="2700000" blurRad="0" rotWithShape="0">
              <a:srgbClr val="005e74"/>
            </a:outerShdw>
          </a:effectLst>
        </p:spPr>
        <p:style>
          <a:lnRef idx="0"/>
          <a:fillRef idx="0"/>
          <a:effectRef idx="0"/>
          <a:fontRef idx="minor"/>
        </p:style>
        <p:txBody>
          <a:bodyPr lIns="109440" rIns="109440" tIns="54720" bIns="54720" anchor="ctr">
            <a:spAutoFit/>
          </a:bodyPr>
          <a:p>
            <a:endParaRPr b="0" lang="en-US" sz="2400" spc="-1" strike="noStrike">
              <a:solidFill>
                <a:srgbClr val="000066"/>
              </a:solidFill>
              <a:latin typeface="Times New Roman"/>
            </a:endParaRPr>
          </a:p>
        </p:txBody>
      </p:sp>
      <p:sp>
        <p:nvSpPr>
          <p:cNvPr id="2214" name=""/>
          <p:cNvSpPr/>
          <p:nvPr/>
        </p:nvSpPr>
        <p:spPr>
          <a:xfrm flipH="1">
            <a:off x="5104800" y="4251240"/>
            <a:ext cx="2895480" cy="590760"/>
          </a:xfrm>
          <a:custGeom>
            <a:avLst/>
            <a:gdLst>
              <a:gd name="textAreaLeft" fmla="*/ -360 w 2895480"/>
              <a:gd name="textAreaRight" fmla="*/ 2895480 w 2895480"/>
              <a:gd name="textAreaTop" fmla="*/ 0 h 590760"/>
              <a:gd name="textAreaBottom" fmla="*/ 590760 h 59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5d6ff"/>
          </a:solidFill>
          <a:ln w="0">
            <a:noFill/>
          </a:ln>
          <a:effectLst>
            <a:outerShdw dist="17819" dir="2700000" blurRad="0" rotWithShape="0">
              <a:srgbClr val="005e74"/>
            </a:outerShdw>
          </a:effectLst>
        </p:spPr>
        <p:style>
          <a:lnRef idx="0"/>
          <a:fillRef idx="0"/>
          <a:effectRef idx="0"/>
          <a:fontRef idx="minor"/>
        </p:style>
        <p:txBody>
          <a:bodyPr lIns="109440" rIns="109440" tIns="54720" bIns="54720" anchor="ctr">
            <a:spAutoFit/>
          </a:bodyPr>
          <a:p>
            <a:endParaRPr b="0" lang="en-US" sz="2400" spc="-1" strike="noStrike">
              <a:solidFill>
                <a:srgbClr val="000066"/>
              </a:solidFill>
              <a:latin typeface="Times New Roman"/>
            </a:endParaRPr>
          </a:p>
        </p:txBody>
      </p:sp>
      <p:sp>
        <p:nvSpPr>
          <p:cNvPr id="2215" name=""/>
          <p:cNvSpPr/>
          <p:nvPr/>
        </p:nvSpPr>
        <p:spPr>
          <a:xfrm>
            <a:off x="5765760" y="4235400"/>
            <a:ext cx="2463840" cy="641520"/>
          </a:xfrm>
          <a:prstGeom prst="rect">
            <a:avLst/>
          </a:prstGeom>
          <a:noFill/>
          <a:ln w="0">
            <a:noFill/>
          </a:ln>
          <a:effectLst>
            <a:outerShdw dist="17819" dir="2700000" blurRad="0" rotWithShape="0">
              <a:srgbClr val="005e74"/>
            </a:outerShdw>
          </a:effectLst>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16" name=""/>
          <p:cNvSpPr/>
          <p:nvPr/>
        </p:nvSpPr>
        <p:spPr>
          <a:xfrm>
            <a:off x="1363680" y="4759200"/>
            <a:ext cx="137952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母卡的生成</a:t>
            </a:r>
            <a:endParaRPr b="0" lang="en-US" sz="1800" spc="-1" strike="noStrike">
              <a:solidFill>
                <a:srgbClr val="000066"/>
              </a:solidFill>
              <a:latin typeface="Times New Roman"/>
            </a:endParaRPr>
          </a:p>
        </p:txBody>
      </p:sp>
      <p:sp>
        <p:nvSpPr>
          <p:cNvPr id="2217" name=""/>
          <p:cNvSpPr/>
          <p:nvPr/>
        </p:nvSpPr>
        <p:spPr>
          <a:xfrm>
            <a:off x="609480" y="3083040"/>
            <a:ext cx="266724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种子密钥和主密钥的生成</a:t>
            </a:r>
            <a:endParaRPr b="0" lang="en-US" sz="1800" spc="-1" strike="noStrike">
              <a:solidFill>
                <a:srgbClr val="000066"/>
              </a:solidFill>
              <a:latin typeface="Times New Roman"/>
            </a:endParaRPr>
          </a:p>
        </p:txBody>
      </p:sp>
      <p:sp>
        <p:nvSpPr>
          <p:cNvPr id="2218" name=""/>
          <p:cNvSpPr/>
          <p:nvPr/>
        </p:nvSpPr>
        <p:spPr>
          <a:xfrm>
            <a:off x="6248520" y="2971800"/>
            <a:ext cx="182880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SAM</a:t>
            </a:r>
            <a:r>
              <a:rPr b="1" lang="zh-CN" sz="1800" spc="-1" strike="noStrike">
                <a:solidFill>
                  <a:srgbClr val="24246e"/>
                </a:solidFill>
                <a:latin typeface="宋体"/>
              </a:rPr>
              <a:t>卡的生成</a:t>
            </a:r>
            <a:endParaRPr b="0" lang="en-US" sz="1800" spc="-1" strike="noStrike">
              <a:solidFill>
                <a:srgbClr val="000066"/>
              </a:solidFill>
              <a:latin typeface="Times New Roman"/>
            </a:endParaRPr>
          </a:p>
        </p:txBody>
      </p:sp>
      <p:sp>
        <p:nvSpPr>
          <p:cNvPr id="2219" name=""/>
          <p:cNvSpPr/>
          <p:nvPr/>
        </p:nvSpPr>
        <p:spPr>
          <a:xfrm>
            <a:off x="6172200" y="4378320"/>
            <a:ext cx="160020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密钥管理系统</a:t>
            </a:r>
            <a:endParaRPr b="0" lang="en-US" sz="1800" spc="-1" strike="noStrike">
              <a:solidFill>
                <a:srgbClr val="000066"/>
              </a:solidFill>
              <a:latin typeface="Times New Roman"/>
            </a:endParaRPr>
          </a:p>
        </p:txBody>
      </p:sp>
      <p:sp>
        <p:nvSpPr>
          <p:cNvPr id="2220" name=""/>
          <p:cNvSpPr/>
          <p:nvPr/>
        </p:nvSpPr>
        <p:spPr>
          <a:xfrm>
            <a:off x="6400800" y="1752480"/>
            <a:ext cx="2209680" cy="838440"/>
          </a:xfrm>
          <a:prstGeom prst="wedgeRectCallout">
            <a:avLst>
              <a:gd name="adj1" fmla="val -50287"/>
              <a:gd name="adj2" fmla="val 91476"/>
            </a:avLst>
          </a:prstGeom>
          <a:solidFill>
            <a:srgbClr val="dcecf4"/>
          </a:solidFill>
          <a:ln w="38160">
            <a:solidFill>
              <a:srgbClr val="dcecf4"/>
            </a:solidFill>
            <a:miter/>
          </a:ln>
          <a:effectLst>
            <a:outerShdw dist="53966" dir="2700000" blurRad="0" rotWithShape="0">
              <a:srgbClr val="ebf3ff"/>
            </a:outerShdw>
          </a:effectLst>
        </p:spPr>
        <p:style>
          <a:lnRef idx="0"/>
          <a:fillRef idx="0"/>
          <a:effectRef idx="0"/>
          <a:fontRef idx="minor"/>
        </p:style>
        <p:txBody>
          <a:bodyPr wrap="none" lIns="90000" rIns="90000" tIns="91440" bIns="91440" anchor="ctr">
            <a:noAutofit/>
          </a:bodyPr>
          <a:p>
            <a:pPr marL="407880" indent="-407880" algn="ctr">
              <a:lnSpc>
                <a:spcPct val="70000"/>
              </a:lnSpc>
              <a:spcBef>
                <a:spcPts val="876"/>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zh-CN" sz="1400" spc="-1" strike="noStrike">
                <a:solidFill>
                  <a:srgbClr val="24246e"/>
                </a:solidFill>
                <a:latin typeface="Arial"/>
              </a:rPr>
              <a:t>消费安全认证模块卡</a:t>
            </a:r>
            <a:endParaRPr b="0" lang="en-US" sz="1400" spc="-1" strike="noStrike">
              <a:solidFill>
                <a:srgbClr val="000066"/>
              </a:solidFill>
              <a:latin typeface="Times New Roman"/>
            </a:endParaRPr>
          </a:p>
          <a:p>
            <a:pPr marL="407880" indent="-407880" algn="ctr">
              <a:lnSpc>
                <a:spcPct val="50000"/>
              </a:lnSpc>
              <a:spcBef>
                <a:spcPts val="876"/>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zh-CN" sz="1400" spc="-1" strike="noStrike">
                <a:solidFill>
                  <a:srgbClr val="24246e"/>
                </a:solidFill>
                <a:latin typeface="Arial"/>
              </a:rPr>
              <a:t>(</a:t>
            </a:r>
            <a:r>
              <a:rPr b="1" lang="zh-CN" sz="1400" spc="-1" strike="noStrike">
                <a:solidFill>
                  <a:srgbClr val="24246e"/>
                </a:solidFill>
                <a:latin typeface="Arial"/>
                <a:ea typeface="Arial"/>
              </a:rPr>
              <a:t> </a:t>
            </a:r>
            <a:r>
              <a:rPr b="1" lang="en-US" sz="1400" spc="-1" strike="noStrike">
                <a:solidFill>
                  <a:srgbClr val="24246e"/>
                </a:solidFill>
                <a:latin typeface="Arial"/>
                <a:ea typeface="Arial"/>
              </a:rPr>
              <a:t>Purchase secure </a:t>
            </a:r>
            <a:endParaRPr b="0" lang="en-US" sz="1400" spc="-1" strike="noStrike">
              <a:solidFill>
                <a:srgbClr val="000066"/>
              </a:solidFill>
              <a:latin typeface="Times New Roman"/>
            </a:endParaRPr>
          </a:p>
          <a:p>
            <a:pPr marL="407880" indent="-407880" algn="ctr">
              <a:lnSpc>
                <a:spcPct val="50000"/>
              </a:lnSpc>
              <a:spcBef>
                <a:spcPts val="876"/>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24246e"/>
                </a:solidFill>
                <a:latin typeface="Arial"/>
                <a:ea typeface="Arial"/>
              </a:rPr>
              <a:t>access module card)</a:t>
            </a:r>
            <a:endParaRPr b="0" lang="en-US" sz="1400" spc="-1" strike="noStrike">
              <a:solidFill>
                <a:srgbClr val="000066"/>
              </a:solidFill>
              <a:latin typeface="Times New Roman"/>
            </a:endParaRPr>
          </a:p>
        </p:txBody>
      </p:sp>
      <p:sp>
        <p:nvSpPr>
          <p:cNvPr id="222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29"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0"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1"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2"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3"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4"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5"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6"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7"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8"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39"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0"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1"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2"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3"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4"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5"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6"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7"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4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5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终端安全</a:t>
            </a:r>
            <a:endParaRPr b="0" lang="en-US" sz="4800" spc="-1" strike="noStrike">
              <a:solidFill>
                <a:srgbClr val="000099"/>
              </a:solidFill>
              <a:latin typeface="Times New Roman"/>
            </a:endParaRPr>
          </a:p>
        </p:txBody>
      </p:sp>
      <p:sp>
        <p:nvSpPr>
          <p:cNvPr id="225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通过“硬件加密、多级保护”实现了终端的安全</a:t>
            </a:r>
            <a:endParaRPr b="1" lang="en-US" sz="3200" spc="-1" strike="noStrike">
              <a:solidFill>
                <a:srgbClr val="000099"/>
              </a:solidFill>
              <a:latin typeface="Times New Roman"/>
            </a:endParaRPr>
          </a:p>
        </p:txBody>
      </p:sp>
      <p:sp>
        <p:nvSpPr>
          <p:cNvPr id="2257" name=""/>
          <p:cNvSpPr/>
          <p:nvPr/>
        </p:nvSpPr>
        <p:spPr>
          <a:xfrm>
            <a:off x="1527120" y="2348280"/>
            <a:ext cx="6512040" cy="775080"/>
          </a:xfrm>
          <a:prstGeom prst="horizontalScroll">
            <a:avLst>
              <a:gd name="adj" fmla="val 12500"/>
            </a:avLst>
          </a:prstGeom>
          <a:solidFill>
            <a:srgbClr val="f3f6ff"/>
          </a:solidFill>
          <a:ln w="31680">
            <a:solidFill>
              <a:srgbClr val="6699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硬件加密      多级保护</a:t>
            </a:r>
            <a:endParaRPr b="0" lang="en-US" sz="3200" spc="-1" strike="noStrike">
              <a:solidFill>
                <a:srgbClr val="000066"/>
              </a:solidFill>
              <a:latin typeface="Times New Roman"/>
            </a:endParaRPr>
          </a:p>
        </p:txBody>
      </p:sp>
      <p:sp>
        <p:nvSpPr>
          <p:cNvPr id="2258" name=""/>
          <p:cNvSpPr/>
          <p:nvPr/>
        </p:nvSpPr>
        <p:spPr>
          <a:xfrm>
            <a:off x="919080" y="2343960"/>
            <a:ext cx="7572240" cy="1618200"/>
          </a:xfrm>
          <a:custGeom>
            <a:avLst/>
            <a:gdLst/>
            <a:ahLst/>
            <a:rect l="l" t="t" r="r" b="b"/>
            <a:pathLst>
              <a:path stroke="0" w="21600" h="21600">
                <a:moveTo>
                  <a:pt x="21597" y="10553"/>
                </a:moveTo>
                <a:arcTo wR="10800" hR="10800" stAng="-78514" swAng="10994064"/>
                <a:lnTo>
                  <a:pt x="10800" y="10800"/>
                </a:lnTo>
                <a:close/>
              </a:path>
              <a:path fill="none" w="21600" h="21600">
                <a:moveTo>
                  <a:pt x="21597" y="10553"/>
                </a:moveTo>
                <a:arcTo wR="10800" hR="10800" stAng="-78514" swAng="10994064"/>
              </a:path>
            </a:pathLst>
          </a:custGeom>
          <a:noFill/>
          <a:ln w="190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9" name=""/>
          <p:cNvSpPr/>
          <p:nvPr/>
        </p:nvSpPr>
        <p:spPr>
          <a:xfrm>
            <a:off x="3119400" y="2843640"/>
            <a:ext cx="3168360" cy="57060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w="64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
          <p:cNvSpPr/>
          <p:nvPr/>
        </p:nvSpPr>
        <p:spPr>
          <a:xfrm>
            <a:off x="4361040" y="3506760"/>
            <a:ext cx="685800" cy="343080"/>
          </a:xfrm>
          <a:custGeom>
            <a:avLst/>
            <a:gdLst/>
            <a:ahLst/>
            <a:rect l="l" t="t" r="r" b="b"/>
            <a:pathLst>
              <a:path w="432" h="213">
                <a:moveTo>
                  <a:pt x="48" y="213"/>
                </a:moveTo>
                <a:lnTo>
                  <a:pt x="408" y="213"/>
                </a:lnTo>
                <a:lnTo>
                  <a:pt x="288" y="45"/>
                </a:lnTo>
                <a:lnTo>
                  <a:pt x="432" y="45"/>
                </a:lnTo>
                <a:lnTo>
                  <a:pt x="215" y="0"/>
                </a:lnTo>
                <a:lnTo>
                  <a:pt x="0" y="45"/>
                </a:lnTo>
                <a:lnTo>
                  <a:pt x="144" y="45"/>
                </a:lnTo>
                <a:lnTo>
                  <a:pt x="48" y="213"/>
                </a:lnTo>
                <a:close/>
              </a:path>
            </a:pathLst>
          </a:custGeom>
          <a:solidFill>
            <a:srgbClr val="cddbff"/>
          </a:solidFill>
          <a:ln w="6480">
            <a:solidFill>
              <a:srgbClr val="4d8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1" name=""/>
          <p:cNvSpPr/>
          <p:nvPr/>
        </p:nvSpPr>
        <p:spPr>
          <a:xfrm>
            <a:off x="838080" y="3124080"/>
            <a:ext cx="7721640" cy="5040"/>
          </a:xfrm>
          <a:prstGeom prst="line">
            <a:avLst/>
          </a:prstGeom>
          <a:ln w="6480">
            <a:solidFill>
              <a:srgbClr val="4d80ff"/>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grpSp>
        <p:nvGrpSpPr>
          <p:cNvPr id="2262" name=""/>
          <p:cNvGrpSpPr/>
          <p:nvPr/>
        </p:nvGrpSpPr>
        <p:grpSpPr>
          <a:xfrm>
            <a:off x="1973160" y="3129120"/>
            <a:ext cx="5460840" cy="2976480"/>
            <a:chOff x="1973160" y="3129120"/>
            <a:chExt cx="5460840" cy="2976480"/>
          </a:xfrm>
        </p:grpSpPr>
        <p:sp>
          <p:nvSpPr>
            <p:cNvPr id="2263" name=""/>
            <p:cNvSpPr/>
            <p:nvPr/>
          </p:nvSpPr>
          <p:spPr>
            <a:xfrm flipV="1">
              <a:off x="1973160" y="3129120"/>
              <a:ext cx="2749320" cy="2976480"/>
            </a:xfrm>
            <a:prstGeom prst="line">
              <a:avLst/>
            </a:prstGeom>
            <a:ln w="2556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4" name=""/>
            <p:cNvSpPr/>
            <p:nvPr/>
          </p:nvSpPr>
          <p:spPr>
            <a:xfrm>
              <a:off x="4722480" y="3129120"/>
              <a:ext cx="2711520" cy="2976480"/>
            </a:xfrm>
            <a:prstGeom prst="line">
              <a:avLst/>
            </a:prstGeom>
            <a:ln w="2556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65" name=""/>
          <p:cNvSpPr/>
          <p:nvPr/>
        </p:nvSpPr>
        <p:spPr>
          <a:xfrm flipV="1">
            <a:off x="847800" y="3137040"/>
            <a:ext cx="3855960" cy="915840"/>
          </a:xfrm>
          <a:prstGeom prst="line">
            <a:avLst/>
          </a:prstGeom>
          <a:ln w="190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6" name=""/>
          <p:cNvSpPr/>
          <p:nvPr/>
        </p:nvSpPr>
        <p:spPr>
          <a:xfrm>
            <a:off x="4703760" y="3129120"/>
            <a:ext cx="3855960" cy="915840"/>
          </a:xfrm>
          <a:prstGeom prst="line">
            <a:avLst/>
          </a:prstGeom>
          <a:ln w="190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
          <p:cNvSpPr/>
          <p:nvPr/>
        </p:nvSpPr>
        <p:spPr>
          <a:xfrm flipV="1">
            <a:off x="847800" y="3129120"/>
            <a:ext cx="3855960" cy="457200"/>
          </a:xfrm>
          <a:prstGeom prst="line">
            <a:avLst/>
          </a:prstGeom>
          <a:ln w="1260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8" name=""/>
          <p:cNvSpPr/>
          <p:nvPr/>
        </p:nvSpPr>
        <p:spPr>
          <a:xfrm>
            <a:off x="4703760" y="3129120"/>
            <a:ext cx="3855960" cy="457200"/>
          </a:xfrm>
          <a:prstGeom prst="line">
            <a:avLst/>
          </a:prstGeom>
          <a:ln w="1260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9" name=""/>
          <p:cNvSpPr/>
          <p:nvPr/>
        </p:nvSpPr>
        <p:spPr>
          <a:xfrm flipV="1">
            <a:off x="847800" y="3128760"/>
            <a:ext cx="3855960" cy="152280"/>
          </a:xfrm>
          <a:prstGeom prst="line">
            <a:avLst/>
          </a:prstGeom>
          <a:ln w="64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0" name=""/>
          <p:cNvSpPr/>
          <p:nvPr/>
        </p:nvSpPr>
        <p:spPr>
          <a:xfrm>
            <a:off x="4703760" y="3129120"/>
            <a:ext cx="3855960" cy="152280"/>
          </a:xfrm>
          <a:prstGeom prst="line">
            <a:avLst/>
          </a:prstGeom>
          <a:ln w="6480">
            <a:solidFill>
              <a:srgbClr val="4d80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
          <p:cNvSpPr/>
          <p:nvPr/>
        </p:nvSpPr>
        <p:spPr>
          <a:xfrm>
            <a:off x="5338800" y="3463920"/>
            <a:ext cx="1008000" cy="330120"/>
          </a:xfrm>
          <a:custGeom>
            <a:avLst/>
            <a:gdLst/>
            <a:ahLst/>
            <a:rect l="l" t="t" r="r" b="b"/>
            <a:pathLst>
              <a:path w="635" h="208">
                <a:moveTo>
                  <a:pt x="369" y="208"/>
                </a:moveTo>
                <a:lnTo>
                  <a:pt x="635" y="172"/>
                </a:lnTo>
                <a:lnTo>
                  <a:pt x="272" y="28"/>
                </a:lnTo>
                <a:lnTo>
                  <a:pt x="372" y="10"/>
                </a:lnTo>
                <a:lnTo>
                  <a:pt x="108" y="0"/>
                </a:lnTo>
                <a:lnTo>
                  <a:pt x="0" y="58"/>
                </a:lnTo>
                <a:lnTo>
                  <a:pt x="118" y="44"/>
                </a:lnTo>
                <a:lnTo>
                  <a:pt x="369" y="208"/>
                </a:lnTo>
                <a:close/>
              </a:path>
            </a:pathLst>
          </a:custGeom>
          <a:solidFill>
            <a:srgbClr val="cddbff"/>
          </a:solidFill>
          <a:ln w="6480">
            <a:solidFill>
              <a:srgbClr val="4d8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2" name=""/>
          <p:cNvSpPr/>
          <p:nvPr/>
        </p:nvSpPr>
        <p:spPr>
          <a:xfrm flipH="1">
            <a:off x="3056040" y="3463920"/>
            <a:ext cx="1008000" cy="330120"/>
          </a:xfrm>
          <a:custGeom>
            <a:avLst/>
            <a:gdLst/>
            <a:ahLst/>
            <a:rect l="l" t="t" r="r" b="b"/>
            <a:pathLst>
              <a:path w="635" h="208">
                <a:moveTo>
                  <a:pt x="369" y="208"/>
                </a:moveTo>
                <a:lnTo>
                  <a:pt x="635" y="172"/>
                </a:lnTo>
                <a:lnTo>
                  <a:pt x="272" y="28"/>
                </a:lnTo>
                <a:lnTo>
                  <a:pt x="372" y="10"/>
                </a:lnTo>
                <a:lnTo>
                  <a:pt x="108" y="0"/>
                </a:lnTo>
                <a:lnTo>
                  <a:pt x="0" y="58"/>
                </a:lnTo>
                <a:lnTo>
                  <a:pt x="118" y="44"/>
                </a:lnTo>
                <a:lnTo>
                  <a:pt x="369" y="208"/>
                </a:lnTo>
                <a:close/>
              </a:path>
            </a:pathLst>
          </a:custGeom>
          <a:solidFill>
            <a:srgbClr val="cddbff"/>
          </a:solidFill>
          <a:ln w="6480">
            <a:solidFill>
              <a:srgbClr val="4d8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
          <p:cNvSpPr/>
          <p:nvPr/>
        </p:nvSpPr>
        <p:spPr>
          <a:xfrm>
            <a:off x="990720" y="4191120"/>
            <a:ext cx="182880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终端设备专机专用，授权使用</a:t>
            </a:r>
            <a:endParaRPr b="0" lang="en-US" sz="1800" spc="-1" strike="noStrike">
              <a:solidFill>
                <a:srgbClr val="000066"/>
              </a:solidFill>
              <a:latin typeface="Times New Roman"/>
            </a:endParaRPr>
          </a:p>
        </p:txBody>
      </p:sp>
      <p:sp>
        <p:nvSpPr>
          <p:cNvPr id="2274" name=""/>
          <p:cNvSpPr/>
          <p:nvPr/>
        </p:nvSpPr>
        <p:spPr>
          <a:xfrm>
            <a:off x="3505320" y="4724280"/>
            <a:ext cx="243828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终端设备的具有大容量数据存储区，支持历史数据重复采集功能</a:t>
            </a:r>
            <a:endParaRPr b="0" lang="en-US" sz="1800" spc="-1" strike="noStrike">
              <a:solidFill>
                <a:srgbClr val="000066"/>
              </a:solidFill>
              <a:latin typeface="Times New Roman"/>
            </a:endParaRPr>
          </a:p>
        </p:txBody>
      </p:sp>
      <p:sp>
        <p:nvSpPr>
          <p:cNvPr id="2275" name=""/>
          <p:cNvSpPr/>
          <p:nvPr/>
        </p:nvSpPr>
        <p:spPr>
          <a:xfrm>
            <a:off x="6629400" y="4191120"/>
            <a:ext cx="167652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终端设备支持脱机消费功能</a:t>
            </a:r>
            <a:endParaRPr b="0" lang="en-US" sz="1800" spc="-1" strike="noStrike">
              <a:solidFill>
                <a:srgbClr val="000066"/>
              </a:solidFill>
              <a:latin typeface="Times New Roman"/>
            </a:endParaRPr>
          </a:p>
        </p:txBody>
      </p:sp>
      <p:sp>
        <p:nvSpPr>
          <p:cNvPr id="2276"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77"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78"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79"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0"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1"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2"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3"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4"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5"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6"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7"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8"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89"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0"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1"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2"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3"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4"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5"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6"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7"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8"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299"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0"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1"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2"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3"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4"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5"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6"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7"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8"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09"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imes New Roman"/>
                <a:ea typeface="宋体"/>
              </a:rPr>
              <a:t>POS</a:t>
            </a:r>
            <a:r>
              <a:rPr b="0" lang="zh-CN" sz="4800" spc="-1" strike="noStrike">
                <a:solidFill>
                  <a:srgbClr val="000099"/>
                </a:solidFill>
                <a:latin typeface="Times New Roman"/>
                <a:ea typeface="宋体"/>
              </a:rPr>
              <a:t>机安全</a:t>
            </a:r>
            <a:endParaRPr b="0" lang="en-US" sz="4800" spc="-1" strike="noStrike">
              <a:solidFill>
                <a:srgbClr val="000099"/>
              </a:solidFill>
              <a:latin typeface="Times New Roman"/>
            </a:endParaRPr>
          </a:p>
        </p:txBody>
      </p:sp>
      <p:sp>
        <p:nvSpPr>
          <p:cNvPr id="231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312" name=""/>
          <p:cNvSpPr/>
          <p:nvPr/>
        </p:nvSpPr>
        <p:spPr>
          <a:xfrm>
            <a:off x="2362320" y="2819520"/>
            <a:ext cx="3381120" cy="3200400"/>
          </a:xfrm>
          <a:custGeom>
            <a:avLst/>
            <a:gdLst/>
            <a:ahLst/>
            <a:rect l="l" t="t" r="r" b="b"/>
            <a:pathLst>
              <a:path w="1945" h="1297">
                <a:moveTo>
                  <a:pt x="0" y="1224"/>
                </a:moveTo>
                <a:lnTo>
                  <a:pt x="218" y="1224"/>
                </a:lnTo>
                <a:lnTo>
                  <a:pt x="422" y="1224"/>
                </a:lnTo>
                <a:lnTo>
                  <a:pt x="612" y="1224"/>
                </a:lnTo>
                <a:lnTo>
                  <a:pt x="788" y="1224"/>
                </a:lnTo>
                <a:lnTo>
                  <a:pt x="949" y="1224"/>
                </a:lnTo>
                <a:lnTo>
                  <a:pt x="1097" y="1224"/>
                </a:lnTo>
                <a:lnTo>
                  <a:pt x="1230" y="1224"/>
                </a:lnTo>
                <a:lnTo>
                  <a:pt x="1350" y="1224"/>
                </a:lnTo>
                <a:lnTo>
                  <a:pt x="1455" y="1224"/>
                </a:lnTo>
                <a:lnTo>
                  <a:pt x="1547" y="1224"/>
                </a:lnTo>
                <a:lnTo>
                  <a:pt x="1624" y="1224"/>
                </a:lnTo>
                <a:lnTo>
                  <a:pt x="1688" y="1224"/>
                </a:lnTo>
                <a:lnTo>
                  <a:pt x="1737" y="1224"/>
                </a:lnTo>
                <a:lnTo>
                  <a:pt x="1772" y="1224"/>
                </a:lnTo>
                <a:lnTo>
                  <a:pt x="1793" y="1224"/>
                </a:lnTo>
                <a:lnTo>
                  <a:pt x="1800" y="1224"/>
                </a:lnTo>
                <a:lnTo>
                  <a:pt x="1800" y="1224"/>
                </a:lnTo>
                <a:lnTo>
                  <a:pt x="1800" y="1225"/>
                </a:lnTo>
                <a:lnTo>
                  <a:pt x="1800" y="1225"/>
                </a:lnTo>
                <a:lnTo>
                  <a:pt x="1800" y="1226"/>
                </a:lnTo>
                <a:lnTo>
                  <a:pt x="1800" y="1227"/>
                </a:lnTo>
                <a:lnTo>
                  <a:pt x="1800" y="1229"/>
                </a:lnTo>
                <a:lnTo>
                  <a:pt x="1800" y="1231"/>
                </a:lnTo>
                <a:lnTo>
                  <a:pt x="1800" y="1233"/>
                </a:lnTo>
                <a:lnTo>
                  <a:pt x="1800" y="1235"/>
                </a:lnTo>
                <a:lnTo>
                  <a:pt x="1800" y="1238"/>
                </a:lnTo>
                <a:lnTo>
                  <a:pt x="1800" y="1241"/>
                </a:lnTo>
                <a:lnTo>
                  <a:pt x="1800" y="1244"/>
                </a:lnTo>
                <a:lnTo>
                  <a:pt x="1800" y="1248"/>
                </a:lnTo>
                <a:lnTo>
                  <a:pt x="1800" y="1252"/>
                </a:lnTo>
                <a:lnTo>
                  <a:pt x="1800" y="1256"/>
                </a:lnTo>
                <a:lnTo>
                  <a:pt x="1800" y="1260"/>
                </a:lnTo>
                <a:lnTo>
                  <a:pt x="1800" y="1264"/>
                </a:lnTo>
                <a:lnTo>
                  <a:pt x="1800" y="1268"/>
                </a:lnTo>
                <a:lnTo>
                  <a:pt x="1800" y="1272"/>
                </a:lnTo>
                <a:lnTo>
                  <a:pt x="1800" y="1276"/>
                </a:lnTo>
                <a:lnTo>
                  <a:pt x="1800" y="1279"/>
                </a:lnTo>
                <a:lnTo>
                  <a:pt x="1800" y="1282"/>
                </a:lnTo>
                <a:lnTo>
                  <a:pt x="1800" y="1285"/>
                </a:lnTo>
                <a:lnTo>
                  <a:pt x="1800" y="1287"/>
                </a:lnTo>
                <a:lnTo>
                  <a:pt x="1800" y="1289"/>
                </a:lnTo>
                <a:lnTo>
                  <a:pt x="1800" y="1291"/>
                </a:lnTo>
                <a:lnTo>
                  <a:pt x="1800" y="1292"/>
                </a:lnTo>
                <a:lnTo>
                  <a:pt x="1800" y="1294"/>
                </a:lnTo>
                <a:lnTo>
                  <a:pt x="1800" y="1295"/>
                </a:lnTo>
                <a:lnTo>
                  <a:pt x="1800" y="1295"/>
                </a:lnTo>
                <a:lnTo>
                  <a:pt x="1800" y="1296"/>
                </a:lnTo>
                <a:lnTo>
                  <a:pt x="1800" y="1296"/>
                </a:lnTo>
                <a:lnTo>
                  <a:pt x="1800" y="1296"/>
                </a:lnTo>
                <a:lnTo>
                  <a:pt x="1801" y="1295"/>
                </a:lnTo>
                <a:lnTo>
                  <a:pt x="1803" y="1293"/>
                </a:lnTo>
                <a:lnTo>
                  <a:pt x="1805" y="1291"/>
                </a:lnTo>
                <a:lnTo>
                  <a:pt x="1807" y="1289"/>
                </a:lnTo>
                <a:lnTo>
                  <a:pt x="1810" y="1286"/>
                </a:lnTo>
                <a:lnTo>
                  <a:pt x="1814" y="1282"/>
                </a:lnTo>
                <a:lnTo>
                  <a:pt x="1818" y="1278"/>
                </a:lnTo>
                <a:lnTo>
                  <a:pt x="1823" y="1273"/>
                </a:lnTo>
                <a:lnTo>
                  <a:pt x="1828" y="1268"/>
                </a:lnTo>
                <a:lnTo>
                  <a:pt x="1834" y="1262"/>
                </a:lnTo>
                <a:lnTo>
                  <a:pt x="1841" y="1255"/>
                </a:lnTo>
                <a:lnTo>
                  <a:pt x="1848" y="1248"/>
                </a:lnTo>
                <a:lnTo>
                  <a:pt x="1855" y="1241"/>
                </a:lnTo>
                <a:lnTo>
                  <a:pt x="1863" y="1233"/>
                </a:lnTo>
                <a:lnTo>
                  <a:pt x="1872" y="1224"/>
                </a:lnTo>
                <a:lnTo>
                  <a:pt x="1881" y="1215"/>
                </a:lnTo>
                <a:lnTo>
                  <a:pt x="1889" y="1207"/>
                </a:lnTo>
                <a:lnTo>
                  <a:pt x="1896" y="1200"/>
                </a:lnTo>
                <a:lnTo>
                  <a:pt x="1904" y="1192"/>
                </a:lnTo>
                <a:lnTo>
                  <a:pt x="1910" y="1186"/>
                </a:lnTo>
                <a:lnTo>
                  <a:pt x="1916" y="1180"/>
                </a:lnTo>
                <a:lnTo>
                  <a:pt x="1921" y="1175"/>
                </a:lnTo>
                <a:lnTo>
                  <a:pt x="1926" y="1170"/>
                </a:lnTo>
                <a:lnTo>
                  <a:pt x="1930" y="1166"/>
                </a:lnTo>
                <a:lnTo>
                  <a:pt x="1934" y="1162"/>
                </a:lnTo>
                <a:lnTo>
                  <a:pt x="1937" y="1159"/>
                </a:lnTo>
                <a:lnTo>
                  <a:pt x="1940" y="1156"/>
                </a:lnTo>
                <a:lnTo>
                  <a:pt x="1941" y="1155"/>
                </a:lnTo>
                <a:lnTo>
                  <a:pt x="1943" y="1153"/>
                </a:lnTo>
                <a:lnTo>
                  <a:pt x="1944" y="1152"/>
                </a:lnTo>
                <a:lnTo>
                  <a:pt x="1944" y="1152"/>
                </a:lnTo>
                <a:lnTo>
                  <a:pt x="1944" y="1152"/>
                </a:lnTo>
                <a:lnTo>
                  <a:pt x="1943" y="1151"/>
                </a:lnTo>
                <a:lnTo>
                  <a:pt x="1941" y="1149"/>
                </a:lnTo>
                <a:lnTo>
                  <a:pt x="1940" y="1147"/>
                </a:lnTo>
                <a:lnTo>
                  <a:pt x="1937" y="1145"/>
                </a:lnTo>
                <a:lnTo>
                  <a:pt x="1934" y="1142"/>
                </a:lnTo>
                <a:lnTo>
                  <a:pt x="1930" y="1138"/>
                </a:lnTo>
                <a:lnTo>
                  <a:pt x="1926" y="1134"/>
                </a:lnTo>
                <a:lnTo>
                  <a:pt x="1921" y="1129"/>
                </a:lnTo>
                <a:lnTo>
                  <a:pt x="1916" y="1124"/>
                </a:lnTo>
                <a:lnTo>
                  <a:pt x="1910" y="1118"/>
                </a:lnTo>
                <a:lnTo>
                  <a:pt x="1904" y="1111"/>
                </a:lnTo>
                <a:lnTo>
                  <a:pt x="1896" y="1104"/>
                </a:lnTo>
                <a:lnTo>
                  <a:pt x="1889" y="1097"/>
                </a:lnTo>
                <a:lnTo>
                  <a:pt x="1881" y="1089"/>
                </a:lnTo>
                <a:lnTo>
                  <a:pt x="1872" y="1080"/>
                </a:lnTo>
                <a:lnTo>
                  <a:pt x="1863" y="1071"/>
                </a:lnTo>
                <a:lnTo>
                  <a:pt x="1855" y="1063"/>
                </a:lnTo>
                <a:lnTo>
                  <a:pt x="1848" y="1056"/>
                </a:lnTo>
                <a:lnTo>
                  <a:pt x="1841" y="1048"/>
                </a:lnTo>
                <a:lnTo>
                  <a:pt x="1834" y="1042"/>
                </a:lnTo>
                <a:lnTo>
                  <a:pt x="1828" y="1036"/>
                </a:lnTo>
                <a:lnTo>
                  <a:pt x="1823" y="1031"/>
                </a:lnTo>
                <a:lnTo>
                  <a:pt x="1818" y="1026"/>
                </a:lnTo>
                <a:lnTo>
                  <a:pt x="1814" y="1022"/>
                </a:lnTo>
                <a:lnTo>
                  <a:pt x="1810" y="1018"/>
                </a:lnTo>
                <a:lnTo>
                  <a:pt x="1807" y="1015"/>
                </a:lnTo>
                <a:lnTo>
                  <a:pt x="1805" y="1012"/>
                </a:lnTo>
                <a:lnTo>
                  <a:pt x="1803" y="1011"/>
                </a:lnTo>
                <a:lnTo>
                  <a:pt x="1801" y="1009"/>
                </a:lnTo>
                <a:lnTo>
                  <a:pt x="1800" y="1008"/>
                </a:lnTo>
                <a:lnTo>
                  <a:pt x="1800" y="1008"/>
                </a:lnTo>
                <a:lnTo>
                  <a:pt x="1800" y="1008"/>
                </a:lnTo>
                <a:lnTo>
                  <a:pt x="1800" y="1009"/>
                </a:lnTo>
                <a:lnTo>
                  <a:pt x="1800" y="1009"/>
                </a:lnTo>
                <a:lnTo>
                  <a:pt x="1800" y="1010"/>
                </a:lnTo>
                <a:lnTo>
                  <a:pt x="1800" y="1011"/>
                </a:lnTo>
                <a:lnTo>
                  <a:pt x="1800" y="1013"/>
                </a:lnTo>
                <a:lnTo>
                  <a:pt x="1800" y="1015"/>
                </a:lnTo>
                <a:lnTo>
                  <a:pt x="1800" y="1017"/>
                </a:lnTo>
                <a:lnTo>
                  <a:pt x="1800" y="1019"/>
                </a:lnTo>
                <a:lnTo>
                  <a:pt x="1800" y="1022"/>
                </a:lnTo>
                <a:lnTo>
                  <a:pt x="1800" y="1025"/>
                </a:lnTo>
                <a:lnTo>
                  <a:pt x="1800" y="1028"/>
                </a:lnTo>
                <a:lnTo>
                  <a:pt x="1800" y="1032"/>
                </a:lnTo>
                <a:lnTo>
                  <a:pt x="1800" y="1036"/>
                </a:lnTo>
                <a:lnTo>
                  <a:pt x="1800" y="1040"/>
                </a:lnTo>
                <a:lnTo>
                  <a:pt x="1800" y="1044"/>
                </a:lnTo>
                <a:lnTo>
                  <a:pt x="1800" y="1048"/>
                </a:lnTo>
                <a:lnTo>
                  <a:pt x="1800" y="1052"/>
                </a:lnTo>
                <a:lnTo>
                  <a:pt x="1800" y="1056"/>
                </a:lnTo>
                <a:lnTo>
                  <a:pt x="1800" y="1060"/>
                </a:lnTo>
                <a:lnTo>
                  <a:pt x="1800" y="1063"/>
                </a:lnTo>
                <a:lnTo>
                  <a:pt x="1800" y="1066"/>
                </a:lnTo>
                <a:lnTo>
                  <a:pt x="1800" y="1069"/>
                </a:lnTo>
                <a:lnTo>
                  <a:pt x="1800" y="1071"/>
                </a:lnTo>
                <a:lnTo>
                  <a:pt x="1800" y="1073"/>
                </a:lnTo>
                <a:lnTo>
                  <a:pt x="1800" y="1075"/>
                </a:lnTo>
                <a:lnTo>
                  <a:pt x="1800" y="1076"/>
                </a:lnTo>
                <a:lnTo>
                  <a:pt x="1800" y="1078"/>
                </a:lnTo>
                <a:lnTo>
                  <a:pt x="1800" y="1079"/>
                </a:lnTo>
                <a:lnTo>
                  <a:pt x="1800" y="1079"/>
                </a:lnTo>
                <a:lnTo>
                  <a:pt x="1800" y="1080"/>
                </a:lnTo>
                <a:lnTo>
                  <a:pt x="1800" y="1080"/>
                </a:lnTo>
                <a:lnTo>
                  <a:pt x="1799" y="1080"/>
                </a:lnTo>
                <a:lnTo>
                  <a:pt x="1797" y="1080"/>
                </a:lnTo>
                <a:lnTo>
                  <a:pt x="1794" y="1080"/>
                </a:lnTo>
                <a:lnTo>
                  <a:pt x="1789" y="1080"/>
                </a:lnTo>
                <a:lnTo>
                  <a:pt x="1782" y="1080"/>
                </a:lnTo>
                <a:lnTo>
                  <a:pt x="1775" y="1080"/>
                </a:lnTo>
                <a:lnTo>
                  <a:pt x="1766" y="1080"/>
                </a:lnTo>
                <a:lnTo>
                  <a:pt x="1755" y="1080"/>
                </a:lnTo>
                <a:lnTo>
                  <a:pt x="1743" y="1080"/>
                </a:lnTo>
                <a:lnTo>
                  <a:pt x="1730" y="1080"/>
                </a:lnTo>
                <a:lnTo>
                  <a:pt x="1715" y="1080"/>
                </a:lnTo>
                <a:lnTo>
                  <a:pt x="1699" y="1080"/>
                </a:lnTo>
                <a:lnTo>
                  <a:pt x="1681" y="1080"/>
                </a:lnTo>
                <a:lnTo>
                  <a:pt x="1662" y="1080"/>
                </a:lnTo>
                <a:lnTo>
                  <a:pt x="1642" y="1080"/>
                </a:lnTo>
                <a:lnTo>
                  <a:pt x="1620" y="1080"/>
                </a:lnTo>
                <a:lnTo>
                  <a:pt x="1598" y="1079"/>
                </a:lnTo>
                <a:lnTo>
                  <a:pt x="1578" y="1077"/>
                </a:lnTo>
                <a:lnTo>
                  <a:pt x="1559" y="1072"/>
                </a:lnTo>
                <a:lnTo>
                  <a:pt x="1541" y="1066"/>
                </a:lnTo>
                <a:lnTo>
                  <a:pt x="1525" y="1059"/>
                </a:lnTo>
                <a:lnTo>
                  <a:pt x="1510" y="1050"/>
                </a:lnTo>
                <a:lnTo>
                  <a:pt x="1497" y="1039"/>
                </a:lnTo>
                <a:lnTo>
                  <a:pt x="1485" y="1026"/>
                </a:lnTo>
                <a:lnTo>
                  <a:pt x="1474" y="1012"/>
                </a:lnTo>
                <a:lnTo>
                  <a:pt x="1465" y="996"/>
                </a:lnTo>
                <a:lnTo>
                  <a:pt x="1458" y="978"/>
                </a:lnTo>
                <a:lnTo>
                  <a:pt x="1451" y="958"/>
                </a:lnTo>
                <a:lnTo>
                  <a:pt x="1446" y="937"/>
                </a:lnTo>
                <a:lnTo>
                  <a:pt x="1443" y="915"/>
                </a:lnTo>
                <a:lnTo>
                  <a:pt x="1441" y="890"/>
                </a:lnTo>
                <a:lnTo>
                  <a:pt x="1440" y="864"/>
                </a:lnTo>
                <a:lnTo>
                  <a:pt x="1440" y="837"/>
                </a:lnTo>
                <a:lnTo>
                  <a:pt x="1440" y="810"/>
                </a:lnTo>
                <a:lnTo>
                  <a:pt x="1440" y="783"/>
                </a:lnTo>
                <a:lnTo>
                  <a:pt x="1440" y="756"/>
                </a:lnTo>
                <a:lnTo>
                  <a:pt x="1440" y="729"/>
                </a:lnTo>
                <a:lnTo>
                  <a:pt x="1440" y="702"/>
                </a:lnTo>
                <a:lnTo>
                  <a:pt x="1440" y="675"/>
                </a:lnTo>
                <a:lnTo>
                  <a:pt x="1440" y="648"/>
                </a:lnTo>
                <a:lnTo>
                  <a:pt x="1440" y="621"/>
                </a:lnTo>
                <a:lnTo>
                  <a:pt x="1440" y="594"/>
                </a:lnTo>
                <a:lnTo>
                  <a:pt x="1440" y="567"/>
                </a:lnTo>
                <a:lnTo>
                  <a:pt x="1440" y="540"/>
                </a:lnTo>
                <a:lnTo>
                  <a:pt x="1440" y="513"/>
                </a:lnTo>
                <a:lnTo>
                  <a:pt x="1440" y="486"/>
                </a:lnTo>
                <a:lnTo>
                  <a:pt x="1440" y="459"/>
                </a:lnTo>
                <a:lnTo>
                  <a:pt x="1440" y="432"/>
                </a:lnTo>
                <a:lnTo>
                  <a:pt x="1441" y="406"/>
                </a:lnTo>
                <a:lnTo>
                  <a:pt x="1443" y="381"/>
                </a:lnTo>
                <a:lnTo>
                  <a:pt x="1446" y="359"/>
                </a:lnTo>
                <a:lnTo>
                  <a:pt x="1451" y="337"/>
                </a:lnTo>
                <a:lnTo>
                  <a:pt x="1458" y="318"/>
                </a:lnTo>
                <a:lnTo>
                  <a:pt x="1465" y="300"/>
                </a:lnTo>
                <a:lnTo>
                  <a:pt x="1474" y="284"/>
                </a:lnTo>
                <a:lnTo>
                  <a:pt x="1485" y="270"/>
                </a:lnTo>
                <a:lnTo>
                  <a:pt x="1497" y="257"/>
                </a:lnTo>
                <a:lnTo>
                  <a:pt x="1510" y="246"/>
                </a:lnTo>
                <a:lnTo>
                  <a:pt x="1525" y="237"/>
                </a:lnTo>
                <a:lnTo>
                  <a:pt x="1541" y="229"/>
                </a:lnTo>
                <a:lnTo>
                  <a:pt x="1559" y="224"/>
                </a:lnTo>
                <a:lnTo>
                  <a:pt x="1578" y="219"/>
                </a:lnTo>
                <a:lnTo>
                  <a:pt x="1598" y="217"/>
                </a:lnTo>
                <a:lnTo>
                  <a:pt x="1620" y="216"/>
                </a:lnTo>
                <a:lnTo>
                  <a:pt x="1642" y="216"/>
                </a:lnTo>
                <a:lnTo>
                  <a:pt x="1662" y="216"/>
                </a:lnTo>
                <a:lnTo>
                  <a:pt x="1681" y="216"/>
                </a:lnTo>
                <a:lnTo>
                  <a:pt x="1699" y="216"/>
                </a:lnTo>
                <a:lnTo>
                  <a:pt x="1715" y="216"/>
                </a:lnTo>
                <a:lnTo>
                  <a:pt x="1730" y="216"/>
                </a:lnTo>
                <a:lnTo>
                  <a:pt x="1743" y="216"/>
                </a:lnTo>
                <a:lnTo>
                  <a:pt x="1755" y="216"/>
                </a:lnTo>
                <a:lnTo>
                  <a:pt x="1766" y="216"/>
                </a:lnTo>
                <a:lnTo>
                  <a:pt x="1775" y="216"/>
                </a:lnTo>
                <a:lnTo>
                  <a:pt x="1782" y="216"/>
                </a:lnTo>
                <a:lnTo>
                  <a:pt x="1789" y="216"/>
                </a:lnTo>
                <a:lnTo>
                  <a:pt x="1794" y="216"/>
                </a:lnTo>
                <a:lnTo>
                  <a:pt x="1797" y="216"/>
                </a:lnTo>
                <a:lnTo>
                  <a:pt x="1799" y="216"/>
                </a:lnTo>
                <a:lnTo>
                  <a:pt x="1800" y="216"/>
                </a:lnTo>
                <a:lnTo>
                  <a:pt x="1800" y="216"/>
                </a:lnTo>
                <a:lnTo>
                  <a:pt x="1800" y="217"/>
                </a:lnTo>
                <a:lnTo>
                  <a:pt x="1800" y="217"/>
                </a:lnTo>
                <a:lnTo>
                  <a:pt x="1800" y="218"/>
                </a:lnTo>
                <a:lnTo>
                  <a:pt x="1800" y="220"/>
                </a:lnTo>
                <a:lnTo>
                  <a:pt x="1800" y="221"/>
                </a:lnTo>
                <a:lnTo>
                  <a:pt x="1800" y="223"/>
                </a:lnTo>
                <a:lnTo>
                  <a:pt x="1800" y="225"/>
                </a:lnTo>
                <a:lnTo>
                  <a:pt x="1800" y="227"/>
                </a:lnTo>
                <a:lnTo>
                  <a:pt x="1800" y="230"/>
                </a:lnTo>
                <a:lnTo>
                  <a:pt x="1800" y="233"/>
                </a:lnTo>
                <a:lnTo>
                  <a:pt x="1800" y="236"/>
                </a:lnTo>
                <a:lnTo>
                  <a:pt x="1800" y="240"/>
                </a:lnTo>
                <a:lnTo>
                  <a:pt x="1800" y="244"/>
                </a:lnTo>
                <a:lnTo>
                  <a:pt x="1800" y="248"/>
                </a:lnTo>
                <a:lnTo>
                  <a:pt x="1800" y="252"/>
                </a:lnTo>
                <a:lnTo>
                  <a:pt x="1800" y="256"/>
                </a:lnTo>
                <a:lnTo>
                  <a:pt x="1800" y="260"/>
                </a:lnTo>
                <a:lnTo>
                  <a:pt x="1800" y="264"/>
                </a:lnTo>
                <a:lnTo>
                  <a:pt x="1800" y="268"/>
                </a:lnTo>
                <a:lnTo>
                  <a:pt x="1800" y="271"/>
                </a:lnTo>
                <a:lnTo>
                  <a:pt x="1800" y="274"/>
                </a:lnTo>
                <a:lnTo>
                  <a:pt x="1800" y="277"/>
                </a:lnTo>
                <a:lnTo>
                  <a:pt x="1800" y="279"/>
                </a:lnTo>
                <a:lnTo>
                  <a:pt x="1800" y="281"/>
                </a:lnTo>
                <a:lnTo>
                  <a:pt x="1800" y="283"/>
                </a:lnTo>
                <a:lnTo>
                  <a:pt x="1800" y="284"/>
                </a:lnTo>
                <a:lnTo>
                  <a:pt x="1800" y="286"/>
                </a:lnTo>
                <a:lnTo>
                  <a:pt x="1800" y="287"/>
                </a:lnTo>
                <a:lnTo>
                  <a:pt x="1800" y="287"/>
                </a:lnTo>
                <a:lnTo>
                  <a:pt x="1800" y="288"/>
                </a:lnTo>
                <a:lnTo>
                  <a:pt x="1800" y="288"/>
                </a:lnTo>
                <a:lnTo>
                  <a:pt x="1800" y="288"/>
                </a:lnTo>
                <a:lnTo>
                  <a:pt x="1801" y="287"/>
                </a:lnTo>
                <a:lnTo>
                  <a:pt x="1803" y="285"/>
                </a:lnTo>
                <a:lnTo>
                  <a:pt x="1805" y="283"/>
                </a:lnTo>
                <a:lnTo>
                  <a:pt x="1807" y="281"/>
                </a:lnTo>
                <a:lnTo>
                  <a:pt x="1810" y="278"/>
                </a:lnTo>
                <a:lnTo>
                  <a:pt x="1814" y="274"/>
                </a:lnTo>
                <a:lnTo>
                  <a:pt x="1818" y="270"/>
                </a:lnTo>
                <a:lnTo>
                  <a:pt x="1823" y="265"/>
                </a:lnTo>
                <a:lnTo>
                  <a:pt x="1828" y="260"/>
                </a:lnTo>
                <a:lnTo>
                  <a:pt x="1834" y="254"/>
                </a:lnTo>
                <a:lnTo>
                  <a:pt x="1841" y="247"/>
                </a:lnTo>
                <a:lnTo>
                  <a:pt x="1848" y="240"/>
                </a:lnTo>
                <a:lnTo>
                  <a:pt x="1855" y="233"/>
                </a:lnTo>
                <a:lnTo>
                  <a:pt x="1863" y="225"/>
                </a:lnTo>
                <a:lnTo>
                  <a:pt x="1872" y="216"/>
                </a:lnTo>
                <a:lnTo>
                  <a:pt x="1881" y="207"/>
                </a:lnTo>
                <a:lnTo>
                  <a:pt x="1889" y="199"/>
                </a:lnTo>
                <a:lnTo>
                  <a:pt x="1896" y="192"/>
                </a:lnTo>
                <a:lnTo>
                  <a:pt x="1904" y="184"/>
                </a:lnTo>
                <a:lnTo>
                  <a:pt x="1910" y="178"/>
                </a:lnTo>
                <a:lnTo>
                  <a:pt x="1916" y="172"/>
                </a:lnTo>
                <a:lnTo>
                  <a:pt x="1921" y="167"/>
                </a:lnTo>
                <a:lnTo>
                  <a:pt x="1926" y="162"/>
                </a:lnTo>
                <a:lnTo>
                  <a:pt x="1930" y="158"/>
                </a:lnTo>
                <a:lnTo>
                  <a:pt x="1934" y="154"/>
                </a:lnTo>
                <a:lnTo>
                  <a:pt x="1937" y="151"/>
                </a:lnTo>
                <a:lnTo>
                  <a:pt x="1940" y="148"/>
                </a:lnTo>
                <a:lnTo>
                  <a:pt x="1941" y="147"/>
                </a:lnTo>
                <a:lnTo>
                  <a:pt x="1943" y="145"/>
                </a:lnTo>
                <a:lnTo>
                  <a:pt x="1944" y="144"/>
                </a:lnTo>
                <a:lnTo>
                  <a:pt x="1944" y="144"/>
                </a:lnTo>
                <a:lnTo>
                  <a:pt x="1944" y="144"/>
                </a:lnTo>
                <a:lnTo>
                  <a:pt x="1943" y="143"/>
                </a:lnTo>
                <a:lnTo>
                  <a:pt x="1941" y="141"/>
                </a:lnTo>
                <a:lnTo>
                  <a:pt x="1940" y="139"/>
                </a:lnTo>
                <a:lnTo>
                  <a:pt x="1937" y="137"/>
                </a:lnTo>
                <a:lnTo>
                  <a:pt x="1934" y="134"/>
                </a:lnTo>
                <a:lnTo>
                  <a:pt x="1930" y="130"/>
                </a:lnTo>
                <a:lnTo>
                  <a:pt x="1926" y="126"/>
                </a:lnTo>
                <a:lnTo>
                  <a:pt x="1921" y="121"/>
                </a:lnTo>
                <a:lnTo>
                  <a:pt x="1916" y="116"/>
                </a:lnTo>
                <a:lnTo>
                  <a:pt x="1910" y="110"/>
                </a:lnTo>
                <a:lnTo>
                  <a:pt x="1904" y="103"/>
                </a:lnTo>
                <a:lnTo>
                  <a:pt x="1896" y="96"/>
                </a:lnTo>
                <a:lnTo>
                  <a:pt x="1889" y="89"/>
                </a:lnTo>
                <a:lnTo>
                  <a:pt x="1881" y="81"/>
                </a:lnTo>
                <a:lnTo>
                  <a:pt x="1872" y="72"/>
                </a:lnTo>
                <a:lnTo>
                  <a:pt x="1863" y="63"/>
                </a:lnTo>
                <a:lnTo>
                  <a:pt x="1855" y="55"/>
                </a:lnTo>
                <a:lnTo>
                  <a:pt x="1848" y="48"/>
                </a:lnTo>
                <a:lnTo>
                  <a:pt x="1841" y="40"/>
                </a:lnTo>
                <a:lnTo>
                  <a:pt x="1834" y="34"/>
                </a:lnTo>
                <a:lnTo>
                  <a:pt x="1828" y="28"/>
                </a:lnTo>
                <a:lnTo>
                  <a:pt x="1823" y="23"/>
                </a:lnTo>
                <a:lnTo>
                  <a:pt x="1818" y="18"/>
                </a:lnTo>
                <a:lnTo>
                  <a:pt x="1814" y="14"/>
                </a:lnTo>
                <a:lnTo>
                  <a:pt x="1810" y="10"/>
                </a:lnTo>
                <a:lnTo>
                  <a:pt x="1807" y="7"/>
                </a:lnTo>
                <a:lnTo>
                  <a:pt x="1805" y="4"/>
                </a:lnTo>
                <a:lnTo>
                  <a:pt x="1803" y="3"/>
                </a:lnTo>
                <a:lnTo>
                  <a:pt x="1801" y="1"/>
                </a:lnTo>
                <a:lnTo>
                  <a:pt x="1800" y="0"/>
                </a:lnTo>
                <a:lnTo>
                  <a:pt x="1800" y="0"/>
                </a:lnTo>
                <a:lnTo>
                  <a:pt x="1800" y="0"/>
                </a:lnTo>
                <a:lnTo>
                  <a:pt x="1800" y="1"/>
                </a:lnTo>
                <a:lnTo>
                  <a:pt x="1800" y="1"/>
                </a:lnTo>
                <a:lnTo>
                  <a:pt x="1800" y="2"/>
                </a:lnTo>
                <a:lnTo>
                  <a:pt x="1800" y="4"/>
                </a:lnTo>
                <a:lnTo>
                  <a:pt x="1800" y="5"/>
                </a:lnTo>
                <a:lnTo>
                  <a:pt x="1800" y="7"/>
                </a:lnTo>
                <a:lnTo>
                  <a:pt x="1800" y="9"/>
                </a:lnTo>
                <a:lnTo>
                  <a:pt x="1800" y="11"/>
                </a:lnTo>
                <a:lnTo>
                  <a:pt x="1800" y="14"/>
                </a:lnTo>
                <a:lnTo>
                  <a:pt x="1800" y="17"/>
                </a:lnTo>
                <a:lnTo>
                  <a:pt x="1800" y="20"/>
                </a:lnTo>
                <a:lnTo>
                  <a:pt x="1800" y="24"/>
                </a:lnTo>
                <a:lnTo>
                  <a:pt x="1800" y="28"/>
                </a:lnTo>
                <a:lnTo>
                  <a:pt x="1800" y="32"/>
                </a:lnTo>
                <a:lnTo>
                  <a:pt x="1800" y="36"/>
                </a:lnTo>
                <a:lnTo>
                  <a:pt x="1800" y="40"/>
                </a:lnTo>
                <a:lnTo>
                  <a:pt x="1800" y="44"/>
                </a:lnTo>
                <a:lnTo>
                  <a:pt x="1800" y="48"/>
                </a:lnTo>
                <a:lnTo>
                  <a:pt x="1800" y="52"/>
                </a:lnTo>
                <a:lnTo>
                  <a:pt x="1800" y="55"/>
                </a:lnTo>
                <a:lnTo>
                  <a:pt x="1800" y="58"/>
                </a:lnTo>
                <a:lnTo>
                  <a:pt x="1800" y="61"/>
                </a:lnTo>
                <a:lnTo>
                  <a:pt x="1800" y="63"/>
                </a:lnTo>
                <a:lnTo>
                  <a:pt x="1800" y="65"/>
                </a:lnTo>
                <a:lnTo>
                  <a:pt x="1800" y="67"/>
                </a:lnTo>
                <a:lnTo>
                  <a:pt x="1800" y="68"/>
                </a:lnTo>
                <a:lnTo>
                  <a:pt x="1800" y="70"/>
                </a:lnTo>
                <a:lnTo>
                  <a:pt x="1800" y="71"/>
                </a:lnTo>
                <a:lnTo>
                  <a:pt x="1800" y="71"/>
                </a:lnTo>
                <a:lnTo>
                  <a:pt x="1800" y="72"/>
                </a:lnTo>
                <a:lnTo>
                  <a:pt x="1800" y="72"/>
                </a:lnTo>
                <a:lnTo>
                  <a:pt x="1799" y="72"/>
                </a:lnTo>
                <a:lnTo>
                  <a:pt x="1797" y="72"/>
                </a:lnTo>
                <a:lnTo>
                  <a:pt x="1792" y="72"/>
                </a:lnTo>
                <a:lnTo>
                  <a:pt x="1787" y="72"/>
                </a:lnTo>
                <a:lnTo>
                  <a:pt x="1779" y="72"/>
                </a:lnTo>
                <a:lnTo>
                  <a:pt x="1770" y="72"/>
                </a:lnTo>
                <a:lnTo>
                  <a:pt x="1759" y="72"/>
                </a:lnTo>
                <a:lnTo>
                  <a:pt x="1746" y="72"/>
                </a:lnTo>
                <a:lnTo>
                  <a:pt x="1732" y="72"/>
                </a:lnTo>
                <a:lnTo>
                  <a:pt x="1716" y="72"/>
                </a:lnTo>
                <a:lnTo>
                  <a:pt x="1698" y="72"/>
                </a:lnTo>
                <a:lnTo>
                  <a:pt x="1679" y="72"/>
                </a:lnTo>
                <a:lnTo>
                  <a:pt x="1657" y="72"/>
                </a:lnTo>
                <a:lnTo>
                  <a:pt x="1635" y="72"/>
                </a:lnTo>
                <a:lnTo>
                  <a:pt x="1610" y="72"/>
                </a:lnTo>
                <a:lnTo>
                  <a:pt x="1584" y="72"/>
                </a:lnTo>
                <a:lnTo>
                  <a:pt x="1557" y="73"/>
                </a:lnTo>
                <a:lnTo>
                  <a:pt x="1532" y="75"/>
                </a:lnTo>
                <a:lnTo>
                  <a:pt x="1507" y="80"/>
                </a:lnTo>
                <a:lnTo>
                  <a:pt x="1483" y="85"/>
                </a:lnTo>
                <a:lnTo>
                  <a:pt x="1460" y="93"/>
                </a:lnTo>
                <a:lnTo>
                  <a:pt x="1437" y="102"/>
                </a:lnTo>
                <a:lnTo>
                  <a:pt x="1416" y="113"/>
                </a:lnTo>
                <a:lnTo>
                  <a:pt x="1395" y="126"/>
                </a:lnTo>
                <a:lnTo>
                  <a:pt x="1375" y="140"/>
                </a:lnTo>
                <a:lnTo>
                  <a:pt x="1356" y="156"/>
                </a:lnTo>
                <a:lnTo>
                  <a:pt x="1338" y="174"/>
                </a:lnTo>
                <a:lnTo>
                  <a:pt x="1321" y="193"/>
                </a:lnTo>
                <a:lnTo>
                  <a:pt x="1304" y="215"/>
                </a:lnTo>
                <a:lnTo>
                  <a:pt x="1289" y="237"/>
                </a:lnTo>
                <a:lnTo>
                  <a:pt x="1274" y="262"/>
                </a:lnTo>
                <a:lnTo>
                  <a:pt x="1260" y="288"/>
                </a:lnTo>
                <a:lnTo>
                  <a:pt x="1247" y="314"/>
                </a:lnTo>
                <a:lnTo>
                  <a:pt x="1235" y="339"/>
                </a:lnTo>
                <a:lnTo>
                  <a:pt x="1223" y="361"/>
                </a:lnTo>
                <a:lnTo>
                  <a:pt x="1213" y="382"/>
                </a:lnTo>
                <a:lnTo>
                  <a:pt x="1203" y="402"/>
                </a:lnTo>
                <a:lnTo>
                  <a:pt x="1194" y="420"/>
                </a:lnTo>
                <a:lnTo>
                  <a:pt x="1186" y="436"/>
                </a:lnTo>
                <a:lnTo>
                  <a:pt x="1179" y="450"/>
                </a:lnTo>
                <a:lnTo>
                  <a:pt x="1173" y="463"/>
                </a:lnTo>
                <a:lnTo>
                  <a:pt x="1167" y="474"/>
                </a:lnTo>
                <a:lnTo>
                  <a:pt x="1163" y="483"/>
                </a:lnTo>
                <a:lnTo>
                  <a:pt x="1159" y="490"/>
                </a:lnTo>
                <a:lnTo>
                  <a:pt x="1156" y="496"/>
                </a:lnTo>
                <a:lnTo>
                  <a:pt x="1154" y="501"/>
                </a:lnTo>
                <a:lnTo>
                  <a:pt x="1152" y="503"/>
                </a:lnTo>
                <a:lnTo>
                  <a:pt x="1152" y="504"/>
                </a:lnTo>
                <a:lnTo>
                  <a:pt x="1150" y="504"/>
                </a:lnTo>
                <a:lnTo>
                  <a:pt x="1143" y="504"/>
                </a:lnTo>
                <a:lnTo>
                  <a:pt x="1132" y="504"/>
                </a:lnTo>
                <a:lnTo>
                  <a:pt x="1116" y="504"/>
                </a:lnTo>
                <a:lnTo>
                  <a:pt x="1096" y="504"/>
                </a:lnTo>
                <a:lnTo>
                  <a:pt x="1071" y="504"/>
                </a:lnTo>
                <a:lnTo>
                  <a:pt x="1042" y="504"/>
                </a:lnTo>
                <a:lnTo>
                  <a:pt x="1008" y="504"/>
                </a:lnTo>
                <a:lnTo>
                  <a:pt x="970" y="504"/>
                </a:lnTo>
                <a:lnTo>
                  <a:pt x="927" y="504"/>
                </a:lnTo>
                <a:lnTo>
                  <a:pt x="880" y="504"/>
                </a:lnTo>
                <a:lnTo>
                  <a:pt x="828" y="504"/>
                </a:lnTo>
                <a:lnTo>
                  <a:pt x="772" y="504"/>
                </a:lnTo>
                <a:lnTo>
                  <a:pt x="711" y="504"/>
                </a:lnTo>
                <a:lnTo>
                  <a:pt x="646" y="504"/>
                </a:lnTo>
                <a:lnTo>
                  <a:pt x="576" y="504"/>
                </a:lnTo>
                <a:lnTo>
                  <a:pt x="506" y="504"/>
                </a:lnTo>
                <a:lnTo>
                  <a:pt x="441" y="504"/>
                </a:lnTo>
                <a:lnTo>
                  <a:pt x="380" y="504"/>
                </a:lnTo>
                <a:lnTo>
                  <a:pt x="324" y="504"/>
                </a:lnTo>
                <a:lnTo>
                  <a:pt x="272" y="504"/>
                </a:lnTo>
                <a:lnTo>
                  <a:pt x="225" y="504"/>
                </a:lnTo>
                <a:lnTo>
                  <a:pt x="182" y="504"/>
                </a:lnTo>
                <a:lnTo>
                  <a:pt x="144" y="504"/>
                </a:lnTo>
                <a:lnTo>
                  <a:pt x="110" y="504"/>
                </a:lnTo>
                <a:lnTo>
                  <a:pt x="81" y="504"/>
                </a:lnTo>
                <a:lnTo>
                  <a:pt x="56" y="504"/>
                </a:lnTo>
                <a:lnTo>
                  <a:pt x="36" y="504"/>
                </a:lnTo>
                <a:lnTo>
                  <a:pt x="20" y="504"/>
                </a:lnTo>
                <a:lnTo>
                  <a:pt x="9" y="504"/>
                </a:lnTo>
                <a:lnTo>
                  <a:pt x="2" y="504"/>
                </a:lnTo>
                <a:lnTo>
                  <a:pt x="0" y="504"/>
                </a:lnTo>
                <a:lnTo>
                  <a:pt x="0" y="507"/>
                </a:lnTo>
                <a:lnTo>
                  <a:pt x="0" y="515"/>
                </a:lnTo>
                <a:lnTo>
                  <a:pt x="0" y="529"/>
                </a:lnTo>
                <a:lnTo>
                  <a:pt x="0" y="549"/>
                </a:lnTo>
                <a:lnTo>
                  <a:pt x="0" y="574"/>
                </a:lnTo>
                <a:lnTo>
                  <a:pt x="0" y="605"/>
                </a:lnTo>
                <a:lnTo>
                  <a:pt x="0" y="642"/>
                </a:lnTo>
                <a:lnTo>
                  <a:pt x="0" y="684"/>
                </a:lnTo>
                <a:lnTo>
                  <a:pt x="0" y="732"/>
                </a:lnTo>
                <a:lnTo>
                  <a:pt x="0" y="785"/>
                </a:lnTo>
                <a:lnTo>
                  <a:pt x="0" y="844"/>
                </a:lnTo>
                <a:lnTo>
                  <a:pt x="0" y="909"/>
                </a:lnTo>
                <a:lnTo>
                  <a:pt x="0" y="979"/>
                </a:lnTo>
                <a:lnTo>
                  <a:pt x="0" y="1055"/>
                </a:lnTo>
                <a:lnTo>
                  <a:pt x="0" y="1137"/>
                </a:lnTo>
                <a:lnTo>
                  <a:pt x="0" y="1224"/>
                </a:lnTo>
                <a:close/>
              </a:path>
            </a:pathLst>
          </a:custGeom>
          <a:solidFill>
            <a:srgbClr val="ebf1ff"/>
          </a:solidFill>
          <a:ln w="6480">
            <a:solidFill>
              <a:srgbClr val="4d80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313" name=""/>
          <p:cNvSpPr/>
          <p:nvPr/>
        </p:nvSpPr>
        <p:spPr>
          <a:xfrm>
            <a:off x="2362320" y="1600200"/>
            <a:ext cx="3381120" cy="3200400"/>
          </a:xfrm>
          <a:custGeom>
            <a:avLst/>
            <a:gdLst/>
            <a:ahLst/>
            <a:rect l="l" t="t" r="r" b="b"/>
            <a:pathLst>
              <a:path w="1945" h="1297">
                <a:moveTo>
                  <a:pt x="0" y="72"/>
                </a:moveTo>
                <a:lnTo>
                  <a:pt x="218" y="72"/>
                </a:lnTo>
                <a:lnTo>
                  <a:pt x="422" y="72"/>
                </a:lnTo>
                <a:lnTo>
                  <a:pt x="612" y="72"/>
                </a:lnTo>
                <a:lnTo>
                  <a:pt x="788" y="72"/>
                </a:lnTo>
                <a:lnTo>
                  <a:pt x="949" y="72"/>
                </a:lnTo>
                <a:lnTo>
                  <a:pt x="1097" y="72"/>
                </a:lnTo>
                <a:lnTo>
                  <a:pt x="1230" y="72"/>
                </a:lnTo>
                <a:lnTo>
                  <a:pt x="1350" y="72"/>
                </a:lnTo>
                <a:lnTo>
                  <a:pt x="1455" y="72"/>
                </a:lnTo>
                <a:lnTo>
                  <a:pt x="1547" y="72"/>
                </a:lnTo>
                <a:lnTo>
                  <a:pt x="1624" y="72"/>
                </a:lnTo>
                <a:lnTo>
                  <a:pt x="1688" y="72"/>
                </a:lnTo>
                <a:lnTo>
                  <a:pt x="1737" y="72"/>
                </a:lnTo>
                <a:lnTo>
                  <a:pt x="1772" y="72"/>
                </a:lnTo>
                <a:lnTo>
                  <a:pt x="1793" y="72"/>
                </a:lnTo>
                <a:lnTo>
                  <a:pt x="1800" y="72"/>
                </a:lnTo>
                <a:lnTo>
                  <a:pt x="1800" y="72"/>
                </a:lnTo>
                <a:lnTo>
                  <a:pt x="1800" y="71"/>
                </a:lnTo>
                <a:lnTo>
                  <a:pt x="1800" y="71"/>
                </a:lnTo>
                <a:lnTo>
                  <a:pt x="1800" y="70"/>
                </a:lnTo>
                <a:lnTo>
                  <a:pt x="1800" y="68"/>
                </a:lnTo>
                <a:lnTo>
                  <a:pt x="1800" y="67"/>
                </a:lnTo>
                <a:lnTo>
                  <a:pt x="1800" y="65"/>
                </a:lnTo>
                <a:lnTo>
                  <a:pt x="1800" y="63"/>
                </a:lnTo>
                <a:lnTo>
                  <a:pt x="1800" y="61"/>
                </a:lnTo>
                <a:lnTo>
                  <a:pt x="1800" y="58"/>
                </a:lnTo>
                <a:lnTo>
                  <a:pt x="1800" y="55"/>
                </a:lnTo>
                <a:lnTo>
                  <a:pt x="1800" y="52"/>
                </a:lnTo>
                <a:lnTo>
                  <a:pt x="1800" y="48"/>
                </a:lnTo>
                <a:lnTo>
                  <a:pt x="1800" y="44"/>
                </a:lnTo>
                <a:lnTo>
                  <a:pt x="1800" y="40"/>
                </a:lnTo>
                <a:lnTo>
                  <a:pt x="1800" y="36"/>
                </a:lnTo>
                <a:lnTo>
                  <a:pt x="1800" y="32"/>
                </a:lnTo>
                <a:lnTo>
                  <a:pt x="1800" y="28"/>
                </a:lnTo>
                <a:lnTo>
                  <a:pt x="1800" y="24"/>
                </a:lnTo>
                <a:lnTo>
                  <a:pt x="1800" y="20"/>
                </a:lnTo>
                <a:lnTo>
                  <a:pt x="1800" y="17"/>
                </a:lnTo>
                <a:lnTo>
                  <a:pt x="1800" y="14"/>
                </a:lnTo>
                <a:lnTo>
                  <a:pt x="1800" y="11"/>
                </a:lnTo>
                <a:lnTo>
                  <a:pt x="1800" y="9"/>
                </a:lnTo>
                <a:lnTo>
                  <a:pt x="1800" y="7"/>
                </a:lnTo>
                <a:lnTo>
                  <a:pt x="1800" y="5"/>
                </a:lnTo>
                <a:lnTo>
                  <a:pt x="1800" y="4"/>
                </a:lnTo>
                <a:lnTo>
                  <a:pt x="1800" y="2"/>
                </a:lnTo>
                <a:lnTo>
                  <a:pt x="1800" y="1"/>
                </a:lnTo>
                <a:lnTo>
                  <a:pt x="1800" y="1"/>
                </a:lnTo>
                <a:lnTo>
                  <a:pt x="1800" y="0"/>
                </a:lnTo>
                <a:lnTo>
                  <a:pt x="1800" y="0"/>
                </a:lnTo>
                <a:lnTo>
                  <a:pt x="1800" y="0"/>
                </a:lnTo>
                <a:lnTo>
                  <a:pt x="1801" y="1"/>
                </a:lnTo>
                <a:lnTo>
                  <a:pt x="1803" y="3"/>
                </a:lnTo>
                <a:lnTo>
                  <a:pt x="1805" y="5"/>
                </a:lnTo>
                <a:lnTo>
                  <a:pt x="1807" y="7"/>
                </a:lnTo>
                <a:lnTo>
                  <a:pt x="1810" y="10"/>
                </a:lnTo>
                <a:lnTo>
                  <a:pt x="1814" y="14"/>
                </a:lnTo>
                <a:lnTo>
                  <a:pt x="1818" y="18"/>
                </a:lnTo>
                <a:lnTo>
                  <a:pt x="1823" y="23"/>
                </a:lnTo>
                <a:lnTo>
                  <a:pt x="1828" y="28"/>
                </a:lnTo>
                <a:lnTo>
                  <a:pt x="1834" y="34"/>
                </a:lnTo>
                <a:lnTo>
                  <a:pt x="1841" y="41"/>
                </a:lnTo>
                <a:lnTo>
                  <a:pt x="1848" y="48"/>
                </a:lnTo>
                <a:lnTo>
                  <a:pt x="1855" y="55"/>
                </a:lnTo>
                <a:lnTo>
                  <a:pt x="1863" y="63"/>
                </a:lnTo>
                <a:lnTo>
                  <a:pt x="1872" y="72"/>
                </a:lnTo>
                <a:lnTo>
                  <a:pt x="1881" y="81"/>
                </a:lnTo>
                <a:lnTo>
                  <a:pt x="1889" y="89"/>
                </a:lnTo>
                <a:lnTo>
                  <a:pt x="1896" y="96"/>
                </a:lnTo>
                <a:lnTo>
                  <a:pt x="1904" y="104"/>
                </a:lnTo>
                <a:lnTo>
                  <a:pt x="1910" y="110"/>
                </a:lnTo>
                <a:lnTo>
                  <a:pt x="1916" y="116"/>
                </a:lnTo>
                <a:lnTo>
                  <a:pt x="1921" y="121"/>
                </a:lnTo>
                <a:lnTo>
                  <a:pt x="1926" y="126"/>
                </a:lnTo>
                <a:lnTo>
                  <a:pt x="1930" y="130"/>
                </a:lnTo>
                <a:lnTo>
                  <a:pt x="1934" y="134"/>
                </a:lnTo>
                <a:lnTo>
                  <a:pt x="1937" y="137"/>
                </a:lnTo>
                <a:lnTo>
                  <a:pt x="1940" y="140"/>
                </a:lnTo>
                <a:lnTo>
                  <a:pt x="1941" y="141"/>
                </a:lnTo>
                <a:lnTo>
                  <a:pt x="1943" y="143"/>
                </a:lnTo>
                <a:lnTo>
                  <a:pt x="1944" y="144"/>
                </a:lnTo>
                <a:lnTo>
                  <a:pt x="1944" y="144"/>
                </a:lnTo>
                <a:lnTo>
                  <a:pt x="1944" y="144"/>
                </a:lnTo>
                <a:lnTo>
                  <a:pt x="1943" y="145"/>
                </a:lnTo>
                <a:lnTo>
                  <a:pt x="1941" y="147"/>
                </a:lnTo>
                <a:lnTo>
                  <a:pt x="1940" y="149"/>
                </a:lnTo>
                <a:lnTo>
                  <a:pt x="1937" y="151"/>
                </a:lnTo>
                <a:lnTo>
                  <a:pt x="1934" y="154"/>
                </a:lnTo>
                <a:lnTo>
                  <a:pt x="1930" y="158"/>
                </a:lnTo>
                <a:lnTo>
                  <a:pt x="1926" y="162"/>
                </a:lnTo>
                <a:lnTo>
                  <a:pt x="1921" y="167"/>
                </a:lnTo>
                <a:lnTo>
                  <a:pt x="1916" y="172"/>
                </a:lnTo>
                <a:lnTo>
                  <a:pt x="1910" y="178"/>
                </a:lnTo>
                <a:lnTo>
                  <a:pt x="1904" y="185"/>
                </a:lnTo>
                <a:lnTo>
                  <a:pt x="1896" y="192"/>
                </a:lnTo>
                <a:lnTo>
                  <a:pt x="1889" y="199"/>
                </a:lnTo>
                <a:lnTo>
                  <a:pt x="1881" y="207"/>
                </a:lnTo>
                <a:lnTo>
                  <a:pt x="1872" y="216"/>
                </a:lnTo>
                <a:lnTo>
                  <a:pt x="1863" y="225"/>
                </a:lnTo>
                <a:lnTo>
                  <a:pt x="1855" y="233"/>
                </a:lnTo>
                <a:lnTo>
                  <a:pt x="1848" y="240"/>
                </a:lnTo>
                <a:lnTo>
                  <a:pt x="1841" y="247"/>
                </a:lnTo>
                <a:lnTo>
                  <a:pt x="1834" y="254"/>
                </a:lnTo>
                <a:lnTo>
                  <a:pt x="1828" y="260"/>
                </a:lnTo>
                <a:lnTo>
                  <a:pt x="1823" y="265"/>
                </a:lnTo>
                <a:lnTo>
                  <a:pt x="1818" y="270"/>
                </a:lnTo>
                <a:lnTo>
                  <a:pt x="1814" y="274"/>
                </a:lnTo>
                <a:lnTo>
                  <a:pt x="1810" y="278"/>
                </a:lnTo>
                <a:lnTo>
                  <a:pt x="1807" y="281"/>
                </a:lnTo>
                <a:lnTo>
                  <a:pt x="1805" y="283"/>
                </a:lnTo>
                <a:lnTo>
                  <a:pt x="1803" y="285"/>
                </a:lnTo>
                <a:lnTo>
                  <a:pt x="1801" y="287"/>
                </a:lnTo>
                <a:lnTo>
                  <a:pt x="1800" y="288"/>
                </a:lnTo>
                <a:lnTo>
                  <a:pt x="1800" y="288"/>
                </a:lnTo>
                <a:lnTo>
                  <a:pt x="1800" y="288"/>
                </a:lnTo>
                <a:lnTo>
                  <a:pt x="1800" y="287"/>
                </a:lnTo>
                <a:lnTo>
                  <a:pt x="1800" y="287"/>
                </a:lnTo>
                <a:lnTo>
                  <a:pt x="1800" y="286"/>
                </a:lnTo>
                <a:lnTo>
                  <a:pt x="1800" y="284"/>
                </a:lnTo>
                <a:lnTo>
                  <a:pt x="1800" y="283"/>
                </a:lnTo>
                <a:lnTo>
                  <a:pt x="1800" y="281"/>
                </a:lnTo>
                <a:lnTo>
                  <a:pt x="1800" y="279"/>
                </a:lnTo>
                <a:lnTo>
                  <a:pt x="1800" y="277"/>
                </a:lnTo>
                <a:lnTo>
                  <a:pt x="1800" y="274"/>
                </a:lnTo>
                <a:lnTo>
                  <a:pt x="1800" y="271"/>
                </a:lnTo>
                <a:lnTo>
                  <a:pt x="1800" y="268"/>
                </a:lnTo>
                <a:lnTo>
                  <a:pt x="1800" y="264"/>
                </a:lnTo>
                <a:lnTo>
                  <a:pt x="1800" y="260"/>
                </a:lnTo>
                <a:lnTo>
                  <a:pt x="1800" y="256"/>
                </a:lnTo>
                <a:lnTo>
                  <a:pt x="1800" y="252"/>
                </a:lnTo>
                <a:lnTo>
                  <a:pt x="1800" y="248"/>
                </a:lnTo>
                <a:lnTo>
                  <a:pt x="1800" y="244"/>
                </a:lnTo>
                <a:lnTo>
                  <a:pt x="1800" y="240"/>
                </a:lnTo>
                <a:lnTo>
                  <a:pt x="1800" y="236"/>
                </a:lnTo>
                <a:lnTo>
                  <a:pt x="1800" y="233"/>
                </a:lnTo>
                <a:lnTo>
                  <a:pt x="1800" y="230"/>
                </a:lnTo>
                <a:lnTo>
                  <a:pt x="1800" y="227"/>
                </a:lnTo>
                <a:lnTo>
                  <a:pt x="1800" y="225"/>
                </a:lnTo>
                <a:lnTo>
                  <a:pt x="1800" y="223"/>
                </a:lnTo>
                <a:lnTo>
                  <a:pt x="1800" y="221"/>
                </a:lnTo>
                <a:lnTo>
                  <a:pt x="1800" y="220"/>
                </a:lnTo>
                <a:lnTo>
                  <a:pt x="1800" y="218"/>
                </a:lnTo>
                <a:lnTo>
                  <a:pt x="1800" y="217"/>
                </a:lnTo>
                <a:lnTo>
                  <a:pt x="1800" y="217"/>
                </a:lnTo>
                <a:lnTo>
                  <a:pt x="1800" y="216"/>
                </a:lnTo>
                <a:lnTo>
                  <a:pt x="1800" y="216"/>
                </a:lnTo>
                <a:lnTo>
                  <a:pt x="1799" y="216"/>
                </a:lnTo>
                <a:lnTo>
                  <a:pt x="1797" y="216"/>
                </a:lnTo>
                <a:lnTo>
                  <a:pt x="1794" y="216"/>
                </a:lnTo>
                <a:lnTo>
                  <a:pt x="1789" y="216"/>
                </a:lnTo>
                <a:lnTo>
                  <a:pt x="1782" y="216"/>
                </a:lnTo>
                <a:lnTo>
                  <a:pt x="1775" y="216"/>
                </a:lnTo>
                <a:lnTo>
                  <a:pt x="1766" y="216"/>
                </a:lnTo>
                <a:lnTo>
                  <a:pt x="1755" y="216"/>
                </a:lnTo>
                <a:lnTo>
                  <a:pt x="1743" y="216"/>
                </a:lnTo>
                <a:lnTo>
                  <a:pt x="1730" y="216"/>
                </a:lnTo>
                <a:lnTo>
                  <a:pt x="1715" y="216"/>
                </a:lnTo>
                <a:lnTo>
                  <a:pt x="1699" y="216"/>
                </a:lnTo>
                <a:lnTo>
                  <a:pt x="1681" y="216"/>
                </a:lnTo>
                <a:lnTo>
                  <a:pt x="1662" y="216"/>
                </a:lnTo>
                <a:lnTo>
                  <a:pt x="1642" y="216"/>
                </a:lnTo>
                <a:lnTo>
                  <a:pt x="1620" y="216"/>
                </a:lnTo>
                <a:lnTo>
                  <a:pt x="1598" y="217"/>
                </a:lnTo>
                <a:lnTo>
                  <a:pt x="1578" y="219"/>
                </a:lnTo>
                <a:lnTo>
                  <a:pt x="1559" y="224"/>
                </a:lnTo>
                <a:lnTo>
                  <a:pt x="1541" y="230"/>
                </a:lnTo>
                <a:lnTo>
                  <a:pt x="1525" y="237"/>
                </a:lnTo>
                <a:lnTo>
                  <a:pt x="1510" y="246"/>
                </a:lnTo>
                <a:lnTo>
                  <a:pt x="1497" y="257"/>
                </a:lnTo>
                <a:lnTo>
                  <a:pt x="1485" y="270"/>
                </a:lnTo>
                <a:lnTo>
                  <a:pt x="1474" y="284"/>
                </a:lnTo>
                <a:lnTo>
                  <a:pt x="1465" y="300"/>
                </a:lnTo>
                <a:lnTo>
                  <a:pt x="1458" y="318"/>
                </a:lnTo>
                <a:lnTo>
                  <a:pt x="1451" y="337"/>
                </a:lnTo>
                <a:lnTo>
                  <a:pt x="1446" y="359"/>
                </a:lnTo>
                <a:lnTo>
                  <a:pt x="1443" y="381"/>
                </a:lnTo>
                <a:lnTo>
                  <a:pt x="1441" y="406"/>
                </a:lnTo>
                <a:lnTo>
                  <a:pt x="1440" y="432"/>
                </a:lnTo>
                <a:lnTo>
                  <a:pt x="1440" y="459"/>
                </a:lnTo>
                <a:lnTo>
                  <a:pt x="1440" y="486"/>
                </a:lnTo>
                <a:lnTo>
                  <a:pt x="1440" y="513"/>
                </a:lnTo>
                <a:lnTo>
                  <a:pt x="1440" y="540"/>
                </a:lnTo>
                <a:lnTo>
                  <a:pt x="1440" y="567"/>
                </a:lnTo>
                <a:lnTo>
                  <a:pt x="1440" y="594"/>
                </a:lnTo>
                <a:lnTo>
                  <a:pt x="1440" y="621"/>
                </a:lnTo>
                <a:lnTo>
                  <a:pt x="1440" y="648"/>
                </a:lnTo>
                <a:lnTo>
                  <a:pt x="1440" y="675"/>
                </a:lnTo>
                <a:lnTo>
                  <a:pt x="1440" y="702"/>
                </a:lnTo>
                <a:lnTo>
                  <a:pt x="1440" y="729"/>
                </a:lnTo>
                <a:lnTo>
                  <a:pt x="1440" y="756"/>
                </a:lnTo>
                <a:lnTo>
                  <a:pt x="1440" y="783"/>
                </a:lnTo>
                <a:lnTo>
                  <a:pt x="1440" y="810"/>
                </a:lnTo>
                <a:lnTo>
                  <a:pt x="1440" y="837"/>
                </a:lnTo>
                <a:lnTo>
                  <a:pt x="1440" y="864"/>
                </a:lnTo>
                <a:lnTo>
                  <a:pt x="1441" y="890"/>
                </a:lnTo>
                <a:lnTo>
                  <a:pt x="1443" y="915"/>
                </a:lnTo>
                <a:lnTo>
                  <a:pt x="1446" y="937"/>
                </a:lnTo>
                <a:lnTo>
                  <a:pt x="1451" y="958"/>
                </a:lnTo>
                <a:lnTo>
                  <a:pt x="1458" y="978"/>
                </a:lnTo>
                <a:lnTo>
                  <a:pt x="1465" y="996"/>
                </a:lnTo>
                <a:lnTo>
                  <a:pt x="1474" y="1012"/>
                </a:lnTo>
                <a:lnTo>
                  <a:pt x="1485" y="1026"/>
                </a:lnTo>
                <a:lnTo>
                  <a:pt x="1497" y="1039"/>
                </a:lnTo>
                <a:lnTo>
                  <a:pt x="1510" y="1050"/>
                </a:lnTo>
                <a:lnTo>
                  <a:pt x="1525" y="1059"/>
                </a:lnTo>
                <a:lnTo>
                  <a:pt x="1541" y="1066"/>
                </a:lnTo>
                <a:lnTo>
                  <a:pt x="1559" y="1072"/>
                </a:lnTo>
                <a:lnTo>
                  <a:pt x="1578" y="1077"/>
                </a:lnTo>
                <a:lnTo>
                  <a:pt x="1598" y="1079"/>
                </a:lnTo>
                <a:lnTo>
                  <a:pt x="1620" y="1080"/>
                </a:lnTo>
                <a:lnTo>
                  <a:pt x="1642" y="1080"/>
                </a:lnTo>
                <a:lnTo>
                  <a:pt x="1662" y="1080"/>
                </a:lnTo>
                <a:lnTo>
                  <a:pt x="1681" y="1080"/>
                </a:lnTo>
                <a:lnTo>
                  <a:pt x="1699" y="1080"/>
                </a:lnTo>
                <a:lnTo>
                  <a:pt x="1715" y="1080"/>
                </a:lnTo>
                <a:lnTo>
                  <a:pt x="1730" y="1080"/>
                </a:lnTo>
                <a:lnTo>
                  <a:pt x="1743" y="1080"/>
                </a:lnTo>
                <a:lnTo>
                  <a:pt x="1755" y="1080"/>
                </a:lnTo>
                <a:lnTo>
                  <a:pt x="1766" y="1080"/>
                </a:lnTo>
                <a:lnTo>
                  <a:pt x="1775" y="1080"/>
                </a:lnTo>
                <a:lnTo>
                  <a:pt x="1782" y="1080"/>
                </a:lnTo>
                <a:lnTo>
                  <a:pt x="1789" y="1080"/>
                </a:lnTo>
                <a:lnTo>
                  <a:pt x="1794" y="1080"/>
                </a:lnTo>
                <a:lnTo>
                  <a:pt x="1797" y="1080"/>
                </a:lnTo>
                <a:lnTo>
                  <a:pt x="1799" y="1080"/>
                </a:lnTo>
                <a:lnTo>
                  <a:pt x="1800" y="1080"/>
                </a:lnTo>
                <a:lnTo>
                  <a:pt x="1800" y="1080"/>
                </a:lnTo>
                <a:lnTo>
                  <a:pt x="1800" y="1079"/>
                </a:lnTo>
                <a:lnTo>
                  <a:pt x="1800" y="1079"/>
                </a:lnTo>
                <a:lnTo>
                  <a:pt x="1800" y="1078"/>
                </a:lnTo>
                <a:lnTo>
                  <a:pt x="1800" y="1076"/>
                </a:lnTo>
                <a:lnTo>
                  <a:pt x="1800" y="1075"/>
                </a:lnTo>
                <a:lnTo>
                  <a:pt x="1800" y="1073"/>
                </a:lnTo>
                <a:lnTo>
                  <a:pt x="1800" y="1071"/>
                </a:lnTo>
                <a:lnTo>
                  <a:pt x="1800" y="1069"/>
                </a:lnTo>
                <a:lnTo>
                  <a:pt x="1800" y="1066"/>
                </a:lnTo>
                <a:lnTo>
                  <a:pt x="1800" y="1063"/>
                </a:lnTo>
                <a:lnTo>
                  <a:pt x="1800" y="1060"/>
                </a:lnTo>
                <a:lnTo>
                  <a:pt x="1800" y="1056"/>
                </a:lnTo>
                <a:lnTo>
                  <a:pt x="1800" y="1052"/>
                </a:lnTo>
                <a:lnTo>
                  <a:pt x="1800" y="1048"/>
                </a:lnTo>
                <a:lnTo>
                  <a:pt x="1800" y="1044"/>
                </a:lnTo>
                <a:lnTo>
                  <a:pt x="1800" y="1040"/>
                </a:lnTo>
                <a:lnTo>
                  <a:pt x="1800" y="1036"/>
                </a:lnTo>
                <a:lnTo>
                  <a:pt x="1800" y="1032"/>
                </a:lnTo>
                <a:lnTo>
                  <a:pt x="1800" y="1028"/>
                </a:lnTo>
                <a:lnTo>
                  <a:pt x="1800" y="1025"/>
                </a:lnTo>
                <a:lnTo>
                  <a:pt x="1800" y="1022"/>
                </a:lnTo>
                <a:lnTo>
                  <a:pt x="1800" y="1019"/>
                </a:lnTo>
                <a:lnTo>
                  <a:pt x="1800" y="1017"/>
                </a:lnTo>
                <a:lnTo>
                  <a:pt x="1800" y="1015"/>
                </a:lnTo>
                <a:lnTo>
                  <a:pt x="1800" y="1013"/>
                </a:lnTo>
                <a:lnTo>
                  <a:pt x="1800" y="1012"/>
                </a:lnTo>
                <a:lnTo>
                  <a:pt x="1800" y="1010"/>
                </a:lnTo>
                <a:lnTo>
                  <a:pt x="1800" y="1009"/>
                </a:lnTo>
                <a:lnTo>
                  <a:pt x="1800" y="1009"/>
                </a:lnTo>
                <a:lnTo>
                  <a:pt x="1800" y="1008"/>
                </a:lnTo>
                <a:lnTo>
                  <a:pt x="1800" y="1008"/>
                </a:lnTo>
                <a:lnTo>
                  <a:pt x="1800" y="1008"/>
                </a:lnTo>
                <a:lnTo>
                  <a:pt x="1801" y="1009"/>
                </a:lnTo>
                <a:lnTo>
                  <a:pt x="1803" y="1011"/>
                </a:lnTo>
                <a:lnTo>
                  <a:pt x="1805" y="1012"/>
                </a:lnTo>
                <a:lnTo>
                  <a:pt x="1807" y="1015"/>
                </a:lnTo>
                <a:lnTo>
                  <a:pt x="1810" y="1018"/>
                </a:lnTo>
                <a:lnTo>
                  <a:pt x="1814" y="1022"/>
                </a:lnTo>
                <a:lnTo>
                  <a:pt x="1818" y="1026"/>
                </a:lnTo>
                <a:lnTo>
                  <a:pt x="1823" y="1031"/>
                </a:lnTo>
                <a:lnTo>
                  <a:pt x="1828" y="1036"/>
                </a:lnTo>
                <a:lnTo>
                  <a:pt x="1834" y="1042"/>
                </a:lnTo>
                <a:lnTo>
                  <a:pt x="1841" y="1048"/>
                </a:lnTo>
                <a:lnTo>
                  <a:pt x="1848" y="1056"/>
                </a:lnTo>
                <a:lnTo>
                  <a:pt x="1855" y="1063"/>
                </a:lnTo>
                <a:lnTo>
                  <a:pt x="1863" y="1071"/>
                </a:lnTo>
                <a:lnTo>
                  <a:pt x="1872" y="1080"/>
                </a:lnTo>
                <a:lnTo>
                  <a:pt x="1881" y="1089"/>
                </a:lnTo>
                <a:lnTo>
                  <a:pt x="1889" y="1097"/>
                </a:lnTo>
                <a:lnTo>
                  <a:pt x="1896" y="1104"/>
                </a:lnTo>
                <a:lnTo>
                  <a:pt x="1904" y="1111"/>
                </a:lnTo>
                <a:lnTo>
                  <a:pt x="1910" y="1118"/>
                </a:lnTo>
                <a:lnTo>
                  <a:pt x="1916" y="1124"/>
                </a:lnTo>
                <a:lnTo>
                  <a:pt x="1921" y="1129"/>
                </a:lnTo>
                <a:lnTo>
                  <a:pt x="1926" y="1134"/>
                </a:lnTo>
                <a:lnTo>
                  <a:pt x="1930" y="1138"/>
                </a:lnTo>
                <a:lnTo>
                  <a:pt x="1934" y="1142"/>
                </a:lnTo>
                <a:lnTo>
                  <a:pt x="1937" y="1145"/>
                </a:lnTo>
                <a:lnTo>
                  <a:pt x="1940" y="1147"/>
                </a:lnTo>
                <a:lnTo>
                  <a:pt x="1941" y="1149"/>
                </a:lnTo>
                <a:lnTo>
                  <a:pt x="1943" y="1151"/>
                </a:lnTo>
                <a:lnTo>
                  <a:pt x="1944" y="1152"/>
                </a:lnTo>
                <a:lnTo>
                  <a:pt x="1944" y="1152"/>
                </a:lnTo>
                <a:lnTo>
                  <a:pt x="1944" y="1152"/>
                </a:lnTo>
                <a:lnTo>
                  <a:pt x="1943" y="1153"/>
                </a:lnTo>
                <a:lnTo>
                  <a:pt x="1941" y="1155"/>
                </a:lnTo>
                <a:lnTo>
                  <a:pt x="1940" y="1156"/>
                </a:lnTo>
                <a:lnTo>
                  <a:pt x="1937" y="1159"/>
                </a:lnTo>
                <a:lnTo>
                  <a:pt x="1934" y="1162"/>
                </a:lnTo>
                <a:lnTo>
                  <a:pt x="1930" y="1166"/>
                </a:lnTo>
                <a:lnTo>
                  <a:pt x="1926" y="1170"/>
                </a:lnTo>
                <a:lnTo>
                  <a:pt x="1921" y="1175"/>
                </a:lnTo>
                <a:lnTo>
                  <a:pt x="1916" y="1180"/>
                </a:lnTo>
                <a:lnTo>
                  <a:pt x="1910" y="1186"/>
                </a:lnTo>
                <a:lnTo>
                  <a:pt x="1904" y="1192"/>
                </a:lnTo>
                <a:lnTo>
                  <a:pt x="1896" y="1200"/>
                </a:lnTo>
                <a:lnTo>
                  <a:pt x="1889" y="1207"/>
                </a:lnTo>
                <a:lnTo>
                  <a:pt x="1881" y="1215"/>
                </a:lnTo>
                <a:lnTo>
                  <a:pt x="1872" y="1224"/>
                </a:lnTo>
                <a:lnTo>
                  <a:pt x="1863" y="1233"/>
                </a:lnTo>
                <a:lnTo>
                  <a:pt x="1855" y="1241"/>
                </a:lnTo>
                <a:lnTo>
                  <a:pt x="1848" y="1248"/>
                </a:lnTo>
                <a:lnTo>
                  <a:pt x="1841" y="1255"/>
                </a:lnTo>
                <a:lnTo>
                  <a:pt x="1834" y="1262"/>
                </a:lnTo>
                <a:lnTo>
                  <a:pt x="1828" y="1268"/>
                </a:lnTo>
                <a:lnTo>
                  <a:pt x="1823" y="1273"/>
                </a:lnTo>
                <a:lnTo>
                  <a:pt x="1818" y="1278"/>
                </a:lnTo>
                <a:lnTo>
                  <a:pt x="1814" y="1282"/>
                </a:lnTo>
                <a:lnTo>
                  <a:pt x="1810" y="1286"/>
                </a:lnTo>
                <a:lnTo>
                  <a:pt x="1807" y="1289"/>
                </a:lnTo>
                <a:lnTo>
                  <a:pt x="1805" y="1291"/>
                </a:lnTo>
                <a:lnTo>
                  <a:pt x="1803" y="1293"/>
                </a:lnTo>
                <a:lnTo>
                  <a:pt x="1801" y="1295"/>
                </a:lnTo>
                <a:lnTo>
                  <a:pt x="1800" y="1296"/>
                </a:lnTo>
                <a:lnTo>
                  <a:pt x="1800" y="1296"/>
                </a:lnTo>
                <a:lnTo>
                  <a:pt x="1800" y="1296"/>
                </a:lnTo>
                <a:lnTo>
                  <a:pt x="1800" y="1295"/>
                </a:lnTo>
                <a:lnTo>
                  <a:pt x="1800" y="1295"/>
                </a:lnTo>
                <a:lnTo>
                  <a:pt x="1800" y="1294"/>
                </a:lnTo>
                <a:lnTo>
                  <a:pt x="1800" y="1292"/>
                </a:lnTo>
                <a:lnTo>
                  <a:pt x="1800" y="1291"/>
                </a:lnTo>
                <a:lnTo>
                  <a:pt x="1800" y="1289"/>
                </a:lnTo>
                <a:lnTo>
                  <a:pt x="1800" y="1287"/>
                </a:lnTo>
                <a:lnTo>
                  <a:pt x="1800" y="1285"/>
                </a:lnTo>
                <a:lnTo>
                  <a:pt x="1800" y="1282"/>
                </a:lnTo>
                <a:lnTo>
                  <a:pt x="1800" y="1279"/>
                </a:lnTo>
                <a:lnTo>
                  <a:pt x="1800" y="1276"/>
                </a:lnTo>
                <a:lnTo>
                  <a:pt x="1800" y="1272"/>
                </a:lnTo>
                <a:lnTo>
                  <a:pt x="1800" y="1268"/>
                </a:lnTo>
                <a:lnTo>
                  <a:pt x="1800" y="1264"/>
                </a:lnTo>
                <a:lnTo>
                  <a:pt x="1800" y="1260"/>
                </a:lnTo>
                <a:lnTo>
                  <a:pt x="1800" y="1256"/>
                </a:lnTo>
                <a:lnTo>
                  <a:pt x="1800" y="1252"/>
                </a:lnTo>
                <a:lnTo>
                  <a:pt x="1800" y="1248"/>
                </a:lnTo>
                <a:lnTo>
                  <a:pt x="1800" y="1244"/>
                </a:lnTo>
                <a:lnTo>
                  <a:pt x="1800" y="1241"/>
                </a:lnTo>
                <a:lnTo>
                  <a:pt x="1800" y="1238"/>
                </a:lnTo>
                <a:lnTo>
                  <a:pt x="1800" y="1235"/>
                </a:lnTo>
                <a:lnTo>
                  <a:pt x="1800" y="1233"/>
                </a:lnTo>
                <a:lnTo>
                  <a:pt x="1800" y="1231"/>
                </a:lnTo>
                <a:lnTo>
                  <a:pt x="1800" y="1229"/>
                </a:lnTo>
                <a:lnTo>
                  <a:pt x="1800" y="1227"/>
                </a:lnTo>
                <a:lnTo>
                  <a:pt x="1800" y="1226"/>
                </a:lnTo>
                <a:lnTo>
                  <a:pt x="1800" y="1225"/>
                </a:lnTo>
                <a:lnTo>
                  <a:pt x="1800" y="1225"/>
                </a:lnTo>
                <a:lnTo>
                  <a:pt x="1800" y="1224"/>
                </a:lnTo>
                <a:lnTo>
                  <a:pt x="1800" y="1224"/>
                </a:lnTo>
                <a:lnTo>
                  <a:pt x="1799" y="1224"/>
                </a:lnTo>
                <a:lnTo>
                  <a:pt x="1797" y="1224"/>
                </a:lnTo>
                <a:lnTo>
                  <a:pt x="1792" y="1224"/>
                </a:lnTo>
                <a:lnTo>
                  <a:pt x="1787" y="1224"/>
                </a:lnTo>
                <a:lnTo>
                  <a:pt x="1779" y="1224"/>
                </a:lnTo>
                <a:lnTo>
                  <a:pt x="1770" y="1224"/>
                </a:lnTo>
                <a:lnTo>
                  <a:pt x="1759" y="1224"/>
                </a:lnTo>
                <a:lnTo>
                  <a:pt x="1746" y="1224"/>
                </a:lnTo>
                <a:lnTo>
                  <a:pt x="1732" y="1224"/>
                </a:lnTo>
                <a:lnTo>
                  <a:pt x="1716" y="1224"/>
                </a:lnTo>
                <a:lnTo>
                  <a:pt x="1698" y="1224"/>
                </a:lnTo>
                <a:lnTo>
                  <a:pt x="1679" y="1224"/>
                </a:lnTo>
                <a:lnTo>
                  <a:pt x="1657" y="1224"/>
                </a:lnTo>
                <a:lnTo>
                  <a:pt x="1635" y="1224"/>
                </a:lnTo>
                <a:lnTo>
                  <a:pt x="1610" y="1224"/>
                </a:lnTo>
                <a:lnTo>
                  <a:pt x="1584" y="1224"/>
                </a:lnTo>
                <a:lnTo>
                  <a:pt x="1557" y="1223"/>
                </a:lnTo>
                <a:lnTo>
                  <a:pt x="1532" y="1221"/>
                </a:lnTo>
                <a:lnTo>
                  <a:pt x="1507" y="1216"/>
                </a:lnTo>
                <a:lnTo>
                  <a:pt x="1483" y="1210"/>
                </a:lnTo>
                <a:lnTo>
                  <a:pt x="1460" y="1203"/>
                </a:lnTo>
                <a:lnTo>
                  <a:pt x="1437" y="1194"/>
                </a:lnTo>
                <a:lnTo>
                  <a:pt x="1416" y="1183"/>
                </a:lnTo>
                <a:lnTo>
                  <a:pt x="1395" y="1170"/>
                </a:lnTo>
                <a:lnTo>
                  <a:pt x="1375" y="1156"/>
                </a:lnTo>
                <a:lnTo>
                  <a:pt x="1356" y="1140"/>
                </a:lnTo>
                <a:lnTo>
                  <a:pt x="1338" y="1122"/>
                </a:lnTo>
                <a:lnTo>
                  <a:pt x="1321" y="1102"/>
                </a:lnTo>
                <a:lnTo>
                  <a:pt x="1304" y="1081"/>
                </a:lnTo>
                <a:lnTo>
                  <a:pt x="1289" y="1059"/>
                </a:lnTo>
                <a:lnTo>
                  <a:pt x="1274" y="1034"/>
                </a:lnTo>
                <a:lnTo>
                  <a:pt x="1260" y="1008"/>
                </a:lnTo>
                <a:lnTo>
                  <a:pt x="1247" y="982"/>
                </a:lnTo>
                <a:lnTo>
                  <a:pt x="1235" y="957"/>
                </a:lnTo>
                <a:lnTo>
                  <a:pt x="1223" y="935"/>
                </a:lnTo>
                <a:lnTo>
                  <a:pt x="1213" y="913"/>
                </a:lnTo>
                <a:lnTo>
                  <a:pt x="1203" y="894"/>
                </a:lnTo>
                <a:lnTo>
                  <a:pt x="1194" y="876"/>
                </a:lnTo>
                <a:lnTo>
                  <a:pt x="1186" y="860"/>
                </a:lnTo>
                <a:lnTo>
                  <a:pt x="1179" y="846"/>
                </a:lnTo>
                <a:lnTo>
                  <a:pt x="1173" y="833"/>
                </a:lnTo>
                <a:lnTo>
                  <a:pt x="1167" y="822"/>
                </a:lnTo>
                <a:lnTo>
                  <a:pt x="1163" y="813"/>
                </a:lnTo>
                <a:lnTo>
                  <a:pt x="1159" y="805"/>
                </a:lnTo>
                <a:lnTo>
                  <a:pt x="1156" y="800"/>
                </a:lnTo>
                <a:lnTo>
                  <a:pt x="1154" y="795"/>
                </a:lnTo>
                <a:lnTo>
                  <a:pt x="1152" y="793"/>
                </a:lnTo>
                <a:lnTo>
                  <a:pt x="1152" y="792"/>
                </a:lnTo>
                <a:lnTo>
                  <a:pt x="1150" y="792"/>
                </a:lnTo>
                <a:lnTo>
                  <a:pt x="1143" y="792"/>
                </a:lnTo>
                <a:lnTo>
                  <a:pt x="1132" y="792"/>
                </a:lnTo>
                <a:lnTo>
                  <a:pt x="1116" y="792"/>
                </a:lnTo>
                <a:lnTo>
                  <a:pt x="1096" y="792"/>
                </a:lnTo>
                <a:lnTo>
                  <a:pt x="1071" y="792"/>
                </a:lnTo>
                <a:lnTo>
                  <a:pt x="1042" y="792"/>
                </a:lnTo>
                <a:lnTo>
                  <a:pt x="1008" y="792"/>
                </a:lnTo>
                <a:lnTo>
                  <a:pt x="970" y="792"/>
                </a:lnTo>
                <a:lnTo>
                  <a:pt x="927" y="792"/>
                </a:lnTo>
                <a:lnTo>
                  <a:pt x="880" y="792"/>
                </a:lnTo>
                <a:lnTo>
                  <a:pt x="828" y="792"/>
                </a:lnTo>
                <a:lnTo>
                  <a:pt x="772" y="792"/>
                </a:lnTo>
                <a:lnTo>
                  <a:pt x="711" y="792"/>
                </a:lnTo>
                <a:lnTo>
                  <a:pt x="646" y="792"/>
                </a:lnTo>
                <a:lnTo>
                  <a:pt x="576" y="792"/>
                </a:lnTo>
                <a:lnTo>
                  <a:pt x="506" y="792"/>
                </a:lnTo>
                <a:lnTo>
                  <a:pt x="441" y="792"/>
                </a:lnTo>
                <a:lnTo>
                  <a:pt x="380" y="792"/>
                </a:lnTo>
                <a:lnTo>
                  <a:pt x="324" y="792"/>
                </a:lnTo>
                <a:lnTo>
                  <a:pt x="272" y="792"/>
                </a:lnTo>
                <a:lnTo>
                  <a:pt x="225" y="792"/>
                </a:lnTo>
                <a:lnTo>
                  <a:pt x="182" y="792"/>
                </a:lnTo>
                <a:lnTo>
                  <a:pt x="144" y="792"/>
                </a:lnTo>
                <a:lnTo>
                  <a:pt x="110" y="792"/>
                </a:lnTo>
                <a:lnTo>
                  <a:pt x="81" y="792"/>
                </a:lnTo>
                <a:lnTo>
                  <a:pt x="56" y="792"/>
                </a:lnTo>
                <a:lnTo>
                  <a:pt x="36" y="792"/>
                </a:lnTo>
                <a:lnTo>
                  <a:pt x="20" y="792"/>
                </a:lnTo>
                <a:lnTo>
                  <a:pt x="9" y="792"/>
                </a:lnTo>
                <a:lnTo>
                  <a:pt x="2" y="792"/>
                </a:lnTo>
                <a:lnTo>
                  <a:pt x="0" y="792"/>
                </a:lnTo>
                <a:lnTo>
                  <a:pt x="0" y="789"/>
                </a:lnTo>
                <a:lnTo>
                  <a:pt x="0" y="781"/>
                </a:lnTo>
                <a:lnTo>
                  <a:pt x="0" y="767"/>
                </a:lnTo>
                <a:lnTo>
                  <a:pt x="0" y="747"/>
                </a:lnTo>
                <a:lnTo>
                  <a:pt x="0" y="722"/>
                </a:lnTo>
                <a:lnTo>
                  <a:pt x="0" y="691"/>
                </a:lnTo>
                <a:lnTo>
                  <a:pt x="0" y="654"/>
                </a:lnTo>
                <a:lnTo>
                  <a:pt x="0" y="612"/>
                </a:lnTo>
                <a:lnTo>
                  <a:pt x="0" y="564"/>
                </a:lnTo>
                <a:lnTo>
                  <a:pt x="0" y="511"/>
                </a:lnTo>
                <a:lnTo>
                  <a:pt x="0" y="452"/>
                </a:lnTo>
                <a:lnTo>
                  <a:pt x="0" y="387"/>
                </a:lnTo>
                <a:lnTo>
                  <a:pt x="0" y="317"/>
                </a:lnTo>
                <a:lnTo>
                  <a:pt x="0" y="241"/>
                </a:lnTo>
                <a:lnTo>
                  <a:pt x="0" y="159"/>
                </a:lnTo>
                <a:lnTo>
                  <a:pt x="0" y="72"/>
                </a:lnTo>
                <a:close/>
              </a:path>
            </a:pathLst>
          </a:custGeom>
          <a:solidFill>
            <a:srgbClr val="ebf1ff"/>
          </a:solidFill>
          <a:ln w="6480">
            <a:solidFill>
              <a:srgbClr val="4d80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314" name=""/>
          <p:cNvSpPr/>
          <p:nvPr/>
        </p:nvSpPr>
        <p:spPr>
          <a:xfrm>
            <a:off x="6124680" y="1685880"/>
            <a:ext cx="172404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SAM</a:t>
            </a:r>
            <a:r>
              <a:rPr b="1" lang="zh-CN" sz="1800" spc="-1" strike="noStrike">
                <a:solidFill>
                  <a:srgbClr val="24246e"/>
                </a:solidFill>
                <a:latin typeface="宋体"/>
              </a:rPr>
              <a:t>卡装载商户信息、终端信息</a:t>
            </a:r>
            <a:endParaRPr b="0" lang="en-US" sz="1800" spc="-1" strike="noStrike">
              <a:solidFill>
                <a:srgbClr val="000066"/>
              </a:solidFill>
              <a:latin typeface="Times New Roman"/>
            </a:endParaRPr>
          </a:p>
        </p:txBody>
      </p:sp>
      <p:sp>
        <p:nvSpPr>
          <p:cNvPr id="2315" name=""/>
          <p:cNvSpPr/>
          <p:nvPr/>
        </p:nvSpPr>
        <p:spPr>
          <a:xfrm>
            <a:off x="6124680" y="2905200"/>
            <a:ext cx="172404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OS</a:t>
            </a:r>
            <a:r>
              <a:rPr b="1" lang="zh-CN" sz="1800" spc="-1" strike="noStrike">
                <a:solidFill>
                  <a:srgbClr val="24246e"/>
                </a:solidFill>
                <a:latin typeface="宋体"/>
              </a:rPr>
              <a:t>机只充当一个转发器</a:t>
            </a:r>
            <a:endParaRPr b="0" lang="en-US" sz="1800" spc="-1" strike="noStrike">
              <a:solidFill>
                <a:srgbClr val="000066"/>
              </a:solidFill>
              <a:latin typeface="Times New Roman"/>
            </a:endParaRPr>
          </a:p>
        </p:txBody>
      </p:sp>
      <p:sp>
        <p:nvSpPr>
          <p:cNvPr id="2316" name=""/>
          <p:cNvSpPr/>
          <p:nvPr/>
        </p:nvSpPr>
        <p:spPr>
          <a:xfrm>
            <a:off x="6124680" y="4098960"/>
            <a:ext cx="167004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SAM</a:t>
            </a:r>
            <a:r>
              <a:rPr b="1" lang="zh-CN" sz="1800" spc="-1" strike="noStrike">
                <a:solidFill>
                  <a:srgbClr val="24246e"/>
                </a:solidFill>
                <a:latin typeface="宋体"/>
              </a:rPr>
              <a:t>卡装有消费主密钥</a:t>
            </a:r>
            <a:endParaRPr b="0" lang="en-US" sz="1800" spc="-1" strike="noStrike">
              <a:solidFill>
                <a:srgbClr val="000066"/>
              </a:solidFill>
              <a:latin typeface="Times New Roman"/>
            </a:endParaRPr>
          </a:p>
        </p:txBody>
      </p:sp>
      <p:sp>
        <p:nvSpPr>
          <p:cNvPr id="2317" name=""/>
          <p:cNvSpPr/>
          <p:nvPr/>
        </p:nvSpPr>
        <p:spPr>
          <a:xfrm>
            <a:off x="6124680" y="5343480"/>
            <a:ext cx="172404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4246e"/>
                </a:solidFill>
                <a:latin typeface="宋体"/>
              </a:rPr>
              <a:t>所有的</a:t>
            </a:r>
            <a:r>
              <a:rPr b="1" lang="en-US" sz="1800" spc="-1" strike="noStrike">
                <a:solidFill>
                  <a:srgbClr val="24246e"/>
                </a:solidFill>
                <a:latin typeface="宋体"/>
              </a:rPr>
              <a:t>POS</a:t>
            </a:r>
            <a:r>
              <a:rPr b="1" lang="zh-CN" sz="1800" spc="-1" strike="noStrike">
                <a:solidFill>
                  <a:srgbClr val="24246e"/>
                </a:solidFill>
                <a:latin typeface="宋体"/>
              </a:rPr>
              <a:t>机均具有通用性</a:t>
            </a:r>
            <a:endParaRPr b="0" lang="en-US" sz="1800" spc="-1" strike="noStrike">
              <a:solidFill>
                <a:srgbClr val="000066"/>
              </a:solidFill>
              <a:latin typeface="Times New Roman"/>
            </a:endParaRPr>
          </a:p>
        </p:txBody>
      </p:sp>
      <p:sp>
        <p:nvSpPr>
          <p:cNvPr id="2318" name=""/>
          <p:cNvSpPr/>
          <p:nvPr/>
        </p:nvSpPr>
        <p:spPr>
          <a:xfrm>
            <a:off x="2666880" y="2209680"/>
            <a:ext cx="1952640" cy="6015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OS</a:t>
            </a:r>
            <a:r>
              <a:rPr b="1" lang="zh-CN" sz="1800" spc="-1" strike="noStrike">
                <a:solidFill>
                  <a:srgbClr val="24246e"/>
                </a:solidFill>
                <a:latin typeface="宋体"/>
              </a:rPr>
              <a:t>机的安全是基于</a:t>
            </a:r>
            <a:r>
              <a:rPr b="1" lang="en-US" sz="1800" spc="-1" strike="noStrike">
                <a:solidFill>
                  <a:srgbClr val="24246e"/>
                </a:solidFill>
                <a:latin typeface="宋体"/>
              </a:rPr>
              <a:t>PSAM</a:t>
            </a:r>
            <a:r>
              <a:rPr b="1" lang="zh-CN" sz="1800" spc="-1" strike="noStrike">
                <a:solidFill>
                  <a:srgbClr val="24246e"/>
                </a:solidFill>
                <a:latin typeface="宋体"/>
              </a:rPr>
              <a:t>卡实现的</a:t>
            </a:r>
            <a:endParaRPr b="0" lang="en-US" sz="1800" spc="-1" strike="noStrike">
              <a:solidFill>
                <a:srgbClr val="000066"/>
              </a:solidFill>
              <a:latin typeface="Times New Roman"/>
            </a:endParaRPr>
          </a:p>
        </p:txBody>
      </p:sp>
      <p:sp>
        <p:nvSpPr>
          <p:cNvPr id="2319" name=""/>
          <p:cNvSpPr/>
          <p:nvPr/>
        </p:nvSpPr>
        <p:spPr>
          <a:xfrm>
            <a:off x="2666880" y="4759200"/>
            <a:ext cx="2057400" cy="3477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6e"/>
                </a:solidFill>
                <a:latin typeface="宋体"/>
              </a:rPr>
              <a:t>POS</a:t>
            </a:r>
            <a:r>
              <a:rPr b="1" lang="zh-CN" sz="1800" spc="-1" strike="noStrike">
                <a:solidFill>
                  <a:srgbClr val="24246e"/>
                </a:solidFill>
                <a:latin typeface="宋体"/>
              </a:rPr>
              <a:t>机</a:t>
            </a:r>
            <a:endParaRPr b="0" lang="en-US" sz="1800" spc="-1" strike="noStrike">
              <a:solidFill>
                <a:srgbClr val="000066"/>
              </a:solidFill>
              <a:latin typeface="Times New Roman"/>
            </a:endParaRPr>
          </a:p>
        </p:txBody>
      </p:sp>
      <p:pic>
        <p:nvPicPr>
          <p:cNvPr id="2320" name="07" descr=""/>
          <p:cNvPicPr/>
          <p:nvPr/>
        </p:nvPicPr>
        <p:blipFill>
          <a:blip r:embed="rId1"/>
          <a:stretch/>
        </p:blipFill>
        <p:spPr>
          <a:xfrm>
            <a:off x="1066680" y="3600360"/>
            <a:ext cx="657360" cy="496800"/>
          </a:xfrm>
          <a:prstGeom prst="rect">
            <a:avLst/>
          </a:prstGeom>
          <a:ln w="0">
            <a:noFill/>
          </a:ln>
        </p:spPr>
      </p:pic>
      <p:pic>
        <p:nvPicPr>
          <p:cNvPr id="2321" name="" descr=""/>
          <p:cNvPicPr/>
          <p:nvPr/>
        </p:nvPicPr>
        <p:blipFill>
          <a:blip r:embed="rId2"/>
          <a:stretch/>
        </p:blipFill>
        <p:spPr>
          <a:xfrm>
            <a:off x="1066680" y="1752480"/>
            <a:ext cx="762120" cy="657360"/>
          </a:xfrm>
          <a:prstGeom prst="rect">
            <a:avLst/>
          </a:prstGeom>
          <a:ln w="0">
            <a:noFill/>
          </a:ln>
        </p:spPr>
      </p:pic>
      <p:pic>
        <p:nvPicPr>
          <p:cNvPr id="2322" name="" descr=""/>
          <p:cNvPicPr/>
          <p:nvPr/>
        </p:nvPicPr>
        <p:blipFill>
          <a:blip r:embed="rId3"/>
          <a:stretch/>
        </p:blipFill>
        <p:spPr>
          <a:xfrm>
            <a:off x="1066680" y="2646360"/>
            <a:ext cx="609840" cy="685800"/>
          </a:xfrm>
          <a:prstGeom prst="rect">
            <a:avLst/>
          </a:prstGeom>
          <a:ln w="0">
            <a:noFill/>
          </a:ln>
        </p:spPr>
      </p:pic>
      <p:pic>
        <p:nvPicPr>
          <p:cNvPr id="2323" name="" descr=""/>
          <p:cNvPicPr/>
          <p:nvPr/>
        </p:nvPicPr>
        <p:blipFill>
          <a:blip r:embed="rId4"/>
          <a:stretch/>
        </p:blipFill>
        <p:spPr>
          <a:xfrm>
            <a:off x="1066680" y="4343400"/>
            <a:ext cx="549360" cy="685800"/>
          </a:xfrm>
          <a:prstGeom prst="rect">
            <a:avLst/>
          </a:prstGeom>
          <a:ln w="0">
            <a:noFill/>
          </a:ln>
        </p:spPr>
      </p:pic>
      <p:graphicFrame>
        <p:nvGraphicFramePr>
          <p:cNvPr id="2324" name=""/>
          <p:cNvGraphicFramePr/>
          <p:nvPr/>
        </p:nvGraphicFramePr>
        <p:xfrm>
          <a:off x="990720" y="5257800"/>
          <a:ext cx="838080" cy="685800"/>
        </p:xfrm>
        <a:graphic>
          <a:graphicData uri="http://schemas.openxmlformats.org/presentationml/2006/ole">
            <p:oleObj r:id="rId5" spid="">
              <p:embed/>
              <p:pic>
                <p:nvPicPr>
                  <p:cNvPr id="2325" name="" descr=""/>
                  <p:cNvPicPr/>
                  <p:nvPr/>
                </p:nvPicPr>
                <p:blipFill>
                  <a:blip r:embed="rId6"/>
                  <a:stretch/>
                </p:blipFill>
                <p:spPr>
                  <a:xfrm>
                    <a:off x="990720" y="5257800"/>
                    <a:ext cx="838080" cy="685800"/>
                  </a:xfrm>
                  <a:prstGeom prst="rect">
                    <a:avLst/>
                  </a:prstGeom>
                  <a:ln w="0">
                    <a:noFill/>
                  </a:ln>
                </p:spPr>
              </p:pic>
            </p:oleObj>
          </a:graphicData>
        </a:graphic>
      </p:graphicFrame>
      <p:sp>
        <p:nvSpPr>
          <p:cNvPr id="2326"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27"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28"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29"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0"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1"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2"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3"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4"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5"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6"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7"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8"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39"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0"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1"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2"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3"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4"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5"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6"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7"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8"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49"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0"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1"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2"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3"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4"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5"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6"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7"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8"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59"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金融级安全</a:t>
            </a:r>
            <a:endParaRPr b="0" lang="en-US" sz="4800" spc="-1" strike="noStrike">
              <a:solidFill>
                <a:srgbClr val="000099"/>
              </a:solidFill>
              <a:latin typeface="Times New Roman"/>
            </a:endParaRPr>
          </a:p>
        </p:txBody>
      </p:sp>
      <p:sp>
        <p:nvSpPr>
          <p:cNvPr id="236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系统采取了金融级的安全</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在交易的过程中，对每一个交易环节都进行了严格的认证与控制</a:t>
            </a:r>
            <a:endParaRPr b="1" lang="en-US" sz="3200" spc="-1" strike="noStrike">
              <a:solidFill>
                <a:srgbClr val="000099"/>
              </a:solidFill>
              <a:latin typeface="Times New Roman"/>
            </a:endParaRPr>
          </a:p>
        </p:txBody>
      </p:sp>
      <p:sp>
        <p:nvSpPr>
          <p:cNvPr id="2362" name=""/>
          <p:cNvSpPr/>
          <p:nvPr/>
        </p:nvSpPr>
        <p:spPr>
          <a:xfrm>
            <a:off x="1368360" y="3132000"/>
            <a:ext cx="6402600" cy="916200"/>
          </a:xfrm>
          <a:custGeom>
            <a:avLst/>
            <a:gdLst/>
            <a:ahLst/>
            <a:rect l="l" t="t" r="r" b="b"/>
            <a:pathLst>
              <a:path w="4033" h="577">
                <a:moveTo>
                  <a:pt x="0" y="576"/>
                </a:moveTo>
                <a:lnTo>
                  <a:pt x="288" y="0"/>
                </a:lnTo>
                <a:lnTo>
                  <a:pt x="3744" y="0"/>
                </a:lnTo>
                <a:lnTo>
                  <a:pt x="4032" y="576"/>
                </a:lnTo>
                <a:lnTo>
                  <a:pt x="0" y="576"/>
                </a:lnTo>
                <a:close/>
              </a:path>
            </a:pathLst>
          </a:custGeom>
          <a:solidFill>
            <a:srgbClr val="c5d6ff"/>
          </a:solidFill>
          <a:ln w="6480">
            <a:solidFill>
              <a:srgbClr val="3366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363" name=""/>
          <p:cNvSpPr/>
          <p:nvPr/>
        </p:nvSpPr>
        <p:spPr>
          <a:xfrm>
            <a:off x="1368360" y="4033800"/>
            <a:ext cx="6400800" cy="114480"/>
          </a:xfrm>
          <a:prstGeom prst="rect">
            <a:avLst/>
          </a:prstGeom>
          <a:solidFill>
            <a:srgbClr val="c5d6ff"/>
          </a:solidFill>
          <a:ln w="6480">
            <a:solidFill>
              <a:srgbClr val="3366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364" name=""/>
          <p:cNvSpPr/>
          <p:nvPr/>
        </p:nvSpPr>
        <p:spPr>
          <a:xfrm>
            <a:off x="1822320" y="2346480"/>
            <a:ext cx="2746440" cy="1242720"/>
          </a:xfrm>
          <a:prstGeom prst="rect">
            <a:avLst/>
          </a:prstGeom>
          <a:solidFill>
            <a:srgbClr val="eff4ff"/>
          </a:solidFill>
          <a:ln w="6480">
            <a:solidFill>
              <a:srgbClr val="3366ff"/>
            </a:solidFill>
            <a:miter/>
          </a:ln>
        </p:spPr>
        <p:style>
          <a:lnRef idx="0"/>
          <a:fillRef idx="0"/>
          <a:effectRef idx="0"/>
          <a:fontRef idx="minor"/>
        </p:style>
        <p:txBody>
          <a:bodyPr lIns="114480" rIns="114480" tIns="114480" bIns="11448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design of </a:t>
            </a:r>
            <a:endParaRPr b="0" lang="en-US" sz="20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key management</a:t>
            </a:r>
            <a:endParaRPr b="0" lang="en-US" sz="2000" spc="-1" strike="noStrike">
              <a:solidFill>
                <a:srgbClr val="000066"/>
              </a:solidFill>
              <a:latin typeface="Times New Roman"/>
            </a:endParaRPr>
          </a:p>
        </p:txBody>
      </p:sp>
      <p:sp>
        <p:nvSpPr>
          <p:cNvPr id="2365" name=""/>
          <p:cNvSpPr/>
          <p:nvPr/>
        </p:nvSpPr>
        <p:spPr>
          <a:xfrm>
            <a:off x="4572000" y="2346480"/>
            <a:ext cx="2739960" cy="1242720"/>
          </a:xfrm>
          <a:prstGeom prst="rect">
            <a:avLst/>
          </a:prstGeom>
          <a:solidFill>
            <a:srgbClr val="eff4ff"/>
          </a:solidFill>
          <a:ln w="6480">
            <a:solidFill>
              <a:srgbClr val="3366ff"/>
            </a:solidFill>
            <a:miter/>
          </a:ln>
        </p:spPr>
        <p:style>
          <a:lnRef idx="0"/>
          <a:fillRef idx="0"/>
          <a:effectRef idx="0"/>
          <a:fontRef idx="minor"/>
        </p:style>
        <p:txBody>
          <a:bodyPr lIns="114480" rIns="114480" tIns="114480" bIns="11448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design of </a:t>
            </a:r>
            <a:endParaRPr b="0" lang="en-US" sz="2000" spc="-1" strike="noStrike">
              <a:solidFill>
                <a:srgbClr val="000066"/>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rminal management</a:t>
            </a:r>
            <a:endParaRPr b="0" lang="en-US" sz="2000" spc="-1" strike="noStrike">
              <a:solidFill>
                <a:srgbClr val="000066"/>
              </a:solidFill>
              <a:latin typeface="Times New Roman"/>
            </a:endParaRPr>
          </a:p>
        </p:txBody>
      </p:sp>
      <p:sp>
        <p:nvSpPr>
          <p:cNvPr id="2366" name=""/>
          <p:cNvSpPr/>
          <p:nvPr/>
        </p:nvSpPr>
        <p:spPr>
          <a:xfrm>
            <a:off x="1825560" y="2230560"/>
            <a:ext cx="2745000" cy="115920"/>
          </a:xfrm>
          <a:custGeom>
            <a:avLst/>
            <a:gdLst/>
            <a:ahLst/>
            <a:rect l="l" t="t" r="r" b="b"/>
            <a:pathLst>
              <a:path w="1729" h="73">
                <a:moveTo>
                  <a:pt x="0" y="72"/>
                </a:moveTo>
                <a:lnTo>
                  <a:pt x="72" y="0"/>
                </a:lnTo>
                <a:lnTo>
                  <a:pt x="1728" y="0"/>
                </a:lnTo>
                <a:lnTo>
                  <a:pt x="1728" y="72"/>
                </a:lnTo>
                <a:lnTo>
                  <a:pt x="0" y="72"/>
                </a:lnTo>
                <a:close/>
              </a:path>
            </a:pathLst>
          </a:custGeom>
          <a:solidFill>
            <a:srgbClr val="d9e4ff"/>
          </a:solidFill>
          <a:ln w="6480">
            <a:solidFill>
              <a:srgbClr val="3366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367" name=""/>
          <p:cNvSpPr/>
          <p:nvPr/>
        </p:nvSpPr>
        <p:spPr>
          <a:xfrm>
            <a:off x="4568760" y="2230560"/>
            <a:ext cx="2745000" cy="115920"/>
          </a:xfrm>
          <a:custGeom>
            <a:avLst/>
            <a:gdLst/>
            <a:ahLst/>
            <a:rect l="l" t="t" r="r" b="b"/>
            <a:pathLst>
              <a:path w="1729" h="73">
                <a:moveTo>
                  <a:pt x="0" y="72"/>
                </a:moveTo>
                <a:lnTo>
                  <a:pt x="0" y="0"/>
                </a:lnTo>
                <a:lnTo>
                  <a:pt x="1656" y="0"/>
                </a:lnTo>
                <a:lnTo>
                  <a:pt x="1728" y="72"/>
                </a:lnTo>
                <a:lnTo>
                  <a:pt x="0" y="72"/>
                </a:lnTo>
                <a:close/>
              </a:path>
            </a:pathLst>
          </a:custGeom>
          <a:solidFill>
            <a:srgbClr val="d9e4ff"/>
          </a:solidFill>
          <a:ln w="6480">
            <a:solidFill>
              <a:srgbClr val="3366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368" name=""/>
          <p:cNvSpPr/>
          <p:nvPr/>
        </p:nvSpPr>
        <p:spPr>
          <a:xfrm>
            <a:off x="3962520" y="3762360"/>
            <a:ext cx="121896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hardware</a:t>
            </a:r>
            <a:endParaRPr b="0" lang="en-US" sz="1800" spc="-1" strike="noStrike">
              <a:solidFill>
                <a:srgbClr val="000066"/>
              </a:solidFill>
              <a:latin typeface="Times New Roman"/>
            </a:endParaRPr>
          </a:p>
        </p:txBody>
      </p:sp>
      <p:sp>
        <p:nvSpPr>
          <p:cNvPr id="2369" name=""/>
          <p:cNvSpPr/>
          <p:nvPr/>
        </p:nvSpPr>
        <p:spPr>
          <a:xfrm>
            <a:off x="914400" y="4175280"/>
            <a:ext cx="7620120" cy="246240"/>
          </a:xfrm>
          <a:prstGeom prst="rect">
            <a:avLst/>
          </a:prstGeom>
          <a:noFill/>
          <a:ln w="0">
            <a:noFill/>
          </a:ln>
        </p:spPr>
        <p:style>
          <a:lnRef idx="0"/>
          <a:fillRef idx="0"/>
          <a:effectRef idx="0"/>
          <a:fontRef idx="minor"/>
        </p:style>
        <p:txBody>
          <a:bodyPr lIns="45720" rIns="4572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无论是密钥管理系统，还是终端管理，都采用了硬件级的安全与加密模块进行设计</a:t>
            </a:r>
            <a:endParaRPr b="0" lang="en-US" sz="1200" spc="-1" strike="noStrike">
              <a:solidFill>
                <a:srgbClr val="000066"/>
              </a:solidFill>
              <a:latin typeface="Times New Roman"/>
            </a:endParaRPr>
          </a:p>
        </p:txBody>
      </p:sp>
      <p:sp>
        <p:nvSpPr>
          <p:cNvPr id="2370"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1"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2"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3"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4"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5"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6"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7"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8"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79"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0"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1"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2"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3"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4"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5"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6"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7"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8"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89"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0"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1"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2"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3"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4"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5"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6"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7"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8"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399" name=""/>
          <p:cNvSpPr/>
          <p:nvPr/>
        </p:nvSpPr>
        <p:spPr>
          <a:xfrm flipV="1">
            <a:off x="4572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0"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1"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2"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3"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2405"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结语</a:t>
            </a:r>
            <a:endParaRPr b="1"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406"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7"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8"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09"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0"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1"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2"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3"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4"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5"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6"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7"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8"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19"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0"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1"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2"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3"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4"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5"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6"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7"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8"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29"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0"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1"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2"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3"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4"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5" name=""/>
          <p:cNvSpPr/>
          <p:nvPr/>
        </p:nvSpPr>
        <p:spPr>
          <a:xfrm flipV="1">
            <a:off x="4572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6" name=""/>
          <p:cNvSpPr/>
          <p:nvPr/>
        </p:nvSpPr>
        <p:spPr>
          <a:xfrm flipV="1">
            <a:off x="4667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7"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8"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39"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0"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展望…</a:t>
            </a:r>
            <a:endParaRPr b="0" lang="en-US" sz="4800" spc="-1" strike="noStrike">
              <a:solidFill>
                <a:srgbClr val="000099"/>
              </a:solidFill>
              <a:latin typeface="Times New Roman"/>
            </a:endParaRPr>
          </a:p>
        </p:txBody>
      </p:sp>
      <p:sp>
        <p:nvSpPr>
          <p:cNvPr id="2441"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442" name=""/>
          <p:cNvSpPr/>
          <p:nvPr/>
        </p:nvSpPr>
        <p:spPr>
          <a:xfrm>
            <a:off x="1600200" y="5181480"/>
            <a:ext cx="5943600" cy="91440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43" name=""/>
          <p:cNvSpPr/>
          <p:nvPr/>
        </p:nvSpPr>
        <p:spPr>
          <a:xfrm>
            <a:off x="5105520" y="4238640"/>
            <a:ext cx="2361960" cy="94284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44" name=""/>
          <p:cNvSpPr/>
          <p:nvPr/>
        </p:nvSpPr>
        <p:spPr>
          <a:xfrm>
            <a:off x="5486400" y="4346640"/>
            <a:ext cx="16002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Times New Roman"/>
              </a:rPr>
              <a:t>以及遍布校园及持卡人生活社区的各个角落的自助设备</a:t>
            </a:r>
            <a:endParaRPr b="0" lang="en-US" sz="1200" spc="-1" strike="noStrike">
              <a:solidFill>
                <a:srgbClr val="000066"/>
              </a:solidFill>
              <a:latin typeface="Times New Roman"/>
            </a:endParaRPr>
          </a:p>
        </p:txBody>
      </p:sp>
      <p:sp>
        <p:nvSpPr>
          <p:cNvPr id="2445" name=""/>
          <p:cNvSpPr/>
          <p:nvPr/>
        </p:nvSpPr>
        <p:spPr>
          <a:xfrm>
            <a:off x="1447920" y="4162320"/>
            <a:ext cx="2438280" cy="91116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46" name=""/>
          <p:cNvSpPr/>
          <p:nvPr/>
        </p:nvSpPr>
        <p:spPr>
          <a:xfrm>
            <a:off x="1828800" y="4302000"/>
            <a:ext cx="1600200" cy="2764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99"/>
                </a:solidFill>
                <a:latin typeface="Times New Roman"/>
              </a:rPr>
              <a:t>通过媒体介入网上银行、电话银行和手机银行等前置群</a:t>
            </a:r>
            <a:endParaRPr b="0" lang="en-US" sz="1200" spc="-1" strike="noStrike">
              <a:solidFill>
                <a:srgbClr val="000066"/>
              </a:solidFill>
              <a:latin typeface="Times New Roman"/>
            </a:endParaRPr>
          </a:p>
        </p:txBody>
      </p:sp>
      <p:grpSp>
        <p:nvGrpSpPr>
          <p:cNvPr id="2447" name=""/>
          <p:cNvGrpSpPr/>
          <p:nvPr/>
        </p:nvGrpSpPr>
        <p:grpSpPr>
          <a:xfrm>
            <a:off x="2819520" y="3857760"/>
            <a:ext cx="1137600" cy="304200"/>
            <a:chOff x="2819520" y="3857760"/>
            <a:chExt cx="1137600" cy="304200"/>
          </a:xfrm>
        </p:grpSpPr>
        <p:sp>
          <p:nvSpPr>
            <p:cNvPr id="2448" name=""/>
            <p:cNvSpPr/>
            <p:nvPr/>
          </p:nvSpPr>
          <p:spPr>
            <a:xfrm>
              <a:off x="3439800" y="3857760"/>
              <a:ext cx="517320" cy="101520"/>
            </a:xfrm>
            <a:prstGeom prst="ellipse">
              <a:avLst/>
            </a:prstGeom>
            <a:solidFill>
              <a:srgbClr val="f3f6ff"/>
            </a:solidFill>
            <a:ln w="0">
              <a:solidFill>
                <a:srgbClr val="6699ff"/>
              </a:solidFill>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sp>
          <p:nvSpPr>
            <p:cNvPr id="2449" name=""/>
            <p:cNvSpPr/>
            <p:nvPr/>
          </p:nvSpPr>
          <p:spPr>
            <a:xfrm>
              <a:off x="3129480" y="4009680"/>
              <a:ext cx="41364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sp>
          <p:nvSpPr>
            <p:cNvPr id="2450" name=""/>
            <p:cNvSpPr/>
            <p:nvPr/>
          </p:nvSpPr>
          <p:spPr>
            <a:xfrm>
              <a:off x="2819520" y="4111200"/>
              <a:ext cx="30996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grpSp>
      <p:grpSp>
        <p:nvGrpSpPr>
          <p:cNvPr id="2451" name=""/>
          <p:cNvGrpSpPr/>
          <p:nvPr/>
        </p:nvGrpSpPr>
        <p:grpSpPr>
          <a:xfrm>
            <a:off x="5257800" y="3857760"/>
            <a:ext cx="990360" cy="304200"/>
            <a:chOff x="5257800" y="3857760"/>
            <a:chExt cx="990360" cy="304200"/>
          </a:xfrm>
        </p:grpSpPr>
        <p:sp>
          <p:nvSpPr>
            <p:cNvPr id="2452" name=""/>
            <p:cNvSpPr/>
            <p:nvPr/>
          </p:nvSpPr>
          <p:spPr>
            <a:xfrm>
              <a:off x="5257800" y="3857760"/>
              <a:ext cx="450000" cy="101520"/>
            </a:xfrm>
            <a:prstGeom prst="ellipse">
              <a:avLst/>
            </a:prstGeom>
            <a:solidFill>
              <a:srgbClr val="f3f6ff"/>
            </a:solidFill>
            <a:ln w="0">
              <a:solidFill>
                <a:srgbClr val="6699ff"/>
              </a:solidFill>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sp>
          <p:nvSpPr>
            <p:cNvPr id="2453" name=""/>
            <p:cNvSpPr/>
            <p:nvPr/>
          </p:nvSpPr>
          <p:spPr>
            <a:xfrm>
              <a:off x="5617800" y="4009680"/>
              <a:ext cx="36000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sp>
          <p:nvSpPr>
            <p:cNvPr id="2454" name=""/>
            <p:cNvSpPr/>
            <p:nvPr/>
          </p:nvSpPr>
          <p:spPr>
            <a:xfrm>
              <a:off x="5977800" y="4111200"/>
              <a:ext cx="27036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grpSp>
      <p:sp>
        <p:nvSpPr>
          <p:cNvPr id="2455" name=""/>
          <p:cNvSpPr/>
          <p:nvPr/>
        </p:nvSpPr>
        <p:spPr>
          <a:xfrm>
            <a:off x="2895480" y="5276880"/>
            <a:ext cx="3200400" cy="3682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逐步建立起一个以校园金融服务平台为核心的数字校园网络</a:t>
            </a:r>
            <a:endParaRPr b="0" lang="en-US" sz="1800" spc="-1" strike="noStrike">
              <a:solidFill>
                <a:srgbClr val="000066"/>
              </a:solidFill>
              <a:latin typeface="Times New Roman"/>
            </a:endParaRPr>
          </a:p>
        </p:txBody>
      </p:sp>
      <p:sp>
        <p:nvSpPr>
          <p:cNvPr id="2456" name=""/>
          <p:cNvSpPr/>
          <p:nvPr/>
        </p:nvSpPr>
        <p:spPr>
          <a:xfrm rot="10800000">
            <a:off x="2895480" y="2742840"/>
            <a:ext cx="3200400" cy="114300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57" name=""/>
          <p:cNvSpPr/>
          <p:nvPr/>
        </p:nvSpPr>
        <p:spPr>
          <a:xfrm>
            <a:off x="3352680" y="2819520"/>
            <a:ext cx="2286000" cy="30708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享受众多先进的服务项目</a:t>
            </a:r>
            <a:endParaRPr b="0" lang="en-US" sz="1400" spc="-1" strike="noStrike">
              <a:solidFill>
                <a:srgbClr val="000066"/>
              </a:solidFill>
              <a:latin typeface="Times New Roman"/>
            </a:endParaRPr>
          </a:p>
        </p:txBody>
      </p:sp>
      <p:sp>
        <p:nvSpPr>
          <p:cNvPr id="2458" name=""/>
          <p:cNvSpPr/>
          <p:nvPr/>
        </p:nvSpPr>
        <p:spPr>
          <a:xfrm>
            <a:off x="2895480" y="4983120"/>
            <a:ext cx="3200400" cy="2764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99"/>
                </a:solidFill>
                <a:latin typeface="Times New Roman"/>
              </a:rPr>
              <a:t>持卡人可以根据实际应用情况任选组合</a:t>
            </a:r>
            <a:endParaRPr b="0" lang="en-US" sz="1200" spc="-1" strike="noStrike">
              <a:solidFill>
                <a:srgbClr val="000066"/>
              </a:solidFill>
              <a:latin typeface="Times New Roman"/>
            </a:endParaRPr>
          </a:p>
        </p:txBody>
      </p:sp>
      <p:sp>
        <p:nvSpPr>
          <p:cNvPr id="2459" name=""/>
          <p:cNvSpPr/>
          <p:nvPr/>
        </p:nvSpPr>
        <p:spPr>
          <a:xfrm>
            <a:off x="1371600" y="1295280"/>
            <a:ext cx="6095880" cy="114300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460" name=""/>
          <p:cNvSpPr/>
          <p:nvPr/>
        </p:nvSpPr>
        <p:spPr>
          <a:xfrm>
            <a:off x="2286000" y="1523880"/>
            <a:ext cx="4419720" cy="73332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rPr>
              <a:t>· </a:t>
            </a:r>
            <a:r>
              <a:rPr b="1" lang="zh-CN" sz="1400" spc="-1" strike="noStrike">
                <a:solidFill>
                  <a:srgbClr val="000099"/>
                </a:solidFill>
                <a:latin typeface="Times New Roman"/>
              </a:rPr>
              <a:t>最终实现基于</a:t>
            </a:r>
            <a:r>
              <a:rPr b="1" lang="en-US" sz="1400" spc="-1" strike="noStrike">
                <a:solidFill>
                  <a:srgbClr val="000099"/>
                </a:solidFill>
                <a:latin typeface="Times New Roman"/>
              </a:rPr>
              <a:t>Intranet</a:t>
            </a:r>
            <a:r>
              <a:rPr b="1" lang="zh-CN" sz="1400" spc="-1" strike="noStrike">
                <a:solidFill>
                  <a:srgbClr val="000099"/>
                </a:solidFill>
                <a:latin typeface="Times New Roman"/>
              </a:rPr>
              <a:t>和客户服务中心，集中式管理，远程处理，动态核算和网络化的工作方式的电子商务</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rPr>
              <a:t>· </a:t>
            </a:r>
            <a:r>
              <a:rPr b="1" lang="zh-CN" sz="1400" spc="-1" strike="noStrike">
                <a:solidFill>
                  <a:srgbClr val="000099"/>
                </a:solidFill>
                <a:latin typeface="Times New Roman"/>
              </a:rPr>
              <a:t>把学校建设成具有鲜明特色的，先进的数字化校园</a:t>
            </a:r>
            <a:endParaRPr b="0" lang="en-US" sz="1400" spc="-1" strike="noStrike">
              <a:solidFill>
                <a:srgbClr val="000066"/>
              </a:solidFill>
              <a:latin typeface="Times New Roman"/>
            </a:endParaRPr>
          </a:p>
        </p:txBody>
      </p:sp>
      <p:grpSp>
        <p:nvGrpSpPr>
          <p:cNvPr id="2461" name=""/>
          <p:cNvGrpSpPr/>
          <p:nvPr/>
        </p:nvGrpSpPr>
        <p:grpSpPr>
          <a:xfrm>
            <a:off x="4114800" y="2438280"/>
            <a:ext cx="685440" cy="304560"/>
            <a:chOff x="4114800" y="2438280"/>
            <a:chExt cx="685440" cy="304560"/>
          </a:xfrm>
        </p:grpSpPr>
        <p:sp>
          <p:nvSpPr>
            <p:cNvPr id="2462" name=""/>
            <p:cNvSpPr/>
            <p:nvPr/>
          </p:nvSpPr>
          <p:spPr>
            <a:xfrm>
              <a:off x="4114800" y="2438280"/>
              <a:ext cx="311400" cy="101520"/>
            </a:xfrm>
            <a:prstGeom prst="ellipse">
              <a:avLst/>
            </a:prstGeom>
            <a:solidFill>
              <a:srgbClr val="f3f6ff"/>
            </a:solidFill>
            <a:ln w="0">
              <a:solidFill>
                <a:srgbClr val="6699ff"/>
              </a:solidFill>
            </a:ln>
          </p:spPr>
          <p:style>
            <a:lnRef idx="0"/>
            <a:fillRef idx="0"/>
            <a:effectRef idx="0"/>
            <a:fontRef idx="minor"/>
          </p:style>
          <p:txBody>
            <a:bodyPr wrap="none" lIns="90000" rIns="90000" tIns="25200" bIns="25200" anchor="ctr">
              <a:spAutoFit/>
            </a:bodyPr>
            <a:p>
              <a:endParaRPr b="0" lang="en-US" sz="2400" spc="-1" strike="noStrike">
                <a:solidFill>
                  <a:srgbClr val="000066"/>
                </a:solidFill>
                <a:latin typeface="Times New Roman"/>
              </a:endParaRPr>
            </a:p>
          </p:txBody>
        </p:sp>
        <p:sp>
          <p:nvSpPr>
            <p:cNvPr id="2463" name=""/>
            <p:cNvSpPr/>
            <p:nvPr/>
          </p:nvSpPr>
          <p:spPr>
            <a:xfrm>
              <a:off x="4363920" y="2590560"/>
              <a:ext cx="24912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sp>
          <p:nvSpPr>
            <p:cNvPr id="2464" name=""/>
            <p:cNvSpPr/>
            <p:nvPr/>
          </p:nvSpPr>
          <p:spPr>
            <a:xfrm>
              <a:off x="4613040" y="2692080"/>
              <a:ext cx="187200" cy="50760"/>
            </a:xfrm>
            <a:prstGeom prst="ellipse">
              <a:avLst/>
            </a:prstGeom>
            <a:solidFill>
              <a:srgbClr val="f3f6ff"/>
            </a:solidFill>
            <a:ln w="0">
              <a:solidFill>
                <a:srgbClr val="6699ff"/>
              </a:solidFill>
            </a:ln>
          </p:spPr>
          <p:style>
            <a:lnRef idx="0"/>
            <a:fillRef idx="0"/>
            <a:effectRef idx="0"/>
            <a:fontRef idx="minor"/>
          </p:style>
          <p:txBody>
            <a:bodyPr wrap="none" lIns="90000" rIns="90000" tIns="-10440" bIns="-10440" anchor="ctr">
              <a:spAutoFit/>
            </a:bodyPr>
            <a:p>
              <a:endParaRPr b="0" lang="en-US" sz="2400" spc="-1" strike="noStrike">
                <a:solidFill>
                  <a:srgbClr val="000066"/>
                </a:solidFill>
                <a:latin typeface="Times New Roman"/>
              </a:endParaRPr>
            </a:p>
          </p:txBody>
        </p:sp>
      </p:grpSp>
      <p:sp>
        <p:nvSpPr>
          <p:cNvPr id="246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6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79"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0"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1"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2"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3"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4"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5"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6"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7"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8"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89"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0"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1"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2"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3"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4" name=""/>
          <p:cNvSpPr/>
          <p:nvPr/>
        </p:nvSpPr>
        <p:spPr>
          <a:xfrm flipV="1">
            <a:off x="4572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5" name=""/>
          <p:cNvSpPr/>
          <p:nvPr/>
        </p:nvSpPr>
        <p:spPr>
          <a:xfrm flipV="1">
            <a:off x="4667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6" name=""/>
          <p:cNvSpPr/>
          <p:nvPr/>
        </p:nvSpPr>
        <p:spPr>
          <a:xfrm flipV="1">
            <a:off x="4762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7"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499" name=""/>
          <p:cNvSpPr/>
          <p:nvPr/>
        </p:nvSpPr>
        <p:spPr>
          <a:xfrm>
            <a:off x="2971800" y="3124080"/>
            <a:ext cx="914400" cy="30492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银证通</a:t>
            </a:r>
            <a:endParaRPr b="0" lang="en-US" sz="1400" spc="-1" strike="noStrike">
              <a:solidFill>
                <a:srgbClr val="000066"/>
              </a:solidFill>
              <a:latin typeface="Times New Roman"/>
            </a:endParaRPr>
          </a:p>
        </p:txBody>
      </p:sp>
      <p:sp>
        <p:nvSpPr>
          <p:cNvPr id="2500" name=""/>
          <p:cNvSpPr/>
          <p:nvPr/>
        </p:nvSpPr>
        <p:spPr>
          <a:xfrm>
            <a:off x="4038480" y="3124080"/>
            <a:ext cx="914400" cy="30492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移动银行</a:t>
            </a:r>
            <a:endParaRPr b="0" lang="en-US" sz="1400" spc="-1" strike="noStrike">
              <a:solidFill>
                <a:srgbClr val="000066"/>
              </a:solidFill>
              <a:latin typeface="Times New Roman"/>
            </a:endParaRPr>
          </a:p>
        </p:txBody>
      </p:sp>
      <p:sp>
        <p:nvSpPr>
          <p:cNvPr id="2501" name=""/>
          <p:cNvSpPr/>
          <p:nvPr/>
        </p:nvSpPr>
        <p:spPr>
          <a:xfrm>
            <a:off x="5105520" y="3124080"/>
            <a:ext cx="914400" cy="30492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网上购物</a:t>
            </a:r>
            <a:endParaRPr b="0" lang="en-US" sz="1400" spc="-1" strike="noStrike">
              <a:solidFill>
                <a:srgbClr val="000066"/>
              </a:solidFill>
              <a:latin typeface="Times New Roman"/>
            </a:endParaRPr>
          </a:p>
        </p:txBody>
      </p:sp>
      <p:sp>
        <p:nvSpPr>
          <p:cNvPr id="2502" name=""/>
          <p:cNvSpPr/>
          <p:nvPr/>
        </p:nvSpPr>
        <p:spPr>
          <a:xfrm>
            <a:off x="3200400" y="3505320"/>
            <a:ext cx="1600200" cy="30456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代收代付专家理财</a:t>
            </a:r>
            <a:endParaRPr b="0" lang="en-US" sz="1400" spc="-1" strike="noStrike">
              <a:solidFill>
                <a:srgbClr val="000066"/>
              </a:solidFill>
              <a:latin typeface="Times New Roman"/>
            </a:endParaRPr>
          </a:p>
        </p:txBody>
      </p:sp>
      <p:sp>
        <p:nvSpPr>
          <p:cNvPr id="2503" name=""/>
          <p:cNvSpPr/>
          <p:nvPr/>
        </p:nvSpPr>
        <p:spPr>
          <a:xfrm>
            <a:off x="4876920" y="3505320"/>
            <a:ext cx="914400" cy="304560"/>
          </a:xfrm>
          <a:prstGeom prst="ellipse">
            <a:avLst/>
          </a:prstGeom>
          <a:solidFill>
            <a:srgbClr val="ddf0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a:t>
            </a:r>
            <a:endParaRPr b="0" lang="en-US" sz="1400" spc="-1" strike="noStrike">
              <a:solidFill>
                <a:srgbClr val="0000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结语</a:t>
            </a:r>
            <a:endParaRPr b="0" lang="en-US" sz="4800" spc="-1" strike="noStrike">
              <a:solidFill>
                <a:srgbClr val="000099"/>
              </a:solidFill>
              <a:latin typeface="Times New Roman"/>
            </a:endParaRPr>
          </a:p>
        </p:txBody>
      </p:sp>
      <p:sp>
        <p:nvSpPr>
          <p:cNvPr id="2505"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506" name=""/>
          <p:cNvSpPr/>
          <p:nvPr/>
        </p:nvSpPr>
        <p:spPr>
          <a:xfrm>
            <a:off x="2874960" y="1562040"/>
            <a:ext cx="2081160" cy="1189080"/>
          </a:xfrm>
          <a:custGeom>
            <a:avLst/>
            <a:gdLst/>
            <a:ahLst/>
            <a:rect l="l" t="t" r="r" b="b"/>
            <a:pathLst>
              <a:path w="1311" h="756">
                <a:moveTo>
                  <a:pt x="0" y="0"/>
                </a:moveTo>
                <a:lnTo>
                  <a:pt x="600" y="756"/>
                </a:lnTo>
                <a:lnTo>
                  <a:pt x="1311" y="756"/>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07" name=""/>
          <p:cNvSpPr/>
          <p:nvPr/>
        </p:nvSpPr>
        <p:spPr>
          <a:xfrm rot="10800000">
            <a:off x="3814560" y="4449240"/>
            <a:ext cx="2081160" cy="1189080"/>
          </a:xfrm>
          <a:custGeom>
            <a:avLst/>
            <a:gdLst/>
            <a:ahLst/>
            <a:rect l="l" t="t" r="r" b="b"/>
            <a:pathLst>
              <a:path w="1311" h="756">
                <a:moveTo>
                  <a:pt x="0" y="0"/>
                </a:moveTo>
                <a:lnTo>
                  <a:pt x="600" y="756"/>
                </a:lnTo>
                <a:lnTo>
                  <a:pt x="1311" y="756"/>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08" name=""/>
          <p:cNvSpPr/>
          <p:nvPr/>
        </p:nvSpPr>
        <p:spPr>
          <a:xfrm>
            <a:off x="1219320" y="2841480"/>
            <a:ext cx="2457360" cy="717840"/>
          </a:xfrm>
          <a:custGeom>
            <a:avLst/>
            <a:gdLst/>
            <a:ahLst/>
            <a:rect l="l" t="t" r="r" b="b"/>
            <a:pathLst>
              <a:path w="1548" h="452">
                <a:moveTo>
                  <a:pt x="0" y="452"/>
                </a:moveTo>
                <a:lnTo>
                  <a:pt x="1222" y="452"/>
                </a:lnTo>
                <a:lnTo>
                  <a:pt x="1548" y="0"/>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09" name=""/>
          <p:cNvSpPr/>
          <p:nvPr/>
        </p:nvSpPr>
        <p:spPr>
          <a:xfrm rot="10800000">
            <a:off x="5073120" y="3696840"/>
            <a:ext cx="2457720" cy="717480"/>
          </a:xfrm>
          <a:custGeom>
            <a:avLst/>
            <a:gdLst/>
            <a:ahLst/>
            <a:rect l="l" t="t" r="r" b="b"/>
            <a:pathLst>
              <a:path w="1548" h="452">
                <a:moveTo>
                  <a:pt x="0" y="452"/>
                </a:moveTo>
                <a:lnTo>
                  <a:pt x="1222" y="452"/>
                </a:lnTo>
                <a:lnTo>
                  <a:pt x="1548" y="0"/>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10" name=""/>
          <p:cNvSpPr/>
          <p:nvPr/>
        </p:nvSpPr>
        <p:spPr>
          <a:xfrm>
            <a:off x="5070600" y="1573200"/>
            <a:ext cx="976320" cy="1941480"/>
          </a:xfrm>
          <a:custGeom>
            <a:avLst/>
            <a:gdLst/>
            <a:ahLst/>
            <a:rect l="l" t="t" r="r" b="b"/>
            <a:pathLst>
              <a:path w="615" h="1223">
                <a:moveTo>
                  <a:pt x="615" y="0"/>
                </a:moveTo>
                <a:lnTo>
                  <a:pt x="0" y="763"/>
                </a:lnTo>
                <a:lnTo>
                  <a:pt x="326" y="1223"/>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11" name=""/>
          <p:cNvSpPr/>
          <p:nvPr/>
        </p:nvSpPr>
        <p:spPr>
          <a:xfrm rot="10800000">
            <a:off x="2709720" y="3684240"/>
            <a:ext cx="976320" cy="1941480"/>
          </a:xfrm>
          <a:custGeom>
            <a:avLst/>
            <a:gdLst/>
            <a:ahLst/>
            <a:rect l="l" t="t" r="r" b="b"/>
            <a:pathLst>
              <a:path w="615" h="1223">
                <a:moveTo>
                  <a:pt x="615" y="0"/>
                </a:moveTo>
                <a:lnTo>
                  <a:pt x="0" y="763"/>
                </a:lnTo>
                <a:lnTo>
                  <a:pt x="326" y="1223"/>
                </a:lnTo>
              </a:path>
            </a:pathLst>
          </a:custGeom>
          <a:noFill/>
          <a:ln w="28440">
            <a:solidFill>
              <a:srgbClr val="87bed9"/>
            </a:solidFill>
            <a:round/>
          </a:ln>
        </p:spPr>
        <p:style>
          <a:lnRef idx="0"/>
          <a:fillRef idx="0"/>
          <a:effectRef idx="0"/>
          <a:fontRef idx="minor"/>
        </p:style>
        <p:txBody>
          <a:bodyPr wrap="none" lIns="0" rIns="0" tIns="0" bIns="0" anchor="ctr">
            <a:noAutofit/>
          </a:bodyPr>
          <a:p>
            <a:endParaRPr b="0" lang="en-US" sz="2400" spc="-1" strike="noStrike">
              <a:solidFill>
                <a:srgbClr val="000066"/>
              </a:solidFill>
              <a:latin typeface="Times New Roman"/>
            </a:endParaRPr>
          </a:p>
        </p:txBody>
      </p:sp>
      <p:sp>
        <p:nvSpPr>
          <p:cNvPr id="2512" name=""/>
          <p:cNvSpPr/>
          <p:nvPr/>
        </p:nvSpPr>
        <p:spPr>
          <a:xfrm>
            <a:off x="3675600" y="3423960"/>
            <a:ext cx="13435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clusion</a:t>
            </a:r>
            <a:endParaRPr b="0" lang="en-US" sz="2000" spc="-1" strike="noStrike">
              <a:solidFill>
                <a:srgbClr val="000066"/>
              </a:solidFill>
              <a:latin typeface="Times New Roman"/>
            </a:endParaRPr>
          </a:p>
        </p:txBody>
      </p:sp>
      <p:sp>
        <p:nvSpPr>
          <p:cNvPr id="2513" name=""/>
          <p:cNvSpPr/>
          <p:nvPr/>
        </p:nvSpPr>
        <p:spPr>
          <a:xfrm>
            <a:off x="3505320" y="31194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0" lang="en-US" sz="1200" spc="-1" strike="noStrike">
              <a:solidFill>
                <a:srgbClr val="000066"/>
              </a:solidFill>
              <a:latin typeface="Times New Roman"/>
            </a:endParaRPr>
          </a:p>
        </p:txBody>
      </p:sp>
      <p:sp>
        <p:nvSpPr>
          <p:cNvPr id="2514" name=""/>
          <p:cNvSpPr/>
          <p:nvPr/>
        </p:nvSpPr>
        <p:spPr>
          <a:xfrm>
            <a:off x="4267080" y="278136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0" lang="en-US" sz="1200" spc="-1" strike="noStrike">
              <a:solidFill>
                <a:srgbClr val="000066"/>
              </a:solidFill>
              <a:latin typeface="Times New Roman"/>
            </a:endParaRPr>
          </a:p>
        </p:txBody>
      </p:sp>
      <p:sp>
        <p:nvSpPr>
          <p:cNvPr id="2515" name=""/>
          <p:cNvSpPr/>
          <p:nvPr/>
        </p:nvSpPr>
        <p:spPr>
          <a:xfrm>
            <a:off x="4986360" y="31194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0" lang="en-US" sz="1200" spc="-1" strike="noStrike">
              <a:solidFill>
                <a:srgbClr val="000066"/>
              </a:solidFill>
              <a:latin typeface="Times New Roman"/>
            </a:endParaRPr>
          </a:p>
        </p:txBody>
      </p:sp>
      <p:sp>
        <p:nvSpPr>
          <p:cNvPr id="2516" name=""/>
          <p:cNvSpPr/>
          <p:nvPr/>
        </p:nvSpPr>
        <p:spPr>
          <a:xfrm>
            <a:off x="5029200" y="38052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4</a:t>
            </a:r>
            <a:endParaRPr b="0" lang="en-US" sz="1200" spc="-1" strike="noStrike">
              <a:solidFill>
                <a:srgbClr val="000066"/>
              </a:solidFill>
              <a:latin typeface="Times New Roman"/>
            </a:endParaRPr>
          </a:p>
        </p:txBody>
      </p:sp>
      <p:sp>
        <p:nvSpPr>
          <p:cNvPr id="2517" name=""/>
          <p:cNvSpPr/>
          <p:nvPr/>
        </p:nvSpPr>
        <p:spPr>
          <a:xfrm>
            <a:off x="4272120" y="4186080"/>
            <a:ext cx="271440" cy="27180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5</a:t>
            </a:r>
            <a:endParaRPr b="0" lang="en-US" sz="1200" spc="-1" strike="noStrike">
              <a:solidFill>
                <a:srgbClr val="000066"/>
              </a:solidFill>
              <a:latin typeface="Times New Roman"/>
            </a:endParaRPr>
          </a:p>
        </p:txBody>
      </p:sp>
      <p:sp>
        <p:nvSpPr>
          <p:cNvPr id="2518" name=""/>
          <p:cNvSpPr/>
          <p:nvPr/>
        </p:nvSpPr>
        <p:spPr>
          <a:xfrm>
            <a:off x="3448080" y="3790800"/>
            <a:ext cx="271440" cy="271440"/>
          </a:xfrm>
          <a:prstGeom prst="rect">
            <a:avLst/>
          </a:prstGeom>
          <a:solidFill>
            <a:srgbClr val="779dd5"/>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6</a:t>
            </a:r>
            <a:endParaRPr b="0" lang="en-US" sz="1200" spc="-1" strike="noStrike">
              <a:solidFill>
                <a:srgbClr val="000066"/>
              </a:solidFill>
              <a:latin typeface="Times New Roman"/>
            </a:endParaRPr>
          </a:p>
        </p:txBody>
      </p:sp>
      <p:sp>
        <p:nvSpPr>
          <p:cNvPr id="2519" name=""/>
          <p:cNvSpPr/>
          <p:nvPr/>
        </p:nvSpPr>
        <p:spPr>
          <a:xfrm>
            <a:off x="1371600" y="2651760"/>
            <a:ext cx="190512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介绍了数字校园和一卡通系统的概念</a:t>
            </a:r>
            <a:endParaRPr b="0" lang="en-US" sz="1800" spc="-1" strike="noStrike">
              <a:solidFill>
                <a:srgbClr val="000066"/>
              </a:solidFill>
              <a:latin typeface="Times New Roman"/>
            </a:endParaRPr>
          </a:p>
        </p:txBody>
      </p:sp>
      <p:sp>
        <p:nvSpPr>
          <p:cNvPr id="2520" name=""/>
          <p:cNvSpPr/>
          <p:nvPr/>
        </p:nvSpPr>
        <p:spPr>
          <a:xfrm>
            <a:off x="3124080" y="5166720"/>
            <a:ext cx="2362320" cy="823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尤其强调了交易、操作、卡片、传输、</a:t>
            </a:r>
            <a:r>
              <a:rPr b="1" lang="en-US" sz="1800" spc="-1" strike="noStrike">
                <a:solidFill>
                  <a:srgbClr val="000099"/>
                </a:solidFill>
                <a:latin typeface="Arial"/>
              </a:rPr>
              <a:t>POS</a:t>
            </a:r>
            <a:r>
              <a:rPr b="1" lang="zh-CN" sz="1800" spc="-1" strike="noStrike">
                <a:solidFill>
                  <a:srgbClr val="000099"/>
                </a:solidFill>
                <a:latin typeface="Arial"/>
              </a:rPr>
              <a:t>机以及密钥管理系统等多方面的安全策略</a:t>
            </a:r>
            <a:endParaRPr b="0" lang="en-US" sz="1800" spc="-1" strike="noStrike">
              <a:solidFill>
                <a:srgbClr val="000066"/>
              </a:solidFill>
              <a:latin typeface="Times New Roman"/>
            </a:endParaRPr>
          </a:p>
        </p:txBody>
      </p:sp>
      <p:sp>
        <p:nvSpPr>
          <p:cNvPr id="2521" name=""/>
          <p:cNvSpPr/>
          <p:nvPr/>
        </p:nvSpPr>
        <p:spPr>
          <a:xfrm>
            <a:off x="3560760" y="1876320"/>
            <a:ext cx="193824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提出了新一代的数字校园和一卡通系统的组成和特点</a:t>
            </a:r>
            <a:endParaRPr b="0" lang="en-US" sz="1800" spc="-1" strike="noStrike">
              <a:solidFill>
                <a:srgbClr val="000066"/>
              </a:solidFill>
              <a:latin typeface="Times New Roman"/>
            </a:endParaRPr>
          </a:p>
        </p:txBody>
      </p:sp>
      <p:sp>
        <p:nvSpPr>
          <p:cNvPr id="2522" name=""/>
          <p:cNvSpPr/>
          <p:nvPr/>
        </p:nvSpPr>
        <p:spPr>
          <a:xfrm>
            <a:off x="838080" y="4326480"/>
            <a:ext cx="266724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对数字校园和一卡通系统发展的前景进行了展望</a:t>
            </a:r>
            <a:endParaRPr b="0" lang="en-US" sz="1800" spc="-1" strike="noStrike">
              <a:solidFill>
                <a:srgbClr val="000066"/>
              </a:solidFill>
              <a:latin typeface="Times New Roman"/>
            </a:endParaRPr>
          </a:p>
        </p:txBody>
      </p:sp>
      <p:sp>
        <p:nvSpPr>
          <p:cNvPr id="2523" name=""/>
          <p:cNvSpPr/>
          <p:nvPr/>
        </p:nvSpPr>
        <p:spPr>
          <a:xfrm>
            <a:off x="5486400" y="4191120"/>
            <a:ext cx="2514600" cy="5490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从多个角度讨论了系统的安全要素和防范策略</a:t>
            </a:r>
            <a:endParaRPr b="0" lang="en-US" sz="1800" spc="-1" strike="noStrike">
              <a:solidFill>
                <a:srgbClr val="000066"/>
              </a:solidFill>
              <a:latin typeface="Times New Roman"/>
            </a:endParaRPr>
          </a:p>
        </p:txBody>
      </p:sp>
      <p:sp>
        <p:nvSpPr>
          <p:cNvPr id="2524" name=""/>
          <p:cNvSpPr/>
          <p:nvPr/>
        </p:nvSpPr>
        <p:spPr>
          <a:xfrm>
            <a:off x="5562720" y="2651760"/>
            <a:ext cx="2133360" cy="27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讨论了校园一卡通系统建设的构架与实现</a:t>
            </a:r>
            <a:endParaRPr b="0" lang="en-US" sz="1800" spc="-1" strike="noStrike">
              <a:solidFill>
                <a:srgbClr val="000066"/>
              </a:solidFill>
              <a:latin typeface="Times New Roman"/>
            </a:endParaRPr>
          </a:p>
        </p:txBody>
      </p:sp>
      <p:sp>
        <p:nvSpPr>
          <p:cNvPr id="2525"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26"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27"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28"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29"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0"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1"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2"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3" name=""/>
          <p:cNvSpPr/>
          <p:nvPr/>
        </p:nvSpPr>
        <p:spPr>
          <a:xfrm flipV="1">
            <a:off x="2571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4" name=""/>
          <p:cNvSpPr/>
          <p:nvPr/>
        </p:nvSpPr>
        <p:spPr>
          <a:xfrm flipV="1">
            <a:off x="2666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5" name=""/>
          <p:cNvSpPr/>
          <p:nvPr/>
        </p:nvSpPr>
        <p:spPr>
          <a:xfrm flipV="1">
            <a:off x="2762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6" name=""/>
          <p:cNvSpPr/>
          <p:nvPr/>
        </p:nvSpPr>
        <p:spPr>
          <a:xfrm flipV="1">
            <a:off x="2857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7" name=""/>
          <p:cNvSpPr/>
          <p:nvPr/>
        </p:nvSpPr>
        <p:spPr>
          <a:xfrm flipV="1">
            <a:off x="2952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8" name=""/>
          <p:cNvSpPr/>
          <p:nvPr/>
        </p:nvSpPr>
        <p:spPr>
          <a:xfrm flipV="1">
            <a:off x="3048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39" name=""/>
          <p:cNvSpPr/>
          <p:nvPr/>
        </p:nvSpPr>
        <p:spPr>
          <a:xfrm flipV="1">
            <a:off x="3143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0" name=""/>
          <p:cNvSpPr/>
          <p:nvPr/>
        </p:nvSpPr>
        <p:spPr>
          <a:xfrm flipV="1">
            <a:off x="3238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1" name=""/>
          <p:cNvSpPr/>
          <p:nvPr/>
        </p:nvSpPr>
        <p:spPr>
          <a:xfrm flipV="1">
            <a:off x="3333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2" name=""/>
          <p:cNvSpPr/>
          <p:nvPr/>
        </p:nvSpPr>
        <p:spPr>
          <a:xfrm flipV="1">
            <a:off x="3429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3" name=""/>
          <p:cNvSpPr/>
          <p:nvPr/>
        </p:nvSpPr>
        <p:spPr>
          <a:xfrm flipV="1">
            <a:off x="3524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4" name=""/>
          <p:cNvSpPr/>
          <p:nvPr/>
        </p:nvSpPr>
        <p:spPr>
          <a:xfrm flipV="1">
            <a:off x="3619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5" name=""/>
          <p:cNvSpPr/>
          <p:nvPr/>
        </p:nvSpPr>
        <p:spPr>
          <a:xfrm flipV="1">
            <a:off x="3714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6" name=""/>
          <p:cNvSpPr/>
          <p:nvPr/>
        </p:nvSpPr>
        <p:spPr>
          <a:xfrm flipV="1">
            <a:off x="38098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7" name=""/>
          <p:cNvSpPr/>
          <p:nvPr/>
        </p:nvSpPr>
        <p:spPr>
          <a:xfrm flipV="1">
            <a:off x="390528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8" name=""/>
          <p:cNvSpPr/>
          <p:nvPr/>
        </p:nvSpPr>
        <p:spPr>
          <a:xfrm flipV="1">
            <a:off x="400068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49" name=""/>
          <p:cNvSpPr/>
          <p:nvPr/>
        </p:nvSpPr>
        <p:spPr>
          <a:xfrm flipV="1">
            <a:off x="4095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0" name=""/>
          <p:cNvSpPr/>
          <p:nvPr/>
        </p:nvSpPr>
        <p:spPr>
          <a:xfrm flipV="1">
            <a:off x="4191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1" name=""/>
          <p:cNvSpPr/>
          <p:nvPr/>
        </p:nvSpPr>
        <p:spPr>
          <a:xfrm flipV="1">
            <a:off x="4286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2" name=""/>
          <p:cNvSpPr/>
          <p:nvPr/>
        </p:nvSpPr>
        <p:spPr>
          <a:xfrm flipV="1">
            <a:off x="4381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3" name=""/>
          <p:cNvSpPr/>
          <p:nvPr/>
        </p:nvSpPr>
        <p:spPr>
          <a:xfrm flipV="1">
            <a:off x="4476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4" name=""/>
          <p:cNvSpPr/>
          <p:nvPr/>
        </p:nvSpPr>
        <p:spPr>
          <a:xfrm flipV="1">
            <a:off x="4572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5" name=""/>
          <p:cNvSpPr/>
          <p:nvPr/>
        </p:nvSpPr>
        <p:spPr>
          <a:xfrm flipV="1">
            <a:off x="4667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6" name=""/>
          <p:cNvSpPr/>
          <p:nvPr/>
        </p:nvSpPr>
        <p:spPr>
          <a:xfrm flipV="1">
            <a:off x="4762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7" name=""/>
          <p:cNvSpPr/>
          <p:nvPr/>
        </p:nvSpPr>
        <p:spPr>
          <a:xfrm flipV="1">
            <a:off x="485784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8"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引言</a:t>
            </a:r>
            <a:endParaRPr b="0" lang="en-US" sz="4800" spc="-1" strike="noStrike">
              <a:solidFill>
                <a:srgbClr val="000099"/>
              </a:solidFill>
              <a:latin typeface="Times New Roman"/>
            </a:endParaRPr>
          </a:p>
        </p:txBody>
      </p:sp>
      <p:sp>
        <p:nvSpPr>
          <p:cNvPr id="25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信息化两大应用领域</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环境下的校园一卡通</a:t>
            </a:r>
            <a:endParaRPr b="1" lang="en-US" sz="3200" spc="-1" strike="noStrike">
              <a:solidFill>
                <a:srgbClr val="000099"/>
              </a:solidFill>
              <a:latin typeface="Times New Roman"/>
            </a:endParaRPr>
          </a:p>
        </p:txBody>
      </p:sp>
      <p:sp>
        <p:nvSpPr>
          <p:cNvPr id="254"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5"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6"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7" name=""/>
          <p:cNvSpPr/>
          <p:nvPr/>
        </p:nvSpPr>
        <p:spPr>
          <a:xfrm flipV="1">
            <a:off x="2095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8" name=""/>
          <p:cNvSpPr/>
          <p:nvPr/>
        </p:nvSpPr>
        <p:spPr>
          <a:xfrm flipV="1">
            <a:off x="2190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59"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0"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1"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2"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3"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4"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5"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6"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7"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8"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69"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0"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1"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2"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3"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4"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5"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6"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7"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8"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79"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0"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1"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2"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3"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4"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5"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6"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287"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校园信息化</a:t>
            </a:r>
            <a:endParaRPr b="0" lang="en-US" sz="4800" spc="-1" strike="noStrike">
              <a:solidFill>
                <a:srgbClr val="000099"/>
              </a:solidFill>
              <a:latin typeface="Times New Roman"/>
            </a:endParaRPr>
          </a:p>
        </p:txBody>
      </p:sp>
      <p:sp>
        <p:nvSpPr>
          <p:cNvPr id="289"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校园信息化</a:t>
            </a: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数字校园环境下的一卡通是现代化校园管理的重要应用，必须依托学校现有的校园网进行建设</a:t>
            </a:r>
            <a:endParaRPr b="1" lang="en-US" sz="2800" spc="-1" strike="noStrike">
              <a:solidFill>
                <a:srgbClr val="000099"/>
              </a:solidFill>
              <a:latin typeface="Times New Roman"/>
            </a:endParaRPr>
          </a:p>
        </p:txBody>
      </p:sp>
      <p:sp>
        <p:nvSpPr>
          <p:cNvPr id="290" name=""/>
          <p:cNvSpPr/>
          <p:nvPr/>
        </p:nvSpPr>
        <p:spPr>
          <a:xfrm>
            <a:off x="1295280" y="3657600"/>
            <a:ext cx="3581640" cy="106668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91" name=""/>
          <p:cNvSpPr/>
          <p:nvPr/>
        </p:nvSpPr>
        <p:spPr>
          <a:xfrm>
            <a:off x="3733920" y="2654280"/>
            <a:ext cx="1904760" cy="94284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92" name=""/>
          <p:cNvSpPr/>
          <p:nvPr/>
        </p:nvSpPr>
        <p:spPr>
          <a:xfrm>
            <a:off x="3886200" y="2962440"/>
            <a:ext cx="1600200" cy="3373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rPr>
              <a:t>社会服务信息化</a:t>
            </a:r>
            <a:endParaRPr b="0" lang="en-US" sz="1600" spc="-1" strike="noStrike">
              <a:solidFill>
                <a:srgbClr val="000066"/>
              </a:solidFill>
              <a:latin typeface="Times New Roman"/>
            </a:endParaRPr>
          </a:p>
        </p:txBody>
      </p:sp>
      <p:sp>
        <p:nvSpPr>
          <p:cNvPr id="293" name=""/>
          <p:cNvSpPr/>
          <p:nvPr/>
        </p:nvSpPr>
        <p:spPr>
          <a:xfrm>
            <a:off x="533520" y="2631960"/>
            <a:ext cx="1828800" cy="91152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294" name=""/>
          <p:cNvSpPr/>
          <p:nvPr/>
        </p:nvSpPr>
        <p:spPr>
          <a:xfrm>
            <a:off x="609480" y="2978280"/>
            <a:ext cx="1600200" cy="3373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Times New Roman"/>
              </a:rPr>
              <a:t>校园管理信息化</a:t>
            </a:r>
            <a:endParaRPr b="0" lang="en-US" sz="1600" spc="-1" strike="noStrike">
              <a:solidFill>
                <a:srgbClr val="000066"/>
              </a:solidFill>
              <a:latin typeface="Times New Roman"/>
            </a:endParaRPr>
          </a:p>
        </p:txBody>
      </p:sp>
      <p:grpSp>
        <p:nvGrpSpPr>
          <p:cNvPr id="295" name=""/>
          <p:cNvGrpSpPr/>
          <p:nvPr/>
        </p:nvGrpSpPr>
        <p:grpSpPr>
          <a:xfrm>
            <a:off x="3200400" y="3521160"/>
            <a:ext cx="1061640" cy="406080"/>
            <a:chOff x="3200400" y="3521160"/>
            <a:chExt cx="1061640" cy="406080"/>
          </a:xfrm>
        </p:grpSpPr>
        <p:sp>
          <p:nvSpPr>
            <p:cNvPr id="296" name=""/>
            <p:cNvSpPr/>
            <p:nvPr/>
          </p:nvSpPr>
          <p:spPr>
            <a:xfrm>
              <a:off x="3779280" y="3521160"/>
              <a:ext cx="482760" cy="135360"/>
            </a:xfrm>
            <a:prstGeom prst="ellipse">
              <a:avLst/>
            </a:prstGeom>
            <a:solidFill>
              <a:srgbClr val="f3f6ff"/>
            </a:solidFill>
            <a:ln w="0">
              <a:solidFill>
                <a:srgbClr val="6699ff"/>
              </a:solidFill>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297" name=""/>
            <p:cNvSpPr/>
            <p:nvPr/>
          </p:nvSpPr>
          <p:spPr>
            <a:xfrm>
              <a:off x="3489840" y="3723840"/>
              <a:ext cx="385920" cy="67680"/>
            </a:xfrm>
            <a:prstGeom prst="ellipse">
              <a:avLst/>
            </a:prstGeom>
            <a:solidFill>
              <a:srgbClr val="f3f6ff"/>
            </a:solidFill>
            <a:ln w="0">
              <a:solidFill>
                <a:srgbClr val="6699ff"/>
              </a:solidFill>
            </a:ln>
          </p:spPr>
          <p:style>
            <a:lnRef idx="0"/>
            <a:fillRef idx="0"/>
            <a:effectRef idx="0"/>
            <a:fontRef idx="minor"/>
          </p:style>
          <p:txBody>
            <a:bodyPr wrap="none" lIns="90000" rIns="90000" tIns="1440" bIns="1440" anchor="ctr">
              <a:spAutoFit/>
            </a:bodyPr>
            <a:p>
              <a:endParaRPr b="0" lang="en-US" sz="2400" spc="-1" strike="noStrike">
                <a:solidFill>
                  <a:srgbClr val="000066"/>
                </a:solidFill>
                <a:latin typeface="Times New Roman"/>
              </a:endParaRPr>
            </a:p>
          </p:txBody>
        </p:sp>
        <p:sp>
          <p:nvSpPr>
            <p:cNvPr id="298" name=""/>
            <p:cNvSpPr/>
            <p:nvPr/>
          </p:nvSpPr>
          <p:spPr>
            <a:xfrm>
              <a:off x="3200400" y="3859560"/>
              <a:ext cx="289440" cy="67680"/>
            </a:xfrm>
            <a:prstGeom prst="ellipse">
              <a:avLst/>
            </a:prstGeom>
            <a:solidFill>
              <a:srgbClr val="f3f6ff"/>
            </a:solidFill>
            <a:ln w="0">
              <a:solidFill>
                <a:srgbClr val="6699ff"/>
              </a:solidFill>
            </a:ln>
          </p:spPr>
          <p:style>
            <a:lnRef idx="0"/>
            <a:fillRef idx="0"/>
            <a:effectRef idx="0"/>
            <a:fontRef idx="minor"/>
          </p:style>
          <p:txBody>
            <a:bodyPr wrap="none" lIns="90000" rIns="90000" tIns="1440" bIns="1440" anchor="ctr">
              <a:spAutoFit/>
            </a:bodyPr>
            <a:p>
              <a:endParaRPr b="0" lang="en-US" sz="2400" spc="-1" strike="noStrike">
                <a:solidFill>
                  <a:srgbClr val="000066"/>
                </a:solidFill>
                <a:latin typeface="Times New Roman"/>
              </a:endParaRPr>
            </a:p>
          </p:txBody>
        </p:sp>
      </p:grpSp>
      <p:grpSp>
        <p:nvGrpSpPr>
          <p:cNvPr id="299" name=""/>
          <p:cNvGrpSpPr/>
          <p:nvPr/>
        </p:nvGrpSpPr>
        <p:grpSpPr>
          <a:xfrm>
            <a:off x="2057400" y="3571920"/>
            <a:ext cx="837720" cy="352080"/>
            <a:chOff x="2057400" y="3571920"/>
            <a:chExt cx="837720" cy="352080"/>
          </a:xfrm>
        </p:grpSpPr>
        <p:sp>
          <p:nvSpPr>
            <p:cNvPr id="300" name=""/>
            <p:cNvSpPr/>
            <p:nvPr/>
          </p:nvSpPr>
          <p:spPr>
            <a:xfrm>
              <a:off x="2057400" y="3571920"/>
              <a:ext cx="380520" cy="117360"/>
            </a:xfrm>
            <a:prstGeom prst="ellipse">
              <a:avLst/>
            </a:prstGeom>
            <a:solidFill>
              <a:srgbClr val="f3f6ff"/>
            </a:solidFill>
            <a:ln w="0">
              <a:solidFill>
                <a:srgbClr val="6699ff"/>
              </a:solidFill>
            </a:ln>
          </p:spPr>
          <p:style>
            <a:lnRef idx="0"/>
            <a:fillRef idx="0"/>
            <a:effectRef idx="0"/>
            <a:fontRef idx="minor"/>
          </p:style>
          <p:txBody>
            <a:bodyPr wrap="none" lIns="90000" rIns="90000" tIns="36720" bIns="36720" anchor="ctr">
              <a:spAutoFit/>
            </a:bodyPr>
            <a:p>
              <a:endParaRPr b="0" lang="en-US" sz="2400" spc="-1" strike="noStrike">
                <a:solidFill>
                  <a:srgbClr val="000066"/>
                </a:solidFill>
                <a:latin typeface="Times New Roman"/>
              </a:endParaRPr>
            </a:p>
          </p:txBody>
        </p:sp>
        <p:sp>
          <p:nvSpPr>
            <p:cNvPr id="301" name=""/>
            <p:cNvSpPr/>
            <p:nvPr/>
          </p:nvSpPr>
          <p:spPr>
            <a:xfrm>
              <a:off x="2361960" y="3747600"/>
              <a:ext cx="304560" cy="58680"/>
            </a:xfrm>
            <a:prstGeom prst="ellipse">
              <a:avLst/>
            </a:prstGeom>
            <a:solidFill>
              <a:srgbClr val="f3f6ff"/>
            </a:solidFill>
            <a:ln w="0">
              <a:solidFill>
                <a:srgbClr val="6699ff"/>
              </a:solidFill>
            </a:ln>
          </p:spPr>
          <p:style>
            <a:lnRef idx="0"/>
            <a:fillRef idx="0"/>
            <a:effectRef idx="0"/>
            <a:fontRef idx="minor"/>
          </p:style>
          <p:txBody>
            <a:bodyPr wrap="none" lIns="90000" rIns="90000" tIns="-5400" bIns="-5400" anchor="ctr">
              <a:spAutoFit/>
            </a:bodyPr>
            <a:p>
              <a:endParaRPr b="0" lang="en-US" sz="2400" spc="-1" strike="noStrike">
                <a:solidFill>
                  <a:srgbClr val="000066"/>
                </a:solidFill>
                <a:latin typeface="Times New Roman"/>
              </a:endParaRPr>
            </a:p>
          </p:txBody>
        </p:sp>
        <p:sp>
          <p:nvSpPr>
            <p:cNvPr id="302" name=""/>
            <p:cNvSpPr/>
            <p:nvPr/>
          </p:nvSpPr>
          <p:spPr>
            <a:xfrm>
              <a:off x="2666520" y="3865320"/>
              <a:ext cx="228600" cy="58680"/>
            </a:xfrm>
            <a:prstGeom prst="ellipse">
              <a:avLst/>
            </a:prstGeom>
            <a:solidFill>
              <a:srgbClr val="f3f6ff"/>
            </a:solidFill>
            <a:ln w="0">
              <a:solidFill>
                <a:srgbClr val="6699ff"/>
              </a:solidFill>
            </a:ln>
          </p:spPr>
          <p:style>
            <a:lnRef idx="0"/>
            <a:fillRef idx="0"/>
            <a:effectRef idx="0"/>
            <a:fontRef idx="minor"/>
          </p:style>
          <p:txBody>
            <a:bodyPr wrap="none" lIns="90000" rIns="90000" tIns="-5400" bIns="-5400" anchor="ctr">
              <a:spAutoFit/>
            </a:bodyPr>
            <a:p>
              <a:endParaRPr b="0" lang="en-US" sz="2400" spc="-1" strike="noStrike">
                <a:solidFill>
                  <a:srgbClr val="000066"/>
                </a:solidFill>
                <a:latin typeface="Times New Roman"/>
              </a:endParaRPr>
            </a:p>
          </p:txBody>
        </p:sp>
      </p:grpSp>
      <p:sp>
        <p:nvSpPr>
          <p:cNvPr id="303" name=""/>
          <p:cNvSpPr/>
          <p:nvPr/>
        </p:nvSpPr>
        <p:spPr>
          <a:xfrm>
            <a:off x="1905120" y="3916440"/>
            <a:ext cx="2361960" cy="5814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信息化</a:t>
            </a:r>
            <a:endParaRPr b="0" lang="en-US" sz="3200" spc="-1" strike="noStrike">
              <a:solidFill>
                <a:srgbClr val="000066"/>
              </a:solidFill>
              <a:latin typeface="Times New Roman"/>
            </a:endParaRPr>
          </a:p>
        </p:txBody>
      </p:sp>
      <p:sp>
        <p:nvSpPr>
          <p:cNvPr id="304" name=""/>
          <p:cNvSpPr/>
          <p:nvPr/>
        </p:nvSpPr>
        <p:spPr>
          <a:xfrm rot="10800000">
            <a:off x="1345680" y="2514240"/>
            <a:ext cx="382680" cy="26676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05" name=""/>
          <p:cNvSpPr/>
          <p:nvPr/>
        </p:nvSpPr>
        <p:spPr>
          <a:xfrm rot="10800000">
            <a:off x="685440" y="2018880"/>
            <a:ext cx="1676520" cy="52380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06" name=""/>
          <p:cNvSpPr/>
          <p:nvPr/>
        </p:nvSpPr>
        <p:spPr>
          <a:xfrm>
            <a:off x="762120" y="2095560"/>
            <a:ext cx="1600200" cy="3682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数字化校园</a:t>
            </a:r>
            <a:endParaRPr b="0" lang="en-US" sz="1800" spc="-1" strike="noStrike">
              <a:solidFill>
                <a:srgbClr val="000066"/>
              </a:solidFill>
              <a:latin typeface="Times New Roman"/>
            </a:endParaRPr>
          </a:p>
        </p:txBody>
      </p:sp>
      <p:sp>
        <p:nvSpPr>
          <p:cNvPr id="307" name=""/>
          <p:cNvSpPr/>
          <p:nvPr/>
        </p:nvSpPr>
        <p:spPr>
          <a:xfrm rot="10800000">
            <a:off x="4546080" y="2514240"/>
            <a:ext cx="382680" cy="266760"/>
          </a:xfrm>
          <a:custGeom>
            <a:avLst/>
            <a:gdLst/>
            <a:ahLst/>
            <a:rect l="l" t="t" r="r" b="b"/>
            <a:pathLst>
              <a:path w="289" h="505">
                <a:moveTo>
                  <a:pt x="72" y="504"/>
                </a:moveTo>
                <a:lnTo>
                  <a:pt x="72" y="144"/>
                </a:lnTo>
                <a:lnTo>
                  <a:pt x="0" y="144"/>
                </a:lnTo>
                <a:lnTo>
                  <a:pt x="144" y="0"/>
                </a:lnTo>
                <a:lnTo>
                  <a:pt x="288" y="144"/>
                </a:lnTo>
                <a:lnTo>
                  <a:pt x="216" y="144"/>
                </a:lnTo>
                <a:lnTo>
                  <a:pt x="216" y="504"/>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08" name=""/>
          <p:cNvSpPr/>
          <p:nvPr/>
        </p:nvSpPr>
        <p:spPr>
          <a:xfrm rot="10800000">
            <a:off x="3885840" y="2018880"/>
            <a:ext cx="1676520" cy="523800"/>
          </a:xfrm>
          <a:custGeom>
            <a:avLst/>
            <a:gdLst/>
            <a:ahLst/>
            <a:rect l="l" t="t" r="r" b="b"/>
            <a:pathLst>
              <a:path w="1729" h="865">
                <a:moveTo>
                  <a:pt x="936" y="0"/>
                </a:moveTo>
                <a:lnTo>
                  <a:pt x="1728" y="0"/>
                </a:lnTo>
                <a:lnTo>
                  <a:pt x="1728" y="864"/>
                </a:lnTo>
                <a:lnTo>
                  <a:pt x="0" y="864"/>
                </a:lnTo>
                <a:lnTo>
                  <a:pt x="0" y="0"/>
                </a:lnTo>
                <a:lnTo>
                  <a:pt x="792" y="0"/>
                </a:lnTo>
              </a:path>
            </a:pathLst>
          </a:custGeom>
          <a:solidFill>
            <a:srgbClr val="e7eeff"/>
          </a:solidFill>
          <a:ln w="6480">
            <a:solidFill>
              <a:srgbClr val="3366ff"/>
            </a:solidFill>
            <a:round/>
          </a:ln>
          <a:effectLst>
            <a:outerShdw dist="57021" dir="27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09" name=""/>
          <p:cNvSpPr/>
          <p:nvPr/>
        </p:nvSpPr>
        <p:spPr>
          <a:xfrm>
            <a:off x="3962520" y="2095560"/>
            <a:ext cx="1600200" cy="3682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校园一卡通</a:t>
            </a:r>
            <a:endParaRPr b="0" lang="en-US" sz="1800" spc="-1" strike="noStrike">
              <a:solidFill>
                <a:srgbClr val="000066"/>
              </a:solidFill>
              <a:latin typeface="Times New Roman"/>
            </a:endParaRPr>
          </a:p>
        </p:txBody>
      </p:sp>
      <p:sp>
        <p:nvSpPr>
          <p:cNvPr id="310" name=""/>
          <p:cNvSpPr/>
          <p:nvPr/>
        </p:nvSpPr>
        <p:spPr>
          <a:xfrm>
            <a:off x="5715000" y="2171880"/>
            <a:ext cx="609480" cy="228600"/>
          </a:xfrm>
          <a:custGeom>
            <a:avLst/>
            <a:gdLst/>
            <a:ahLst/>
            <a:rect l="l" t="t" r="r" b="b"/>
            <a:pathLst>
              <a:path w="1081" h="865">
                <a:moveTo>
                  <a:pt x="0" y="691"/>
                </a:moveTo>
                <a:lnTo>
                  <a:pt x="648" y="691"/>
                </a:lnTo>
                <a:lnTo>
                  <a:pt x="648" y="864"/>
                </a:lnTo>
                <a:lnTo>
                  <a:pt x="1080" y="432"/>
                </a:lnTo>
                <a:lnTo>
                  <a:pt x="648" y="0"/>
                </a:lnTo>
                <a:lnTo>
                  <a:pt x="648" y="173"/>
                </a:lnTo>
                <a:lnTo>
                  <a:pt x="0" y="173"/>
                </a:lnTo>
                <a:lnTo>
                  <a:pt x="0" y="173"/>
                </a:lnTo>
                <a:lnTo>
                  <a:pt x="0" y="432"/>
                </a:lnTo>
                <a:lnTo>
                  <a:pt x="0" y="691"/>
                </a:lnTo>
                <a:lnTo>
                  <a:pt x="0" y="691"/>
                </a:lnTo>
                <a:close/>
              </a:path>
            </a:pathLst>
          </a:custGeom>
          <a:solidFill>
            <a:srgbClr val="ebf3ff"/>
          </a:solidFill>
          <a:ln w="6480">
            <a:solidFill>
              <a:srgbClr val="6c8fe8"/>
            </a:solidFill>
            <a:round/>
          </a:ln>
          <a:effectLst>
            <a:outerShdw dist="57240" dir="10800000" blurRad="0" rotWithShape="0">
              <a:srgbClr val="888888">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311" name=""/>
          <p:cNvSpPr/>
          <p:nvPr/>
        </p:nvSpPr>
        <p:spPr>
          <a:xfrm>
            <a:off x="6400800" y="1584360"/>
            <a:ext cx="1828800" cy="1464480"/>
          </a:xfrm>
          <a:prstGeom prst="rect">
            <a:avLst/>
          </a:prstGeom>
          <a:noFill/>
          <a:ln w="0">
            <a:noFill/>
          </a:ln>
        </p:spPr>
        <p:style>
          <a:lnRef idx="0"/>
          <a:fillRef idx="0"/>
          <a:effectRef idx="0"/>
          <a:fontRef idx="minor"/>
        </p:style>
        <p:txBody>
          <a:bodyPr lIns="45720" rIns="4572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作为整个数字化校园的核心，设计上必须符合数字化校园的设计思想</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不仅仅是消费系统，还具备管理功能和具备身份识别功能</a:t>
            </a: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4246e"/>
                </a:solidFill>
                <a:latin typeface="Arial"/>
              </a:rPr>
              <a:t>· </a:t>
            </a:r>
            <a:r>
              <a:rPr b="0" lang="zh-CN" sz="1200" spc="-1" strike="noStrike">
                <a:solidFill>
                  <a:srgbClr val="000066"/>
                </a:solidFill>
                <a:latin typeface="Times New Roman"/>
              </a:rPr>
              <a:t>建立的身份信息库能与中央信息库实现数据交换，为与其它</a:t>
            </a:r>
            <a:r>
              <a:rPr b="0" lang="en-US" sz="1200" spc="-1" strike="noStrike">
                <a:solidFill>
                  <a:srgbClr val="000066"/>
                </a:solidFill>
                <a:latin typeface="Times New Roman"/>
              </a:rPr>
              <a:t>MIS</a:t>
            </a:r>
            <a:r>
              <a:rPr b="0" lang="en-US" sz="1200" spc="-1" strike="noStrike">
                <a:solidFill>
                  <a:srgbClr val="000066"/>
                </a:solidFill>
                <a:latin typeface="Times New Roman"/>
              </a:rPr>
              <a:t>、</a:t>
            </a:r>
            <a:r>
              <a:rPr b="0" lang="en-US" sz="1200" spc="-1" strike="noStrike">
                <a:solidFill>
                  <a:srgbClr val="000066"/>
                </a:solidFill>
                <a:latin typeface="Times New Roman"/>
              </a:rPr>
              <a:t>OA</a:t>
            </a:r>
            <a:r>
              <a:rPr b="0" lang="zh-CN" sz="1200" spc="-1" strike="noStrike">
                <a:solidFill>
                  <a:srgbClr val="000066"/>
                </a:solidFill>
                <a:latin typeface="Times New Roman"/>
              </a:rPr>
              <a:t>系统的互连互通打好基础</a:t>
            </a:r>
            <a:endParaRPr b="0" lang="en-US" sz="1200" spc="-1" strike="noStrike">
              <a:solidFill>
                <a:srgbClr val="000066"/>
              </a:solidFill>
              <a:latin typeface="Times New Roman"/>
            </a:endParaRPr>
          </a:p>
        </p:txBody>
      </p:sp>
      <p:sp>
        <p:nvSpPr>
          <p:cNvPr id="312"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3"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4"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5"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6" name=""/>
          <p:cNvSpPr/>
          <p:nvPr/>
        </p:nvSpPr>
        <p:spPr>
          <a:xfrm flipV="1">
            <a:off x="2190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7"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8"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19"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0"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1"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2"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3"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4"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5"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6"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7"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8"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29"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0"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1"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2"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3"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4"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5"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6"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7"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8"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39"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0"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1"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2"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3"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4"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5"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议题</a:t>
            </a:r>
            <a:endParaRPr b="0" lang="en-US" sz="4800" spc="-1" strike="noStrike">
              <a:solidFill>
                <a:srgbClr val="000099"/>
              </a:solidFill>
              <a:latin typeface="Times New Roman"/>
            </a:endParaRPr>
          </a:p>
        </p:txBody>
      </p:sp>
      <p:sp>
        <p:nvSpPr>
          <p:cNvPr id="347"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引言</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数字校园环境下一卡通系统的构建</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系统建设的构架与实现</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一卡通系统安全管理策略</a:t>
            </a:r>
            <a:endParaRPr b="1" lang="en-US" sz="3200" spc="-1" strike="noStrike">
              <a:solidFill>
                <a:srgbClr val="000099"/>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结语</a:t>
            </a:r>
            <a:endParaRPr b="1" lang="en-US" sz="3200" spc="-1" strike="noStrike">
              <a:solidFill>
                <a:srgbClr val="000099"/>
              </a:solidFill>
              <a:latin typeface="Times New Roman"/>
            </a:endParaRPr>
          </a:p>
        </p:txBody>
      </p:sp>
      <p:sp>
        <p:nvSpPr>
          <p:cNvPr id="348"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49"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0"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1"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2"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3" name=""/>
          <p:cNvSpPr/>
          <p:nvPr/>
        </p:nvSpPr>
        <p:spPr>
          <a:xfrm flipV="1">
            <a:off x="2286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4"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5"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6"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7"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8"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59"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0"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1"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2"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3"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4"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5"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6"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7"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8"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69"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0"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1"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2"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3"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4"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5"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6"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7"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8"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79"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0"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1"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宋体"/>
              </a:rPr>
              <a:t>数字校园环境下一卡通系统的构建</a:t>
            </a:r>
            <a:endParaRPr b="0" lang="en-US" sz="4000" spc="-1" strike="noStrike">
              <a:solidFill>
                <a:srgbClr val="000099"/>
              </a:solidFill>
              <a:latin typeface="Times New Roman"/>
            </a:endParaRPr>
          </a:p>
        </p:txBody>
      </p:sp>
      <p:sp>
        <p:nvSpPr>
          <p:cNvPr id="383"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数字校园的发展</a:t>
            </a:r>
            <a:endParaRPr b="1" lang="en-US" sz="3200" spc="-1" strike="noStrike">
              <a:solidFill>
                <a:srgbClr val="000099"/>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新一代的数字校园</a:t>
            </a:r>
            <a:endParaRPr b="1" lang="en-US" sz="3200" spc="-1" strike="noStrike">
              <a:solidFill>
                <a:srgbClr val="000099"/>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卡发展和银行校园卡</a:t>
            </a:r>
            <a:endParaRPr b="1" lang="en-US" sz="3200" spc="-1" strike="noStrike">
              <a:solidFill>
                <a:srgbClr val="000099"/>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校园一卡通</a:t>
            </a:r>
            <a:endParaRPr b="1" lang="en-US" sz="3200" spc="-1" strike="noStrike">
              <a:solidFill>
                <a:srgbClr val="000099"/>
              </a:solidFill>
              <a:latin typeface="Times New Roman"/>
            </a:endParaRPr>
          </a:p>
        </p:txBody>
      </p:sp>
      <p:sp>
        <p:nvSpPr>
          <p:cNvPr id="384"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5"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6"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7"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8"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89"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0" name=""/>
          <p:cNvSpPr/>
          <p:nvPr/>
        </p:nvSpPr>
        <p:spPr>
          <a:xfrm flipV="1">
            <a:off x="2381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1"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2"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3"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4"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5"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6"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7"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8"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399"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0"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1"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2"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3"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4"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5"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6"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7"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8"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09"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0"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1"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2"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3"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4"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5"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6"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17"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数字校园的发展</a:t>
            </a:r>
            <a:endParaRPr b="0" lang="en-US" sz="4800" spc="-1" strike="noStrike">
              <a:solidFill>
                <a:srgbClr val="000099"/>
              </a:solidFill>
              <a:latin typeface="Times New Roman"/>
            </a:endParaRPr>
          </a:p>
        </p:txBody>
      </p:sp>
      <p:sp>
        <p:nvSpPr>
          <p:cNvPr id="419"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从广义的角度而言，校园管理信息化都可以认为是数字校园的存在形态</a:t>
            </a:r>
            <a:endParaRPr b="1" lang="en-US" sz="3200" spc="-1" strike="noStrike">
              <a:solidFill>
                <a:srgbClr val="000099"/>
              </a:solidFill>
              <a:latin typeface="Times New Roman"/>
            </a:endParaRPr>
          </a:p>
        </p:txBody>
      </p:sp>
      <p:grpSp>
        <p:nvGrpSpPr>
          <p:cNvPr id="420" name=""/>
          <p:cNvGrpSpPr/>
          <p:nvPr/>
        </p:nvGrpSpPr>
        <p:grpSpPr>
          <a:xfrm>
            <a:off x="685800" y="3352320"/>
            <a:ext cx="4267080" cy="1726920"/>
            <a:chOff x="685800" y="3352320"/>
            <a:chExt cx="4267080" cy="1726920"/>
          </a:xfrm>
        </p:grpSpPr>
        <p:sp>
          <p:nvSpPr>
            <p:cNvPr id="421" name=""/>
            <p:cNvSpPr/>
            <p:nvPr/>
          </p:nvSpPr>
          <p:spPr>
            <a:xfrm>
              <a:off x="685800" y="3352680"/>
              <a:ext cx="4267080" cy="17265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b3ccfd"/>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22" name=""/>
            <p:cNvSpPr/>
            <p:nvPr/>
          </p:nvSpPr>
          <p:spPr>
            <a:xfrm>
              <a:off x="685800" y="4216320"/>
              <a:ext cx="2133720" cy="431640"/>
            </a:xfrm>
            <a:prstGeom prst="rect">
              <a:avLst/>
            </a:prstGeom>
            <a:solidFill>
              <a:srgbClr val="b3ccfd"/>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23" name=""/>
            <p:cNvSpPr/>
            <p:nvPr/>
          </p:nvSpPr>
          <p:spPr>
            <a:xfrm flipV="1">
              <a:off x="2819520" y="3352320"/>
              <a:ext cx="0" cy="86364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24" name=""/>
          <p:cNvGrpSpPr/>
          <p:nvPr/>
        </p:nvGrpSpPr>
        <p:grpSpPr>
          <a:xfrm>
            <a:off x="685800" y="3778920"/>
            <a:ext cx="4267080" cy="1630800"/>
            <a:chOff x="685800" y="3778920"/>
            <a:chExt cx="4267080" cy="1630800"/>
          </a:xfrm>
        </p:grpSpPr>
        <p:sp>
          <p:nvSpPr>
            <p:cNvPr id="425" name=""/>
            <p:cNvSpPr/>
            <p:nvPr/>
          </p:nvSpPr>
          <p:spPr>
            <a:xfrm>
              <a:off x="685800" y="4503600"/>
              <a:ext cx="213120" cy="181080"/>
            </a:xfrm>
            <a:prstGeom prst="rect">
              <a:avLst/>
            </a:pr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26" name=""/>
            <p:cNvSpPr/>
            <p:nvPr/>
          </p:nvSpPr>
          <p:spPr>
            <a:xfrm>
              <a:off x="685800" y="3960000"/>
              <a:ext cx="4267080" cy="1449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nvGrpSpPr>
            <p:cNvPr id="427" name=""/>
            <p:cNvGrpSpPr/>
            <p:nvPr/>
          </p:nvGrpSpPr>
          <p:grpSpPr>
            <a:xfrm>
              <a:off x="685800" y="3778920"/>
              <a:ext cx="4267080" cy="1450800"/>
              <a:chOff x="685800" y="3778920"/>
              <a:chExt cx="4267080" cy="1450800"/>
            </a:xfrm>
          </p:grpSpPr>
          <p:sp>
            <p:nvSpPr>
              <p:cNvPr id="428" name=""/>
              <p:cNvSpPr/>
              <p:nvPr/>
            </p:nvSpPr>
            <p:spPr>
              <a:xfrm>
                <a:off x="685800" y="3778920"/>
                <a:ext cx="4267080" cy="1449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dd9f7"/>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29" name=""/>
              <p:cNvSpPr/>
              <p:nvPr/>
            </p:nvSpPr>
            <p:spPr>
              <a:xfrm>
                <a:off x="685800" y="4503600"/>
                <a:ext cx="2135160" cy="726120"/>
              </a:xfrm>
              <a:custGeom>
                <a:avLst/>
                <a:gdLst/>
                <a:ahLst/>
                <a:rect l="l" t="t" r="r" b="b"/>
                <a:pathLst>
                  <a:path w="1441" h="577">
                    <a:moveTo>
                      <a:pt x="1440" y="576"/>
                    </a:moveTo>
                    <a:lnTo>
                      <a:pt x="1440" y="0"/>
                    </a:lnTo>
                    <a:lnTo>
                      <a:pt x="0" y="0"/>
                    </a:lnTo>
                  </a:path>
                </a:pathLst>
              </a:custGeom>
              <a:solidFill>
                <a:srgbClr val="cdd9f7"/>
              </a:solidFill>
              <a:ln w="324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grpSp>
        <p:sp>
          <p:nvSpPr>
            <p:cNvPr id="430" name=""/>
            <p:cNvSpPr/>
            <p:nvPr/>
          </p:nvSpPr>
          <p:spPr>
            <a:xfrm flipV="1">
              <a:off x="685800" y="4503240"/>
              <a:ext cx="0" cy="18108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1" name=""/>
            <p:cNvSpPr/>
            <p:nvPr/>
          </p:nvSpPr>
          <p:spPr>
            <a:xfrm>
              <a:off x="2819520" y="5228640"/>
              <a:ext cx="0" cy="18108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32" name=""/>
          <p:cNvGrpSpPr/>
          <p:nvPr/>
        </p:nvGrpSpPr>
        <p:grpSpPr>
          <a:xfrm>
            <a:off x="686520" y="3200400"/>
            <a:ext cx="4266360" cy="1593720"/>
            <a:chOff x="686520" y="3200400"/>
            <a:chExt cx="4266360" cy="1593720"/>
          </a:xfrm>
        </p:grpSpPr>
        <p:sp>
          <p:nvSpPr>
            <p:cNvPr id="433" name=""/>
            <p:cNvSpPr/>
            <p:nvPr/>
          </p:nvSpPr>
          <p:spPr>
            <a:xfrm>
              <a:off x="686520" y="3200400"/>
              <a:ext cx="4266000" cy="159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5b4ff"/>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34" name=""/>
            <p:cNvSpPr/>
            <p:nvPr/>
          </p:nvSpPr>
          <p:spPr>
            <a:xfrm>
              <a:off x="2819520" y="3997440"/>
              <a:ext cx="2133360" cy="497880"/>
            </a:xfrm>
            <a:prstGeom prst="rect">
              <a:avLst/>
            </a:prstGeom>
            <a:solidFill>
              <a:srgbClr val="95b4ff"/>
            </a:solidFill>
            <a:ln w="3240">
              <a:solidFill>
                <a:srgbClr val="6c8fe8"/>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35" name=""/>
            <p:cNvSpPr/>
            <p:nvPr/>
          </p:nvSpPr>
          <p:spPr>
            <a:xfrm>
              <a:off x="2819520" y="3200400"/>
              <a:ext cx="0" cy="797040"/>
            </a:xfrm>
            <a:prstGeom prst="line">
              <a:avLst/>
            </a:prstGeom>
            <a:ln w="3240">
              <a:solidFill>
                <a:srgbClr val="6c8fe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36" name=""/>
          <p:cNvSpPr/>
          <p:nvPr/>
        </p:nvSpPr>
        <p:spPr>
          <a:xfrm>
            <a:off x="914400" y="3962520"/>
            <a:ext cx="175248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局域网加部门级应用</a:t>
            </a:r>
            <a:endParaRPr b="0" lang="en-US" sz="1400" spc="-1" strike="noStrike">
              <a:solidFill>
                <a:srgbClr val="000066"/>
              </a:solidFill>
              <a:latin typeface="Times New Roman"/>
            </a:endParaRPr>
          </a:p>
        </p:txBody>
      </p:sp>
      <p:sp>
        <p:nvSpPr>
          <p:cNvPr id="437" name=""/>
          <p:cNvSpPr/>
          <p:nvPr/>
        </p:nvSpPr>
        <p:spPr>
          <a:xfrm>
            <a:off x="2819520" y="3710160"/>
            <a:ext cx="205740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校园网加简单的数据集中</a:t>
            </a:r>
            <a:endParaRPr b="0" lang="en-US" sz="1400" spc="-1" strike="noStrike">
              <a:solidFill>
                <a:srgbClr val="000066"/>
              </a:solidFill>
              <a:latin typeface="Times New Roman"/>
            </a:endParaRPr>
          </a:p>
        </p:txBody>
      </p:sp>
      <p:sp>
        <p:nvSpPr>
          <p:cNvPr id="438" name=""/>
          <p:cNvSpPr/>
          <p:nvPr/>
        </p:nvSpPr>
        <p:spPr>
          <a:xfrm>
            <a:off x="990720" y="4648320"/>
            <a:ext cx="161748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单机加文档级应用</a:t>
            </a:r>
            <a:endParaRPr b="0" lang="en-US" sz="1400" spc="-1" strike="noStrike">
              <a:solidFill>
                <a:srgbClr val="000066"/>
              </a:solidFill>
              <a:latin typeface="Times New Roman"/>
            </a:endParaRPr>
          </a:p>
        </p:txBody>
      </p:sp>
      <p:sp>
        <p:nvSpPr>
          <p:cNvPr id="439" name=""/>
          <p:cNvSpPr/>
          <p:nvPr/>
        </p:nvSpPr>
        <p:spPr>
          <a:xfrm>
            <a:off x="2895480" y="4800600"/>
            <a:ext cx="2286000" cy="284400"/>
          </a:xfrm>
          <a:prstGeom prst="rect">
            <a:avLst/>
          </a:prstGeom>
          <a:noFill/>
          <a:ln w="0">
            <a:noFill/>
          </a:ln>
        </p:spPr>
        <p:style>
          <a:lnRef idx="0"/>
          <a:fillRef idx="0"/>
          <a:effectRef idx="0"/>
          <a:fontRef idx="minor"/>
        </p:style>
        <p:txBody>
          <a:bodyPr lIns="45720" rIns="4572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Times New Roman"/>
              </a:rPr>
              <a:t>数字校园的发展</a:t>
            </a:r>
            <a:endParaRPr b="0" lang="en-US" sz="2400" spc="-1" strike="noStrike">
              <a:solidFill>
                <a:srgbClr val="000066"/>
              </a:solidFill>
              <a:latin typeface="Times New Roman"/>
            </a:endParaRPr>
          </a:p>
        </p:txBody>
      </p:sp>
      <p:sp>
        <p:nvSpPr>
          <p:cNvPr id="440" name=""/>
          <p:cNvSpPr/>
          <p:nvPr/>
        </p:nvSpPr>
        <p:spPr>
          <a:xfrm>
            <a:off x="2514600" y="491004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1</a:t>
            </a:r>
            <a:endParaRPr b="0" lang="en-US" sz="1200" spc="-1" strike="noStrike">
              <a:solidFill>
                <a:srgbClr val="000066"/>
              </a:solidFill>
              <a:latin typeface="Times New Roman"/>
            </a:endParaRPr>
          </a:p>
        </p:txBody>
      </p:sp>
      <p:sp>
        <p:nvSpPr>
          <p:cNvPr id="441" name=""/>
          <p:cNvSpPr/>
          <p:nvPr/>
        </p:nvSpPr>
        <p:spPr>
          <a:xfrm>
            <a:off x="2514600" y="342900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2</a:t>
            </a:r>
            <a:endParaRPr b="0" lang="en-US" sz="1200" spc="-1" strike="noStrike">
              <a:solidFill>
                <a:srgbClr val="000066"/>
              </a:solidFill>
              <a:latin typeface="Times New Roman"/>
            </a:endParaRPr>
          </a:p>
        </p:txBody>
      </p:sp>
      <p:sp>
        <p:nvSpPr>
          <p:cNvPr id="442" name=""/>
          <p:cNvSpPr/>
          <p:nvPr/>
        </p:nvSpPr>
        <p:spPr>
          <a:xfrm>
            <a:off x="2895480" y="3276720"/>
            <a:ext cx="271440" cy="271440"/>
          </a:xfrm>
          <a:prstGeom prst="rect">
            <a:avLst/>
          </a:prstGeom>
          <a:solidFill>
            <a:srgbClr val="3193ed"/>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3</a:t>
            </a:r>
            <a:endParaRPr b="0" lang="en-US" sz="1200" spc="-1" strike="noStrike">
              <a:solidFill>
                <a:srgbClr val="000066"/>
              </a:solidFill>
              <a:latin typeface="Times New Roman"/>
            </a:endParaRPr>
          </a:p>
        </p:txBody>
      </p:sp>
      <p:sp>
        <p:nvSpPr>
          <p:cNvPr id="443" name=""/>
          <p:cNvSpPr/>
          <p:nvPr/>
        </p:nvSpPr>
        <p:spPr>
          <a:xfrm>
            <a:off x="2819520" y="4191120"/>
            <a:ext cx="2057400" cy="220680"/>
          </a:xfrm>
          <a:prstGeom prst="rect">
            <a:avLst/>
          </a:prstGeom>
          <a:noFill/>
          <a:ln w="0">
            <a:noFill/>
          </a:ln>
        </p:spPr>
        <p:style>
          <a:lnRef idx="0"/>
          <a:fillRef idx="0"/>
          <a:effectRef idx="0"/>
          <a:fontRef idx="minor"/>
        </p:style>
        <p:txBody>
          <a:bodyPr lIns="45720" rIns="45720" tIns="46800" bIns="46800" anchor="t">
            <a:sp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bf3ff"/>
                </a:solidFill>
                <a:latin typeface="Times New Roman"/>
              </a:rPr>
              <a:t>第三代数字校园系统</a:t>
            </a:r>
            <a:endParaRPr b="0" lang="en-US" sz="1400" spc="-1" strike="noStrike">
              <a:solidFill>
                <a:srgbClr val="000066"/>
              </a:solidFill>
              <a:latin typeface="Times New Roman"/>
            </a:endParaRPr>
          </a:p>
        </p:txBody>
      </p:sp>
      <p:sp>
        <p:nvSpPr>
          <p:cNvPr id="444" name=""/>
          <p:cNvSpPr/>
          <p:nvPr/>
        </p:nvSpPr>
        <p:spPr>
          <a:xfrm>
            <a:off x="5000760" y="4095720"/>
            <a:ext cx="1496880" cy="1201680"/>
          </a:xfrm>
          <a:custGeom>
            <a:avLst/>
            <a:gdLst/>
            <a:ahLst/>
            <a:rect l="l" t="t" r="r" b="b"/>
            <a:pathLst>
              <a:path w="943" h="757">
                <a:moveTo>
                  <a:pt x="176" y="0"/>
                </a:moveTo>
                <a:lnTo>
                  <a:pt x="126" y="0"/>
                </a:lnTo>
                <a:lnTo>
                  <a:pt x="94" y="6"/>
                </a:lnTo>
                <a:lnTo>
                  <a:pt x="57" y="18"/>
                </a:lnTo>
                <a:lnTo>
                  <a:pt x="19" y="54"/>
                </a:lnTo>
                <a:lnTo>
                  <a:pt x="0" y="114"/>
                </a:lnTo>
                <a:lnTo>
                  <a:pt x="0" y="156"/>
                </a:lnTo>
                <a:lnTo>
                  <a:pt x="7" y="216"/>
                </a:lnTo>
                <a:lnTo>
                  <a:pt x="25" y="258"/>
                </a:lnTo>
                <a:lnTo>
                  <a:pt x="51" y="288"/>
                </a:lnTo>
                <a:lnTo>
                  <a:pt x="94" y="318"/>
                </a:lnTo>
                <a:lnTo>
                  <a:pt x="628" y="606"/>
                </a:lnTo>
                <a:lnTo>
                  <a:pt x="628" y="756"/>
                </a:lnTo>
                <a:lnTo>
                  <a:pt x="942" y="588"/>
                </a:lnTo>
                <a:lnTo>
                  <a:pt x="628" y="90"/>
                </a:lnTo>
                <a:lnTo>
                  <a:pt x="628" y="108"/>
                </a:lnTo>
                <a:lnTo>
                  <a:pt x="628" y="252"/>
                </a:lnTo>
                <a:lnTo>
                  <a:pt x="176" y="0"/>
                </a:lnTo>
                <a:close/>
              </a:path>
            </a:pathLst>
          </a:custGeom>
          <a:solidFill>
            <a:srgbClr val="c4d7e8"/>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5" name=""/>
          <p:cNvSpPr/>
          <p:nvPr/>
        </p:nvSpPr>
        <p:spPr>
          <a:xfrm>
            <a:off x="5191200" y="3009960"/>
            <a:ext cx="1515960" cy="1087200"/>
          </a:xfrm>
          <a:custGeom>
            <a:avLst/>
            <a:gdLst/>
            <a:ahLst/>
            <a:rect l="l" t="t" r="r" b="b"/>
            <a:pathLst>
              <a:path w="955" h="685">
                <a:moveTo>
                  <a:pt x="18" y="654"/>
                </a:moveTo>
                <a:lnTo>
                  <a:pt x="0" y="552"/>
                </a:lnTo>
                <a:lnTo>
                  <a:pt x="37" y="474"/>
                </a:lnTo>
                <a:lnTo>
                  <a:pt x="106" y="432"/>
                </a:lnTo>
                <a:lnTo>
                  <a:pt x="634" y="138"/>
                </a:lnTo>
                <a:lnTo>
                  <a:pt x="634" y="0"/>
                </a:lnTo>
                <a:lnTo>
                  <a:pt x="954" y="156"/>
                </a:lnTo>
                <a:lnTo>
                  <a:pt x="634" y="678"/>
                </a:lnTo>
                <a:lnTo>
                  <a:pt x="634" y="510"/>
                </a:lnTo>
                <a:lnTo>
                  <a:pt x="477" y="594"/>
                </a:lnTo>
                <a:lnTo>
                  <a:pt x="307" y="684"/>
                </a:lnTo>
                <a:lnTo>
                  <a:pt x="18" y="654"/>
                </a:lnTo>
                <a:close/>
              </a:path>
            </a:pathLst>
          </a:custGeom>
          <a:solidFill>
            <a:srgbClr val="d1ebff"/>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6" name=""/>
          <p:cNvSpPr/>
          <p:nvPr/>
        </p:nvSpPr>
        <p:spPr>
          <a:xfrm>
            <a:off x="5997600" y="4105440"/>
            <a:ext cx="709560" cy="925200"/>
          </a:xfrm>
          <a:custGeom>
            <a:avLst/>
            <a:gdLst/>
            <a:ahLst/>
            <a:rect l="l" t="t" r="r" b="b"/>
            <a:pathLst>
              <a:path w="447" h="583">
                <a:moveTo>
                  <a:pt x="0" y="84"/>
                </a:moveTo>
                <a:lnTo>
                  <a:pt x="126" y="0"/>
                </a:lnTo>
                <a:lnTo>
                  <a:pt x="446" y="504"/>
                </a:lnTo>
                <a:lnTo>
                  <a:pt x="314" y="582"/>
                </a:lnTo>
                <a:lnTo>
                  <a:pt x="0" y="84"/>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7" name=""/>
          <p:cNvSpPr/>
          <p:nvPr/>
        </p:nvSpPr>
        <p:spPr>
          <a:xfrm>
            <a:off x="5997600" y="3819600"/>
            <a:ext cx="201600" cy="268200"/>
          </a:xfrm>
          <a:custGeom>
            <a:avLst/>
            <a:gdLst/>
            <a:ahLst/>
            <a:rect l="l" t="t" r="r" b="b"/>
            <a:pathLst>
              <a:path w="127" h="169">
                <a:moveTo>
                  <a:pt x="126" y="0"/>
                </a:moveTo>
                <a:lnTo>
                  <a:pt x="0" y="66"/>
                </a:lnTo>
                <a:lnTo>
                  <a:pt x="0" y="90"/>
                </a:lnTo>
                <a:lnTo>
                  <a:pt x="126" y="168"/>
                </a:lnTo>
                <a:lnTo>
                  <a:pt x="126" y="0"/>
                </a:lnTo>
                <a:lnTo>
                  <a:pt x="126" y="0"/>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8" name=""/>
          <p:cNvSpPr/>
          <p:nvPr/>
        </p:nvSpPr>
        <p:spPr>
          <a:xfrm>
            <a:off x="4991040" y="2895480"/>
            <a:ext cx="1208160" cy="1602000"/>
          </a:xfrm>
          <a:custGeom>
            <a:avLst/>
            <a:gdLst/>
            <a:ahLst/>
            <a:rect l="l" t="t" r="r" b="b"/>
            <a:pathLst>
              <a:path w="761" h="1009">
                <a:moveTo>
                  <a:pt x="182" y="762"/>
                </a:moveTo>
                <a:lnTo>
                  <a:pt x="144" y="756"/>
                </a:lnTo>
                <a:lnTo>
                  <a:pt x="107" y="762"/>
                </a:lnTo>
                <a:lnTo>
                  <a:pt x="63" y="744"/>
                </a:lnTo>
                <a:lnTo>
                  <a:pt x="31" y="708"/>
                </a:lnTo>
                <a:lnTo>
                  <a:pt x="13" y="666"/>
                </a:lnTo>
                <a:lnTo>
                  <a:pt x="0" y="624"/>
                </a:lnTo>
                <a:lnTo>
                  <a:pt x="6" y="570"/>
                </a:lnTo>
                <a:lnTo>
                  <a:pt x="19" y="522"/>
                </a:lnTo>
                <a:lnTo>
                  <a:pt x="44" y="480"/>
                </a:lnTo>
                <a:lnTo>
                  <a:pt x="94" y="438"/>
                </a:lnTo>
                <a:lnTo>
                  <a:pt x="634" y="150"/>
                </a:lnTo>
                <a:lnTo>
                  <a:pt x="634" y="0"/>
                </a:lnTo>
                <a:lnTo>
                  <a:pt x="760" y="72"/>
                </a:lnTo>
                <a:lnTo>
                  <a:pt x="760" y="210"/>
                </a:lnTo>
                <a:lnTo>
                  <a:pt x="232" y="504"/>
                </a:lnTo>
                <a:lnTo>
                  <a:pt x="182" y="540"/>
                </a:lnTo>
                <a:lnTo>
                  <a:pt x="151" y="588"/>
                </a:lnTo>
                <a:lnTo>
                  <a:pt x="138" y="654"/>
                </a:lnTo>
                <a:lnTo>
                  <a:pt x="138" y="690"/>
                </a:lnTo>
                <a:lnTo>
                  <a:pt x="144" y="726"/>
                </a:lnTo>
                <a:lnTo>
                  <a:pt x="201" y="690"/>
                </a:lnTo>
                <a:lnTo>
                  <a:pt x="239" y="678"/>
                </a:lnTo>
                <a:lnTo>
                  <a:pt x="276" y="678"/>
                </a:lnTo>
                <a:lnTo>
                  <a:pt x="314" y="684"/>
                </a:lnTo>
                <a:lnTo>
                  <a:pt x="634" y="864"/>
                </a:lnTo>
                <a:lnTo>
                  <a:pt x="634" y="1008"/>
                </a:lnTo>
                <a:lnTo>
                  <a:pt x="182" y="762"/>
                </a:lnTo>
                <a:close/>
              </a:path>
            </a:pathLst>
          </a:custGeom>
          <a:solidFill>
            <a:srgbClr val="cdd9f7"/>
          </a:solidFill>
          <a:ln w="6480">
            <a:solidFill>
              <a:srgbClr val="6c8fe8"/>
            </a:solidFill>
            <a:round/>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449" name=""/>
          <p:cNvSpPr/>
          <p:nvPr/>
        </p:nvSpPr>
        <p:spPr>
          <a:xfrm>
            <a:off x="6705720" y="2666880"/>
            <a:ext cx="1600200" cy="855360"/>
          </a:xfrm>
          <a:prstGeom prst="rect">
            <a:avLst/>
          </a:prstGeom>
          <a:noFill/>
          <a:ln w="0">
            <a:noFill/>
          </a:ln>
        </p:spPr>
        <p:style>
          <a:lnRef idx="0"/>
          <a:fillRef idx="0"/>
          <a:effectRef idx="0"/>
          <a:fontRef idx="minor"/>
        </p:style>
        <p:txBody>
          <a:bodyPr lIns="45720" rIns="4572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 </a:t>
            </a:r>
            <a:r>
              <a:rPr b="1" lang="zh-CN" sz="1400" spc="-1" strike="noStrike">
                <a:solidFill>
                  <a:srgbClr val="000099"/>
                </a:solidFill>
                <a:latin typeface="Times New Roman"/>
              </a:rPr>
              <a:t>有了一定的校级数据集中的设计</a:t>
            </a:r>
            <a:endParaRPr b="0" lang="en-US" sz="14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 </a:t>
            </a:r>
            <a:r>
              <a:rPr b="1" lang="zh-CN" sz="1400" spc="-1" strike="noStrike">
                <a:solidFill>
                  <a:srgbClr val="000099"/>
                </a:solidFill>
                <a:latin typeface="Times New Roman"/>
              </a:rPr>
              <a:t>是基本意义上的“数字校园”</a:t>
            </a:r>
            <a:endParaRPr b="0" lang="en-US" sz="1400" spc="-1" strike="noStrike">
              <a:solidFill>
                <a:srgbClr val="000066"/>
              </a:solidFill>
              <a:latin typeface="Times New Roman"/>
            </a:endParaRPr>
          </a:p>
        </p:txBody>
      </p:sp>
      <p:sp>
        <p:nvSpPr>
          <p:cNvPr id="450" name=""/>
          <p:cNvSpPr/>
          <p:nvPr/>
        </p:nvSpPr>
        <p:spPr>
          <a:xfrm>
            <a:off x="6743880" y="4451400"/>
            <a:ext cx="1790640" cy="605160"/>
          </a:xfrm>
          <a:prstGeom prst="rect">
            <a:avLst/>
          </a:prstGeom>
          <a:noFill/>
          <a:ln w="0">
            <a:noFill/>
          </a:ln>
        </p:spPr>
        <p:style>
          <a:lnRef idx="0"/>
          <a:fillRef idx="0"/>
          <a:effectRef idx="0"/>
          <a:fontRef idx="minor"/>
        </p:style>
        <p:txBody>
          <a:bodyPr lIns="45720" rIns="4572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 </a:t>
            </a:r>
            <a:r>
              <a:rPr b="1" lang="zh-CN" sz="1400" spc="-1" strike="noStrike">
                <a:solidFill>
                  <a:srgbClr val="000099"/>
                </a:solidFill>
                <a:latin typeface="Times New Roman"/>
              </a:rPr>
              <a:t>但也存在着缺乏统一的技术标准、缺乏平台化的设计等问题</a:t>
            </a:r>
            <a:endParaRPr b="0" lang="en-US" sz="1400" spc="-1" strike="noStrike">
              <a:solidFill>
                <a:srgbClr val="000066"/>
              </a:solidFill>
              <a:latin typeface="Times New Roman"/>
            </a:endParaRPr>
          </a:p>
        </p:txBody>
      </p:sp>
      <p:sp>
        <p:nvSpPr>
          <p:cNvPr id="45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8" name=""/>
          <p:cNvSpPr/>
          <p:nvPr/>
        </p:nvSpPr>
        <p:spPr>
          <a:xfrm flipV="1">
            <a:off x="2476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59"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0"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1"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2"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3"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4"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5"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6"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7"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8"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6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7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48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66320"/>
            <a:ext cx="8229600" cy="747720"/>
          </a:xfrm>
          <a:prstGeom prst="rect">
            <a:avLst/>
          </a:prstGeom>
          <a:noFill/>
          <a:ln w="0">
            <a:noFill/>
          </a:ln>
          <a:effectLst>
            <a:outerShdw dist="17819" dir="2700000" blurRad="0" rotWithShape="0">
              <a:srgbClr val="ebf3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宋体"/>
              </a:rPr>
              <a:t>新一代的数字校园</a:t>
            </a:r>
            <a:endParaRPr b="0" lang="en-US" sz="4800" spc="-1" strike="noStrike">
              <a:solidFill>
                <a:srgbClr val="000099"/>
              </a:solidFill>
              <a:latin typeface="Times New Roman"/>
            </a:endParaRPr>
          </a:p>
        </p:txBody>
      </p:sp>
      <p:sp>
        <p:nvSpPr>
          <p:cNvPr id="486" name="PlaceHolder 2"/>
          <p:cNvSpPr>
            <a:spLocks noGrp="1"/>
          </p:cNvSpPr>
          <p:nvPr>
            <p:ph/>
          </p:nvPr>
        </p:nvSpPr>
        <p:spPr>
          <a:xfrm>
            <a:off x="457200" y="1218960"/>
            <a:ext cx="8229600" cy="501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87" name=""/>
          <p:cNvSpPr/>
          <p:nvPr/>
        </p:nvSpPr>
        <p:spPr>
          <a:xfrm>
            <a:off x="1828800" y="4597560"/>
            <a:ext cx="5334120" cy="149832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488" name=""/>
          <p:cNvSpPr/>
          <p:nvPr/>
        </p:nvSpPr>
        <p:spPr>
          <a:xfrm>
            <a:off x="3527280" y="3654360"/>
            <a:ext cx="1994040" cy="1554120"/>
          </a:xfrm>
          <a:prstGeom prst="rect">
            <a:avLst/>
          </a:prstGeom>
          <a:solidFill>
            <a:srgbClr val="7d7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3497400" y="4511520"/>
            <a:ext cx="2004840" cy="1285920"/>
          </a:xfrm>
          <a:prstGeom prst="ellipse">
            <a:avLst/>
          </a:prstGeom>
          <a:solidFill>
            <a:srgbClr val="779dd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
          <p:cNvSpPr/>
          <p:nvPr/>
        </p:nvSpPr>
        <p:spPr>
          <a:xfrm rot="18339600">
            <a:off x="5137200" y="4941720"/>
            <a:ext cx="723960" cy="996840"/>
          </a:xfrm>
          <a:prstGeom prst="downArrow">
            <a:avLst>
              <a:gd name="adj1" fmla="val 50000"/>
              <a:gd name="adj2" fmla="val 34423"/>
            </a:avLst>
          </a:prstGeom>
          <a:solidFill>
            <a:srgbClr val="779d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1" name=""/>
          <p:cNvSpPr/>
          <p:nvPr/>
        </p:nvSpPr>
        <p:spPr>
          <a:xfrm rot="14343600">
            <a:off x="5200560" y="4357440"/>
            <a:ext cx="723960" cy="996840"/>
          </a:xfrm>
          <a:prstGeom prst="downArrow">
            <a:avLst>
              <a:gd name="adj1" fmla="val 50000"/>
              <a:gd name="adj2" fmla="val 34423"/>
            </a:avLst>
          </a:prstGeom>
          <a:solidFill>
            <a:srgbClr val="779d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
          <p:cNvSpPr/>
          <p:nvPr/>
        </p:nvSpPr>
        <p:spPr>
          <a:xfrm flipH="1" rot="3260400">
            <a:off x="3166920" y="4955760"/>
            <a:ext cx="723960" cy="996840"/>
          </a:xfrm>
          <a:prstGeom prst="downArrow">
            <a:avLst>
              <a:gd name="adj1" fmla="val 50000"/>
              <a:gd name="adj2" fmla="val 34423"/>
            </a:avLst>
          </a:prstGeom>
          <a:solidFill>
            <a:srgbClr val="779d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flipH="1" rot="6872400">
            <a:off x="3080880" y="4482360"/>
            <a:ext cx="723960" cy="996840"/>
          </a:xfrm>
          <a:prstGeom prst="downArrow">
            <a:avLst>
              <a:gd name="adj1" fmla="val 50000"/>
              <a:gd name="adj2" fmla="val 34423"/>
            </a:avLst>
          </a:prstGeom>
          <a:solidFill>
            <a:srgbClr val="779d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94" name=""/>
          <p:cNvGrpSpPr/>
          <p:nvPr/>
        </p:nvGrpSpPr>
        <p:grpSpPr>
          <a:xfrm>
            <a:off x="3429000" y="4106880"/>
            <a:ext cx="2109600" cy="1071360"/>
            <a:chOff x="3429000" y="4106880"/>
            <a:chExt cx="2109600" cy="1071360"/>
          </a:xfrm>
        </p:grpSpPr>
        <p:sp>
          <p:nvSpPr>
            <p:cNvPr id="495" name=""/>
            <p:cNvSpPr/>
            <p:nvPr/>
          </p:nvSpPr>
          <p:spPr>
            <a:xfrm>
              <a:off x="3429000" y="4124160"/>
              <a:ext cx="2109600" cy="1054080"/>
            </a:xfrm>
            <a:prstGeom prst="ellipse">
              <a:avLst/>
            </a:prstGeom>
            <a:solidFill>
              <a:srgbClr val="cdd9f7"/>
            </a:solidFill>
            <a:ln w="2232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6" name=""/>
            <p:cNvSpPr/>
            <p:nvPr/>
          </p:nvSpPr>
          <p:spPr>
            <a:xfrm>
              <a:off x="3430800" y="4106880"/>
              <a:ext cx="2097720" cy="558720"/>
            </a:xfrm>
            <a:prstGeom prst="rect">
              <a:avLst/>
            </a:prstGeom>
            <a:solidFill>
              <a:srgbClr val="cdd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7" name=""/>
          <p:cNvSpPr/>
          <p:nvPr/>
        </p:nvSpPr>
        <p:spPr>
          <a:xfrm>
            <a:off x="2570040" y="2550960"/>
            <a:ext cx="3826080" cy="1957680"/>
          </a:xfrm>
          <a:prstGeom prst="ellipse">
            <a:avLst/>
          </a:prstGeom>
          <a:solidFill>
            <a:srgbClr val="97aa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
          <p:cNvSpPr/>
          <p:nvPr/>
        </p:nvSpPr>
        <p:spPr>
          <a:xfrm>
            <a:off x="2575080" y="2327400"/>
            <a:ext cx="3825720" cy="1957320"/>
          </a:xfrm>
          <a:prstGeom prst="ellipse">
            <a:avLst/>
          </a:prstGeom>
          <a:solidFill>
            <a:srgbClr val="adc8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
          <p:cNvSpPr/>
          <p:nvPr/>
        </p:nvSpPr>
        <p:spPr>
          <a:xfrm>
            <a:off x="3524400" y="2749680"/>
            <a:ext cx="2004840" cy="1054080"/>
          </a:xfrm>
          <a:prstGeom prst="ellipse">
            <a:avLst/>
          </a:prstGeom>
          <a:solidFill>
            <a:srgbClr val="b9b9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
          <p:cNvSpPr/>
          <p:nvPr/>
        </p:nvSpPr>
        <p:spPr>
          <a:xfrm>
            <a:off x="5067360" y="3728880"/>
            <a:ext cx="762120" cy="260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1" name=""/>
          <p:cNvSpPr/>
          <p:nvPr/>
        </p:nvSpPr>
        <p:spPr>
          <a:xfrm flipH="1">
            <a:off x="3157560" y="3681360"/>
            <a:ext cx="712800" cy="331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2" name=""/>
          <p:cNvSpPr/>
          <p:nvPr/>
        </p:nvSpPr>
        <p:spPr>
          <a:xfrm>
            <a:off x="2995560" y="2679840"/>
            <a:ext cx="762120" cy="260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
          <p:cNvSpPr/>
          <p:nvPr/>
        </p:nvSpPr>
        <p:spPr>
          <a:xfrm>
            <a:off x="5437080" y="3110040"/>
            <a:ext cx="1116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活动</a:t>
            </a:r>
            <a:endParaRPr b="0" lang="en-US" sz="1600" spc="-1" strike="noStrike">
              <a:solidFill>
                <a:srgbClr val="000066"/>
              </a:solidFill>
              <a:latin typeface="Times New Roman"/>
            </a:endParaRPr>
          </a:p>
        </p:txBody>
      </p:sp>
      <p:sp>
        <p:nvSpPr>
          <p:cNvPr id="504" name=""/>
          <p:cNvSpPr/>
          <p:nvPr/>
        </p:nvSpPr>
        <p:spPr>
          <a:xfrm>
            <a:off x="3560760" y="2895480"/>
            <a:ext cx="1908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实现</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全部数字化</a:t>
            </a:r>
            <a:endParaRPr b="0" lang="en-US" sz="1600" spc="-1" strike="noStrike">
              <a:solidFill>
                <a:srgbClr val="000066"/>
              </a:solidFill>
              <a:latin typeface="Times New Roman"/>
            </a:endParaRPr>
          </a:p>
        </p:txBody>
      </p:sp>
      <p:sp>
        <p:nvSpPr>
          <p:cNvPr id="505" name=""/>
          <p:cNvSpPr/>
          <p:nvPr/>
        </p:nvSpPr>
        <p:spPr>
          <a:xfrm flipH="1">
            <a:off x="3146040" y="4024440"/>
            <a:ext cx="3240" cy="19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H="1">
            <a:off x="5837400" y="4025880"/>
            <a:ext cx="2880" cy="19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578400" y="5257800"/>
            <a:ext cx="190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dd9f7"/>
                </a:solidFill>
                <a:latin typeface="Times New Roman"/>
              </a:rPr>
              <a:t>以网络为基础</a:t>
            </a:r>
            <a:endParaRPr b="0" lang="en-US" sz="1400" spc="-1" strike="noStrike">
              <a:solidFill>
                <a:srgbClr val="000066"/>
              </a:solidFill>
              <a:latin typeface="Times New Roman"/>
            </a:endParaRPr>
          </a:p>
        </p:txBody>
      </p:sp>
      <p:sp>
        <p:nvSpPr>
          <p:cNvPr id="508" name=""/>
          <p:cNvSpPr/>
          <p:nvPr/>
        </p:nvSpPr>
        <p:spPr>
          <a:xfrm>
            <a:off x="3549600" y="4525920"/>
            <a:ext cx="190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rPr>
              <a:t>先进的信息化手段和工具</a:t>
            </a:r>
            <a:endParaRPr b="0" lang="en-US" sz="1400" spc="-1" strike="noStrike">
              <a:solidFill>
                <a:srgbClr val="000066"/>
              </a:solidFill>
              <a:latin typeface="Times New Roman"/>
            </a:endParaRPr>
          </a:p>
        </p:txBody>
      </p:sp>
      <p:sp>
        <p:nvSpPr>
          <p:cNvPr id="509" name=""/>
          <p:cNvSpPr/>
          <p:nvPr/>
        </p:nvSpPr>
        <p:spPr>
          <a:xfrm>
            <a:off x="4546440" y="2349360"/>
            <a:ext cx="7920" cy="398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
          <p:cNvSpPr/>
          <p:nvPr/>
        </p:nvSpPr>
        <p:spPr>
          <a:xfrm>
            <a:off x="4560840" y="2346480"/>
            <a:ext cx="1324080" cy="576000"/>
          </a:xfrm>
          <a:custGeom>
            <a:avLst/>
            <a:gdLst/>
            <a:ahLst/>
            <a:rect l="l" t="t" r="r" b="b"/>
            <a:pathLst>
              <a:path w="834" h="363">
                <a:moveTo>
                  <a:pt x="0" y="0"/>
                </a:moveTo>
                <a:lnTo>
                  <a:pt x="3" y="240"/>
                </a:lnTo>
                <a:lnTo>
                  <a:pt x="114" y="249"/>
                </a:lnTo>
                <a:lnTo>
                  <a:pt x="216" y="264"/>
                </a:lnTo>
                <a:lnTo>
                  <a:pt x="327" y="291"/>
                </a:lnTo>
                <a:lnTo>
                  <a:pt x="402" y="324"/>
                </a:lnTo>
                <a:lnTo>
                  <a:pt x="465" y="363"/>
                </a:lnTo>
                <a:lnTo>
                  <a:pt x="834" y="195"/>
                </a:lnTo>
                <a:lnTo>
                  <a:pt x="753" y="153"/>
                </a:lnTo>
                <a:lnTo>
                  <a:pt x="642" y="108"/>
                </a:lnTo>
                <a:lnTo>
                  <a:pt x="537" y="75"/>
                </a:lnTo>
                <a:lnTo>
                  <a:pt x="414" y="45"/>
                </a:lnTo>
                <a:lnTo>
                  <a:pt x="303" y="24"/>
                </a:lnTo>
                <a:lnTo>
                  <a:pt x="183" y="9"/>
                </a:lnTo>
                <a:lnTo>
                  <a:pt x="66" y="0"/>
                </a:lnTo>
                <a:lnTo>
                  <a:pt x="0" y="0"/>
                </a:lnTo>
                <a:close/>
              </a:path>
            </a:pathLst>
          </a:custGeom>
          <a:solidFill>
            <a:srgbClr val="ff6767">
              <a:alpha val="50000"/>
            </a:srgbClr>
          </a:solidFill>
          <a:ln w="9360">
            <a:solidFill>
              <a:srgbClr val="000066"/>
            </a:solidFill>
            <a:round/>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11" name=""/>
          <p:cNvSpPr/>
          <p:nvPr/>
        </p:nvSpPr>
        <p:spPr>
          <a:xfrm>
            <a:off x="4546440" y="2327400"/>
            <a:ext cx="1357560" cy="609480"/>
          </a:xfrm>
          <a:custGeom>
            <a:avLst/>
            <a:gdLst/>
            <a:ahLst/>
            <a:rect l="l" t="t" r="r" b="b"/>
            <a:pathLst>
              <a:path w="834" h="363">
                <a:moveTo>
                  <a:pt x="0" y="0"/>
                </a:moveTo>
                <a:lnTo>
                  <a:pt x="3" y="240"/>
                </a:lnTo>
                <a:lnTo>
                  <a:pt x="114" y="249"/>
                </a:lnTo>
                <a:lnTo>
                  <a:pt x="216" y="264"/>
                </a:lnTo>
                <a:lnTo>
                  <a:pt x="327" y="291"/>
                </a:lnTo>
                <a:lnTo>
                  <a:pt x="402" y="324"/>
                </a:lnTo>
                <a:lnTo>
                  <a:pt x="465" y="363"/>
                </a:lnTo>
                <a:lnTo>
                  <a:pt x="834" y="195"/>
                </a:lnTo>
                <a:lnTo>
                  <a:pt x="753" y="153"/>
                </a:lnTo>
                <a:lnTo>
                  <a:pt x="642" y="108"/>
                </a:lnTo>
                <a:lnTo>
                  <a:pt x="537" y="75"/>
                </a:lnTo>
                <a:lnTo>
                  <a:pt x="414" y="45"/>
                </a:lnTo>
                <a:lnTo>
                  <a:pt x="303" y="24"/>
                </a:lnTo>
                <a:lnTo>
                  <a:pt x="183" y="9"/>
                </a:lnTo>
                <a:lnTo>
                  <a:pt x="66" y="0"/>
                </a:lnTo>
                <a:lnTo>
                  <a:pt x="0" y="0"/>
                </a:lnTo>
                <a:close/>
              </a:path>
            </a:pathLst>
          </a:custGeom>
          <a:solidFill>
            <a:srgbClr val="d2d2e2"/>
          </a:solidFill>
          <a:ln w="0">
            <a:noFill/>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12" name=""/>
          <p:cNvSpPr/>
          <p:nvPr/>
        </p:nvSpPr>
        <p:spPr>
          <a:xfrm>
            <a:off x="2514600" y="3116160"/>
            <a:ext cx="1143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资源</a:t>
            </a:r>
            <a:endParaRPr b="0" lang="en-US" sz="1600" spc="-1" strike="noStrike">
              <a:solidFill>
                <a:srgbClr val="000066"/>
              </a:solidFill>
              <a:latin typeface="Times New Roman"/>
            </a:endParaRPr>
          </a:p>
        </p:txBody>
      </p:sp>
      <p:grpSp>
        <p:nvGrpSpPr>
          <p:cNvPr id="513" name=""/>
          <p:cNvGrpSpPr/>
          <p:nvPr/>
        </p:nvGrpSpPr>
        <p:grpSpPr>
          <a:xfrm>
            <a:off x="4587840" y="2079720"/>
            <a:ext cx="1368360" cy="828720"/>
            <a:chOff x="4587840" y="2079720"/>
            <a:chExt cx="1368360" cy="828720"/>
          </a:xfrm>
        </p:grpSpPr>
        <p:grpSp>
          <p:nvGrpSpPr>
            <p:cNvPr id="514" name=""/>
            <p:cNvGrpSpPr/>
            <p:nvPr/>
          </p:nvGrpSpPr>
          <p:grpSpPr>
            <a:xfrm>
              <a:off x="4587840" y="2079720"/>
              <a:ext cx="1368360" cy="828720"/>
              <a:chOff x="4587840" y="2079720"/>
              <a:chExt cx="1368360" cy="828720"/>
            </a:xfrm>
          </p:grpSpPr>
          <p:sp>
            <p:nvSpPr>
              <p:cNvPr id="515" name=""/>
              <p:cNvSpPr/>
              <p:nvPr/>
            </p:nvSpPr>
            <p:spPr>
              <a:xfrm>
                <a:off x="4632480" y="2222640"/>
                <a:ext cx="1323720" cy="576360"/>
              </a:xfrm>
              <a:custGeom>
                <a:avLst/>
                <a:gdLst/>
                <a:ahLst/>
                <a:rect l="l" t="t" r="r" b="b"/>
                <a:pathLst>
                  <a:path w="834" h="363">
                    <a:moveTo>
                      <a:pt x="0" y="0"/>
                    </a:moveTo>
                    <a:lnTo>
                      <a:pt x="3" y="240"/>
                    </a:lnTo>
                    <a:lnTo>
                      <a:pt x="114" y="249"/>
                    </a:lnTo>
                    <a:lnTo>
                      <a:pt x="216" y="264"/>
                    </a:lnTo>
                    <a:lnTo>
                      <a:pt x="327" y="291"/>
                    </a:lnTo>
                    <a:lnTo>
                      <a:pt x="402" y="324"/>
                    </a:lnTo>
                    <a:lnTo>
                      <a:pt x="465" y="363"/>
                    </a:lnTo>
                    <a:lnTo>
                      <a:pt x="834" y="195"/>
                    </a:lnTo>
                    <a:lnTo>
                      <a:pt x="753" y="153"/>
                    </a:lnTo>
                    <a:lnTo>
                      <a:pt x="642" y="108"/>
                    </a:lnTo>
                    <a:lnTo>
                      <a:pt x="537" y="75"/>
                    </a:lnTo>
                    <a:lnTo>
                      <a:pt x="414" y="45"/>
                    </a:lnTo>
                    <a:lnTo>
                      <a:pt x="303" y="24"/>
                    </a:lnTo>
                    <a:lnTo>
                      <a:pt x="183" y="9"/>
                    </a:lnTo>
                    <a:lnTo>
                      <a:pt x="66" y="0"/>
                    </a:lnTo>
                    <a:lnTo>
                      <a:pt x="0" y="0"/>
                    </a:lnTo>
                    <a:close/>
                  </a:path>
                </a:pathLst>
              </a:custGeom>
              <a:solidFill>
                <a:srgbClr val="cdd9f7"/>
              </a:solidFill>
              <a:ln w="9360">
                <a:solidFill>
                  <a:srgbClr val="000099"/>
                </a:solidFill>
                <a:round/>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16" name=""/>
              <p:cNvSpPr/>
              <p:nvPr/>
            </p:nvSpPr>
            <p:spPr>
              <a:xfrm flipH="1">
                <a:off x="5187960" y="2632320"/>
                <a:ext cx="603360" cy="276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4622760" y="2079720"/>
                <a:ext cx="1324080" cy="576360"/>
              </a:xfrm>
              <a:custGeom>
                <a:avLst/>
                <a:gdLst/>
                <a:ahLst/>
                <a:rect l="l" t="t" r="r" b="b"/>
                <a:pathLst>
                  <a:path w="834" h="363">
                    <a:moveTo>
                      <a:pt x="0" y="0"/>
                    </a:moveTo>
                    <a:lnTo>
                      <a:pt x="3" y="240"/>
                    </a:lnTo>
                    <a:lnTo>
                      <a:pt x="114" y="249"/>
                    </a:lnTo>
                    <a:lnTo>
                      <a:pt x="216" y="264"/>
                    </a:lnTo>
                    <a:lnTo>
                      <a:pt x="327" y="291"/>
                    </a:lnTo>
                    <a:lnTo>
                      <a:pt x="402" y="324"/>
                    </a:lnTo>
                    <a:lnTo>
                      <a:pt x="465" y="363"/>
                    </a:lnTo>
                    <a:lnTo>
                      <a:pt x="834" y="195"/>
                    </a:lnTo>
                    <a:lnTo>
                      <a:pt x="753" y="153"/>
                    </a:lnTo>
                    <a:lnTo>
                      <a:pt x="642" y="108"/>
                    </a:lnTo>
                    <a:lnTo>
                      <a:pt x="537" y="75"/>
                    </a:lnTo>
                    <a:lnTo>
                      <a:pt x="414" y="45"/>
                    </a:lnTo>
                    <a:lnTo>
                      <a:pt x="303" y="24"/>
                    </a:lnTo>
                    <a:lnTo>
                      <a:pt x="183" y="9"/>
                    </a:lnTo>
                    <a:lnTo>
                      <a:pt x="66" y="0"/>
                    </a:lnTo>
                    <a:lnTo>
                      <a:pt x="0" y="0"/>
                    </a:lnTo>
                    <a:close/>
                  </a:path>
                </a:pathLst>
              </a:custGeom>
              <a:solidFill>
                <a:srgbClr val="cdd9f7"/>
              </a:solidFill>
              <a:ln w="9360">
                <a:solidFill>
                  <a:srgbClr val="000099"/>
                </a:solidFill>
                <a:round/>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18" name=""/>
              <p:cNvSpPr/>
              <p:nvPr/>
            </p:nvSpPr>
            <p:spPr>
              <a:xfrm>
                <a:off x="5365800" y="2656080"/>
                <a:ext cx="0" cy="133200"/>
              </a:xfrm>
              <a:prstGeom prst="line">
                <a:avLst/>
              </a:prstGeom>
              <a:ln w="9360">
                <a:solidFill>
                  <a:srgbClr val="6c87fa"/>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9" name=""/>
              <p:cNvSpPr/>
              <p:nvPr/>
            </p:nvSpPr>
            <p:spPr>
              <a:xfrm>
                <a:off x="5372280" y="2390760"/>
                <a:ext cx="571320" cy="409680"/>
              </a:xfrm>
              <a:custGeom>
                <a:avLst/>
                <a:gdLst/>
                <a:ahLst/>
                <a:rect l="l" t="t" r="r" b="b"/>
                <a:pathLst>
                  <a:path w="366" h="258">
                    <a:moveTo>
                      <a:pt x="0" y="166"/>
                    </a:moveTo>
                    <a:lnTo>
                      <a:pt x="0" y="258"/>
                    </a:lnTo>
                    <a:lnTo>
                      <a:pt x="366" y="90"/>
                    </a:lnTo>
                    <a:lnTo>
                      <a:pt x="366" y="0"/>
                    </a:lnTo>
                    <a:lnTo>
                      <a:pt x="0" y="166"/>
                    </a:lnTo>
                    <a:close/>
                  </a:path>
                </a:pathLst>
              </a:custGeom>
              <a:solidFill>
                <a:srgbClr val="cdd9f7"/>
              </a:solidFill>
              <a:ln w="9360">
                <a:solidFill>
                  <a:srgbClr val="000099"/>
                </a:solidFill>
                <a:round/>
              </a:ln>
            </p:spPr>
            <p:style>
              <a:lnRef idx="0"/>
              <a:fillRef idx="0"/>
              <a:effectRef idx="0"/>
              <a:fontRef idx="minor"/>
            </p:style>
            <p:txBody>
              <a:bodyPr wrap="none" anchor="ctr">
                <a:noAutofit/>
              </a:bodyPr>
              <a:p>
                <a:endParaRPr b="0" lang="en-US" sz="2400" spc="-1" strike="noStrike">
                  <a:solidFill>
                    <a:srgbClr val="000066"/>
                  </a:solidFill>
                  <a:latin typeface="Times New Roman"/>
                </a:endParaRPr>
              </a:p>
            </p:txBody>
          </p:sp>
          <p:sp>
            <p:nvSpPr>
              <p:cNvPr id="520" name=""/>
              <p:cNvSpPr/>
              <p:nvPr/>
            </p:nvSpPr>
            <p:spPr>
              <a:xfrm>
                <a:off x="4587840" y="2108520"/>
                <a:ext cx="125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ea typeface="幼圆"/>
                  </a:rPr>
                  <a:t>……</a:t>
                </a:r>
                <a:endParaRPr b="0" lang="en-US" sz="1800" spc="-1" strike="noStrike">
                  <a:solidFill>
                    <a:srgbClr val="000066"/>
                  </a:solidFill>
                  <a:latin typeface="Times New Roman"/>
                </a:endParaRPr>
              </a:p>
            </p:txBody>
          </p:sp>
        </p:grpSp>
        <p:grpSp>
          <p:nvGrpSpPr>
            <p:cNvPr id="521" name=""/>
            <p:cNvGrpSpPr/>
            <p:nvPr/>
          </p:nvGrpSpPr>
          <p:grpSpPr>
            <a:xfrm>
              <a:off x="4921560" y="2540520"/>
              <a:ext cx="189720" cy="224280"/>
              <a:chOff x="4921560" y="2540520"/>
              <a:chExt cx="189720" cy="224280"/>
            </a:xfrm>
          </p:grpSpPr>
          <p:grpSp>
            <p:nvGrpSpPr>
              <p:cNvPr id="522" name=""/>
              <p:cNvGrpSpPr/>
              <p:nvPr/>
            </p:nvGrpSpPr>
            <p:grpSpPr>
              <a:xfrm>
                <a:off x="4921560" y="2540520"/>
                <a:ext cx="189720" cy="224280"/>
                <a:chOff x="4921560" y="2540520"/>
                <a:chExt cx="189720" cy="224280"/>
              </a:xfrm>
            </p:grpSpPr>
            <p:sp>
              <p:nvSpPr>
                <p:cNvPr id="523" name=""/>
                <p:cNvSpPr/>
                <p:nvPr/>
              </p:nvSpPr>
              <p:spPr>
                <a:xfrm rot="1264200">
                  <a:off x="4997160" y="2556720"/>
                  <a:ext cx="104760" cy="69480"/>
                </a:xfrm>
                <a:prstGeom prst="ellipse">
                  <a:avLst/>
                </a:prstGeom>
                <a:solidFill>
                  <a:srgbClr val="ebf3ff"/>
                </a:solidFill>
                <a:ln w="9360">
                  <a:solidFill>
                    <a:srgbClr val="000066"/>
                  </a:solidFill>
                  <a:miter/>
                </a:ln>
              </p:spPr>
              <p:style>
                <a:lnRef idx="0"/>
                <a:fillRef idx="0"/>
                <a:effectRef idx="0"/>
                <a:fontRef idx="minor"/>
              </p:style>
              <p:txBody>
                <a:bodyPr wrap="none" lIns="90000" rIns="90000" tIns="2520" bIns="2520" anchor="ctr">
                  <a:noAutofit/>
                </a:bodyPr>
                <a:p>
                  <a:endParaRPr b="0" lang="en-US" sz="2400" spc="-1" strike="noStrike">
                    <a:solidFill>
                      <a:srgbClr val="000066"/>
                    </a:solidFill>
                    <a:latin typeface="Times New Roman"/>
                  </a:endParaRPr>
                </a:p>
              </p:txBody>
            </p:sp>
            <p:sp>
              <p:nvSpPr>
                <p:cNvPr id="524" name=""/>
                <p:cNvSpPr/>
                <p:nvPr/>
              </p:nvSpPr>
              <p:spPr>
                <a:xfrm flipV="1">
                  <a:off x="4942440" y="2568600"/>
                  <a:ext cx="60120" cy="1126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flipV="1">
                  <a:off x="5034600" y="2604960"/>
                  <a:ext cx="66600" cy="1188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6" name=""/>
                <p:cNvSpPr/>
                <p:nvPr/>
              </p:nvSpPr>
              <p:spPr>
                <a:xfrm rot="1745400">
                  <a:off x="4967280" y="2582640"/>
                  <a:ext cx="95040" cy="134640"/>
                </a:xfrm>
                <a:prstGeom prst="rect">
                  <a:avLst/>
                </a:prstGeom>
                <a:solidFill>
                  <a:srgbClr val="ebf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
                <p:cNvSpPr/>
                <p:nvPr/>
              </p:nvSpPr>
              <p:spPr>
                <a:xfrm rot="1264200">
                  <a:off x="4930200" y="2678400"/>
                  <a:ext cx="104760" cy="69480"/>
                </a:xfrm>
                <a:prstGeom prst="ellipse">
                  <a:avLst/>
                </a:prstGeom>
                <a:solidFill>
                  <a:srgbClr val="ebf3ff"/>
                </a:solidFill>
                <a:ln w="9360">
                  <a:solidFill>
                    <a:srgbClr val="000066"/>
                  </a:solidFill>
                  <a:miter/>
                </a:ln>
              </p:spPr>
              <p:style>
                <a:lnRef idx="0"/>
                <a:fillRef idx="0"/>
                <a:effectRef idx="0"/>
                <a:fontRef idx="minor"/>
              </p:style>
              <p:txBody>
                <a:bodyPr wrap="none" lIns="90000" rIns="90000" tIns="2520" bIns="2520" anchor="ctr">
                  <a:noAutofit/>
                </a:bodyPr>
                <a:p>
                  <a:endParaRPr b="0" lang="en-US" sz="2400" spc="-1" strike="noStrike">
                    <a:solidFill>
                      <a:srgbClr val="000066"/>
                    </a:solidFill>
                    <a:latin typeface="Times New Roman"/>
                  </a:endParaRPr>
                </a:p>
              </p:txBody>
            </p:sp>
          </p:grpSp>
          <p:sp>
            <p:nvSpPr>
              <p:cNvPr id="528" name=""/>
              <p:cNvSpPr/>
              <p:nvPr/>
            </p:nvSpPr>
            <p:spPr>
              <a:xfrm rot="276600">
                <a:off x="4955760" y="2639880"/>
                <a:ext cx="98640" cy="33120"/>
              </a:xfrm>
              <a:custGeom>
                <a:avLst/>
                <a:gdLst/>
                <a:ahLst/>
                <a:rect l="l" t="t" r="r" b="b"/>
                <a:pathLst>
                  <a:path w="62" h="21">
                    <a:moveTo>
                      <a:pt x="0" y="12"/>
                    </a:moveTo>
                    <a:lnTo>
                      <a:pt x="6" y="3"/>
                    </a:lnTo>
                    <a:lnTo>
                      <a:pt x="18" y="1"/>
                    </a:lnTo>
                    <a:lnTo>
                      <a:pt x="30" y="0"/>
                    </a:lnTo>
                    <a:lnTo>
                      <a:pt x="44" y="4"/>
                    </a:lnTo>
                    <a:lnTo>
                      <a:pt x="54" y="12"/>
                    </a:lnTo>
                    <a:lnTo>
                      <a:pt x="62" y="21"/>
                    </a:lnTo>
                  </a:path>
                </a:pathLst>
              </a:custGeom>
              <a:noFill/>
              <a:ln w="9360">
                <a:solidFill>
                  <a:srgbClr val="000066"/>
                </a:solidFill>
                <a:round/>
              </a:ln>
            </p:spPr>
            <p:style>
              <a:lnRef idx="0"/>
              <a:fillRef idx="0"/>
              <a:effectRef idx="0"/>
              <a:fontRef idx="minor"/>
            </p:style>
            <p:txBody>
              <a:bodyPr wrap="none" tIns="-12600" bIns="-12600" anchor="ctr">
                <a:noAutofit/>
              </a:bodyPr>
              <a:p>
                <a:endParaRPr b="0" lang="en-US" sz="2400" spc="-1" strike="noStrike">
                  <a:solidFill>
                    <a:srgbClr val="000066"/>
                  </a:solidFill>
                  <a:latin typeface="Times New Roman"/>
                </a:endParaRPr>
              </a:p>
            </p:txBody>
          </p:sp>
          <p:sp>
            <p:nvSpPr>
              <p:cNvPr id="529" name=""/>
              <p:cNvSpPr/>
              <p:nvPr/>
            </p:nvSpPr>
            <p:spPr>
              <a:xfrm rot="276600">
                <a:off x="4971600" y="2612880"/>
                <a:ext cx="98640" cy="33120"/>
              </a:xfrm>
              <a:custGeom>
                <a:avLst/>
                <a:gdLst/>
                <a:ahLst/>
                <a:rect l="l" t="t" r="r" b="b"/>
                <a:pathLst>
                  <a:path w="62" h="21">
                    <a:moveTo>
                      <a:pt x="0" y="12"/>
                    </a:moveTo>
                    <a:lnTo>
                      <a:pt x="6" y="3"/>
                    </a:lnTo>
                    <a:lnTo>
                      <a:pt x="18" y="1"/>
                    </a:lnTo>
                    <a:lnTo>
                      <a:pt x="30" y="0"/>
                    </a:lnTo>
                    <a:lnTo>
                      <a:pt x="44" y="4"/>
                    </a:lnTo>
                    <a:lnTo>
                      <a:pt x="54" y="12"/>
                    </a:lnTo>
                    <a:lnTo>
                      <a:pt x="62" y="21"/>
                    </a:lnTo>
                  </a:path>
                </a:pathLst>
              </a:custGeom>
              <a:noFill/>
              <a:ln w="9360">
                <a:solidFill>
                  <a:srgbClr val="000066"/>
                </a:solidFill>
                <a:round/>
              </a:ln>
            </p:spPr>
            <p:style>
              <a:lnRef idx="0"/>
              <a:fillRef idx="0"/>
              <a:effectRef idx="0"/>
              <a:fontRef idx="minor"/>
            </p:style>
            <p:txBody>
              <a:bodyPr wrap="none" tIns="-12600" bIns="-12600" anchor="ctr">
                <a:noAutofit/>
              </a:bodyPr>
              <a:p>
                <a:endParaRPr b="0" lang="en-US" sz="2400" spc="-1" strike="noStrike">
                  <a:solidFill>
                    <a:srgbClr val="000066"/>
                  </a:solidFill>
                  <a:latin typeface="Times New Roman"/>
                </a:endParaRPr>
              </a:p>
            </p:txBody>
          </p:sp>
          <p:sp>
            <p:nvSpPr>
              <p:cNvPr id="530" name=""/>
              <p:cNvSpPr/>
              <p:nvPr/>
            </p:nvSpPr>
            <p:spPr>
              <a:xfrm rot="276600">
                <a:off x="4986000" y="2584080"/>
                <a:ext cx="98280" cy="33480"/>
              </a:xfrm>
              <a:custGeom>
                <a:avLst/>
                <a:gdLst/>
                <a:ahLst/>
                <a:rect l="l" t="t" r="r" b="b"/>
                <a:pathLst>
                  <a:path w="62" h="21">
                    <a:moveTo>
                      <a:pt x="0" y="12"/>
                    </a:moveTo>
                    <a:lnTo>
                      <a:pt x="6" y="3"/>
                    </a:lnTo>
                    <a:lnTo>
                      <a:pt x="18" y="1"/>
                    </a:lnTo>
                    <a:lnTo>
                      <a:pt x="30" y="0"/>
                    </a:lnTo>
                    <a:lnTo>
                      <a:pt x="44" y="4"/>
                    </a:lnTo>
                    <a:lnTo>
                      <a:pt x="54" y="12"/>
                    </a:lnTo>
                    <a:lnTo>
                      <a:pt x="62" y="21"/>
                    </a:lnTo>
                  </a:path>
                </a:pathLst>
              </a:custGeom>
              <a:noFill/>
              <a:ln w="9360">
                <a:solidFill>
                  <a:srgbClr val="000066"/>
                </a:solidFill>
                <a:round/>
              </a:ln>
            </p:spPr>
            <p:style>
              <a:lnRef idx="0"/>
              <a:fillRef idx="0"/>
              <a:effectRef idx="0"/>
              <a:fontRef idx="minor"/>
            </p:style>
            <p:txBody>
              <a:bodyPr wrap="none" tIns="-12240" bIns="-12240" anchor="ctr">
                <a:noAutofit/>
              </a:bodyPr>
              <a:p>
                <a:endParaRPr b="0" lang="en-US" sz="2400" spc="-1" strike="noStrike">
                  <a:solidFill>
                    <a:srgbClr val="000066"/>
                  </a:solidFill>
                  <a:latin typeface="Times New Roman"/>
                </a:endParaRPr>
              </a:p>
            </p:txBody>
          </p:sp>
        </p:grpSp>
      </p:grpSp>
      <p:sp>
        <p:nvSpPr>
          <p:cNvPr id="531" name=""/>
          <p:cNvSpPr/>
          <p:nvPr/>
        </p:nvSpPr>
        <p:spPr>
          <a:xfrm>
            <a:off x="6705720" y="1828800"/>
            <a:ext cx="1676160" cy="1523880"/>
          </a:xfrm>
          <a:custGeom>
            <a:avLst/>
            <a:gdLst/>
            <a:ahLst/>
            <a:rect l="l" t="t" r="r" b="b"/>
            <a:pathLst>
              <a:path w="1149" h="719">
                <a:moveTo>
                  <a:pt x="1099" y="450"/>
                </a:moveTo>
                <a:lnTo>
                  <a:pt x="1096" y="453"/>
                </a:lnTo>
                <a:lnTo>
                  <a:pt x="1093" y="456"/>
                </a:lnTo>
                <a:lnTo>
                  <a:pt x="1091" y="459"/>
                </a:lnTo>
                <a:lnTo>
                  <a:pt x="1088" y="463"/>
                </a:lnTo>
                <a:lnTo>
                  <a:pt x="1085" y="466"/>
                </a:lnTo>
                <a:lnTo>
                  <a:pt x="1083" y="471"/>
                </a:lnTo>
                <a:lnTo>
                  <a:pt x="1080" y="475"/>
                </a:lnTo>
                <a:lnTo>
                  <a:pt x="1077" y="480"/>
                </a:lnTo>
                <a:lnTo>
                  <a:pt x="1075" y="485"/>
                </a:lnTo>
                <a:lnTo>
                  <a:pt x="1072" y="490"/>
                </a:lnTo>
                <a:lnTo>
                  <a:pt x="1069" y="496"/>
                </a:lnTo>
                <a:lnTo>
                  <a:pt x="1066" y="502"/>
                </a:lnTo>
                <a:lnTo>
                  <a:pt x="1064" y="509"/>
                </a:lnTo>
                <a:lnTo>
                  <a:pt x="1061" y="515"/>
                </a:lnTo>
                <a:lnTo>
                  <a:pt x="1058" y="522"/>
                </a:lnTo>
                <a:lnTo>
                  <a:pt x="1055" y="530"/>
                </a:lnTo>
                <a:lnTo>
                  <a:pt x="1052" y="537"/>
                </a:lnTo>
                <a:lnTo>
                  <a:pt x="1049" y="544"/>
                </a:lnTo>
                <a:lnTo>
                  <a:pt x="1046" y="551"/>
                </a:lnTo>
                <a:lnTo>
                  <a:pt x="1043" y="558"/>
                </a:lnTo>
                <a:lnTo>
                  <a:pt x="1040" y="564"/>
                </a:lnTo>
                <a:lnTo>
                  <a:pt x="1037" y="570"/>
                </a:lnTo>
                <a:lnTo>
                  <a:pt x="1034" y="576"/>
                </a:lnTo>
                <a:lnTo>
                  <a:pt x="1030" y="582"/>
                </a:lnTo>
                <a:lnTo>
                  <a:pt x="1027" y="588"/>
                </a:lnTo>
                <a:lnTo>
                  <a:pt x="1023" y="593"/>
                </a:lnTo>
                <a:lnTo>
                  <a:pt x="1020" y="598"/>
                </a:lnTo>
                <a:lnTo>
                  <a:pt x="1016" y="603"/>
                </a:lnTo>
                <a:lnTo>
                  <a:pt x="1012" y="608"/>
                </a:lnTo>
                <a:lnTo>
                  <a:pt x="1008" y="612"/>
                </a:lnTo>
                <a:lnTo>
                  <a:pt x="1005" y="616"/>
                </a:lnTo>
                <a:lnTo>
                  <a:pt x="1001" y="620"/>
                </a:lnTo>
                <a:lnTo>
                  <a:pt x="997" y="624"/>
                </a:lnTo>
                <a:lnTo>
                  <a:pt x="993" y="627"/>
                </a:lnTo>
                <a:lnTo>
                  <a:pt x="989" y="630"/>
                </a:lnTo>
                <a:lnTo>
                  <a:pt x="985" y="633"/>
                </a:lnTo>
                <a:lnTo>
                  <a:pt x="981" y="636"/>
                </a:lnTo>
                <a:lnTo>
                  <a:pt x="977" y="639"/>
                </a:lnTo>
                <a:lnTo>
                  <a:pt x="973" y="641"/>
                </a:lnTo>
                <a:lnTo>
                  <a:pt x="969" y="644"/>
                </a:lnTo>
                <a:lnTo>
                  <a:pt x="965" y="646"/>
                </a:lnTo>
                <a:lnTo>
                  <a:pt x="962" y="647"/>
                </a:lnTo>
                <a:lnTo>
                  <a:pt x="958" y="649"/>
                </a:lnTo>
                <a:lnTo>
                  <a:pt x="954" y="650"/>
                </a:lnTo>
                <a:lnTo>
                  <a:pt x="950" y="652"/>
                </a:lnTo>
                <a:lnTo>
                  <a:pt x="946" y="653"/>
                </a:lnTo>
                <a:lnTo>
                  <a:pt x="943" y="653"/>
                </a:lnTo>
                <a:lnTo>
                  <a:pt x="939" y="654"/>
                </a:lnTo>
                <a:lnTo>
                  <a:pt x="935" y="654"/>
                </a:lnTo>
                <a:lnTo>
                  <a:pt x="932" y="654"/>
                </a:lnTo>
                <a:lnTo>
                  <a:pt x="928" y="655"/>
                </a:lnTo>
                <a:lnTo>
                  <a:pt x="924" y="654"/>
                </a:lnTo>
                <a:lnTo>
                  <a:pt x="921" y="654"/>
                </a:lnTo>
                <a:lnTo>
                  <a:pt x="917" y="654"/>
                </a:lnTo>
                <a:lnTo>
                  <a:pt x="914" y="653"/>
                </a:lnTo>
                <a:lnTo>
                  <a:pt x="910" y="653"/>
                </a:lnTo>
                <a:lnTo>
                  <a:pt x="907" y="652"/>
                </a:lnTo>
                <a:lnTo>
                  <a:pt x="903" y="651"/>
                </a:lnTo>
                <a:lnTo>
                  <a:pt x="900" y="650"/>
                </a:lnTo>
                <a:lnTo>
                  <a:pt x="896" y="648"/>
                </a:lnTo>
                <a:lnTo>
                  <a:pt x="893" y="647"/>
                </a:lnTo>
                <a:lnTo>
                  <a:pt x="890" y="645"/>
                </a:lnTo>
                <a:lnTo>
                  <a:pt x="886" y="643"/>
                </a:lnTo>
                <a:lnTo>
                  <a:pt x="883" y="641"/>
                </a:lnTo>
                <a:lnTo>
                  <a:pt x="880" y="639"/>
                </a:lnTo>
                <a:lnTo>
                  <a:pt x="877" y="637"/>
                </a:lnTo>
                <a:lnTo>
                  <a:pt x="874" y="635"/>
                </a:lnTo>
                <a:lnTo>
                  <a:pt x="871" y="633"/>
                </a:lnTo>
                <a:lnTo>
                  <a:pt x="869" y="631"/>
                </a:lnTo>
                <a:lnTo>
                  <a:pt x="867" y="629"/>
                </a:lnTo>
                <a:lnTo>
                  <a:pt x="865" y="626"/>
                </a:lnTo>
                <a:lnTo>
                  <a:pt x="863" y="624"/>
                </a:lnTo>
                <a:lnTo>
                  <a:pt x="861" y="622"/>
                </a:lnTo>
                <a:lnTo>
                  <a:pt x="860" y="620"/>
                </a:lnTo>
                <a:lnTo>
                  <a:pt x="859" y="617"/>
                </a:lnTo>
                <a:lnTo>
                  <a:pt x="858" y="615"/>
                </a:lnTo>
                <a:lnTo>
                  <a:pt x="857" y="612"/>
                </a:lnTo>
                <a:lnTo>
                  <a:pt x="857" y="610"/>
                </a:lnTo>
                <a:lnTo>
                  <a:pt x="856" y="607"/>
                </a:lnTo>
                <a:lnTo>
                  <a:pt x="856" y="605"/>
                </a:lnTo>
                <a:lnTo>
                  <a:pt x="856" y="602"/>
                </a:lnTo>
                <a:lnTo>
                  <a:pt x="856" y="600"/>
                </a:lnTo>
                <a:lnTo>
                  <a:pt x="856" y="598"/>
                </a:lnTo>
                <a:lnTo>
                  <a:pt x="856" y="597"/>
                </a:lnTo>
                <a:lnTo>
                  <a:pt x="856" y="596"/>
                </a:lnTo>
                <a:lnTo>
                  <a:pt x="856" y="595"/>
                </a:lnTo>
                <a:lnTo>
                  <a:pt x="856" y="595"/>
                </a:lnTo>
                <a:lnTo>
                  <a:pt x="856" y="594"/>
                </a:lnTo>
                <a:lnTo>
                  <a:pt x="856" y="595"/>
                </a:lnTo>
                <a:lnTo>
                  <a:pt x="856" y="595"/>
                </a:lnTo>
                <a:lnTo>
                  <a:pt x="856" y="596"/>
                </a:lnTo>
                <a:lnTo>
                  <a:pt x="856" y="597"/>
                </a:lnTo>
                <a:lnTo>
                  <a:pt x="856" y="598"/>
                </a:lnTo>
                <a:lnTo>
                  <a:pt x="856" y="600"/>
                </a:lnTo>
                <a:lnTo>
                  <a:pt x="856" y="602"/>
                </a:lnTo>
                <a:lnTo>
                  <a:pt x="856" y="605"/>
                </a:lnTo>
                <a:lnTo>
                  <a:pt x="856" y="607"/>
                </a:lnTo>
                <a:lnTo>
                  <a:pt x="856" y="610"/>
                </a:lnTo>
                <a:lnTo>
                  <a:pt x="856" y="613"/>
                </a:lnTo>
                <a:lnTo>
                  <a:pt x="855" y="616"/>
                </a:lnTo>
                <a:lnTo>
                  <a:pt x="854" y="618"/>
                </a:lnTo>
                <a:lnTo>
                  <a:pt x="853" y="621"/>
                </a:lnTo>
                <a:lnTo>
                  <a:pt x="852" y="624"/>
                </a:lnTo>
                <a:lnTo>
                  <a:pt x="851" y="627"/>
                </a:lnTo>
                <a:lnTo>
                  <a:pt x="849" y="630"/>
                </a:lnTo>
                <a:lnTo>
                  <a:pt x="848" y="634"/>
                </a:lnTo>
                <a:lnTo>
                  <a:pt x="846" y="637"/>
                </a:lnTo>
                <a:lnTo>
                  <a:pt x="844" y="640"/>
                </a:lnTo>
                <a:lnTo>
                  <a:pt x="842" y="643"/>
                </a:lnTo>
                <a:lnTo>
                  <a:pt x="840" y="647"/>
                </a:lnTo>
                <a:lnTo>
                  <a:pt x="837" y="650"/>
                </a:lnTo>
                <a:lnTo>
                  <a:pt x="835" y="654"/>
                </a:lnTo>
                <a:lnTo>
                  <a:pt x="832" y="657"/>
                </a:lnTo>
                <a:lnTo>
                  <a:pt x="829" y="661"/>
                </a:lnTo>
                <a:lnTo>
                  <a:pt x="826" y="664"/>
                </a:lnTo>
                <a:lnTo>
                  <a:pt x="823" y="667"/>
                </a:lnTo>
                <a:lnTo>
                  <a:pt x="820" y="670"/>
                </a:lnTo>
                <a:lnTo>
                  <a:pt x="817" y="673"/>
                </a:lnTo>
                <a:lnTo>
                  <a:pt x="813" y="676"/>
                </a:lnTo>
                <a:lnTo>
                  <a:pt x="810" y="679"/>
                </a:lnTo>
                <a:lnTo>
                  <a:pt x="807" y="682"/>
                </a:lnTo>
                <a:lnTo>
                  <a:pt x="803" y="684"/>
                </a:lnTo>
                <a:lnTo>
                  <a:pt x="800" y="687"/>
                </a:lnTo>
                <a:lnTo>
                  <a:pt x="796" y="689"/>
                </a:lnTo>
                <a:lnTo>
                  <a:pt x="792" y="691"/>
                </a:lnTo>
                <a:lnTo>
                  <a:pt x="789" y="694"/>
                </a:lnTo>
                <a:lnTo>
                  <a:pt x="785" y="696"/>
                </a:lnTo>
                <a:lnTo>
                  <a:pt x="781" y="698"/>
                </a:lnTo>
                <a:lnTo>
                  <a:pt x="777" y="700"/>
                </a:lnTo>
                <a:lnTo>
                  <a:pt x="773" y="701"/>
                </a:lnTo>
                <a:lnTo>
                  <a:pt x="768" y="703"/>
                </a:lnTo>
                <a:lnTo>
                  <a:pt x="764" y="705"/>
                </a:lnTo>
                <a:lnTo>
                  <a:pt x="760" y="706"/>
                </a:lnTo>
                <a:lnTo>
                  <a:pt x="756" y="707"/>
                </a:lnTo>
                <a:lnTo>
                  <a:pt x="751" y="709"/>
                </a:lnTo>
                <a:lnTo>
                  <a:pt x="747" y="710"/>
                </a:lnTo>
                <a:lnTo>
                  <a:pt x="742" y="711"/>
                </a:lnTo>
                <a:lnTo>
                  <a:pt x="738" y="712"/>
                </a:lnTo>
                <a:lnTo>
                  <a:pt x="733" y="713"/>
                </a:lnTo>
                <a:lnTo>
                  <a:pt x="728" y="714"/>
                </a:lnTo>
                <a:lnTo>
                  <a:pt x="724" y="715"/>
                </a:lnTo>
                <a:lnTo>
                  <a:pt x="719" y="715"/>
                </a:lnTo>
                <a:lnTo>
                  <a:pt x="714" y="716"/>
                </a:lnTo>
                <a:lnTo>
                  <a:pt x="709" y="716"/>
                </a:lnTo>
                <a:lnTo>
                  <a:pt x="704" y="717"/>
                </a:lnTo>
                <a:lnTo>
                  <a:pt x="699" y="717"/>
                </a:lnTo>
                <a:lnTo>
                  <a:pt x="694" y="717"/>
                </a:lnTo>
                <a:lnTo>
                  <a:pt x="690" y="718"/>
                </a:lnTo>
                <a:lnTo>
                  <a:pt x="685" y="718"/>
                </a:lnTo>
                <a:lnTo>
                  <a:pt x="681" y="718"/>
                </a:lnTo>
                <a:lnTo>
                  <a:pt x="676" y="718"/>
                </a:lnTo>
                <a:lnTo>
                  <a:pt x="672" y="718"/>
                </a:lnTo>
                <a:lnTo>
                  <a:pt x="667" y="717"/>
                </a:lnTo>
                <a:lnTo>
                  <a:pt x="663" y="717"/>
                </a:lnTo>
                <a:lnTo>
                  <a:pt x="659" y="717"/>
                </a:lnTo>
                <a:lnTo>
                  <a:pt x="655" y="716"/>
                </a:lnTo>
                <a:lnTo>
                  <a:pt x="651" y="716"/>
                </a:lnTo>
                <a:lnTo>
                  <a:pt x="647" y="715"/>
                </a:lnTo>
                <a:lnTo>
                  <a:pt x="643" y="714"/>
                </a:lnTo>
                <a:lnTo>
                  <a:pt x="639" y="714"/>
                </a:lnTo>
                <a:lnTo>
                  <a:pt x="635" y="713"/>
                </a:lnTo>
                <a:lnTo>
                  <a:pt x="631" y="712"/>
                </a:lnTo>
                <a:lnTo>
                  <a:pt x="628" y="711"/>
                </a:lnTo>
                <a:lnTo>
                  <a:pt x="624" y="710"/>
                </a:lnTo>
                <a:lnTo>
                  <a:pt x="621" y="709"/>
                </a:lnTo>
                <a:lnTo>
                  <a:pt x="617" y="708"/>
                </a:lnTo>
                <a:lnTo>
                  <a:pt x="614" y="707"/>
                </a:lnTo>
                <a:lnTo>
                  <a:pt x="611" y="706"/>
                </a:lnTo>
                <a:lnTo>
                  <a:pt x="608" y="705"/>
                </a:lnTo>
                <a:lnTo>
                  <a:pt x="605" y="704"/>
                </a:lnTo>
                <a:lnTo>
                  <a:pt x="602" y="703"/>
                </a:lnTo>
                <a:lnTo>
                  <a:pt x="599" y="702"/>
                </a:lnTo>
                <a:lnTo>
                  <a:pt x="596" y="701"/>
                </a:lnTo>
                <a:lnTo>
                  <a:pt x="593" y="699"/>
                </a:lnTo>
                <a:lnTo>
                  <a:pt x="590" y="698"/>
                </a:lnTo>
                <a:lnTo>
                  <a:pt x="587" y="697"/>
                </a:lnTo>
                <a:lnTo>
                  <a:pt x="585" y="695"/>
                </a:lnTo>
                <a:lnTo>
                  <a:pt x="582" y="694"/>
                </a:lnTo>
                <a:lnTo>
                  <a:pt x="580" y="692"/>
                </a:lnTo>
                <a:lnTo>
                  <a:pt x="577" y="691"/>
                </a:lnTo>
                <a:lnTo>
                  <a:pt x="575" y="689"/>
                </a:lnTo>
                <a:lnTo>
                  <a:pt x="573" y="688"/>
                </a:lnTo>
                <a:lnTo>
                  <a:pt x="571" y="686"/>
                </a:lnTo>
                <a:lnTo>
                  <a:pt x="569" y="684"/>
                </a:lnTo>
                <a:lnTo>
                  <a:pt x="566" y="682"/>
                </a:lnTo>
                <a:lnTo>
                  <a:pt x="565" y="681"/>
                </a:lnTo>
                <a:lnTo>
                  <a:pt x="563" y="679"/>
                </a:lnTo>
                <a:lnTo>
                  <a:pt x="561" y="677"/>
                </a:lnTo>
                <a:lnTo>
                  <a:pt x="559" y="675"/>
                </a:lnTo>
                <a:lnTo>
                  <a:pt x="557" y="673"/>
                </a:lnTo>
                <a:lnTo>
                  <a:pt x="556" y="670"/>
                </a:lnTo>
                <a:lnTo>
                  <a:pt x="554" y="668"/>
                </a:lnTo>
                <a:lnTo>
                  <a:pt x="553" y="666"/>
                </a:lnTo>
                <a:lnTo>
                  <a:pt x="551" y="664"/>
                </a:lnTo>
                <a:lnTo>
                  <a:pt x="551" y="662"/>
                </a:lnTo>
                <a:lnTo>
                  <a:pt x="550" y="660"/>
                </a:lnTo>
                <a:lnTo>
                  <a:pt x="550" y="658"/>
                </a:lnTo>
                <a:lnTo>
                  <a:pt x="550" y="657"/>
                </a:lnTo>
                <a:lnTo>
                  <a:pt x="551" y="655"/>
                </a:lnTo>
                <a:lnTo>
                  <a:pt x="552" y="654"/>
                </a:lnTo>
                <a:lnTo>
                  <a:pt x="553" y="653"/>
                </a:lnTo>
                <a:lnTo>
                  <a:pt x="554" y="652"/>
                </a:lnTo>
                <a:lnTo>
                  <a:pt x="556" y="651"/>
                </a:lnTo>
                <a:lnTo>
                  <a:pt x="558" y="650"/>
                </a:lnTo>
                <a:lnTo>
                  <a:pt x="560" y="649"/>
                </a:lnTo>
                <a:lnTo>
                  <a:pt x="563" y="649"/>
                </a:lnTo>
                <a:lnTo>
                  <a:pt x="566" y="648"/>
                </a:lnTo>
                <a:lnTo>
                  <a:pt x="570" y="648"/>
                </a:lnTo>
                <a:lnTo>
                  <a:pt x="573" y="647"/>
                </a:lnTo>
                <a:lnTo>
                  <a:pt x="576" y="647"/>
                </a:lnTo>
                <a:lnTo>
                  <a:pt x="580" y="646"/>
                </a:lnTo>
                <a:lnTo>
                  <a:pt x="583" y="646"/>
                </a:lnTo>
                <a:lnTo>
                  <a:pt x="586" y="645"/>
                </a:lnTo>
                <a:lnTo>
                  <a:pt x="589" y="644"/>
                </a:lnTo>
                <a:lnTo>
                  <a:pt x="592" y="643"/>
                </a:lnTo>
                <a:lnTo>
                  <a:pt x="595" y="642"/>
                </a:lnTo>
                <a:lnTo>
                  <a:pt x="598" y="641"/>
                </a:lnTo>
                <a:lnTo>
                  <a:pt x="600" y="640"/>
                </a:lnTo>
                <a:lnTo>
                  <a:pt x="603" y="638"/>
                </a:lnTo>
                <a:lnTo>
                  <a:pt x="605" y="637"/>
                </a:lnTo>
                <a:lnTo>
                  <a:pt x="608" y="636"/>
                </a:lnTo>
                <a:lnTo>
                  <a:pt x="610" y="634"/>
                </a:lnTo>
                <a:lnTo>
                  <a:pt x="613" y="632"/>
                </a:lnTo>
                <a:lnTo>
                  <a:pt x="615" y="631"/>
                </a:lnTo>
                <a:lnTo>
                  <a:pt x="617" y="629"/>
                </a:lnTo>
                <a:lnTo>
                  <a:pt x="619" y="627"/>
                </a:lnTo>
                <a:lnTo>
                  <a:pt x="621" y="625"/>
                </a:lnTo>
                <a:lnTo>
                  <a:pt x="623" y="624"/>
                </a:lnTo>
                <a:lnTo>
                  <a:pt x="624" y="622"/>
                </a:lnTo>
                <a:lnTo>
                  <a:pt x="626" y="620"/>
                </a:lnTo>
                <a:lnTo>
                  <a:pt x="628" y="618"/>
                </a:lnTo>
                <a:lnTo>
                  <a:pt x="629" y="617"/>
                </a:lnTo>
                <a:lnTo>
                  <a:pt x="631" y="615"/>
                </a:lnTo>
                <a:lnTo>
                  <a:pt x="632" y="613"/>
                </a:lnTo>
                <a:lnTo>
                  <a:pt x="634" y="611"/>
                </a:lnTo>
                <a:lnTo>
                  <a:pt x="635" y="610"/>
                </a:lnTo>
                <a:lnTo>
                  <a:pt x="636" y="608"/>
                </a:lnTo>
                <a:lnTo>
                  <a:pt x="637" y="606"/>
                </a:lnTo>
                <a:lnTo>
                  <a:pt x="638" y="605"/>
                </a:lnTo>
                <a:lnTo>
                  <a:pt x="639" y="603"/>
                </a:lnTo>
                <a:lnTo>
                  <a:pt x="640" y="601"/>
                </a:lnTo>
                <a:lnTo>
                  <a:pt x="640" y="600"/>
                </a:lnTo>
                <a:lnTo>
                  <a:pt x="641" y="599"/>
                </a:lnTo>
                <a:lnTo>
                  <a:pt x="642" y="598"/>
                </a:lnTo>
                <a:lnTo>
                  <a:pt x="642" y="597"/>
                </a:lnTo>
                <a:lnTo>
                  <a:pt x="642" y="597"/>
                </a:lnTo>
                <a:lnTo>
                  <a:pt x="642" y="596"/>
                </a:lnTo>
                <a:lnTo>
                  <a:pt x="642" y="596"/>
                </a:lnTo>
                <a:lnTo>
                  <a:pt x="642" y="596"/>
                </a:lnTo>
                <a:lnTo>
                  <a:pt x="642" y="597"/>
                </a:lnTo>
                <a:lnTo>
                  <a:pt x="642" y="597"/>
                </a:lnTo>
                <a:lnTo>
                  <a:pt x="642" y="598"/>
                </a:lnTo>
                <a:lnTo>
                  <a:pt x="641" y="599"/>
                </a:lnTo>
                <a:lnTo>
                  <a:pt x="640" y="600"/>
                </a:lnTo>
                <a:lnTo>
                  <a:pt x="640" y="601"/>
                </a:lnTo>
                <a:lnTo>
                  <a:pt x="639" y="603"/>
                </a:lnTo>
                <a:lnTo>
                  <a:pt x="638" y="605"/>
                </a:lnTo>
                <a:lnTo>
                  <a:pt x="637" y="606"/>
                </a:lnTo>
                <a:lnTo>
                  <a:pt x="636" y="608"/>
                </a:lnTo>
                <a:lnTo>
                  <a:pt x="635" y="610"/>
                </a:lnTo>
                <a:lnTo>
                  <a:pt x="634" y="611"/>
                </a:lnTo>
                <a:lnTo>
                  <a:pt x="632" y="613"/>
                </a:lnTo>
                <a:lnTo>
                  <a:pt x="631" y="615"/>
                </a:lnTo>
                <a:lnTo>
                  <a:pt x="629" y="617"/>
                </a:lnTo>
                <a:lnTo>
                  <a:pt x="628" y="618"/>
                </a:lnTo>
                <a:lnTo>
                  <a:pt x="626" y="620"/>
                </a:lnTo>
                <a:lnTo>
                  <a:pt x="624" y="622"/>
                </a:lnTo>
                <a:lnTo>
                  <a:pt x="623" y="624"/>
                </a:lnTo>
                <a:lnTo>
                  <a:pt x="621" y="625"/>
                </a:lnTo>
                <a:lnTo>
                  <a:pt x="619" y="627"/>
                </a:lnTo>
                <a:lnTo>
                  <a:pt x="617" y="629"/>
                </a:lnTo>
                <a:lnTo>
                  <a:pt x="615" y="631"/>
                </a:lnTo>
                <a:lnTo>
                  <a:pt x="613" y="632"/>
                </a:lnTo>
                <a:lnTo>
                  <a:pt x="610" y="634"/>
                </a:lnTo>
                <a:lnTo>
                  <a:pt x="608" y="636"/>
                </a:lnTo>
                <a:lnTo>
                  <a:pt x="605" y="637"/>
                </a:lnTo>
                <a:lnTo>
                  <a:pt x="603" y="638"/>
                </a:lnTo>
                <a:lnTo>
                  <a:pt x="600" y="640"/>
                </a:lnTo>
                <a:lnTo>
                  <a:pt x="598" y="641"/>
                </a:lnTo>
                <a:lnTo>
                  <a:pt x="595" y="642"/>
                </a:lnTo>
                <a:lnTo>
                  <a:pt x="592" y="643"/>
                </a:lnTo>
                <a:lnTo>
                  <a:pt x="589" y="644"/>
                </a:lnTo>
                <a:lnTo>
                  <a:pt x="586" y="645"/>
                </a:lnTo>
                <a:lnTo>
                  <a:pt x="583" y="646"/>
                </a:lnTo>
                <a:lnTo>
                  <a:pt x="580" y="646"/>
                </a:lnTo>
                <a:lnTo>
                  <a:pt x="576" y="647"/>
                </a:lnTo>
                <a:lnTo>
                  <a:pt x="573" y="647"/>
                </a:lnTo>
                <a:lnTo>
                  <a:pt x="570" y="648"/>
                </a:lnTo>
                <a:lnTo>
                  <a:pt x="566" y="648"/>
                </a:lnTo>
                <a:lnTo>
                  <a:pt x="563" y="648"/>
                </a:lnTo>
                <a:lnTo>
                  <a:pt x="559" y="649"/>
                </a:lnTo>
                <a:lnTo>
                  <a:pt x="556" y="649"/>
                </a:lnTo>
                <a:lnTo>
                  <a:pt x="552" y="649"/>
                </a:lnTo>
                <a:lnTo>
                  <a:pt x="549" y="649"/>
                </a:lnTo>
                <a:lnTo>
                  <a:pt x="545" y="649"/>
                </a:lnTo>
                <a:lnTo>
                  <a:pt x="542" y="649"/>
                </a:lnTo>
                <a:lnTo>
                  <a:pt x="538" y="650"/>
                </a:lnTo>
                <a:lnTo>
                  <a:pt x="535" y="650"/>
                </a:lnTo>
                <a:lnTo>
                  <a:pt x="531" y="650"/>
                </a:lnTo>
                <a:lnTo>
                  <a:pt x="528" y="650"/>
                </a:lnTo>
                <a:lnTo>
                  <a:pt x="524" y="650"/>
                </a:lnTo>
                <a:lnTo>
                  <a:pt x="521" y="650"/>
                </a:lnTo>
                <a:lnTo>
                  <a:pt x="518" y="650"/>
                </a:lnTo>
                <a:lnTo>
                  <a:pt x="514" y="649"/>
                </a:lnTo>
                <a:lnTo>
                  <a:pt x="511" y="649"/>
                </a:lnTo>
                <a:lnTo>
                  <a:pt x="507" y="649"/>
                </a:lnTo>
                <a:lnTo>
                  <a:pt x="504" y="649"/>
                </a:lnTo>
                <a:lnTo>
                  <a:pt x="501" y="648"/>
                </a:lnTo>
                <a:lnTo>
                  <a:pt x="498" y="648"/>
                </a:lnTo>
                <a:lnTo>
                  <a:pt x="495" y="648"/>
                </a:lnTo>
                <a:lnTo>
                  <a:pt x="492" y="647"/>
                </a:lnTo>
                <a:lnTo>
                  <a:pt x="488" y="647"/>
                </a:lnTo>
                <a:lnTo>
                  <a:pt x="485" y="646"/>
                </a:lnTo>
                <a:lnTo>
                  <a:pt x="483" y="645"/>
                </a:lnTo>
                <a:lnTo>
                  <a:pt x="480" y="644"/>
                </a:lnTo>
                <a:lnTo>
                  <a:pt x="477" y="644"/>
                </a:lnTo>
                <a:lnTo>
                  <a:pt x="474" y="643"/>
                </a:lnTo>
                <a:lnTo>
                  <a:pt x="471" y="642"/>
                </a:lnTo>
                <a:lnTo>
                  <a:pt x="469" y="641"/>
                </a:lnTo>
                <a:lnTo>
                  <a:pt x="466" y="640"/>
                </a:lnTo>
                <a:lnTo>
                  <a:pt x="463" y="638"/>
                </a:lnTo>
                <a:lnTo>
                  <a:pt x="461" y="637"/>
                </a:lnTo>
                <a:lnTo>
                  <a:pt x="459" y="636"/>
                </a:lnTo>
                <a:lnTo>
                  <a:pt x="458" y="635"/>
                </a:lnTo>
                <a:lnTo>
                  <a:pt x="456" y="633"/>
                </a:lnTo>
                <a:lnTo>
                  <a:pt x="455" y="632"/>
                </a:lnTo>
                <a:lnTo>
                  <a:pt x="455" y="630"/>
                </a:lnTo>
                <a:lnTo>
                  <a:pt x="454" y="628"/>
                </a:lnTo>
                <a:lnTo>
                  <a:pt x="454" y="626"/>
                </a:lnTo>
                <a:lnTo>
                  <a:pt x="454" y="625"/>
                </a:lnTo>
                <a:lnTo>
                  <a:pt x="455" y="623"/>
                </a:lnTo>
                <a:lnTo>
                  <a:pt x="455" y="621"/>
                </a:lnTo>
                <a:lnTo>
                  <a:pt x="456" y="619"/>
                </a:lnTo>
                <a:lnTo>
                  <a:pt x="458" y="616"/>
                </a:lnTo>
                <a:lnTo>
                  <a:pt x="459" y="614"/>
                </a:lnTo>
                <a:lnTo>
                  <a:pt x="461" y="612"/>
                </a:lnTo>
                <a:lnTo>
                  <a:pt x="463" y="610"/>
                </a:lnTo>
                <a:lnTo>
                  <a:pt x="465" y="608"/>
                </a:lnTo>
                <a:lnTo>
                  <a:pt x="466" y="606"/>
                </a:lnTo>
                <a:lnTo>
                  <a:pt x="467" y="605"/>
                </a:lnTo>
                <a:lnTo>
                  <a:pt x="468" y="604"/>
                </a:lnTo>
                <a:lnTo>
                  <a:pt x="469" y="603"/>
                </a:lnTo>
                <a:lnTo>
                  <a:pt x="469" y="603"/>
                </a:lnTo>
                <a:lnTo>
                  <a:pt x="469" y="603"/>
                </a:lnTo>
                <a:lnTo>
                  <a:pt x="469" y="603"/>
                </a:lnTo>
                <a:lnTo>
                  <a:pt x="468" y="604"/>
                </a:lnTo>
                <a:lnTo>
                  <a:pt x="467" y="605"/>
                </a:lnTo>
                <a:lnTo>
                  <a:pt x="466" y="606"/>
                </a:lnTo>
                <a:lnTo>
                  <a:pt x="465" y="607"/>
                </a:lnTo>
                <a:lnTo>
                  <a:pt x="464" y="609"/>
                </a:lnTo>
                <a:lnTo>
                  <a:pt x="462" y="611"/>
                </a:lnTo>
                <a:lnTo>
                  <a:pt x="460" y="614"/>
                </a:lnTo>
                <a:lnTo>
                  <a:pt x="457" y="616"/>
                </a:lnTo>
                <a:lnTo>
                  <a:pt x="455" y="619"/>
                </a:lnTo>
                <a:lnTo>
                  <a:pt x="452" y="621"/>
                </a:lnTo>
                <a:lnTo>
                  <a:pt x="450" y="623"/>
                </a:lnTo>
                <a:lnTo>
                  <a:pt x="447" y="626"/>
                </a:lnTo>
                <a:lnTo>
                  <a:pt x="444" y="628"/>
                </a:lnTo>
                <a:lnTo>
                  <a:pt x="442" y="630"/>
                </a:lnTo>
                <a:lnTo>
                  <a:pt x="439" y="632"/>
                </a:lnTo>
                <a:lnTo>
                  <a:pt x="436" y="634"/>
                </a:lnTo>
                <a:lnTo>
                  <a:pt x="432" y="636"/>
                </a:lnTo>
                <a:lnTo>
                  <a:pt x="429" y="637"/>
                </a:lnTo>
                <a:lnTo>
                  <a:pt x="426" y="639"/>
                </a:lnTo>
                <a:lnTo>
                  <a:pt x="422" y="641"/>
                </a:lnTo>
                <a:lnTo>
                  <a:pt x="419" y="642"/>
                </a:lnTo>
                <a:lnTo>
                  <a:pt x="415" y="644"/>
                </a:lnTo>
                <a:lnTo>
                  <a:pt x="411" y="645"/>
                </a:lnTo>
                <a:lnTo>
                  <a:pt x="408" y="646"/>
                </a:lnTo>
                <a:lnTo>
                  <a:pt x="404" y="647"/>
                </a:lnTo>
                <a:lnTo>
                  <a:pt x="400" y="648"/>
                </a:lnTo>
                <a:lnTo>
                  <a:pt x="396" y="649"/>
                </a:lnTo>
                <a:lnTo>
                  <a:pt x="392" y="650"/>
                </a:lnTo>
                <a:lnTo>
                  <a:pt x="388" y="650"/>
                </a:lnTo>
                <a:lnTo>
                  <a:pt x="385" y="651"/>
                </a:lnTo>
                <a:lnTo>
                  <a:pt x="381" y="651"/>
                </a:lnTo>
                <a:lnTo>
                  <a:pt x="377" y="651"/>
                </a:lnTo>
                <a:lnTo>
                  <a:pt x="373" y="651"/>
                </a:lnTo>
                <a:lnTo>
                  <a:pt x="369" y="651"/>
                </a:lnTo>
                <a:lnTo>
                  <a:pt x="365" y="650"/>
                </a:lnTo>
                <a:lnTo>
                  <a:pt x="361" y="650"/>
                </a:lnTo>
                <a:lnTo>
                  <a:pt x="358" y="649"/>
                </a:lnTo>
                <a:lnTo>
                  <a:pt x="354" y="649"/>
                </a:lnTo>
                <a:lnTo>
                  <a:pt x="350" y="648"/>
                </a:lnTo>
                <a:lnTo>
                  <a:pt x="346" y="647"/>
                </a:lnTo>
                <a:lnTo>
                  <a:pt x="342" y="645"/>
                </a:lnTo>
                <a:lnTo>
                  <a:pt x="339" y="644"/>
                </a:lnTo>
                <a:lnTo>
                  <a:pt x="335" y="643"/>
                </a:lnTo>
                <a:lnTo>
                  <a:pt x="332" y="642"/>
                </a:lnTo>
                <a:lnTo>
                  <a:pt x="329" y="640"/>
                </a:lnTo>
                <a:lnTo>
                  <a:pt x="326" y="639"/>
                </a:lnTo>
                <a:lnTo>
                  <a:pt x="323" y="637"/>
                </a:lnTo>
                <a:lnTo>
                  <a:pt x="320" y="635"/>
                </a:lnTo>
                <a:lnTo>
                  <a:pt x="317" y="634"/>
                </a:lnTo>
                <a:lnTo>
                  <a:pt x="315" y="632"/>
                </a:lnTo>
                <a:lnTo>
                  <a:pt x="312" y="630"/>
                </a:lnTo>
                <a:lnTo>
                  <a:pt x="310" y="628"/>
                </a:lnTo>
                <a:lnTo>
                  <a:pt x="308" y="626"/>
                </a:lnTo>
                <a:lnTo>
                  <a:pt x="306" y="624"/>
                </a:lnTo>
                <a:lnTo>
                  <a:pt x="304" y="622"/>
                </a:lnTo>
                <a:lnTo>
                  <a:pt x="302" y="620"/>
                </a:lnTo>
                <a:lnTo>
                  <a:pt x="300" y="617"/>
                </a:lnTo>
                <a:lnTo>
                  <a:pt x="298" y="615"/>
                </a:lnTo>
                <a:lnTo>
                  <a:pt x="297" y="613"/>
                </a:lnTo>
                <a:lnTo>
                  <a:pt x="295" y="611"/>
                </a:lnTo>
                <a:lnTo>
                  <a:pt x="293" y="609"/>
                </a:lnTo>
                <a:lnTo>
                  <a:pt x="292" y="606"/>
                </a:lnTo>
                <a:lnTo>
                  <a:pt x="290" y="604"/>
                </a:lnTo>
                <a:lnTo>
                  <a:pt x="289" y="602"/>
                </a:lnTo>
                <a:lnTo>
                  <a:pt x="287" y="600"/>
                </a:lnTo>
                <a:lnTo>
                  <a:pt x="286" y="598"/>
                </a:lnTo>
                <a:lnTo>
                  <a:pt x="284" y="596"/>
                </a:lnTo>
                <a:lnTo>
                  <a:pt x="283" y="594"/>
                </a:lnTo>
                <a:lnTo>
                  <a:pt x="281" y="592"/>
                </a:lnTo>
                <a:lnTo>
                  <a:pt x="280" y="590"/>
                </a:lnTo>
                <a:lnTo>
                  <a:pt x="279" y="588"/>
                </a:lnTo>
                <a:lnTo>
                  <a:pt x="278" y="586"/>
                </a:lnTo>
                <a:lnTo>
                  <a:pt x="276" y="584"/>
                </a:lnTo>
                <a:lnTo>
                  <a:pt x="275" y="582"/>
                </a:lnTo>
                <a:lnTo>
                  <a:pt x="274" y="579"/>
                </a:lnTo>
                <a:lnTo>
                  <a:pt x="272" y="577"/>
                </a:lnTo>
                <a:lnTo>
                  <a:pt x="271" y="575"/>
                </a:lnTo>
                <a:lnTo>
                  <a:pt x="270" y="573"/>
                </a:lnTo>
                <a:lnTo>
                  <a:pt x="269" y="571"/>
                </a:lnTo>
                <a:lnTo>
                  <a:pt x="267" y="568"/>
                </a:lnTo>
                <a:lnTo>
                  <a:pt x="266" y="566"/>
                </a:lnTo>
                <a:lnTo>
                  <a:pt x="265" y="564"/>
                </a:lnTo>
                <a:lnTo>
                  <a:pt x="264" y="561"/>
                </a:lnTo>
                <a:lnTo>
                  <a:pt x="262" y="559"/>
                </a:lnTo>
                <a:lnTo>
                  <a:pt x="261" y="556"/>
                </a:lnTo>
                <a:lnTo>
                  <a:pt x="260" y="554"/>
                </a:lnTo>
                <a:lnTo>
                  <a:pt x="259" y="551"/>
                </a:lnTo>
                <a:lnTo>
                  <a:pt x="257" y="549"/>
                </a:lnTo>
                <a:lnTo>
                  <a:pt x="256" y="547"/>
                </a:lnTo>
                <a:lnTo>
                  <a:pt x="255" y="545"/>
                </a:lnTo>
                <a:lnTo>
                  <a:pt x="255" y="543"/>
                </a:lnTo>
                <a:lnTo>
                  <a:pt x="254" y="542"/>
                </a:lnTo>
                <a:lnTo>
                  <a:pt x="254" y="542"/>
                </a:lnTo>
                <a:lnTo>
                  <a:pt x="254" y="541"/>
                </a:lnTo>
                <a:lnTo>
                  <a:pt x="253" y="541"/>
                </a:lnTo>
                <a:lnTo>
                  <a:pt x="254" y="541"/>
                </a:lnTo>
                <a:lnTo>
                  <a:pt x="254" y="542"/>
                </a:lnTo>
                <a:lnTo>
                  <a:pt x="254" y="542"/>
                </a:lnTo>
                <a:lnTo>
                  <a:pt x="255" y="543"/>
                </a:lnTo>
                <a:lnTo>
                  <a:pt x="255" y="545"/>
                </a:lnTo>
                <a:lnTo>
                  <a:pt x="256" y="547"/>
                </a:lnTo>
                <a:lnTo>
                  <a:pt x="257" y="549"/>
                </a:lnTo>
                <a:lnTo>
                  <a:pt x="259" y="551"/>
                </a:lnTo>
                <a:lnTo>
                  <a:pt x="260" y="554"/>
                </a:lnTo>
                <a:lnTo>
                  <a:pt x="261" y="556"/>
                </a:lnTo>
                <a:lnTo>
                  <a:pt x="261" y="559"/>
                </a:lnTo>
                <a:lnTo>
                  <a:pt x="262" y="561"/>
                </a:lnTo>
                <a:lnTo>
                  <a:pt x="262" y="564"/>
                </a:lnTo>
                <a:lnTo>
                  <a:pt x="262" y="566"/>
                </a:lnTo>
                <a:lnTo>
                  <a:pt x="262" y="569"/>
                </a:lnTo>
                <a:lnTo>
                  <a:pt x="262" y="571"/>
                </a:lnTo>
                <a:lnTo>
                  <a:pt x="262" y="574"/>
                </a:lnTo>
                <a:lnTo>
                  <a:pt x="261" y="576"/>
                </a:lnTo>
                <a:lnTo>
                  <a:pt x="260" y="579"/>
                </a:lnTo>
                <a:lnTo>
                  <a:pt x="259" y="581"/>
                </a:lnTo>
                <a:lnTo>
                  <a:pt x="258" y="583"/>
                </a:lnTo>
                <a:lnTo>
                  <a:pt x="256" y="586"/>
                </a:lnTo>
                <a:lnTo>
                  <a:pt x="254" y="588"/>
                </a:lnTo>
                <a:lnTo>
                  <a:pt x="252" y="590"/>
                </a:lnTo>
                <a:lnTo>
                  <a:pt x="250" y="593"/>
                </a:lnTo>
                <a:lnTo>
                  <a:pt x="248" y="595"/>
                </a:lnTo>
                <a:lnTo>
                  <a:pt x="246" y="597"/>
                </a:lnTo>
                <a:lnTo>
                  <a:pt x="243" y="599"/>
                </a:lnTo>
                <a:lnTo>
                  <a:pt x="241" y="601"/>
                </a:lnTo>
                <a:lnTo>
                  <a:pt x="238" y="603"/>
                </a:lnTo>
                <a:lnTo>
                  <a:pt x="236" y="605"/>
                </a:lnTo>
                <a:lnTo>
                  <a:pt x="233" y="606"/>
                </a:lnTo>
                <a:lnTo>
                  <a:pt x="230" y="608"/>
                </a:lnTo>
                <a:lnTo>
                  <a:pt x="227" y="609"/>
                </a:lnTo>
                <a:lnTo>
                  <a:pt x="224" y="611"/>
                </a:lnTo>
                <a:lnTo>
                  <a:pt x="221" y="612"/>
                </a:lnTo>
                <a:lnTo>
                  <a:pt x="217" y="613"/>
                </a:lnTo>
                <a:lnTo>
                  <a:pt x="214" y="614"/>
                </a:lnTo>
                <a:lnTo>
                  <a:pt x="211" y="615"/>
                </a:lnTo>
                <a:lnTo>
                  <a:pt x="207" y="616"/>
                </a:lnTo>
                <a:lnTo>
                  <a:pt x="203" y="617"/>
                </a:lnTo>
                <a:lnTo>
                  <a:pt x="200" y="618"/>
                </a:lnTo>
                <a:lnTo>
                  <a:pt x="196" y="619"/>
                </a:lnTo>
                <a:lnTo>
                  <a:pt x="193" y="619"/>
                </a:lnTo>
                <a:lnTo>
                  <a:pt x="189" y="619"/>
                </a:lnTo>
                <a:lnTo>
                  <a:pt x="185" y="620"/>
                </a:lnTo>
                <a:lnTo>
                  <a:pt x="181" y="620"/>
                </a:lnTo>
                <a:lnTo>
                  <a:pt x="178" y="620"/>
                </a:lnTo>
                <a:lnTo>
                  <a:pt x="174" y="620"/>
                </a:lnTo>
                <a:lnTo>
                  <a:pt x="170" y="620"/>
                </a:lnTo>
                <a:lnTo>
                  <a:pt x="166" y="619"/>
                </a:lnTo>
                <a:lnTo>
                  <a:pt x="163" y="619"/>
                </a:lnTo>
                <a:lnTo>
                  <a:pt x="159" y="619"/>
                </a:lnTo>
                <a:lnTo>
                  <a:pt x="155" y="618"/>
                </a:lnTo>
                <a:lnTo>
                  <a:pt x="151" y="617"/>
                </a:lnTo>
                <a:lnTo>
                  <a:pt x="147" y="616"/>
                </a:lnTo>
                <a:lnTo>
                  <a:pt x="143" y="615"/>
                </a:lnTo>
                <a:lnTo>
                  <a:pt x="139" y="615"/>
                </a:lnTo>
                <a:lnTo>
                  <a:pt x="136" y="614"/>
                </a:lnTo>
                <a:lnTo>
                  <a:pt x="132" y="613"/>
                </a:lnTo>
                <a:lnTo>
                  <a:pt x="128" y="611"/>
                </a:lnTo>
                <a:lnTo>
                  <a:pt x="125" y="610"/>
                </a:lnTo>
                <a:lnTo>
                  <a:pt x="121" y="609"/>
                </a:lnTo>
                <a:lnTo>
                  <a:pt x="118" y="608"/>
                </a:lnTo>
                <a:lnTo>
                  <a:pt x="114" y="607"/>
                </a:lnTo>
                <a:lnTo>
                  <a:pt x="111" y="606"/>
                </a:lnTo>
                <a:lnTo>
                  <a:pt x="108" y="604"/>
                </a:lnTo>
                <a:lnTo>
                  <a:pt x="104" y="603"/>
                </a:lnTo>
                <a:lnTo>
                  <a:pt x="101" y="602"/>
                </a:lnTo>
                <a:lnTo>
                  <a:pt x="98" y="600"/>
                </a:lnTo>
                <a:lnTo>
                  <a:pt x="95" y="599"/>
                </a:lnTo>
                <a:lnTo>
                  <a:pt x="92" y="598"/>
                </a:lnTo>
                <a:lnTo>
                  <a:pt x="89" y="596"/>
                </a:lnTo>
                <a:lnTo>
                  <a:pt x="86" y="595"/>
                </a:lnTo>
                <a:lnTo>
                  <a:pt x="83" y="593"/>
                </a:lnTo>
                <a:lnTo>
                  <a:pt x="80" y="591"/>
                </a:lnTo>
                <a:lnTo>
                  <a:pt x="78" y="590"/>
                </a:lnTo>
                <a:lnTo>
                  <a:pt x="75" y="588"/>
                </a:lnTo>
                <a:lnTo>
                  <a:pt x="73" y="586"/>
                </a:lnTo>
                <a:lnTo>
                  <a:pt x="70" y="585"/>
                </a:lnTo>
                <a:lnTo>
                  <a:pt x="68" y="583"/>
                </a:lnTo>
                <a:lnTo>
                  <a:pt x="66" y="581"/>
                </a:lnTo>
                <a:lnTo>
                  <a:pt x="64" y="579"/>
                </a:lnTo>
                <a:lnTo>
                  <a:pt x="62" y="577"/>
                </a:lnTo>
                <a:lnTo>
                  <a:pt x="60" y="575"/>
                </a:lnTo>
                <a:lnTo>
                  <a:pt x="58" y="573"/>
                </a:lnTo>
                <a:lnTo>
                  <a:pt x="56" y="571"/>
                </a:lnTo>
                <a:lnTo>
                  <a:pt x="54" y="569"/>
                </a:lnTo>
                <a:lnTo>
                  <a:pt x="53" y="567"/>
                </a:lnTo>
                <a:lnTo>
                  <a:pt x="51" y="565"/>
                </a:lnTo>
                <a:lnTo>
                  <a:pt x="49" y="562"/>
                </a:lnTo>
                <a:lnTo>
                  <a:pt x="47" y="560"/>
                </a:lnTo>
                <a:lnTo>
                  <a:pt x="45" y="557"/>
                </a:lnTo>
                <a:lnTo>
                  <a:pt x="43" y="554"/>
                </a:lnTo>
                <a:lnTo>
                  <a:pt x="41" y="551"/>
                </a:lnTo>
                <a:lnTo>
                  <a:pt x="39" y="548"/>
                </a:lnTo>
                <a:lnTo>
                  <a:pt x="37" y="545"/>
                </a:lnTo>
                <a:lnTo>
                  <a:pt x="35" y="542"/>
                </a:lnTo>
                <a:lnTo>
                  <a:pt x="33" y="539"/>
                </a:lnTo>
                <a:lnTo>
                  <a:pt x="31" y="536"/>
                </a:lnTo>
                <a:lnTo>
                  <a:pt x="28" y="532"/>
                </a:lnTo>
                <a:lnTo>
                  <a:pt x="26" y="528"/>
                </a:lnTo>
                <a:lnTo>
                  <a:pt x="23" y="525"/>
                </a:lnTo>
                <a:lnTo>
                  <a:pt x="21" y="521"/>
                </a:lnTo>
                <a:lnTo>
                  <a:pt x="18" y="517"/>
                </a:lnTo>
                <a:lnTo>
                  <a:pt x="16" y="513"/>
                </a:lnTo>
                <a:lnTo>
                  <a:pt x="14" y="509"/>
                </a:lnTo>
                <a:lnTo>
                  <a:pt x="12" y="505"/>
                </a:lnTo>
                <a:lnTo>
                  <a:pt x="10" y="501"/>
                </a:lnTo>
                <a:lnTo>
                  <a:pt x="8" y="497"/>
                </a:lnTo>
                <a:lnTo>
                  <a:pt x="7" y="493"/>
                </a:lnTo>
                <a:lnTo>
                  <a:pt x="5" y="489"/>
                </a:lnTo>
                <a:lnTo>
                  <a:pt x="4" y="484"/>
                </a:lnTo>
                <a:lnTo>
                  <a:pt x="3" y="480"/>
                </a:lnTo>
                <a:lnTo>
                  <a:pt x="2" y="476"/>
                </a:lnTo>
                <a:lnTo>
                  <a:pt x="1" y="472"/>
                </a:lnTo>
                <a:lnTo>
                  <a:pt x="1" y="468"/>
                </a:lnTo>
                <a:lnTo>
                  <a:pt x="0" y="463"/>
                </a:lnTo>
                <a:lnTo>
                  <a:pt x="0" y="459"/>
                </a:lnTo>
                <a:lnTo>
                  <a:pt x="0" y="455"/>
                </a:lnTo>
                <a:lnTo>
                  <a:pt x="0" y="450"/>
                </a:lnTo>
                <a:lnTo>
                  <a:pt x="0" y="446"/>
                </a:lnTo>
                <a:lnTo>
                  <a:pt x="0" y="442"/>
                </a:lnTo>
                <a:lnTo>
                  <a:pt x="0" y="438"/>
                </a:lnTo>
                <a:lnTo>
                  <a:pt x="0" y="434"/>
                </a:lnTo>
                <a:lnTo>
                  <a:pt x="1" y="431"/>
                </a:lnTo>
                <a:lnTo>
                  <a:pt x="1" y="427"/>
                </a:lnTo>
                <a:lnTo>
                  <a:pt x="1" y="424"/>
                </a:lnTo>
                <a:lnTo>
                  <a:pt x="2" y="421"/>
                </a:lnTo>
                <a:lnTo>
                  <a:pt x="2" y="417"/>
                </a:lnTo>
                <a:lnTo>
                  <a:pt x="3" y="414"/>
                </a:lnTo>
                <a:lnTo>
                  <a:pt x="4" y="411"/>
                </a:lnTo>
                <a:lnTo>
                  <a:pt x="5" y="409"/>
                </a:lnTo>
                <a:lnTo>
                  <a:pt x="6" y="406"/>
                </a:lnTo>
                <a:lnTo>
                  <a:pt x="7" y="403"/>
                </a:lnTo>
                <a:lnTo>
                  <a:pt x="8" y="401"/>
                </a:lnTo>
                <a:lnTo>
                  <a:pt x="9" y="399"/>
                </a:lnTo>
                <a:lnTo>
                  <a:pt x="10" y="397"/>
                </a:lnTo>
                <a:lnTo>
                  <a:pt x="11" y="394"/>
                </a:lnTo>
                <a:lnTo>
                  <a:pt x="12" y="392"/>
                </a:lnTo>
                <a:lnTo>
                  <a:pt x="13" y="390"/>
                </a:lnTo>
                <a:lnTo>
                  <a:pt x="14" y="388"/>
                </a:lnTo>
                <a:lnTo>
                  <a:pt x="16" y="386"/>
                </a:lnTo>
                <a:lnTo>
                  <a:pt x="17" y="384"/>
                </a:lnTo>
                <a:lnTo>
                  <a:pt x="18" y="383"/>
                </a:lnTo>
                <a:lnTo>
                  <a:pt x="20" y="381"/>
                </a:lnTo>
                <a:lnTo>
                  <a:pt x="21" y="379"/>
                </a:lnTo>
                <a:lnTo>
                  <a:pt x="22" y="377"/>
                </a:lnTo>
                <a:lnTo>
                  <a:pt x="24" y="376"/>
                </a:lnTo>
                <a:lnTo>
                  <a:pt x="25" y="374"/>
                </a:lnTo>
                <a:lnTo>
                  <a:pt x="26" y="373"/>
                </a:lnTo>
                <a:lnTo>
                  <a:pt x="28" y="372"/>
                </a:lnTo>
                <a:lnTo>
                  <a:pt x="29" y="370"/>
                </a:lnTo>
                <a:lnTo>
                  <a:pt x="31" y="369"/>
                </a:lnTo>
                <a:lnTo>
                  <a:pt x="32" y="369"/>
                </a:lnTo>
                <a:lnTo>
                  <a:pt x="34" y="368"/>
                </a:lnTo>
                <a:lnTo>
                  <a:pt x="36" y="368"/>
                </a:lnTo>
                <a:lnTo>
                  <a:pt x="38" y="368"/>
                </a:lnTo>
                <a:lnTo>
                  <a:pt x="39" y="369"/>
                </a:lnTo>
                <a:lnTo>
                  <a:pt x="41" y="369"/>
                </a:lnTo>
                <a:lnTo>
                  <a:pt x="43" y="370"/>
                </a:lnTo>
                <a:lnTo>
                  <a:pt x="45" y="371"/>
                </a:lnTo>
                <a:lnTo>
                  <a:pt x="47" y="372"/>
                </a:lnTo>
                <a:lnTo>
                  <a:pt x="49" y="374"/>
                </a:lnTo>
                <a:lnTo>
                  <a:pt x="51" y="376"/>
                </a:lnTo>
                <a:lnTo>
                  <a:pt x="54" y="378"/>
                </a:lnTo>
                <a:lnTo>
                  <a:pt x="56" y="381"/>
                </a:lnTo>
                <a:lnTo>
                  <a:pt x="58" y="383"/>
                </a:lnTo>
                <a:lnTo>
                  <a:pt x="60" y="386"/>
                </a:lnTo>
                <a:lnTo>
                  <a:pt x="62" y="388"/>
                </a:lnTo>
                <a:lnTo>
                  <a:pt x="64" y="390"/>
                </a:lnTo>
                <a:lnTo>
                  <a:pt x="65" y="392"/>
                </a:lnTo>
                <a:lnTo>
                  <a:pt x="66" y="393"/>
                </a:lnTo>
                <a:lnTo>
                  <a:pt x="67" y="394"/>
                </a:lnTo>
                <a:lnTo>
                  <a:pt x="67" y="394"/>
                </a:lnTo>
                <a:lnTo>
                  <a:pt x="67" y="395"/>
                </a:lnTo>
                <a:lnTo>
                  <a:pt x="67" y="394"/>
                </a:lnTo>
                <a:lnTo>
                  <a:pt x="67" y="394"/>
                </a:lnTo>
                <a:lnTo>
                  <a:pt x="66" y="393"/>
                </a:lnTo>
                <a:lnTo>
                  <a:pt x="65" y="392"/>
                </a:lnTo>
                <a:lnTo>
                  <a:pt x="63" y="391"/>
                </a:lnTo>
                <a:lnTo>
                  <a:pt x="62" y="389"/>
                </a:lnTo>
                <a:lnTo>
                  <a:pt x="60" y="387"/>
                </a:lnTo>
                <a:lnTo>
                  <a:pt x="57" y="384"/>
                </a:lnTo>
                <a:lnTo>
                  <a:pt x="55" y="381"/>
                </a:lnTo>
                <a:lnTo>
                  <a:pt x="53" y="378"/>
                </a:lnTo>
                <a:lnTo>
                  <a:pt x="50" y="375"/>
                </a:lnTo>
                <a:lnTo>
                  <a:pt x="48" y="372"/>
                </a:lnTo>
                <a:lnTo>
                  <a:pt x="46" y="368"/>
                </a:lnTo>
                <a:lnTo>
                  <a:pt x="44" y="364"/>
                </a:lnTo>
                <a:lnTo>
                  <a:pt x="42" y="360"/>
                </a:lnTo>
                <a:lnTo>
                  <a:pt x="40" y="356"/>
                </a:lnTo>
                <a:lnTo>
                  <a:pt x="38" y="351"/>
                </a:lnTo>
                <a:lnTo>
                  <a:pt x="36" y="346"/>
                </a:lnTo>
                <a:lnTo>
                  <a:pt x="34" y="341"/>
                </a:lnTo>
                <a:lnTo>
                  <a:pt x="32" y="336"/>
                </a:lnTo>
                <a:lnTo>
                  <a:pt x="30" y="330"/>
                </a:lnTo>
                <a:lnTo>
                  <a:pt x="28" y="325"/>
                </a:lnTo>
                <a:lnTo>
                  <a:pt x="26" y="319"/>
                </a:lnTo>
                <a:lnTo>
                  <a:pt x="25" y="313"/>
                </a:lnTo>
                <a:lnTo>
                  <a:pt x="23" y="306"/>
                </a:lnTo>
                <a:lnTo>
                  <a:pt x="22" y="300"/>
                </a:lnTo>
                <a:lnTo>
                  <a:pt x="21" y="294"/>
                </a:lnTo>
                <a:lnTo>
                  <a:pt x="20" y="289"/>
                </a:lnTo>
                <a:lnTo>
                  <a:pt x="19" y="283"/>
                </a:lnTo>
                <a:lnTo>
                  <a:pt x="18" y="277"/>
                </a:lnTo>
                <a:lnTo>
                  <a:pt x="18" y="272"/>
                </a:lnTo>
                <a:lnTo>
                  <a:pt x="17" y="266"/>
                </a:lnTo>
                <a:lnTo>
                  <a:pt x="17" y="261"/>
                </a:lnTo>
                <a:lnTo>
                  <a:pt x="17" y="256"/>
                </a:lnTo>
                <a:lnTo>
                  <a:pt x="18" y="251"/>
                </a:lnTo>
                <a:lnTo>
                  <a:pt x="18" y="246"/>
                </a:lnTo>
                <a:lnTo>
                  <a:pt x="19" y="241"/>
                </a:lnTo>
                <a:lnTo>
                  <a:pt x="19" y="237"/>
                </a:lnTo>
                <a:lnTo>
                  <a:pt x="20" y="232"/>
                </a:lnTo>
                <a:lnTo>
                  <a:pt x="22" y="228"/>
                </a:lnTo>
                <a:lnTo>
                  <a:pt x="23" y="223"/>
                </a:lnTo>
                <a:lnTo>
                  <a:pt x="24" y="219"/>
                </a:lnTo>
                <a:lnTo>
                  <a:pt x="26" y="215"/>
                </a:lnTo>
                <a:lnTo>
                  <a:pt x="27" y="211"/>
                </a:lnTo>
                <a:lnTo>
                  <a:pt x="29" y="207"/>
                </a:lnTo>
                <a:lnTo>
                  <a:pt x="30" y="203"/>
                </a:lnTo>
                <a:lnTo>
                  <a:pt x="32" y="199"/>
                </a:lnTo>
                <a:lnTo>
                  <a:pt x="34" y="195"/>
                </a:lnTo>
                <a:lnTo>
                  <a:pt x="35" y="191"/>
                </a:lnTo>
                <a:lnTo>
                  <a:pt x="37" y="187"/>
                </a:lnTo>
                <a:lnTo>
                  <a:pt x="39" y="184"/>
                </a:lnTo>
                <a:lnTo>
                  <a:pt x="41" y="180"/>
                </a:lnTo>
                <a:lnTo>
                  <a:pt x="43" y="176"/>
                </a:lnTo>
                <a:lnTo>
                  <a:pt x="45" y="173"/>
                </a:lnTo>
                <a:lnTo>
                  <a:pt x="47" y="170"/>
                </a:lnTo>
                <a:lnTo>
                  <a:pt x="50" y="166"/>
                </a:lnTo>
                <a:lnTo>
                  <a:pt x="52" y="163"/>
                </a:lnTo>
                <a:lnTo>
                  <a:pt x="54" y="160"/>
                </a:lnTo>
                <a:lnTo>
                  <a:pt x="57" y="156"/>
                </a:lnTo>
                <a:lnTo>
                  <a:pt x="59" y="153"/>
                </a:lnTo>
                <a:lnTo>
                  <a:pt x="62" y="150"/>
                </a:lnTo>
                <a:lnTo>
                  <a:pt x="65" y="147"/>
                </a:lnTo>
                <a:lnTo>
                  <a:pt x="67" y="144"/>
                </a:lnTo>
                <a:lnTo>
                  <a:pt x="70" y="141"/>
                </a:lnTo>
                <a:lnTo>
                  <a:pt x="73" y="139"/>
                </a:lnTo>
                <a:lnTo>
                  <a:pt x="76" y="136"/>
                </a:lnTo>
                <a:lnTo>
                  <a:pt x="79" y="133"/>
                </a:lnTo>
                <a:lnTo>
                  <a:pt x="82" y="130"/>
                </a:lnTo>
                <a:lnTo>
                  <a:pt x="85" y="128"/>
                </a:lnTo>
                <a:lnTo>
                  <a:pt x="89" y="125"/>
                </a:lnTo>
                <a:lnTo>
                  <a:pt x="92" y="123"/>
                </a:lnTo>
                <a:lnTo>
                  <a:pt x="96" y="121"/>
                </a:lnTo>
                <a:lnTo>
                  <a:pt x="99" y="118"/>
                </a:lnTo>
                <a:lnTo>
                  <a:pt x="103" y="116"/>
                </a:lnTo>
                <a:lnTo>
                  <a:pt x="106" y="114"/>
                </a:lnTo>
                <a:lnTo>
                  <a:pt x="110" y="112"/>
                </a:lnTo>
                <a:lnTo>
                  <a:pt x="114" y="110"/>
                </a:lnTo>
                <a:lnTo>
                  <a:pt x="117" y="108"/>
                </a:lnTo>
                <a:lnTo>
                  <a:pt x="121" y="106"/>
                </a:lnTo>
                <a:lnTo>
                  <a:pt x="125" y="104"/>
                </a:lnTo>
                <a:lnTo>
                  <a:pt x="128" y="102"/>
                </a:lnTo>
                <a:lnTo>
                  <a:pt x="132" y="100"/>
                </a:lnTo>
                <a:lnTo>
                  <a:pt x="136" y="99"/>
                </a:lnTo>
                <a:lnTo>
                  <a:pt x="140" y="97"/>
                </a:lnTo>
                <a:lnTo>
                  <a:pt x="144" y="95"/>
                </a:lnTo>
                <a:lnTo>
                  <a:pt x="148" y="94"/>
                </a:lnTo>
                <a:lnTo>
                  <a:pt x="152" y="92"/>
                </a:lnTo>
                <a:lnTo>
                  <a:pt x="156" y="91"/>
                </a:lnTo>
                <a:lnTo>
                  <a:pt x="160" y="90"/>
                </a:lnTo>
                <a:lnTo>
                  <a:pt x="164" y="89"/>
                </a:lnTo>
                <a:lnTo>
                  <a:pt x="167" y="88"/>
                </a:lnTo>
                <a:lnTo>
                  <a:pt x="171" y="86"/>
                </a:lnTo>
                <a:lnTo>
                  <a:pt x="175" y="86"/>
                </a:lnTo>
                <a:lnTo>
                  <a:pt x="178" y="85"/>
                </a:lnTo>
                <a:lnTo>
                  <a:pt x="182" y="84"/>
                </a:lnTo>
                <a:lnTo>
                  <a:pt x="185" y="83"/>
                </a:lnTo>
                <a:lnTo>
                  <a:pt x="189" y="83"/>
                </a:lnTo>
                <a:lnTo>
                  <a:pt x="192" y="82"/>
                </a:lnTo>
                <a:lnTo>
                  <a:pt x="196" y="82"/>
                </a:lnTo>
                <a:lnTo>
                  <a:pt x="199" y="82"/>
                </a:lnTo>
                <a:lnTo>
                  <a:pt x="202" y="81"/>
                </a:lnTo>
                <a:lnTo>
                  <a:pt x="205" y="81"/>
                </a:lnTo>
                <a:lnTo>
                  <a:pt x="208" y="81"/>
                </a:lnTo>
                <a:lnTo>
                  <a:pt x="211" y="81"/>
                </a:lnTo>
                <a:lnTo>
                  <a:pt x="214" y="81"/>
                </a:lnTo>
                <a:lnTo>
                  <a:pt x="216" y="81"/>
                </a:lnTo>
                <a:lnTo>
                  <a:pt x="218" y="82"/>
                </a:lnTo>
                <a:lnTo>
                  <a:pt x="220" y="82"/>
                </a:lnTo>
                <a:lnTo>
                  <a:pt x="221" y="82"/>
                </a:lnTo>
                <a:lnTo>
                  <a:pt x="222" y="82"/>
                </a:lnTo>
                <a:lnTo>
                  <a:pt x="223" y="82"/>
                </a:lnTo>
                <a:lnTo>
                  <a:pt x="223" y="82"/>
                </a:lnTo>
                <a:lnTo>
                  <a:pt x="223" y="82"/>
                </a:lnTo>
                <a:lnTo>
                  <a:pt x="222" y="82"/>
                </a:lnTo>
                <a:lnTo>
                  <a:pt x="221" y="82"/>
                </a:lnTo>
                <a:lnTo>
                  <a:pt x="220" y="82"/>
                </a:lnTo>
                <a:lnTo>
                  <a:pt x="218" y="82"/>
                </a:lnTo>
                <a:lnTo>
                  <a:pt x="216" y="81"/>
                </a:lnTo>
                <a:lnTo>
                  <a:pt x="214" y="81"/>
                </a:lnTo>
                <a:lnTo>
                  <a:pt x="211" y="81"/>
                </a:lnTo>
                <a:lnTo>
                  <a:pt x="208" y="81"/>
                </a:lnTo>
                <a:lnTo>
                  <a:pt x="206" y="81"/>
                </a:lnTo>
                <a:lnTo>
                  <a:pt x="204" y="80"/>
                </a:lnTo>
                <a:lnTo>
                  <a:pt x="202" y="80"/>
                </a:lnTo>
                <a:lnTo>
                  <a:pt x="200" y="79"/>
                </a:lnTo>
                <a:lnTo>
                  <a:pt x="199" y="78"/>
                </a:lnTo>
                <a:lnTo>
                  <a:pt x="198" y="77"/>
                </a:lnTo>
                <a:lnTo>
                  <a:pt x="197" y="76"/>
                </a:lnTo>
                <a:lnTo>
                  <a:pt x="197" y="75"/>
                </a:lnTo>
                <a:lnTo>
                  <a:pt x="197" y="73"/>
                </a:lnTo>
                <a:lnTo>
                  <a:pt x="197" y="72"/>
                </a:lnTo>
                <a:lnTo>
                  <a:pt x="197" y="70"/>
                </a:lnTo>
                <a:lnTo>
                  <a:pt x="198" y="68"/>
                </a:lnTo>
                <a:lnTo>
                  <a:pt x="199" y="66"/>
                </a:lnTo>
                <a:lnTo>
                  <a:pt x="201" y="64"/>
                </a:lnTo>
                <a:lnTo>
                  <a:pt x="202" y="62"/>
                </a:lnTo>
                <a:lnTo>
                  <a:pt x="204" y="59"/>
                </a:lnTo>
                <a:lnTo>
                  <a:pt x="206" y="57"/>
                </a:lnTo>
                <a:lnTo>
                  <a:pt x="208" y="55"/>
                </a:lnTo>
                <a:lnTo>
                  <a:pt x="211" y="52"/>
                </a:lnTo>
                <a:lnTo>
                  <a:pt x="213" y="50"/>
                </a:lnTo>
                <a:lnTo>
                  <a:pt x="216" y="47"/>
                </a:lnTo>
                <a:lnTo>
                  <a:pt x="218" y="45"/>
                </a:lnTo>
                <a:lnTo>
                  <a:pt x="221" y="42"/>
                </a:lnTo>
                <a:lnTo>
                  <a:pt x="224" y="40"/>
                </a:lnTo>
                <a:lnTo>
                  <a:pt x="227" y="37"/>
                </a:lnTo>
                <a:lnTo>
                  <a:pt x="230" y="35"/>
                </a:lnTo>
                <a:lnTo>
                  <a:pt x="233" y="32"/>
                </a:lnTo>
                <a:lnTo>
                  <a:pt x="236" y="29"/>
                </a:lnTo>
                <a:lnTo>
                  <a:pt x="240" y="27"/>
                </a:lnTo>
                <a:lnTo>
                  <a:pt x="243" y="24"/>
                </a:lnTo>
                <a:lnTo>
                  <a:pt x="247" y="21"/>
                </a:lnTo>
                <a:lnTo>
                  <a:pt x="251" y="19"/>
                </a:lnTo>
                <a:lnTo>
                  <a:pt x="254" y="16"/>
                </a:lnTo>
                <a:lnTo>
                  <a:pt x="258" y="14"/>
                </a:lnTo>
                <a:lnTo>
                  <a:pt x="261" y="12"/>
                </a:lnTo>
                <a:lnTo>
                  <a:pt x="265" y="10"/>
                </a:lnTo>
                <a:lnTo>
                  <a:pt x="268" y="8"/>
                </a:lnTo>
                <a:lnTo>
                  <a:pt x="272" y="7"/>
                </a:lnTo>
                <a:lnTo>
                  <a:pt x="275" y="5"/>
                </a:lnTo>
                <a:lnTo>
                  <a:pt x="278" y="4"/>
                </a:lnTo>
                <a:lnTo>
                  <a:pt x="282" y="3"/>
                </a:lnTo>
                <a:lnTo>
                  <a:pt x="285" y="2"/>
                </a:lnTo>
                <a:lnTo>
                  <a:pt x="288" y="1"/>
                </a:lnTo>
                <a:lnTo>
                  <a:pt x="291" y="1"/>
                </a:lnTo>
                <a:lnTo>
                  <a:pt x="295" y="0"/>
                </a:lnTo>
                <a:lnTo>
                  <a:pt x="298" y="0"/>
                </a:lnTo>
                <a:lnTo>
                  <a:pt x="301" y="0"/>
                </a:lnTo>
                <a:lnTo>
                  <a:pt x="304" y="0"/>
                </a:lnTo>
                <a:lnTo>
                  <a:pt x="307" y="0"/>
                </a:lnTo>
                <a:lnTo>
                  <a:pt x="310" y="0"/>
                </a:lnTo>
                <a:lnTo>
                  <a:pt x="313" y="1"/>
                </a:lnTo>
                <a:lnTo>
                  <a:pt x="316" y="1"/>
                </a:lnTo>
                <a:lnTo>
                  <a:pt x="319" y="2"/>
                </a:lnTo>
                <a:lnTo>
                  <a:pt x="322" y="2"/>
                </a:lnTo>
                <a:lnTo>
                  <a:pt x="325" y="3"/>
                </a:lnTo>
                <a:lnTo>
                  <a:pt x="328" y="3"/>
                </a:lnTo>
                <a:lnTo>
                  <a:pt x="331" y="4"/>
                </a:lnTo>
                <a:lnTo>
                  <a:pt x="333" y="5"/>
                </a:lnTo>
                <a:lnTo>
                  <a:pt x="336" y="6"/>
                </a:lnTo>
                <a:lnTo>
                  <a:pt x="339" y="7"/>
                </a:lnTo>
                <a:lnTo>
                  <a:pt x="342" y="8"/>
                </a:lnTo>
                <a:lnTo>
                  <a:pt x="345" y="9"/>
                </a:lnTo>
                <a:lnTo>
                  <a:pt x="348" y="11"/>
                </a:lnTo>
                <a:lnTo>
                  <a:pt x="351" y="12"/>
                </a:lnTo>
                <a:lnTo>
                  <a:pt x="354" y="14"/>
                </a:lnTo>
                <a:lnTo>
                  <a:pt x="357" y="15"/>
                </a:lnTo>
                <a:lnTo>
                  <a:pt x="359" y="17"/>
                </a:lnTo>
                <a:lnTo>
                  <a:pt x="362" y="19"/>
                </a:lnTo>
                <a:lnTo>
                  <a:pt x="365" y="21"/>
                </a:lnTo>
                <a:lnTo>
                  <a:pt x="367" y="22"/>
                </a:lnTo>
                <a:lnTo>
                  <a:pt x="370" y="25"/>
                </a:lnTo>
                <a:lnTo>
                  <a:pt x="372" y="27"/>
                </a:lnTo>
                <a:lnTo>
                  <a:pt x="375" y="29"/>
                </a:lnTo>
                <a:lnTo>
                  <a:pt x="377" y="31"/>
                </a:lnTo>
                <a:lnTo>
                  <a:pt x="379" y="34"/>
                </a:lnTo>
                <a:lnTo>
                  <a:pt x="382" y="36"/>
                </a:lnTo>
                <a:lnTo>
                  <a:pt x="384" y="39"/>
                </a:lnTo>
                <a:lnTo>
                  <a:pt x="386" y="42"/>
                </a:lnTo>
                <a:lnTo>
                  <a:pt x="388" y="45"/>
                </a:lnTo>
                <a:lnTo>
                  <a:pt x="390" y="48"/>
                </a:lnTo>
                <a:lnTo>
                  <a:pt x="392" y="50"/>
                </a:lnTo>
                <a:lnTo>
                  <a:pt x="393" y="53"/>
                </a:lnTo>
                <a:lnTo>
                  <a:pt x="394" y="56"/>
                </a:lnTo>
                <a:lnTo>
                  <a:pt x="395" y="58"/>
                </a:lnTo>
                <a:lnTo>
                  <a:pt x="396" y="61"/>
                </a:lnTo>
                <a:lnTo>
                  <a:pt x="396" y="63"/>
                </a:lnTo>
                <a:lnTo>
                  <a:pt x="396" y="66"/>
                </a:lnTo>
                <a:lnTo>
                  <a:pt x="396" y="68"/>
                </a:lnTo>
                <a:lnTo>
                  <a:pt x="396" y="71"/>
                </a:lnTo>
                <a:lnTo>
                  <a:pt x="395" y="73"/>
                </a:lnTo>
                <a:lnTo>
                  <a:pt x="394" y="75"/>
                </a:lnTo>
                <a:lnTo>
                  <a:pt x="393" y="77"/>
                </a:lnTo>
                <a:lnTo>
                  <a:pt x="392" y="79"/>
                </a:lnTo>
                <a:lnTo>
                  <a:pt x="390" y="81"/>
                </a:lnTo>
                <a:lnTo>
                  <a:pt x="388" y="83"/>
                </a:lnTo>
                <a:lnTo>
                  <a:pt x="386" y="85"/>
                </a:lnTo>
                <a:lnTo>
                  <a:pt x="384" y="86"/>
                </a:lnTo>
                <a:lnTo>
                  <a:pt x="383" y="88"/>
                </a:lnTo>
                <a:lnTo>
                  <a:pt x="382" y="89"/>
                </a:lnTo>
                <a:lnTo>
                  <a:pt x="381" y="90"/>
                </a:lnTo>
                <a:lnTo>
                  <a:pt x="380" y="90"/>
                </a:lnTo>
                <a:lnTo>
                  <a:pt x="380" y="91"/>
                </a:lnTo>
                <a:lnTo>
                  <a:pt x="380" y="91"/>
                </a:lnTo>
                <a:lnTo>
                  <a:pt x="380" y="91"/>
                </a:lnTo>
                <a:lnTo>
                  <a:pt x="380" y="90"/>
                </a:lnTo>
                <a:lnTo>
                  <a:pt x="381" y="90"/>
                </a:lnTo>
                <a:lnTo>
                  <a:pt x="382" y="89"/>
                </a:lnTo>
                <a:lnTo>
                  <a:pt x="383" y="88"/>
                </a:lnTo>
                <a:lnTo>
                  <a:pt x="384" y="86"/>
                </a:lnTo>
                <a:lnTo>
                  <a:pt x="386" y="85"/>
                </a:lnTo>
                <a:lnTo>
                  <a:pt x="388" y="83"/>
                </a:lnTo>
                <a:lnTo>
                  <a:pt x="390" y="81"/>
                </a:lnTo>
                <a:lnTo>
                  <a:pt x="392" y="79"/>
                </a:lnTo>
                <a:lnTo>
                  <a:pt x="394" y="77"/>
                </a:lnTo>
                <a:lnTo>
                  <a:pt x="397" y="75"/>
                </a:lnTo>
                <a:lnTo>
                  <a:pt x="399" y="73"/>
                </a:lnTo>
                <a:lnTo>
                  <a:pt x="402" y="71"/>
                </a:lnTo>
                <a:lnTo>
                  <a:pt x="404" y="69"/>
                </a:lnTo>
                <a:lnTo>
                  <a:pt x="407" y="67"/>
                </a:lnTo>
                <a:lnTo>
                  <a:pt x="410" y="65"/>
                </a:lnTo>
                <a:lnTo>
                  <a:pt x="413" y="63"/>
                </a:lnTo>
                <a:lnTo>
                  <a:pt x="416" y="61"/>
                </a:lnTo>
                <a:lnTo>
                  <a:pt x="419" y="59"/>
                </a:lnTo>
                <a:lnTo>
                  <a:pt x="422" y="57"/>
                </a:lnTo>
                <a:lnTo>
                  <a:pt x="425" y="54"/>
                </a:lnTo>
                <a:lnTo>
                  <a:pt x="428" y="52"/>
                </a:lnTo>
                <a:lnTo>
                  <a:pt x="432" y="50"/>
                </a:lnTo>
                <a:lnTo>
                  <a:pt x="435" y="48"/>
                </a:lnTo>
                <a:lnTo>
                  <a:pt x="439" y="46"/>
                </a:lnTo>
                <a:lnTo>
                  <a:pt x="442" y="44"/>
                </a:lnTo>
                <a:lnTo>
                  <a:pt x="446" y="42"/>
                </a:lnTo>
                <a:lnTo>
                  <a:pt x="450" y="40"/>
                </a:lnTo>
                <a:lnTo>
                  <a:pt x="454" y="38"/>
                </a:lnTo>
                <a:lnTo>
                  <a:pt x="458" y="36"/>
                </a:lnTo>
                <a:lnTo>
                  <a:pt x="462" y="34"/>
                </a:lnTo>
                <a:lnTo>
                  <a:pt x="467" y="32"/>
                </a:lnTo>
                <a:lnTo>
                  <a:pt x="471" y="30"/>
                </a:lnTo>
                <a:lnTo>
                  <a:pt x="476" y="29"/>
                </a:lnTo>
                <a:lnTo>
                  <a:pt x="480" y="27"/>
                </a:lnTo>
                <a:lnTo>
                  <a:pt x="485" y="26"/>
                </a:lnTo>
                <a:lnTo>
                  <a:pt x="490" y="24"/>
                </a:lnTo>
                <a:lnTo>
                  <a:pt x="495" y="23"/>
                </a:lnTo>
                <a:lnTo>
                  <a:pt x="500" y="21"/>
                </a:lnTo>
                <a:lnTo>
                  <a:pt x="505" y="20"/>
                </a:lnTo>
                <a:lnTo>
                  <a:pt x="510" y="19"/>
                </a:lnTo>
                <a:lnTo>
                  <a:pt x="515" y="18"/>
                </a:lnTo>
                <a:lnTo>
                  <a:pt x="520" y="17"/>
                </a:lnTo>
                <a:lnTo>
                  <a:pt x="525" y="16"/>
                </a:lnTo>
                <a:lnTo>
                  <a:pt x="529" y="16"/>
                </a:lnTo>
                <a:lnTo>
                  <a:pt x="534" y="15"/>
                </a:lnTo>
                <a:lnTo>
                  <a:pt x="538" y="15"/>
                </a:lnTo>
                <a:lnTo>
                  <a:pt x="542" y="14"/>
                </a:lnTo>
                <a:lnTo>
                  <a:pt x="546" y="14"/>
                </a:lnTo>
                <a:lnTo>
                  <a:pt x="550" y="14"/>
                </a:lnTo>
                <a:lnTo>
                  <a:pt x="554" y="14"/>
                </a:lnTo>
                <a:lnTo>
                  <a:pt x="558" y="14"/>
                </a:lnTo>
                <a:lnTo>
                  <a:pt x="562" y="14"/>
                </a:lnTo>
                <a:lnTo>
                  <a:pt x="565" y="15"/>
                </a:lnTo>
                <a:lnTo>
                  <a:pt x="569" y="15"/>
                </a:lnTo>
                <a:lnTo>
                  <a:pt x="572" y="16"/>
                </a:lnTo>
                <a:lnTo>
                  <a:pt x="576" y="17"/>
                </a:lnTo>
                <a:lnTo>
                  <a:pt x="579" y="18"/>
                </a:lnTo>
                <a:lnTo>
                  <a:pt x="582" y="19"/>
                </a:lnTo>
                <a:lnTo>
                  <a:pt x="586" y="20"/>
                </a:lnTo>
                <a:lnTo>
                  <a:pt x="589" y="22"/>
                </a:lnTo>
                <a:lnTo>
                  <a:pt x="592" y="23"/>
                </a:lnTo>
                <a:lnTo>
                  <a:pt x="595" y="25"/>
                </a:lnTo>
                <a:lnTo>
                  <a:pt x="599" y="27"/>
                </a:lnTo>
                <a:lnTo>
                  <a:pt x="602" y="29"/>
                </a:lnTo>
                <a:lnTo>
                  <a:pt x="605" y="32"/>
                </a:lnTo>
                <a:lnTo>
                  <a:pt x="608" y="34"/>
                </a:lnTo>
                <a:lnTo>
                  <a:pt x="612" y="37"/>
                </a:lnTo>
                <a:lnTo>
                  <a:pt x="615" y="40"/>
                </a:lnTo>
                <a:lnTo>
                  <a:pt x="618" y="43"/>
                </a:lnTo>
                <a:lnTo>
                  <a:pt x="621" y="46"/>
                </a:lnTo>
                <a:lnTo>
                  <a:pt x="624" y="50"/>
                </a:lnTo>
                <a:lnTo>
                  <a:pt x="626" y="52"/>
                </a:lnTo>
                <a:lnTo>
                  <a:pt x="629" y="55"/>
                </a:lnTo>
                <a:lnTo>
                  <a:pt x="630" y="57"/>
                </a:lnTo>
                <a:lnTo>
                  <a:pt x="632" y="58"/>
                </a:lnTo>
                <a:lnTo>
                  <a:pt x="633" y="59"/>
                </a:lnTo>
                <a:lnTo>
                  <a:pt x="633" y="60"/>
                </a:lnTo>
                <a:lnTo>
                  <a:pt x="633" y="60"/>
                </a:lnTo>
                <a:lnTo>
                  <a:pt x="633" y="60"/>
                </a:lnTo>
                <a:lnTo>
                  <a:pt x="633" y="59"/>
                </a:lnTo>
                <a:lnTo>
                  <a:pt x="632" y="58"/>
                </a:lnTo>
                <a:lnTo>
                  <a:pt x="630" y="57"/>
                </a:lnTo>
                <a:lnTo>
                  <a:pt x="629" y="55"/>
                </a:lnTo>
                <a:lnTo>
                  <a:pt x="626" y="52"/>
                </a:lnTo>
                <a:lnTo>
                  <a:pt x="624" y="50"/>
                </a:lnTo>
                <a:lnTo>
                  <a:pt x="621" y="46"/>
                </a:lnTo>
                <a:lnTo>
                  <a:pt x="618" y="43"/>
                </a:lnTo>
                <a:lnTo>
                  <a:pt x="616" y="40"/>
                </a:lnTo>
                <a:lnTo>
                  <a:pt x="614" y="37"/>
                </a:lnTo>
                <a:lnTo>
                  <a:pt x="613" y="35"/>
                </a:lnTo>
                <a:lnTo>
                  <a:pt x="612" y="32"/>
                </a:lnTo>
                <a:lnTo>
                  <a:pt x="612" y="30"/>
                </a:lnTo>
                <a:lnTo>
                  <a:pt x="612" y="27"/>
                </a:lnTo>
                <a:lnTo>
                  <a:pt x="613" y="25"/>
                </a:lnTo>
                <a:lnTo>
                  <a:pt x="614" y="24"/>
                </a:lnTo>
                <a:lnTo>
                  <a:pt x="616" y="22"/>
                </a:lnTo>
                <a:lnTo>
                  <a:pt x="618" y="21"/>
                </a:lnTo>
                <a:lnTo>
                  <a:pt x="621" y="19"/>
                </a:lnTo>
                <a:lnTo>
                  <a:pt x="624" y="18"/>
                </a:lnTo>
                <a:lnTo>
                  <a:pt x="628" y="17"/>
                </a:lnTo>
                <a:lnTo>
                  <a:pt x="632" y="17"/>
                </a:lnTo>
                <a:lnTo>
                  <a:pt x="637" y="16"/>
                </a:lnTo>
                <a:lnTo>
                  <a:pt x="642" y="16"/>
                </a:lnTo>
                <a:lnTo>
                  <a:pt x="648" y="15"/>
                </a:lnTo>
                <a:lnTo>
                  <a:pt x="653" y="15"/>
                </a:lnTo>
                <a:lnTo>
                  <a:pt x="658" y="15"/>
                </a:lnTo>
                <a:lnTo>
                  <a:pt x="663" y="15"/>
                </a:lnTo>
                <a:lnTo>
                  <a:pt x="668" y="15"/>
                </a:lnTo>
                <a:lnTo>
                  <a:pt x="673" y="15"/>
                </a:lnTo>
                <a:lnTo>
                  <a:pt x="678" y="15"/>
                </a:lnTo>
                <a:lnTo>
                  <a:pt x="683" y="15"/>
                </a:lnTo>
                <a:lnTo>
                  <a:pt x="688" y="15"/>
                </a:lnTo>
                <a:lnTo>
                  <a:pt x="693" y="16"/>
                </a:lnTo>
                <a:lnTo>
                  <a:pt x="698" y="16"/>
                </a:lnTo>
                <a:lnTo>
                  <a:pt x="702" y="17"/>
                </a:lnTo>
                <a:lnTo>
                  <a:pt x="707" y="17"/>
                </a:lnTo>
                <a:lnTo>
                  <a:pt x="712" y="18"/>
                </a:lnTo>
                <a:lnTo>
                  <a:pt x="717" y="19"/>
                </a:lnTo>
                <a:lnTo>
                  <a:pt x="722" y="20"/>
                </a:lnTo>
                <a:lnTo>
                  <a:pt x="726" y="21"/>
                </a:lnTo>
                <a:lnTo>
                  <a:pt x="731" y="22"/>
                </a:lnTo>
                <a:lnTo>
                  <a:pt x="736" y="23"/>
                </a:lnTo>
                <a:lnTo>
                  <a:pt x="740" y="24"/>
                </a:lnTo>
                <a:lnTo>
                  <a:pt x="745" y="25"/>
                </a:lnTo>
                <a:lnTo>
                  <a:pt x="749" y="26"/>
                </a:lnTo>
                <a:lnTo>
                  <a:pt x="754" y="28"/>
                </a:lnTo>
                <a:lnTo>
                  <a:pt x="758" y="29"/>
                </a:lnTo>
                <a:lnTo>
                  <a:pt x="762" y="31"/>
                </a:lnTo>
                <a:lnTo>
                  <a:pt x="767" y="33"/>
                </a:lnTo>
                <a:lnTo>
                  <a:pt x="771" y="35"/>
                </a:lnTo>
                <a:lnTo>
                  <a:pt x="775" y="37"/>
                </a:lnTo>
                <a:lnTo>
                  <a:pt x="780" y="39"/>
                </a:lnTo>
                <a:lnTo>
                  <a:pt x="784" y="41"/>
                </a:lnTo>
                <a:lnTo>
                  <a:pt x="788" y="43"/>
                </a:lnTo>
                <a:lnTo>
                  <a:pt x="792" y="45"/>
                </a:lnTo>
                <a:lnTo>
                  <a:pt x="796" y="48"/>
                </a:lnTo>
                <a:lnTo>
                  <a:pt x="799" y="50"/>
                </a:lnTo>
                <a:lnTo>
                  <a:pt x="803" y="52"/>
                </a:lnTo>
                <a:lnTo>
                  <a:pt x="807" y="55"/>
                </a:lnTo>
                <a:lnTo>
                  <a:pt x="810" y="58"/>
                </a:lnTo>
                <a:lnTo>
                  <a:pt x="813" y="60"/>
                </a:lnTo>
                <a:lnTo>
                  <a:pt x="817" y="63"/>
                </a:lnTo>
                <a:lnTo>
                  <a:pt x="820" y="66"/>
                </a:lnTo>
                <a:lnTo>
                  <a:pt x="823" y="69"/>
                </a:lnTo>
                <a:lnTo>
                  <a:pt x="825" y="72"/>
                </a:lnTo>
                <a:lnTo>
                  <a:pt x="828" y="75"/>
                </a:lnTo>
                <a:lnTo>
                  <a:pt x="831" y="78"/>
                </a:lnTo>
                <a:lnTo>
                  <a:pt x="833" y="82"/>
                </a:lnTo>
                <a:lnTo>
                  <a:pt x="835" y="85"/>
                </a:lnTo>
                <a:lnTo>
                  <a:pt x="838" y="88"/>
                </a:lnTo>
                <a:lnTo>
                  <a:pt x="840" y="92"/>
                </a:lnTo>
                <a:lnTo>
                  <a:pt x="842" y="95"/>
                </a:lnTo>
                <a:lnTo>
                  <a:pt x="844" y="98"/>
                </a:lnTo>
                <a:lnTo>
                  <a:pt x="845" y="102"/>
                </a:lnTo>
                <a:lnTo>
                  <a:pt x="847" y="105"/>
                </a:lnTo>
                <a:lnTo>
                  <a:pt x="848" y="108"/>
                </a:lnTo>
                <a:lnTo>
                  <a:pt x="850" y="111"/>
                </a:lnTo>
                <a:lnTo>
                  <a:pt x="851" y="113"/>
                </a:lnTo>
                <a:lnTo>
                  <a:pt x="852" y="116"/>
                </a:lnTo>
                <a:lnTo>
                  <a:pt x="853" y="119"/>
                </a:lnTo>
                <a:lnTo>
                  <a:pt x="853" y="121"/>
                </a:lnTo>
                <a:lnTo>
                  <a:pt x="854" y="124"/>
                </a:lnTo>
                <a:lnTo>
                  <a:pt x="855" y="126"/>
                </a:lnTo>
                <a:lnTo>
                  <a:pt x="855" y="129"/>
                </a:lnTo>
                <a:lnTo>
                  <a:pt x="855" y="131"/>
                </a:lnTo>
                <a:lnTo>
                  <a:pt x="856" y="133"/>
                </a:lnTo>
                <a:lnTo>
                  <a:pt x="856" y="135"/>
                </a:lnTo>
                <a:lnTo>
                  <a:pt x="856" y="137"/>
                </a:lnTo>
                <a:lnTo>
                  <a:pt x="856" y="138"/>
                </a:lnTo>
                <a:lnTo>
                  <a:pt x="856" y="139"/>
                </a:lnTo>
                <a:lnTo>
                  <a:pt x="856" y="140"/>
                </a:lnTo>
                <a:lnTo>
                  <a:pt x="856" y="141"/>
                </a:lnTo>
                <a:lnTo>
                  <a:pt x="856" y="141"/>
                </a:lnTo>
                <a:lnTo>
                  <a:pt x="856" y="142"/>
                </a:lnTo>
                <a:lnTo>
                  <a:pt x="856" y="141"/>
                </a:lnTo>
                <a:lnTo>
                  <a:pt x="856" y="141"/>
                </a:lnTo>
                <a:lnTo>
                  <a:pt x="856" y="140"/>
                </a:lnTo>
                <a:lnTo>
                  <a:pt x="856" y="139"/>
                </a:lnTo>
                <a:lnTo>
                  <a:pt x="856" y="138"/>
                </a:lnTo>
                <a:lnTo>
                  <a:pt x="856" y="137"/>
                </a:lnTo>
                <a:lnTo>
                  <a:pt x="856" y="135"/>
                </a:lnTo>
                <a:lnTo>
                  <a:pt x="856" y="133"/>
                </a:lnTo>
                <a:lnTo>
                  <a:pt x="856" y="131"/>
                </a:lnTo>
                <a:lnTo>
                  <a:pt x="856" y="129"/>
                </a:lnTo>
                <a:lnTo>
                  <a:pt x="856" y="127"/>
                </a:lnTo>
                <a:lnTo>
                  <a:pt x="856" y="124"/>
                </a:lnTo>
                <a:lnTo>
                  <a:pt x="857" y="122"/>
                </a:lnTo>
                <a:lnTo>
                  <a:pt x="858" y="120"/>
                </a:lnTo>
                <a:lnTo>
                  <a:pt x="859" y="118"/>
                </a:lnTo>
                <a:lnTo>
                  <a:pt x="860" y="115"/>
                </a:lnTo>
                <a:lnTo>
                  <a:pt x="861" y="113"/>
                </a:lnTo>
                <a:lnTo>
                  <a:pt x="863" y="111"/>
                </a:lnTo>
                <a:lnTo>
                  <a:pt x="864" y="108"/>
                </a:lnTo>
                <a:lnTo>
                  <a:pt x="866" y="106"/>
                </a:lnTo>
                <a:lnTo>
                  <a:pt x="868" y="104"/>
                </a:lnTo>
                <a:lnTo>
                  <a:pt x="870" y="101"/>
                </a:lnTo>
                <a:lnTo>
                  <a:pt x="872" y="99"/>
                </a:lnTo>
                <a:lnTo>
                  <a:pt x="874" y="96"/>
                </a:lnTo>
                <a:lnTo>
                  <a:pt x="877" y="94"/>
                </a:lnTo>
                <a:lnTo>
                  <a:pt x="879" y="92"/>
                </a:lnTo>
                <a:lnTo>
                  <a:pt x="882" y="90"/>
                </a:lnTo>
                <a:lnTo>
                  <a:pt x="885" y="87"/>
                </a:lnTo>
                <a:lnTo>
                  <a:pt x="888" y="86"/>
                </a:lnTo>
                <a:lnTo>
                  <a:pt x="891" y="84"/>
                </a:lnTo>
                <a:lnTo>
                  <a:pt x="894" y="82"/>
                </a:lnTo>
                <a:lnTo>
                  <a:pt x="897" y="80"/>
                </a:lnTo>
                <a:lnTo>
                  <a:pt x="900" y="79"/>
                </a:lnTo>
                <a:lnTo>
                  <a:pt x="904" y="77"/>
                </a:lnTo>
                <a:lnTo>
                  <a:pt x="907" y="76"/>
                </a:lnTo>
                <a:lnTo>
                  <a:pt x="911" y="75"/>
                </a:lnTo>
                <a:lnTo>
                  <a:pt x="915" y="73"/>
                </a:lnTo>
                <a:lnTo>
                  <a:pt x="919" y="72"/>
                </a:lnTo>
                <a:lnTo>
                  <a:pt x="922" y="71"/>
                </a:lnTo>
                <a:lnTo>
                  <a:pt x="927" y="71"/>
                </a:lnTo>
                <a:lnTo>
                  <a:pt x="931" y="70"/>
                </a:lnTo>
                <a:lnTo>
                  <a:pt x="935" y="69"/>
                </a:lnTo>
                <a:lnTo>
                  <a:pt x="938" y="69"/>
                </a:lnTo>
                <a:lnTo>
                  <a:pt x="942" y="68"/>
                </a:lnTo>
                <a:lnTo>
                  <a:pt x="946" y="68"/>
                </a:lnTo>
                <a:lnTo>
                  <a:pt x="950" y="68"/>
                </a:lnTo>
                <a:lnTo>
                  <a:pt x="953" y="68"/>
                </a:lnTo>
                <a:lnTo>
                  <a:pt x="957" y="68"/>
                </a:lnTo>
                <a:lnTo>
                  <a:pt x="960" y="68"/>
                </a:lnTo>
                <a:lnTo>
                  <a:pt x="964" y="68"/>
                </a:lnTo>
                <a:lnTo>
                  <a:pt x="967" y="69"/>
                </a:lnTo>
                <a:lnTo>
                  <a:pt x="970" y="69"/>
                </a:lnTo>
                <a:lnTo>
                  <a:pt x="974" y="70"/>
                </a:lnTo>
                <a:lnTo>
                  <a:pt x="977" y="71"/>
                </a:lnTo>
                <a:lnTo>
                  <a:pt x="980" y="71"/>
                </a:lnTo>
                <a:lnTo>
                  <a:pt x="983" y="72"/>
                </a:lnTo>
                <a:lnTo>
                  <a:pt x="986" y="73"/>
                </a:lnTo>
                <a:lnTo>
                  <a:pt x="988" y="75"/>
                </a:lnTo>
                <a:lnTo>
                  <a:pt x="991" y="76"/>
                </a:lnTo>
                <a:lnTo>
                  <a:pt x="994" y="77"/>
                </a:lnTo>
                <a:lnTo>
                  <a:pt x="997" y="78"/>
                </a:lnTo>
                <a:lnTo>
                  <a:pt x="999" y="80"/>
                </a:lnTo>
                <a:lnTo>
                  <a:pt x="1002" y="81"/>
                </a:lnTo>
                <a:lnTo>
                  <a:pt x="1004" y="83"/>
                </a:lnTo>
                <a:lnTo>
                  <a:pt x="1007" y="84"/>
                </a:lnTo>
                <a:lnTo>
                  <a:pt x="1009" y="86"/>
                </a:lnTo>
                <a:lnTo>
                  <a:pt x="1012" y="88"/>
                </a:lnTo>
                <a:lnTo>
                  <a:pt x="1014" y="89"/>
                </a:lnTo>
                <a:lnTo>
                  <a:pt x="1017" y="91"/>
                </a:lnTo>
                <a:lnTo>
                  <a:pt x="1019" y="93"/>
                </a:lnTo>
                <a:lnTo>
                  <a:pt x="1021" y="95"/>
                </a:lnTo>
                <a:lnTo>
                  <a:pt x="1023" y="97"/>
                </a:lnTo>
                <a:lnTo>
                  <a:pt x="1025" y="99"/>
                </a:lnTo>
                <a:lnTo>
                  <a:pt x="1027" y="102"/>
                </a:lnTo>
                <a:lnTo>
                  <a:pt x="1029" y="104"/>
                </a:lnTo>
                <a:lnTo>
                  <a:pt x="1031" y="106"/>
                </a:lnTo>
                <a:lnTo>
                  <a:pt x="1033" y="108"/>
                </a:lnTo>
                <a:lnTo>
                  <a:pt x="1035" y="110"/>
                </a:lnTo>
                <a:lnTo>
                  <a:pt x="1037" y="112"/>
                </a:lnTo>
                <a:lnTo>
                  <a:pt x="1039" y="114"/>
                </a:lnTo>
                <a:lnTo>
                  <a:pt x="1041" y="116"/>
                </a:lnTo>
                <a:lnTo>
                  <a:pt x="1043" y="118"/>
                </a:lnTo>
                <a:lnTo>
                  <a:pt x="1045" y="119"/>
                </a:lnTo>
                <a:lnTo>
                  <a:pt x="1046" y="121"/>
                </a:lnTo>
                <a:lnTo>
                  <a:pt x="1048" y="123"/>
                </a:lnTo>
                <a:lnTo>
                  <a:pt x="1050" y="125"/>
                </a:lnTo>
                <a:lnTo>
                  <a:pt x="1051" y="127"/>
                </a:lnTo>
                <a:lnTo>
                  <a:pt x="1053" y="129"/>
                </a:lnTo>
                <a:lnTo>
                  <a:pt x="1054" y="130"/>
                </a:lnTo>
                <a:lnTo>
                  <a:pt x="1055" y="132"/>
                </a:lnTo>
                <a:lnTo>
                  <a:pt x="1056" y="133"/>
                </a:lnTo>
                <a:lnTo>
                  <a:pt x="1057" y="134"/>
                </a:lnTo>
                <a:lnTo>
                  <a:pt x="1057" y="135"/>
                </a:lnTo>
                <a:lnTo>
                  <a:pt x="1057" y="136"/>
                </a:lnTo>
                <a:lnTo>
                  <a:pt x="1057" y="136"/>
                </a:lnTo>
                <a:lnTo>
                  <a:pt x="1057" y="137"/>
                </a:lnTo>
                <a:lnTo>
                  <a:pt x="1056" y="137"/>
                </a:lnTo>
                <a:lnTo>
                  <a:pt x="1055" y="137"/>
                </a:lnTo>
                <a:lnTo>
                  <a:pt x="1054" y="136"/>
                </a:lnTo>
                <a:lnTo>
                  <a:pt x="1053" y="136"/>
                </a:lnTo>
                <a:lnTo>
                  <a:pt x="1051" y="135"/>
                </a:lnTo>
                <a:lnTo>
                  <a:pt x="1049" y="134"/>
                </a:lnTo>
                <a:lnTo>
                  <a:pt x="1047" y="133"/>
                </a:lnTo>
                <a:lnTo>
                  <a:pt x="1044" y="132"/>
                </a:lnTo>
                <a:lnTo>
                  <a:pt x="1042" y="131"/>
                </a:lnTo>
                <a:lnTo>
                  <a:pt x="1039" y="130"/>
                </a:lnTo>
                <a:lnTo>
                  <a:pt x="1036" y="129"/>
                </a:lnTo>
                <a:lnTo>
                  <a:pt x="1034" y="128"/>
                </a:lnTo>
                <a:lnTo>
                  <a:pt x="1031" y="127"/>
                </a:lnTo>
                <a:lnTo>
                  <a:pt x="1028" y="126"/>
                </a:lnTo>
                <a:lnTo>
                  <a:pt x="1025" y="125"/>
                </a:lnTo>
                <a:lnTo>
                  <a:pt x="1023" y="125"/>
                </a:lnTo>
                <a:lnTo>
                  <a:pt x="1020" y="124"/>
                </a:lnTo>
                <a:lnTo>
                  <a:pt x="1017" y="124"/>
                </a:lnTo>
                <a:lnTo>
                  <a:pt x="1014" y="123"/>
                </a:lnTo>
                <a:lnTo>
                  <a:pt x="1011" y="123"/>
                </a:lnTo>
                <a:lnTo>
                  <a:pt x="1008" y="123"/>
                </a:lnTo>
                <a:lnTo>
                  <a:pt x="1006" y="123"/>
                </a:lnTo>
                <a:lnTo>
                  <a:pt x="1003" y="123"/>
                </a:lnTo>
                <a:lnTo>
                  <a:pt x="1000" y="123"/>
                </a:lnTo>
                <a:lnTo>
                  <a:pt x="997" y="123"/>
                </a:lnTo>
                <a:lnTo>
                  <a:pt x="995" y="124"/>
                </a:lnTo>
                <a:lnTo>
                  <a:pt x="993" y="124"/>
                </a:lnTo>
                <a:lnTo>
                  <a:pt x="991" y="124"/>
                </a:lnTo>
                <a:lnTo>
                  <a:pt x="990" y="124"/>
                </a:lnTo>
                <a:lnTo>
                  <a:pt x="989" y="124"/>
                </a:lnTo>
                <a:lnTo>
                  <a:pt x="988" y="124"/>
                </a:lnTo>
                <a:lnTo>
                  <a:pt x="988" y="124"/>
                </a:lnTo>
                <a:lnTo>
                  <a:pt x="988" y="124"/>
                </a:lnTo>
                <a:lnTo>
                  <a:pt x="989" y="124"/>
                </a:lnTo>
                <a:lnTo>
                  <a:pt x="990" y="124"/>
                </a:lnTo>
                <a:lnTo>
                  <a:pt x="991" y="124"/>
                </a:lnTo>
                <a:lnTo>
                  <a:pt x="993" y="124"/>
                </a:lnTo>
                <a:lnTo>
                  <a:pt x="995" y="124"/>
                </a:lnTo>
                <a:lnTo>
                  <a:pt x="997" y="123"/>
                </a:lnTo>
                <a:lnTo>
                  <a:pt x="1000" y="123"/>
                </a:lnTo>
                <a:lnTo>
                  <a:pt x="1003" y="123"/>
                </a:lnTo>
                <a:lnTo>
                  <a:pt x="1006" y="123"/>
                </a:lnTo>
                <a:lnTo>
                  <a:pt x="1008" y="123"/>
                </a:lnTo>
                <a:lnTo>
                  <a:pt x="1011" y="123"/>
                </a:lnTo>
                <a:lnTo>
                  <a:pt x="1014" y="123"/>
                </a:lnTo>
                <a:lnTo>
                  <a:pt x="1017" y="124"/>
                </a:lnTo>
                <a:lnTo>
                  <a:pt x="1020" y="124"/>
                </a:lnTo>
                <a:lnTo>
                  <a:pt x="1023" y="125"/>
                </a:lnTo>
                <a:lnTo>
                  <a:pt x="1025" y="125"/>
                </a:lnTo>
                <a:lnTo>
                  <a:pt x="1028" y="126"/>
                </a:lnTo>
                <a:lnTo>
                  <a:pt x="1031" y="127"/>
                </a:lnTo>
                <a:lnTo>
                  <a:pt x="1034" y="128"/>
                </a:lnTo>
                <a:lnTo>
                  <a:pt x="1036" y="129"/>
                </a:lnTo>
                <a:lnTo>
                  <a:pt x="1039" y="130"/>
                </a:lnTo>
                <a:lnTo>
                  <a:pt x="1042" y="131"/>
                </a:lnTo>
                <a:lnTo>
                  <a:pt x="1044" y="132"/>
                </a:lnTo>
                <a:lnTo>
                  <a:pt x="1047" y="134"/>
                </a:lnTo>
                <a:lnTo>
                  <a:pt x="1049" y="135"/>
                </a:lnTo>
                <a:lnTo>
                  <a:pt x="1052" y="136"/>
                </a:lnTo>
                <a:lnTo>
                  <a:pt x="1055" y="138"/>
                </a:lnTo>
                <a:lnTo>
                  <a:pt x="1057" y="139"/>
                </a:lnTo>
                <a:lnTo>
                  <a:pt x="1060" y="141"/>
                </a:lnTo>
                <a:lnTo>
                  <a:pt x="1062" y="142"/>
                </a:lnTo>
                <a:lnTo>
                  <a:pt x="1065" y="144"/>
                </a:lnTo>
                <a:lnTo>
                  <a:pt x="1068" y="145"/>
                </a:lnTo>
                <a:lnTo>
                  <a:pt x="1070" y="147"/>
                </a:lnTo>
                <a:lnTo>
                  <a:pt x="1073" y="148"/>
                </a:lnTo>
                <a:lnTo>
                  <a:pt x="1075" y="150"/>
                </a:lnTo>
                <a:lnTo>
                  <a:pt x="1078" y="151"/>
                </a:lnTo>
                <a:lnTo>
                  <a:pt x="1080" y="153"/>
                </a:lnTo>
                <a:lnTo>
                  <a:pt x="1083" y="155"/>
                </a:lnTo>
                <a:lnTo>
                  <a:pt x="1086" y="156"/>
                </a:lnTo>
                <a:lnTo>
                  <a:pt x="1088" y="158"/>
                </a:lnTo>
                <a:lnTo>
                  <a:pt x="1091" y="160"/>
                </a:lnTo>
                <a:lnTo>
                  <a:pt x="1093" y="162"/>
                </a:lnTo>
                <a:lnTo>
                  <a:pt x="1096" y="165"/>
                </a:lnTo>
                <a:lnTo>
                  <a:pt x="1098" y="167"/>
                </a:lnTo>
                <a:lnTo>
                  <a:pt x="1100" y="170"/>
                </a:lnTo>
                <a:lnTo>
                  <a:pt x="1103" y="173"/>
                </a:lnTo>
                <a:lnTo>
                  <a:pt x="1105" y="177"/>
                </a:lnTo>
                <a:lnTo>
                  <a:pt x="1108" y="180"/>
                </a:lnTo>
                <a:lnTo>
                  <a:pt x="1110" y="184"/>
                </a:lnTo>
                <a:lnTo>
                  <a:pt x="1113" y="188"/>
                </a:lnTo>
                <a:lnTo>
                  <a:pt x="1115" y="192"/>
                </a:lnTo>
                <a:lnTo>
                  <a:pt x="1117" y="196"/>
                </a:lnTo>
                <a:lnTo>
                  <a:pt x="1120" y="201"/>
                </a:lnTo>
                <a:lnTo>
                  <a:pt x="1122" y="206"/>
                </a:lnTo>
                <a:lnTo>
                  <a:pt x="1124" y="211"/>
                </a:lnTo>
                <a:lnTo>
                  <a:pt x="1127" y="216"/>
                </a:lnTo>
                <a:lnTo>
                  <a:pt x="1129" y="221"/>
                </a:lnTo>
                <a:lnTo>
                  <a:pt x="1131" y="227"/>
                </a:lnTo>
                <a:lnTo>
                  <a:pt x="1133" y="232"/>
                </a:lnTo>
                <a:lnTo>
                  <a:pt x="1135" y="237"/>
                </a:lnTo>
                <a:lnTo>
                  <a:pt x="1136" y="243"/>
                </a:lnTo>
                <a:lnTo>
                  <a:pt x="1138" y="249"/>
                </a:lnTo>
                <a:lnTo>
                  <a:pt x="1139" y="254"/>
                </a:lnTo>
                <a:lnTo>
                  <a:pt x="1141" y="260"/>
                </a:lnTo>
                <a:lnTo>
                  <a:pt x="1142" y="266"/>
                </a:lnTo>
                <a:lnTo>
                  <a:pt x="1143" y="272"/>
                </a:lnTo>
                <a:lnTo>
                  <a:pt x="1144" y="278"/>
                </a:lnTo>
                <a:lnTo>
                  <a:pt x="1145" y="284"/>
                </a:lnTo>
                <a:lnTo>
                  <a:pt x="1146" y="290"/>
                </a:lnTo>
                <a:lnTo>
                  <a:pt x="1147" y="296"/>
                </a:lnTo>
                <a:lnTo>
                  <a:pt x="1147" y="303"/>
                </a:lnTo>
                <a:lnTo>
                  <a:pt x="1147" y="309"/>
                </a:lnTo>
                <a:lnTo>
                  <a:pt x="1148" y="315"/>
                </a:lnTo>
                <a:lnTo>
                  <a:pt x="1148" y="321"/>
                </a:lnTo>
                <a:lnTo>
                  <a:pt x="1148" y="328"/>
                </a:lnTo>
                <a:lnTo>
                  <a:pt x="1148" y="333"/>
                </a:lnTo>
                <a:lnTo>
                  <a:pt x="1147" y="339"/>
                </a:lnTo>
                <a:lnTo>
                  <a:pt x="1147" y="345"/>
                </a:lnTo>
                <a:lnTo>
                  <a:pt x="1146" y="351"/>
                </a:lnTo>
                <a:lnTo>
                  <a:pt x="1145" y="356"/>
                </a:lnTo>
                <a:lnTo>
                  <a:pt x="1144" y="362"/>
                </a:lnTo>
                <a:lnTo>
                  <a:pt x="1143" y="367"/>
                </a:lnTo>
                <a:lnTo>
                  <a:pt x="1142" y="372"/>
                </a:lnTo>
                <a:lnTo>
                  <a:pt x="1141" y="377"/>
                </a:lnTo>
                <a:lnTo>
                  <a:pt x="1139" y="382"/>
                </a:lnTo>
                <a:lnTo>
                  <a:pt x="1137" y="387"/>
                </a:lnTo>
                <a:lnTo>
                  <a:pt x="1135" y="392"/>
                </a:lnTo>
                <a:lnTo>
                  <a:pt x="1133" y="397"/>
                </a:lnTo>
                <a:lnTo>
                  <a:pt x="1131" y="401"/>
                </a:lnTo>
                <a:lnTo>
                  <a:pt x="1129" y="406"/>
                </a:lnTo>
                <a:lnTo>
                  <a:pt x="1127" y="410"/>
                </a:lnTo>
                <a:lnTo>
                  <a:pt x="1125" y="414"/>
                </a:lnTo>
                <a:lnTo>
                  <a:pt x="1123" y="418"/>
                </a:lnTo>
                <a:lnTo>
                  <a:pt x="1121" y="422"/>
                </a:lnTo>
                <a:lnTo>
                  <a:pt x="1118" y="426"/>
                </a:lnTo>
                <a:lnTo>
                  <a:pt x="1116" y="429"/>
                </a:lnTo>
                <a:lnTo>
                  <a:pt x="1114" y="433"/>
                </a:lnTo>
                <a:lnTo>
                  <a:pt x="1111" y="436"/>
                </a:lnTo>
                <a:lnTo>
                  <a:pt x="1109" y="439"/>
                </a:lnTo>
                <a:lnTo>
                  <a:pt x="1106" y="442"/>
                </a:lnTo>
                <a:lnTo>
                  <a:pt x="1104" y="445"/>
                </a:lnTo>
                <a:lnTo>
                  <a:pt x="1101" y="448"/>
                </a:lnTo>
                <a:lnTo>
                  <a:pt x="1099" y="450"/>
                </a:lnTo>
                <a:lnTo>
                  <a:pt x="1099" y="450"/>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532" name=""/>
          <p:cNvGrpSpPr/>
          <p:nvPr/>
        </p:nvGrpSpPr>
        <p:grpSpPr>
          <a:xfrm>
            <a:off x="5924520" y="2654280"/>
            <a:ext cx="680760" cy="399600"/>
            <a:chOff x="5924520" y="2654280"/>
            <a:chExt cx="680760" cy="399600"/>
          </a:xfrm>
        </p:grpSpPr>
        <p:sp>
          <p:nvSpPr>
            <p:cNvPr id="533" name=""/>
            <p:cNvSpPr/>
            <p:nvPr/>
          </p:nvSpPr>
          <p:spPr>
            <a:xfrm>
              <a:off x="6295680" y="2654280"/>
              <a:ext cx="309600" cy="133200"/>
            </a:xfrm>
            <a:prstGeom prst="ellipse">
              <a:avLst/>
            </a:prstGeom>
            <a:solidFill>
              <a:srgbClr val="f3f6ff"/>
            </a:solidFill>
            <a:ln w="0">
              <a:solidFill>
                <a:srgbClr val="6699ff"/>
              </a:solidFill>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34" name=""/>
            <p:cNvSpPr/>
            <p:nvPr/>
          </p:nvSpPr>
          <p:spPr>
            <a:xfrm>
              <a:off x="6109920" y="2853720"/>
              <a:ext cx="247680" cy="66600"/>
            </a:xfrm>
            <a:prstGeom prst="ellipse">
              <a:avLst/>
            </a:prstGeom>
            <a:solidFill>
              <a:srgbClr val="f3f6ff"/>
            </a:solidFill>
            <a:ln w="0">
              <a:solidFill>
                <a:srgbClr val="6699ff"/>
              </a:solidFill>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535" name=""/>
            <p:cNvSpPr/>
            <p:nvPr/>
          </p:nvSpPr>
          <p:spPr>
            <a:xfrm>
              <a:off x="5924520" y="2987280"/>
              <a:ext cx="185400" cy="66600"/>
            </a:xfrm>
            <a:prstGeom prst="ellipse">
              <a:avLst/>
            </a:prstGeom>
            <a:solidFill>
              <a:srgbClr val="f3f6ff"/>
            </a:solidFill>
            <a:ln w="0">
              <a:solidFill>
                <a:srgbClr val="6699ff"/>
              </a:solidFill>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sp>
        <p:nvSpPr>
          <p:cNvPr id="536" name=""/>
          <p:cNvSpPr/>
          <p:nvPr/>
        </p:nvSpPr>
        <p:spPr>
          <a:xfrm>
            <a:off x="6908760" y="2311560"/>
            <a:ext cx="12574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4246e"/>
                </a:solidFill>
                <a:latin typeface="Arial"/>
              </a:rPr>
              <a:t>教学    管理</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4246e"/>
                </a:solidFill>
                <a:latin typeface="Arial"/>
              </a:rPr>
              <a:t>服务    办公</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4246e"/>
                </a:solidFill>
                <a:latin typeface="Arial"/>
              </a:rPr>
              <a:t>… …</a:t>
            </a:r>
            <a:endParaRPr b="0" lang="en-US" sz="1200" spc="-1" strike="noStrike">
              <a:solidFill>
                <a:srgbClr val="000066"/>
              </a:solidFill>
              <a:latin typeface="Times New Roman"/>
            </a:endParaRPr>
          </a:p>
        </p:txBody>
      </p:sp>
      <p:sp>
        <p:nvSpPr>
          <p:cNvPr id="537" name=""/>
          <p:cNvSpPr/>
          <p:nvPr/>
        </p:nvSpPr>
        <p:spPr>
          <a:xfrm>
            <a:off x="762120" y="1930320"/>
            <a:ext cx="1519200" cy="1333440"/>
          </a:xfrm>
          <a:custGeom>
            <a:avLst/>
            <a:gdLst/>
            <a:ahLst/>
            <a:rect l="l" t="t" r="r" b="b"/>
            <a:pathLst>
              <a:path w="1149" h="719">
                <a:moveTo>
                  <a:pt x="49" y="268"/>
                </a:moveTo>
                <a:lnTo>
                  <a:pt x="52" y="265"/>
                </a:lnTo>
                <a:lnTo>
                  <a:pt x="55" y="262"/>
                </a:lnTo>
                <a:lnTo>
                  <a:pt x="57" y="259"/>
                </a:lnTo>
                <a:lnTo>
                  <a:pt x="60" y="255"/>
                </a:lnTo>
                <a:lnTo>
                  <a:pt x="63" y="252"/>
                </a:lnTo>
                <a:lnTo>
                  <a:pt x="65" y="247"/>
                </a:lnTo>
                <a:lnTo>
                  <a:pt x="68" y="243"/>
                </a:lnTo>
                <a:lnTo>
                  <a:pt x="71" y="238"/>
                </a:lnTo>
                <a:lnTo>
                  <a:pt x="73" y="233"/>
                </a:lnTo>
                <a:lnTo>
                  <a:pt x="76" y="228"/>
                </a:lnTo>
                <a:lnTo>
                  <a:pt x="79" y="222"/>
                </a:lnTo>
                <a:lnTo>
                  <a:pt x="82" y="216"/>
                </a:lnTo>
                <a:lnTo>
                  <a:pt x="84" y="209"/>
                </a:lnTo>
                <a:lnTo>
                  <a:pt x="87" y="203"/>
                </a:lnTo>
                <a:lnTo>
                  <a:pt x="90" y="196"/>
                </a:lnTo>
                <a:lnTo>
                  <a:pt x="93" y="188"/>
                </a:lnTo>
                <a:lnTo>
                  <a:pt x="96" y="181"/>
                </a:lnTo>
                <a:lnTo>
                  <a:pt x="99" y="174"/>
                </a:lnTo>
                <a:lnTo>
                  <a:pt x="102" y="167"/>
                </a:lnTo>
                <a:lnTo>
                  <a:pt x="105" y="160"/>
                </a:lnTo>
                <a:lnTo>
                  <a:pt x="108" y="154"/>
                </a:lnTo>
                <a:lnTo>
                  <a:pt x="111" y="148"/>
                </a:lnTo>
                <a:lnTo>
                  <a:pt x="114" y="142"/>
                </a:lnTo>
                <a:lnTo>
                  <a:pt x="118" y="136"/>
                </a:lnTo>
                <a:lnTo>
                  <a:pt x="121" y="130"/>
                </a:lnTo>
                <a:lnTo>
                  <a:pt x="125" y="125"/>
                </a:lnTo>
                <a:lnTo>
                  <a:pt x="128" y="120"/>
                </a:lnTo>
                <a:lnTo>
                  <a:pt x="132" y="115"/>
                </a:lnTo>
                <a:lnTo>
                  <a:pt x="136" y="110"/>
                </a:lnTo>
                <a:lnTo>
                  <a:pt x="140" y="106"/>
                </a:lnTo>
                <a:lnTo>
                  <a:pt x="144" y="102"/>
                </a:lnTo>
                <a:lnTo>
                  <a:pt x="147" y="98"/>
                </a:lnTo>
                <a:lnTo>
                  <a:pt x="151" y="94"/>
                </a:lnTo>
                <a:lnTo>
                  <a:pt x="155" y="91"/>
                </a:lnTo>
                <a:lnTo>
                  <a:pt x="159" y="88"/>
                </a:lnTo>
                <a:lnTo>
                  <a:pt x="163" y="85"/>
                </a:lnTo>
                <a:lnTo>
                  <a:pt x="167" y="82"/>
                </a:lnTo>
                <a:lnTo>
                  <a:pt x="171" y="79"/>
                </a:lnTo>
                <a:lnTo>
                  <a:pt x="175" y="77"/>
                </a:lnTo>
                <a:lnTo>
                  <a:pt x="179" y="74"/>
                </a:lnTo>
                <a:lnTo>
                  <a:pt x="183" y="72"/>
                </a:lnTo>
                <a:lnTo>
                  <a:pt x="186" y="71"/>
                </a:lnTo>
                <a:lnTo>
                  <a:pt x="190" y="69"/>
                </a:lnTo>
                <a:lnTo>
                  <a:pt x="194" y="68"/>
                </a:lnTo>
                <a:lnTo>
                  <a:pt x="198" y="66"/>
                </a:lnTo>
                <a:lnTo>
                  <a:pt x="202" y="65"/>
                </a:lnTo>
                <a:lnTo>
                  <a:pt x="205" y="65"/>
                </a:lnTo>
                <a:lnTo>
                  <a:pt x="209" y="64"/>
                </a:lnTo>
                <a:lnTo>
                  <a:pt x="213" y="64"/>
                </a:lnTo>
                <a:lnTo>
                  <a:pt x="216" y="64"/>
                </a:lnTo>
                <a:lnTo>
                  <a:pt x="220" y="63"/>
                </a:lnTo>
                <a:lnTo>
                  <a:pt x="224" y="64"/>
                </a:lnTo>
                <a:lnTo>
                  <a:pt x="227" y="64"/>
                </a:lnTo>
                <a:lnTo>
                  <a:pt x="231" y="64"/>
                </a:lnTo>
                <a:lnTo>
                  <a:pt x="234" y="65"/>
                </a:lnTo>
                <a:lnTo>
                  <a:pt x="238" y="65"/>
                </a:lnTo>
                <a:lnTo>
                  <a:pt x="241" y="66"/>
                </a:lnTo>
                <a:lnTo>
                  <a:pt x="245" y="67"/>
                </a:lnTo>
                <a:lnTo>
                  <a:pt x="248" y="68"/>
                </a:lnTo>
                <a:lnTo>
                  <a:pt x="252" y="70"/>
                </a:lnTo>
                <a:lnTo>
                  <a:pt x="255" y="71"/>
                </a:lnTo>
                <a:lnTo>
                  <a:pt x="258" y="73"/>
                </a:lnTo>
                <a:lnTo>
                  <a:pt x="262" y="75"/>
                </a:lnTo>
                <a:lnTo>
                  <a:pt x="265" y="77"/>
                </a:lnTo>
                <a:lnTo>
                  <a:pt x="268" y="79"/>
                </a:lnTo>
                <a:lnTo>
                  <a:pt x="271" y="81"/>
                </a:lnTo>
                <a:lnTo>
                  <a:pt x="274" y="83"/>
                </a:lnTo>
                <a:lnTo>
                  <a:pt x="277" y="85"/>
                </a:lnTo>
                <a:lnTo>
                  <a:pt x="279" y="87"/>
                </a:lnTo>
                <a:lnTo>
                  <a:pt x="281" y="89"/>
                </a:lnTo>
                <a:lnTo>
                  <a:pt x="283" y="92"/>
                </a:lnTo>
                <a:lnTo>
                  <a:pt x="285" y="94"/>
                </a:lnTo>
                <a:lnTo>
                  <a:pt x="287" y="96"/>
                </a:lnTo>
                <a:lnTo>
                  <a:pt x="288" y="98"/>
                </a:lnTo>
                <a:lnTo>
                  <a:pt x="289" y="101"/>
                </a:lnTo>
                <a:lnTo>
                  <a:pt x="290" y="103"/>
                </a:lnTo>
                <a:lnTo>
                  <a:pt x="291" y="106"/>
                </a:lnTo>
                <a:lnTo>
                  <a:pt x="291" y="108"/>
                </a:lnTo>
                <a:lnTo>
                  <a:pt x="292" y="111"/>
                </a:lnTo>
                <a:lnTo>
                  <a:pt x="292" y="113"/>
                </a:lnTo>
                <a:lnTo>
                  <a:pt x="292" y="116"/>
                </a:lnTo>
                <a:lnTo>
                  <a:pt x="292" y="118"/>
                </a:lnTo>
                <a:lnTo>
                  <a:pt x="292" y="119"/>
                </a:lnTo>
                <a:lnTo>
                  <a:pt x="292" y="121"/>
                </a:lnTo>
                <a:lnTo>
                  <a:pt x="292" y="122"/>
                </a:lnTo>
                <a:lnTo>
                  <a:pt x="292" y="123"/>
                </a:lnTo>
                <a:lnTo>
                  <a:pt x="292" y="123"/>
                </a:lnTo>
                <a:lnTo>
                  <a:pt x="292" y="124"/>
                </a:lnTo>
                <a:lnTo>
                  <a:pt x="292" y="123"/>
                </a:lnTo>
                <a:lnTo>
                  <a:pt x="292" y="123"/>
                </a:lnTo>
                <a:lnTo>
                  <a:pt x="292" y="122"/>
                </a:lnTo>
                <a:lnTo>
                  <a:pt x="292" y="121"/>
                </a:lnTo>
                <a:lnTo>
                  <a:pt x="292" y="119"/>
                </a:lnTo>
                <a:lnTo>
                  <a:pt x="292" y="118"/>
                </a:lnTo>
                <a:lnTo>
                  <a:pt x="292" y="116"/>
                </a:lnTo>
                <a:lnTo>
                  <a:pt x="292" y="113"/>
                </a:lnTo>
                <a:lnTo>
                  <a:pt x="292" y="111"/>
                </a:lnTo>
                <a:lnTo>
                  <a:pt x="292" y="108"/>
                </a:lnTo>
                <a:lnTo>
                  <a:pt x="292" y="105"/>
                </a:lnTo>
                <a:lnTo>
                  <a:pt x="293" y="102"/>
                </a:lnTo>
                <a:lnTo>
                  <a:pt x="294" y="100"/>
                </a:lnTo>
                <a:lnTo>
                  <a:pt x="295" y="97"/>
                </a:lnTo>
                <a:lnTo>
                  <a:pt x="296" y="94"/>
                </a:lnTo>
                <a:lnTo>
                  <a:pt x="297" y="91"/>
                </a:lnTo>
                <a:lnTo>
                  <a:pt x="299" y="88"/>
                </a:lnTo>
                <a:lnTo>
                  <a:pt x="300" y="84"/>
                </a:lnTo>
                <a:lnTo>
                  <a:pt x="302" y="81"/>
                </a:lnTo>
                <a:lnTo>
                  <a:pt x="304" y="78"/>
                </a:lnTo>
                <a:lnTo>
                  <a:pt x="306" y="75"/>
                </a:lnTo>
                <a:lnTo>
                  <a:pt x="308" y="71"/>
                </a:lnTo>
                <a:lnTo>
                  <a:pt x="311" y="68"/>
                </a:lnTo>
                <a:lnTo>
                  <a:pt x="313" y="64"/>
                </a:lnTo>
                <a:lnTo>
                  <a:pt x="316" y="61"/>
                </a:lnTo>
                <a:lnTo>
                  <a:pt x="319" y="57"/>
                </a:lnTo>
                <a:lnTo>
                  <a:pt x="322" y="54"/>
                </a:lnTo>
                <a:lnTo>
                  <a:pt x="325" y="51"/>
                </a:lnTo>
                <a:lnTo>
                  <a:pt x="328" y="48"/>
                </a:lnTo>
                <a:lnTo>
                  <a:pt x="331" y="45"/>
                </a:lnTo>
                <a:lnTo>
                  <a:pt x="335" y="42"/>
                </a:lnTo>
                <a:lnTo>
                  <a:pt x="338" y="39"/>
                </a:lnTo>
                <a:lnTo>
                  <a:pt x="341" y="36"/>
                </a:lnTo>
                <a:lnTo>
                  <a:pt x="345" y="34"/>
                </a:lnTo>
                <a:lnTo>
                  <a:pt x="348" y="31"/>
                </a:lnTo>
                <a:lnTo>
                  <a:pt x="352" y="29"/>
                </a:lnTo>
                <a:lnTo>
                  <a:pt x="356" y="27"/>
                </a:lnTo>
                <a:lnTo>
                  <a:pt x="359" y="24"/>
                </a:lnTo>
                <a:lnTo>
                  <a:pt x="363" y="22"/>
                </a:lnTo>
                <a:lnTo>
                  <a:pt x="367" y="20"/>
                </a:lnTo>
                <a:lnTo>
                  <a:pt x="371" y="18"/>
                </a:lnTo>
                <a:lnTo>
                  <a:pt x="375" y="17"/>
                </a:lnTo>
                <a:lnTo>
                  <a:pt x="380" y="15"/>
                </a:lnTo>
                <a:lnTo>
                  <a:pt x="384" y="13"/>
                </a:lnTo>
                <a:lnTo>
                  <a:pt x="388" y="12"/>
                </a:lnTo>
                <a:lnTo>
                  <a:pt x="392" y="11"/>
                </a:lnTo>
                <a:lnTo>
                  <a:pt x="397" y="9"/>
                </a:lnTo>
                <a:lnTo>
                  <a:pt x="401" y="8"/>
                </a:lnTo>
                <a:lnTo>
                  <a:pt x="406" y="7"/>
                </a:lnTo>
                <a:lnTo>
                  <a:pt x="410" y="6"/>
                </a:lnTo>
                <a:lnTo>
                  <a:pt x="415" y="5"/>
                </a:lnTo>
                <a:lnTo>
                  <a:pt x="420" y="4"/>
                </a:lnTo>
                <a:lnTo>
                  <a:pt x="424" y="3"/>
                </a:lnTo>
                <a:lnTo>
                  <a:pt x="429" y="3"/>
                </a:lnTo>
                <a:lnTo>
                  <a:pt x="434" y="2"/>
                </a:lnTo>
                <a:lnTo>
                  <a:pt x="439" y="2"/>
                </a:lnTo>
                <a:lnTo>
                  <a:pt x="444" y="1"/>
                </a:lnTo>
                <a:lnTo>
                  <a:pt x="449" y="1"/>
                </a:lnTo>
                <a:lnTo>
                  <a:pt x="454" y="1"/>
                </a:lnTo>
                <a:lnTo>
                  <a:pt x="458" y="0"/>
                </a:lnTo>
                <a:lnTo>
                  <a:pt x="463" y="0"/>
                </a:lnTo>
                <a:lnTo>
                  <a:pt x="467" y="0"/>
                </a:lnTo>
                <a:lnTo>
                  <a:pt x="472" y="0"/>
                </a:lnTo>
                <a:lnTo>
                  <a:pt x="476" y="0"/>
                </a:lnTo>
                <a:lnTo>
                  <a:pt x="481" y="1"/>
                </a:lnTo>
                <a:lnTo>
                  <a:pt x="485" y="1"/>
                </a:lnTo>
                <a:lnTo>
                  <a:pt x="489" y="1"/>
                </a:lnTo>
                <a:lnTo>
                  <a:pt x="493" y="2"/>
                </a:lnTo>
                <a:lnTo>
                  <a:pt x="497" y="2"/>
                </a:lnTo>
                <a:lnTo>
                  <a:pt x="501" y="3"/>
                </a:lnTo>
                <a:lnTo>
                  <a:pt x="505" y="4"/>
                </a:lnTo>
                <a:lnTo>
                  <a:pt x="509" y="4"/>
                </a:lnTo>
                <a:lnTo>
                  <a:pt x="513" y="5"/>
                </a:lnTo>
                <a:lnTo>
                  <a:pt x="517" y="6"/>
                </a:lnTo>
                <a:lnTo>
                  <a:pt x="520" y="7"/>
                </a:lnTo>
                <a:lnTo>
                  <a:pt x="524" y="8"/>
                </a:lnTo>
                <a:lnTo>
                  <a:pt x="527" y="9"/>
                </a:lnTo>
                <a:lnTo>
                  <a:pt x="531" y="10"/>
                </a:lnTo>
                <a:lnTo>
                  <a:pt x="534" y="11"/>
                </a:lnTo>
                <a:lnTo>
                  <a:pt x="537" y="12"/>
                </a:lnTo>
                <a:lnTo>
                  <a:pt x="540" y="13"/>
                </a:lnTo>
                <a:lnTo>
                  <a:pt x="543" y="14"/>
                </a:lnTo>
                <a:lnTo>
                  <a:pt x="546" y="15"/>
                </a:lnTo>
                <a:lnTo>
                  <a:pt x="549" y="16"/>
                </a:lnTo>
                <a:lnTo>
                  <a:pt x="552" y="17"/>
                </a:lnTo>
                <a:lnTo>
                  <a:pt x="555" y="19"/>
                </a:lnTo>
                <a:lnTo>
                  <a:pt x="558" y="20"/>
                </a:lnTo>
                <a:lnTo>
                  <a:pt x="561" y="21"/>
                </a:lnTo>
                <a:lnTo>
                  <a:pt x="563" y="23"/>
                </a:lnTo>
                <a:lnTo>
                  <a:pt x="566" y="24"/>
                </a:lnTo>
                <a:lnTo>
                  <a:pt x="568" y="25"/>
                </a:lnTo>
                <a:lnTo>
                  <a:pt x="571" y="27"/>
                </a:lnTo>
                <a:lnTo>
                  <a:pt x="573" y="29"/>
                </a:lnTo>
                <a:lnTo>
                  <a:pt x="575" y="30"/>
                </a:lnTo>
                <a:lnTo>
                  <a:pt x="577" y="32"/>
                </a:lnTo>
                <a:lnTo>
                  <a:pt x="579" y="34"/>
                </a:lnTo>
                <a:lnTo>
                  <a:pt x="582" y="36"/>
                </a:lnTo>
                <a:lnTo>
                  <a:pt x="584" y="37"/>
                </a:lnTo>
                <a:lnTo>
                  <a:pt x="585" y="39"/>
                </a:lnTo>
                <a:lnTo>
                  <a:pt x="587" y="41"/>
                </a:lnTo>
                <a:lnTo>
                  <a:pt x="589" y="43"/>
                </a:lnTo>
                <a:lnTo>
                  <a:pt x="591" y="45"/>
                </a:lnTo>
                <a:lnTo>
                  <a:pt x="592" y="48"/>
                </a:lnTo>
                <a:lnTo>
                  <a:pt x="594" y="50"/>
                </a:lnTo>
                <a:lnTo>
                  <a:pt x="595" y="52"/>
                </a:lnTo>
                <a:lnTo>
                  <a:pt x="597" y="54"/>
                </a:lnTo>
                <a:lnTo>
                  <a:pt x="597" y="56"/>
                </a:lnTo>
                <a:lnTo>
                  <a:pt x="598" y="58"/>
                </a:lnTo>
                <a:lnTo>
                  <a:pt x="598" y="59"/>
                </a:lnTo>
                <a:lnTo>
                  <a:pt x="598" y="61"/>
                </a:lnTo>
                <a:lnTo>
                  <a:pt x="597" y="63"/>
                </a:lnTo>
                <a:lnTo>
                  <a:pt x="596" y="64"/>
                </a:lnTo>
                <a:lnTo>
                  <a:pt x="595" y="65"/>
                </a:lnTo>
                <a:lnTo>
                  <a:pt x="594" y="66"/>
                </a:lnTo>
                <a:lnTo>
                  <a:pt x="592" y="67"/>
                </a:lnTo>
                <a:lnTo>
                  <a:pt x="590" y="68"/>
                </a:lnTo>
                <a:lnTo>
                  <a:pt x="588" y="69"/>
                </a:lnTo>
                <a:lnTo>
                  <a:pt x="585" y="69"/>
                </a:lnTo>
                <a:lnTo>
                  <a:pt x="582" y="70"/>
                </a:lnTo>
                <a:lnTo>
                  <a:pt x="578" y="70"/>
                </a:lnTo>
                <a:lnTo>
                  <a:pt x="575" y="71"/>
                </a:lnTo>
                <a:lnTo>
                  <a:pt x="572" y="71"/>
                </a:lnTo>
                <a:lnTo>
                  <a:pt x="568" y="72"/>
                </a:lnTo>
                <a:lnTo>
                  <a:pt x="565" y="72"/>
                </a:lnTo>
                <a:lnTo>
                  <a:pt x="562" y="73"/>
                </a:lnTo>
                <a:lnTo>
                  <a:pt x="559" y="74"/>
                </a:lnTo>
                <a:lnTo>
                  <a:pt x="556" y="75"/>
                </a:lnTo>
                <a:lnTo>
                  <a:pt x="553" y="76"/>
                </a:lnTo>
                <a:lnTo>
                  <a:pt x="550" y="77"/>
                </a:lnTo>
                <a:lnTo>
                  <a:pt x="548" y="78"/>
                </a:lnTo>
                <a:lnTo>
                  <a:pt x="545" y="80"/>
                </a:lnTo>
                <a:lnTo>
                  <a:pt x="543" y="81"/>
                </a:lnTo>
                <a:lnTo>
                  <a:pt x="540" y="82"/>
                </a:lnTo>
                <a:lnTo>
                  <a:pt x="538" y="84"/>
                </a:lnTo>
                <a:lnTo>
                  <a:pt x="535" y="86"/>
                </a:lnTo>
                <a:lnTo>
                  <a:pt x="533" y="87"/>
                </a:lnTo>
                <a:lnTo>
                  <a:pt x="531" y="89"/>
                </a:lnTo>
                <a:lnTo>
                  <a:pt x="529" y="91"/>
                </a:lnTo>
                <a:lnTo>
                  <a:pt x="527" y="93"/>
                </a:lnTo>
                <a:lnTo>
                  <a:pt x="525" y="94"/>
                </a:lnTo>
                <a:lnTo>
                  <a:pt x="524" y="96"/>
                </a:lnTo>
                <a:lnTo>
                  <a:pt x="522" y="98"/>
                </a:lnTo>
                <a:lnTo>
                  <a:pt x="520" y="100"/>
                </a:lnTo>
                <a:lnTo>
                  <a:pt x="519" y="101"/>
                </a:lnTo>
                <a:lnTo>
                  <a:pt x="517" y="103"/>
                </a:lnTo>
                <a:lnTo>
                  <a:pt x="516" y="105"/>
                </a:lnTo>
                <a:lnTo>
                  <a:pt x="514" y="107"/>
                </a:lnTo>
                <a:lnTo>
                  <a:pt x="513" y="108"/>
                </a:lnTo>
                <a:lnTo>
                  <a:pt x="512" y="110"/>
                </a:lnTo>
                <a:lnTo>
                  <a:pt x="511" y="112"/>
                </a:lnTo>
                <a:lnTo>
                  <a:pt x="510" y="113"/>
                </a:lnTo>
                <a:lnTo>
                  <a:pt x="509" y="115"/>
                </a:lnTo>
                <a:lnTo>
                  <a:pt x="508" y="117"/>
                </a:lnTo>
                <a:lnTo>
                  <a:pt x="508" y="118"/>
                </a:lnTo>
                <a:lnTo>
                  <a:pt x="507" y="119"/>
                </a:lnTo>
                <a:lnTo>
                  <a:pt x="506" y="120"/>
                </a:lnTo>
                <a:lnTo>
                  <a:pt x="506" y="121"/>
                </a:lnTo>
                <a:lnTo>
                  <a:pt x="506" y="121"/>
                </a:lnTo>
                <a:lnTo>
                  <a:pt x="506" y="122"/>
                </a:lnTo>
                <a:lnTo>
                  <a:pt x="506" y="122"/>
                </a:lnTo>
                <a:lnTo>
                  <a:pt x="506" y="122"/>
                </a:lnTo>
                <a:lnTo>
                  <a:pt x="506" y="121"/>
                </a:lnTo>
                <a:lnTo>
                  <a:pt x="506" y="121"/>
                </a:lnTo>
                <a:lnTo>
                  <a:pt x="506" y="120"/>
                </a:lnTo>
                <a:lnTo>
                  <a:pt x="507" y="119"/>
                </a:lnTo>
                <a:lnTo>
                  <a:pt x="508" y="118"/>
                </a:lnTo>
                <a:lnTo>
                  <a:pt x="508" y="117"/>
                </a:lnTo>
                <a:lnTo>
                  <a:pt x="509" y="115"/>
                </a:lnTo>
                <a:lnTo>
                  <a:pt x="510" y="113"/>
                </a:lnTo>
                <a:lnTo>
                  <a:pt x="511" y="112"/>
                </a:lnTo>
                <a:lnTo>
                  <a:pt x="512" y="110"/>
                </a:lnTo>
                <a:lnTo>
                  <a:pt x="513" y="108"/>
                </a:lnTo>
                <a:lnTo>
                  <a:pt x="514" y="107"/>
                </a:lnTo>
                <a:lnTo>
                  <a:pt x="516" y="105"/>
                </a:lnTo>
                <a:lnTo>
                  <a:pt x="517" y="103"/>
                </a:lnTo>
                <a:lnTo>
                  <a:pt x="519" y="101"/>
                </a:lnTo>
                <a:lnTo>
                  <a:pt x="520" y="100"/>
                </a:lnTo>
                <a:lnTo>
                  <a:pt x="522" y="98"/>
                </a:lnTo>
                <a:lnTo>
                  <a:pt x="524" y="96"/>
                </a:lnTo>
                <a:lnTo>
                  <a:pt x="525" y="94"/>
                </a:lnTo>
                <a:lnTo>
                  <a:pt x="527" y="93"/>
                </a:lnTo>
                <a:lnTo>
                  <a:pt x="529" y="91"/>
                </a:lnTo>
                <a:lnTo>
                  <a:pt x="531" y="89"/>
                </a:lnTo>
                <a:lnTo>
                  <a:pt x="533" y="87"/>
                </a:lnTo>
                <a:lnTo>
                  <a:pt x="535" y="86"/>
                </a:lnTo>
                <a:lnTo>
                  <a:pt x="538" y="84"/>
                </a:lnTo>
                <a:lnTo>
                  <a:pt x="540" y="82"/>
                </a:lnTo>
                <a:lnTo>
                  <a:pt x="543" y="81"/>
                </a:lnTo>
                <a:lnTo>
                  <a:pt x="545" y="80"/>
                </a:lnTo>
                <a:lnTo>
                  <a:pt x="548" y="78"/>
                </a:lnTo>
                <a:lnTo>
                  <a:pt x="550" y="77"/>
                </a:lnTo>
                <a:lnTo>
                  <a:pt x="553" y="76"/>
                </a:lnTo>
                <a:lnTo>
                  <a:pt x="556" y="75"/>
                </a:lnTo>
                <a:lnTo>
                  <a:pt x="559" y="74"/>
                </a:lnTo>
                <a:lnTo>
                  <a:pt x="562" y="73"/>
                </a:lnTo>
                <a:lnTo>
                  <a:pt x="565" y="72"/>
                </a:lnTo>
                <a:lnTo>
                  <a:pt x="568" y="72"/>
                </a:lnTo>
                <a:lnTo>
                  <a:pt x="572" y="71"/>
                </a:lnTo>
                <a:lnTo>
                  <a:pt x="575" y="71"/>
                </a:lnTo>
                <a:lnTo>
                  <a:pt x="578" y="70"/>
                </a:lnTo>
                <a:lnTo>
                  <a:pt x="582" y="70"/>
                </a:lnTo>
                <a:lnTo>
                  <a:pt x="585" y="70"/>
                </a:lnTo>
                <a:lnTo>
                  <a:pt x="589" y="69"/>
                </a:lnTo>
                <a:lnTo>
                  <a:pt x="592" y="69"/>
                </a:lnTo>
                <a:lnTo>
                  <a:pt x="596" y="69"/>
                </a:lnTo>
                <a:lnTo>
                  <a:pt x="599" y="69"/>
                </a:lnTo>
                <a:lnTo>
                  <a:pt x="603" y="69"/>
                </a:lnTo>
                <a:lnTo>
                  <a:pt x="606" y="69"/>
                </a:lnTo>
                <a:lnTo>
                  <a:pt x="610" y="68"/>
                </a:lnTo>
                <a:lnTo>
                  <a:pt x="613" y="68"/>
                </a:lnTo>
                <a:lnTo>
                  <a:pt x="617" y="68"/>
                </a:lnTo>
                <a:lnTo>
                  <a:pt x="620" y="68"/>
                </a:lnTo>
                <a:lnTo>
                  <a:pt x="624" y="68"/>
                </a:lnTo>
                <a:lnTo>
                  <a:pt x="627" y="68"/>
                </a:lnTo>
                <a:lnTo>
                  <a:pt x="630" y="68"/>
                </a:lnTo>
                <a:lnTo>
                  <a:pt x="634" y="69"/>
                </a:lnTo>
                <a:lnTo>
                  <a:pt x="637" y="69"/>
                </a:lnTo>
                <a:lnTo>
                  <a:pt x="641" y="69"/>
                </a:lnTo>
                <a:lnTo>
                  <a:pt x="644" y="69"/>
                </a:lnTo>
                <a:lnTo>
                  <a:pt x="647" y="70"/>
                </a:lnTo>
                <a:lnTo>
                  <a:pt x="650" y="70"/>
                </a:lnTo>
                <a:lnTo>
                  <a:pt x="653" y="70"/>
                </a:lnTo>
                <a:lnTo>
                  <a:pt x="656" y="71"/>
                </a:lnTo>
                <a:lnTo>
                  <a:pt x="660" y="71"/>
                </a:lnTo>
                <a:lnTo>
                  <a:pt x="663" y="72"/>
                </a:lnTo>
                <a:lnTo>
                  <a:pt x="665" y="73"/>
                </a:lnTo>
                <a:lnTo>
                  <a:pt x="668" y="74"/>
                </a:lnTo>
                <a:lnTo>
                  <a:pt x="671" y="74"/>
                </a:lnTo>
                <a:lnTo>
                  <a:pt x="674" y="75"/>
                </a:lnTo>
                <a:lnTo>
                  <a:pt x="677" y="76"/>
                </a:lnTo>
                <a:lnTo>
                  <a:pt x="679" y="77"/>
                </a:lnTo>
                <a:lnTo>
                  <a:pt x="682" y="78"/>
                </a:lnTo>
                <a:lnTo>
                  <a:pt x="685" y="80"/>
                </a:lnTo>
                <a:lnTo>
                  <a:pt x="687" y="81"/>
                </a:lnTo>
                <a:lnTo>
                  <a:pt x="689" y="82"/>
                </a:lnTo>
                <a:lnTo>
                  <a:pt x="690" y="83"/>
                </a:lnTo>
                <a:lnTo>
                  <a:pt x="692" y="85"/>
                </a:lnTo>
                <a:lnTo>
                  <a:pt x="693" y="86"/>
                </a:lnTo>
                <a:lnTo>
                  <a:pt x="693" y="88"/>
                </a:lnTo>
                <a:lnTo>
                  <a:pt x="694" y="90"/>
                </a:lnTo>
                <a:lnTo>
                  <a:pt x="694" y="92"/>
                </a:lnTo>
                <a:lnTo>
                  <a:pt x="694" y="93"/>
                </a:lnTo>
                <a:lnTo>
                  <a:pt x="693" y="95"/>
                </a:lnTo>
                <a:lnTo>
                  <a:pt x="693" y="97"/>
                </a:lnTo>
                <a:lnTo>
                  <a:pt x="692" y="99"/>
                </a:lnTo>
                <a:lnTo>
                  <a:pt x="690" y="102"/>
                </a:lnTo>
                <a:lnTo>
                  <a:pt x="689" y="104"/>
                </a:lnTo>
                <a:lnTo>
                  <a:pt x="687" y="106"/>
                </a:lnTo>
                <a:lnTo>
                  <a:pt x="685" y="108"/>
                </a:lnTo>
                <a:lnTo>
                  <a:pt x="683" y="110"/>
                </a:lnTo>
                <a:lnTo>
                  <a:pt x="682" y="112"/>
                </a:lnTo>
                <a:lnTo>
                  <a:pt x="681" y="113"/>
                </a:lnTo>
                <a:lnTo>
                  <a:pt x="680" y="114"/>
                </a:lnTo>
                <a:lnTo>
                  <a:pt x="679" y="115"/>
                </a:lnTo>
                <a:lnTo>
                  <a:pt x="679" y="115"/>
                </a:lnTo>
                <a:lnTo>
                  <a:pt x="679" y="115"/>
                </a:lnTo>
                <a:lnTo>
                  <a:pt x="679" y="115"/>
                </a:lnTo>
                <a:lnTo>
                  <a:pt x="680" y="114"/>
                </a:lnTo>
                <a:lnTo>
                  <a:pt x="681" y="113"/>
                </a:lnTo>
                <a:lnTo>
                  <a:pt x="682" y="112"/>
                </a:lnTo>
                <a:lnTo>
                  <a:pt x="683" y="111"/>
                </a:lnTo>
                <a:lnTo>
                  <a:pt x="684" y="109"/>
                </a:lnTo>
                <a:lnTo>
                  <a:pt x="686" y="107"/>
                </a:lnTo>
                <a:lnTo>
                  <a:pt x="688" y="104"/>
                </a:lnTo>
                <a:lnTo>
                  <a:pt x="691" y="102"/>
                </a:lnTo>
                <a:lnTo>
                  <a:pt x="693" y="99"/>
                </a:lnTo>
                <a:lnTo>
                  <a:pt x="696" y="97"/>
                </a:lnTo>
                <a:lnTo>
                  <a:pt x="698" y="95"/>
                </a:lnTo>
                <a:lnTo>
                  <a:pt x="701" y="92"/>
                </a:lnTo>
                <a:lnTo>
                  <a:pt x="704" y="90"/>
                </a:lnTo>
                <a:lnTo>
                  <a:pt x="706" y="88"/>
                </a:lnTo>
                <a:lnTo>
                  <a:pt x="709" y="86"/>
                </a:lnTo>
                <a:lnTo>
                  <a:pt x="712" y="84"/>
                </a:lnTo>
                <a:lnTo>
                  <a:pt x="716" y="82"/>
                </a:lnTo>
                <a:lnTo>
                  <a:pt x="719" y="81"/>
                </a:lnTo>
                <a:lnTo>
                  <a:pt x="722" y="79"/>
                </a:lnTo>
                <a:lnTo>
                  <a:pt x="726" y="77"/>
                </a:lnTo>
                <a:lnTo>
                  <a:pt x="729" y="76"/>
                </a:lnTo>
                <a:lnTo>
                  <a:pt x="733" y="74"/>
                </a:lnTo>
                <a:lnTo>
                  <a:pt x="737" y="73"/>
                </a:lnTo>
                <a:lnTo>
                  <a:pt x="741" y="72"/>
                </a:lnTo>
                <a:lnTo>
                  <a:pt x="744" y="71"/>
                </a:lnTo>
                <a:lnTo>
                  <a:pt x="748" y="70"/>
                </a:lnTo>
                <a:lnTo>
                  <a:pt x="752" y="69"/>
                </a:lnTo>
                <a:lnTo>
                  <a:pt x="756" y="68"/>
                </a:lnTo>
                <a:lnTo>
                  <a:pt x="760" y="68"/>
                </a:lnTo>
                <a:lnTo>
                  <a:pt x="763" y="67"/>
                </a:lnTo>
                <a:lnTo>
                  <a:pt x="767" y="67"/>
                </a:lnTo>
                <a:lnTo>
                  <a:pt x="771" y="67"/>
                </a:lnTo>
                <a:lnTo>
                  <a:pt x="775" y="67"/>
                </a:lnTo>
                <a:lnTo>
                  <a:pt x="779" y="67"/>
                </a:lnTo>
                <a:lnTo>
                  <a:pt x="783" y="68"/>
                </a:lnTo>
                <a:lnTo>
                  <a:pt x="787" y="68"/>
                </a:lnTo>
                <a:lnTo>
                  <a:pt x="790" y="69"/>
                </a:lnTo>
                <a:lnTo>
                  <a:pt x="794" y="69"/>
                </a:lnTo>
                <a:lnTo>
                  <a:pt x="798" y="70"/>
                </a:lnTo>
                <a:lnTo>
                  <a:pt x="802" y="71"/>
                </a:lnTo>
                <a:lnTo>
                  <a:pt x="806" y="73"/>
                </a:lnTo>
                <a:lnTo>
                  <a:pt x="809" y="74"/>
                </a:lnTo>
                <a:lnTo>
                  <a:pt x="813" y="75"/>
                </a:lnTo>
                <a:lnTo>
                  <a:pt x="816" y="76"/>
                </a:lnTo>
                <a:lnTo>
                  <a:pt x="819" y="78"/>
                </a:lnTo>
                <a:lnTo>
                  <a:pt x="822" y="79"/>
                </a:lnTo>
                <a:lnTo>
                  <a:pt x="825" y="81"/>
                </a:lnTo>
                <a:lnTo>
                  <a:pt x="828" y="83"/>
                </a:lnTo>
                <a:lnTo>
                  <a:pt x="831" y="84"/>
                </a:lnTo>
                <a:lnTo>
                  <a:pt x="833" y="86"/>
                </a:lnTo>
                <a:lnTo>
                  <a:pt x="836" y="88"/>
                </a:lnTo>
                <a:lnTo>
                  <a:pt x="838" y="90"/>
                </a:lnTo>
                <a:lnTo>
                  <a:pt x="840" y="92"/>
                </a:lnTo>
                <a:lnTo>
                  <a:pt x="842" y="94"/>
                </a:lnTo>
                <a:lnTo>
                  <a:pt x="844" y="96"/>
                </a:lnTo>
                <a:lnTo>
                  <a:pt x="846" y="98"/>
                </a:lnTo>
                <a:lnTo>
                  <a:pt x="848" y="101"/>
                </a:lnTo>
                <a:lnTo>
                  <a:pt x="850" y="103"/>
                </a:lnTo>
                <a:lnTo>
                  <a:pt x="851" y="105"/>
                </a:lnTo>
                <a:lnTo>
                  <a:pt x="853" y="107"/>
                </a:lnTo>
                <a:lnTo>
                  <a:pt x="855" y="109"/>
                </a:lnTo>
                <a:lnTo>
                  <a:pt x="856" y="112"/>
                </a:lnTo>
                <a:lnTo>
                  <a:pt x="858" y="114"/>
                </a:lnTo>
                <a:lnTo>
                  <a:pt x="859" y="116"/>
                </a:lnTo>
                <a:lnTo>
                  <a:pt x="861" y="118"/>
                </a:lnTo>
                <a:lnTo>
                  <a:pt x="862" y="120"/>
                </a:lnTo>
                <a:lnTo>
                  <a:pt x="864" y="122"/>
                </a:lnTo>
                <a:lnTo>
                  <a:pt x="865" y="124"/>
                </a:lnTo>
                <a:lnTo>
                  <a:pt x="867" y="126"/>
                </a:lnTo>
                <a:lnTo>
                  <a:pt x="868" y="128"/>
                </a:lnTo>
                <a:lnTo>
                  <a:pt x="869" y="130"/>
                </a:lnTo>
                <a:lnTo>
                  <a:pt x="870" y="132"/>
                </a:lnTo>
                <a:lnTo>
                  <a:pt x="872" y="134"/>
                </a:lnTo>
                <a:lnTo>
                  <a:pt x="873" y="136"/>
                </a:lnTo>
                <a:lnTo>
                  <a:pt x="874" y="139"/>
                </a:lnTo>
                <a:lnTo>
                  <a:pt x="876" y="141"/>
                </a:lnTo>
                <a:lnTo>
                  <a:pt x="877" y="143"/>
                </a:lnTo>
                <a:lnTo>
                  <a:pt x="878" y="145"/>
                </a:lnTo>
                <a:lnTo>
                  <a:pt x="879" y="147"/>
                </a:lnTo>
                <a:lnTo>
                  <a:pt x="881" y="150"/>
                </a:lnTo>
                <a:lnTo>
                  <a:pt x="882" y="152"/>
                </a:lnTo>
                <a:lnTo>
                  <a:pt x="883" y="154"/>
                </a:lnTo>
                <a:lnTo>
                  <a:pt x="884" y="157"/>
                </a:lnTo>
                <a:lnTo>
                  <a:pt x="886" y="159"/>
                </a:lnTo>
                <a:lnTo>
                  <a:pt x="887" y="162"/>
                </a:lnTo>
                <a:lnTo>
                  <a:pt x="888" y="164"/>
                </a:lnTo>
                <a:lnTo>
                  <a:pt x="889" y="167"/>
                </a:lnTo>
                <a:lnTo>
                  <a:pt x="891" y="169"/>
                </a:lnTo>
                <a:lnTo>
                  <a:pt x="892" y="171"/>
                </a:lnTo>
                <a:lnTo>
                  <a:pt x="893" y="173"/>
                </a:lnTo>
                <a:lnTo>
                  <a:pt x="893" y="175"/>
                </a:lnTo>
                <a:lnTo>
                  <a:pt x="894" y="176"/>
                </a:lnTo>
                <a:lnTo>
                  <a:pt x="894" y="176"/>
                </a:lnTo>
                <a:lnTo>
                  <a:pt x="894" y="177"/>
                </a:lnTo>
                <a:lnTo>
                  <a:pt x="895" y="177"/>
                </a:lnTo>
                <a:lnTo>
                  <a:pt x="894" y="177"/>
                </a:lnTo>
                <a:lnTo>
                  <a:pt x="894" y="176"/>
                </a:lnTo>
                <a:lnTo>
                  <a:pt x="894" y="176"/>
                </a:lnTo>
                <a:lnTo>
                  <a:pt x="893" y="175"/>
                </a:lnTo>
                <a:lnTo>
                  <a:pt x="893" y="173"/>
                </a:lnTo>
                <a:lnTo>
                  <a:pt x="892" y="171"/>
                </a:lnTo>
                <a:lnTo>
                  <a:pt x="891" y="169"/>
                </a:lnTo>
                <a:lnTo>
                  <a:pt x="889" y="167"/>
                </a:lnTo>
                <a:lnTo>
                  <a:pt x="888" y="164"/>
                </a:lnTo>
                <a:lnTo>
                  <a:pt x="887" y="162"/>
                </a:lnTo>
                <a:lnTo>
                  <a:pt x="887" y="159"/>
                </a:lnTo>
                <a:lnTo>
                  <a:pt x="886" y="157"/>
                </a:lnTo>
                <a:lnTo>
                  <a:pt x="886" y="154"/>
                </a:lnTo>
                <a:lnTo>
                  <a:pt x="886" y="152"/>
                </a:lnTo>
                <a:lnTo>
                  <a:pt x="886" y="149"/>
                </a:lnTo>
                <a:lnTo>
                  <a:pt x="886" y="147"/>
                </a:lnTo>
                <a:lnTo>
                  <a:pt x="886" y="144"/>
                </a:lnTo>
                <a:lnTo>
                  <a:pt x="887" y="142"/>
                </a:lnTo>
                <a:lnTo>
                  <a:pt x="888" y="139"/>
                </a:lnTo>
                <a:lnTo>
                  <a:pt x="889" y="137"/>
                </a:lnTo>
                <a:lnTo>
                  <a:pt x="890" y="135"/>
                </a:lnTo>
                <a:lnTo>
                  <a:pt x="892" y="132"/>
                </a:lnTo>
                <a:lnTo>
                  <a:pt x="894" y="130"/>
                </a:lnTo>
                <a:lnTo>
                  <a:pt x="896" y="128"/>
                </a:lnTo>
                <a:lnTo>
                  <a:pt x="898" y="125"/>
                </a:lnTo>
                <a:lnTo>
                  <a:pt x="900" y="123"/>
                </a:lnTo>
                <a:lnTo>
                  <a:pt x="902" y="121"/>
                </a:lnTo>
                <a:lnTo>
                  <a:pt x="905" y="119"/>
                </a:lnTo>
                <a:lnTo>
                  <a:pt x="907" y="117"/>
                </a:lnTo>
                <a:lnTo>
                  <a:pt x="910" y="115"/>
                </a:lnTo>
                <a:lnTo>
                  <a:pt x="912" y="113"/>
                </a:lnTo>
                <a:lnTo>
                  <a:pt x="915" y="112"/>
                </a:lnTo>
                <a:lnTo>
                  <a:pt x="918" y="110"/>
                </a:lnTo>
                <a:lnTo>
                  <a:pt x="921" y="109"/>
                </a:lnTo>
                <a:lnTo>
                  <a:pt x="924" y="107"/>
                </a:lnTo>
                <a:lnTo>
                  <a:pt x="927" y="106"/>
                </a:lnTo>
                <a:lnTo>
                  <a:pt x="931" y="105"/>
                </a:lnTo>
                <a:lnTo>
                  <a:pt x="934" y="104"/>
                </a:lnTo>
                <a:lnTo>
                  <a:pt x="937" y="103"/>
                </a:lnTo>
                <a:lnTo>
                  <a:pt x="941" y="102"/>
                </a:lnTo>
                <a:lnTo>
                  <a:pt x="945" y="101"/>
                </a:lnTo>
                <a:lnTo>
                  <a:pt x="948" y="100"/>
                </a:lnTo>
                <a:lnTo>
                  <a:pt x="952" y="99"/>
                </a:lnTo>
                <a:lnTo>
                  <a:pt x="955" y="99"/>
                </a:lnTo>
                <a:lnTo>
                  <a:pt x="959" y="99"/>
                </a:lnTo>
                <a:lnTo>
                  <a:pt x="963" y="98"/>
                </a:lnTo>
                <a:lnTo>
                  <a:pt x="967" y="98"/>
                </a:lnTo>
                <a:lnTo>
                  <a:pt x="970" y="98"/>
                </a:lnTo>
                <a:lnTo>
                  <a:pt x="974" y="98"/>
                </a:lnTo>
                <a:lnTo>
                  <a:pt x="978" y="98"/>
                </a:lnTo>
                <a:lnTo>
                  <a:pt x="982" y="99"/>
                </a:lnTo>
                <a:lnTo>
                  <a:pt x="985" y="99"/>
                </a:lnTo>
                <a:lnTo>
                  <a:pt x="989" y="99"/>
                </a:lnTo>
                <a:lnTo>
                  <a:pt x="993" y="100"/>
                </a:lnTo>
                <a:lnTo>
                  <a:pt x="997" y="101"/>
                </a:lnTo>
                <a:lnTo>
                  <a:pt x="1001" y="102"/>
                </a:lnTo>
                <a:lnTo>
                  <a:pt x="1005" y="103"/>
                </a:lnTo>
                <a:lnTo>
                  <a:pt x="1009" y="103"/>
                </a:lnTo>
                <a:lnTo>
                  <a:pt x="1012" y="104"/>
                </a:lnTo>
                <a:lnTo>
                  <a:pt x="1016" y="105"/>
                </a:lnTo>
                <a:lnTo>
                  <a:pt x="1020" y="107"/>
                </a:lnTo>
                <a:lnTo>
                  <a:pt x="1023" y="108"/>
                </a:lnTo>
                <a:lnTo>
                  <a:pt x="1027" y="109"/>
                </a:lnTo>
                <a:lnTo>
                  <a:pt x="1030" y="110"/>
                </a:lnTo>
                <a:lnTo>
                  <a:pt x="1034" y="111"/>
                </a:lnTo>
                <a:lnTo>
                  <a:pt x="1037" y="112"/>
                </a:lnTo>
                <a:lnTo>
                  <a:pt x="1040" y="114"/>
                </a:lnTo>
                <a:lnTo>
                  <a:pt x="1044" y="115"/>
                </a:lnTo>
                <a:lnTo>
                  <a:pt x="1047" y="116"/>
                </a:lnTo>
                <a:lnTo>
                  <a:pt x="1050" y="118"/>
                </a:lnTo>
                <a:lnTo>
                  <a:pt x="1053" y="119"/>
                </a:lnTo>
                <a:lnTo>
                  <a:pt x="1056" y="120"/>
                </a:lnTo>
                <a:lnTo>
                  <a:pt x="1059" y="122"/>
                </a:lnTo>
                <a:lnTo>
                  <a:pt x="1062" y="123"/>
                </a:lnTo>
                <a:lnTo>
                  <a:pt x="1065" y="125"/>
                </a:lnTo>
                <a:lnTo>
                  <a:pt x="1068" y="127"/>
                </a:lnTo>
                <a:lnTo>
                  <a:pt x="1070" y="128"/>
                </a:lnTo>
                <a:lnTo>
                  <a:pt x="1073" y="130"/>
                </a:lnTo>
                <a:lnTo>
                  <a:pt x="1075" y="132"/>
                </a:lnTo>
                <a:lnTo>
                  <a:pt x="1078" y="133"/>
                </a:lnTo>
                <a:lnTo>
                  <a:pt x="1080" y="135"/>
                </a:lnTo>
                <a:lnTo>
                  <a:pt x="1082" y="137"/>
                </a:lnTo>
                <a:lnTo>
                  <a:pt x="1084" y="139"/>
                </a:lnTo>
                <a:lnTo>
                  <a:pt x="1086" y="141"/>
                </a:lnTo>
                <a:lnTo>
                  <a:pt x="1088" y="143"/>
                </a:lnTo>
                <a:lnTo>
                  <a:pt x="1090" y="145"/>
                </a:lnTo>
                <a:lnTo>
                  <a:pt x="1092" y="147"/>
                </a:lnTo>
                <a:lnTo>
                  <a:pt x="1094" y="149"/>
                </a:lnTo>
                <a:lnTo>
                  <a:pt x="1095" y="151"/>
                </a:lnTo>
                <a:lnTo>
                  <a:pt x="1097" y="153"/>
                </a:lnTo>
                <a:lnTo>
                  <a:pt x="1099" y="156"/>
                </a:lnTo>
                <a:lnTo>
                  <a:pt x="1101" y="158"/>
                </a:lnTo>
                <a:lnTo>
                  <a:pt x="1103" y="161"/>
                </a:lnTo>
                <a:lnTo>
                  <a:pt x="1105" y="164"/>
                </a:lnTo>
                <a:lnTo>
                  <a:pt x="1107" y="167"/>
                </a:lnTo>
                <a:lnTo>
                  <a:pt x="1109" y="170"/>
                </a:lnTo>
                <a:lnTo>
                  <a:pt x="1111" y="173"/>
                </a:lnTo>
                <a:lnTo>
                  <a:pt x="1113" y="176"/>
                </a:lnTo>
                <a:lnTo>
                  <a:pt x="1115" y="179"/>
                </a:lnTo>
                <a:lnTo>
                  <a:pt x="1118" y="182"/>
                </a:lnTo>
                <a:lnTo>
                  <a:pt x="1120" y="186"/>
                </a:lnTo>
                <a:lnTo>
                  <a:pt x="1122" y="190"/>
                </a:lnTo>
                <a:lnTo>
                  <a:pt x="1125" y="193"/>
                </a:lnTo>
                <a:lnTo>
                  <a:pt x="1127" y="197"/>
                </a:lnTo>
                <a:lnTo>
                  <a:pt x="1130" y="201"/>
                </a:lnTo>
                <a:lnTo>
                  <a:pt x="1132" y="205"/>
                </a:lnTo>
                <a:lnTo>
                  <a:pt x="1134" y="209"/>
                </a:lnTo>
                <a:lnTo>
                  <a:pt x="1136" y="213"/>
                </a:lnTo>
                <a:lnTo>
                  <a:pt x="1138" y="217"/>
                </a:lnTo>
                <a:lnTo>
                  <a:pt x="1140" y="221"/>
                </a:lnTo>
                <a:lnTo>
                  <a:pt x="1141" y="225"/>
                </a:lnTo>
                <a:lnTo>
                  <a:pt x="1143" y="229"/>
                </a:lnTo>
                <a:lnTo>
                  <a:pt x="1144" y="234"/>
                </a:lnTo>
                <a:lnTo>
                  <a:pt x="1145" y="238"/>
                </a:lnTo>
                <a:lnTo>
                  <a:pt x="1146" y="242"/>
                </a:lnTo>
                <a:lnTo>
                  <a:pt x="1147" y="246"/>
                </a:lnTo>
                <a:lnTo>
                  <a:pt x="1147" y="250"/>
                </a:lnTo>
                <a:lnTo>
                  <a:pt x="1148" y="255"/>
                </a:lnTo>
                <a:lnTo>
                  <a:pt x="1148" y="259"/>
                </a:lnTo>
                <a:lnTo>
                  <a:pt x="1148" y="263"/>
                </a:lnTo>
                <a:lnTo>
                  <a:pt x="1148" y="268"/>
                </a:lnTo>
                <a:lnTo>
                  <a:pt x="1148" y="272"/>
                </a:lnTo>
                <a:lnTo>
                  <a:pt x="1148" y="276"/>
                </a:lnTo>
                <a:lnTo>
                  <a:pt x="1148" y="280"/>
                </a:lnTo>
                <a:lnTo>
                  <a:pt x="1148" y="284"/>
                </a:lnTo>
                <a:lnTo>
                  <a:pt x="1148" y="287"/>
                </a:lnTo>
                <a:lnTo>
                  <a:pt x="1147" y="291"/>
                </a:lnTo>
                <a:lnTo>
                  <a:pt x="1147" y="294"/>
                </a:lnTo>
                <a:lnTo>
                  <a:pt x="1146" y="297"/>
                </a:lnTo>
                <a:lnTo>
                  <a:pt x="1146" y="301"/>
                </a:lnTo>
                <a:lnTo>
                  <a:pt x="1145" y="304"/>
                </a:lnTo>
                <a:lnTo>
                  <a:pt x="1144" y="307"/>
                </a:lnTo>
                <a:lnTo>
                  <a:pt x="1143" y="309"/>
                </a:lnTo>
                <a:lnTo>
                  <a:pt x="1142" y="312"/>
                </a:lnTo>
                <a:lnTo>
                  <a:pt x="1141" y="315"/>
                </a:lnTo>
                <a:lnTo>
                  <a:pt x="1140" y="317"/>
                </a:lnTo>
                <a:lnTo>
                  <a:pt x="1139" y="319"/>
                </a:lnTo>
                <a:lnTo>
                  <a:pt x="1138" y="321"/>
                </a:lnTo>
                <a:lnTo>
                  <a:pt x="1137" y="324"/>
                </a:lnTo>
                <a:lnTo>
                  <a:pt x="1136" y="326"/>
                </a:lnTo>
                <a:lnTo>
                  <a:pt x="1135" y="328"/>
                </a:lnTo>
                <a:lnTo>
                  <a:pt x="1134" y="330"/>
                </a:lnTo>
                <a:lnTo>
                  <a:pt x="1132" y="332"/>
                </a:lnTo>
                <a:lnTo>
                  <a:pt x="1131" y="334"/>
                </a:lnTo>
                <a:lnTo>
                  <a:pt x="1130" y="335"/>
                </a:lnTo>
                <a:lnTo>
                  <a:pt x="1129" y="337"/>
                </a:lnTo>
                <a:lnTo>
                  <a:pt x="1127" y="339"/>
                </a:lnTo>
                <a:lnTo>
                  <a:pt x="1126" y="341"/>
                </a:lnTo>
                <a:lnTo>
                  <a:pt x="1124" y="342"/>
                </a:lnTo>
                <a:lnTo>
                  <a:pt x="1123" y="344"/>
                </a:lnTo>
                <a:lnTo>
                  <a:pt x="1122" y="345"/>
                </a:lnTo>
                <a:lnTo>
                  <a:pt x="1120" y="346"/>
                </a:lnTo>
                <a:lnTo>
                  <a:pt x="1119" y="348"/>
                </a:lnTo>
                <a:lnTo>
                  <a:pt x="1117" y="349"/>
                </a:lnTo>
                <a:lnTo>
                  <a:pt x="1116" y="349"/>
                </a:lnTo>
                <a:lnTo>
                  <a:pt x="1114" y="350"/>
                </a:lnTo>
                <a:lnTo>
                  <a:pt x="1112" y="350"/>
                </a:lnTo>
                <a:lnTo>
                  <a:pt x="1110" y="350"/>
                </a:lnTo>
                <a:lnTo>
                  <a:pt x="1109" y="349"/>
                </a:lnTo>
                <a:lnTo>
                  <a:pt x="1107" y="349"/>
                </a:lnTo>
                <a:lnTo>
                  <a:pt x="1105" y="348"/>
                </a:lnTo>
                <a:lnTo>
                  <a:pt x="1103" y="347"/>
                </a:lnTo>
                <a:lnTo>
                  <a:pt x="1101" y="346"/>
                </a:lnTo>
                <a:lnTo>
                  <a:pt x="1099" y="344"/>
                </a:lnTo>
                <a:lnTo>
                  <a:pt x="1097" y="342"/>
                </a:lnTo>
                <a:lnTo>
                  <a:pt x="1094" y="340"/>
                </a:lnTo>
                <a:lnTo>
                  <a:pt x="1092" y="337"/>
                </a:lnTo>
                <a:lnTo>
                  <a:pt x="1090" y="335"/>
                </a:lnTo>
                <a:lnTo>
                  <a:pt x="1088" y="332"/>
                </a:lnTo>
                <a:lnTo>
                  <a:pt x="1086" y="330"/>
                </a:lnTo>
                <a:lnTo>
                  <a:pt x="1084" y="328"/>
                </a:lnTo>
                <a:lnTo>
                  <a:pt x="1083" y="326"/>
                </a:lnTo>
                <a:lnTo>
                  <a:pt x="1082" y="325"/>
                </a:lnTo>
                <a:lnTo>
                  <a:pt x="1081" y="324"/>
                </a:lnTo>
                <a:lnTo>
                  <a:pt x="1081" y="324"/>
                </a:lnTo>
                <a:lnTo>
                  <a:pt x="1081" y="323"/>
                </a:lnTo>
                <a:lnTo>
                  <a:pt x="1081" y="323"/>
                </a:lnTo>
                <a:lnTo>
                  <a:pt x="1081" y="324"/>
                </a:lnTo>
                <a:lnTo>
                  <a:pt x="1082" y="325"/>
                </a:lnTo>
                <a:lnTo>
                  <a:pt x="1083" y="326"/>
                </a:lnTo>
                <a:lnTo>
                  <a:pt x="1085" y="327"/>
                </a:lnTo>
                <a:lnTo>
                  <a:pt x="1086" y="329"/>
                </a:lnTo>
                <a:lnTo>
                  <a:pt x="1088" y="331"/>
                </a:lnTo>
                <a:lnTo>
                  <a:pt x="1091" y="334"/>
                </a:lnTo>
                <a:lnTo>
                  <a:pt x="1093" y="337"/>
                </a:lnTo>
                <a:lnTo>
                  <a:pt x="1095" y="340"/>
                </a:lnTo>
                <a:lnTo>
                  <a:pt x="1098" y="343"/>
                </a:lnTo>
                <a:lnTo>
                  <a:pt x="1100" y="346"/>
                </a:lnTo>
                <a:lnTo>
                  <a:pt x="1102" y="350"/>
                </a:lnTo>
                <a:lnTo>
                  <a:pt x="1104" y="354"/>
                </a:lnTo>
                <a:lnTo>
                  <a:pt x="1106" y="358"/>
                </a:lnTo>
                <a:lnTo>
                  <a:pt x="1108" y="362"/>
                </a:lnTo>
                <a:lnTo>
                  <a:pt x="1111" y="367"/>
                </a:lnTo>
                <a:lnTo>
                  <a:pt x="1112" y="372"/>
                </a:lnTo>
                <a:lnTo>
                  <a:pt x="1114" y="377"/>
                </a:lnTo>
                <a:lnTo>
                  <a:pt x="1116" y="382"/>
                </a:lnTo>
                <a:lnTo>
                  <a:pt x="1118" y="388"/>
                </a:lnTo>
                <a:lnTo>
                  <a:pt x="1120" y="393"/>
                </a:lnTo>
                <a:lnTo>
                  <a:pt x="1122" y="399"/>
                </a:lnTo>
                <a:lnTo>
                  <a:pt x="1123" y="405"/>
                </a:lnTo>
                <a:lnTo>
                  <a:pt x="1125" y="412"/>
                </a:lnTo>
                <a:lnTo>
                  <a:pt x="1126" y="418"/>
                </a:lnTo>
                <a:lnTo>
                  <a:pt x="1127" y="424"/>
                </a:lnTo>
                <a:lnTo>
                  <a:pt x="1128" y="429"/>
                </a:lnTo>
                <a:lnTo>
                  <a:pt x="1129" y="435"/>
                </a:lnTo>
                <a:lnTo>
                  <a:pt x="1130" y="441"/>
                </a:lnTo>
                <a:lnTo>
                  <a:pt x="1130" y="446"/>
                </a:lnTo>
                <a:lnTo>
                  <a:pt x="1131" y="452"/>
                </a:lnTo>
                <a:lnTo>
                  <a:pt x="1131" y="457"/>
                </a:lnTo>
                <a:lnTo>
                  <a:pt x="1131" y="462"/>
                </a:lnTo>
                <a:lnTo>
                  <a:pt x="1130" y="467"/>
                </a:lnTo>
                <a:lnTo>
                  <a:pt x="1130" y="472"/>
                </a:lnTo>
                <a:lnTo>
                  <a:pt x="1129" y="477"/>
                </a:lnTo>
                <a:lnTo>
                  <a:pt x="1129" y="481"/>
                </a:lnTo>
                <a:lnTo>
                  <a:pt x="1128" y="486"/>
                </a:lnTo>
                <a:lnTo>
                  <a:pt x="1126" y="490"/>
                </a:lnTo>
                <a:lnTo>
                  <a:pt x="1125" y="495"/>
                </a:lnTo>
                <a:lnTo>
                  <a:pt x="1124" y="499"/>
                </a:lnTo>
                <a:lnTo>
                  <a:pt x="1122" y="503"/>
                </a:lnTo>
                <a:lnTo>
                  <a:pt x="1121" y="507"/>
                </a:lnTo>
                <a:lnTo>
                  <a:pt x="1119" y="511"/>
                </a:lnTo>
                <a:lnTo>
                  <a:pt x="1118" y="515"/>
                </a:lnTo>
                <a:lnTo>
                  <a:pt x="1116" y="519"/>
                </a:lnTo>
                <a:lnTo>
                  <a:pt x="1114" y="523"/>
                </a:lnTo>
                <a:lnTo>
                  <a:pt x="1113" y="527"/>
                </a:lnTo>
                <a:lnTo>
                  <a:pt x="1111" y="531"/>
                </a:lnTo>
                <a:lnTo>
                  <a:pt x="1109" y="534"/>
                </a:lnTo>
                <a:lnTo>
                  <a:pt x="1107" y="538"/>
                </a:lnTo>
                <a:lnTo>
                  <a:pt x="1105" y="542"/>
                </a:lnTo>
                <a:lnTo>
                  <a:pt x="1103" y="545"/>
                </a:lnTo>
                <a:lnTo>
                  <a:pt x="1101" y="548"/>
                </a:lnTo>
                <a:lnTo>
                  <a:pt x="1098" y="552"/>
                </a:lnTo>
                <a:lnTo>
                  <a:pt x="1096" y="555"/>
                </a:lnTo>
                <a:lnTo>
                  <a:pt x="1094" y="558"/>
                </a:lnTo>
                <a:lnTo>
                  <a:pt x="1091" y="562"/>
                </a:lnTo>
                <a:lnTo>
                  <a:pt x="1089" y="565"/>
                </a:lnTo>
                <a:lnTo>
                  <a:pt x="1086" y="568"/>
                </a:lnTo>
                <a:lnTo>
                  <a:pt x="1083" y="571"/>
                </a:lnTo>
                <a:lnTo>
                  <a:pt x="1081" y="574"/>
                </a:lnTo>
                <a:lnTo>
                  <a:pt x="1078" y="577"/>
                </a:lnTo>
                <a:lnTo>
                  <a:pt x="1075" y="579"/>
                </a:lnTo>
                <a:lnTo>
                  <a:pt x="1072" y="582"/>
                </a:lnTo>
                <a:lnTo>
                  <a:pt x="1069" y="585"/>
                </a:lnTo>
                <a:lnTo>
                  <a:pt x="1066" y="588"/>
                </a:lnTo>
                <a:lnTo>
                  <a:pt x="1063" y="590"/>
                </a:lnTo>
                <a:lnTo>
                  <a:pt x="1059" y="593"/>
                </a:lnTo>
                <a:lnTo>
                  <a:pt x="1056" y="595"/>
                </a:lnTo>
                <a:lnTo>
                  <a:pt x="1052" y="597"/>
                </a:lnTo>
                <a:lnTo>
                  <a:pt x="1049" y="600"/>
                </a:lnTo>
                <a:lnTo>
                  <a:pt x="1045" y="602"/>
                </a:lnTo>
                <a:lnTo>
                  <a:pt x="1042" y="604"/>
                </a:lnTo>
                <a:lnTo>
                  <a:pt x="1038" y="606"/>
                </a:lnTo>
                <a:lnTo>
                  <a:pt x="1034" y="608"/>
                </a:lnTo>
                <a:lnTo>
                  <a:pt x="1031" y="610"/>
                </a:lnTo>
                <a:lnTo>
                  <a:pt x="1027" y="612"/>
                </a:lnTo>
                <a:lnTo>
                  <a:pt x="1023" y="614"/>
                </a:lnTo>
                <a:lnTo>
                  <a:pt x="1020" y="616"/>
                </a:lnTo>
                <a:lnTo>
                  <a:pt x="1016" y="618"/>
                </a:lnTo>
                <a:lnTo>
                  <a:pt x="1012" y="619"/>
                </a:lnTo>
                <a:lnTo>
                  <a:pt x="1008" y="621"/>
                </a:lnTo>
                <a:lnTo>
                  <a:pt x="1004" y="623"/>
                </a:lnTo>
                <a:lnTo>
                  <a:pt x="1000" y="624"/>
                </a:lnTo>
                <a:lnTo>
                  <a:pt x="996" y="626"/>
                </a:lnTo>
                <a:lnTo>
                  <a:pt x="992" y="627"/>
                </a:lnTo>
                <a:lnTo>
                  <a:pt x="988" y="628"/>
                </a:lnTo>
                <a:lnTo>
                  <a:pt x="984" y="629"/>
                </a:lnTo>
                <a:lnTo>
                  <a:pt x="981" y="630"/>
                </a:lnTo>
                <a:lnTo>
                  <a:pt x="977" y="632"/>
                </a:lnTo>
                <a:lnTo>
                  <a:pt x="973" y="632"/>
                </a:lnTo>
                <a:lnTo>
                  <a:pt x="970" y="633"/>
                </a:lnTo>
                <a:lnTo>
                  <a:pt x="966" y="634"/>
                </a:lnTo>
                <a:lnTo>
                  <a:pt x="963" y="635"/>
                </a:lnTo>
                <a:lnTo>
                  <a:pt x="959" y="635"/>
                </a:lnTo>
                <a:lnTo>
                  <a:pt x="956" y="636"/>
                </a:lnTo>
                <a:lnTo>
                  <a:pt x="952" y="636"/>
                </a:lnTo>
                <a:lnTo>
                  <a:pt x="949" y="636"/>
                </a:lnTo>
                <a:lnTo>
                  <a:pt x="946" y="637"/>
                </a:lnTo>
                <a:lnTo>
                  <a:pt x="943" y="637"/>
                </a:lnTo>
                <a:lnTo>
                  <a:pt x="940" y="637"/>
                </a:lnTo>
                <a:lnTo>
                  <a:pt x="937" y="637"/>
                </a:lnTo>
                <a:lnTo>
                  <a:pt x="934" y="637"/>
                </a:lnTo>
                <a:lnTo>
                  <a:pt x="932" y="637"/>
                </a:lnTo>
                <a:lnTo>
                  <a:pt x="930" y="636"/>
                </a:lnTo>
                <a:lnTo>
                  <a:pt x="928" y="636"/>
                </a:lnTo>
                <a:lnTo>
                  <a:pt x="927" y="636"/>
                </a:lnTo>
                <a:lnTo>
                  <a:pt x="926" y="636"/>
                </a:lnTo>
                <a:lnTo>
                  <a:pt x="926" y="636"/>
                </a:lnTo>
                <a:lnTo>
                  <a:pt x="925" y="636"/>
                </a:lnTo>
                <a:lnTo>
                  <a:pt x="926" y="636"/>
                </a:lnTo>
                <a:lnTo>
                  <a:pt x="926" y="636"/>
                </a:lnTo>
                <a:lnTo>
                  <a:pt x="927" y="636"/>
                </a:lnTo>
                <a:lnTo>
                  <a:pt x="928" y="636"/>
                </a:lnTo>
                <a:lnTo>
                  <a:pt x="930" y="636"/>
                </a:lnTo>
                <a:lnTo>
                  <a:pt x="932" y="637"/>
                </a:lnTo>
                <a:lnTo>
                  <a:pt x="934" y="637"/>
                </a:lnTo>
                <a:lnTo>
                  <a:pt x="937" y="637"/>
                </a:lnTo>
                <a:lnTo>
                  <a:pt x="940" y="637"/>
                </a:lnTo>
                <a:lnTo>
                  <a:pt x="942" y="637"/>
                </a:lnTo>
                <a:lnTo>
                  <a:pt x="944" y="638"/>
                </a:lnTo>
                <a:lnTo>
                  <a:pt x="946" y="638"/>
                </a:lnTo>
                <a:lnTo>
                  <a:pt x="948" y="639"/>
                </a:lnTo>
                <a:lnTo>
                  <a:pt x="949" y="640"/>
                </a:lnTo>
                <a:lnTo>
                  <a:pt x="950" y="641"/>
                </a:lnTo>
                <a:lnTo>
                  <a:pt x="951" y="642"/>
                </a:lnTo>
                <a:lnTo>
                  <a:pt x="951" y="643"/>
                </a:lnTo>
                <a:lnTo>
                  <a:pt x="951" y="645"/>
                </a:lnTo>
                <a:lnTo>
                  <a:pt x="951" y="646"/>
                </a:lnTo>
                <a:lnTo>
                  <a:pt x="951" y="648"/>
                </a:lnTo>
                <a:lnTo>
                  <a:pt x="950" y="650"/>
                </a:lnTo>
                <a:lnTo>
                  <a:pt x="949" y="652"/>
                </a:lnTo>
                <a:lnTo>
                  <a:pt x="947" y="654"/>
                </a:lnTo>
                <a:lnTo>
                  <a:pt x="946" y="656"/>
                </a:lnTo>
                <a:lnTo>
                  <a:pt x="944" y="659"/>
                </a:lnTo>
                <a:lnTo>
                  <a:pt x="942" y="661"/>
                </a:lnTo>
                <a:lnTo>
                  <a:pt x="940" y="663"/>
                </a:lnTo>
                <a:lnTo>
                  <a:pt x="937" y="666"/>
                </a:lnTo>
                <a:lnTo>
                  <a:pt x="935" y="668"/>
                </a:lnTo>
                <a:lnTo>
                  <a:pt x="932" y="671"/>
                </a:lnTo>
                <a:lnTo>
                  <a:pt x="930" y="673"/>
                </a:lnTo>
                <a:lnTo>
                  <a:pt x="927" y="676"/>
                </a:lnTo>
                <a:lnTo>
                  <a:pt x="924" y="678"/>
                </a:lnTo>
                <a:lnTo>
                  <a:pt x="921" y="681"/>
                </a:lnTo>
                <a:lnTo>
                  <a:pt x="918" y="683"/>
                </a:lnTo>
                <a:lnTo>
                  <a:pt x="915" y="686"/>
                </a:lnTo>
                <a:lnTo>
                  <a:pt x="912" y="689"/>
                </a:lnTo>
                <a:lnTo>
                  <a:pt x="908" y="691"/>
                </a:lnTo>
                <a:lnTo>
                  <a:pt x="905" y="694"/>
                </a:lnTo>
                <a:lnTo>
                  <a:pt x="901" y="697"/>
                </a:lnTo>
                <a:lnTo>
                  <a:pt x="897" y="699"/>
                </a:lnTo>
                <a:lnTo>
                  <a:pt x="894" y="702"/>
                </a:lnTo>
                <a:lnTo>
                  <a:pt x="890" y="704"/>
                </a:lnTo>
                <a:lnTo>
                  <a:pt x="887" y="706"/>
                </a:lnTo>
                <a:lnTo>
                  <a:pt x="883" y="708"/>
                </a:lnTo>
                <a:lnTo>
                  <a:pt x="880" y="710"/>
                </a:lnTo>
                <a:lnTo>
                  <a:pt x="876" y="711"/>
                </a:lnTo>
                <a:lnTo>
                  <a:pt x="873" y="713"/>
                </a:lnTo>
                <a:lnTo>
                  <a:pt x="870" y="714"/>
                </a:lnTo>
                <a:lnTo>
                  <a:pt x="866" y="715"/>
                </a:lnTo>
                <a:lnTo>
                  <a:pt x="863" y="716"/>
                </a:lnTo>
                <a:lnTo>
                  <a:pt x="860" y="717"/>
                </a:lnTo>
                <a:lnTo>
                  <a:pt x="857" y="717"/>
                </a:lnTo>
                <a:lnTo>
                  <a:pt x="854" y="718"/>
                </a:lnTo>
                <a:lnTo>
                  <a:pt x="850" y="718"/>
                </a:lnTo>
                <a:lnTo>
                  <a:pt x="847" y="718"/>
                </a:lnTo>
                <a:lnTo>
                  <a:pt x="844" y="718"/>
                </a:lnTo>
                <a:lnTo>
                  <a:pt x="841" y="718"/>
                </a:lnTo>
                <a:lnTo>
                  <a:pt x="838" y="718"/>
                </a:lnTo>
                <a:lnTo>
                  <a:pt x="835" y="717"/>
                </a:lnTo>
                <a:lnTo>
                  <a:pt x="832" y="717"/>
                </a:lnTo>
                <a:lnTo>
                  <a:pt x="829" y="716"/>
                </a:lnTo>
                <a:lnTo>
                  <a:pt x="826" y="716"/>
                </a:lnTo>
                <a:lnTo>
                  <a:pt x="823" y="715"/>
                </a:lnTo>
                <a:lnTo>
                  <a:pt x="820" y="715"/>
                </a:lnTo>
                <a:lnTo>
                  <a:pt x="817" y="714"/>
                </a:lnTo>
                <a:lnTo>
                  <a:pt x="815" y="713"/>
                </a:lnTo>
                <a:lnTo>
                  <a:pt x="812" y="712"/>
                </a:lnTo>
                <a:lnTo>
                  <a:pt x="809" y="711"/>
                </a:lnTo>
                <a:lnTo>
                  <a:pt x="806" y="710"/>
                </a:lnTo>
                <a:lnTo>
                  <a:pt x="803" y="709"/>
                </a:lnTo>
                <a:lnTo>
                  <a:pt x="800" y="707"/>
                </a:lnTo>
                <a:lnTo>
                  <a:pt x="797" y="706"/>
                </a:lnTo>
                <a:lnTo>
                  <a:pt x="794" y="704"/>
                </a:lnTo>
                <a:lnTo>
                  <a:pt x="791" y="703"/>
                </a:lnTo>
                <a:lnTo>
                  <a:pt x="789" y="701"/>
                </a:lnTo>
                <a:lnTo>
                  <a:pt x="786" y="699"/>
                </a:lnTo>
                <a:lnTo>
                  <a:pt x="783" y="697"/>
                </a:lnTo>
                <a:lnTo>
                  <a:pt x="781" y="696"/>
                </a:lnTo>
                <a:lnTo>
                  <a:pt x="778" y="693"/>
                </a:lnTo>
                <a:lnTo>
                  <a:pt x="776" y="691"/>
                </a:lnTo>
                <a:lnTo>
                  <a:pt x="773" y="689"/>
                </a:lnTo>
                <a:lnTo>
                  <a:pt x="771" y="687"/>
                </a:lnTo>
                <a:lnTo>
                  <a:pt x="769" y="684"/>
                </a:lnTo>
                <a:lnTo>
                  <a:pt x="766" y="682"/>
                </a:lnTo>
                <a:lnTo>
                  <a:pt x="764" y="679"/>
                </a:lnTo>
                <a:lnTo>
                  <a:pt x="762" y="676"/>
                </a:lnTo>
                <a:lnTo>
                  <a:pt x="760" y="673"/>
                </a:lnTo>
                <a:lnTo>
                  <a:pt x="758" y="670"/>
                </a:lnTo>
                <a:lnTo>
                  <a:pt x="757" y="668"/>
                </a:lnTo>
                <a:lnTo>
                  <a:pt x="755" y="665"/>
                </a:lnTo>
                <a:lnTo>
                  <a:pt x="754" y="662"/>
                </a:lnTo>
                <a:lnTo>
                  <a:pt x="753" y="660"/>
                </a:lnTo>
                <a:lnTo>
                  <a:pt x="752" y="657"/>
                </a:lnTo>
                <a:lnTo>
                  <a:pt x="752" y="655"/>
                </a:lnTo>
                <a:lnTo>
                  <a:pt x="752" y="652"/>
                </a:lnTo>
                <a:lnTo>
                  <a:pt x="752" y="650"/>
                </a:lnTo>
                <a:lnTo>
                  <a:pt x="752" y="647"/>
                </a:lnTo>
                <a:lnTo>
                  <a:pt x="753" y="645"/>
                </a:lnTo>
                <a:lnTo>
                  <a:pt x="754" y="643"/>
                </a:lnTo>
                <a:lnTo>
                  <a:pt x="755" y="641"/>
                </a:lnTo>
                <a:lnTo>
                  <a:pt x="757" y="639"/>
                </a:lnTo>
                <a:lnTo>
                  <a:pt x="758" y="637"/>
                </a:lnTo>
                <a:lnTo>
                  <a:pt x="760" y="635"/>
                </a:lnTo>
                <a:lnTo>
                  <a:pt x="762" y="633"/>
                </a:lnTo>
                <a:lnTo>
                  <a:pt x="764" y="632"/>
                </a:lnTo>
                <a:lnTo>
                  <a:pt x="765" y="630"/>
                </a:lnTo>
                <a:lnTo>
                  <a:pt x="766" y="629"/>
                </a:lnTo>
                <a:lnTo>
                  <a:pt x="767" y="628"/>
                </a:lnTo>
                <a:lnTo>
                  <a:pt x="768" y="628"/>
                </a:lnTo>
                <a:lnTo>
                  <a:pt x="768" y="627"/>
                </a:lnTo>
                <a:lnTo>
                  <a:pt x="768" y="627"/>
                </a:lnTo>
                <a:lnTo>
                  <a:pt x="768" y="627"/>
                </a:lnTo>
                <a:lnTo>
                  <a:pt x="768" y="628"/>
                </a:lnTo>
                <a:lnTo>
                  <a:pt x="767" y="628"/>
                </a:lnTo>
                <a:lnTo>
                  <a:pt x="766" y="629"/>
                </a:lnTo>
                <a:lnTo>
                  <a:pt x="765" y="630"/>
                </a:lnTo>
                <a:lnTo>
                  <a:pt x="764" y="632"/>
                </a:lnTo>
                <a:lnTo>
                  <a:pt x="762" y="633"/>
                </a:lnTo>
                <a:lnTo>
                  <a:pt x="760" y="635"/>
                </a:lnTo>
                <a:lnTo>
                  <a:pt x="758" y="637"/>
                </a:lnTo>
                <a:lnTo>
                  <a:pt x="756" y="639"/>
                </a:lnTo>
                <a:lnTo>
                  <a:pt x="754" y="641"/>
                </a:lnTo>
                <a:lnTo>
                  <a:pt x="751" y="643"/>
                </a:lnTo>
                <a:lnTo>
                  <a:pt x="749" y="645"/>
                </a:lnTo>
                <a:lnTo>
                  <a:pt x="746" y="647"/>
                </a:lnTo>
                <a:lnTo>
                  <a:pt x="744" y="649"/>
                </a:lnTo>
                <a:lnTo>
                  <a:pt x="741" y="651"/>
                </a:lnTo>
                <a:lnTo>
                  <a:pt x="738" y="653"/>
                </a:lnTo>
                <a:lnTo>
                  <a:pt x="735" y="655"/>
                </a:lnTo>
                <a:lnTo>
                  <a:pt x="732" y="657"/>
                </a:lnTo>
                <a:lnTo>
                  <a:pt x="729" y="659"/>
                </a:lnTo>
                <a:lnTo>
                  <a:pt x="726" y="661"/>
                </a:lnTo>
                <a:lnTo>
                  <a:pt x="723" y="664"/>
                </a:lnTo>
                <a:lnTo>
                  <a:pt x="720" y="666"/>
                </a:lnTo>
                <a:lnTo>
                  <a:pt x="716" y="668"/>
                </a:lnTo>
                <a:lnTo>
                  <a:pt x="713" y="670"/>
                </a:lnTo>
                <a:lnTo>
                  <a:pt x="709" y="672"/>
                </a:lnTo>
                <a:lnTo>
                  <a:pt x="706" y="674"/>
                </a:lnTo>
                <a:lnTo>
                  <a:pt x="702" y="676"/>
                </a:lnTo>
                <a:lnTo>
                  <a:pt x="698" y="678"/>
                </a:lnTo>
                <a:lnTo>
                  <a:pt x="694" y="680"/>
                </a:lnTo>
                <a:lnTo>
                  <a:pt x="690" y="682"/>
                </a:lnTo>
                <a:lnTo>
                  <a:pt x="686" y="684"/>
                </a:lnTo>
                <a:lnTo>
                  <a:pt x="681" y="686"/>
                </a:lnTo>
                <a:lnTo>
                  <a:pt x="677" y="688"/>
                </a:lnTo>
                <a:lnTo>
                  <a:pt x="672" y="689"/>
                </a:lnTo>
                <a:lnTo>
                  <a:pt x="668" y="691"/>
                </a:lnTo>
                <a:lnTo>
                  <a:pt x="663" y="692"/>
                </a:lnTo>
                <a:lnTo>
                  <a:pt x="658" y="694"/>
                </a:lnTo>
                <a:lnTo>
                  <a:pt x="653" y="695"/>
                </a:lnTo>
                <a:lnTo>
                  <a:pt x="648" y="697"/>
                </a:lnTo>
                <a:lnTo>
                  <a:pt x="643" y="698"/>
                </a:lnTo>
                <a:lnTo>
                  <a:pt x="638" y="699"/>
                </a:lnTo>
                <a:lnTo>
                  <a:pt x="633" y="700"/>
                </a:lnTo>
                <a:lnTo>
                  <a:pt x="628" y="701"/>
                </a:lnTo>
                <a:lnTo>
                  <a:pt x="623" y="702"/>
                </a:lnTo>
                <a:lnTo>
                  <a:pt x="619" y="702"/>
                </a:lnTo>
                <a:lnTo>
                  <a:pt x="614" y="703"/>
                </a:lnTo>
                <a:lnTo>
                  <a:pt x="610" y="703"/>
                </a:lnTo>
                <a:lnTo>
                  <a:pt x="606" y="704"/>
                </a:lnTo>
                <a:lnTo>
                  <a:pt x="602" y="704"/>
                </a:lnTo>
                <a:lnTo>
                  <a:pt x="598" y="704"/>
                </a:lnTo>
                <a:lnTo>
                  <a:pt x="594" y="704"/>
                </a:lnTo>
                <a:lnTo>
                  <a:pt x="590" y="704"/>
                </a:lnTo>
                <a:lnTo>
                  <a:pt x="586" y="704"/>
                </a:lnTo>
                <a:lnTo>
                  <a:pt x="583" y="703"/>
                </a:lnTo>
                <a:lnTo>
                  <a:pt x="579" y="703"/>
                </a:lnTo>
                <a:lnTo>
                  <a:pt x="576" y="702"/>
                </a:lnTo>
                <a:lnTo>
                  <a:pt x="572" y="701"/>
                </a:lnTo>
                <a:lnTo>
                  <a:pt x="569" y="700"/>
                </a:lnTo>
                <a:lnTo>
                  <a:pt x="566" y="699"/>
                </a:lnTo>
                <a:lnTo>
                  <a:pt x="562" y="698"/>
                </a:lnTo>
                <a:lnTo>
                  <a:pt x="559" y="696"/>
                </a:lnTo>
                <a:lnTo>
                  <a:pt x="556" y="695"/>
                </a:lnTo>
                <a:lnTo>
                  <a:pt x="553" y="693"/>
                </a:lnTo>
                <a:lnTo>
                  <a:pt x="549" y="691"/>
                </a:lnTo>
                <a:lnTo>
                  <a:pt x="546" y="689"/>
                </a:lnTo>
                <a:lnTo>
                  <a:pt x="543" y="686"/>
                </a:lnTo>
                <a:lnTo>
                  <a:pt x="540" y="684"/>
                </a:lnTo>
                <a:lnTo>
                  <a:pt x="536" y="681"/>
                </a:lnTo>
                <a:lnTo>
                  <a:pt x="533" y="678"/>
                </a:lnTo>
                <a:lnTo>
                  <a:pt x="530" y="675"/>
                </a:lnTo>
                <a:lnTo>
                  <a:pt x="527" y="672"/>
                </a:lnTo>
                <a:lnTo>
                  <a:pt x="524" y="668"/>
                </a:lnTo>
                <a:lnTo>
                  <a:pt x="522" y="666"/>
                </a:lnTo>
                <a:lnTo>
                  <a:pt x="519" y="663"/>
                </a:lnTo>
                <a:lnTo>
                  <a:pt x="518" y="661"/>
                </a:lnTo>
                <a:lnTo>
                  <a:pt x="516" y="660"/>
                </a:lnTo>
                <a:lnTo>
                  <a:pt x="515" y="659"/>
                </a:lnTo>
                <a:lnTo>
                  <a:pt x="515" y="658"/>
                </a:lnTo>
                <a:lnTo>
                  <a:pt x="515" y="658"/>
                </a:lnTo>
                <a:lnTo>
                  <a:pt x="515" y="658"/>
                </a:lnTo>
                <a:lnTo>
                  <a:pt x="515" y="659"/>
                </a:lnTo>
                <a:lnTo>
                  <a:pt x="516" y="660"/>
                </a:lnTo>
                <a:lnTo>
                  <a:pt x="518" y="661"/>
                </a:lnTo>
                <a:lnTo>
                  <a:pt x="519" y="663"/>
                </a:lnTo>
                <a:lnTo>
                  <a:pt x="522" y="666"/>
                </a:lnTo>
                <a:lnTo>
                  <a:pt x="524" y="668"/>
                </a:lnTo>
                <a:lnTo>
                  <a:pt x="527" y="672"/>
                </a:lnTo>
                <a:lnTo>
                  <a:pt x="530" y="675"/>
                </a:lnTo>
                <a:lnTo>
                  <a:pt x="532" y="678"/>
                </a:lnTo>
                <a:lnTo>
                  <a:pt x="534" y="681"/>
                </a:lnTo>
                <a:lnTo>
                  <a:pt x="535" y="683"/>
                </a:lnTo>
                <a:lnTo>
                  <a:pt x="536" y="686"/>
                </a:lnTo>
                <a:lnTo>
                  <a:pt x="536" y="688"/>
                </a:lnTo>
                <a:lnTo>
                  <a:pt x="536" y="691"/>
                </a:lnTo>
                <a:lnTo>
                  <a:pt x="535" y="693"/>
                </a:lnTo>
                <a:lnTo>
                  <a:pt x="534" y="694"/>
                </a:lnTo>
                <a:lnTo>
                  <a:pt x="532" y="696"/>
                </a:lnTo>
                <a:lnTo>
                  <a:pt x="530" y="697"/>
                </a:lnTo>
                <a:lnTo>
                  <a:pt x="527" y="699"/>
                </a:lnTo>
                <a:lnTo>
                  <a:pt x="524" y="700"/>
                </a:lnTo>
                <a:lnTo>
                  <a:pt x="520" y="701"/>
                </a:lnTo>
                <a:lnTo>
                  <a:pt x="516" y="701"/>
                </a:lnTo>
                <a:lnTo>
                  <a:pt x="511" y="702"/>
                </a:lnTo>
                <a:lnTo>
                  <a:pt x="506" y="702"/>
                </a:lnTo>
                <a:lnTo>
                  <a:pt x="500" y="703"/>
                </a:lnTo>
                <a:lnTo>
                  <a:pt x="495" y="703"/>
                </a:lnTo>
                <a:lnTo>
                  <a:pt x="490" y="703"/>
                </a:lnTo>
                <a:lnTo>
                  <a:pt x="485" y="703"/>
                </a:lnTo>
                <a:lnTo>
                  <a:pt x="480" y="703"/>
                </a:lnTo>
                <a:lnTo>
                  <a:pt x="475" y="703"/>
                </a:lnTo>
                <a:lnTo>
                  <a:pt x="470" y="703"/>
                </a:lnTo>
                <a:lnTo>
                  <a:pt x="465" y="703"/>
                </a:lnTo>
                <a:lnTo>
                  <a:pt x="460" y="703"/>
                </a:lnTo>
                <a:lnTo>
                  <a:pt x="455" y="702"/>
                </a:lnTo>
                <a:lnTo>
                  <a:pt x="450" y="702"/>
                </a:lnTo>
                <a:lnTo>
                  <a:pt x="446" y="701"/>
                </a:lnTo>
                <a:lnTo>
                  <a:pt x="441" y="701"/>
                </a:lnTo>
                <a:lnTo>
                  <a:pt x="436" y="700"/>
                </a:lnTo>
                <a:lnTo>
                  <a:pt x="431" y="699"/>
                </a:lnTo>
                <a:lnTo>
                  <a:pt x="426" y="698"/>
                </a:lnTo>
                <a:lnTo>
                  <a:pt x="422" y="697"/>
                </a:lnTo>
                <a:lnTo>
                  <a:pt x="417" y="696"/>
                </a:lnTo>
                <a:lnTo>
                  <a:pt x="412" y="695"/>
                </a:lnTo>
                <a:lnTo>
                  <a:pt x="408" y="694"/>
                </a:lnTo>
                <a:lnTo>
                  <a:pt x="403" y="693"/>
                </a:lnTo>
                <a:lnTo>
                  <a:pt x="399" y="692"/>
                </a:lnTo>
                <a:lnTo>
                  <a:pt x="394" y="690"/>
                </a:lnTo>
                <a:lnTo>
                  <a:pt x="390" y="689"/>
                </a:lnTo>
                <a:lnTo>
                  <a:pt x="386" y="687"/>
                </a:lnTo>
                <a:lnTo>
                  <a:pt x="381" y="685"/>
                </a:lnTo>
                <a:lnTo>
                  <a:pt x="377" y="683"/>
                </a:lnTo>
                <a:lnTo>
                  <a:pt x="373" y="681"/>
                </a:lnTo>
                <a:lnTo>
                  <a:pt x="369" y="679"/>
                </a:lnTo>
                <a:lnTo>
                  <a:pt x="364" y="677"/>
                </a:lnTo>
                <a:lnTo>
                  <a:pt x="360" y="675"/>
                </a:lnTo>
                <a:lnTo>
                  <a:pt x="356" y="673"/>
                </a:lnTo>
                <a:lnTo>
                  <a:pt x="352" y="670"/>
                </a:lnTo>
                <a:lnTo>
                  <a:pt x="349" y="668"/>
                </a:lnTo>
                <a:lnTo>
                  <a:pt x="345" y="666"/>
                </a:lnTo>
                <a:lnTo>
                  <a:pt x="341" y="663"/>
                </a:lnTo>
                <a:lnTo>
                  <a:pt x="338" y="660"/>
                </a:lnTo>
                <a:lnTo>
                  <a:pt x="335" y="658"/>
                </a:lnTo>
                <a:lnTo>
                  <a:pt x="331" y="655"/>
                </a:lnTo>
                <a:lnTo>
                  <a:pt x="328" y="652"/>
                </a:lnTo>
                <a:lnTo>
                  <a:pt x="325" y="649"/>
                </a:lnTo>
                <a:lnTo>
                  <a:pt x="323" y="646"/>
                </a:lnTo>
                <a:lnTo>
                  <a:pt x="320" y="643"/>
                </a:lnTo>
                <a:lnTo>
                  <a:pt x="317" y="640"/>
                </a:lnTo>
                <a:lnTo>
                  <a:pt x="315" y="636"/>
                </a:lnTo>
                <a:lnTo>
                  <a:pt x="313" y="633"/>
                </a:lnTo>
                <a:lnTo>
                  <a:pt x="310" y="630"/>
                </a:lnTo>
                <a:lnTo>
                  <a:pt x="308" y="626"/>
                </a:lnTo>
                <a:lnTo>
                  <a:pt x="306" y="623"/>
                </a:lnTo>
                <a:lnTo>
                  <a:pt x="305" y="620"/>
                </a:lnTo>
                <a:lnTo>
                  <a:pt x="303" y="616"/>
                </a:lnTo>
                <a:lnTo>
                  <a:pt x="301" y="613"/>
                </a:lnTo>
                <a:lnTo>
                  <a:pt x="300" y="610"/>
                </a:lnTo>
                <a:lnTo>
                  <a:pt x="298" y="607"/>
                </a:lnTo>
                <a:lnTo>
                  <a:pt x="297" y="605"/>
                </a:lnTo>
                <a:lnTo>
                  <a:pt x="296" y="602"/>
                </a:lnTo>
                <a:lnTo>
                  <a:pt x="295" y="599"/>
                </a:lnTo>
                <a:lnTo>
                  <a:pt x="295" y="597"/>
                </a:lnTo>
                <a:lnTo>
                  <a:pt x="294" y="594"/>
                </a:lnTo>
                <a:lnTo>
                  <a:pt x="293" y="592"/>
                </a:lnTo>
                <a:lnTo>
                  <a:pt x="293" y="589"/>
                </a:lnTo>
                <a:lnTo>
                  <a:pt x="293" y="587"/>
                </a:lnTo>
                <a:lnTo>
                  <a:pt x="292" y="585"/>
                </a:lnTo>
                <a:lnTo>
                  <a:pt x="292" y="583"/>
                </a:lnTo>
                <a:lnTo>
                  <a:pt x="292" y="581"/>
                </a:lnTo>
                <a:lnTo>
                  <a:pt x="292" y="580"/>
                </a:lnTo>
                <a:lnTo>
                  <a:pt x="292" y="579"/>
                </a:lnTo>
                <a:lnTo>
                  <a:pt x="292" y="578"/>
                </a:lnTo>
                <a:lnTo>
                  <a:pt x="292" y="577"/>
                </a:lnTo>
                <a:lnTo>
                  <a:pt x="292" y="577"/>
                </a:lnTo>
                <a:lnTo>
                  <a:pt x="292" y="576"/>
                </a:lnTo>
                <a:lnTo>
                  <a:pt x="292" y="577"/>
                </a:lnTo>
                <a:lnTo>
                  <a:pt x="292" y="577"/>
                </a:lnTo>
                <a:lnTo>
                  <a:pt x="292" y="578"/>
                </a:lnTo>
                <a:lnTo>
                  <a:pt x="292" y="579"/>
                </a:lnTo>
                <a:lnTo>
                  <a:pt x="292" y="580"/>
                </a:lnTo>
                <a:lnTo>
                  <a:pt x="292" y="581"/>
                </a:lnTo>
                <a:lnTo>
                  <a:pt x="292" y="583"/>
                </a:lnTo>
                <a:lnTo>
                  <a:pt x="292" y="585"/>
                </a:lnTo>
                <a:lnTo>
                  <a:pt x="292" y="587"/>
                </a:lnTo>
                <a:lnTo>
                  <a:pt x="292" y="589"/>
                </a:lnTo>
                <a:lnTo>
                  <a:pt x="292" y="591"/>
                </a:lnTo>
                <a:lnTo>
                  <a:pt x="292" y="594"/>
                </a:lnTo>
                <a:lnTo>
                  <a:pt x="291" y="596"/>
                </a:lnTo>
                <a:lnTo>
                  <a:pt x="290" y="598"/>
                </a:lnTo>
                <a:lnTo>
                  <a:pt x="289" y="600"/>
                </a:lnTo>
                <a:lnTo>
                  <a:pt x="288" y="603"/>
                </a:lnTo>
                <a:lnTo>
                  <a:pt x="287" y="605"/>
                </a:lnTo>
                <a:lnTo>
                  <a:pt x="285" y="607"/>
                </a:lnTo>
                <a:lnTo>
                  <a:pt x="284" y="609"/>
                </a:lnTo>
                <a:lnTo>
                  <a:pt x="282" y="612"/>
                </a:lnTo>
                <a:lnTo>
                  <a:pt x="280" y="614"/>
                </a:lnTo>
                <a:lnTo>
                  <a:pt x="278" y="617"/>
                </a:lnTo>
                <a:lnTo>
                  <a:pt x="276" y="619"/>
                </a:lnTo>
                <a:lnTo>
                  <a:pt x="274" y="622"/>
                </a:lnTo>
                <a:lnTo>
                  <a:pt x="271" y="624"/>
                </a:lnTo>
                <a:lnTo>
                  <a:pt x="269" y="626"/>
                </a:lnTo>
                <a:lnTo>
                  <a:pt x="266" y="628"/>
                </a:lnTo>
                <a:lnTo>
                  <a:pt x="263" y="631"/>
                </a:lnTo>
                <a:lnTo>
                  <a:pt x="260" y="632"/>
                </a:lnTo>
                <a:lnTo>
                  <a:pt x="257" y="634"/>
                </a:lnTo>
                <a:lnTo>
                  <a:pt x="254" y="636"/>
                </a:lnTo>
                <a:lnTo>
                  <a:pt x="251" y="638"/>
                </a:lnTo>
                <a:lnTo>
                  <a:pt x="248" y="639"/>
                </a:lnTo>
                <a:lnTo>
                  <a:pt x="244" y="641"/>
                </a:lnTo>
                <a:lnTo>
                  <a:pt x="241" y="642"/>
                </a:lnTo>
                <a:lnTo>
                  <a:pt x="237" y="643"/>
                </a:lnTo>
                <a:lnTo>
                  <a:pt x="233" y="645"/>
                </a:lnTo>
                <a:lnTo>
                  <a:pt x="229" y="646"/>
                </a:lnTo>
                <a:lnTo>
                  <a:pt x="226" y="647"/>
                </a:lnTo>
                <a:lnTo>
                  <a:pt x="222" y="647"/>
                </a:lnTo>
                <a:lnTo>
                  <a:pt x="217" y="648"/>
                </a:lnTo>
                <a:lnTo>
                  <a:pt x="213" y="649"/>
                </a:lnTo>
                <a:lnTo>
                  <a:pt x="210" y="649"/>
                </a:lnTo>
                <a:lnTo>
                  <a:pt x="206" y="650"/>
                </a:lnTo>
                <a:lnTo>
                  <a:pt x="202" y="650"/>
                </a:lnTo>
                <a:lnTo>
                  <a:pt x="198" y="650"/>
                </a:lnTo>
                <a:lnTo>
                  <a:pt x="195" y="650"/>
                </a:lnTo>
                <a:lnTo>
                  <a:pt x="191" y="650"/>
                </a:lnTo>
                <a:lnTo>
                  <a:pt x="188" y="650"/>
                </a:lnTo>
                <a:lnTo>
                  <a:pt x="184" y="650"/>
                </a:lnTo>
                <a:lnTo>
                  <a:pt x="181" y="649"/>
                </a:lnTo>
                <a:lnTo>
                  <a:pt x="178" y="649"/>
                </a:lnTo>
                <a:lnTo>
                  <a:pt x="174" y="648"/>
                </a:lnTo>
                <a:lnTo>
                  <a:pt x="171" y="647"/>
                </a:lnTo>
                <a:lnTo>
                  <a:pt x="168" y="647"/>
                </a:lnTo>
                <a:lnTo>
                  <a:pt x="165" y="646"/>
                </a:lnTo>
                <a:lnTo>
                  <a:pt x="162" y="645"/>
                </a:lnTo>
                <a:lnTo>
                  <a:pt x="160" y="643"/>
                </a:lnTo>
                <a:lnTo>
                  <a:pt x="157" y="642"/>
                </a:lnTo>
                <a:lnTo>
                  <a:pt x="154" y="641"/>
                </a:lnTo>
                <a:lnTo>
                  <a:pt x="151" y="640"/>
                </a:lnTo>
                <a:lnTo>
                  <a:pt x="149" y="638"/>
                </a:lnTo>
                <a:lnTo>
                  <a:pt x="146" y="637"/>
                </a:lnTo>
                <a:lnTo>
                  <a:pt x="144" y="635"/>
                </a:lnTo>
                <a:lnTo>
                  <a:pt x="141" y="634"/>
                </a:lnTo>
                <a:lnTo>
                  <a:pt x="139" y="632"/>
                </a:lnTo>
                <a:lnTo>
                  <a:pt x="136" y="630"/>
                </a:lnTo>
                <a:lnTo>
                  <a:pt x="134" y="629"/>
                </a:lnTo>
                <a:lnTo>
                  <a:pt x="132" y="627"/>
                </a:lnTo>
                <a:lnTo>
                  <a:pt x="129" y="625"/>
                </a:lnTo>
                <a:lnTo>
                  <a:pt x="127" y="623"/>
                </a:lnTo>
                <a:lnTo>
                  <a:pt x="125" y="621"/>
                </a:lnTo>
                <a:lnTo>
                  <a:pt x="123" y="619"/>
                </a:lnTo>
                <a:lnTo>
                  <a:pt x="121" y="616"/>
                </a:lnTo>
                <a:lnTo>
                  <a:pt x="119" y="614"/>
                </a:lnTo>
                <a:lnTo>
                  <a:pt x="117" y="612"/>
                </a:lnTo>
                <a:lnTo>
                  <a:pt x="115" y="610"/>
                </a:lnTo>
                <a:lnTo>
                  <a:pt x="113" y="608"/>
                </a:lnTo>
                <a:lnTo>
                  <a:pt x="111" y="606"/>
                </a:lnTo>
                <a:lnTo>
                  <a:pt x="109" y="604"/>
                </a:lnTo>
                <a:lnTo>
                  <a:pt x="107" y="602"/>
                </a:lnTo>
                <a:lnTo>
                  <a:pt x="105" y="600"/>
                </a:lnTo>
                <a:lnTo>
                  <a:pt x="103" y="599"/>
                </a:lnTo>
                <a:lnTo>
                  <a:pt x="102" y="597"/>
                </a:lnTo>
                <a:lnTo>
                  <a:pt x="100" y="595"/>
                </a:lnTo>
                <a:lnTo>
                  <a:pt x="98" y="593"/>
                </a:lnTo>
                <a:lnTo>
                  <a:pt x="97" y="591"/>
                </a:lnTo>
                <a:lnTo>
                  <a:pt x="95" y="589"/>
                </a:lnTo>
                <a:lnTo>
                  <a:pt x="94" y="588"/>
                </a:lnTo>
                <a:lnTo>
                  <a:pt x="93" y="586"/>
                </a:lnTo>
                <a:lnTo>
                  <a:pt x="92" y="585"/>
                </a:lnTo>
                <a:lnTo>
                  <a:pt x="91" y="584"/>
                </a:lnTo>
                <a:lnTo>
                  <a:pt x="91" y="583"/>
                </a:lnTo>
                <a:lnTo>
                  <a:pt x="91" y="582"/>
                </a:lnTo>
                <a:lnTo>
                  <a:pt x="91" y="582"/>
                </a:lnTo>
                <a:lnTo>
                  <a:pt x="91" y="581"/>
                </a:lnTo>
                <a:lnTo>
                  <a:pt x="92" y="581"/>
                </a:lnTo>
                <a:lnTo>
                  <a:pt x="93" y="581"/>
                </a:lnTo>
                <a:lnTo>
                  <a:pt x="94" y="582"/>
                </a:lnTo>
                <a:lnTo>
                  <a:pt x="95" y="582"/>
                </a:lnTo>
                <a:lnTo>
                  <a:pt x="97" y="583"/>
                </a:lnTo>
                <a:lnTo>
                  <a:pt x="99" y="583"/>
                </a:lnTo>
                <a:lnTo>
                  <a:pt x="101" y="585"/>
                </a:lnTo>
                <a:lnTo>
                  <a:pt x="104" y="586"/>
                </a:lnTo>
                <a:lnTo>
                  <a:pt x="106" y="587"/>
                </a:lnTo>
                <a:lnTo>
                  <a:pt x="109" y="588"/>
                </a:lnTo>
                <a:lnTo>
                  <a:pt x="112" y="589"/>
                </a:lnTo>
                <a:lnTo>
                  <a:pt x="114" y="590"/>
                </a:lnTo>
                <a:lnTo>
                  <a:pt x="117" y="591"/>
                </a:lnTo>
                <a:lnTo>
                  <a:pt x="120" y="592"/>
                </a:lnTo>
                <a:lnTo>
                  <a:pt x="123" y="593"/>
                </a:lnTo>
                <a:lnTo>
                  <a:pt x="125" y="593"/>
                </a:lnTo>
                <a:lnTo>
                  <a:pt x="128" y="594"/>
                </a:lnTo>
                <a:lnTo>
                  <a:pt x="131" y="594"/>
                </a:lnTo>
                <a:lnTo>
                  <a:pt x="134" y="595"/>
                </a:lnTo>
                <a:lnTo>
                  <a:pt x="137" y="595"/>
                </a:lnTo>
                <a:lnTo>
                  <a:pt x="140" y="595"/>
                </a:lnTo>
                <a:lnTo>
                  <a:pt x="142" y="595"/>
                </a:lnTo>
                <a:lnTo>
                  <a:pt x="145" y="595"/>
                </a:lnTo>
                <a:lnTo>
                  <a:pt x="148" y="595"/>
                </a:lnTo>
                <a:lnTo>
                  <a:pt x="151" y="595"/>
                </a:lnTo>
                <a:lnTo>
                  <a:pt x="153" y="594"/>
                </a:lnTo>
                <a:lnTo>
                  <a:pt x="155" y="594"/>
                </a:lnTo>
                <a:lnTo>
                  <a:pt x="157" y="594"/>
                </a:lnTo>
                <a:lnTo>
                  <a:pt x="158" y="594"/>
                </a:lnTo>
                <a:lnTo>
                  <a:pt x="159" y="594"/>
                </a:lnTo>
                <a:lnTo>
                  <a:pt x="160" y="594"/>
                </a:lnTo>
                <a:lnTo>
                  <a:pt x="160" y="594"/>
                </a:lnTo>
                <a:lnTo>
                  <a:pt x="160" y="594"/>
                </a:lnTo>
                <a:lnTo>
                  <a:pt x="159" y="594"/>
                </a:lnTo>
                <a:lnTo>
                  <a:pt x="158" y="594"/>
                </a:lnTo>
                <a:lnTo>
                  <a:pt x="157" y="594"/>
                </a:lnTo>
                <a:lnTo>
                  <a:pt x="155" y="594"/>
                </a:lnTo>
                <a:lnTo>
                  <a:pt x="153" y="594"/>
                </a:lnTo>
                <a:lnTo>
                  <a:pt x="151" y="595"/>
                </a:lnTo>
                <a:lnTo>
                  <a:pt x="148" y="595"/>
                </a:lnTo>
                <a:lnTo>
                  <a:pt x="145" y="595"/>
                </a:lnTo>
                <a:lnTo>
                  <a:pt x="142" y="595"/>
                </a:lnTo>
                <a:lnTo>
                  <a:pt x="140" y="595"/>
                </a:lnTo>
                <a:lnTo>
                  <a:pt x="137" y="595"/>
                </a:lnTo>
                <a:lnTo>
                  <a:pt x="134" y="595"/>
                </a:lnTo>
                <a:lnTo>
                  <a:pt x="131" y="594"/>
                </a:lnTo>
                <a:lnTo>
                  <a:pt x="128" y="594"/>
                </a:lnTo>
                <a:lnTo>
                  <a:pt x="125" y="593"/>
                </a:lnTo>
                <a:lnTo>
                  <a:pt x="123" y="593"/>
                </a:lnTo>
                <a:lnTo>
                  <a:pt x="120" y="592"/>
                </a:lnTo>
                <a:lnTo>
                  <a:pt x="117" y="591"/>
                </a:lnTo>
                <a:lnTo>
                  <a:pt x="114" y="590"/>
                </a:lnTo>
                <a:lnTo>
                  <a:pt x="112" y="589"/>
                </a:lnTo>
                <a:lnTo>
                  <a:pt x="109" y="588"/>
                </a:lnTo>
                <a:lnTo>
                  <a:pt x="106" y="587"/>
                </a:lnTo>
                <a:lnTo>
                  <a:pt x="104" y="586"/>
                </a:lnTo>
                <a:lnTo>
                  <a:pt x="101" y="584"/>
                </a:lnTo>
                <a:lnTo>
                  <a:pt x="99" y="583"/>
                </a:lnTo>
                <a:lnTo>
                  <a:pt x="96" y="582"/>
                </a:lnTo>
                <a:lnTo>
                  <a:pt x="93" y="580"/>
                </a:lnTo>
                <a:lnTo>
                  <a:pt x="91" y="579"/>
                </a:lnTo>
                <a:lnTo>
                  <a:pt x="88" y="577"/>
                </a:lnTo>
                <a:lnTo>
                  <a:pt x="86" y="576"/>
                </a:lnTo>
                <a:lnTo>
                  <a:pt x="83" y="574"/>
                </a:lnTo>
                <a:lnTo>
                  <a:pt x="80" y="573"/>
                </a:lnTo>
                <a:lnTo>
                  <a:pt x="78" y="571"/>
                </a:lnTo>
                <a:lnTo>
                  <a:pt x="75" y="570"/>
                </a:lnTo>
                <a:lnTo>
                  <a:pt x="73" y="568"/>
                </a:lnTo>
                <a:lnTo>
                  <a:pt x="70" y="567"/>
                </a:lnTo>
                <a:lnTo>
                  <a:pt x="68" y="565"/>
                </a:lnTo>
                <a:lnTo>
                  <a:pt x="65" y="563"/>
                </a:lnTo>
                <a:lnTo>
                  <a:pt x="63" y="562"/>
                </a:lnTo>
                <a:lnTo>
                  <a:pt x="60" y="560"/>
                </a:lnTo>
                <a:lnTo>
                  <a:pt x="57" y="558"/>
                </a:lnTo>
                <a:lnTo>
                  <a:pt x="55" y="556"/>
                </a:lnTo>
                <a:lnTo>
                  <a:pt x="52" y="553"/>
                </a:lnTo>
                <a:lnTo>
                  <a:pt x="50" y="551"/>
                </a:lnTo>
                <a:lnTo>
                  <a:pt x="48" y="548"/>
                </a:lnTo>
                <a:lnTo>
                  <a:pt x="45" y="545"/>
                </a:lnTo>
                <a:lnTo>
                  <a:pt x="43" y="541"/>
                </a:lnTo>
                <a:lnTo>
                  <a:pt x="40" y="538"/>
                </a:lnTo>
                <a:lnTo>
                  <a:pt x="38" y="534"/>
                </a:lnTo>
                <a:lnTo>
                  <a:pt x="35" y="530"/>
                </a:lnTo>
                <a:lnTo>
                  <a:pt x="33" y="526"/>
                </a:lnTo>
                <a:lnTo>
                  <a:pt x="31" y="522"/>
                </a:lnTo>
                <a:lnTo>
                  <a:pt x="28" y="517"/>
                </a:lnTo>
                <a:lnTo>
                  <a:pt x="26" y="512"/>
                </a:lnTo>
                <a:lnTo>
                  <a:pt x="24" y="507"/>
                </a:lnTo>
                <a:lnTo>
                  <a:pt x="21" y="502"/>
                </a:lnTo>
                <a:lnTo>
                  <a:pt x="19" y="497"/>
                </a:lnTo>
                <a:lnTo>
                  <a:pt x="17" y="491"/>
                </a:lnTo>
                <a:lnTo>
                  <a:pt x="15" y="486"/>
                </a:lnTo>
                <a:lnTo>
                  <a:pt x="13" y="481"/>
                </a:lnTo>
                <a:lnTo>
                  <a:pt x="12" y="475"/>
                </a:lnTo>
                <a:lnTo>
                  <a:pt x="10" y="469"/>
                </a:lnTo>
                <a:lnTo>
                  <a:pt x="9" y="464"/>
                </a:lnTo>
                <a:lnTo>
                  <a:pt x="7" y="458"/>
                </a:lnTo>
                <a:lnTo>
                  <a:pt x="6" y="452"/>
                </a:lnTo>
                <a:lnTo>
                  <a:pt x="5" y="446"/>
                </a:lnTo>
                <a:lnTo>
                  <a:pt x="4" y="440"/>
                </a:lnTo>
                <a:lnTo>
                  <a:pt x="3" y="434"/>
                </a:lnTo>
                <a:lnTo>
                  <a:pt x="2" y="428"/>
                </a:lnTo>
                <a:lnTo>
                  <a:pt x="1" y="421"/>
                </a:lnTo>
                <a:lnTo>
                  <a:pt x="1" y="415"/>
                </a:lnTo>
                <a:lnTo>
                  <a:pt x="1" y="409"/>
                </a:lnTo>
                <a:lnTo>
                  <a:pt x="0" y="403"/>
                </a:lnTo>
                <a:lnTo>
                  <a:pt x="0" y="397"/>
                </a:lnTo>
                <a:lnTo>
                  <a:pt x="0" y="390"/>
                </a:lnTo>
                <a:lnTo>
                  <a:pt x="0" y="385"/>
                </a:lnTo>
                <a:lnTo>
                  <a:pt x="1" y="379"/>
                </a:lnTo>
                <a:lnTo>
                  <a:pt x="1" y="373"/>
                </a:lnTo>
                <a:lnTo>
                  <a:pt x="2" y="367"/>
                </a:lnTo>
                <a:lnTo>
                  <a:pt x="3" y="362"/>
                </a:lnTo>
                <a:lnTo>
                  <a:pt x="4" y="356"/>
                </a:lnTo>
                <a:lnTo>
                  <a:pt x="5" y="351"/>
                </a:lnTo>
                <a:lnTo>
                  <a:pt x="6" y="346"/>
                </a:lnTo>
                <a:lnTo>
                  <a:pt x="7" y="341"/>
                </a:lnTo>
                <a:lnTo>
                  <a:pt x="9" y="336"/>
                </a:lnTo>
                <a:lnTo>
                  <a:pt x="11" y="331"/>
                </a:lnTo>
                <a:lnTo>
                  <a:pt x="13" y="326"/>
                </a:lnTo>
                <a:lnTo>
                  <a:pt x="15" y="321"/>
                </a:lnTo>
                <a:lnTo>
                  <a:pt x="17" y="317"/>
                </a:lnTo>
                <a:lnTo>
                  <a:pt x="19" y="312"/>
                </a:lnTo>
                <a:lnTo>
                  <a:pt x="21" y="308"/>
                </a:lnTo>
                <a:lnTo>
                  <a:pt x="23" y="304"/>
                </a:lnTo>
                <a:lnTo>
                  <a:pt x="25" y="300"/>
                </a:lnTo>
                <a:lnTo>
                  <a:pt x="27" y="296"/>
                </a:lnTo>
                <a:lnTo>
                  <a:pt x="30" y="292"/>
                </a:lnTo>
                <a:lnTo>
                  <a:pt x="32" y="289"/>
                </a:lnTo>
                <a:lnTo>
                  <a:pt x="34" y="285"/>
                </a:lnTo>
                <a:lnTo>
                  <a:pt x="37" y="282"/>
                </a:lnTo>
                <a:lnTo>
                  <a:pt x="39" y="279"/>
                </a:lnTo>
                <a:lnTo>
                  <a:pt x="42" y="276"/>
                </a:lnTo>
                <a:lnTo>
                  <a:pt x="44" y="273"/>
                </a:lnTo>
                <a:lnTo>
                  <a:pt x="47" y="270"/>
                </a:lnTo>
                <a:lnTo>
                  <a:pt x="49" y="268"/>
                </a:lnTo>
                <a:lnTo>
                  <a:pt x="4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538" name=""/>
          <p:cNvGrpSpPr/>
          <p:nvPr/>
        </p:nvGrpSpPr>
        <p:grpSpPr>
          <a:xfrm>
            <a:off x="2324160" y="2670120"/>
            <a:ext cx="680760" cy="399600"/>
            <a:chOff x="2324160" y="2670120"/>
            <a:chExt cx="680760" cy="399600"/>
          </a:xfrm>
        </p:grpSpPr>
        <p:sp>
          <p:nvSpPr>
            <p:cNvPr id="539" name=""/>
            <p:cNvSpPr/>
            <p:nvPr/>
          </p:nvSpPr>
          <p:spPr>
            <a:xfrm>
              <a:off x="2324160" y="2670120"/>
              <a:ext cx="309240" cy="133200"/>
            </a:xfrm>
            <a:prstGeom prst="ellipse">
              <a:avLst/>
            </a:prstGeom>
            <a:solidFill>
              <a:srgbClr val="f3f6ff"/>
            </a:solidFill>
            <a:ln w="0">
              <a:solidFill>
                <a:srgbClr val="6699ff"/>
              </a:solidFill>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40" name=""/>
            <p:cNvSpPr/>
            <p:nvPr/>
          </p:nvSpPr>
          <p:spPr>
            <a:xfrm>
              <a:off x="2571480" y="2869560"/>
              <a:ext cx="247320" cy="66600"/>
            </a:xfrm>
            <a:prstGeom prst="ellipse">
              <a:avLst/>
            </a:prstGeom>
            <a:solidFill>
              <a:srgbClr val="f3f6ff"/>
            </a:solidFill>
            <a:ln w="0">
              <a:solidFill>
                <a:srgbClr val="6699ff"/>
              </a:solidFill>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sp>
          <p:nvSpPr>
            <p:cNvPr id="541" name=""/>
            <p:cNvSpPr/>
            <p:nvPr/>
          </p:nvSpPr>
          <p:spPr>
            <a:xfrm>
              <a:off x="2819160" y="3003120"/>
              <a:ext cx="185760" cy="66600"/>
            </a:xfrm>
            <a:prstGeom prst="ellipse">
              <a:avLst/>
            </a:prstGeom>
            <a:solidFill>
              <a:srgbClr val="f3f6ff"/>
            </a:solidFill>
            <a:ln w="0">
              <a:solidFill>
                <a:srgbClr val="6699ff"/>
              </a:solidFill>
            </a:ln>
          </p:spPr>
          <p:style>
            <a:lnRef idx="0"/>
            <a:fillRef idx="0"/>
            <a:effectRef idx="0"/>
            <a:fontRef idx="minor"/>
          </p:style>
          <p:txBody>
            <a:bodyPr wrap="none" lIns="90000" rIns="90000" tIns="360" bIns="360" anchor="ctr">
              <a:spAutoFit/>
            </a:bodyPr>
            <a:p>
              <a:endParaRPr b="0" lang="en-US" sz="2400" spc="-1" strike="noStrike">
                <a:solidFill>
                  <a:srgbClr val="000066"/>
                </a:solidFill>
                <a:latin typeface="Times New Roman"/>
              </a:endParaRPr>
            </a:p>
          </p:txBody>
        </p:sp>
      </p:grpSp>
      <p:sp>
        <p:nvSpPr>
          <p:cNvPr id="542" name=""/>
          <p:cNvSpPr/>
          <p:nvPr/>
        </p:nvSpPr>
        <p:spPr>
          <a:xfrm>
            <a:off x="838080" y="2438280"/>
            <a:ext cx="1295640" cy="45900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4246e"/>
                </a:solidFill>
                <a:latin typeface="Arial"/>
              </a:rPr>
              <a:t>图书  讲义  课件</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4246e"/>
                </a:solidFill>
                <a:latin typeface="Arial"/>
              </a:rPr>
              <a:t>… …</a:t>
            </a:r>
            <a:endParaRPr b="0" lang="en-US" sz="1200" spc="-1" strike="noStrike">
              <a:solidFill>
                <a:srgbClr val="000066"/>
              </a:solidFill>
              <a:latin typeface="Times New Roman"/>
            </a:endParaRPr>
          </a:p>
        </p:txBody>
      </p:sp>
      <p:sp>
        <p:nvSpPr>
          <p:cNvPr id="543" name=""/>
          <p:cNvSpPr/>
          <p:nvPr/>
        </p:nvSpPr>
        <p:spPr>
          <a:xfrm>
            <a:off x="2905200" y="2514600"/>
            <a:ext cx="1908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4246e"/>
                </a:solidFill>
                <a:latin typeface="Arial"/>
              </a:rPr>
              <a:t>环境</a:t>
            </a:r>
            <a:endParaRPr b="0" lang="en-US" sz="1600" spc="-1" strike="noStrike">
              <a:solidFill>
                <a:srgbClr val="000066"/>
              </a:solidFill>
              <a:latin typeface="Times New Roman"/>
            </a:endParaRPr>
          </a:p>
        </p:txBody>
      </p:sp>
      <p:sp>
        <p:nvSpPr>
          <p:cNvPr id="544" name=""/>
          <p:cNvSpPr/>
          <p:nvPr/>
        </p:nvSpPr>
        <p:spPr>
          <a:xfrm>
            <a:off x="3505320" y="3849840"/>
            <a:ext cx="19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ea typeface="幼圆"/>
              </a:rPr>
              <a:t>……</a:t>
            </a:r>
            <a:endParaRPr b="0" lang="en-US" sz="1800" spc="-1" strike="noStrike">
              <a:solidFill>
                <a:srgbClr val="000066"/>
              </a:solidFill>
              <a:latin typeface="Times New Roman"/>
            </a:endParaRPr>
          </a:p>
        </p:txBody>
      </p:sp>
      <p:sp>
        <p:nvSpPr>
          <p:cNvPr id="545" name=""/>
          <p:cNvSpPr/>
          <p:nvPr/>
        </p:nvSpPr>
        <p:spPr>
          <a:xfrm>
            <a:off x="3505320" y="1219320"/>
            <a:ext cx="1371600" cy="838080"/>
          </a:xfrm>
          <a:custGeom>
            <a:avLst/>
            <a:gdLst/>
            <a:ahLst/>
            <a:rect l="l" t="t" r="r" b="b"/>
            <a:pathLst>
              <a:path w="1149" h="719">
                <a:moveTo>
                  <a:pt x="1099" y="268"/>
                </a:moveTo>
                <a:lnTo>
                  <a:pt x="1096" y="265"/>
                </a:lnTo>
                <a:lnTo>
                  <a:pt x="1093" y="262"/>
                </a:lnTo>
                <a:lnTo>
                  <a:pt x="1091" y="259"/>
                </a:lnTo>
                <a:lnTo>
                  <a:pt x="1088" y="255"/>
                </a:lnTo>
                <a:lnTo>
                  <a:pt x="1085" y="252"/>
                </a:lnTo>
                <a:lnTo>
                  <a:pt x="1083" y="247"/>
                </a:lnTo>
                <a:lnTo>
                  <a:pt x="1080" y="243"/>
                </a:lnTo>
                <a:lnTo>
                  <a:pt x="1077" y="238"/>
                </a:lnTo>
                <a:lnTo>
                  <a:pt x="1075" y="233"/>
                </a:lnTo>
                <a:lnTo>
                  <a:pt x="1072" y="228"/>
                </a:lnTo>
                <a:lnTo>
                  <a:pt x="1069" y="222"/>
                </a:lnTo>
                <a:lnTo>
                  <a:pt x="1066" y="216"/>
                </a:lnTo>
                <a:lnTo>
                  <a:pt x="1064" y="209"/>
                </a:lnTo>
                <a:lnTo>
                  <a:pt x="1061" y="203"/>
                </a:lnTo>
                <a:lnTo>
                  <a:pt x="1058" y="196"/>
                </a:lnTo>
                <a:lnTo>
                  <a:pt x="1055" y="188"/>
                </a:lnTo>
                <a:lnTo>
                  <a:pt x="1052" y="181"/>
                </a:lnTo>
                <a:lnTo>
                  <a:pt x="1049" y="174"/>
                </a:lnTo>
                <a:lnTo>
                  <a:pt x="1046" y="167"/>
                </a:lnTo>
                <a:lnTo>
                  <a:pt x="1043" y="160"/>
                </a:lnTo>
                <a:lnTo>
                  <a:pt x="1040" y="154"/>
                </a:lnTo>
                <a:lnTo>
                  <a:pt x="1037" y="148"/>
                </a:lnTo>
                <a:lnTo>
                  <a:pt x="1034" y="142"/>
                </a:lnTo>
                <a:lnTo>
                  <a:pt x="1030" y="136"/>
                </a:lnTo>
                <a:lnTo>
                  <a:pt x="1027" y="130"/>
                </a:lnTo>
                <a:lnTo>
                  <a:pt x="1023" y="125"/>
                </a:lnTo>
                <a:lnTo>
                  <a:pt x="1020" y="120"/>
                </a:lnTo>
                <a:lnTo>
                  <a:pt x="1016" y="115"/>
                </a:lnTo>
                <a:lnTo>
                  <a:pt x="1012" y="110"/>
                </a:lnTo>
                <a:lnTo>
                  <a:pt x="1008" y="106"/>
                </a:lnTo>
                <a:lnTo>
                  <a:pt x="1005" y="102"/>
                </a:lnTo>
                <a:lnTo>
                  <a:pt x="1001" y="98"/>
                </a:lnTo>
                <a:lnTo>
                  <a:pt x="997" y="94"/>
                </a:lnTo>
                <a:lnTo>
                  <a:pt x="993" y="91"/>
                </a:lnTo>
                <a:lnTo>
                  <a:pt x="989" y="88"/>
                </a:lnTo>
                <a:lnTo>
                  <a:pt x="985" y="85"/>
                </a:lnTo>
                <a:lnTo>
                  <a:pt x="981" y="82"/>
                </a:lnTo>
                <a:lnTo>
                  <a:pt x="977" y="79"/>
                </a:lnTo>
                <a:lnTo>
                  <a:pt x="973" y="77"/>
                </a:lnTo>
                <a:lnTo>
                  <a:pt x="969" y="74"/>
                </a:lnTo>
                <a:lnTo>
                  <a:pt x="965" y="72"/>
                </a:lnTo>
                <a:lnTo>
                  <a:pt x="962" y="71"/>
                </a:lnTo>
                <a:lnTo>
                  <a:pt x="958" y="69"/>
                </a:lnTo>
                <a:lnTo>
                  <a:pt x="954" y="68"/>
                </a:lnTo>
                <a:lnTo>
                  <a:pt x="950" y="66"/>
                </a:lnTo>
                <a:lnTo>
                  <a:pt x="946" y="65"/>
                </a:lnTo>
                <a:lnTo>
                  <a:pt x="943" y="65"/>
                </a:lnTo>
                <a:lnTo>
                  <a:pt x="939" y="64"/>
                </a:lnTo>
                <a:lnTo>
                  <a:pt x="935" y="64"/>
                </a:lnTo>
                <a:lnTo>
                  <a:pt x="932" y="64"/>
                </a:lnTo>
                <a:lnTo>
                  <a:pt x="928" y="63"/>
                </a:lnTo>
                <a:lnTo>
                  <a:pt x="924" y="64"/>
                </a:lnTo>
                <a:lnTo>
                  <a:pt x="921" y="64"/>
                </a:lnTo>
                <a:lnTo>
                  <a:pt x="917" y="64"/>
                </a:lnTo>
                <a:lnTo>
                  <a:pt x="914" y="65"/>
                </a:lnTo>
                <a:lnTo>
                  <a:pt x="910" y="65"/>
                </a:lnTo>
                <a:lnTo>
                  <a:pt x="907" y="66"/>
                </a:lnTo>
                <a:lnTo>
                  <a:pt x="903" y="67"/>
                </a:lnTo>
                <a:lnTo>
                  <a:pt x="900" y="68"/>
                </a:lnTo>
                <a:lnTo>
                  <a:pt x="896" y="70"/>
                </a:lnTo>
                <a:lnTo>
                  <a:pt x="893" y="71"/>
                </a:lnTo>
                <a:lnTo>
                  <a:pt x="890" y="73"/>
                </a:lnTo>
                <a:lnTo>
                  <a:pt x="886" y="75"/>
                </a:lnTo>
                <a:lnTo>
                  <a:pt x="883" y="77"/>
                </a:lnTo>
                <a:lnTo>
                  <a:pt x="880" y="79"/>
                </a:lnTo>
                <a:lnTo>
                  <a:pt x="877" y="81"/>
                </a:lnTo>
                <a:lnTo>
                  <a:pt x="874" y="83"/>
                </a:lnTo>
                <a:lnTo>
                  <a:pt x="871" y="85"/>
                </a:lnTo>
                <a:lnTo>
                  <a:pt x="869" y="87"/>
                </a:lnTo>
                <a:lnTo>
                  <a:pt x="867" y="89"/>
                </a:lnTo>
                <a:lnTo>
                  <a:pt x="865" y="92"/>
                </a:lnTo>
                <a:lnTo>
                  <a:pt x="863" y="94"/>
                </a:lnTo>
                <a:lnTo>
                  <a:pt x="861" y="96"/>
                </a:lnTo>
                <a:lnTo>
                  <a:pt x="860" y="98"/>
                </a:lnTo>
                <a:lnTo>
                  <a:pt x="859" y="101"/>
                </a:lnTo>
                <a:lnTo>
                  <a:pt x="858" y="103"/>
                </a:lnTo>
                <a:lnTo>
                  <a:pt x="857" y="106"/>
                </a:lnTo>
                <a:lnTo>
                  <a:pt x="857" y="108"/>
                </a:lnTo>
                <a:lnTo>
                  <a:pt x="856" y="111"/>
                </a:lnTo>
                <a:lnTo>
                  <a:pt x="856" y="113"/>
                </a:lnTo>
                <a:lnTo>
                  <a:pt x="856" y="116"/>
                </a:lnTo>
                <a:lnTo>
                  <a:pt x="856" y="118"/>
                </a:lnTo>
                <a:lnTo>
                  <a:pt x="856" y="120"/>
                </a:lnTo>
                <a:lnTo>
                  <a:pt x="856" y="121"/>
                </a:lnTo>
                <a:lnTo>
                  <a:pt x="856" y="122"/>
                </a:lnTo>
                <a:lnTo>
                  <a:pt x="856" y="123"/>
                </a:lnTo>
                <a:lnTo>
                  <a:pt x="856" y="123"/>
                </a:lnTo>
                <a:lnTo>
                  <a:pt x="856" y="124"/>
                </a:lnTo>
                <a:lnTo>
                  <a:pt x="856" y="123"/>
                </a:lnTo>
                <a:lnTo>
                  <a:pt x="856" y="123"/>
                </a:lnTo>
                <a:lnTo>
                  <a:pt x="856" y="122"/>
                </a:lnTo>
                <a:lnTo>
                  <a:pt x="856" y="121"/>
                </a:lnTo>
                <a:lnTo>
                  <a:pt x="856" y="120"/>
                </a:lnTo>
                <a:lnTo>
                  <a:pt x="856" y="118"/>
                </a:lnTo>
                <a:lnTo>
                  <a:pt x="856" y="116"/>
                </a:lnTo>
                <a:lnTo>
                  <a:pt x="856" y="113"/>
                </a:lnTo>
                <a:lnTo>
                  <a:pt x="856" y="111"/>
                </a:lnTo>
                <a:lnTo>
                  <a:pt x="856" y="108"/>
                </a:lnTo>
                <a:lnTo>
                  <a:pt x="856" y="105"/>
                </a:lnTo>
                <a:lnTo>
                  <a:pt x="855" y="102"/>
                </a:lnTo>
                <a:lnTo>
                  <a:pt x="854" y="100"/>
                </a:lnTo>
                <a:lnTo>
                  <a:pt x="853" y="97"/>
                </a:lnTo>
                <a:lnTo>
                  <a:pt x="852" y="94"/>
                </a:lnTo>
                <a:lnTo>
                  <a:pt x="851" y="91"/>
                </a:lnTo>
                <a:lnTo>
                  <a:pt x="849" y="88"/>
                </a:lnTo>
                <a:lnTo>
                  <a:pt x="848" y="84"/>
                </a:lnTo>
                <a:lnTo>
                  <a:pt x="846" y="81"/>
                </a:lnTo>
                <a:lnTo>
                  <a:pt x="844" y="78"/>
                </a:lnTo>
                <a:lnTo>
                  <a:pt x="842" y="75"/>
                </a:lnTo>
                <a:lnTo>
                  <a:pt x="840" y="71"/>
                </a:lnTo>
                <a:lnTo>
                  <a:pt x="837" y="68"/>
                </a:lnTo>
                <a:lnTo>
                  <a:pt x="835" y="64"/>
                </a:lnTo>
                <a:lnTo>
                  <a:pt x="832" y="61"/>
                </a:lnTo>
                <a:lnTo>
                  <a:pt x="829" y="57"/>
                </a:lnTo>
                <a:lnTo>
                  <a:pt x="826" y="54"/>
                </a:lnTo>
                <a:lnTo>
                  <a:pt x="823" y="51"/>
                </a:lnTo>
                <a:lnTo>
                  <a:pt x="820" y="48"/>
                </a:lnTo>
                <a:lnTo>
                  <a:pt x="817" y="45"/>
                </a:lnTo>
                <a:lnTo>
                  <a:pt x="814" y="42"/>
                </a:lnTo>
                <a:lnTo>
                  <a:pt x="810" y="39"/>
                </a:lnTo>
                <a:lnTo>
                  <a:pt x="807" y="36"/>
                </a:lnTo>
                <a:lnTo>
                  <a:pt x="803" y="34"/>
                </a:lnTo>
                <a:lnTo>
                  <a:pt x="800" y="31"/>
                </a:lnTo>
                <a:lnTo>
                  <a:pt x="796" y="29"/>
                </a:lnTo>
                <a:lnTo>
                  <a:pt x="792" y="27"/>
                </a:lnTo>
                <a:lnTo>
                  <a:pt x="789" y="24"/>
                </a:lnTo>
                <a:lnTo>
                  <a:pt x="785" y="22"/>
                </a:lnTo>
                <a:lnTo>
                  <a:pt x="781" y="20"/>
                </a:lnTo>
                <a:lnTo>
                  <a:pt x="777" y="18"/>
                </a:lnTo>
                <a:lnTo>
                  <a:pt x="773" y="17"/>
                </a:lnTo>
                <a:lnTo>
                  <a:pt x="769" y="15"/>
                </a:lnTo>
                <a:lnTo>
                  <a:pt x="764" y="13"/>
                </a:lnTo>
                <a:lnTo>
                  <a:pt x="760" y="12"/>
                </a:lnTo>
                <a:lnTo>
                  <a:pt x="756" y="11"/>
                </a:lnTo>
                <a:lnTo>
                  <a:pt x="751" y="9"/>
                </a:lnTo>
                <a:lnTo>
                  <a:pt x="747" y="8"/>
                </a:lnTo>
                <a:lnTo>
                  <a:pt x="742" y="7"/>
                </a:lnTo>
                <a:lnTo>
                  <a:pt x="738" y="6"/>
                </a:lnTo>
                <a:lnTo>
                  <a:pt x="733" y="5"/>
                </a:lnTo>
                <a:lnTo>
                  <a:pt x="728" y="4"/>
                </a:lnTo>
                <a:lnTo>
                  <a:pt x="724" y="3"/>
                </a:lnTo>
                <a:lnTo>
                  <a:pt x="719" y="3"/>
                </a:lnTo>
                <a:lnTo>
                  <a:pt x="714" y="2"/>
                </a:lnTo>
                <a:lnTo>
                  <a:pt x="709" y="2"/>
                </a:lnTo>
                <a:lnTo>
                  <a:pt x="704" y="1"/>
                </a:lnTo>
                <a:lnTo>
                  <a:pt x="699" y="1"/>
                </a:lnTo>
                <a:lnTo>
                  <a:pt x="694" y="1"/>
                </a:lnTo>
                <a:lnTo>
                  <a:pt x="690" y="0"/>
                </a:lnTo>
                <a:lnTo>
                  <a:pt x="685" y="0"/>
                </a:lnTo>
                <a:lnTo>
                  <a:pt x="681" y="0"/>
                </a:lnTo>
                <a:lnTo>
                  <a:pt x="676" y="0"/>
                </a:lnTo>
                <a:lnTo>
                  <a:pt x="672" y="0"/>
                </a:lnTo>
                <a:lnTo>
                  <a:pt x="667" y="1"/>
                </a:lnTo>
                <a:lnTo>
                  <a:pt x="663" y="1"/>
                </a:lnTo>
                <a:lnTo>
                  <a:pt x="659" y="1"/>
                </a:lnTo>
                <a:lnTo>
                  <a:pt x="655" y="2"/>
                </a:lnTo>
                <a:lnTo>
                  <a:pt x="651" y="2"/>
                </a:lnTo>
                <a:lnTo>
                  <a:pt x="647" y="3"/>
                </a:lnTo>
                <a:lnTo>
                  <a:pt x="643" y="4"/>
                </a:lnTo>
                <a:lnTo>
                  <a:pt x="639" y="4"/>
                </a:lnTo>
                <a:lnTo>
                  <a:pt x="635" y="5"/>
                </a:lnTo>
                <a:lnTo>
                  <a:pt x="631" y="6"/>
                </a:lnTo>
                <a:lnTo>
                  <a:pt x="628" y="7"/>
                </a:lnTo>
                <a:lnTo>
                  <a:pt x="624" y="8"/>
                </a:lnTo>
                <a:lnTo>
                  <a:pt x="621" y="9"/>
                </a:lnTo>
                <a:lnTo>
                  <a:pt x="617" y="10"/>
                </a:lnTo>
                <a:lnTo>
                  <a:pt x="614" y="11"/>
                </a:lnTo>
                <a:lnTo>
                  <a:pt x="611" y="12"/>
                </a:lnTo>
                <a:lnTo>
                  <a:pt x="608" y="13"/>
                </a:lnTo>
                <a:lnTo>
                  <a:pt x="605" y="14"/>
                </a:lnTo>
                <a:lnTo>
                  <a:pt x="602" y="15"/>
                </a:lnTo>
                <a:lnTo>
                  <a:pt x="599" y="16"/>
                </a:lnTo>
                <a:lnTo>
                  <a:pt x="596" y="17"/>
                </a:lnTo>
                <a:lnTo>
                  <a:pt x="593" y="19"/>
                </a:lnTo>
                <a:lnTo>
                  <a:pt x="590" y="20"/>
                </a:lnTo>
                <a:lnTo>
                  <a:pt x="587" y="21"/>
                </a:lnTo>
                <a:lnTo>
                  <a:pt x="585" y="23"/>
                </a:lnTo>
                <a:lnTo>
                  <a:pt x="582" y="24"/>
                </a:lnTo>
                <a:lnTo>
                  <a:pt x="580" y="26"/>
                </a:lnTo>
                <a:lnTo>
                  <a:pt x="577" y="27"/>
                </a:lnTo>
                <a:lnTo>
                  <a:pt x="575" y="29"/>
                </a:lnTo>
                <a:lnTo>
                  <a:pt x="573" y="30"/>
                </a:lnTo>
                <a:lnTo>
                  <a:pt x="571" y="32"/>
                </a:lnTo>
                <a:lnTo>
                  <a:pt x="569" y="34"/>
                </a:lnTo>
                <a:lnTo>
                  <a:pt x="567" y="36"/>
                </a:lnTo>
                <a:lnTo>
                  <a:pt x="565" y="37"/>
                </a:lnTo>
                <a:lnTo>
                  <a:pt x="563" y="39"/>
                </a:lnTo>
                <a:lnTo>
                  <a:pt x="561" y="41"/>
                </a:lnTo>
                <a:lnTo>
                  <a:pt x="559" y="43"/>
                </a:lnTo>
                <a:lnTo>
                  <a:pt x="557" y="45"/>
                </a:lnTo>
                <a:lnTo>
                  <a:pt x="556" y="48"/>
                </a:lnTo>
                <a:lnTo>
                  <a:pt x="554" y="50"/>
                </a:lnTo>
                <a:lnTo>
                  <a:pt x="553" y="52"/>
                </a:lnTo>
                <a:lnTo>
                  <a:pt x="551" y="54"/>
                </a:lnTo>
                <a:lnTo>
                  <a:pt x="551" y="56"/>
                </a:lnTo>
                <a:lnTo>
                  <a:pt x="550" y="58"/>
                </a:lnTo>
                <a:lnTo>
                  <a:pt x="550" y="60"/>
                </a:lnTo>
                <a:lnTo>
                  <a:pt x="550" y="61"/>
                </a:lnTo>
                <a:lnTo>
                  <a:pt x="551" y="63"/>
                </a:lnTo>
                <a:lnTo>
                  <a:pt x="552" y="64"/>
                </a:lnTo>
                <a:lnTo>
                  <a:pt x="553" y="65"/>
                </a:lnTo>
                <a:lnTo>
                  <a:pt x="554" y="66"/>
                </a:lnTo>
                <a:lnTo>
                  <a:pt x="556" y="67"/>
                </a:lnTo>
                <a:lnTo>
                  <a:pt x="558" y="68"/>
                </a:lnTo>
                <a:lnTo>
                  <a:pt x="560" y="69"/>
                </a:lnTo>
                <a:lnTo>
                  <a:pt x="563" y="69"/>
                </a:lnTo>
                <a:lnTo>
                  <a:pt x="566" y="70"/>
                </a:lnTo>
                <a:lnTo>
                  <a:pt x="570" y="70"/>
                </a:lnTo>
                <a:lnTo>
                  <a:pt x="573" y="71"/>
                </a:lnTo>
                <a:lnTo>
                  <a:pt x="576" y="71"/>
                </a:lnTo>
                <a:lnTo>
                  <a:pt x="580" y="72"/>
                </a:lnTo>
                <a:lnTo>
                  <a:pt x="583" y="72"/>
                </a:lnTo>
                <a:lnTo>
                  <a:pt x="586" y="73"/>
                </a:lnTo>
                <a:lnTo>
                  <a:pt x="589" y="74"/>
                </a:lnTo>
                <a:lnTo>
                  <a:pt x="592" y="75"/>
                </a:lnTo>
                <a:lnTo>
                  <a:pt x="595" y="76"/>
                </a:lnTo>
                <a:lnTo>
                  <a:pt x="598" y="77"/>
                </a:lnTo>
                <a:lnTo>
                  <a:pt x="600" y="78"/>
                </a:lnTo>
                <a:lnTo>
                  <a:pt x="603" y="80"/>
                </a:lnTo>
                <a:lnTo>
                  <a:pt x="606" y="81"/>
                </a:lnTo>
                <a:lnTo>
                  <a:pt x="608" y="82"/>
                </a:lnTo>
                <a:lnTo>
                  <a:pt x="610" y="84"/>
                </a:lnTo>
                <a:lnTo>
                  <a:pt x="613" y="86"/>
                </a:lnTo>
                <a:lnTo>
                  <a:pt x="615" y="87"/>
                </a:lnTo>
                <a:lnTo>
                  <a:pt x="617" y="89"/>
                </a:lnTo>
                <a:lnTo>
                  <a:pt x="619" y="91"/>
                </a:lnTo>
                <a:lnTo>
                  <a:pt x="621" y="93"/>
                </a:lnTo>
                <a:lnTo>
                  <a:pt x="623" y="94"/>
                </a:lnTo>
                <a:lnTo>
                  <a:pt x="624" y="96"/>
                </a:lnTo>
                <a:lnTo>
                  <a:pt x="626" y="98"/>
                </a:lnTo>
                <a:lnTo>
                  <a:pt x="628" y="100"/>
                </a:lnTo>
                <a:lnTo>
                  <a:pt x="629" y="101"/>
                </a:lnTo>
                <a:lnTo>
                  <a:pt x="631" y="103"/>
                </a:lnTo>
                <a:lnTo>
                  <a:pt x="632" y="105"/>
                </a:lnTo>
                <a:lnTo>
                  <a:pt x="634" y="107"/>
                </a:lnTo>
                <a:lnTo>
                  <a:pt x="635" y="108"/>
                </a:lnTo>
                <a:lnTo>
                  <a:pt x="636" y="110"/>
                </a:lnTo>
                <a:lnTo>
                  <a:pt x="637" y="112"/>
                </a:lnTo>
                <a:lnTo>
                  <a:pt x="638" y="113"/>
                </a:lnTo>
                <a:lnTo>
                  <a:pt x="639" y="115"/>
                </a:lnTo>
                <a:lnTo>
                  <a:pt x="640" y="117"/>
                </a:lnTo>
                <a:lnTo>
                  <a:pt x="640" y="118"/>
                </a:lnTo>
                <a:lnTo>
                  <a:pt x="641" y="119"/>
                </a:lnTo>
                <a:lnTo>
                  <a:pt x="642" y="120"/>
                </a:lnTo>
                <a:lnTo>
                  <a:pt x="642" y="121"/>
                </a:lnTo>
                <a:lnTo>
                  <a:pt x="642" y="121"/>
                </a:lnTo>
                <a:lnTo>
                  <a:pt x="642" y="122"/>
                </a:lnTo>
                <a:lnTo>
                  <a:pt x="642" y="122"/>
                </a:lnTo>
                <a:lnTo>
                  <a:pt x="642" y="122"/>
                </a:lnTo>
                <a:lnTo>
                  <a:pt x="642" y="121"/>
                </a:lnTo>
                <a:lnTo>
                  <a:pt x="642" y="121"/>
                </a:lnTo>
                <a:lnTo>
                  <a:pt x="642" y="120"/>
                </a:lnTo>
                <a:lnTo>
                  <a:pt x="641" y="119"/>
                </a:lnTo>
                <a:lnTo>
                  <a:pt x="640" y="118"/>
                </a:lnTo>
                <a:lnTo>
                  <a:pt x="640" y="117"/>
                </a:lnTo>
                <a:lnTo>
                  <a:pt x="639" y="115"/>
                </a:lnTo>
                <a:lnTo>
                  <a:pt x="638" y="113"/>
                </a:lnTo>
                <a:lnTo>
                  <a:pt x="637" y="112"/>
                </a:lnTo>
                <a:lnTo>
                  <a:pt x="636" y="110"/>
                </a:lnTo>
                <a:lnTo>
                  <a:pt x="635" y="108"/>
                </a:lnTo>
                <a:lnTo>
                  <a:pt x="634" y="107"/>
                </a:lnTo>
                <a:lnTo>
                  <a:pt x="632" y="105"/>
                </a:lnTo>
                <a:lnTo>
                  <a:pt x="631" y="103"/>
                </a:lnTo>
                <a:lnTo>
                  <a:pt x="629" y="101"/>
                </a:lnTo>
                <a:lnTo>
                  <a:pt x="628" y="100"/>
                </a:lnTo>
                <a:lnTo>
                  <a:pt x="626" y="98"/>
                </a:lnTo>
                <a:lnTo>
                  <a:pt x="624" y="96"/>
                </a:lnTo>
                <a:lnTo>
                  <a:pt x="623" y="94"/>
                </a:lnTo>
                <a:lnTo>
                  <a:pt x="621" y="93"/>
                </a:lnTo>
                <a:lnTo>
                  <a:pt x="619" y="91"/>
                </a:lnTo>
                <a:lnTo>
                  <a:pt x="617" y="89"/>
                </a:lnTo>
                <a:lnTo>
                  <a:pt x="615" y="87"/>
                </a:lnTo>
                <a:lnTo>
                  <a:pt x="613" y="86"/>
                </a:lnTo>
                <a:lnTo>
                  <a:pt x="610" y="84"/>
                </a:lnTo>
                <a:lnTo>
                  <a:pt x="608" y="82"/>
                </a:lnTo>
                <a:lnTo>
                  <a:pt x="606" y="81"/>
                </a:lnTo>
                <a:lnTo>
                  <a:pt x="603" y="80"/>
                </a:lnTo>
                <a:lnTo>
                  <a:pt x="600" y="78"/>
                </a:lnTo>
                <a:lnTo>
                  <a:pt x="598" y="77"/>
                </a:lnTo>
                <a:lnTo>
                  <a:pt x="595" y="76"/>
                </a:lnTo>
                <a:lnTo>
                  <a:pt x="592" y="75"/>
                </a:lnTo>
                <a:lnTo>
                  <a:pt x="589" y="74"/>
                </a:lnTo>
                <a:lnTo>
                  <a:pt x="586" y="73"/>
                </a:lnTo>
                <a:lnTo>
                  <a:pt x="583" y="72"/>
                </a:lnTo>
                <a:lnTo>
                  <a:pt x="580" y="72"/>
                </a:lnTo>
                <a:lnTo>
                  <a:pt x="576" y="71"/>
                </a:lnTo>
                <a:lnTo>
                  <a:pt x="573" y="71"/>
                </a:lnTo>
                <a:lnTo>
                  <a:pt x="570" y="70"/>
                </a:lnTo>
                <a:lnTo>
                  <a:pt x="566" y="70"/>
                </a:lnTo>
                <a:lnTo>
                  <a:pt x="563" y="70"/>
                </a:lnTo>
                <a:lnTo>
                  <a:pt x="559" y="69"/>
                </a:lnTo>
                <a:lnTo>
                  <a:pt x="556" y="69"/>
                </a:lnTo>
                <a:lnTo>
                  <a:pt x="552" y="69"/>
                </a:lnTo>
                <a:lnTo>
                  <a:pt x="549" y="69"/>
                </a:lnTo>
                <a:lnTo>
                  <a:pt x="545" y="69"/>
                </a:lnTo>
                <a:lnTo>
                  <a:pt x="542" y="69"/>
                </a:lnTo>
                <a:lnTo>
                  <a:pt x="538" y="68"/>
                </a:lnTo>
                <a:lnTo>
                  <a:pt x="535" y="68"/>
                </a:lnTo>
                <a:lnTo>
                  <a:pt x="531" y="68"/>
                </a:lnTo>
                <a:lnTo>
                  <a:pt x="528" y="68"/>
                </a:lnTo>
                <a:lnTo>
                  <a:pt x="524" y="68"/>
                </a:lnTo>
                <a:lnTo>
                  <a:pt x="521" y="68"/>
                </a:lnTo>
                <a:lnTo>
                  <a:pt x="518" y="68"/>
                </a:lnTo>
                <a:lnTo>
                  <a:pt x="514" y="69"/>
                </a:lnTo>
                <a:lnTo>
                  <a:pt x="511" y="69"/>
                </a:lnTo>
                <a:lnTo>
                  <a:pt x="507" y="69"/>
                </a:lnTo>
                <a:lnTo>
                  <a:pt x="504" y="69"/>
                </a:lnTo>
                <a:lnTo>
                  <a:pt x="501" y="70"/>
                </a:lnTo>
                <a:lnTo>
                  <a:pt x="498" y="70"/>
                </a:lnTo>
                <a:lnTo>
                  <a:pt x="495" y="70"/>
                </a:lnTo>
                <a:lnTo>
                  <a:pt x="492" y="71"/>
                </a:lnTo>
                <a:lnTo>
                  <a:pt x="488" y="71"/>
                </a:lnTo>
                <a:lnTo>
                  <a:pt x="485" y="72"/>
                </a:lnTo>
                <a:lnTo>
                  <a:pt x="483" y="73"/>
                </a:lnTo>
                <a:lnTo>
                  <a:pt x="480" y="74"/>
                </a:lnTo>
                <a:lnTo>
                  <a:pt x="477" y="74"/>
                </a:lnTo>
                <a:lnTo>
                  <a:pt x="474" y="75"/>
                </a:lnTo>
                <a:lnTo>
                  <a:pt x="471" y="76"/>
                </a:lnTo>
                <a:lnTo>
                  <a:pt x="469" y="77"/>
                </a:lnTo>
                <a:lnTo>
                  <a:pt x="466" y="78"/>
                </a:lnTo>
                <a:lnTo>
                  <a:pt x="463" y="80"/>
                </a:lnTo>
                <a:lnTo>
                  <a:pt x="461" y="81"/>
                </a:lnTo>
                <a:lnTo>
                  <a:pt x="459" y="82"/>
                </a:lnTo>
                <a:lnTo>
                  <a:pt x="458" y="83"/>
                </a:lnTo>
                <a:lnTo>
                  <a:pt x="456" y="85"/>
                </a:lnTo>
                <a:lnTo>
                  <a:pt x="455" y="86"/>
                </a:lnTo>
                <a:lnTo>
                  <a:pt x="455" y="88"/>
                </a:lnTo>
                <a:lnTo>
                  <a:pt x="454" y="90"/>
                </a:lnTo>
                <a:lnTo>
                  <a:pt x="454" y="92"/>
                </a:lnTo>
                <a:lnTo>
                  <a:pt x="454" y="93"/>
                </a:lnTo>
                <a:lnTo>
                  <a:pt x="455" y="95"/>
                </a:lnTo>
                <a:lnTo>
                  <a:pt x="455" y="97"/>
                </a:lnTo>
                <a:lnTo>
                  <a:pt x="456" y="99"/>
                </a:lnTo>
                <a:lnTo>
                  <a:pt x="458" y="102"/>
                </a:lnTo>
                <a:lnTo>
                  <a:pt x="459" y="104"/>
                </a:lnTo>
                <a:lnTo>
                  <a:pt x="461" y="106"/>
                </a:lnTo>
                <a:lnTo>
                  <a:pt x="463" y="108"/>
                </a:lnTo>
                <a:lnTo>
                  <a:pt x="465" y="110"/>
                </a:lnTo>
                <a:lnTo>
                  <a:pt x="466" y="112"/>
                </a:lnTo>
                <a:lnTo>
                  <a:pt x="467" y="113"/>
                </a:lnTo>
                <a:lnTo>
                  <a:pt x="468" y="114"/>
                </a:lnTo>
                <a:lnTo>
                  <a:pt x="469" y="115"/>
                </a:lnTo>
                <a:lnTo>
                  <a:pt x="469" y="115"/>
                </a:lnTo>
                <a:lnTo>
                  <a:pt x="469" y="115"/>
                </a:lnTo>
                <a:lnTo>
                  <a:pt x="469" y="115"/>
                </a:lnTo>
                <a:lnTo>
                  <a:pt x="468" y="114"/>
                </a:lnTo>
                <a:lnTo>
                  <a:pt x="468" y="113"/>
                </a:lnTo>
                <a:lnTo>
                  <a:pt x="466" y="112"/>
                </a:lnTo>
                <a:lnTo>
                  <a:pt x="465" y="111"/>
                </a:lnTo>
                <a:lnTo>
                  <a:pt x="464" y="109"/>
                </a:lnTo>
                <a:lnTo>
                  <a:pt x="462" y="107"/>
                </a:lnTo>
                <a:lnTo>
                  <a:pt x="460" y="104"/>
                </a:lnTo>
                <a:lnTo>
                  <a:pt x="457" y="102"/>
                </a:lnTo>
                <a:lnTo>
                  <a:pt x="455" y="99"/>
                </a:lnTo>
                <a:lnTo>
                  <a:pt x="452" y="97"/>
                </a:lnTo>
                <a:lnTo>
                  <a:pt x="450" y="95"/>
                </a:lnTo>
                <a:lnTo>
                  <a:pt x="447" y="92"/>
                </a:lnTo>
                <a:lnTo>
                  <a:pt x="444" y="90"/>
                </a:lnTo>
                <a:lnTo>
                  <a:pt x="442" y="88"/>
                </a:lnTo>
                <a:lnTo>
                  <a:pt x="439" y="86"/>
                </a:lnTo>
                <a:lnTo>
                  <a:pt x="436" y="84"/>
                </a:lnTo>
                <a:lnTo>
                  <a:pt x="432" y="82"/>
                </a:lnTo>
                <a:lnTo>
                  <a:pt x="429" y="81"/>
                </a:lnTo>
                <a:lnTo>
                  <a:pt x="426" y="79"/>
                </a:lnTo>
                <a:lnTo>
                  <a:pt x="422" y="77"/>
                </a:lnTo>
                <a:lnTo>
                  <a:pt x="419" y="76"/>
                </a:lnTo>
                <a:lnTo>
                  <a:pt x="415" y="74"/>
                </a:lnTo>
                <a:lnTo>
                  <a:pt x="411" y="73"/>
                </a:lnTo>
                <a:lnTo>
                  <a:pt x="408" y="72"/>
                </a:lnTo>
                <a:lnTo>
                  <a:pt x="404" y="71"/>
                </a:lnTo>
                <a:lnTo>
                  <a:pt x="400" y="70"/>
                </a:lnTo>
                <a:lnTo>
                  <a:pt x="396" y="69"/>
                </a:lnTo>
                <a:lnTo>
                  <a:pt x="392" y="68"/>
                </a:lnTo>
                <a:lnTo>
                  <a:pt x="388" y="68"/>
                </a:lnTo>
                <a:lnTo>
                  <a:pt x="385" y="67"/>
                </a:lnTo>
                <a:lnTo>
                  <a:pt x="381" y="67"/>
                </a:lnTo>
                <a:lnTo>
                  <a:pt x="377" y="67"/>
                </a:lnTo>
                <a:lnTo>
                  <a:pt x="373" y="67"/>
                </a:lnTo>
                <a:lnTo>
                  <a:pt x="369" y="67"/>
                </a:lnTo>
                <a:lnTo>
                  <a:pt x="365" y="68"/>
                </a:lnTo>
                <a:lnTo>
                  <a:pt x="361" y="68"/>
                </a:lnTo>
                <a:lnTo>
                  <a:pt x="358" y="69"/>
                </a:lnTo>
                <a:lnTo>
                  <a:pt x="354" y="69"/>
                </a:lnTo>
                <a:lnTo>
                  <a:pt x="350" y="70"/>
                </a:lnTo>
                <a:lnTo>
                  <a:pt x="346" y="71"/>
                </a:lnTo>
                <a:lnTo>
                  <a:pt x="342" y="73"/>
                </a:lnTo>
                <a:lnTo>
                  <a:pt x="339" y="74"/>
                </a:lnTo>
                <a:lnTo>
                  <a:pt x="335" y="75"/>
                </a:lnTo>
                <a:lnTo>
                  <a:pt x="332" y="76"/>
                </a:lnTo>
                <a:lnTo>
                  <a:pt x="329" y="78"/>
                </a:lnTo>
                <a:lnTo>
                  <a:pt x="326" y="79"/>
                </a:lnTo>
                <a:lnTo>
                  <a:pt x="323" y="81"/>
                </a:lnTo>
                <a:lnTo>
                  <a:pt x="320" y="83"/>
                </a:lnTo>
                <a:lnTo>
                  <a:pt x="317" y="84"/>
                </a:lnTo>
                <a:lnTo>
                  <a:pt x="315" y="86"/>
                </a:lnTo>
                <a:lnTo>
                  <a:pt x="312" y="88"/>
                </a:lnTo>
                <a:lnTo>
                  <a:pt x="310" y="90"/>
                </a:lnTo>
                <a:lnTo>
                  <a:pt x="308" y="92"/>
                </a:lnTo>
                <a:lnTo>
                  <a:pt x="306" y="94"/>
                </a:lnTo>
                <a:lnTo>
                  <a:pt x="304" y="96"/>
                </a:lnTo>
                <a:lnTo>
                  <a:pt x="302" y="98"/>
                </a:lnTo>
                <a:lnTo>
                  <a:pt x="300" y="101"/>
                </a:lnTo>
                <a:lnTo>
                  <a:pt x="298" y="103"/>
                </a:lnTo>
                <a:lnTo>
                  <a:pt x="297" y="105"/>
                </a:lnTo>
                <a:lnTo>
                  <a:pt x="295" y="107"/>
                </a:lnTo>
                <a:lnTo>
                  <a:pt x="293" y="109"/>
                </a:lnTo>
                <a:lnTo>
                  <a:pt x="292" y="112"/>
                </a:lnTo>
                <a:lnTo>
                  <a:pt x="290" y="114"/>
                </a:lnTo>
                <a:lnTo>
                  <a:pt x="289" y="116"/>
                </a:lnTo>
                <a:lnTo>
                  <a:pt x="287" y="118"/>
                </a:lnTo>
                <a:lnTo>
                  <a:pt x="286" y="120"/>
                </a:lnTo>
                <a:lnTo>
                  <a:pt x="284" y="122"/>
                </a:lnTo>
                <a:lnTo>
                  <a:pt x="283" y="124"/>
                </a:lnTo>
                <a:lnTo>
                  <a:pt x="281" y="126"/>
                </a:lnTo>
                <a:lnTo>
                  <a:pt x="280" y="128"/>
                </a:lnTo>
                <a:lnTo>
                  <a:pt x="279" y="130"/>
                </a:lnTo>
                <a:lnTo>
                  <a:pt x="278" y="132"/>
                </a:lnTo>
                <a:lnTo>
                  <a:pt x="276" y="134"/>
                </a:lnTo>
                <a:lnTo>
                  <a:pt x="275" y="136"/>
                </a:lnTo>
                <a:lnTo>
                  <a:pt x="274" y="139"/>
                </a:lnTo>
                <a:lnTo>
                  <a:pt x="272" y="141"/>
                </a:lnTo>
                <a:lnTo>
                  <a:pt x="271" y="143"/>
                </a:lnTo>
                <a:lnTo>
                  <a:pt x="270" y="145"/>
                </a:lnTo>
                <a:lnTo>
                  <a:pt x="269" y="147"/>
                </a:lnTo>
                <a:lnTo>
                  <a:pt x="267" y="150"/>
                </a:lnTo>
                <a:lnTo>
                  <a:pt x="266" y="152"/>
                </a:lnTo>
                <a:lnTo>
                  <a:pt x="265" y="154"/>
                </a:lnTo>
                <a:lnTo>
                  <a:pt x="264" y="157"/>
                </a:lnTo>
                <a:lnTo>
                  <a:pt x="262" y="159"/>
                </a:lnTo>
                <a:lnTo>
                  <a:pt x="261" y="162"/>
                </a:lnTo>
                <a:lnTo>
                  <a:pt x="260" y="164"/>
                </a:lnTo>
                <a:lnTo>
                  <a:pt x="259" y="167"/>
                </a:lnTo>
                <a:lnTo>
                  <a:pt x="257" y="169"/>
                </a:lnTo>
                <a:lnTo>
                  <a:pt x="256" y="171"/>
                </a:lnTo>
                <a:lnTo>
                  <a:pt x="255" y="173"/>
                </a:lnTo>
                <a:lnTo>
                  <a:pt x="255" y="175"/>
                </a:lnTo>
                <a:lnTo>
                  <a:pt x="254" y="176"/>
                </a:lnTo>
                <a:lnTo>
                  <a:pt x="254" y="176"/>
                </a:lnTo>
                <a:lnTo>
                  <a:pt x="254" y="177"/>
                </a:lnTo>
                <a:lnTo>
                  <a:pt x="253" y="177"/>
                </a:lnTo>
                <a:lnTo>
                  <a:pt x="254" y="177"/>
                </a:lnTo>
                <a:lnTo>
                  <a:pt x="254" y="176"/>
                </a:lnTo>
                <a:lnTo>
                  <a:pt x="254" y="176"/>
                </a:lnTo>
                <a:lnTo>
                  <a:pt x="255" y="175"/>
                </a:lnTo>
                <a:lnTo>
                  <a:pt x="255" y="173"/>
                </a:lnTo>
                <a:lnTo>
                  <a:pt x="256" y="171"/>
                </a:lnTo>
                <a:lnTo>
                  <a:pt x="257" y="169"/>
                </a:lnTo>
                <a:lnTo>
                  <a:pt x="259" y="167"/>
                </a:lnTo>
                <a:lnTo>
                  <a:pt x="260" y="164"/>
                </a:lnTo>
                <a:lnTo>
                  <a:pt x="261" y="162"/>
                </a:lnTo>
                <a:lnTo>
                  <a:pt x="261" y="159"/>
                </a:lnTo>
                <a:lnTo>
                  <a:pt x="262" y="157"/>
                </a:lnTo>
                <a:lnTo>
                  <a:pt x="262" y="154"/>
                </a:lnTo>
                <a:lnTo>
                  <a:pt x="262" y="152"/>
                </a:lnTo>
                <a:lnTo>
                  <a:pt x="262" y="149"/>
                </a:lnTo>
                <a:lnTo>
                  <a:pt x="262" y="147"/>
                </a:lnTo>
                <a:lnTo>
                  <a:pt x="262" y="144"/>
                </a:lnTo>
                <a:lnTo>
                  <a:pt x="261" y="142"/>
                </a:lnTo>
                <a:lnTo>
                  <a:pt x="260" y="139"/>
                </a:lnTo>
                <a:lnTo>
                  <a:pt x="259" y="137"/>
                </a:lnTo>
                <a:lnTo>
                  <a:pt x="258" y="135"/>
                </a:lnTo>
                <a:lnTo>
                  <a:pt x="256" y="132"/>
                </a:lnTo>
                <a:lnTo>
                  <a:pt x="254" y="130"/>
                </a:lnTo>
                <a:lnTo>
                  <a:pt x="252" y="128"/>
                </a:lnTo>
                <a:lnTo>
                  <a:pt x="250" y="125"/>
                </a:lnTo>
                <a:lnTo>
                  <a:pt x="248" y="123"/>
                </a:lnTo>
                <a:lnTo>
                  <a:pt x="246" y="121"/>
                </a:lnTo>
                <a:lnTo>
                  <a:pt x="243" y="119"/>
                </a:lnTo>
                <a:lnTo>
                  <a:pt x="241" y="117"/>
                </a:lnTo>
                <a:lnTo>
                  <a:pt x="238" y="115"/>
                </a:lnTo>
                <a:lnTo>
                  <a:pt x="236" y="113"/>
                </a:lnTo>
                <a:lnTo>
                  <a:pt x="233" y="112"/>
                </a:lnTo>
                <a:lnTo>
                  <a:pt x="230" y="110"/>
                </a:lnTo>
                <a:lnTo>
                  <a:pt x="227" y="109"/>
                </a:lnTo>
                <a:lnTo>
                  <a:pt x="224" y="107"/>
                </a:lnTo>
                <a:lnTo>
                  <a:pt x="221" y="106"/>
                </a:lnTo>
                <a:lnTo>
                  <a:pt x="217" y="105"/>
                </a:lnTo>
                <a:lnTo>
                  <a:pt x="214" y="104"/>
                </a:lnTo>
                <a:lnTo>
                  <a:pt x="211" y="103"/>
                </a:lnTo>
                <a:lnTo>
                  <a:pt x="207" y="102"/>
                </a:lnTo>
                <a:lnTo>
                  <a:pt x="204" y="101"/>
                </a:lnTo>
                <a:lnTo>
                  <a:pt x="200" y="100"/>
                </a:lnTo>
                <a:lnTo>
                  <a:pt x="196" y="99"/>
                </a:lnTo>
                <a:lnTo>
                  <a:pt x="193" y="99"/>
                </a:lnTo>
                <a:lnTo>
                  <a:pt x="189" y="99"/>
                </a:lnTo>
                <a:lnTo>
                  <a:pt x="185" y="98"/>
                </a:lnTo>
                <a:lnTo>
                  <a:pt x="181" y="98"/>
                </a:lnTo>
                <a:lnTo>
                  <a:pt x="178" y="98"/>
                </a:lnTo>
                <a:lnTo>
                  <a:pt x="174" y="98"/>
                </a:lnTo>
                <a:lnTo>
                  <a:pt x="170" y="98"/>
                </a:lnTo>
                <a:lnTo>
                  <a:pt x="166" y="99"/>
                </a:lnTo>
                <a:lnTo>
                  <a:pt x="163" y="99"/>
                </a:lnTo>
                <a:lnTo>
                  <a:pt x="159" y="99"/>
                </a:lnTo>
                <a:lnTo>
                  <a:pt x="155" y="100"/>
                </a:lnTo>
                <a:lnTo>
                  <a:pt x="151" y="101"/>
                </a:lnTo>
                <a:lnTo>
                  <a:pt x="147" y="102"/>
                </a:lnTo>
                <a:lnTo>
                  <a:pt x="143" y="103"/>
                </a:lnTo>
                <a:lnTo>
                  <a:pt x="139" y="103"/>
                </a:lnTo>
                <a:lnTo>
                  <a:pt x="136" y="104"/>
                </a:lnTo>
                <a:lnTo>
                  <a:pt x="132" y="105"/>
                </a:lnTo>
                <a:lnTo>
                  <a:pt x="128" y="107"/>
                </a:lnTo>
                <a:lnTo>
                  <a:pt x="125" y="108"/>
                </a:lnTo>
                <a:lnTo>
                  <a:pt x="121" y="109"/>
                </a:lnTo>
                <a:lnTo>
                  <a:pt x="118" y="110"/>
                </a:lnTo>
                <a:lnTo>
                  <a:pt x="114" y="111"/>
                </a:lnTo>
                <a:lnTo>
                  <a:pt x="111" y="112"/>
                </a:lnTo>
                <a:lnTo>
                  <a:pt x="108" y="114"/>
                </a:lnTo>
                <a:lnTo>
                  <a:pt x="104" y="115"/>
                </a:lnTo>
                <a:lnTo>
                  <a:pt x="101" y="116"/>
                </a:lnTo>
                <a:lnTo>
                  <a:pt x="98" y="118"/>
                </a:lnTo>
                <a:lnTo>
                  <a:pt x="95" y="119"/>
                </a:lnTo>
                <a:lnTo>
                  <a:pt x="92" y="120"/>
                </a:lnTo>
                <a:lnTo>
                  <a:pt x="89" y="122"/>
                </a:lnTo>
                <a:lnTo>
                  <a:pt x="86" y="123"/>
                </a:lnTo>
                <a:lnTo>
                  <a:pt x="83" y="125"/>
                </a:lnTo>
                <a:lnTo>
                  <a:pt x="80" y="127"/>
                </a:lnTo>
                <a:lnTo>
                  <a:pt x="78" y="128"/>
                </a:lnTo>
                <a:lnTo>
                  <a:pt x="75" y="130"/>
                </a:lnTo>
                <a:lnTo>
                  <a:pt x="73" y="132"/>
                </a:lnTo>
                <a:lnTo>
                  <a:pt x="70" y="133"/>
                </a:lnTo>
                <a:lnTo>
                  <a:pt x="68" y="135"/>
                </a:lnTo>
                <a:lnTo>
                  <a:pt x="66" y="137"/>
                </a:lnTo>
                <a:lnTo>
                  <a:pt x="64" y="139"/>
                </a:lnTo>
                <a:lnTo>
                  <a:pt x="62" y="141"/>
                </a:lnTo>
                <a:lnTo>
                  <a:pt x="60" y="143"/>
                </a:lnTo>
                <a:lnTo>
                  <a:pt x="58" y="145"/>
                </a:lnTo>
                <a:lnTo>
                  <a:pt x="56" y="147"/>
                </a:lnTo>
                <a:lnTo>
                  <a:pt x="54" y="149"/>
                </a:lnTo>
                <a:lnTo>
                  <a:pt x="53" y="151"/>
                </a:lnTo>
                <a:lnTo>
                  <a:pt x="51" y="153"/>
                </a:lnTo>
                <a:lnTo>
                  <a:pt x="49" y="156"/>
                </a:lnTo>
                <a:lnTo>
                  <a:pt x="47" y="158"/>
                </a:lnTo>
                <a:lnTo>
                  <a:pt x="45" y="161"/>
                </a:lnTo>
                <a:lnTo>
                  <a:pt x="43" y="164"/>
                </a:lnTo>
                <a:lnTo>
                  <a:pt x="41" y="167"/>
                </a:lnTo>
                <a:lnTo>
                  <a:pt x="39" y="170"/>
                </a:lnTo>
                <a:lnTo>
                  <a:pt x="37" y="173"/>
                </a:lnTo>
                <a:lnTo>
                  <a:pt x="35" y="176"/>
                </a:lnTo>
                <a:lnTo>
                  <a:pt x="33" y="179"/>
                </a:lnTo>
                <a:lnTo>
                  <a:pt x="31" y="182"/>
                </a:lnTo>
                <a:lnTo>
                  <a:pt x="28" y="186"/>
                </a:lnTo>
                <a:lnTo>
                  <a:pt x="26" y="190"/>
                </a:lnTo>
                <a:lnTo>
                  <a:pt x="23" y="193"/>
                </a:lnTo>
                <a:lnTo>
                  <a:pt x="21" y="197"/>
                </a:lnTo>
                <a:lnTo>
                  <a:pt x="18" y="201"/>
                </a:lnTo>
                <a:lnTo>
                  <a:pt x="16" y="205"/>
                </a:lnTo>
                <a:lnTo>
                  <a:pt x="14" y="209"/>
                </a:lnTo>
                <a:lnTo>
                  <a:pt x="12" y="213"/>
                </a:lnTo>
                <a:lnTo>
                  <a:pt x="10" y="217"/>
                </a:lnTo>
                <a:lnTo>
                  <a:pt x="8" y="221"/>
                </a:lnTo>
                <a:lnTo>
                  <a:pt x="7" y="225"/>
                </a:lnTo>
                <a:lnTo>
                  <a:pt x="5" y="229"/>
                </a:lnTo>
                <a:lnTo>
                  <a:pt x="4" y="234"/>
                </a:lnTo>
                <a:lnTo>
                  <a:pt x="3" y="238"/>
                </a:lnTo>
                <a:lnTo>
                  <a:pt x="2" y="242"/>
                </a:lnTo>
                <a:lnTo>
                  <a:pt x="1" y="246"/>
                </a:lnTo>
                <a:lnTo>
                  <a:pt x="1" y="250"/>
                </a:lnTo>
                <a:lnTo>
                  <a:pt x="0" y="255"/>
                </a:lnTo>
                <a:lnTo>
                  <a:pt x="0" y="259"/>
                </a:lnTo>
                <a:lnTo>
                  <a:pt x="0" y="263"/>
                </a:lnTo>
                <a:lnTo>
                  <a:pt x="0" y="268"/>
                </a:lnTo>
                <a:lnTo>
                  <a:pt x="0" y="272"/>
                </a:lnTo>
                <a:lnTo>
                  <a:pt x="0" y="276"/>
                </a:lnTo>
                <a:lnTo>
                  <a:pt x="0" y="280"/>
                </a:lnTo>
                <a:lnTo>
                  <a:pt x="0" y="284"/>
                </a:lnTo>
                <a:lnTo>
                  <a:pt x="1" y="287"/>
                </a:lnTo>
                <a:lnTo>
                  <a:pt x="1" y="291"/>
                </a:lnTo>
                <a:lnTo>
                  <a:pt x="1" y="294"/>
                </a:lnTo>
                <a:lnTo>
                  <a:pt x="2" y="297"/>
                </a:lnTo>
                <a:lnTo>
                  <a:pt x="2" y="301"/>
                </a:lnTo>
                <a:lnTo>
                  <a:pt x="3" y="304"/>
                </a:lnTo>
                <a:lnTo>
                  <a:pt x="4" y="307"/>
                </a:lnTo>
                <a:lnTo>
                  <a:pt x="5" y="309"/>
                </a:lnTo>
                <a:lnTo>
                  <a:pt x="6" y="312"/>
                </a:lnTo>
                <a:lnTo>
                  <a:pt x="7" y="315"/>
                </a:lnTo>
                <a:lnTo>
                  <a:pt x="8" y="317"/>
                </a:lnTo>
                <a:lnTo>
                  <a:pt x="9" y="319"/>
                </a:lnTo>
                <a:lnTo>
                  <a:pt x="10" y="321"/>
                </a:lnTo>
                <a:lnTo>
                  <a:pt x="11" y="324"/>
                </a:lnTo>
                <a:lnTo>
                  <a:pt x="12" y="326"/>
                </a:lnTo>
                <a:lnTo>
                  <a:pt x="13" y="328"/>
                </a:lnTo>
                <a:lnTo>
                  <a:pt x="14" y="330"/>
                </a:lnTo>
                <a:lnTo>
                  <a:pt x="16" y="332"/>
                </a:lnTo>
                <a:lnTo>
                  <a:pt x="17" y="334"/>
                </a:lnTo>
                <a:lnTo>
                  <a:pt x="18" y="335"/>
                </a:lnTo>
                <a:lnTo>
                  <a:pt x="20" y="337"/>
                </a:lnTo>
                <a:lnTo>
                  <a:pt x="21" y="339"/>
                </a:lnTo>
                <a:lnTo>
                  <a:pt x="22" y="341"/>
                </a:lnTo>
                <a:lnTo>
                  <a:pt x="24" y="342"/>
                </a:lnTo>
                <a:lnTo>
                  <a:pt x="25" y="344"/>
                </a:lnTo>
                <a:lnTo>
                  <a:pt x="26" y="345"/>
                </a:lnTo>
                <a:lnTo>
                  <a:pt x="28" y="346"/>
                </a:lnTo>
                <a:lnTo>
                  <a:pt x="29" y="348"/>
                </a:lnTo>
                <a:lnTo>
                  <a:pt x="31" y="349"/>
                </a:lnTo>
                <a:lnTo>
                  <a:pt x="32" y="349"/>
                </a:lnTo>
                <a:lnTo>
                  <a:pt x="34" y="350"/>
                </a:lnTo>
                <a:lnTo>
                  <a:pt x="36" y="350"/>
                </a:lnTo>
                <a:lnTo>
                  <a:pt x="38" y="350"/>
                </a:lnTo>
                <a:lnTo>
                  <a:pt x="39" y="349"/>
                </a:lnTo>
                <a:lnTo>
                  <a:pt x="41" y="349"/>
                </a:lnTo>
                <a:lnTo>
                  <a:pt x="43" y="348"/>
                </a:lnTo>
                <a:lnTo>
                  <a:pt x="45" y="347"/>
                </a:lnTo>
                <a:lnTo>
                  <a:pt x="47" y="346"/>
                </a:lnTo>
                <a:lnTo>
                  <a:pt x="49" y="344"/>
                </a:lnTo>
                <a:lnTo>
                  <a:pt x="51" y="342"/>
                </a:lnTo>
                <a:lnTo>
                  <a:pt x="54" y="340"/>
                </a:lnTo>
                <a:lnTo>
                  <a:pt x="56" y="337"/>
                </a:lnTo>
                <a:lnTo>
                  <a:pt x="58" y="335"/>
                </a:lnTo>
                <a:lnTo>
                  <a:pt x="60" y="332"/>
                </a:lnTo>
                <a:lnTo>
                  <a:pt x="62" y="330"/>
                </a:lnTo>
                <a:lnTo>
                  <a:pt x="64" y="328"/>
                </a:lnTo>
                <a:lnTo>
                  <a:pt x="65" y="326"/>
                </a:lnTo>
                <a:lnTo>
                  <a:pt x="66" y="325"/>
                </a:lnTo>
                <a:lnTo>
                  <a:pt x="67" y="324"/>
                </a:lnTo>
                <a:lnTo>
                  <a:pt x="67" y="324"/>
                </a:lnTo>
                <a:lnTo>
                  <a:pt x="67" y="323"/>
                </a:lnTo>
                <a:lnTo>
                  <a:pt x="67" y="324"/>
                </a:lnTo>
                <a:lnTo>
                  <a:pt x="67" y="324"/>
                </a:lnTo>
                <a:lnTo>
                  <a:pt x="66" y="325"/>
                </a:lnTo>
                <a:lnTo>
                  <a:pt x="65" y="326"/>
                </a:lnTo>
                <a:lnTo>
                  <a:pt x="63" y="327"/>
                </a:lnTo>
                <a:lnTo>
                  <a:pt x="62" y="329"/>
                </a:lnTo>
                <a:lnTo>
                  <a:pt x="60" y="331"/>
                </a:lnTo>
                <a:lnTo>
                  <a:pt x="57" y="334"/>
                </a:lnTo>
                <a:lnTo>
                  <a:pt x="55" y="337"/>
                </a:lnTo>
                <a:lnTo>
                  <a:pt x="53" y="340"/>
                </a:lnTo>
                <a:lnTo>
                  <a:pt x="50" y="343"/>
                </a:lnTo>
                <a:lnTo>
                  <a:pt x="48" y="346"/>
                </a:lnTo>
                <a:lnTo>
                  <a:pt x="46" y="350"/>
                </a:lnTo>
                <a:lnTo>
                  <a:pt x="44" y="354"/>
                </a:lnTo>
                <a:lnTo>
                  <a:pt x="42" y="358"/>
                </a:lnTo>
                <a:lnTo>
                  <a:pt x="40" y="362"/>
                </a:lnTo>
                <a:lnTo>
                  <a:pt x="38" y="367"/>
                </a:lnTo>
                <a:lnTo>
                  <a:pt x="36" y="372"/>
                </a:lnTo>
                <a:lnTo>
                  <a:pt x="34" y="377"/>
                </a:lnTo>
                <a:lnTo>
                  <a:pt x="32" y="382"/>
                </a:lnTo>
                <a:lnTo>
                  <a:pt x="30" y="388"/>
                </a:lnTo>
                <a:lnTo>
                  <a:pt x="28" y="393"/>
                </a:lnTo>
                <a:lnTo>
                  <a:pt x="26" y="399"/>
                </a:lnTo>
                <a:lnTo>
                  <a:pt x="25" y="405"/>
                </a:lnTo>
                <a:lnTo>
                  <a:pt x="23" y="412"/>
                </a:lnTo>
                <a:lnTo>
                  <a:pt x="22" y="418"/>
                </a:lnTo>
                <a:lnTo>
                  <a:pt x="21" y="424"/>
                </a:lnTo>
                <a:lnTo>
                  <a:pt x="20" y="429"/>
                </a:lnTo>
                <a:lnTo>
                  <a:pt x="19" y="435"/>
                </a:lnTo>
                <a:lnTo>
                  <a:pt x="18" y="441"/>
                </a:lnTo>
                <a:lnTo>
                  <a:pt x="18" y="446"/>
                </a:lnTo>
                <a:lnTo>
                  <a:pt x="17" y="452"/>
                </a:lnTo>
                <a:lnTo>
                  <a:pt x="17" y="457"/>
                </a:lnTo>
                <a:lnTo>
                  <a:pt x="17" y="462"/>
                </a:lnTo>
                <a:lnTo>
                  <a:pt x="18" y="467"/>
                </a:lnTo>
                <a:lnTo>
                  <a:pt x="18" y="472"/>
                </a:lnTo>
                <a:lnTo>
                  <a:pt x="19" y="477"/>
                </a:lnTo>
                <a:lnTo>
                  <a:pt x="19" y="481"/>
                </a:lnTo>
                <a:lnTo>
                  <a:pt x="20" y="486"/>
                </a:lnTo>
                <a:lnTo>
                  <a:pt x="22" y="490"/>
                </a:lnTo>
                <a:lnTo>
                  <a:pt x="23" y="495"/>
                </a:lnTo>
                <a:lnTo>
                  <a:pt x="24" y="499"/>
                </a:lnTo>
                <a:lnTo>
                  <a:pt x="26" y="503"/>
                </a:lnTo>
                <a:lnTo>
                  <a:pt x="27" y="507"/>
                </a:lnTo>
                <a:lnTo>
                  <a:pt x="29" y="511"/>
                </a:lnTo>
                <a:lnTo>
                  <a:pt x="30" y="515"/>
                </a:lnTo>
                <a:lnTo>
                  <a:pt x="32" y="519"/>
                </a:lnTo>
                <a:lnTo>
                  <a:pt x="34" y="523"/>
                </a:lnTo>
                <a:lnTo>
                  <a:pt x="35" y="527"/>
                </a:lnTo>
                <a:lnTo>
                  <a:pt x="37" y="531"/>
                </a:lnTo>
                <a:lnTo>
                  <a:pt x="39" y="534"/>
                </a:lnTo>
                <a:lnTo>
                  <a:pt x="41" y="538"/>
                </a:lnTo>
                <a:lnTo>
                  <a:pt x="43" y="542"/>
                </a:lnTo>
                <a:lnTo>
                  <a:pt x="45" y="545"/>
                </a:lnTo>
                <a:lnTo>
                  <a:pt x="47" y="548"/>
                </a:lnTo>
                <a:lnTo>
                  <a:pt x="50" y="552"/>
                </a:lnTo>
                <a:lnTo>
                  <a:pt x="52" y="555"/>
                </a:lnTo>
                <a:lnTo>
                  <a:pt x="54" y="558"/>
                </a:lnTo>
                <a:lnTo>
                  <a:pt x="57" y="562"/>
                </a:lnTo>
                <a:lnTo>
                  <a:pt x="59" y="565"/>
                </a:lnTo>
                <a:lnTo>
                  <a:pt x="62" y="568"/>
                </a:lnTo>
                <a:lnTo>
                  <a:pt x="65" y="571"/>
                </a:lnTo>
                <a:lnTo>
                  <a:pt x="67" y="574"/>
                </a:lnTo>
                <a:lnTo>
                  <a:pt x="70" y="577"/>
                </a:lnTo>
                <a:lnTo>
                  <a:pt x="73" y="579"/>
                </a:lnTo>
                <a:lnTo>
                  <a:pt x="76" y="582"/>
                </a:lnTo>
                <a:lnTo>
                  <a:pt x="79" y="585"/>
                </a:lnTo>
                <a:lnTo>
                  <a:pt x="82" y="588"/>
                </a:lnTo>
                <a:lnTo>
                  <a:pt x="85" y="590"/>
                </a:lnTo>
                <a:lnTo>
                  <a:pt x="89" y="593"/>
                </a:lnTo>
                <a:lnTo>
                  <a:pt x="92" y="595"/>
                </a:lnTo>
                <a:lnTo>
                  <a:pt x="96" y="597"/>
                </a:lnTo>
                <a:lnTo>
                  <a:pt x="99" y="600"/>
                </a:lnTo>
                <a:lnTo>
                  <a:pt x="103" y="602"/>
                </a:lnTo>
                <a:lnTo>
                  <a:pt x="106" y="604"/>
                </a:lnTo>
                <a:lnTo>
                  <a:pt x="110" y="606"/>
                </a:lnTo>
                <a:lnTo>
                  <a:pt x="114" y="608"/>
                </a:lnTo>
                <a:lnTo>
                  <a:pt x="117" y="610"/>
                </a:lnTo>
                <a:lnTo>
                  <a:pt x="121" y="612"/>
                </a:lnTo>
                <a:lnTo>
                  <a:pt x="125" y="614"/>
                </a:lnTo>
                <a:lnTo>
                  <a:pt x="128" y="616"/>
                </a:lnTo>
                <a:lnTo>
                  <a:pt x="132" y="618"/>
                </a:lnTo>
                <a:lnTo>
                  <a:pt x="136" y="619"/>
                </a:lnTo>
                <a:lnTo>
                  <a:pt x="140" y="621"/>
                </a:lnTo>
                <a:lnTo>
                  <a:pt x="144" y="623"/>
                </a:lnTo>
                <a:lnTo>
                  <a:pt x="148" y="624"/>
                </a:lnTo>
                <a:lnTo>
                  <a:pt x="152" y="626"/>
                </a:lnTo>
                <a:lnTo>
                  <a:pt x="156" y="627"/>
                </a:lnTo>
                <a:lnTo>
                  <a:pt x="160" y="628"/>
                </a:lnTo>
                <a:lnTo>
                  <a:pt x="164" y="629"/>
                </a:lnTo>
                <a:lnTo>
                  <a:pt x="167" y="630"/>
                </a:lnTo>
                <a:lnTo>
                  <a:pt x="171" y="632"/>
                </a:lnTo>
                <a:lnTo>
                  <a:pt x="175" y="632"/>
                </a:lnTo>
                <a:lnTo>
                  <a:pt x="178" y="633"/>
                </a:lnTo>
                <a:lnTo>
                  <a:pt x="182" y="634"/>
                </a:lnTo>
                <a:lnTo>
                  <a:pt x="185" y="635"/>
                </a:lnTo>
                <a:lnTo>
                  <a:pt x="189" y="635"/>
                </a:lnTo>
                <a:lnTo>
                  <a:pt x="192" y="636"/>
                </a:lnTo>
                <a:lnTo>
                  <a:pt x="196" y="636"/>
                </a:lnTo>
                <a:lnTo>
                  <a:pt x="199" y="636"/>
                </a:lnTo>
                <a:lnTo>
                  <a:pt x="202" y="637"/>
                </a:lnTo>
                <a:lnTo>
                  <a:pt x="205" y="637"/>
                </a:lnTo>
                <a:lnTo>
                  <a:pt x="208" y="637"/>
                </a:lnTo>
                <a:lnTo>
                  <a:pt x="211" y="637"/>
                </a:lnTo>
                <a:lnTo>
                  <a:pt x="214" y="637"/>
                </a:lnTo>
                <a:lnTo>
                  <a:pt x="216" y="637"/>
                </a:lnTo>
                <a:lnTo>
                  <a:pt x="218" y="636"/>
                </a:lnTo>
                <a:lnTo>
                  <a:pt x="220" y="636"/>
                </a:lnTo>
                <a:lnTo>
                  <a:pt x="221" y="636"/>
                </a:lnTo>
                <a:lnTo>
                  <a:pt x="222" y="636"/>
                </a:lnTo>
                <a:lnTo>
                  <a:pt x="223" y="636"/>
                </a:lnTo>
                <a:lnTo>
                  <a:pt x="223" y="636"/>
                </a:lnTo>
                <a:lnTo>
                  <a:pt x="223" y="636"/>
                </a:lnTo>
                <a:lnTo>
                  <a:pt x="222" y="636"/>
                </a:lnTo>
                <a:lnTo>
                  <a:pt x="221" y="636"/>
                </a:lnTo>
                <a:lnTo>
                  <a:pt x="220" y="636"/>
                </a:lnTo>
                <a:lnTo>
                  <a:pt x="218" y="636"/>
                </a:lnTo>
                <a:lnTo>
                  <a:pt x="216" y="637"/>
                </a:lnTo>
                <a:lnTo>
                  <a:pt x="214" y="637"/>
                </a:lnTo>
                <a:lnTo>
                  <a:pt x="211" y="637"/>
                </a:lnTo>
                <a:lnTo>
                  <a:pt x="208" y="637"/>
                </a:lnTo>
                <a:lnTo>
                  <a:pt x="206" y="637"/>
                </a:lnTo>
                <a:lnTo>
                  <a:pt x="204" y="638"/>
                </a:lnTo>
                <a:lnTo>
                  <a:pt x="202" y="638"/>
                </a:lnTo>
                <a:lnTo>
                  <a:pt x="200" y="639"/>
                </a:lnTo>
                <a:lnTo>
                  <a:pt x="199" y="640"/>
                </a:lnTo>
                <a:lnTo>
                  <a:pt x="198" y="641"/>
                </a:lnTo>
                <a:lnTo>
                  <a:pt x="197" y="642"/>
                </a:lnTo>
                <a:lnTo>
                  <a:pt x="197" y="643"/>
                </a:lnTo>
                <a:lnTo>
                  <a:pt x="197" y="645"/>
                </a:lnTo>
                <a:lnTo>
                  <a:pt x="197" y="646"/>
                </a:lnTo>
                <a:lnTo>
                  <a:pt x="197" y="648"/>
                </a:lnTo>
                <a:lnTo>
                  <a:pt x="198" y="650"/>
                </a:lnTo>
                <a:lnTo>
                  <a:pt x="199" y="652"/>
                </a:lnTo>
                <a:lnTo>
                  <a:pt x="201" y="654"/>
                </a:lnTo>
                <a:lnTo>
                  <a:pt x="202" y="656"/>
                </a:lnTo>
                <a:lnTo>
                  <a:pt x="204" y="659"/>
                </a:lnTo>
                <a:lnTo>
                  <a:pt x="206" y="661"/>
                </a:lnTo>
                <a:lnTo>
                  <a:pt x="209" y="663"/>
                </a:lnTo>
                <a:lnTo>
                  <a:pt x="211" y="666"/>
                </a:lnTo>
                <a:lnTo>
                  <a:pt x="213" y="668"/>
                </a:lnTo>
                <a:lnTo>
                  <a:pt x="216" y="671"/>
                </a:lnTo>
                <a:lnTo>
                  <a:pt x="218" y="673"/>
                </a:lnTo>
                <a:lnTo>
                  <a:pt x="221" y="676"/>
                </a:lnTo>
                <a:lnTo>
                  <a:pt x="224" y="678"/>
                </a:lnTo>
                <a:lnTo>
                  <a:pt x="227" y="681"/>
                </a:lnTo>
                <a:lnTo>
                  <a:pt x="230" y="683"/>
                </a:lnTo>
                <a:lnTo>
                  <a:pt x="233" y="686"/>
                </a:lnTo>
                <a:lnTo>
                  <a:pt x="236" y="689"/>
                </a:lnTo>
                <a:lnTo>
                  <a:pt x="240" y="691"/>
                </a:lnTo>
                <a:lnTo>
                  <a:pt x="243" y="694"/>
                </a:lnTo>
                <a:lnTo>
                  <a:pt x="247" y="697"/>
                </a:lnTo>
                <a:lnTo>
                  <a:pt x="251" y="699"/>
                </a:lnTo>
                <a:lnTo>
                  <a:pt x="254" y="702"/>
                </a:lnTo>
                <a:lnTo>
                  <a:pt x="258" y="704"/>
                </a:lnTo>
                <a:lnTo>
                  <a:pt x="261" y="706"/>
                </a:lnTo>
                <a:lnTo>
                  <a:pt x="265" y="708"/>
                </a:lnTo>
                <a:lnTo>
                  <a:pt x="268" y="710"/>
                </a:lnTo>
                <a:lnTo>
                  <a:pt x="272" y="711"/>
                </a:lnTo>
                <a:lnTo>
                  <a:pt x="275" y="713"/>
                </a:lnTo>
                <a:lnTo>
                  <a:pt x="278" y="714"/>
                </a:lnTo>
                <a:lnTo>
                  <a:pt x="282" y="715"/>
                </a:lnTo>
                <a:lnTo>
                  <a:pt x="285" y="716"/>
                </a:lnTo>
                <a:lnTo>
                  <a:pt x="288" y="717"/>
                </a:lnTo>
                <a:lnTo>
                  <a:pt x="291" y="717"/>
                </a:lnTo>
                <a:lnTo>
                  <a:pt x="295" y="718"/>
                </a:lnTo>
                <a:lnTo>
                  <a:pt x="298" y="718"/>
                </a:lnTo>
                <a:lnTo>
                  <a:pt x="301" y="718"/>
                </a:lnTo>
                <a:lnTo>
                  <a:pt x="304" y="718"/>
                </a:lnTo>
                <a:lnTo>
                  <a:pt x="307" y="718"/>
                </a:lnTo>
                <a:lnTo>
                  <a:pt x="310" y="718"/>
                </a:lnTo>
                <a:lnTo>
                  <a:pt x="313" y="717"/>
                </a:lnTo>
                <a:lnTo>
                  <a:pt x="316" y="717"/>
                </a:lnTo>
                <a:lnTo>
                  <a:pt x="319" y="716"/>
                </a:lnTo>
                <a:lnTo>
                  <a:pt x="322" y="716"/>
                </a:lnTo>
                <a:lnTo>
                  <a:pt x="325" y="715"/>
                </a:lnTo>
                <a:lnTo>
                  <a:pt x="328" y="715"/>
                </a:lnTo>
                <a:lnTo>
                  <a:pt x="331" y="714"/>
                </a:lnTo>
                <a:lnTo>
                  <a:pt x="334" y="713"/>
                </a:lnTo>
                <a:lnTo>
                  <a:pt x="336" y="712"/>
                </a:lnTo>
                <a:lnTo>
                  <a:pt x="339" y="711"/>
                </a:lnTo>
                <a:lnTo>
                  <a:pt x="342" y="710"/>
                </a:lnTo>
                <a:lnTo>
                  <a:pt x="345" y="709"/>
                </a:lnTo>
                <a:lnTo>
                  <a:pt x="348" y="707"/>
                </a:lnTo>
                <a:lnTo>
                  <a:pt x="351" y="706"/>
                </a:lnTo>
                <a:lnTo>
                  <a:pt x="354" y="704"/>
                </a:lnTo>
                <a:lnTo>
                  <a:pt x="357" y="703"/>
                </a:lnTo>
                <a:lnTo>
                  <a:pt x="359" y="701"/>
                </a:lnTo>
                <a:lnTo>
                  <a:pt x="362" y="699"/>
                </a:lnTo>
                <a:lnTo>
                  <a:pt x="365" y="697"/>
                </a:lnTo>
                <a:lnTo>
                  <a:pt x="367" y="696"/>
                </a:lnTo>
                <a:lnTo>
                  <a:pt x="370" y="693"/>
                </a:lnTo>
                <a:lnTo>
                  <a:pt x="372" y="691"/>
                </a:lnTo>
                <a:lnTo>
                  <a:pt x="375" y="689"/>
                </a:lnTo>
                <a:lnTo>
                  <a:pt x="377" y="687"/>
                </a:lnTo>
                <a:lnTo>
                  <a:pt x="379" y="684"/>
                </a:lnTo>
                <a:lnTo>
                  <a:pt x="382" y="682"/>
                </a:lnTo>
                <a:lnTo>
                  <a:pt x="384" y="679"/>
                </a:lnTo>
                <a:lnTo>
                  <a:pt x="386" y="676"/>
                </a:lnTo>
                <a:lnTo>
                  <a:pt x="388" y="673"/>
                </a:lnTo>
                <a:lnTo>
                  <a:pt x="390" y="670"/>
                </a:lnTo>
                <a:lnTo>
                  <a:pt x="392" y="668"/>
                </a:lnTo>
                <a:lnTo>
                  <a:pt x="393" y="665"/>
                </a:lnTo>
                <a:lnTo>
                  <a:pt x="394" y="662"/>
                </a:lnTo>
                <a:lnTo>
                  <a:pt x="395" y="660"/>
                </a:lnTo>
                <a:lnTo>
                  <a:pt x="396" y="657"/>
                </a:lnTo>
                <a:lnTo>
                  <a:pt x="396" y="655"/>
                </a:lnTo>
                <a:lnTo>
                  <a:pt x="396" y="652"/>
                </a:lnTo>
                <a:lnTo>
                  <a:pt x="396" y="650"/>
                </a:lnTo>
                <a:lnTo>
                  <a:pt x="396" y="647"/>
                </a:lnTo>
                <a:lnTo>
                  <a:pt x="395" y="645"/>
                </a:lnTo>
                <a:lnTo>
                  <a:pt x="394" y="643"/>
                </a:lnTo>
                <a:lnTo>
                  <a:pt x="393" y="641"/>
                </a:lnTo>
                <a:lnTo>
                  <a:pt x="392" y="639"/>
                </a:lnTo>
                <a:lnTo>
                  <a:pt x="390" y="637"/>
                </a:lnTo>
                <a:lnTo>
                  <a:pt x="388" y="635"/>
                </a:lnTo>
                <a:lnTo>
                  <a:pt x="386" y="633"/>
                </a:lnTo>
                <a:lnTo>
                  <a:pt x="384" y="632"/>
                </a:lnTo>
                <a:lnTo>
                  <a:pt x="383" y="630"/>
                </a:lnTo>
                <a:lnTo>
                  <a:pt x="382" y="629"/>
                </a:lnTo>
                <a:lnTo>
                  <a:pt x="381" y="628"/>
                </a:lnTo>
                <a:lnTo>
                  <a:pt x="380" y="628"/>
                </a:lnTo>
                <a:lnTo>
                  <a:pt x="380" y="627"/>
                </a:lnTo>
                <a:lnTo>
                  <a:pt x="380" y="627"/>
                </a:lnTo>
                <a:lnTo>
                  <a:pt x="380" y="627"/>
                </a:lnTo>
                <a:lnTo>
                  <a:pt x="380" y="628"/>
                </a:lnTo>
                <a:lnTo>
                  <a:pt x="381" y="628"/>
                </a:lnTo>
                <a:lnTo>
                  <a:pt x="382" y="629"/>
                </a:lnTo>
                <a:lnTo>
                  <a:pt x="383" y="630"/>
                </a:lnTo>
                <a:lnTo>
                  <a:pt x="384" y="632"/>
                </a:lnTo>
                <a:lnTo>
                  <a:pt x="386" y="633"/>
                </a:lnTo>
                <a:lnTo>
                  <a:pt x="388" y="635"/>
                </a:lnTo>
                <a:lnTo>
                  <a:pt x="390" y="637"/>
                </a:lnTo>
                <a:lnTo>
                  <a:pt x="392" y="639"/>
                </a:lnTo>
                <a:lnTo>
                  <a:pt x="394" y="641"/>
                </a:lnTo>
                <a:lnTo>
                  <a:pt x="397" y="643"/>
                </a:lnTo>
                <a:lnTo>
                  <a:pt x="399" y="645"/>
                </a:lnTo>
                <a:lnTo>
                  <a:pt x="402" y="647"/>
                </a:lnTo>
                <a:lnTo>
                  <a:pt x="404" y="649"/>
                </a:lnTo>
                <a:lnTo>
                  <a:pt x="407" y="651"/>
                </a:lnTo>
                <a:lnTo>
                  <a:pt x="410" y="653"/>
                </a:lnTo>
                <a:lnTo>
                  <a:pt x="413" y="655"/>
                </a:lnTo>
                <a:lnTo>
                  <a:pt x="416" y="657"/>
                </a:lnTo>
                <a:lnTo>
                  <a:pt x="419" y="659"/>
                </a:lnTo>
                <a:lnTo>
                  <a:pt x="422" y="661"/>
                </a:lnTo>
                <a:lnTo>
                  <a:pt x="425" y="664"/>
                </a:lnTo>
                <a:lnTo>
                  <a:pt x="428" y="666"/>
                </a:lnTo>
                <a:lnTo>
                  <a:pt x="432" y="668"/>
                </a:lnTo>
                <a:lnTo>
                  <a:pt x="435" y="670"/>
                </a:lnTo>
                <a:lnTo>
                  <a:pt x="439" y="672"/>
                </a:lnTo>
                <a:lnTo>
                  <a:pt x="442" y="674"/>
                </a:lnTo>
                <a:lnTo>
                  <a:pt x="446" y="676"/>
                </a:lnTo>
                <a:lnTo>
                  <a:pt x="450" y="678"/>
                </a:lnTo>
                <a:lnTo>
                  <a:pt x="454" y="680"/>
                </a:lnTo>
                <a:lnTo>
                  <a:pt x="458" y="682"/>
                </a:lnTo>
                <a:lnTo>
                  <a:pt x="462" y="684"/>
                </a:lnTo>
                <a:lnTo>
                  <a:pt x="467" y="686"/>
                </a:lnTo>
                <a:lnTo>
                  <a:pt x="471" y="688"/>
                </a:lnTo>
                <a:lnTo>
                  <a:pt x="476" y="689"/>
                </a:lnTo>
                <a:lnTo>
                  <a:pt x="480" y="691"/>
                </a:lnTo>
                <a:lnTo>
                  <a:pt x="485" y="692"/>
                </a:lnTo>
                <a:lnTo>
                  <a:pt x="490" y="694"/>
                </a:lnTo>
                <a:lnTo>
                  <a:pt x="495" y="695"/>
                </a:lnTo>
                <a:lnTo>
                  <a:pt x="500" y="697"/>
                </a:lnTo>
                <a:lnTo>
                  <a:pt x="505" y="698"/>
                </a:lnTo>
                <a:lnTo>
                  <a:pt x="510" y="699"/>
                </a:lnTo>
                <a:lnTo>
                  <a:pt x="515" y="700"/>
                </a:lnTo>
                <a:lnTo>
                  <a:pt x="520" y="701"/>
                </a:lnTo>
                <a:lnTo>
                  <a:pt x="525" y="702"/>
                </a:lnTo>
                <a:lnTo>
                  <a:pt x="529" y="702"/>
                </a:lnTo>
                <a:lnTo>
                  <a:pt x="534" y="703"/>
                </a:lnTo>
                <a:lnTo>
                  <a:pt x="538" y="703"/>
                </a:lnTo>
                <a:lnTo>
                  <a:pt x="542" y="704"/>
                </a:lnTo>
                <a:lnTo>
                  <a:pt x="546" y="704"/>
                </a:lnTo>
                <a:lnTo>
                  <a:pt x="550" y="704"/>
                </a:lnTo>
                <a:lnTo>
                  <a:pt x="554" y="704"/>
                </a:lnTo>
                <a:lnTo>
                  <a:pt x="558" y="704"/>
                </a:lnTo>
                <a:lnTo>
                  <a:pt x="562" y="704"/>
                </a:lnTo>
                <a:lnTo>
                  <a:pt x="565" y="703"/>
                </a:lnTo>
                <a:lnTo>
                  <a:pt x="569" y="703"/>
                </a:lnTo>
                <a:lnTo>
                  <a:pt x="572" y="702"/>
                </a:lnTo>
                <a:lnTo>
                  <a:pt x="576" y="701"/>
                </a:lnTo>
                <a:lnTo>
                  <a:pt x="579" y="700"/>
                </a:lnTo>
                <a:lnTo>
                  <a:pt x="582" y="699"/>
                </a:lnTo>
                <a:lnTo>
                  <a:pt x="586" y="698"/>
                </a:lnTo>
                <a:lnTo>
                  <a:pt x="589" y="696"/>
                </a:lnTo>
                <a:lnTo>
                  <a:pt x="592" y="695"/>
                </a:lnTo>
                <a:lnTo>
                  <a:pt x="595" y="693"/>
                </a:lnTo>
                <a:lnTo>
                  <a:pt x="599" y="691"/>
                </a:lnTo>
                <a:lnTo>
                  <a:pt x="602" y="689"/>
                </a:lnTo>
                <a:lnTo>
                  <a:pt x="605" y="686"/>
                </a:lnTo>
                <a:lnTo>
                  <a:pt x="608" y="684"/>
                </a:lnTo>
                <a:lnTo>
                  <a:pt x="612" y="681"/>
                </a:lnTo>
                <a:lnTo>
                  <a:pt x="615" y="678"/>
                </a:lnTo>
                <a:lnTo>
                  <a:pt x="618" y="675"/>
                </a:lnTo>
                <a:lnTo>
                  <a:pt x="621" y="672"/>
                </a:lnTo>
                <a:lnTo>
                  <a:pt x="624" y="668"/>
                </a:lnTo>
                <a:lnTo>
                  <a:pt x="626" y="666"/>
                </a:lnTo>
                <a:lnTo>
                  <a:pt x="629" y="663"/>
                </a:lnTo>
                <a:lnTo>
                  <a:pt x="630" y="661"/>
                </a:lnTo>
                <a:lnTo>
                  <a:pt x="632" y="660"/>
                </a:lnTo>
                <a:lnTo>
                  <a:pt x="633" y="659"/>
                </a:lnTo>
                <a:lnTo>
                  <a:pt x="633" y="658"/>
                </a:lnTo>
                <a:lnTo>
                  <a:pt x="633" y="658"/>
                </a:lnTo>
                <a:lnTo>
                  <a:pt x="633" y="658"/>
                </a:lnTo>
                <a:lnTo>
                  <a:pt x="633" y="659"/>
                </a:lnTo>
                <a:lnTo>
                  <a:pt x="632" y="660"/>
                </a:lnTo>
                <a:lnTo>
                  <a:pt x="630" y="661"/>
                </a:lnTo>
                <a:lnTo>
                  <a:pt x="629" y="663"/>
                </a:lnTo>
                <a:lnTo>
                  <a:pt x="626" y="666"/>
                </a:lnTo>
                <a:lnTo>
                  <a:pt x="624" y="668"/>
                </a:lnTo>
                <a:lnTo>
                  <a:pt x="621" y="672"/>
                </a:lnTo>
                <a:lnTo>
                  <a:pt x="618" y="675"/>
                </a:lnTo>
                <a:lnTo>
                  <a:pt x="616" y="678"/>
                </a:lnTo>
                <a:lnTo>
                  <a:pt x="614" y="681"/>
                </a:lnTo>
                <a:lnTo>
                  <a:pt x="613" y="683"/>
                </a:lnTo>
                <a:lnTo>
                  <a:pt x="612" y="686"/>
                </a:lnTo>
                <a:lnTo>
                  <a:pt x="612" y="688"/>
                </a:lnTo>
                <a:lnTo>
                  <a:pt x="612" y="691"/>
                </a:lnTo>
                <a:lnTo>
                  <a:pt x="613" y="693"/>
                </a:lnTo>
                <a:lnTo>
                  <a:pt x="614" y="694"/>
                </a:lnTo>
                <a:lnTo>
                  <a:pt x="616" y="696"/>
                </a:lnTo>
                <a:lnTo>
                  <a:pt x="618" y="697"/>
                </a:lnTo>
                <a:lnTo>
                  <a:pt x="621" y="699"/>
                </a:lnTo>
                <a:lnTo>
                  <a:pt x="624" y="700"/>
                </a:lnTo>
                <a:lnTo>
                  <a:pt x="628" y="701"/>
                </a:lnTo>
                <a:lnTo>
                  <a:pt x="632" y="701"/>
                </a:lnTo>
                <a:lnTo>
                  <a:pt x="637" y="702"/>
                </a:lnTo>
                <a:lnTo>
                  <a:pt x="643" y="702"/>
                </a:lnTo>
                <a:lnTo>
                  <a:pt x="648" y="703"/>
                </a:lnTo>
                <a:lnTo>
                  <a:pt x="653" y="703"/>
                </a:lnTo>
                <a:lnTo>
                  <a:pt x="658" y="703"/>
                </a:lnTo>
                <a:lnTo>
                  <a:pt x="663" y="703"/>
                </a:lnTo>
                <a:lnTo>
                  <a:pt x="668" y="703"/>
                </a:lnTo>
                <a:lnTo>
                  <a:pt x="673" y="703"/>
                </a:lnTo>
                <a:lnTo>
                  <a:pt x="678" y="703"/>
                </a:lnTo>
                <a:lnTo>
                  <a:pt x="683" y="703"/>
                </a:lnTo>
                <a:lnTo>
                  <a:pt x="688" y="703"/>
                </a:lnTo>
                <a:lnTo>
                  <a:pt x="693" y="702"/>
                </a:lnTo>
                <a:lnTo>
                  <a:pt x="698" y="702"/>
                </a:lnTo>
                <a:lnTo>
                  <a:pt x="702" y="701"/>
                </a:lnTo>
                <a:lnTo>
                  <a:pt x="707" y="701"/>
                </a:lnTo>
                <a:lnTo>
                  <a:pt x="712" y="700"/>
                </a:lnTo>
                <a:lnTo>
                  <a:pt x="717" y="699"/>
                </a:lnTo>
                <a:lnTo>
                  <a:pt x="722" y="698"/>
                </a:lnTo>
                <a:lnTo>
                  <a:pt x="726" y="697"/>
                </a:lnTo>
                <a:lnTo>
                  <a:pt x="731" y="696"/>
                </a:lnTo>
                <a:lnTo>
                  <a:pt x="736" y="695"/>
                </a:lnTo>
                <a:lnTo>
                  <a:pt x="740" y="694"/>
                </a:lnTo>
                <a:lnTo>
                  <a:pt x="745" y="693"/>
                </a:lnTo>
                <a:lnTo>
                  <a:pt x="749" y="692"/>
                </a:lnTo>
                <a:lnTo>
                  <a:pt x="754" y="690"/>
                </a:lnTo>
                <a:lnTo>
                  <a:pt x="758" y="689"/>
                </a:lnTo>
                <a:lnTo>
                  <a:pt x="762" y="687"/>
                </a:lnTo>
                <a:lnTo>
                  <a:pt x="767" y="685"/>
                </a:lnTo>
                <a:lnTo>
                  <a:pt x="771" y="683"/>
                </a:lnTo>
                <a:lnTo>
                  <a:pt x="775" y="681"/>
                </a:lnTo>
                <a:lnTo>
                  <a:pt x="780" y="679"/>
                </a:lnTo>
                <a:lnTo>
                  <a:pt x="784" y="677"/>
                </a:lnTo>
                <a:lnTo>
                  <a:pt x="788" y="675"/>
                </a:lnTo>
                <a:lnTo>
                  <a:pt x="792" y="673"/>
                </a:lnTo>
                <a:lnTo>
                  <a:pt x="796" y="671"/>
                </a:lnTo>
                <a:lnTo>
                  <a:pt x="800" y="668"/>
                </a:lnTo>
                <a:lnTo>
                  <a:pt x="803" y="666"/>
                </a:lnTo>
                <a:lnTo>
                  <a:pt x="807" y="663"/>
                </a:lnTo>
                <a:lnTo>
                  <a:pt x="810" y="660"/>
                </a:lnTo>
                <a:lnTo>
                  <a:pt x="813" y="658"/>
                </a:lnTo>
                <a:lnTo>
                  <a:pt x="817" y="655"/>
                </a:lnTo>
                <a:lnTo>
                  <a:pt x="820" y="652"/>
                </a:lnTo>
                <a:lnTo>
                  <a:pt x="823" y="649"/>
                </a:lnTo>
                <a:lnTo>
                  <a:pt x="825" y="646"/>
                </a:lnTo>
                <a:lnTo>
                  <a:pt x="828" y="643"/>
                </a:lnTo>
                <a:lnTo>
                  <a:pt x="831" y="640"/>
                </a:lnTo>
                <a:lnTo>
                  <a:pt x="833" y="636"/>
                </a:lnTo>
                <a:lnTo>
                  <a:pt x="835" y="633"/>
                </a:lnTo>
                <a:lnTo>
                  <a:pt x="838" y="630"/>
                </a:lnTo>
                <a:lnTo>
                  <a:pt x="840" y="626"/>
                </a:lnTo>
                <a:lnTo>
                  <a:pt x="842" y="623"/>
                </a:lnTo>
                <a:lnTo>
                  <a:pt x="844" y="620"/>
                </a:lnTo>
                <a:lnTo>
                  <a:pt x="845" y="616"/>
                </a:lnTo>
                <a:lnTo>
                  <a:pt x="847" y="613"/>
                </a:lnTo>
                <a:lnTo>
                  <a:pt x="848" y="610"/>
                </a:lnTo>
                <a:lnTo>
                  <a:pt x="850" y="607"/>
                </a:lnTo>
                <a:lnTo>
                  <a:pt x="851" y="605"/>
                </a:lnTo>
                <a:lnTo>
                  <a:pt x="852" y="602"/>
                </a:lnTo>
                <a:lnTo>
                  <a:pt x="853" y="599"/>
                </a:lnTo>
                <a:lnTo>
                  <a:pt x="854" y="597"/>
                </a:lnTo>
                <a:lnTo>
                  <a:pt x="854" y="594"/>
                </a:lnTo>
                <a:lnTo>
                  <a:pt x="855" y="592"/>
                </a:lnTo>
                <a:lnTo>
                  <a:pt x="855" y="589"/>
                </a:lnTo>
                <a:lnTo>
                  <a:pt x="855" y="587"/>
                </a:lnTo>
                <a:lnTo>
                  <a:pt x="856" y="585"/>
                </a:lnTo>
                <a:lnTo>
                  <a:pt x="856" y="583"/>
                </a:lnTo>
                <a:lnTo>
                  <a:pt x="856" y="581"/>
                </a:lnTo>
                <a:lnTo>
                  <a:pt x="856" y="580"/>
                </a:lnTo>
                <a:lnTo>
                  <a:pt x="856" y="579"/>
                </a:lnTo>
                <a:lnTo>
                  <a:pt x="856" y="578"/>
                </a:lnTo>
                <a:lnTo>
                  <a:pt x="856" y="577"/>
                </a:lnTo>
                <a:lnTo>
                  <a:pt x="856" y="577"/>
                </a:lnTo>
                <a:lnTo>
                  <a:pt x="856" y="576"/>
                </a:lnTo>
                <a:lnTo>
                  <a:pt x="856" y="577"/>
                </a:lnTo>
                <a:lnTo>
                  <a:pt x="856" y="577"/>
                </a:lnTo>
                <a:lnTo>
                  <a:pt x="856" y="578"/>
                </a:lnTo>
                <a:lnTo>
                  <a:pt x="856" y="579"/>
                </a:lnTo>
                <a:lnTo>
                  <a:pt x="856" y="580"/>
                </a:lnTo>
                <a:lnTo>
                  <a:pt x="856" y="581"/>
                </a:lnTo>
                <a:lnTo>
                  <a:pt x="856" y="583"/>
                </a:lnTo>
                <a:lnTo>
                  <a:pt x="856" y="585"/>
                </a:lnTo>
                <a:lnTo>
                  <a:pt x="856" y="587"/>
                </a:lnTo>
                <a:lnTo>
                  <a:pt x="856" y="589"/>
                </a:lnTo>
                <a:lnTo>
                  <a:pt x="856" y="591"/>
                </a:lnTo>
                <a:lnTo>
                  <a:pt x="856" y="594"/>
                </a:lnTo>
                <a:lnTo>
                  <a:pt x="857" y="596"/>
                </a:lnTo>
                <a:lnTo>
                  <a:pt x="858" y="598"/>
                </a:lnTo>
                <a:lnTo>
                  <a:pt x="859" y="600"/>
                </a:lnTo>
                <a:lnTo>
                  <a:pt x="860" y="603"/>
                </a:lnTo>
                <a:lnTo>
                  <a:pt x="861" y="605"/>
                </a:lnTo>
                <a:lnTo>
                  <a:pt x="863" y="607"/>
                </a:lnTo>
                <a:lnTo>
                  <a:pt x="864" y="610"/>
                </a:lnTo>
                <a:lnTo>
                  <a:pt x="866" y="612"/>
                </a:lnTo>
                <a:lnTo>
                  <a:pt x="868" y="614"/>
                </a:lnTo>
                <a:lnTo>
                  <a:pt x="870" y="617"/>
                </a:lnTo>
                <a:lnTo>
                  <a:pt x="872" y="619"/>
                </a:lnTo>
                <a:lnTo>
                  <a:pt x="874" y="622"/>
                </a:lnTo>
                <a:lnTo>
                  <a:pt x="877" y="624"/>
                </a:lnTo>
                <a:lnTo>
                  <a:pt x="879" y="626"/>
                </a:lnTo>
                <a:lnTo>
                  <a:pt x="882" y="628"/>
                </a:lnTo>
                <a:lnTo>
                  <a:pt x="885" y="631"/>
                </a:lnTo>
                <a:lnTo>
                  <a:pt x="888" y="632"/>
                </a:lnTo>
                <a:lnTo>
                  <a:pt x="891" y="634"/>
                </a:lnTo>
                <a:lnTo>
                  <a:pt x="894" y="636"/>
                </a:lnTo>
                <a:lnTo>
                  <a:pt x="897" y="638"/>
                </a:lnTo>
                <a:lnTo>
                  <a:pt x="900" y="639"/>
                </a:lnTo>
                <a:lnTo>
                  <a:pt x="904" y="641"/>
                </a:lnTo>
                <a:lnTo>
                  <a:pt x="907" y="642"/>
                </a:lnTo>
                <a:lnTo>
                  <a:pt x="911" y="643"/>
                </a:lnTo>
                <a:lnTo>
                  <a:pt x="915" y="645"/>
                </a:lnTo>
                <a:lnTo>
                  <a:pt x="919" y="646"/>
                </a:lnTo>
                <a:lnTo>
                  <a:pt x="922" y="647"/>
                </a:lnTo>
                <a:lnTo>
                  <a:pt x="927" y="647"/>
                </a:lnTo>
                <a:lnTo>
                  <a:pt x="931" y="648"/>
                </a:lnTo>
                <a:lnTo>
                  <a:pt x="935" y="649"/>
                </a:lnTo>
                <a:lnTo>
                  <a:pt x="938" y="649"/>
                </a:lnTo>
                <a:lnTo>
                  <a:pt x="942" y="650"/>
                </a:lnTo>
                <a:lnTo>
                  <a:pt x="946" y="650"/>
                </a:lnTo>
                <a:lnTo>
                  <a:pt x="950" y="650"/>
                </a:lnTo>
                <a:lnTo>
                  <a:pt x="953" y="650"/>
                </a:lnTo>
                <a:lnTo>
                  <a:pt x="957" y="650"/>
                </a:lnTo>
                <a:lnTo>
                  <a:pt x="960" y="650"/>
                </a:lnTo>
                <a:lnTo>
                  <a:pt x="964" y="650"/>
                </a:lnTo>
                <a:lnTo>
                  <a:pt x="967" y="649"/>
                </a:lnTo>
                <a:lnTo>
                  <a:pt x="970" y="649"/>
                </a:lnTo>
                <a:lnTo>
                  <a:pt x="974" y="648"/>
                </a:lnTo>
                <a:lnTo>
                  <a:pt x="977" y="647"/>
                </a:lnTo>
                <a:lnTo>
                  <a:pt x="980" y="647"/>
                </a:lnTo>
                <a:lnTo>
                  <a:pt x="983" y="646"/>
                </a:lnTo>
                <a:lnTo>
                  <a:pt x="986" y="645"/>
                </a:lnTo>
                <a:lnTo>
                  <a:pt x="988" y="643"/>
                </a:lnTo>
                <a:lnTo>
                  <a:pt x="991" y="642"/>
                </a:lnTo>
                <a:lnTo>
                  <a:pt x="994" y="641"/>
                </a:lnTo>
                <a:lnTo>
                  <a:pt x="997" y="640"/>
                </a:lnTo>
                <a:lnTo>
                  <a:pt x="999" y="638"/>
                </a:lnTo>
                <a:lnTo>
                  <a:pt x="1002" y="637"/>
                </a:lnTo>
                <a:lnTo>
                  <a:pt x="1004" y="635"/>
                </a:lnTo>
                <a:lnTo>
                  <a:pt x="1007" y="634"/>
                </a:lnTo>
                <a:lnTo>
                  <a:pt x="1009" y="632"/>
                </a:lnTo>
                <a:lnTo>
                  <a:pt x="1012" y="630"/>
                </a:lnTo>
                <a:lnTo>
                  <a:pt x="1014" y="629"/>
                </a:lnTo>
                <a:lnTo>
                  <a:pt x="1017" y="627"/>
                </a:lnTo>
                <a:lnTo>
                  <a:pt x="1019" y="625"/>
                </a:lnTo>
                <a:lnTo>
                  <a:pt x="1021" y="623"/>
                </a:lnTo>
                <a:lnTo>
                  <a:pt x="1023" y="621"/>
                </a:lnTo>
                <a:lnTo>
                  <a:pt x="1025" y="619"/>
                </a:lnTo>
                <a:lnTo>
                  <a:pt x="1027" y="616"/>
                </a:lnTo>
                <a:lnTo>
                  <a:pt x="1029" y="614"/>
                </a:lnTo>
                <a:lnTo>
                  <a:pt x="1031" y="612"/>
                </a:lnTo>
                <a:lnTo>
                  <a:pt x="1033" y="610"/>
                </a:lnTo>
                <a:lnTo>
                  <a:pt x="1035" y="608"/>
                </a:lnTo>
                <a:lnTo>
                  <a:pt x="1037" y="606"/>
                </a:lnTo>
                <a:lnTo>
                  <a:pt x="1039" y="604"/>
                </a:lnTo>
                <a:lnTo>
                  <a:pt x="1041" y="602"/>
                </a:lnTo>
                <a:lnTo>
                  <a:pt x="1043" y="600"/>
                </a:lnTo>
                <a:lnTo>
                  <a:pt x="1045" y="599"/>
                </a:lnTo>
                <a:lnTo>
                  <a:pt x="1046" y="597"/>
                </a:lnTo>
                <a:lnTo>
                  <a:pt x="1048" y="595"/>
                </a:lnTo>
                <a:lnTo>
                  <a:pt x="1050" y="593"/>
                </a:lnTo>
                <a:lnTo>
                  <a:pt x="1051" y="591"/>
                </a:lnTo>
                <a:lnTo>
                  <a:pt x="1053" y="589"/>
                </a:lnTo>
                <a:lnTo>
                  <a:pt x="1054" y="588"/>
                </a:lnTo>
                <a:lnTo>
                  <a:pt x="1055" y="586"/>
                </a:lnTo>
                <a:lnTo>
                  <a:pt x="1056" y="585"/>
                </a:lnTo>
                <a:lnTo>
                  <a:pt x="1057" y="584"/>
                </a:lnTo>
                <a:lnTo>
                  <a:pt x="1057" y="583"/>
                </a:lnTo>
                <a:lnTo>
                  <a:pt x="1057" y="582"/>
                </a:lnTo>
                <a:lnTo>
                  <a:pt x="1057" y="582"/>
                </a:lnTo>
                <a:lnTo>
                  <a:pt x="1057" y="581"/>
                </a:lnTo>
                <a:lnTo>
                  <a:pt x="1056" y="581"/>
                </a:lnTo>
                <a:lnTo>
                  <a:pt x="1055" y="581"/>
                </a:lnTo>
                <a:lnTo>
                  <a:pt x="1054" y="582"/>
                </a:lnTo>
                <a:lnTo>
                  <a:pt x="1053" y="582"/>
                </a:lnTo>
                <a:lnTo>
                  <a:pt x="1051" y="583"/>
                </a:lnTo>
                <a:lnTo>
                  <a:pt x="1049" y="584"/>
                </a:lnTo>
                <a:lnTo>
                  <a:pt x="1047" y="585"/>
                </a:lnTo>
                <a:lnTo>
                  <a:pt x="1044" y="586"/>
                </a:lnTo>
                <a:lnTo>
                  <a:pt x="1042" y="587"/>
                </a:lnTo>
                <a:lnTo>
                  <a:pt x="1039" y="588"/>
                </a:lnTo>
                <a:lnTo>
                  <a:pt x="1036" y="589"/>
                </a:lnTo>
                <a:lnTo>
                  <a:pt x="1034" y="590"/>
                </a:lnTo>
                <a:lnTo>
                  <a:pt x="1031" y="591"/>
                </a:lnTo>
                <a:lnTo>
                  <a:pt x="1028" y="592"/>
                </a:lnTo>
                <a:lnTo>
                  <a:pt x="1025" y="593"/>
                </a:lnTo>
                <a:lnTo>
                  <a:pt x="1023" y="593"/>
                </a:lnTo>
                <a:lnTo>
                  <a:pt x="1020" y="594"/>
                </a:lnTo>
                <a:lnTo>
                  <a:pt x="1017" y="594"/>
                </a:lnTo>
                <a:lnTo>
                  <a:pt x="1014" y="595"/>
                </a:lnTo>
                <a:lnTo>
                  <a:pt x="1011" y="595"/>
                </a:lnTo>
                <a:lnTo>
                  <a:pt x="1008" y="595"/>
                </a:lnTo>
                <a:lnTo>
                  <a:pt x="1006" y="595"/>
                </a:lnTo>
                <a:lnTo>
                  <a:pt x="1003" y="595"/>
                </a:lnTo>
                <a:lnTo>
                  <a:pt x="1000" y="595"/>
                </a:lnTo>
                <a:lnTo>
                  <a:pt x="997" y="595"/>
                </a:lnTo>
                <a:lnTo>
                  <a:pt x="995" y="594"/>
                </a:lnTo>
                <a:lnTo>
                  <a:pt x="993" y="594"/>
                </a:lnTo>
                <a:lnTo>
                  <a:pt x="991" y="594"/>
                </a:lnTo>
                <a:lnTo>
                  <a:pt x="990" y="594"/>
                </a:lnTo>
                <a:lnTo>
                  <a:pt x="989" y="594"/>
                </a:lnTo>
                <a:lnTo>
                  <a:pt x="988" y="594"/>
                </a:lnTo>
                <a:lnTo>
                  <a:pt x="988" y="594"/>
                </a:lnTo>
                <a:lnTo>
                  <a:pt x="988" y="594"/>
                </a:lnTo>
                <a:lnTo>
                  <a:pt x="989" y="594"/>
                </a:lnTo>
                <a:lnTo>
                  <a:pt x="990" y="594"/>
                </a:lnTo>
                <a:lnTo>
                  <a:pt x="991" y="594"/>
                </a:lnTo>
                <a:lnTo>
                  <a:pt x="993" y="594"/>
                </a:lnTo>
                <a:lnTo>
                  <a:pt x="995" y="594"/>
                </a:lnTo>
                <a:lnTo>
                  <a:pt x="997" y="595"/>
                </a:lnTo>
                <a:lnTo>
                  <a:pt x="1000" y="595"/>
                </a:lnTo>
                <a:lnTo>
                  <a:pt x="1003" y="595"/>
                </a:lnTo>
                <a:lnTo>
                  <a:pt x="1006" y="595"/>
                </a:lnTo>
                <a:lnTo>
                  <a:pt x="1008" y="595"/>
                </a:lnTo>
                <a:lnTo>
                  <a:pt x="1011" y="595"/>
                </a:lnTo>
                <a:lnTo>
                  <a:pt x="1014" y="595"/>
                </a:lnTo>
                <a:lnTo>
                  <a:pt x="1017" y="594"/>
                </a:lnTo>
                <a:lnTo>
                  <a:pt x="1020" y="594"/>
                </a:lnTo>
                <a:lnTo>
                  <a:pt x="1023" y="593"/>
                </a:lnTo>
                <a:lnTo>
                  <a:pt x="1025" y="593"/>
                </a:lnTo>
                <a:lnTo>
                  <a:pt x="1028" y="592"/>
                </a:lnTo>
                <a:lnTo>
                  <a:pt x="1031" y="591"/>
                </a:lnTo>
                <a:lnTo>
                  <a:pt x="1034" y="590"/>
                </a:lnTo>
                <a:lnTo>
                  <a:pt x="1036" y="589"/>
                </a:lnTo>
                <a:lnTo>
                  <a:pt x="1039" y="588"/>
                </a:lnTo>
                <a:lnTo>
                  <a:pt x="1042" y="587"/>
                </a:lnTo>
                <a:lnTo>
                  <a:pt x="1044" y="586"/>
                </a:lnTo>
                <a:lnTo>
                  <a:pt x="1047" y="584"/>
                </a:lnTo>
                <a:lnTo>
                  <a:pt x="1049" y="583"/>
                </a:lnTo>
                <a:lnTo>
                  <a:pt x="1052" y="582"/>
                </a:lnTo>
                <a:lnTo>
                  <a:pt x="1055" y="580"/>
                </a:lnTo>
                <a:lnTo>
                  <a:pt x="1057" y="579"/>
                </a:lnTo>
                <a:lnTo>
                  <a:pt x="1060" y="577"/>
                </a:lnTo>
                <a:lnTo>
                  <a:pt x="1062" y="576"/>
                </a:lnTo>
                <a:lnTo>
                  <a:pt x="1065" y="574"/>
                </a:lnTo>
                <a:lnTo>
                  <a:pt x="1068" y="573"/>
                </a:lnTo>
                <a:lnTo>
                  <a:pt x="1070" y="571"/>
                </a:lnTo>
                <a:lnTo>
                  <a:pt x="1073" y="570"/>
                </a:lnTo>
                <a:lnTo>
                  <a:pt x="1075" y="568"/>
                </a:lnTo>
                <a:lnTo>
                  <a:pt x="1078" y="567"/>
                </a:lnTo>
                <a:lnTo>
                  <a:pt x="1080" y="565"/>
                </a:lnTo>
                <a:lnTo>
                  <a:pt x="1083" y="563"/>
                </a:lnTo>
                <a:lnTo>
                  <a:pt x="1086" y="562"/>
                </a:lnTo>
                <a:lnTo>
                  <a:pt x="1088" y="560"/>
                </a:lnTo>
                <a:lnTo>
                  <a:pt x="1091" y="558"/>
                </a:lnTo>
                <a:lnTo>
                  <a:pt x="1093" y="556"/>
                </a:lnTo>
                <a:lnTo>
                  <a:pt x="1096" y="553"/>
                </a:lnTo>
                <a:lnTo>
                  <a:pt x="1098" y="551"/>
                </a:lnTo>
                <a:lnTo>
                  <a:pt x="1101" y="548"/>
                </a:lnTo>
                <a:lnTo>
                  <a:pt x="1103" y="545"/>
                </a:lnTo>
                <a:lnTo>
                  <a:pt x="1105" y="541"/>
                </a:lnTo>
                <a:lnTo>
                  <a:pt x="1108" y="538"/>
                </a:lnTo>
                <a:lnTo>
                  <a:pt x="1110" y="534"/>
                </a:lnTo>
                <a:lnTo>
                  <a:pt x="1113" y="530"/>
                </a:lnTo>
                <a:lnTo>
                  <a:pt x="1115" y="526"/>
                </a:lnTo>
                <a:lnTo>
                  <a:pt x="1117" y="522"/>
                </a:lnTo>
                <a:lnTo>
                  <a:pt x="1120" y="517"/>
                </a:lnTo>
                <a:lnTo>
                  <a:pt x="1122" y="512"/>
                </a:lnTo>
                <a:lnTo>
                  <a:pt x="1124" y="507"/>
                </a:lnTo>
                <a:lnTo>
                  <a:pt x="1127" y="502"/>
                </a:lnTo>
                <a:lnTo>
                  <a:pt x="1129" y="497"/>
                </a:lnTo>
                <a:lnTo>
                  <a:pt x="1131" y="491"/>
                </a:lnTo>
                <a:lnTo>
                  <a:pt x="1133" y="486"/>
                </a:lnTo>
                <a:lnTo>
                  <a:pt x="1135" y="481"/>
                </a:lnTo>
                <a:lnTo>
                  <a:pt x="1136" y="475"/>
                </a:lnTo>
                <a:lnTo>
                  <a:pt x="1138" y="469"/>
                </a:lnTo>
                <a:lnTo>
                  <a:pt x="1140" y="464"/>
                </a:lnTo>
                <a:lnTo>
                  <a:pt x="1141" y="458"/>
                </a:lnTo>
                <a:lnTo>
                  <a:pt x="1142" y="452"/>
                </a:lnTo>
                <a:lnTo>
                  <a:pt x="1143" y="446"/>
                </a:lnTo>
                <a:lnTo>
                  <a:pt x="1144" y="440"/>
                </a:lnTo>
                <a:lnTo>
                  <a:pt x="1145" y="434"/>
                </a:lnTo>
                <a:lnTo>
                  <a:pt x="1146" y="428"/>
                </a:lnTo>
                <a:lnTo>
                  <a:pt x="1147" y="422"/>
                </a:lnTo>
                <a:lnTo>
                  <a:pt x="1147" y="415"/>
                </a:lnTo>
                <a:lnTo>
                  <a:pt x="1148" y="409"/>
                </a:lnTo>
                <a:lnTo>
                  <a:pt x="1148" y="403"/>
                </a:lnTo>
                <a:lnTo>
                  <a:pt x="1148" y="397"/>
                </a:lnTo>
                <a:lnTo>
                  <a:pt x="1148" y="390"/>
                </a:lnTo>
                <a:lnTo>
                  <a:pt x="1148" y="385"/>
                </a:lnTo>
                <a:lnTo>
                  <a:pt x="1147" y="379"/>
                </a:lnTo>
                <a:lnTo>
                  <a:pt x="1147" y="373"/>
                </a:lnTo>
                <a:lnTo>
                  <a:pt x="1146" y="367"/>
                </a:lnTo>
                <a:lnTo>
                  <a:pt x="1145" y="362"/>
                </a:lnTo>
                <a:lnTo>
                  <a:pt x="1144" y="356"/>
                </a:lnTo>
                <a:lnTo>
                  <a:pt x="1143" y="351"/>
                </a:lnTo>
                <a:lnTo>
                  <a:pt x="1142" y="346"/>
                </a:lnTo>
                <a:lnTo>
                  <a:pt x="1141" y="341"/>
                </a:lnTo>
                <a:lnTo>
                  <a:pt x="1139" y="336"/>
                </a:lnTo>
                <a:lnTo>
                  <a:pt x="1137" y="331"/>
                </a:lnTo>
                <a:lnTo>
                  <a:pt x="1135" y="326"/>
                </a:lnTo>
                <a:lnTo>
                  <a:pt x="1133" y="321"/>
                </a:lnTo>
                <a:lnTo>
                  <a:pt x="1131" y="317"/>
                </a:lnTo>
                <a:lnTo>
                  <a:pt x="1129" y="312"/>
                </a:lnTo>
                <a:lnTo>
                  <a:pt x="1127" y="308"/>
                </a:lnTo>
                <a:lnTo>
                  <a:pt x="1125" y="304"/>
                </a:lnTo>
                <a:lnTo>
                  <a:pt x="1123" y="300"/>
                </a:lnTo>
                <a:lnTo>
                  <a:pt x="1121" y="296"/>
                </a:lnTo>
                <a:lnTo>
                  <a:pt x="1118" y="292"/>
                </a:lnTo>
                <a:lnTo>
                  <a:pt x="1116" y="289"/>
                </a:lnTo>
                <a:lnTo>
                  <a:pt x="1114" y="285"/>
                </a:lnTo>
                <a:lnTo>
                  <a:pt x="1111" y="282"/>
                </a:lnTo>
                <a:lnTo>
                  <a:pt x="1109" y="279"/>
                </a:lnTo>
                <a:lnTo>
                  <a:pt x="1106" y="276"/>
                </a:lnTo>
                <a:lnTo>
                  <a:pt x="1104" y="273"/>
                </a:lnTo>
                <a:lnTo>
                  <a:pt x="1101" y="270"/>
                </a:lnTo>
                <a:lnTo>
                  <a:pt x="1099" y="268"/>
                </a:lnTo>
                <a:lnTo>
                  <a:pt x="1099" y="268"/>
                </a:lnTo>
                <a:close/>
              </a:path>
            </a:pathLst>
          </a:custGeom>
          <a:solidFill>
            <a:srgbClr val="f3f6ff"/>
          </a:solidFill>
          <a:ln w="0">
            <a:solidFill>
              <a:srgbClr val="6699ff"/>
            </a:solid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nvGrpSpPr>
          <p:cNvPr id="546" name=""/>
          <p:cNvGrpSpPr/>
          <p:nvPr/>
        </p:nvGrpSpPr>
        <p:grpSpPr>
          <a:xfrm>
            <a:off x="4017960" y="2003400"/>
            <a:ext cx="371160" cy="466200"/>
            <a:chOff x="4017960" y="2003400"/>
            <a:chExt cx="371160" cy="466200"/>
          </a:xfrm>
        </p:grpSpPr>
        <p:sp>
          <p:nvSpPr>
            <p:cNvPr id="547" name=""/>
            <p:cNvSpPr/>
            <p:nvPr/>
          </p:nvSpPr>
          <p:spPr>
            <a:xfrm>
              <a:off x="4221000" y="2003400"/>
              <a:ext cx="168120" cy="155520"/>
            </a:xfrm>
            <a:prstGeom prst="ellipse">
              <a:avLst/>
            </a:prstGeom>
            <a:solidFill>
              <a:srgbClr val="f3f6ff"/>
            </a:solidFill>
            <a:ln w="0">
              <a:solidFill>
                <a:srgbClr val="6699ff"/>
              </a:solidFill>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48" name=""/>
            <p:cNvSpPr/>
            <p:nvPr/>
          </p:nvSpPr>
          <p:spPr>
            <a:xfrm>
              <a:off x="4119480" y="2236680"/>
              <a:ext cx="133920" cy="77400"/>
            </a:xfrm>
            <a:prstGeom prst="ellipse">
              <a:avLst/>
            </a:prstGeom>
            <a:solidFill>
              <a:srgbClr val="f3f6ff"/>
            </a:solidFill>
            <a:ln w="0">
              <a:solidFill>
                <a:srgbClr val="6699ff"/>
              </a:solidFill>
            </a:ln>
          </p:spPr>
          <p:style>
            <a:lnRef idx="0"/>
            <a:fillRef idx="0"/>
            <a:effectRef idx="0"/>
            <a:fontRef idx="minor"/>
          </p:style>
          <p:txBody>
            <a:bodyPr wrap="none" lIns="90000" rIns="90000" tIns="8280" bIns="8280" anchor="ctr">
              <a:spAutoFit/>
            </a:bodyPr>
            <a:p>
              <a:endParaRPr b="0" lang="en-US" sz="2400" spc="-1" strike="noStrike">
                <a:solidFill>
                  <a:srgbClr val="000066"/>
                </a:solidFill>
                <a:latin typeface="Times New Roman"/>
              </a:endParaRPr>
            </a:p>
          </p:txBody>
        </p:sp>
        <p:sp>
          <p:nvSpPr>
            <p:cNvPr id="549" name=""/>
            <p:cNvSpPr/>
            <p:nvPr/>
          </p:nvSpPr>
          <p:spPr>
            <a:xfrm>
              <a:off x="4017960" y="2391840"/>
              <a:ext cx="101520" cy="77760"/>
            </a:xfrm>
            <a:prstGeom prst="ellipse">
              <a:avLst/>
            </a:prstGeom>
            <a:solidFill>
              <a:srgbClr val="f3f6ff"/>
            </a:solidFill>
            <a:ln w="0">
              <a:solidFill>
                <a:srgbClr val="6699ff"/>
              </a:solidFill>
            </a:ln>
          </p:spPr>
          <p:style>
            <a:lnRef idx="0"/>
            <a:fillRef idx="0"/>
            <a:effectRef idx="0"/>
            <a:fontRef idx="minor"/>
          </p:style>
          <p:txBody>
            <a:bodyPr wrap="none" lIns="90000" rIns="90000" tIns="8640" bIns="8640" anchor="ctr">
              <a:spAutoFit/>
            </a:bodyPr>
            <a:p>
              <a:endParaRPr b="0" lang="en-US" sz="2400" spc="-1" strike="noStrike">
                <a:solidFill>
                  <a:srgbClr val="000066"/>
                </a:solidFill>
                <a:latin typeface="Times New Roman"/>
              </a:endParaRPr>
            </a:p>
          </p:txBody>
        </p:sp>
      </p:grpSp>
      <p:sp>
        <p:nvSpPr>
          <p:cNvPr id="550" name=""/>
          <p:cNvSpPr/>
          <p:nvPr/>
        </p:nvSpPr>
        <p:spPr>
          <a:xfrm>
            <a:off x="3581280" y="1447920"/>
            <a:ext cx="1219320" cy="45900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4246e"/>
                </a:solidFill>
                <a:latin typeface="Arial"/>
              </a:rPr>
              <a:t>设备  教 室</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4246e"/>
                </a:solidFill>
                <a:latin typeface="Arial"/>
              </a:rPr>
              <a:t>… …</a:t>
            </a:r>
            <a:endParaRPr b="0" lang="en-US" sz="1200" spc="-1" strike="noStrike">
              <a:solidFill>
                <a:srgbClr val="000066"/>
              </a:solidFill>
              <a:latin typeface="Times New Roman"/>
            </a:endParaRPr>
          </a:p>
        </p:txBody>
      </p:sp>
      <p:sp>
        <p:nvSpPr>
          <p:cNvPr id="551" name=""/>
          <p:cNvSpPr/>
          <p:nvPr/>
        </p:nvSpPr>
        <p:spPr>
          <a:xfrm flipV="1">
            <a:off x="180972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2" name=""/>
          <p:cNvSpPr/>
          <p:nvPr/>
        </p:nvSpPr>
        <p:spPr>
          <a:xfrm flipV="1">
            <a:off x="190512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3" name=""/>
          <p:cNvSpPr/>
          <p:nvPr/>
        </p:nvSpPr>
        <p:spPr>
          <a:xfrm flipV="1">
            <a:off x="200016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4" name=""/>
          <p:cNvSpPr/>
          <p:nvPr/>
        </p:nvSpPr>
        <p:spPr>
          <a:xfrm flipV="1">
            <a:off x="209556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5" name=""/>
          <p:cNvSpPr/>
          <p:nvPr/>
        </p:nvSpPr>
        <p:spPr>
          <a:xfrm flipV="1">
            <a:off x="21906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6" name=""/>
          <p:cNvSpPr/>
          <p:nvPr/>
        </p:nvSpPr>
        <p:spPr>
          <a:xfrm flipV="1">
            <a:off x="228600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7" name=""/>
          <p:cNvSpPr/>
          <p:nvPr/>
        </p:nvSpPr>
        <p:spPr>
          <a:xfrm flipV="1">
            <a:off x="2381400" y="6553080"/>
            <a:ext cx="9504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8" name=""/>
          <p:cNvSpPr/>
          <p:nvPr/>
        </p:nvSpPr>
        <p:spPr>
          <a:xfrm flipV="1">
            <a:off x="2476440" y="6553080"/>
            <a:ext cx="95400" cy="90720"/>
          </a:xfrm>
          <a:prstGeom prst="rect">
            <a:avLst/>
          </a:prstGeom>
          <a:solidFill>
            <a:srgbClr val="000080"/>
          </a:solid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59" name=""/>
          <p:cNvSpPr/>
          <p:nvPr/>
        </p:nvSpPr>
        <p:spPr>
          <a:xfrm flipV="1">
            <a:off x="2571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0" name=""/>
          <p:cNvSpPr/>
          <p:nvPr/>
        </p:nvSpPr>
        <p:spPr>
          <a:xfrm flipV="1">
            <a:off x="2666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1" name=""/>
          <p:cNvSpPr/>
          <p:nvPr/>
        </p:nvSpPr>
        <p:spPr>
          <a:xfrm flipV="1">
            <a:off x="2762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2" name=""/>
          <p:cNvSpPr/>
          <p:nvPr/>
        </p:nvSpPr>
        <p:spPr>
          <a:xfrm flipV="1">
            <a:off x="2857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3" name=""/>
          <p:cNvSpPr/>
          <p:nvPr/>
        </p:nvSpPr>
        <p:spPr>
          <a:xfrm flipV="1">
            <a:off x="2952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4" name=""/>
          <p:cNvSpPr/>
          <p:nvPr/>
        </p:nvSpPr>
        <p:spPr>
          <a:xfrm flipV="1">
            <a:off x="3048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5" name=""/>
          <p:cNvSpPr/>
          <p:nvPr/>
        </p:nvSpPr>
        <p:spPr>
          <a:xfrm flipV="1">
            <a:off x="3143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6" name=""/>
          <p:cNvSpPr/>
          <p:nvPr/>
        </p:nvSpPr>
        <p:spPr>
          <a:xfrm flipV="1">
            <a:off x="3238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7" name=""/>
          <p:cNvSpPr/>
          <p:nvPr/>
        </p:nvSpPr>
        <p:spPr>
          <a:xfrm flipV="1">
            <a:off x="3333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8" name=""/>
          <p:cNvSpPr/>
          <p:nvPr/>
        </p:nvSpPr>
        <p:spPr>
          <a:xfrm flipV="1">
            <a:off x="3429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69" name=""/>
          <p:cNvSpPr/>
          <p:nvPr/>
        </p:nvSpPr>
        <p:spPr>
          <a:xfrm flipV="1">
            <a:off x="3524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0" name=""/>
          <p:cNvSpPr/>
          <p:nvPr/>
        </p:nvSpPr>
        <p:spPr>
          <a:xfrm flipV="1">
            <a:off x="3619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1" name=""/>
          <p:cNvSpPr/>
          <p:nvPr/>
        </p:nvSpPr>
        <p:spPr>
          <a:xfrm flipV="1">
            <a:off x="3714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2" name=""/>
          <p:cNvSpPr/>
          <p:nvPr/>
        </p:nvSpPr>
        <p:spPr>
          <a:xfrm flipV="1">
            <a:off x="3809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3" name=""/>
          <p:cNvSpPr/>
          <p:nvPr/>
        </p:nvSpPr>
        <p:spPr>
          <a:xfrm flipV="1">
            <a:off x="39052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4" name=""/>
          <p:cNvSpPr/>
          <p:nvPr/>
        </p:nvSpPr>
        <p:spPr>
          <a:xfrm flipV="1">
            <a:off x="400068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5" name=""/>
          <p:cNvSpPr/>
          <p:nvPr/>
        </p:nvSpPr>
        <p:spPr>
          <a:xfrm flipV="1">
            <a:off x="409572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6" name=""/>
          <p:cNvSpPr/>
          <p:nvPr/>
        </p:nvSpPr>
        <p:spPr>
          <a:xfrm flipV="1">
            <a:off x="419112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7" name=""/>
          <p:cNvSpPr/>
          <p:nvPr/>
        </p:nvSpPr>
        <p:spPr>
          <a:xfrm flipV="1">
            <a:off x="428616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8" name=""/>
          <p:cNvSpPr/>
          <p:nvPr/>
        </p:nvSpPr>
        <p:spPr>
          <a:xfrm flipV="1">
            <a:off x="438156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79" name=""/>
          <p:cNvSpPr/>
          <p:nvPr/>
        </p:nvSpPr>
        <p:spPr>
          <a:xfrm flipV="1">
            <a:off x="44766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0" name=""/>
          <p:cNvSpPr/>
          <p:nvPr/>
        </p:nvSpPr>
        <p:spPr>
          <a:xfrm flipV="1">
            <a:off x="457200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1" name=""/>
          <p:cNvSpPr/>
          <p:nvPr/>
        </p:nvSpPr>
        <p:spPr>
          <a:xfrm flipV="1">
            <a:off x="466740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2" name=""/>
          <p:cNvSpPr/>
          <p:nvPr/>
        </p:nvSpPr>
        <p:spPr>
          <a:xfrm flipV="1">
            <a:off x="476244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3" name=""/>
          <p:cNvSpPr/>
          <p:nvPr/>
        </p:nvSpPr>
        <p:spPr>
          <a:xfrm flipV="1">
            <a:off x="4857840" y="6553080"/>
            <a:ext cx="9504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
        <p:nvSpPr>
          <p:cNvPr id="584" name=""/>
          <p:cNvSpPr/>
          <p:nvPr/>
        </p:nvSpPr>
        <p:spPr>
          <a:xfrm flipV="1">
            <a:off x="4952880" y="6553080"/>
            <a:ext cx="95400" cy="90720"/>
          </a:xfrm>
          <a:prstGeom prst="rect">
            <a:avLst/>
          </a:prstGeom>
          <a:noFill/>
          <a:ln w="19080">
            <a:solidFill>
              <a:srgbClr val="c0c0c0"/>
            </a:solidFill>
            <a:miter/>
          </a:ln>
        </p:spPr>
        <p:style>
          <a:lnRef idx="0"/>
          <a:fillRef idx="0"/>
          <a:effectRef idx="0"/>
          <a:fontRef idx="minor"/>
        </p:style>
        <p:txBody>
          <a:bodyPr lIns="90000" rIns="90000" tIns="43920" bIns="43920" anchor="ctr">
            <a:spAutoFit/>
          </a:bodyPr>
          <a:p>
            <a:endParaRPr b="0" lang="en-US" sz="24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数字校园 一卡通</cp:keywords>
  <dc:language>en-US</dc:language>
  <cp:lastModifiedBy/>
  <cp:revision>0</cp:revision>
  <dc:subject/>
  <dc:title/>
</cp:coreProperties>
</file>