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E35C0-85BC-4A69-BFC7-EB4CE07F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B8873-5847-4C6C-ADCE-DA9FA2C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12F74-1F3C-4FC7-B41A-52F42BFA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A6EB2-90CD-4A27-BD00-99FDB49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AC15E-CC90-4047-9F54-438F877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AC4EC-76E3-4AFE-9A3C-8A196CA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AD26B-CEA9-4348-9039-3A2C0B8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73686D-6FED-4E20-9056-D62D0785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8BF67-5BCE-4422-9420-62C5F5BA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81744-3FE7-474F-B0AB-30D0E5E1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026A6-020C-4BF5-B34F-FD9BA02A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A4FE0-0B5F-4392-9B71-58882EE7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2A441-FD53-409C-9727-F23BB06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C6E8B-467A-40F9-A7B5-5661F92E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F61C1-7B00-4227-B839-CB02BD0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62582-2034-4C74-AD1C-7F0DD2A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309D6E-783E-4E6D-8BD6-5ED0E9F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257C2-DDDE-48CB-945F-CD45269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BF318-0D5A-4708-8A1D-3A83D8E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542BBC-D8FE-43C6-BF94-F706FD97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186708-947F-4FC3-A56C-306BEF09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F96DA4-837E-474E-B762-6CF94951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3DDCF-FF31-4B3C-B226-4244C98E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AFD15B-B9B0-41F3-9930-53081DD4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BC2FB0-C985-4CB2-8F6E-5F186C79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29AA1-342F-4828-B3D1-307D3EF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CC4890-2D0D-4AC8-8DA5-07D6B08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5E7B63-D436-4754-8FD3-FD71355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73900-8129-4EC4-AF56-861BF141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50EA4-6133-4BC0-B342-AF1B96C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3C797A-F8E1-4EE7-8F01-7D817C0D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B8E42B-93F0-4BE7-95BD-F533F0C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C83E4-9007-4FB2-941B-C17059AE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6BFCA8-4EE3-49BD-BA08-5D2F563C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925C5F-2022-4CEB-BEB8-A0A3CAF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6DB5B-957D-43B0-B357-8DC4486A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7ECC1D-C6FE-4646-902F-C9E76272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E4E6F3-BB08-4FA9-B1B9-AC411D9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68F20E-5B77-4269-8AF5-5624758A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C9ADA-08A4-4EC8-8830-44BD954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28D57F-E8B2-4F32-BD0A-F7BCDFC4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0F646-E314-42B3-85F3-99DBEE3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9CD200-70AA-49BC-AE4F-B38FFE7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F35FCC-EE22-4178-848D-7F1713E6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E2D90-813C-4668-ADE8-27288387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62CB95-A7E4-46E3-A81D-782599EC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80A1C5-32C6-4D79-8F18-68EDD16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F75B2-0657-42EB-9DB2-F8B99CFA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280B6D-B7D0-45BD-91CA-2EBF1CE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EBD6BD-2C44-42CE-8929-58939A4E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A73492-AC78-4C21-B4AB-D14672C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45C4FC-B3B7-44EA-835F-87A17C5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B50E56-2B44-4DBF-9A78-55E3E64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337AF2-9A6B-4878-A5BA-37C7FC2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B0F74D-37BA-4D0B-AB8C-E193BE4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EF9F48-BBD4-47E6-BD34-1E5EF3EE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CF8AB6-44DC-4BD8-93DA-F609AC5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C235D7-D6AC-47AA-A5C5-B6D71BC9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0B8451-3A84-48EB-8E75-41AC848D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24BFEE-8D15-4DDA-87B0-8695AD2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91B53-7A88-48B7-ADB1-F67E8B8E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BB4FE-D66F-43D5-B7C6-9208DAB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6536B2-D5C9-47C9-AC69-A17AE58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A14A9-A660-4891-8C77-7AE96D6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2BD967-07CF-48F1-8CC6-E3122C6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890804-2599-4536-A758-2C830E6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65A75-27B7-4D11-AB63-286AC68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0867A-4877-481A-BA23-094F7F9A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D89F0-F5AC-49AD-A1EE-256CD2E2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C87BA7-5060-4A9E-B9E6-F2666E54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670CDA-58DC-4327-9786-EA361A9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0EF90B-4B6F-4FBC-A694-EA8008D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969C86-4D75-4D9C-8795-38B3233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1931EF-3C52-47C1-8C2D-23C4D0D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1A800A-3CA4-4D25-AA45-0DDBD7B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E79832-2810-4F24-B163-9F4588F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A633A9-5229-4E53-AE38-DFE0AD0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6FC85C-9950-430B-BB35-74B0C4C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E83ECE-3492-4998-8A69-9D8607E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B324A9-39FA-4C72-BBC1-E55C2B2B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168B9E-7095-4FB0-9203-551A9D7E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6457BC-C91C-451F-9F0E-06A78C23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AB56C7-D879-432C-886E-ACF8D11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943681-7580-4305-82C0-847148D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5AD166-5757-4D0A-BDAC-6970D6EE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246C15-BD88-4540-A017-7615666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13535F-6BE5-40A9-AF43-0886E7B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72AD4B-96F1-48B1-AB54-154D5E9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BA6C09-ABFF-452B-B7B2-A6BD540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394946-3CE6-45F7-8C60-005D996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012410-0471-470D-B096-D641B6D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FC2D4B-C247-45F2-BB81-3B21C8DB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0DDBA3-2627-4D82-8EB2-B9584DFB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607E57-04B8-4B7B-8577-8F55C09B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3EBA74-9B15-411B-BBA6-62343B9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B32B9C-539B-4569-AC13-2719BA4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C56DB8-C9E2-48D1-961C-D79A003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C9EE51-65CE-411F-96CF-6A87ACA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356371-0F05-4B89-BF2C-2A2D5386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627C1E-374C-45C1-A72F-FC4BF7F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90E5A3-97FC-4E56-8D96-5F53453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E83CE5-E081-4F45-B371-0F4F398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C34ED9-8F6D-48B6-B248-AFEA964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1B255C-EA4F-4DE3-BA8B-1A21FFC4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3A2B3B-B2F9-4F2C-ADEA-8455A6D8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0219FE-CBCC-45A3-B1A7-7E61557F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3C4723-780F-41EA-B8CC-44707619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88240D-43B8-4FD1-B419-D3924DB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0594E8-B444-4B9E-B77D-F6423612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DE49CD-606B-4FAE-B34D-B17CEC31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6723B6-15F6-4384-BBA4-60738EA3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9E9981-1FC7-4DB9-B942-05266D0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A9374C-B1D2-4CCD-89E9-16DA954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77E9A7-B7A1-4CA0-8192-5736351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96E1D3-A52B-49D7-B6DC-F5B49EF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9AD4B2-57FB-44CA-9FE8-281A8DEA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41B235-3FBD-4BC8-82A3-B03F3CD1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5BDE33-47D8-45D6-BAD6-57F12585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17D605-7A1C-44AA-9E64-EA929FC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98C2F7-7C9F-46D1-87BA-FF2C88C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863A04-6387-46E8-A6C2-F61B2E13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56AC2A-0BD4-4547-9B27-18BC617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99D6B4-7A2D-467F-A9C8-17C3252F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95CF7B-0F1F-4977-B607-FBC0541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D8D1A5-D2B2-499B-BD02-CF5812DA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A1F893-2851-461B-BA80-77734581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79B7E5-2936-4407-907B-BD58A3A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9E395F-D30A-48E1-8BA1-A0DC5F1E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55AF13-E927-4C87-AC78-1DBBCC2F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974A-E0C5-456E-8371-7B360F5E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66B9-70DB-4E68-94B8-0DBFBB0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8B12-DD73-452A-AF64-52106AF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1722-D779-4FDB-9245-2B47534C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9F89-E17B-4216-9B6A-86B5B6D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8763-324F-45B8-A73A-5E9F832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1485-2DD0-4D70-A3A1-02BEBAA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639B-26D7-44A6-8636-73755B9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5C22-7F6D-4D6D-A2DF-A9055CF9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52E3-591F-4813-B5FB-89F83C3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E854-607D-4839-961F-1FC51EEE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36C5-37B3-4159-83EE-EF526684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59F2F-43A5-4014-994A-AB2C735D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18AA7-BF41-4BB5-AE06-37EDF26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B31DE-033F-4235-AF00-1AB68B6C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159D6-6244-42AF-932D-525FC1F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8C938-B5FE-4039-8E88-4D093F6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7B7E6-346F-46DC-A981-65AB880E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9C99B-EA4B-4B05-92C2-D6BD8A8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1D6FD-783D-4F84-A609-75A28BA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079C7-D793-4352-BE5C-D6CF155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B8CE3-C81A-4B38-BA41-4D0D2FD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B21CA-BE4B-4179-AEA7-50E7B24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52408-927A-46E3-81F0-7F937DC7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75406-BF82-4BE7-891A-C2548445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C5174-E333-43A9-BFEC-37A36098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7E656-01BD-4FB7-8EC2-6FDB4420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9B649-D324-4A2D-8632-26A1D43C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93E2C-2CD3-4292-A283-4045919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0C2C3-F6DC-4AAB-9BEE-36881D7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35596-ECBF-4B3C-B20C-5ACD0FC7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94D3F-3345-4065-A510-CDC3FF6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DCD37-CE7E-44D5-8DE4-6808081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ED027-4605-458B-A76E-DB66460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758E1-E670-461C-BADE-EF469BA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C8393-937E-42EB-A772-0467E664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AE763-FDFA-4AD1-A9E9-452A4FF1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D377A-FBD6-45EE-ADB6-853FA7B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803F2-5859-47A5-9420-1C744EA8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C20D2-2259-49D9-8F65-17685D27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5964A-3C44-4E6C-9752-F2AAA71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AEA76-405D-4AFA-A79E-FB73722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9F3FB-E41C-4325-A5F1-6DB58E2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28412-31C3-48E1-9807-68625A7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3D67C-3B26-423E-B2A6-6BE2E86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47DEE-E2D9-4253-8115-12B431ED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45435-CF64-4311-B1A6-070CA969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A2611-1786-4392-8B1A-4DB2DED7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A4790-EDD6-46A0-9ABF-5786BA08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E5F12D-0FC2-47BA-9886-95C4156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37DC37-B1EB-4043-8B1B-960AFC15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Ir_begin.wav" TargetMode="External"/><Relationship Id="rId4" Type="http://schemas.microsoft.com/office/2007/relationships/media" Target="file:///tmp/home/.config/libreoffice/4/user/gallery/Ir_begin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audio" Target="file:///tmp/home/.config/libreoffice/4/user/gallery/Ir_end.wav" TargetMode="External"/><Relationship Id="rId3" Type="http://schemas.microsoft.com/office/2007/relationships/media" Target="file:///tmp/home/.config/libreoffice/4/user/gallery/Ir_end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CB84-30DA-4AD0-8F5C-6B57F8CBDD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59D-6510-4A73-A32B-3121D2FA3C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50D3-65AF-4F7C-9A19-54A519D1A0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C54-6B16-4221-80D7-3854B4B141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AEB-F65C-469B-9145-D3FFF52F3F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0C59-9CEB-45C3-95FD-29D50DE14D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EFC-5BB9-4FE2-8E53-ED791BA025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CE5-3218-4F02-BA54-D317141A02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6FE-DD76-49B4-B789-0E537805B0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617-338D-4F14-9265-60A81D4396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34AB-188A-4BB1-8BAD-92BCF9211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94860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32804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70748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93E-EABE-4368-9EF9-F5CFA27911CE}" type="slidenum">
              <a:rPr b="1" lang="zh-CN" sz="1400" spc="-1" strike="noStrike">
                <a:solidFill>
                  <a:srgbClr val="cc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04920" y="30492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208" name="Line 9"/>
          <p:cNvSpPr/>
          <p:nvPr/>
        </p:nvSpPr>
        <p:spPr>
          <a:xfrm flipH="1">
            <a:off x="2362320" y="1219320"/>
            <a:ext cx="678168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11B1-F155-4838-9566-5C652C39F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F438-801A-4D89-ABFE-3C66F56D2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4724280"/>
            <a:ext cx="9144000" cy="2127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2286000"/>
            <a:ext cx="1790640" cy="1790640"/>
          </a:xfrm>
          <a:prstGeom prst="rect">
            <a:avLst/>
          </a:prstGeom>
          <a:ln w="0">
            <a:noFill/>
          </a:ln>
        </p:spPr>
      </p:pic>
      <p:sp>
        <p:nvSpPr>
          <p:cNvPr id="330" name="Line 10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2" marL="94860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3" marL="132804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4" marL="1707480" indent="-189720">
              <a:spcBef>
                <a:spcPts val="901"/>
              </a:spcBef>
              <a:buClr>
                <a:srgbClr val="b2b2b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5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  <a:p>
            <a:pPr lvl="6" marL="1707480" indent="-1897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FF14-B149-4F2C-9CE9-2F19EF7D5343}" type="slidenum"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76360" y="24922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题李凝幽居</a:t>
            </a:r>
            <a:br>
              <a:rPr sz="96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贾岛</a:t>
            </a:r>
            <a:br>
              <a:rPr sz="4800"/>
            </a:br>
            <a:endParaRPr b="0" lang="en-US" sz="48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83" name="矩形 5"/>
          <p:cNvSpPr/>
          <p:nvPr/>
        </p:nvSpPr>
        <p:spPr>
          <a:xfrm>
            <a:off x="2496960" y="5877000"/>
            <a:ext cx="39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E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0520" y="1172880"/>
            <a:ext cx="8026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鸟宿池边树，僧敲月下门”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6360" y="2263680"/>
            <a:ext cx="842652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颔联描写自己步入幽居所见所闻的景色。句中的“ 僧”，是作者自称。诗人写景，难在捕捉稍纵即逝的“瞬间”景致，此诗巧妙地抓住了一个富于诗情画意的瞬间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月色皎洁，池水潋滟，池边浓绿的树林里闪动着斑驳月光，鸟儿在树上栖宿。在这万籁俱寂的荒园里，一个僧人在轻轻敲门，其声笃笃，俨然一幅有声有色的图画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  “</a:t>
            </a:r>
            <a:r>
              <a:rPr b="1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鸟宿”在高处，是静景，“僧敲”在低处，有动态，有音响，一高一低，一静一动，相互配合得多么和谐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8" name="Rectangle 9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品味文本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612720" y="15555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从字面意思看，这两句诗写出了什么意境</a:t>
            </a:r>
            <a:r>
              <a:rPr b="0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000" y="1171440"/>
            <a:ext cx="856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过桥分野色，移石动云根。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华文行楷"/>
                <a:ea typeface="黑体"/>
              </a:rPr>
              <a:t>颈联写回归路上所见。诗人走过一条小桥，但见月光照耀下的原野，色彩斑斓；晚风轻拂，云脚（雾）飘散，仿佛山石在移动。这一联以幻写真，亦真亦幻，更显出月色的迷离，环境的清幽，造化的神奇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行楷"/>
                <a:ea typeface="黑体"/>
              </a:rPr>
              <a:t>对于这两句，你还有不同的理解么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品味文本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换一种思路想想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</a:t>
            </a: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颈联在敲门之后未写开门、进门，而是直写游园。“桥”字承上“池”字，“野”字、“云”字承上“荒”字。“荒园” 内一片“野色”，月下“过桥”，将“野色”“分” 向两边。“荒园”内有石山，月光下浮起夜雾。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  “</a:t>
            </a: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移”步登山，触“动”了山石夜雾。“移石”对“过桥”（</a:t>
            </a:r>
            <a:r>
              <a:rPr b="1" lang="zh-CN" sz="3400" spc="-1" strike="noStrike">
                <a:solidFill>
                  <a:srgbClr val="cc0000"/>
                </a:solidFill>
                <a:latin typeface="黑体"/>
                <a:ea typeface="黑体"/>
              </a:rPr>
              <a:t>律诗颈联必须对仗</a:t>
            </a: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），自然不应作“移开石头”解，而是“踏石”之类的意思。用“移”字，实显晦涩。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这一联，较典型地体现了贾岛琢字炼句，力避平易，务求新奇的诗风。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612720" y="1663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尾联运用了什么表达方式，表现作者对李凝怎样的期望</a:t>
            </a:r>
            <a:r>
              <a:rPr b="0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468360" y="4283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尾联是抒情，点明全篇主旨（卒章显志）。诗人面对友人幽居周围的幽美迷人景色，对隐逸生活无比神往。他在心里说，我暂且离去，不久当会重来，一定不负共同归隐的相约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825480" y="1125360"/>
            <a:ext cx="857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暂去还来此，幽期不负言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品味文本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466560" y="836280"/>
            <a:ext cx="734544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闲居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少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邻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草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入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荒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鸟宿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池边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僧敲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月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过桥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野色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移石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云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暂去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还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来此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幽期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不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负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0" name="Text Box 3"/>
          <p:cNvSpPr/>
          <p:nvPr/>
        </p:nvSpPr>
        <p:spPr>
          <a:xfrm>
            <a:off x="3132000" y="549360"/>
            <a:ext cx="3095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题李凝幽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贾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7349400" y="1909800"/>
            <a:ext cx="13993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朗 读 诗 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val 2"/>
          <p:cNvSpPr/>
          <p:nvPr/>
        </p:nvSpPr>
        <p:spPr>
          <a:xfrm>
            <a:off x="250920" y="3860640"/>
            <a:ext cx="793800" cy="792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3" name="Oval 3"/>
          <p:cNvSpPr/>
          <p:nvPr/>
        </p:nvSpPr>
        <p:spPr>
          <a:xfrm>
            <a:off x="2987640" y="2635200"/>
            <a:ext cx="792360" cy="793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4" name="Oval 4"/>
          <p:cNvSpPr/>
          <p:nvPr/>
        </p:nvSpPr>
        <p:spPr>
          <a:xfrm>
            <a:off x="2338560" y="5086440"/>
            <a:ext cx="79200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5" name="Oval 5"/>
          <p:cNvSpPr/>
          <p:nvPr/>
        </p:nvSpPr>
        <p:spPr>
          <a:xfrm>
            <a:off x="324000" y="1413000"/>
            <a:ext cx="792000" cy="79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133440" y="-360"/>
            <a:ext cx="338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孰”能成诵？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22200" y="936360"/>
            <a:ext cx="410544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闲居少邻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草径入荒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鸟宿池边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僧敲月下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过桥分野色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移石动云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暂去还来此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幽期不负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4287960" y="646200"/>
            <a:ext cx="4643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</a:rPr>
              <a:t>01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入境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悠闲独居，无邻为伴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草覆小路，直通荒园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鸟儿栖息，僧人敲门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景色可分，云石难辨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暂去复来，君莫食言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333333"/>
                </a:solidFill>
                <a:latin typeface="宋体"/>
              </a:rPr>
              <a:t>02 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</a:rPr>
              <a:t>串字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Text Box 9"/>
          <p:cNvSpPr/>
          <p:nvPr/>
        </p:nvSpPr>
        <p:spPr>
          <a:xfrm>
            <a:off x="612720" y="549360"/>
            <a:ext cx="3095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华文琥珀"/>
              </a:rPr>
              <a:t>题李凝幽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贾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0" name="WordArt 10"/>
          <p:cNvSpPr txBox="1"/>
          <p:nvPr/>
        </p:nvSpPr>
        <p:spPr>
          <a:xfrm>
            <a:off x="4429080" y="3357720"/>
            <a:ext cx="4176720" cy="28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0340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黑体"/>
              </a:rPr>
              <a:t>闲  书   过   来</a:t>
            </a:r>
            <a:endParaRPr b="1" lang="en-US" sz="24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12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链接：关于贾岛的“推敲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-95400" y="1483920"/>
            <a:ext cx="92030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100" spc="-1" strike="noStrike">
                <a:solidFill>
                  <a:srgbClr val="333333"/>
                </a:solidFill>
                <a:latin typeface="Times New Roman"/>
              </a:rPr>
              <a:t>贾岛初赴举，在京师。一日于驴上得句云：“鸟宿池边树，僧敲月下门。”又欲“推”字，炼之未定，于驴上吟哦，引手作推敲之势，观者讶之。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100" spc="-1" strike="noStrike">
                <a:solidFill>
                  <a:srgbClr val="333333"/>
                </a:solidFill>
                <a:latin typeface="Times New Roman"/>
              </a:rPr>
              <a:t>时韩退之权京兆尹，车骑方出，岛不觉行止第三节，尚为手势未已。俄为左右拥止尹前。岛具对所得诗句，“推”字与“敲”字未定，神游象外，不知回避。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100" spc="-1" strike="noStrike">
                <a:solidFill>
                  <a:srgbClr val="333333"/>
                </a:solidFill>
                <a:latin typeface="Times New Roman"/>
              </a:rPr>
              <a:t>退之立马久之，谓岛曰：“‘敲’字佳。”遂并辔而归，共论诗道，留连累日，因与岛为布衣之交。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传说贾岛炼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推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敲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字不决，后世乃以斟酌文字为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推敲</a:t>
            </a:r>
            <a:r>
              <a:rPr b="0" lang="zh-CN" sz="25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合作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3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合作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0" y="763200"/>
            <a:ext cx="9144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探究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华文行楷"/>
                <a:ea typeface="华文行楷"/>
              </a:rPr>
              <a:t>“推”和“敲”哪个更好，理由有哪些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324000" y="1552680"/>
            <a:ext cx="85802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朱光潜先生在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咬文嚼字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一文中说：“比较起来，‘敲’的空气没有‘推’的那么冷寂。就上句‘鸟宿池边树’看来，‘推’似乎比‘敲’要调和些。‘推’可以无声，‘敲’就不免笃笃有声，惊起了宿鸟，打破了岑寂，也似乎平添了搅扰。所以我很怀疑韩愈的修改是否真如古今所称赏的那么妥当。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所以问题不在‘推’字和‘敲’字哪一个比较恰当，而在哪一种境界是他当时所要说的而且与全诗调和的。”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朱光潜先生所谓调和，换言之就是和谐，情和景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境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自然融合，而不只是划一整齐。“蝉噪林逾静，鸟鸣山更幽”是动与静的调和；“竹喧归浣女，莲动下渔舟”是动和动的调和，又是动和静的调和</a:t>
            </a:r>
            <a:r>
              <a:rPr b="1" lang="en-US" sz="2500" spc="-1" strike="noStrike">
                <a:solidFill>
                  <a:srgbClr val="333333"/>
                </a:solidFill>
                <a:latin typeface="Times New Roman"/>
              </a:rPr>
              <a:t>……</a:t>
            </a:r>
            <a:r>
              <a:rPr b="1" lang="zh-CN" sz="2500" spc="-1" strike="noStrike">
                <a:solidFill>
                  <a:srgbClr val="333333"/>
                </a:solidFill>
                <a:latin typeface="Times New Roman"/>
              </a:rPr>
              <a:t>调和有千万种，调和的程度就要看情与境的吻合程度，要看它能否触发心绪，契合心境。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0" y="76500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也有人认为：结合全诗分析，“敲”比“推”应更符合诗歌的意境，也更符合诗人的心境。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首先，“敲”字为“鸟宿池边树”提供了视觉依据。因“敲”惊动了宿鸟或引起鸟儿一阵不安的躁动，或是从鸟窝中飞出转了个圈，又栖息巢中。不然用“推”只能从诗外寻找一些解说勉强的根据。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其次，“敲”字将环境衬托得更为幽静，把诗人的心境表现得更为透明。试想：月光融融，一片寂静，走过草径荒园，来到友人门前举手敲门，耳闻一两声“咚</a:t>
            </a:r>
            <a:r>
              <a:rPr b="1" lang="en-US" sz="2700" spc="-1" strike="noStrike">
                <a:solidFill>
                  <a:srgbClr val="333333"/>
                </a:solidFill>
                <a:latin typeface="宋体"/>
              </a:rPr>
              <a:t>……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咚</a:t>
            </a:r>
            <a:r>
              <a:rPr b="1" lang="en-US" sz="2700" spc="-1" strike="noStrike">
                <a:solidFill>
                  <a:srgbClr val="333333"/>
                </a:solidFill>
                <a:latin typeface="宋体"/>
              </a:rPr>
              <a:t>……”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的敲门声音，却久久不闻友人应门，只见树上被惊起的宿鸟</a:t>
            </a:r>
            <a:r>
              <a:rPr b="1" lang="en-US" sz="2700" spc="-1" strike="noStrike">
                <a:solidFill>
                  <a:srgbClr val="333333"/>
                </a:solidFill>
                <a:latin typeface="宋体"/>
              </a:rPr>
              <a:t>……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幽然之境顿出，孤寂之心情也不言而喻。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用“推”给人感觉，氛围不免死寂，缺乏生气；抒情主人公似乎毫无思想，精神麻木，这就无法与“暂去还来此，幽期不负言”有所待有所期盼的活生生的灵魂对应。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合作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合作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24000" y="388188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赞同。题目即已经言明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幽居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。草径、荒园、鸟宿树、月下门、分野色、动云根等物象，为读者描绘了一幅清雅静谧的李凝幽居图。而于万籁俱寂之时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月下之门，敲门声惊动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宿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，以动衬静，更显寂静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移石动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云根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又从视觉形象上以云之动写了环境是幽静。故而全诗都突出一个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幽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”</a:t>
            </a:r>
            <a:r>
              <a:rPr b="1" lang="zh-CN" sz="3200" spc="-1" strike="noStrike">
                <a:solidFill>
                  <a:srgbClr val="333333"/>
                </a:solidFill>
                <a:latin typeface="华文行楷"/>
                <a:ea typeface="华文行楷"/>
              </a:rPr>
              <a:t>字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24000" y="14299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探究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：有人说，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题李凝幽居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围绕一个“幽”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Times New Roman"/>
                <a:ea typeface="黑体"/>
              </a:rPr>
              <a:t>（诗眼）</a:t>
            </a:r>
            <a:r>
              <a:rPr b="1" lang="zh-CN" sz="32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来写，你是否赞同，请谈谈你的看法。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634920" y="30636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激趣导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25080" y="692280"/>
            <a:ext cx="8496360" cy="64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中国自古就是诗歌璀璨的国度。诗人们的风格也不尽相同：或潇洒或沉郁，或粗犷或婉约。不仅如此，就连作诗的速度都有所差异：有的人七步成诗，他叫        ；有的人指物立就，他叫</a:t>
            </a:r>
            <a:r>
              <a:rPr b="0" lang="zh-CN" sz="3200" spc="-1" strike="noStrike" u="sng">
                <a:solidFill>
                  <a:srgbClr val="333333"/>
                </a:solidFill>
                <a:uFillTx/>
                <a:latin typeface="Times New Roman"/>
                <a:ea typeface="华文行楷"/>
              </a:rPr>
              <a:t>方仲永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；也有人作诗是慢工出细活，那么你知道最慢的诗写了多久么？猜猜看吧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5962680" y="2276640"/>
            <a:ext cx="9144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曹植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1333440" y="45813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两句三年得，一吟双泪流。”                                                                  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                                   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他叫</a:t>
            </a:r>
            <a:r>
              <a:rPr b="1" lang="zh-CN" sz="5400" spc="-1" strike="noStrike">
                <a:solidFill>
                  <a:srgbClr val="333333"/>
                </a:solidFill>
                <a:latin typeface="Times New Roman"/>
                <a:ea typeface="黑体"/>
              </a:rPr>
              <a:t>贾岛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2050920" y="1486080"/>
            <a:ext cx="74898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写文章要用词准确，关键处字斟句酌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写文章要注意把人物事件放在典型环境中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可以写平常小事，注意融入情感，写出情趣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不遇也可以表现出别样情趣，学会逆向思维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他山之石，可以攻玉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攻：琢【音卓】磨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别的山上的石头，能够用来琢磨玉器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原比喻别国的贤才可为本国效力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后比喻借鉴他人的意见、见解来弥补自己的不足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3778200" y="5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他山之石，可以攻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152520" y="10987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随堂强化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80720" y="1904760"/>
            <a:ext cx="878364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题李凝幽居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的作者是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___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____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，“题”字的意思是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_____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，“幽居”的意思是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_______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SzPct val="1750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imes New Roman"/>
              </a:rPr>
              <a:t>答案：</a:t>
            </a:r>
            <a:r>
              <a:rPr b="1" lang="zh-CN" sz="1800" spc="-1" strike="noStrike">
                <a:solidFill>
                  <a:srgbClr val="333333"/>
                </a:solidFill>
                <a:latin typeface="Times New Roman"/>
              </a:rPr>
              <a:t>唐，贾岛，写，“幽居”的意思是“幽僻的居处”。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题李凝幽居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中，诗人抓住一瞬即逝的现象来刻画环境之幽静，动中寓静的两句诗是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—————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，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—————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750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imes New Roman"/>
              </a:rPr>
              <a:t>答案：</a:t>
            </a:r>
            <a:r>
              <a:rPr b="1" lang="zh-CN" sz="1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鸟宿池边树，僧敲月下门。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、“僧敲月下门”一句用了什么手法？请简析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SzPct val="1750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Times New Roman"/>
              </a:rPr>
              <a:t>答案：</a:t>
            </a:r>
            <a:r>
              <a:rPr b="1" lang="zh-CN" sz="1800" spc="-1" strike="noStrike">
                <a:solidFill>
                  <a:srgbClr val="333333"/>
                </a:solidFill>
                <a:latin typeface="Times New Roman"/>
              </a:rPr>
              <a:t>“僧敲”句，用了反衬手法，以动衬静。此联写在皎活的月光下，万籁俱寂，但突然发出了几下敲门的声响，这“笃笃”的声响进一步衬托出了月下幽居的安静。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温故知新，明辨“是非”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03240" y="1904760"/>
            <a:ext cx="7989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下列诗句中，没有运用动静结合手法的是（    ），不是表现隐逸生活的是（   ），与原文不符的一项是（    ）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A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明月松间照，清泉石上流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B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鸟宿池边树，僧敲月下门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C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映阶碧草自春色，隔叶黄鹂空好音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D</a:t>
            </a:r>
            <a:r>
              <a:rPr b="0" lang="en-US" sz="30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0" lang="zh-CN" sz="3000" spc="-1" strike="noStrike">
                <a:solidFill>
                  <a:srgbClr val="333333"/>
                </a:solidFill>
                <a:latin typeface="黑体"/>
                <a:ea typeface="黑体"/>
              </a:rPr>
              <a:t>幸有微吟可相狎，不须檀板共金樽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1835280" y="2295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5292720" y="272736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7454880" y="229536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466560" y="1052640"/>
            <a:ext cx="828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作者访友并题诗是在白天还是晚上？写到月亮就一定是晚上么？反复品味本诗，说说你的意见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我认为晚上比较准确，如果“宿”、“月”是实写，说明时间是晚上，在有月亮的晚上，小路，野色，山石清晰可见，而且月夜访友符合隐士的雅兴，此时环境更加清幽，心绪更加平和，适宜商讨归隐。如果是白天，那么“宿”、“月”是虚写，出自诗人的想象，然而这些物象就在全市中显得突兀，与整体的意境不协调，且不如月夜幽静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其实，答案不唯一，时间也不重要，重要的是全诗幽静和谐的意境，以及作者期待归隐的恬淡心境，还有我们大家细心独到，百家争鸣的情境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课外探究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936520" y="11239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Times New Roman"/>
              </a:rPr>
              <a:t>作业布置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48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诵读本诗，预习《赤壁》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自觉合作，完成课外探究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总结我们初中阶段学过的田园隐逸诗，小组交流这些诗歌对我们的人生态度有何影响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23767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了解作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贾岛（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779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43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字浪仙，唐代（中唐）诗人，范阳（今河北涿州）人。曾出家为僧，后还俗，屡举进士不第。元和六（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11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谒韩愈，以诗深得赏识。文宗时任长江主簿，世称“贾长江”。武宗会昌三年（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43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卒于普州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贾岛擅长五律，苦吟成癖，“</a:t>
            </a:r>
            <a:r>
              <a:rPr b="0" lang="zh-CN" sz="28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两句三年得，一吟双泪流。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（贾岛《题诗后》），与孟郊齐名，世称“郊寒岛瘦”。其诗遣词造句，刻意工求，常写荒寒枯寂之景，表现愁苦幽独之情。其集中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00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多首存诗，绝大部分是寄赠酬唱之作，题材狭窄，偏重炼句，忽视完整艺术境界的创造。贾诗在晚唐形成流派，影响颇大，著有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长江集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0" lang="en-US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卷。郊寒岛瘦：语出苏轼《祭柳子玉文》。寒指清寒枯槁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瘦指孤峭瘦硬。郊、岛之诗风格清奇悲凄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幽峭枯寂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格局狭隘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破碎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且讲究苦吟推敲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锤字炼句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往往给人以寒瘦窘迫之感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故称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23767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了解作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贾岛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779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～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43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字浪仙，唐代（</a:t>
            </a:r>
            <a:r>
              <a:rPr b="1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中唐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诗人，范阳（今河北涿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[zhuō] 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州）人。</a:t>
            </a:r>
            <a:r>
              <a:rPr b="0" lang="zh-CN" sz="25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曾出家为僧，后还俗，屡举进士不第。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元和六年（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11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，谒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韩愈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以诗深得赏识。文宗时任长江主簿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[bù]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世称“贾长江”。武宗会昌三年（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843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卒于普州。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贾岛擅长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五律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苦吟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成癖，“</a:t>
            </a:r>
            <a:r>
              <a:rPr b="1" lang="zh-CN" sz="2500" spc="-1" strike="noStrike" u="sng">
                <a:solidFill>
                  <a:srgbClr val="333333"/>
                </a:solidFill>
                <a:uFillTx/>
                <a:latin typeface="楷体_GB2312"/>
                <a:ea typeface="楷体_GB2312"/>
              </a:rPr>
              <a:t>两句三年得，一吟双泪流。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 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贾岛《题诗后》）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与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孟郊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齐名，世称“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郊寒岛瘦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”。其诗遣词造句，刻意工求，常写荒寒枯寂之景，表现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愁苦幽独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情。其集中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00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多首存诗，绝大部分是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寄赠酬唱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之作，题材狭窄，</a:t>
            </a:r>
            <a:r>
              <a:rPr b="1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偏重炼（字）句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，忽视完整艺术境界的创造。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贾诗在晚唐形成流派，影响颇大，著有</a:t>
            </a: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长江集</a:t>
            </a: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》</a:t>
            </a:r>
            <a:r>
              <a:rPr b="0" lang="en-US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卷。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郊寒岛瘦：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语出苏轼《祭柳子玉文》</a:t>
            </a:r>
            <a:r>
              <a:rPr b="1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。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寒指清寒枯槁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瘦指孤峭瘦硬。孟郊、贾岛风格清奇悲凄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幽峭枯寂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格局狭隘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破碎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且讲究苦吟推敲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锤字炼句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往往给人以寒瘦窘迫之感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</a:t>
            </a:r>
            <a:r>
              <a:rPr b="0" lang="zh-CN" sz="25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故称。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66560" y="836280"/>
            <a:ext cx="734544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闲居少邻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草径入荒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鸟宿池边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僧敲月下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过桥分野色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移石动云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暂去还来此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幽期不负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3132000" y="549360"/>
            <a:ext cx="3095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题李凝幽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贾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7349400" y="1909800"/>
            <a:ext cx="13993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朗 读 诗 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466560" y="836280"/>
            <a:ext cx="734544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闲居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少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邻并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草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入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荒园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鸟宿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池边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树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僧敲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月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过桥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分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野色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移石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"/>
              </a:rPr>
              <a:t>云根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暂去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还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来此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幽期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不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楷体"/>
              </a:rPr>
              <a:t>负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132000" y="549360"/>
            <a:ext cx="3095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题李凝幽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                           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"/>
              </a:rPr>
              <a:t>贾岛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7349400" y="1909800"/>
            <a:ext cx="139932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朗 读 诗 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5252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整体感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80720" y="909360"/>
            <a:ext cx="85676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《题李凝幽居》从体裁上讲属于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（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，共四联八句，四联依次称为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）（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（   ）；从题材上讲属于（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），通过写走访友人李凝未遇，进而写到友人幽静的居处，最后卒章显志。前三联写景，暗含叙事，最后一联（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，表达对（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的向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794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整体感知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81080" y="909360"/>
            <a:ext cx="8928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《题李凝幽居》从体裁上讲属于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（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五言律诗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），共四联八句，四联依次称为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首联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颔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[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hàn]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联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）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颈联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尾联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；从题材上讲属于（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田园诗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），通过写走访友人李凝未遇，进而写到友人幽静的居处，最后</a:t>
            </a:r>
            <a:r>
              <a:rPr b="1" lang="zh-CN" sz="4000" spc="-1" strike="noStrike" u="sng">
                <a:solidFill>
                  <a:srgbClr val="333333"/>
                </a:solidFill>
                <a:uFillTx/>
                <a:latin typeface="Times New Roman"/>
                <a:ea typeface="华文行楷"/>
              </a:rPr>
              <a:t>卒章显志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。前三联写景，暗含叙事，最后一联（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抒情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），表达对（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隐逸生活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）的向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395280" y="3483360"/>
            <a:ext cx="82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</a:t>
            </a:r>
            <a:r>
              <a:rPr b="1" lang="zh-CN" sz="3400" spc="-1" strike="noStrike">
                <a:solidFill>
                  <a:srgbClr val="333333"/>
                </a:solidFill>
                <a:latin typeface="黑体"/>
                <a:ea typeface="黑体"/>
              </a:rPr>
              <a:t>首联属于环境描写，开篇点题（诗题中的“幽居”二字）：一条野草丛生的小径通向荒芜不治的小园；附近也没有别的人家。白描勾勒环境的幽深僻静，语言洗练，暗示出李凝是一位隐士。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33"/>
                </a:solidFill>
                <a:latin typeface="楷体"/>
                <a:ea typeface="楷体"/>
              </a:rPr>
              <a:t>洗练：</a:t>
            </a:r>
            <a:r>
              <a:rPr b="1" lang="zh-CN" sz="3400" spc="-1" strike="noStrike">
                <a:solidFill>
                  <a:srgbClr val="333333"/>
                </a:solidFill>
                <a:latin typeface="楷体"/>
                <a:ea typeface="楷体"/>
              </a:rPr>
              <a:t>(</a:t>
            </a:r>
            <a:r>
              <a:rPr b="1" lang="zh-CN" sz="3400" spc="-1" strike="noStrike">
                <a:solidFill>
                  <a:srgbClr val="333333"/>
                </a:solidFill>
                <a:latin typeface="楷体"/>
                <a:ea typeface="楷体"/>
              </a:rPr>
              <a:t>语言、文字、技艺等）简练利落。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468360" y="16963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首联属于什么描写，暗示了李凝怎样的身份</a:t>
            </a:r>
            <a:r>
              <a:rPr b="0" lang="en-US" sz="32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3132000" y="0"/>
            <a:ext cx="257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品味文本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825480" y="1125360"/>
            <a:ext cx="857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闲居少邻并，草径入荒园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9:05:16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9-04T15:00:00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