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7D1-A4B4-43F5-8DD3-DC669EC7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52560" y="438300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1BD-858C-4636-A185-9F1DED6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980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A2D-9CD6-4B6D-92F3-4A9AD4CF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204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188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5256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204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188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60B-EF97-46E6-95F3-DA25C5A2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D71-53BD-42BA-BE69-5B5EA0D0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52560" y="39052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E82-E795-45F7-8B62-ABBBD095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C5CE-CA60-4123-B32E-1D1E2594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4DEC-C222-4149-8485-25D7E4C6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715D-08D6-41DE-87AC-24FDCF5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52560" y="2285640"/>
            <a:ext cx="819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3F26-7790-48A4-AE81-BE62FD85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F92-9022-4C34-A69E-BB9ABB54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52560" y="39052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B7E-97AF-469D-B142-DA549CDD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C30-4C41-494D-BA24-34E17D7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94E5-EF21-403D-9D57-94954C1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52560" y="438300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60C9-5389-425A-A542-33889AB7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A8E5-B4B0-4F3C-B128-EDC1F56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04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91880" y="390528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5256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04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91880" y="4383000"/>
            <a:ext cx="2637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A881-08F3-4E40-81A6-5214FBA8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E23-C980-41A6-ADC2-9863BC2F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ED2-DF7D-46CD-B5A4-438F72F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04B-909E-4840-8FD4-05249D1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52560" y="2285640"/>
            <a:ext cx="819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222-5886-4C8F-88C9-798C76CA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523-5D6D-4D20-A8E2-FBDF712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9800" y="438300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61E-EEE7-4C4A-99FF-7C231BD1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56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800" y="3905280"/>
            <a:ext cx="3997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560" y="4383000"/>
            <a:ext cx="81914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E17-419C-4E3F-BADF-D287773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1096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51800" y="6288120"/>
            <a:ext cx="1709640" cy="495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095480"/>
            <a:ext cx="990612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560" y="228600"/>
            <a:ext cx="81914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 55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52560" y="1809360"/>
            <a:ext cx="8191440" cy="43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6672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1928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9556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9556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95560" indent="-190440">
              <a:spcBef>
                <a:spcPts val="12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05440" y="640044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28480" y="6400440"/>
            <a:ext cx="4476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52200" y="6400440"/>
            <a:ext cx="476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78B-1498-44F2-BF95-15204419D39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240" y="1095480"/>
            <a:ext cx="9902880" cy="17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1096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91b7b"/>
                </a:solidFill>
                <a:latin typeface="Frutiger 55 Roman"/>
              </a:rPr>
              <a:t>Click to edit the title text format</a:t>
            </a:r>
            <a:endParaRPr b="0" lang="en-US" sz="3400" spc="-1" strike="noStrike">
              <a:solidFill>
                <a:srgbClr val="191b7b"/>
              </a:solidFill>
              <a:latin typeface="Frutiger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952560" y="5486400"/>
            <a:ext cx="81914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428480" y="6400440"/>
            <a:ext cx="7715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952200" y="640044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B4DB-494B-409B-A4CB-FC90E26F49C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40" y="1095480"/>
            <a:ext cx="9902880" cy="17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914400" indent="38160" algn="ctr">
              <a:spcBef>
                <a:spcPts val="451"/>
              </a:spcBef>
              <a:buClr>
                <a:srgbClr val="000000"/>
              </a:buClr>
              <a:buFont typeface="Frutiger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371600" indent="57240" algn="ctr">
              <a:spcBef>
                <a:spcPts val="451"/>
              </a:spcBef>
              <a:buClr>
                <a:srgbClr val="000000"/>
              </a:buClr>
              <a:buFont typeface="Frutiger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828800" indent="76320" algn="ctr">
              <a:spcBef>
                <a:spcPts val="451"/>
              </a:spcBef>
              <a:buClr>
                <a:srgbClr val="000000"/>
              </a:buClr>
              <a:buFont typeface="Frutiger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560" y="2285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191b7b"/>
              </a:solidFill>
              <a:latin typeface="Frutiger 55 Roman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52560" y="39052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Frutiger 55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图案</cp:keywords>
  <dc:language>en-US</dc:language>
  <cp:lastModifiedBy/>
  <cp:revision>0</cp:revision>
  <dc:subject/>
  <dc:title/>
</cp:coreProperties>
</file>