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7303-039B-47B1-AD9C-1BDA6C2C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1FE9-F15F-4F59-AA44-4E765B18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5AA3-FC90-47D1-9B9B-FA76F198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709F-798E-40FB-95D7-C90F0448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FE77-91A6-4D74-931C-C13B9059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27F2-552C-4BCC-9D98-869B6406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F36B-7350-439E-9E86-E82B05CC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41A4-29D6-4F78-AF1A-64F66B7B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6354-B61F-4535-86AD-D346A680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A29D-9C0D-4E2E-BB8C-2C7EE881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E719-97E7-4CB2-9808-02EF8622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DF66-F0A2-4CB9-833C-DE5FE469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9DBC-2542-459D-85A4-8B7A299A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139A-4822-4A46-A458-8F60F3B7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2AC2-4623-47CF-B0B8-48605FCE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ED1C-1370-4516-B77F-16DC2D6E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C259-D2AC-4F71-B6BE-80A25D89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E2E2-508E-4848-966A-33764C05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CF2B-08BB-487E-986A-96C44F30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46BF-F7F1-446E-A483-8ABE42F8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004E-DBD8-4B94-A875-B8892B03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DF54-A074-4235-8266-D02647E1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369C-2142-48E1-96DA-36F7FF55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80A6-70B1-4E42-9307-A6AE6320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89DA-A756-49BC-A76C-0B0AFFA771C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3F90-6A11-45C7-B963-3E15369E981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71600" y="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节  微程序控制器原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838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4.2.1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微程序控制的基本思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600200"/>
            <a:ext cx="952488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1.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若干微命令编制成一条微指令，控制实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一步操作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819520"/>
            <a:ext cx="952488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2.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若干微指令组成一段微程序，解释执行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条机器指令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038480"/>
            <a:ext cx="952488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3.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微程序事先存放在控制存储器中，执行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器指令时再取出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600200"/>
            <a:ext cx="952488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1.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若干微命令编制成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一条微指令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，控制实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一步操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819520"/>
            <a:ext cx="952488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2.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若干微指令组成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一段微程序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，解释执行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条机器指令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486400"/>
            <a:ext cx="3048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CPU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的构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5257800"/>
            <a:ext cx="7162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引入了程序技术，使设计规整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53341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830920"/>
            <a:ext cx="71629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引入了存储逻辑，使功能易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扩展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0" y="228600"/>
            <a:ext cx="55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混合型微指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2133720"/>
            <a:ext cx="998208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微指令不长，便于编写；微程序不长，执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速度加快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0" y="838080"/>
            <a:ext cx="99820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在垂直型的基础上增加一些不太复杂的并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操作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0" y="335268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例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长城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03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微指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228600" y="3809880"/>
            <a:ext cx="8610480" cy="1219320"/>
            <a:chOff x="228600" y="3809880"/>
            <a:chExt cx="8610480" cy="1219320"/>
          </a:xfrm>
        </p:grpSpPr>
        <p:sp>
          <p:nvSpPr>
            <p:cNvPr id="652" name=""/>
            <p:cNvSpPr/>
            <p:nvPr/>
          </p:nvSpPr>
          <p:spPr>
            <a:xfrm>
              <a:off x="228600" y="4343400"/>
              <a:ext cx="8610480" cy="642600"/>
            </a:xfrm>
            <a:prstGeom prst="rect">
              <a:avLst/>
            </a:prstGeom>
            <a:noFill/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</a:t>
              </a:r>
              <a:r>
                <a:rPr b="1" lang="en-US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AI  BI  ZO  AOP  MOP  KK  ST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219320" y="4343400"/>
              <a:ext cx="0" cy="6858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133720" y="4343400"/>
              <a:ext cx="0" cy="6858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124080" y="4343400"/>
              <a:ext cx="0" cy="6858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91120" y="4343400"/>
              <a:ext cx="0" cy="6858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334120" y="4343400"/>
              <a:ext cx="0" cy="6858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248520" y="4343400"/>
              <a:ext cx="0" cy="6858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38880" y="4343400"/>
              <a:ext cx="0" cy="6858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04920" y="3809880"/>
              <a:ext cx="746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3      3       3        3         4        4       4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 rot="16200000">
            <a:off x="1143000" y="4419360"/>
            <a:ext cx="152280" cy="152388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" y="52578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运算器输入控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590920" y="5105520"/>
            <a:ext cx="152280" cy="228600"/>
          </a:xfrm>
          <a:prstGeom prst="line">
            <a:avLst/>
          </a:prstGeom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905120" y="5257800"/>
            <a:ext cx="167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运算器输出控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657600" y="5105520"/>
            <a:ext cx="228600" cy="228600"/>
          </a:xfrm>
          <a:prstGeom prst="line">
            <a:avLst/>
          </a:prstGeom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429000" y="525780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操作类型控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724280" y="5029200"/>
            <a:ext cx="304920" cy="304920"/>
          </a:xfrm>
          <a:prstGeom prst="line">
            <a:avLst/>
          </a:prstGeom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572000" y="5257800"/>
            <a:ext cx="114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访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控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715000" y="5029200"/>
            <a:ext cx="304920" cy="304920"/>
          </a:xfrm>
          <a:prstGeom prst="line">
            <a:avLst/>
          </a:prstGeom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562720" y="522756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常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0" y="5029200"/>
            <a:ext cx="380880" cy="304920"/>
          </a:xfrm>
          <a:prstGeom prst="line">
            <a:avLst/>
          </a:prstGeom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858000" y="5257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辅助操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1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6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1" dur="5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6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81" dur="500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00"/>
                            </p:stCondLst>
                            <p:childTnLst>
                              <p:par>
                                <p:cTn id="106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0" y="111240"/>
            <a:ext cx="3048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编码方法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0" y="685800"/>
            <a:ext cx="55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直接控制法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1981080"/>
            <a:ext cx="3429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例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某微指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129528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微命令按位给出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4952880"/>
            <a:ext cx="76201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不需译码，产生微命令的速度快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信息的表示效率低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380880" y="2362320"/>
            <a:ext cx="8610480" cy="1218600"/>
            <a:chOff x="380880" y="2362320"/>
            <a:chExt cx="8610480" cy="1218600"/>
          </a:xfrm>
        </p:grpSpPr>
        <p:sp>
          <p:nvSpPr>
            <p:cNvPr id="679" name=""/>
            <p:cNvSpPr/>
            <p:nvPr/>
          </p:nvSpPr>
          <p:spPr>
            <a:xfrm>
              <a:off x="380880" y="2895480"/>
              <a:ext cx="8610480" cy="642600"/>
            </a:xfrm>
            <a:prstGeom prst="rect">
              <a:avLst/>
            </a:prstGeom>
            <a:noFill/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       </a:t>
              </a:r>
              <a:r>
                <a:rPr b="1" lang="zh-CN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C</a:t>
              </a:r>
              <a:r>
                <a:rPr b="1" lang="zh-CN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0</a:t>
              </a:r>
              <a:r>
                <a:rPr b="1" lang="zh-CN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           R   W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286000" y="2895480"/>
              <a:ext cx="0" cy="6854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76360" y="2895480"/>
              <a:ext cx="0" cy="6854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486400" y="2895480"/>
              <a:ext cx="0" cy="6854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00800" y="2895480"/>
              <a:ext cx="0" cy="6854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91160" y="2895480"/>
              <a:ext cx="0" cy="6854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5800" y="3200400"/>
              <a:ext cx="1066680" cy="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733560" y="3276360"/>
              <a:ext cx="1067040" cy="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96080" y="3276360"/>
              <a:ext cx="1066680" cy="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0560" y="2362320"/>
              <a:ext cx="495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                 1    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228600" y="3733920"/>
            <a:ext cx="4952880" cy="1029960"/>
            <a:chOff x="228600" y="3733920"/>
            <a:chExt cx="4952880" cy="1029960"/>
          </a:xfrm>
        </p:grpSpPr>
        <p:sp>
          <p:nvSpPr>
            <p:cNvPr id="690" name=""/>
            <p:cNvSpPr/>
            <p:nvPr/>
          </p:nvSpPr>
          <p:spPr>
            <a:xfrm>
              <a:off x="228600" y="3886200"/>
              <a:ext cx="11430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C</a:t>
              </a:r>
              <a:r>
                <a:rPr b="1" lang="en-US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0=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295280" y="3733920"/>
              <a:ext cx="3886200" cy="10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0 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进位初值为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 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进位初值为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143000" y="3809880"/>
              <a:ext cx="75960" cy="76212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4495680" y="3733920"/>
            <a:ext cx="2743200" cy="1029960"/>
            <a:chOff x="4495680" y="3733920"/>
            <a:chExt cx="2743200" cy="1029960"/>
          </a:xfrm>
        </p:grpSpPr>
        <p:sp>
          <p:nvSpPr>
            <p:cNvPr id="694" name=""/>
            <p:cNvSpPr/>
            <p:nvPr/>
          </p:nvSpPr>
          <p:spPr>
            <a:xfrm>
              <a:off x="4495680" y="3962520"/>
              <a:ext cx="11430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R</a:t>
              </a:r>
              <a:r>
                <a:rPr b="1" lang="en-US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257800" y="3733920"/>
              <a:ext cx="1981080" cy="10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0 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不读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 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读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105160" y="3809880"/>
              <a:ext cx="76320" cy="76212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6934320" y="3733920"/>
            <a:ext cx="2743200" cy="1029960"/>
            <a:chOff x="6934320" y="3733920"/>
            <a:chExt cx="2743200" cy="1029960"/>
          </a:xfrm>
        </p:grpSpPr>
        <p:sp>
          <p:nvSpPr>
            <p:cNvPr id="698" name=""/>
            <p:cNvSpPr/>
            <p:nvPr/>
          </p:nvSpPr>
          <p:spPr>
            <a:xfrm>
              <a:off x="7696440" y="3733920"/>
              <a:ext cx="1981080" cy="10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0 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不写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 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写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934320" y="3962520"/>
              <a:ext cx="11430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W</a:t>
              </a:r>
              <a:r>
                <a:rPr b="1" lang="en-US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543800" y="3809880"/>
              <a:ext cx="152640" cy="76212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0" y="6172200"/>
            <a:ext cx="9524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微指令中通常只有个别位采用直接控制法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6" dur="5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7" dur="5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2" dur="500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0" y="133200"/>
            <a:ext cx="55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分段直接编译法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1295280"/>
            <a:ext cx="7391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例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对加法器输入端进行控制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685800"/>
            <a:ext cx="6858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微命令由字段编码直接给出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00200" y="4038480"/>
            <a:ext cx="3429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000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不发命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1905120"/>
            <a:ext cx="59436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微指令中设置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AI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字段，控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加法器的输入选择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6248520" y="1371600"/>
            <a:ext cx="2895480" cy="2732760"/>
            <a:chOff x="6248520" y="1371600"/>
            <a:chExt cx="2895480" cy="2732760"/>
          </a:xfrm>
        </p:grpSpPr>
        <p:sp>
          <p:nvSpPr>
            <p:cNvPr id="708" name=""/>
            <p:cNvSpPr/>
            <p:nvPr/>
          </p:nvSpPr>
          <p:spPr>
            <a:xfrm>
              <a:off x="6400800" y="1371600"/>
              <a:ext cx="2210040" cy="520560"/>
            </a:xfrm>
            <a:prstGeom prst="rect">
              <a:avLst/>
            </a:prstGeom>
            <a:solidFill>
              <a:srgbClr val="ff9900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加法器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6248520" y="2209680"/>
              <a:ext cx="1218960" cy="990720"/>
              <a:chOff x="6248520" y="2209680"/>
              <a:chExt cx="1218960" cy="990720"/>
            </a:xfrm>
          </p:grpSpPr>
          <p:sp>
            <p:nvSpPr>
              <p:cNvPr id="710" name=""/>
              <p:cNvSpPr/>
              <p:nvPr/>
            </p:nvSpPr>
            <p:spPr>
              <a:xfrm>
                <a:off x="6248520" y="2209680"/>
                <a:ext cx="1218960" cy="520560"/>
              </a:xfrm>
              <a:prstGeom prst="rect">
                <a:avLst/>
              </a:prstGeom>
              <a:solidFill>
                <a:srgbClr val="ff9900"/>
              </a:solidFill>
              <a:ln cap="sq"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451560" y="2743200"/>
                <a:ext cx="0" cy="45720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264080" y="2743200"/>
                <a:ext cx="0" cy="45720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553080" y="3048120"/>
                <a:ext cx="507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7696440" y="2209680"/>
              <a:ext cx="1142640" cy="990720"/>
              <a:chOff x="7696440" y="2209680"/>
              <a:chExt cx="1142640" cy="990720"/>
            </a:xfrm>
          </p:grpSpPr>
          <p:sp>
            <p:nvSpPr>
              <p:cNvPr id="715" name=""/>
              <p:cNvSpPr/>
              <p:nvPr/>
            </p:nvSpPr>
            <p:spPr>
              <a:xfrm>
                <a:off x="7696440" y="2209680"/>
                <a:ext cx="1142640" cy="520560"/>
              </a:xfrm>
              <a:prstGeom prst="rect">
                <a:avLst/>
              </a:prstGeom>
              <a:solidFill>
                <a:srgbClr val="ff9900"/>
              </a:solidFill>
              <a:ln cap="sq"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886520" y="2743200"/>
                <a:ext cx="0" cy="45720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8648280" y="2743200"/>
                <a:ext cx="0" cy="45720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981920" y="3048120"/>
                <a:ext cx="475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 flipV="1">
              <a:off x="6858000" y="1904400"/>
              <a:ext cx="0" cy="3049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8229600" y="1904400"/>
              <a:ext cx="0" cy="3049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400800" y="3276360"/>
              <a:ext cx="137160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、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、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848720" y="3276360"/>
              <a:ext cx="129528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、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、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762120" y="2819520"/>
            <a:ext cx="2971800" cy="1143000"/>
            <a:chOff x="762120" y="2819520"/>
            <a:chExt cx="2971800" cy="1143000"/>
          </a:xfrm>
        </p:grpSpPr>
        <p:grpSp>
          <p:nvGrpSpPr>
            <p:cNvPr id="724" name=""/>
            <p:cNvGrpSpPr/>
            <p:nvPr/>
          </p:nvGrpSpPr>
          <p:grpSpPr>
            <a:xfrm>
              <a:off x="762120" y="3276720"/>
              <a:ext cx="2971800" cy="685800"/>
              <a:chOff x="762120" y="3276720"/>
              <a:chExt cx="2971800" cy="685800"/>
            </a:xfrm>
          </p:grpSpPr>
          <p:sp>
            <p:nvSpPr>
              <p:cNvPr id="725" name=""/>
              <p:cNvSpPr/>
              <p:nvPr/>
            </p:nvSpPr>
            <p:spPr>
              <a:xfrm>
                <a:off x="762120" y="3276720"/>
                <a:ext cx="2971800" cy="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62120" y="3962520"/>
                <a:ext cx="2971800" cy="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600200" y="3276720"/>
                <a:ext cx="0" cy="68580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590920" y="3276720"/>
                <a:ext cx="0" cy="68580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>
              <a:off x="1752840" y="335304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AI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895840" y="36576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2120" y="36576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05120" y="28195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1600200" y="4952880"/>
            <a:ext cx="2971800" cy="386280"/>
            <a:chOff x="1600200" y="4952880"/>
            <a:chExt cx="2971800" cy="386280"/>
          </a:xfrm>
        </p:grpSpPr>
        <p:sp>
          <p:nvSpPr>
            <p:cNvPr id="734" name=""/>
            <p:cNvSpPr/>
            <p:nvPr/>
          </p:nvSpPr>
          <p:spPr>
            <a:xfrm>
              <a:off x="1600200" y="4952880"/>
              <a:ext cx="29718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010  C   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71800" y="5105520"/>
              <a:ext cx="457200" cy="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1600200" y="5867280"/>
            <a:ext cx="2971800" cy="386280"/>
            <a:chOff x="1600200" y="5867280"/>
            <a:chExt cx="2971800" cy="386280"/>
          </a:xfrm>
        </p:grpSpPr>
        <p:sp>
          <p:nvSpPr>
            <p:cNvPr id="737" name=""/>
            <p:cNvSpPr/>
            <p:nvPr/>
          </p:nvSpPr>
          <p:spPr>
            <a:xfrm>
              <a:off x="1600200" y="5867280"/>
              <a:ext cx="29718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100  F   B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971800" y="6019920"/>
              <a:ext cx="457200" cy="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1832040" y="6324480"/>
            <a:ext cx="546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00200" y="4495680"/>
            <a:ext cx="3352680" cy="386280"/>
            <a:chOff x="1600200" y="4495680"/>
            <a:chExt cx="3352680" cy="386280"/>
          </a:xfrm>
        </p:grpSpPr>
        <p:sp>
          <p:nvSpPr>
            <p:cNvPr id="741" name=""/>
            <p:cNvSpPr/>
            <p:nvPr/>
          </p:nvSpPr>
          <p:spPr>
            <a:xfrm>
              <a:off x="2971800" y="4648320"/>
              <a:ext cx="457200" cy="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00200" y="4495680"/>
              <a:ext cx="3352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001  R   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1600200" y="4952880"/>
            <a:ext cx="2971800" cy="386280"/>
            <a:chOff x="1600200" y="4952880"/>
            <a:chExt cx="2971800" cy="386280"/>
          </a:xfrm>
        </p:grpSpPr>
        <p:sp>
          <p:nvSpPr>
            <p:cNvPr id="744" name=""/>
            <p:cNvSpPr/>
            <p:nvPr/>
          </p:nvSpPr>
          <p:spPr>
            <a:xfrm>
              <a:off x="1600200" y="4952880"/>
              <a:ext cx="29718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010  C   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971800" y="5105520"/>
              <a:ext cx="4572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1600200" y="5410080"/>
            <a:ext cx="2971800" cy="386280"/>
            <a:chOff x="1600200" y="5410080"/>
            <a:chExt cx="2971800" cy="386280"/>
          </a:xfrm>
        </p:grpSpPr>
        <p:sp>
          <p:nvSpPr>
            <p:cNvPr id="747" name=""/>
            <p:cNvSpPr/>
            <p:nvPr/>
          </p:nvSpPr>
          <p:spPr>
            <a:xfrm>
              <a:off x="1600200" y="5410080"/>
              <a:ext cx="29718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011  D   B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971800" y="5562720"/>
              <a:ext cx="457200" cy="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1600200" y="5410080"/>
            <a:ext cx="2971800" cy="386280"/>
            <a:chOff x="1600200" y="5410080"/>
            <a:chExt cx="2971800" cy="386280"/>
          </a:xfrm>
        </p:grpSpPr>
        <p:sp>
          <p:nvSpPr>
            <p:cNvPr id="750" name=""/>
            <p:cNvSpPr/>
            <p:nvPr/>
          </p:nvSpPr>
          <p:spPr>
            <a:xfrm>
              <a:off x="1600200" y="5410080"/>
              <a:ext cx="29718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011  D   B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971800" y="5562720"/>
              <a:ext cx="4572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3962520" y="5029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76920" y="4267080"/>
            <a:ext cx="4495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微命令分组原则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876920" y="4952880"/>
            <a:ext cx="44956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同类操作中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互斥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微命令放同一字段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6781320" y="5410080"/>
            <a:ext cx="838440" cy="914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562720" y="62485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不能同时出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010280" y="3138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848720" y="35956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4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49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2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500"/>
                            </p:stCondLst>
                            <p:childTnLst>
                              <p:par>
                                <p:cTn id="1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5715000"/>
            <a:ext cx="3962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操作唯一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228600"/>
            <a:ext cx="594360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加法器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输入端的控制命令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AI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字段，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输入端的控制命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放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BI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字段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6248520" y="249120"/>
            <a:ext cx="2895480" cy="2732760"/>
            <a:chOff x="6248520" y="249120"/>
            <a:chExt cx="2895480" cy="2732760"/>
          </a:xfrm>
        </p:grpSpPr>
        <p:sp>
          <p:nvSpPr>
            <p:cNvPr id="762" name=""/>
            <p:cNvSpPr/>
            <p:nvPr/>
          </p:nvSpPr>
          <p:spPr>
            <a:xfrm>
              <a:off x="6400800" y="249120"/>
              <a:ext cx="2210040" cy="520560"/>
            </a:xfrm>
            <a:prstGeom prst="rect">
              <a:avLst/>
            </a:prstGeom>
            <a:solidFill>
              <a:srgbClr val="ff9900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加法器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6248520" y="1087200"/>
              <a:ext cx="1218960" cy="990720"/>
              <a:chOff x="6248520" y="1087200"/>
              <a:chExt cx="1218960" cy="990720"/>
            </a:xfrm>
          </p:grpSpPr>
          <p:sp>
            <p:nvSpPr>
              <p:cNvPr id="764" name=""/>
              <p:cNvSpPr/>
              <p:nvPr/>
            </p:nvSpPr>
            <p:spPr>
              <a:xfrm>
                <a:off x="6248520" y="1087200"/>
                <a:ext cx="1218960" cy="520560"/>
              </a:xfrm>
              <a:prstGeom prst="rect">
                <a:avLst/>
              </a:prstGeom>
              <a:solidFill>
                <a:srgbClr val="ff9900"/>
              </a:solidFill>
              <a:ln cap="sq"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451560" y="1620720"/>
                <a:ext cx="0" cy="45720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264080" y="1620720"/>
                <a:ext cx="0" cy="45720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553080" y="1925640"/>
                <a:ext cx="507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7696440" y="1087200"/>
              <a:ext cx="1142640" cy="990720"/>
              <a:chOff x="7696440" y="1087200"/>
              <a:chExt cx="1142640" cy="990720"/>
            </a:xfrm>
          </p:grpSpPr>
          <p:sp>
            <p:nvSpPr>
              <p:cNvPr id="769" name=""/>
              <p:cNvSpPr/>
              <p:nvPr/>
            </p:nvSpPr>
            <p:spPr>
              <a:xfrm>
                <a:off x="7696440" y="1087200"/>
                <a:ext cx="1142640" cy="520560"/>
              </a:xfrm>
              <a:prstGeom prst="rect">
                <a:avLst/>
              </a:prstGeom>
              <a:solidFill>
                <a:srgbClr val="ff9900"/>
              </a:solidFill>
              <a:ln cap="sq"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886520" y="1620720"/>
                <a:ext cx="0" cy="45720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648280" y="1620720"/>
                <a:ext cx="0" cy="45720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981920" y="1925640"/>
                <a:ext cx="475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 flipV="1">
              <a:off x="6858000" y="781920"/>
              <a:ext cx="0" cy="3049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8229600" y="781920"/>
              <a:ext cx="0" cy="3049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400800" y="2153880"/>
              <a:ext cx="137160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、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、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848720" y="2153880"/>
              <a:ext cx="129528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、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、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914400" y="3200400"/>
            <a:ext cx="3429000" cy="2215080"/>
            <a:chOff x="914400" y="3200400"/>
            <a:chExt cx="3429000" cy="2215080"/>
          </a:xfrm>
        </p:grpSpPr>
        <p:sp>
          <p:nvSpPr>
            <p:cNvPr id="778" name=""/>
            <p:cNvSpPr/>
            <p:nvPr/>
          </p:nvSpPr>
          <p:spPr>
            <a:xfrm>
              <a:off x="914400" y="3200400"/>
              <a:ext cx="34290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000  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不发命令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914400" y="4114800"/>
              <a:ext cx="2971800" cy="386280"/>
              <a:chOff x="914400" y="4114800"/>
              <a:chExt cx="2971800" cy="386280"/>
            </a:xfrm>
          </p:grpSpPr>
          <p:sp>
            <p:nvSpPr>
              <p:cNvPr id="780" name=""/>
              <p:cNvSpPr/>
              <p:nvPr/>
            </p:nvSpPr>
            <p:spPr>
              <a:xfrm>
                <a:off x="914400" y="4114800"/>
                <a:ext cx="297180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00"/>
                    </a:solidFill>
                    <a:latin typeface="黑体"/>
                    <a:ea typeface="黑体"/>
                  </a:rPr>
                  <a:t>010  C   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86000" y="4267440"/>
                <a:ext cx="457200" cy="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914400" y="5029200"/>
              <a:ext cx="2971800" cy="386280"/>
              <a:chOff x="914400" y="5029200"/>
              <a:chExt cx="2971800" cy="386280"/>
            </a:xfrm>
          </p:grpSpPr>
          <p:sp>
            <p:nvSpPr>
              <p:cNvPr id="783" name=""/>
              <p:cNvSpPr/>
              <p:nvPr/>
            </p:nvSpPr>
            <p:spPr>
              <a:xfrm>
                <a:off x="914400" y="5029200"/>
                <a:ext cx="297180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00"/>
                    </a:solidFill>
                    <a:latin typeface="黑体"/>
                    <a:ea typeface="黑体"/>
                  </a:rPr>
                  <a:t>100  E   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0" y="5181840"/>
                <a:ext cx="457200" cy="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914400" y="3657600"/>
              <a:ext cx="3352680" cy="386280"/>
              <a:chOff x="914400" y="3657600"/>
              <a:chExt cx="3352680" cy="386280"/>
            </a:xfrm>
          </p:grpSpPr>
          <p:sp>
            <p:nvSpPr>
              <p:cNvPr id="786" name=""/>
              <p:cNvSpPr/>
              <p:nvPr/>
            </p:nvSpPr>
            <p:spPr>
              <a:xfrm>
                <a:off x="2286000" y="3810240"/>
                <a:ext cx="457200" cy="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914400" y="3657600"/>
                <a:ext cx="335268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00"/>
                    </a:solidFill>
                    <a:latin typeface="黑体"/>
                    <a:ea typeface="黑体"/>
                  </a:rPr>
                  <a:t>001  R   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914400" y="4572000"/>
              <a:ext cx="2971800" cy="386280"/>
              <a:chOff x="914400" y="4572000"/>
              <a:chExt cx="2971800" cy="386280"/>
            </a:xfrm>
          </p:grpSpPr>
          <p:sp>
            <p:nvSpPr>
              <p:cNvPr id="789" name=""/>
              <p:cNvSpPr/>
              <p:nvPr/>
            </p:nvSpPr>
            <p:spPr>
              <a:xfrm>
                <a:off x="914400" y="4572000"/>
                <a:ext cx="297180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00"/>
                    </a:solidFill>
                    <a:latin typeface="黑体"/>
                    <a:ea typeface="黑体"/>
                  </a:rPr>
                  <a:t>011  D   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286000" y="4724640"/>
                <a:ext cx="457200" cy="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1" name=""/>
          <p:cNvSpPr/>
          <p:nvPr/>
        </p:nvSpPr>
        <p:spPr>
          <a:xfrm>
            <a:off x="7010280" y="1995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848720" y="25146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228600" y="1828800"/>
            <a:ext cx="4876920" cy="1143000"/>
            <a:chOff x="228600" y="1828800"/>
            <a:chExt cx="4876920" cy="1143000"/>
          </a:xfrm>
        </p:grpSpPr>
        <p:sp>
          <p:nvSpPr>
            <p:cNvPr id="794" name=""/>
            <p:cNvSpPr/>
            <p:nvPr/>
          </p:nvSpPr>
          <p:spPr>
            <a:xfrm>
              <a:off x="228600" y="2286000"/>
              <a:ext cx="487692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28600" y="2971800"/>
              <a:ext cx="487692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066680" y="2286000"/>
              <a:ext cx="0" cy="68580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057400" y="2286000"/>
              <a:ext cx="0" cy="68580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19320" y="236232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AI   BI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809880" y="266688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28600" y="266688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71600" y="1828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3        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048120" y="2286000"/>
              <a:ext cx="0" cy="68580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914400" y="4114800"/>
            <a:ext cx="2971800" cy="386280"/>
            <a:chOff x="914400" y="4114800"/>
            <a:chExt cx="2971800" cy="386280"/>
          </a:xfrm>
        </p:grpSpPr>
        <p:sp>
          <p:nvSpPr>
            <p:cNvPr id="804" name=""/>
            <p:cNvSpPr/>
            <p:nvPr/>
          </p:nvSpPr>
          <p:spPr>
            <a:xfrm>
              <a:off x="914400" y="4114800"/>
              <a:ext cx="29718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010  C   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286000" y="4267440"/>
              <a:ext cx="4572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5105520" y="3200400"/>
            <a:ext cx="3429000" cy="2215080"/>
            <a:chOff x="5105520" y="3200400"/>
            <a:chExt cx="3429000" cy="2215080"/>
          </a:xfrm>
        </p:grpSpPr>
        <p:sp>
          <p:nvSpPr>
            <p:cNvPr id="807" name=""/>
            <p:cNvSpPr/>
            <p:nvPr/>
          </p:nvSpPr>
          <p:spPr>
            <a:xfrm>
              <a:off x="5105520" y="3200400"/>
              <a:ext cx="34290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000  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不发命令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08" name=""/>
            <p:cNvGrpSpPr/>
            <p:nvPr/>
          </p:nvGrpSpPr>
          <p:grpSpPr>
            <a:xfrm>
              <a:off x="5105520" y="4114800"/>
              <a:ext cx="2971800" cy="386280"/>
              <a:chOff x="5105520" y="4114800"/>
              <a:chExt cx="2971800" cy="386280"/>
            </a:xfrm>
          </p:grpSpPr>
          <p:sp>
            <p:nvSpPr>
              <p:cNvPr id="809" name=""/>
              <p:cNvSpPr/>
              <p:nvPr/>
            </p:nvSpPr>
            <p:spPr>
              <a:xfrm>
                <a:off x="5105520" y="4114800"/>
                <a:ext cx="297180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00"/>
                    </a:solidFill>
                    <a:latin typeface="黑体"/>
                    <a:ea typeface="黑体"/>
                  </a:rPr>
                  <a:t>010  C   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477120" y="4267440"/>
                <a:ext cx="457200" cy="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105520" y="5029200"/>
              <a:ext cx="2971800" cy="386280"/>
              <a:chOff x="5105520" y="5029200"/>
              <a:chExt cx="2971800" cy="386280"/>
            </a:xfrm>
          </p:grpSpPr>
          <p:sp>
            <p:nvSpPr>
              <p:cNvPr id="812" name=""/>
              <p:cNvSpPr/>
              <p:nvPr/>
            </p:nvSpPr>
            <p:spPr>
              <a:xfrm>
                <a:off x="5105520" y="5029200"/>
                <a:ext cx="297180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00"/>
                    </a:solidFill>
                    <a:latin typeface="黑体"/>
                    <a:ea typeface="黑体"/>
                  </a:rPr>
                  <a:t>100  F   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477120" y="5181840"/>
                <a:ext cx="457200" cy="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"/>
            <p:cNvGrpSpPr/>
            <p:nvPr/>
          </p:nvGrpSpPr>
          <p:grpSpPr>
            <a:xfrm>
              <a:off x="5105520" y="3657600"/>
              <a:ext cx="3352680" cy="386280"/>
              <a:chOff x="5105520" y="3657600"/>
              <a:chExt cx="3352680" cy="386280"/>
            </a:xfrm>
          </p:grpSpPr>
          <p:sp>
            <p:nvSpPr>
              <p:cNvPr id="815" name=""/>
              <p:cNvSpPr/>
              <p:nvPr/>
            </p:nvSpPr>
            <p:spPr>
              <a:xfrm>
                <a:off x="6477120" y="3810240"/>
                <a:ext cx="457200" cy="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5520" y="3657600"/>
                <a:ext cx="335268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00"/>
                    </a:solidFill>
                    <a:latin typeface="黑体"/>
                    <a:ea typeface="黑体"/>
                  </a:rPr>
                  <a:t>001  R   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5105520" y="4572000"/>
              <a:ext cx="2971800" cy="386280"/>
              <a:chOff x="5105520" y="4572000"/>
              <a:chExt cx="2971800" cy="386280"/>
            </a:xfrm>
          </p:grpSpPr>
          <p:sp>
            <p:nvSpPr>
              <p:cNvPr id="818" name=""/>
              <p:cNvSpPr/>
              <p:nvPr/>
            </p:nvSpPr>
            <p:spPr>
              <a:xfrm>
                <a:off x="5105520" y="4572000"/>
                <a:ext cx="297180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00"/>
                    </a:solidFill>
                    <a:latin typeface="黑体"/>
                    <a:ea typeface="黑体"/>
                  </a:rPr>
                  <a:t>011  D   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77120" y="4724640"/>
                <a:ext cx="457200" cy="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0" name=""/>
          <p:cNvGrpSpPr/>
          <p:nvPr/>
        </p:nvGrpSpPr>
        <p:grpSpPr>
          <a:xfrm>
            <a:off x="5105520" y="4572000"/>
            <a:ext cx="2971800" cy="386280"/>
            <a:chOff x="5105520" y="4572000"/>
            <a:chExt cx="2971800" cy="386280"/>
          </a:xfrm>
        </p:grpSpPr>
        <p:sp>
          <p:nvSpPr>
            <p:cNvPr id="821" name=""/>
            <p:cNvSpPr/>
            <p:nvPr/>
          </p:nvSpPr>
          <p:spPr>
            <a:xfrm>
              <a:off x="5105520" y="4572000"/>
              <a:ext cx="29718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011  D   B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477120" y="4724640"/>
              <a:ext cx="4572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152280" y="30020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I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419720" y="3048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I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5754600"/>
            <a:ext cx="98298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条微指令能同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提供若干微命令，便于组织各种操作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5722920"/>
            <a:ext cx="5943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编码较简单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4" dur="5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3" dur="500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500"/>
                            </p:stCondLst>
                            <p:childTnLst>
                              <p:par>
                                <p:cTn id="1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" dur="5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500"/>
                            </p:stCondLst>
                            <p:childTnLst>
                              <p:par>
                                <p:cTn id="1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6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0" y="152280"/>
            <a:ext cx="55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分段间接编译法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0" y="2743200"/>
            <a:ext cx="1371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例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0" y="762120"/>
            <a:ext cx="91440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微命令由本字段编码和其他字段解释共同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出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572000" y="3048120"/>
            <a:ext cx="1676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C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914400" y="2743200"/>
            <a:ext cx="3352680" cy="685800"/>
            <a:chOff x="914400" y="2743200"/>
            <a:chExt cx="3352680" cy="685800"/>
          </a:xfrm>
        </p:grpSpPr>
        <p:sp>
          <p:nvSpPr>
            <p:cNvPr id="832" name=""/>
            <p:cNvSpPr/>
            <p:nvPr/>
          </p:nvSpPr>
          <p:spPr>
            <a:xfrm>
              <a:off x="914400" y="2743200"/>
              <a:ext cx="3352680" cy="642600"/>
            </a:xfrm>
            <a:prstGeom prst="rect">
              <a:avLst/>
            </a:prstGeom>
            <a:noFill/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</a:t>
              </a:r>
              <a:r>
                <a:rPr b="1" lang="en-US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C      A  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362320" y="2743200"/>
              <a:ext cx="0" cy="6858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0" y="2057400"/>
            <a:ext cx="6477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)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设置解释位或解释字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600200" y="3429000"/>
            <a:ext cx="45720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981080" y="35053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解释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562720" y="281952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791320" y="2743200"/>
            <a:ext cx="449568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1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为某类命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0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为常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0" y="4267080"/>
            <a:ext cx="6477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)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分类编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0" y="4876920"/>
            <a:ext cx="91440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按功能类型将微指令分类，分别安排各类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指令格式和字段编码，并设置区分标志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0" y="6248520"/>
            <a:ext cx="7772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例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.DJS-220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微指令分两类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3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43" dur="500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48" dur="500"/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4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9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500"/>
                            </p:stCondLst>
                            <p:childTnLst>
                              <p:par>
                                <p:cTn id="1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3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500"/>
                            </p:stCondLst>
                            <p:childTnLst>
                              <p:par>
                                <p:cTn id="1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5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0" dur="500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5" dur="500"/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0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05" dur="500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10" dur="500"/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0" y="2876400"/>
            <a:ext cx="55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其他编码方法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57200"/>
            <a:ext cx="213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微指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676520" y="22860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828800" y="115920"/>
            <a:ext cx="50292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CPU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方式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触发器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C=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I/O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方式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触发器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C=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3429000"/>
            <a:ext cx="8915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)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微指令译码与机器指令译码复合控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09480" y="2362320"/>
            <a:ext cx="4953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全加器运算方式控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600200"/>
            <a:ext cx="198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C = 0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1523880" y="1066680"/>
            <a:ext cx="2133720" cy="1038600"/>
            <a:chOff x="1523880" y="1066680"/>
            <a:chExt cx="2133720" cy="1038600"/>
          </a:xfrm>
        </p:grpSpPr>
        <p:sp>
          <p:nvSpPr>
            <p:cNvPr id="850" name=""/>
            <p:cNvSpPr/>
            <p:nvPr/>
          </p:nvSpPr>
          <p:spPr>
            <a:xfrm>
              <a:off x="1523880" y="1523880"/>
              <a:ext cx="2057400" cy="581400"/>
            </a:xfrm>
            <a:prstGeom prst="rect">
              <a:avLst/>
            </a:prstGeom>
            <a:noFill/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Q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676160" y="10666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15    16      1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 flipV="1">
            <a:off x="2133720" y="2209680"/>
            <a:ext cx="457200" cy="15264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572000" y="1600200"/>
            <a:ext cx="198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C = 1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5943600" y="990720"/>
            <a:ext cx="2133360" cy="1143000"/>
            <a:chOff x="5943600" y="990720"/>
            <a:chExt cx="2133360" cy="1143000"/>
          </a:xfrm>
        </p:grpSpPr>
        <p:sp>
          <p:nvSpPr>
            <p:cNvPr id="855" name=""/>
            <p:cNvSpPr/>
            <p:nvPr/>
          </p:nvSpPr>
          <p:spPr>
            <a:xfrm>
              <a:off x="5943600" y="1447920"/>
              <a:ext cx="2057400" cy="642600"/>
            </a:xfrm>
            <a:prstGeom prst="rect">
              <a:avLst/>
            </a:prstGeom>
            <a:noFill/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QC</a:t>
              </a:r>
              <a:r>
                <a:rPr b="1" lang="en-US" sz="3200" spc="-1" strike="noStrike">
                  <a:solidFill>
                    <a:srgbClr val="ffffff"/>
                  </a:solidFill>
                  <a:latin typeface="宋体"/>
                </a:rPr>
                <a:t>’</a:t>
              </a:r>
              <a:r>
                <a:rPr b="1" lang="en-US" sz="3600" spc="-1" strike="noStrike">
                  <a:solidFill>
                    <a:srgbClr val="ffffff"/>
                  </a:solidFill>
                  <a:latin typeface="宋体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JCC’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095880" y="9907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15     16     1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781680" y="1447920"/>
              <a:ext cx="0" cy="68580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6477120" y="2133360"/>
            <a:ext cx="914400" cy="228960"/>
            <a:chOff x="6477120" y="2133360"/>
            <a:chExt cx="914400" cy="228960"/>
          </a:xfrm>
        </p:grpSpPr>
        <p:sp>
          <p:nvSpPr>
            <p:cNvPr id="859" name=""/>
            <p:cNvSpPr/>
            <p:nvPr/>
          </p:nvSpPr>
          <p:spPr>
            <a:xfrm flipV="1">
              <a:off x="6477120" y="2133360"/>
              <a:ext cx="0" cy="228600"/>
            </a:xfrm>
            <a:prstGeom prst="line">
              <a:avLst/>
            </a:prstGeom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6477120" y="2133720"/>
              <a:ext cx="914400" cy="228600"/>
            </a:xfrm>
            <a:prstGeom prst="line">
              <a:avLst/>
            </a:prstGeom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6019920" y="2362320"/>
            <a:ext cx="28954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通道专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38862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例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838080" y="3886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机器指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228600" y="4419720"/>
            <a:ext cx="4038480" cy="533160"/>
            <a:chOff x="228600" y="4419720"/>
            <a:chExt cx="4038480" cy="533160"/>
          </a:xfrm>
        </p:grpSpPr>
        <p:sp>
          <p:nvSpPr>
            <p:cNvPr id="865" name=""/>
            <p:cNvSpPr/>
            <p:nvPr/>
          </p:nvSpPr>
          <p:spPr>
            <a:xfrm>
              <a:off x="228600" y="4419720"/>
              <a:ext cx="4038480" cy="520560"/>
            </a:xfrm>
            <a:prstGeom prst="rect">
              <a:avLst/>
            </a:prstGeom>
            <a:noFill/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            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寄存器号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371240" y="4419720"/>
              <a:ext cx="0" cy="53316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200040" y="4419720"/>
              <a:ext cx="0" cy="53316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56840" y="4724280"/>
              <a:ext cx="609480" cy="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352680" y="4724280"/>
              <a:ext cx="685440" cy="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4876920" y="4419720"/>
            <a:ext cx="4038480" cy="533160"/>
            <a:chOff x="4876920" y="4419720"/>
            <a:chExt cx="4038480" cy="533160"/>
          </a:xfrm>
        </p:grpSpPr>
        <p:sp>
          <p:nvSpPr>
            <p:cNvPr id="871" name=""/>
            <p:cNvSpPr/>
            <p:nvPr/>
          </p:nvSpPr>
          <p:spPr>
            <a:xfrm>
              <a:off x="4876920" y="4419720"/>
              <a:ext cx="4038480" cy="520560"/>
            </a:xfrm>
            <a:prstGeom prst="rect">
              <a:avLst/>
            </a:prstGeom>
            <a:noFill/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          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寄存器传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867280" y="4419720"/>
              <a:ext cx="0" cy="53316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924680" y="4419720"/>
              <a:ext cx="0" cy="53316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4724280"/>
              <a:ext cx="609480" cy="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077320" y="4724280"/>
              <a:ext cx="685800" cy="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6" name=""/>
          <p:cNvSpPr/>
          <p:nvPr/>
        </p:nvSpPr>
        <p:spPr>
          <a:xfrm>
            <a:off x="6095880" y="3886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微指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371600" y="5181480"/>
            <a:ext cx="1447920" cy="520560"/>
          </a:xfrm>
          <a:prstGeom prst="rect">
            <a:avLst/>
          </a:prstGeom>
          <a:solidFill>
            <a:srgbClr val="ff9900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译码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248520" y="5181480"/>
            <a:ext cx="1447560" cy="520560"/>
          </a:xfrm>
          <a:prstGeom prst="rect">
            <a:avLst/>
          </a:prstGeom>
          <a:solidFill>
            <a:srgbClr val="ff9900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译码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495680" y="5715000"/>
            <a:ext cx="0" cy="3808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934320" y="5715000"/>
            <a:ext cx="0" cy="2286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952880" y="5943600"/>
            <a:ext cx="198144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5943600"/>
            <a:ext cx="0" cy="1522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057400" y="5943600"/>
            <a:ext cx="19810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057400" y="5715000"/>
            <a:ext cx="0" cy="2286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038480" y="5943600"/>
            <a:ext cx="0" cy="1522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934320" y="4952880"/>
            <a:ext cx="0" cy="2286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057400" y="4952880"/>
            <a:ext cx="0" cy="2286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495680" y="6629400"/>
            <a:ext cx="0" cy="2286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6324480" y="6095880"/>
            <a:ext cx="2057400" cy="304560"/>
            <a:chOff x="6324480" y="6095880"/>
            <a:chExt cx="2057400" cy="304560"/>
          </a:xfrm>
        </p:grpSpPr>
        <p:sp>
          <p:nvSpPr>
            <p:cNvPr id="890" name=""/>
            <p:cNvSpPr/>
            <p:nvPr/>
          </p:nvSpPr>
          <p:spPr>
            <a:xfrm>
              <a:off x="6324480" y="6400440"/>
              <a:ext cx="380880" cy="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6705360" y="6095880"/>
              <a:ext cx="0" cy="30456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705360" y="6095880"/>
              <a:ext cx="1295640" cy="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8001000" y="6095880"/>
              <a:ext cx="0" cy="30456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001000" y="6400440"/>
              <a:ext cx="380880" cy="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1066680" y="6095880"/>
            <a:ext cx="2057400" cy="304560"/>
            <a:chOff x="1066680" y="6095880"/>
            <a:chExt cx="2057400" cy="304560"/>
          </a:xfrm>
        </p:grpSpPr>
        <p:sp>
          <p:nvSpPr>
            <p:cNvPr id="896" name=""/>
            <p:cNvSpPr/>
            <p:nvPr/>
          </p:nvSpPr>
          <p:spPr>
            <a:xfrm>
              <a:off x="1066680" y="6400440"/>
              <a:ext cx="380880" cy="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1447560" y="6095880"/>
              <a:ext cx="0" cy="30456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47560" y="6095880"/>
              <a:ext cx="1295640" cy="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2743200" y="6095880"/>
              <a:ext cx="0" cy="30456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743200" y="6400440"/>
              <a:ext cx="380880" cy="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676520" y="6095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0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781680" y="6095880"/>
            <a:ext cx="1219320" cy="520560"/>
            <a:chOff x="6781680" y="6095880"/>
            <a:chExt cx="1219320" cy="520560"/>
          </a:xfrm>
        </p:grpSpPr>
        <p:sp>
          <p:nvSpPr>
            <p:cNvPr id="903" name=""/>
            <p:cNvSpPr/>
            <p:nvPr/>
          </p:nvSpPr>
          <p:spPr>
            <a:xfrm>
              <a:off x="6781680" y="60958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R   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162920" y="6400800"/>
              <a:ext cx="3808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3809880" y="5181480"/>
            <a:ext cx="1447920" cy="520560"/>
          </a:xfrm>
          <a:prstGeom prst="rect">
            <a:avLst/>
          </a:prstGeom>
          <a:solidFill>
            <a:srgbClr val="ff9900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809880" y="6095880"/>
            <a:ext cx="1447920" cy="520560"/>
          </a:xfrm>
          <a:prstGeom prst="rect">
            <a:avLst/>
          </a:prstGeom>
          <a:solidFill>
            <a:srgbClr val="ff9900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5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31" dur="5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36" dur="500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500"/>
                            </p:stCondLst>
                            <p:childTnLst>
                              <p:par>
                                <p:cTn id="14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500"/>
                            </p:stCondLst>
                            <p:childTnLst>
                              <p:par>
                                <p:cTn id="1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91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00"/>
                            </p:stCondLst>
                            <p:childTnLst>
                              <p:par>
                                <p:cTn id="15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4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500"/>
                            </p:stCondLst>
                            <p:childTnLst>
                              <p:par>
                                <p:cTn id="152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2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1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2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4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8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3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fill="hold">
                            <p:stCondLst>
                              <p:cond delay="500"/>
                            </p:stCondLst>
                            <p:childTnLst>
                              <p:par>
                                <p:cTn id="1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500"/>
                            </p:stCondLst>
                            <p:childTnLst>
                              <p:par>
                                <p:cTn id="15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4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8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3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500"/>
                            </p:stCondLst>
                            <p:childTnLst>
                              <p:par>
                                <p:cTn id="15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500"/>
                            </p:stCondLst>
                            <p:childTnLst>
                              <p:par>
                                <p:cTn id="1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6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0" y="644400"/>
            <a:ext cx="1371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例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0" y="57240"/>
            <a:ext cx="6477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)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微地址参与解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219320" y="1143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838080" y="590400"/>
            <a:ext cx="2057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微地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0" y="4495680"/>
            <a:ext cx="4952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指令操作码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0" y="3657600"/>
            <a:ext cx="7772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微程序入口地址的形成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657600" y="609480"/>
            <a:ext cx="2057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微指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2590920" y="1143000"/>
            <a:ext cx="4343400" cy="609480"/>
            <a:chOff x="2590920" y="1143000"/>
            <a:chExt cx="4343400" cy="609480"/>
          </a:xfrm>
        </p:grpSpPr>
        <p:sp>
          <p:nvSpPr>
            <p:cNvPr id="915" name=""/>
            <p:cNvSpPr/>
            <p:nvPr/>
          </p:nvSpPr>
          <p:spPr>
            <a:xfrm>
              <a:off x="2590920" y="1143000"/>
              <a:ext cx="4343400" cy="581400"/>
            </a:xfrm>
            <a:prstGeom prst="rect">
              <a:avLst/>
            </a:prstGeom>
            <a:noFill/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取指标志 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809880" y="1143000"/>
              <a:ext cx="0" cy="6094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791320" y="1143000"/>
              <a:ext cx="0" cy="6094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895480" y="1447560"/>
              <a:ext cx="533520" cy="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095880" y="1447560"/>
              <a:ext cx="533520" cy="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2590920" y="1981080"/>
            <a:ext cx="4343400" cy="609840"/>
            <a:chOff x="2590920" y="1981080"/>
            <a:chExt cx="4343400" cy="609840"/>
          </a:xfrm>
        </p:grpSpPr>
        <p:sp>
          <p:nvSpPr>
            <p:cNvPr id="921" name=""/>
            <p:cNvSpPr/>
            <p:nvPr/>
          </p:nvSpPr>
          <p:spPr>
            <a:xfrm>
              <a:off x="2590920" y="1981080"/>
              <a:ext cx="4343400" cy="581400"/>
            </a:xfrm>
            <a:prstGeom prst="rect">
              <a:avLst/>
            </a:prstGeom>
            <a:noFill/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变址标志 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809880" y="1981080"/>
              <a:ext cx="0" cy="6098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791320" y="1981080"/>
              <a:ext cx="0" cy="6098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895480" y="2286000"/>
              <a:ext cx="533520" cy="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95880" y="2286000"/>
              <a:ext cx="533520" cy="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1219320" y="1905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0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28954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4.2.4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微地址形成方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743200" y="4724280"/>
            <a:ext cx="99072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962520" y="4495680"/>
            <a:ext cx="5181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微程序入口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438280" y="41148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功能转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0" y="5105520"/>
            <a:ext cx="6477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一级功能转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5695920"/>
            <a:ext cx="11430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各操作码的位置、位数固定，一次转换成功。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09480" y="6324480"/>
            <a:ext cx="6782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入口地址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=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页号，操作码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1607" dur="indefinite" restart="never" nodeType="tmRoot">
          <p:childTnLst>
            <p:seq>
              <p:cTn id="1608" dur="indefinite" nodeType="mainSeq">
                <p:childTnLst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3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0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5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0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0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3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500"/>
                            </p:stCondLst>
                            <p:childTnLst>
                              <p:par>
                                <p:cTn id="1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9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96" dur="500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228600" y="228600"/>
            <a:ext cx="1371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例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28600" y="762120"/>
            <a:ext cx="2895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机器指令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304920" y="1295280"/>
            <a:ext cx="3504960" cy="609840"/>
            <a:chOff x="304920" y="1295280"/>
            <a:chExt cx="3504960" cy="609840"/>
          </a:xfrm>
        </p:grpSpPr>
        <p:sp>
          <p:nvSpPr>
            <p:cNvPr id="937" name=""/>
            <p:cNvSpPr/>
            <p:nvPr/>
          </p:nvSpPr>
          <p:spPr>
            <a:xfrm>
              <a:off x="304920" y="1295280"/>
              <a:ext cx="3504960" cy="581400"/>
            </a:xfrm>
            <a:prstGeom prst="rect">
              <a:avLst/>
            </a:prstGeom>
            <a:noFill/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0F(8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位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) 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209680" y="1295280"/>
              <a:ext cx="0" cy="6098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514600" y="1600200"/>
              <a:ext cx="990000" cy="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0" name=""/>
          <p:cNvSpPr/>
          <p:nvPr/>
        </p:nvSpPr>
        <p:spPr>
          <a:xfrm>
            <a:off x="228600" y="2057400"/>
            <a:ext cx="5181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入口地址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=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00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0FH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5562720" y="152280"/>
            <a:ext cx="2743200" cy="6400440"/>
            <a:chOff x="5562720" y="152280"/>
            <a:chExt cx="2743200" cy="6400440"/>
          </a:xfrm>
        </p:grpSpPr>
        <p:sp>
          <p:nvSpPr>
            <p:cNvPr id="942" name=""/>
            <p:cNvSpPr/>
            <p:nvPr/>
          </p:nvSpPr>
          <p:spPr>
            <a:xfrm>
              <a:off x="5562720" y="638280"/>
              <a:ext cx="2743200" cy="591444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477120" y="152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C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228600" y="3048120"/>
            <a:ext cx="2895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机器指令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228600" y="3581280"/>
            <a:ext cx="3505320" cy="609840"/>
            <a:chOff x="228600" y="3581280"/>
            <a:chExt cx="3505320" cy="609840"/>
          </a:xfrm>
        </p:grpSpPr>
        <p:sp>
          <p:nvSpPr>
            <p:cNvPr id="946" name=""/>
            <p:cNvSpPr/>
            <p:nvPr/>
          </p:nvSpPr>
          <p:spPr>
            <a:xfrm>
              <a:off x="228600" y="3581280"/>
              <a:ext cx="3505320" cy="581400"/>
            </a:xfrm>
            <a:prstGeom prst="rect">
              <a:avLst/>
            </a:prstGeom>
            <a:noFill/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10(8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位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) 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133720" y="3581280"/>
              <a:ext cx="0" cy="6098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38640" y="3886200"/>
              <a:ext cx="990360" cy="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228600" y="4343400"/>
            <a:ext cx="5410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入口地址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=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00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0H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572000" y="1295280"/>
            <a:ext cx="106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000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562720" y="1371600"/>
            <a:ext cx="2743200" cy="4572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572000" y="1706400"/>
            <a:ext cx="106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00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562720" y="1828800"/>
            <a:ext cx="2743200" cy="4572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5486400" y="1371600"/>
            <a:ext cx="3124080" cy="459720"/>
            <a:chOff x="5486400" y="1371600"/>
            <a:chExt cx="3124080" cy="459720"/>
          </a:xfrm>
        </p:grpSpPr>
        <p:sp>
          <p:nvSpPr>
            <p:cNvPr id="955" name=""/>
            <p:cNvSpPr/>
            <p:nvPr/>
          </p:nvSpPr>
          <p:spPr>
            <a:xfrm>
              <a:off x="5486400" y="13716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无条件转  微地址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933960" y="1371600"/>
              <a:ext cx="0" cy="45720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5562720" y="3505320"/>
            <a:ext cx="2743200" cy="121896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3352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微地址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095880" y="38098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微程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5486400" y="1828800"/>
            <a:ext cx="3124080" cy="459720"/>
            <a:chOff x="5486400" y="1828800"/>
            <a:chExt cx="3124080" cy="459720"/>
          </a:xfrm>
        </p:grpSpPr>
        <p:sp>
          <p:nvSpPr>
            <p:cNvPr id="961" name=""/>
            <p:cNvSpPr/>
            <p:nvPr/>
          </p:nvSpPr>
          <p:spPr>
            <a:xfrm>
              <a:off x="5486400" y="18288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无条件转  微地址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933960" y="1828800"/>
              <a:ext cx="0" cy="45720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4114800" y="5029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微地址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562720" y="5181480"/>
            <a:ext cx="2743200" cy="99072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95880" y="53341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微程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8305920" y="1600200"/>
            <a:ext cx="304560" cy="1981080"/>
            <a:chOff x="8305920" y="1600200"/>
            <a:chExt cx="304560" cy="1981080"/>
          </a:xfrm>
        </p:grpSpPr>
        <p:sp>
          <p:nvSpPr>
            <p:cNvPr id="967" name=""/>
            <p:cNvSpPr/>
            <p:nvPr/>
          </p:nvSpPr>
          <p:spPr>
            <a:xfrm>
              <a:off x="8305920" y="1600200"/>
              <a:ext cx="228240" cy="457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534160" y="2057400"/>
              <a:ext cx="75960" cy="3808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610480" y="2438280"/>
              <a:ext cx="0" cy="457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8533800" y="2895480"/>
              <a:ext cx="75960" cy="457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8305920" y="3352680"/>
              <a:ext cx="22824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8232120" y="1752480"/>
            <a:ext cx="911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功能转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8305920" y="2057400"/>
            <a:ext cx="304200" cy="3276360"/>
            <a:chOff x="8305920" y="2057400"/>
            <a:chExt cx="304200" cy="3276360"/>
          </a:xfrm>
        </p:grpSpPr>
        <p:sp>
          <p:nvSpPr>
            <p:cNvPr id="974" name=""/>
            <p:cNvSpPr/>
            <p:nvPr/>
          </p:nvSpPr>
          <p:spPr>
            <a:xfrm>
              <a:off x="8305920" y="2057400"/>
              <a:ext cx="228240" cy="53316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5" name=""/>
            <p:cNvGrpSpPr/>
            <p:nvPr/>
          </p:nvGrpSpPr>
          <p:grpSpPr>
            <a:xfrm>
              <a:off x="8533800" y="2590560"/>
              <a:ext cx="76320" cy="2514600"/>
              <a:chOff x="8533800" y="2590560"/>
              <a:chExt cx="76320" cy="2514600"/>
            </a:xfrm>
          </p:grpSpPr>
          <p:sp>
            <p:nvSpPr>
              <p:cNvPr id="976" name=""/>
              <p:cNvSpPr/>
              <p:nvPr/>
            </p:nvSpPr>
            <p:spPr>
              <a:xfrm>
                <a:off x="8534160" y="2590560"/>
                <a:ext cx="75960" cy="38088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8610120" y="2971440"/>
                <a:ext cx="0" cy="167652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H="1">
                <a:off x="8533800" y="4647960"/>
                <a:ext cx="75960" cy="45720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79" name=""/>
            <p:cNvSpPr/>
            <p:nvPr/>
          </p:nvSpPr>
          <p:spPr>
            <a:xfrm flipH="1">
              <a:off x="8305920" y="5105160"/>
              <a:ext cx="228240" cy="22860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0" name=""/>
          <p:cNvSpPr/>
          <p:nvPr/>
        </p:nvSpPr>
        <p:spPr>
          <a:xfrm>
            <a:off x="8232120" y="3505320"/>
            <a:ext cx="911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功能转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666880" y="2514600"/>
            <a:ext cx="30492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895480" y="25909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0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1702" dur="indefinite" restart="never" nodeType="tmRoot">
          <p:childTnLst>
            <p:seq>
              <p:cTn id="1703" dur="indefinite" nodeType="mainSeq">
                <p:childTnLst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7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2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500"/>
                            </p:stCondLst>
                            <p:childTnLst>
                              <p:par>
                                <p:cTn id="1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6" dur="500"/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9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5" dur="500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"/>
                            </p:stCondLst>
                            <p:childTnLst>
                              <p:par>
                                <p:cTn id="17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9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4" dur="500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8" dur="500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9" fill="hold">
                            <p:stCondLst>
                              <p:cond delay="500"/>
                            </p:stCondLst>
                            <p:childTnLst>
                              <p:par>
                                <p:cTn id="17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2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6" dur="500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1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"/>
                            </p:stCondLst>
                            <p:childTnLst>
                              <p:par>
                                <p:cTn id="18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5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0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5" dur="500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500"/>
                            </p:stCondLst>
                            <p:childTnLst>
                              <p:par>
                                <p:cTn id="18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3" dur="500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500"/>
                            </p:stCondLst>
                            <p:childTnLst>
                              <p:par>
                                <p:cTn id="18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2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/>
          <p:nvPr/>
        </p:nvSpPr>
        <p:spPr>
          <a:xfrm>
            <a:off x="0" y="228600"/>
            <a:ext cx="6477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二级功能转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0" y="838080"/>
            <a:ext cx="10667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各类指令操作码的位置、位数不固定，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33520" y="2057400"/>
            <a:ext cx="3733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分类转：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78040"/>
            <a:ext cx="102870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需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次转换。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28600" y="21337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362320" y="1905120"/>
            <a:ext cx="39621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指令类型标志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514600" y="2362320"/>
            <a:ext cx="243828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105520" y="2057400"/>
            <a:ext cx="4343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区分指令类型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33520" y="2895480"/>
            <a:ext cx="4038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功能转：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362320" y="2690640"/>
            <a:ext cx="39621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指令操作码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514600" y="3200400"/>
            <a:ext cx="243828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105520" y="2876400"/>
            <a:ext cx="4343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区分操作类型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0" y="3657600"/>
            <a:ext cx="9144000" cy="31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例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某指令系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双操作数指令的操作码占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位，其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高两位为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00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，即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双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操作数指令类型标志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单操作数指令的操作码占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位，其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高两位为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0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，即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单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操作数指令类型标志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1833" dur="indefinite" restart="never" nodeType="tmRoot">
          <p:childTnLst>
            <p:seq>
              <p:cTn id="1834" dur="indefinite" nodeType="mainSeq">
                <p:childTnLst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3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44" dur="50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49" dur="500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54" dur="500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9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4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2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9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8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500"/>
                            </p:stCondLst>
                            <p:childTnLst>
                              <p:par>
                                <p:cTn id="1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3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07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228600" y="0"/>
            <a:ext cx="2895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加法指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228600" y="533520"/>
            <a:ext cx="3505320" cy="609480"/>
            <a:chOff x="228600" y="533520"/>
            <a:chExt cx="3505320" cy="609480"/>
          </a:xfrm>
        </p:grpSpPr>
        <p:sp>
          <p:nvSpPr>
            <p:cNvPr id="998" name=""/>
            <p:cNvSpPr/>
            <p:nvPr/>
          </p:nvSpPr>
          <p:spPr>
            <a:xfrm>
              <a:off x="228600" y="533520"/>
              <a:ext cx="3505320" cy="581400"/>
            </a:xfrm>
            <a:prstGeom prst="rect">
              <a:avLst/>
            </a:prstGeom>
            <a:noFill/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00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01(4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位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) 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133720" y="533520"/>
              <a:ext cx="0" cy="6094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38640" y="838080"/>
              <a:ext cx="990360" cy="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5562720" y="0"/>
            <a:ext cx="2743200" cy="6400440"/>
            <a:chOff x="5562720" y="0"/>
            <a:chExt cx="2743200" cy="6400440"/>
          </a:xfrm>
        </p:grpSpPr>
        <p:sp>
          <p:nvSpPr>
            <p:cNvPr id="1002" name=""/>
            <p:cNvSpPr/>
            <p:nvPr/>
          </p:nvSpPr>
          <p:spPr>
            <a:xfrm>
              <a:off x="5562720" y="486000"/>
              <a:ext cx="2743200" cy="591444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477120" y="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C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304920" y="1371600"/>
            <a:ext cx="2895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减法指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228600" y="1828800"/>
            <a:ext cx="3505320" cy="609480"/>
            <a:chOff x="228600" y="1828800"/>
            <a:chExt cx="3505320" cy="609480"/>
          </a:xfrm>
        </p:grpSpPr>
        <p:sp>
          <p:nvSpPr>
            <p:cNvPr id="1006" name=""/>
            <p:cNvSpPr/>
            <p:nvPr/>
          </p:nvSpPr>
          <p:spPr>
            <a:xfrm>
              <a:off x="228600" y="1828800"/>
              <a:ext cx="3505320" cy="581400"/>
            </a:xfrm>
            <a:prstGeom prst="rect">
              <a:avLst/>
            </a:prstGeom>
            <a:noFill/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00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10(4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位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) 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33720" y="1828800"/>
              <a:ext cx="0" cy="6094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438640" y="2133360"/>
              <a:ext cx="990360" cy="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9" name=""/>
          <p:cNvSpPr/>
          <p:nvPr/>
        </p:nvSpPr>
        <p:spPr>
          <a:xfrm>
            <a:off x="5562720" y="914400"/>
            <a:ext cx="2743200" cy="4572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562720" y="1828800"/>
            <a:ext cx="2743200" cy="4572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5562720" y="914400"/>
            <a:ext cx="3124080" cy="459720"/>
            <a:chOff x="5562720" y="914400"/>
            <a:chExt cx="3124080" cy="459720"/>
          </a:xfrm>
        </p:grpSpPr>
        <p:sp>
          <p:nvSpPr>
            <p:cNvPr id="1012" name=""/>
            <p:cNvSpPr/>
            <p:nvPr/>
          </p:nvSpPr>
          <p:spPr>
            <a:xfrm>
              <a:off x="5562720" y="9144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无条件转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00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010280" y="914400"/>
              <a:ext cx="0" cy="45720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5562720" y="4038480"/>
            <a:ext cx="2743200" cy="4572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581280" y="39625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10000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00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6" name=""/>
          <p:cNvGrpSpPr/>
          <p:nvPr/>
        </p:nvGrpSpPr>
        <p:grpSpPr>
          <a:xfrm>
            <a:off x="5486400" y="1828800"/>
            <a:ext cx="3124080" cy="459720"/>
            <a:chOff x="5486400" y="1828800"/>
            <a:chExt cx="3124080" cy="459720"/>
          </a:xfrm>
        </p:grpSpPr>
        <p:sp>
          <p:nvSpPr>
            <p:cNvPr id="1017" name=""/>
            <p:cNvSpPr/>
            <p:nvPr/>
          </p:nvSpPr>
          <p:spPr>
            <a:xfrm>
              <a:off x="5486400" y="18288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无条件转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933960" y="1828800"/>
              <a:ext cx="0" cy="45720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9" name=""/>
          <p:cNvSpPr/>
          <p:nvPr/>
        </p:nvSpPr>
        <p:spPr>
          <a:xfrm>
            <a:off x="5562720" y="5410080"/>
            <a:ext cx="2743200" cy="4572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8305920" y="1295280"/>
            <a:ext cx="304560" cy="2743200"/>
            <a:chOff x="8305920" y="1295280"/>
            <a:chExt cx="304560" cy="2743200"/>
          </a:xfrm>
        </p:grpSpPr>
        <p:sp>
          <p:nvSpPr>
            <p:cNvPr id="1021" name=""/>
            <p:cNvSpPr/>
            <p:nvPr/>
          </p:nvSpPr>
          <p:spPr>
            <a:xfrm>
              <a:off x="8305920" y="1295280"/>
              <a:ext cx="228240" cy="457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8534160" y="1752480"/>
              <a:ext cx="75960" cy="3808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610480" y="2133360"/>
              <a:ext cx="0" cy="11430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8533800" y="3276360"/>
              <a:ext cx="75960" cy="5335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8305920" y="3809880"/>
              <a:ext cx="22824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8232120" y="1523880"/>
            <a:ext cx="911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功能转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8305920" y="2209680"/>
            <a:ext cx="304200" cy="3276360"/>
            <a:chOff x="8305920" y="2209680"/>
            <a:chExt cx="304200" cy="3276360"/>
          </a:xfrm>
        </p:grpSpPr>
        <p:sp>
          <p:nvSpPr>
            <p:cNvPr id="1028" name=""/>
            <p:cNvSpPr/>
            <p:nvPr/>
          </p:nvSpPr>
          <p:spPr>
            <a:xfrm>
              <a:off x="8305920" y="2209680"/>
              <a:ext cx="228240" cy="53316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9" name=""/>
            <p:cNvGrpSpPr/>
            <p:nvPr/>
          </p:nvGrpSpPr>
          <p:grpSpPr>
            <a:xfrm>
              <a:off x="8533800" y="2742840"/>
              <a:ext cx="76320" cy="2514600"/>
              <a:chOff x="8533800" y="2742840"/>
              <a:chExt cx="76320" cy="2514600"/>
            </a:xfrm>
          </p:grpSpPr>
          <p:sp>
            <p:nvSpPr>
              <p:cNvPr id="1030" name=""/>
              <p:cNvSpPr/>
              <p:nvPr/>
            </p:nvSpPr>
            <p:spPr>
              <a:xfrm>
                <a:off x="8534160" y="2742840"/>
                <a:ext cx="75960" cy="38088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8610120" y="3123720"/>
                <a:ext cx="0" cy="167652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8533800" y="4800240"/>
                <a:ext cx="75960" cy="45720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 flipH="1">
              <a:off x="8305920" y="5257440"/>
              <a:ext cx="228240" cy="22860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8232120" y="3505320"/>
            <a:ext cx="911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功能转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09480" y="1066680"/>
            <a:ext cx="30492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04920" y="2666880"/>
            <a:ext cx="2895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求补指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228600" y="3124080"/>
            <a:ext cx="3504960" cy="609480"/>
            <a:chOff x="228600" y="3124080"/>
            <a:chExt cx="3504960" cy="609480"/>
          </a:xfrm>
        </p:grpSpPr>
        <p:sp>
          <p:nvSpPr>
            <p:cNvPr id="1038" name=""/>
            <p:cNvSpPr/>
            <p:nvPr/>
          </p:nvSpPr>
          <p:spPr>
            <a:xfrm>
              <a:off x="228600" y="3124080"/>
              <a:ext cx="3504960" cy="581400"/>
            </a:xfrm>
            <a:prstGeom prst="rect">
              <a:avLst/>
            </a:prstGeom>
            <a:noFill/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01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1100(6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位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) 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590560" y="3124080"/>
              <a:ext cx="0" cy="6094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43200" y="3429000"/>
              <a:ext cx="685800" cy="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7238880" y="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(1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33520" y="2362320"/>
            <a:ext cx="30456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914400" y="1295280"/>
            <a:ext cx="31240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838080" y="2590920"/>
            <a:ext cx="2895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3886200" y="1142640"/>
            <a:ext cx="167652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3733920" y="1294920"/>
            <a:ext cx="1752480" cy="12956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581280" y="1219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分类转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095880" y="457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定入口高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 flipV="1">
            <a:off x="7009920" y="838080"/>
            <a:ext cx="228600" cy="152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581280" y="44197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10000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00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562720" y="4495680"/>
            <a:ext cx="2743200" cy="4572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5562720" y="4038480"/>
            <a:ext cx="3124080" cy="459720"/>
            <a:chOff x="5562720" y="4038480"/>
            <a:chExt cx="3124080" cy="459720"/>
          </a:xfrm>
        </p:grpSpPr>
        <p:sp>
          <p:nvSpPr>
            <p:cNvPr id="1053" name=""/>
            <p:cNvSpPr/>
            <p:nvPr/>
          </p:nvSpPr>
          <p:spPr>
            <a:xfrm>
              <a:off x="5562720" y="40384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无条件转 加法地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010280" y="4038480"/>
              <a:ext cx="0" cy="45720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5562720" y="4495680"/>
            <a:ext cx="3124080" cy="459720"/>
            <a:chOff x="5562720" y="4495680"/>
            <a:chExt cx="3124080" cy="459720"/>
          </a:xfrm>
        </p:grpSpPr>
        <p:sp>
          <p:nvSpPr>
            <p:cNvPr id="1056" name=""/>
            <p:cNvSpPr/>
            <p:nvPr/>
          </p:nvSpPr>
          <p:spPr>
            <a:xfrm>
              <a:off x="5562720" y="44956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无条件转 减法地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010280" y="4495680"/>
              <a:ext cx="0" cy="45720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 flipH="1" flipV="1">
            <a:off x="457200" y="3581280"/>
            <a:ext cx="457200" cy="457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914400" y="3885840"/>
            <a:ext cx="297180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3886200" y="1904760"/>
            <a:ext cx="1676520" cy="19810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58128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分类转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095880" y="1371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定入口高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 flipV="1">
            <a:off x="6933960" y="1752480"/>
            <a:ext cx="228600" cy="152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581280" y="53341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100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011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5562720" y="5410080"/>
            <a:ext cx="3124080" cy="459720"/>
            <a:chOff x="5562720" y="5410080"/>
            <a:chExt cx="3124080" cy="459720"/>
          </a:xfrm>
        </p:grpSpPr>
        <p:sp>
          <p:nvSpPr>
            <p:cNvPr id="1066" name=""/>
            <p:cNvSpPr/>
            <p:nvPr/>
          </p:nvSpPr>
          <p:spPr>
            <a:xfrm>
              <a:off x="5562720" y="54100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无条件转 求补地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010280" y="5410080"/>
              <a:ext cx="0" cy="45720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5562720" y="2971800"/>
            <a:ext cx="2743200" cy="8380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419720" y="31240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加法地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791320" y="31240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加法微程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1914" dur="indefinite" restart="never" nodeType="tmRoot">
          <p:childTnLst>
            <p:seq>
              <p:cTn id="1915" dur="indefinite" nodeType="mainSeq">
                <p:childTnLst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28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41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6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1" fill="hold">
                            <p:stCondLst>
                              <p:cond delay="500"/>
                            </p:stCondLst>
                            <p:childTnLst>
                              <p:par>
                                <p:cTn id="19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4" dur="500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0" fill="hold">
                            <p:stCondLst>
                              <p:cond delay="500"/>
                            </p:stCondLst>
                            <p:childTnLst>
                              <p:par>
                                <p:cTn id="1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2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fill="hold">
                            <p:stCondLst>
                              <p:cond delay="500"/>
                            </p:stCondLst>
                            <p:childTnLst>
                              <p:par>
                                <p:cTn id="19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6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9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4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8" dur="500"/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2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7" dur="500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500"/>
                            </p:stCondLst>
                            <p:childTnLst>
                              <p:par>
                                <p:cTn id="20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1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6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500"/>
                            </p:stCondLst>
                            <p:childTnLst>
                              <p:par>
                                <p:cTn id="20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0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0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5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6" fill="hold">
                            <p:stCondLst>
                              <p:cond delay="500"/>
                            </p:stCondLst>
                            <p:childTnLst>
                              <p:par>
                                <p:cTn id="20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3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8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9" fill="hold">
                            <p:stCondLst>
                              <p:cond delay="500"/>
                            </p:stCondLst>
                            <p:childTnLst>
                              <p:par>
                                <p:cTn id="20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0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0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5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500"/>
                            </p:stCondLst>
                            <p:childTnLst>
                              <p:par>
                                <p:cTn id="20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4" dur="500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5" fill="hold">
                            <p:stCondLst>
                              <p:cond delay="500"/>
                            </p:stCondLst>
                            <p:childTnLst>
                              <p:par>
                                <p:cTn id="2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7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2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4.2.2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组成原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419720"/>
            <a:ext cx="3048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主要部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029200"/>
            <a:ext cx="55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控制存储器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C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695920"/>
            <a:ext cx="1676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功能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28600" y="762120"/>
            <a:ext cx="9067680" cy="3580920"/>
            <a:chOff x="228600" y="762120"/>
            <a:chExt cx="9067680" cy="3580920"/>
          </a:xfrm>
        </p:grpSpPr>
        <p:grpSp>
          <p:nvGrpSpPr>
            <p:cNvPr id="115" name=""/>
            <p:cNvGrpSpPr/>
            <p:nvPr/>
          </p:nvGrpSpPr>
          <p:grpSpPr>
            <a:xfrm>
              <a:off x="1981080" y="1752480"/>
              <a:ext cx="2286000" cy="1143000"/>
              <a:chOff x="1981080" y="1752480"/>
              <a:chExt cx="2286000" cy="1143000"/>
            </a:xfrm>
          </p:grpSpPr>
          <p:sp>
            <p:nvSpPr>
              <p:cNvPr id="116" name=""/>
              <p:cNvSpPr/>
              <p:nvPr/>
            </p:nvSpPr>
            <p:spPr>
              <a:xfrm>
                <a:off x="1981080" y="1752480"/>
                <a:ext cx="2209680" cy="1143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209680" y="1981080"/>
                <a:ext cx="205740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  </a:t>
                </a: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微地址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形成电路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28600" y="1752480"/>
              <a:ext cx="114300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I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8600" y="2438280"/>
              <a:ext cx="114300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PS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600" y="3352680"/>
              <a:ext cx="114300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P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1905120" y="3352680"/>
              <a:ext cx="2361960" cy="977760"/>
              <a:chOff x="1905120" y="3352680"/>
              <a:chExt cx="2361960" cy="977760"/>
            </a:xfrm>
          </p:grpSpPr>
          <p:sp>
            <p:nvSpPr>
              <p:cNvPr id="122" name=""/>
              <p:cNvSpPr/>
              <p:nvPr/>
            </p:nvSpPr>
            <p:spPr>
              <a:xfrm>
                <a:off x="1905120" y="3352680"/>
                <a:ext cx="2361960" cy="520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微地址寄存器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666880" y="380988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µAR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800600" y="838080"/>
              <a:ext cx="4495680" cy="3504960"/>
              <a:chOff x="4800600" y="838080"/>
              <a:chExt cx="4495680" cy="350496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4876560" y="3124080"/>
                <a:ext cx="4419720" cy="1218960"/>
                <a:chOff x="4876560" y="3124080"/>
                <a:chExt cx="4419720" cy="12189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4876560" y="3124080"/>
                  <a:ext cx="3429000" cy="1218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638680" y="3581280"/>
                  <a:ext cx="2133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cc"/>
                      </a:solidFill>
                      <a:latin typeface="Times New Roman"/>
                      <a:ea typeface="黑体"/>
                    </a:rPr>
                    <a:t>控制存储器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305560" y="3581280"/>
                  <a:ext cx="990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00"/>
                      </a:solidFill>
                      <a:latin typeface="Times New Roman"/>
                    </a:rPr>
                    <a:t>CM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" name=""/>
              <p:cNvSpPr/>
              <p:nvPr/>
            </p:nvSpPr>
            <p:spPr>
              <a:xfrm>
                <a:off x="4800600" y="1523880"/>
                <a:ext cx="1904760" cy="520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    </a:t>
                </a: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译码器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76560" y="83808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黑体"/>
                  </a:rPr>
                  <a:t>微命令序列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4800600" y="2361960"/>
                <a:ext cx="4495680" cy="520560"/>
                <a:chOff x="4800600" y="2361960"/>
                <a:chExt cx="4495680" cy="520560"/>
              </a:xfrm>
            </p:grpSpPr>
            <p:grpSp>
              <p:nvGrpSpPr>
                <p:cNvPr id="132" name=""/>
                <p:cNvGrpSpPr/>
                <p:nvPr/>
              </p:nvGrpSpPr>
              <p:grpSpPr>
                <a:xfrm>
                  <a:off x="4800600" y="2361960"/>
                  <a:ext cx="3504960" cy="459720"/>
                  <a:chOff x="4800600" y="2361960"/>
                  <a:chExt cx="3504960" cy="45972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4800600" y="2361960"/>
                    <a:ext cx="3504960" cy="45972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cc"/>
                        </a:solidFill>
                        <a:latin typeface="黑体"/>
                        <a:ea typeface="黑体"/>
                      </a:rPr>
                      <a:t>微命令字段 微地址字段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6476760" y="236196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5" name=""/>
                <p:cNvSpPr/>
                <p:nvPr/>
              </p:nvSpPr>
              <p:spPr>
                <a:xfrm>
                  <a:off x="8305560" y="2361960"/>
                  <a:ext cx="990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00"/>
                      </a:solidFill>
                      <a:latin typeface="Times New Roman"/>
                    </a:rPr>
                    <a:t>µIR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 flipV="1">
                <a:off x="5638680" y="2818800"/>
                <a:ext cx="0" cy="304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7467480" y="2818800"/>
                <a:ext cx="0" cy="304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5790960" y="2056680"/>
                <a:ext cx="0" cy="304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4876560" y="1142280"/>
                <a:ext cx="0" cy="381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6629400" y="1142280"/>
                <a:ext cx="0" cy="381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105160" y="1371240"/>
                <a:ext cx="1295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267080" y="3581280"/>
              <a:ext cx="609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495680" y="2362320"/>
              <a:ext cx="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191120" y="2362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289548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1600" y="1981080"/>
              <a:ext cx="609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71600" y="2666880"/>
              <a:ext cx="609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8120" y="762120"/>
              <a:ext cx="434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91520" y="762120"/>
              <a:ext cx="0" cy="1600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8120" y="762120"/>
              <a:ext cx="0" cy="99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371600" y="5695920"/>
            <a:ext cx="441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存放微程序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324480"/>
            <a:ext cx="7772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CM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属于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CPU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，不属于主存储器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0" y="228600"/>
            <a:ext cx="10058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用可编程逻辑阵列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PLA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实现功能转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181480" y="1371600"/>
            <a:ext cx="39625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入口地址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267080" y="1295280"/>
            <a:ext cx="76212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1219320" y="1066680"/>
            <a:ext cx="3047760" cy="1981080"/>
            <a:chOff x="1219320" y="1066680"/>
            <a:chExt cx="3047760" cy="1981080"/>
          </a:xfrm>
        </p:grpSpPr>
        <p:sp>
          <p:nvSpPr>
            <p:cNvPr id="1075" name=""/>
            <p:cNvSpPr/>
            <p:nvPr/>
          </p:nvSpPr>
          <p:spPr>
            <a:xfrm>
              <a:off x="1219320" y="1066680"/>
              <a:ext cx="3047760" cy="198108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981080" y="159984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PLA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7" name=""/>
          <p:cNvSpPr/>
          <p:nvPr/>
        </p:nvSpPr>
        <p:spPr>
          <a:xfrm>
            <a:off x="1219320" y="3657600"/>
            <a:ext cx="2971800" cy="5814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1523880" y="3047760"/>
            <a:ext cx="0" cy="60948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3886200" y="3047760"/>
            <a:ext cx="0" cy="60948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057400" y="335268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267080" y="1828800"/>
            <a:ext cx="76212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267080" y="2286000"/>
            <a:ext cx="76212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267080" y="2743200"/>
            <a:ext cx="76212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648320" y="137160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648320" y="23623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181480" y="2286000"/>
            <a:ext cx="39625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入口地址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2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0" y="4952880"/>
            <a:ext cx="7772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后续微地址的形成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0" y="5562720"/>
            <a:ext cx="6477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增量方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0" y="6172200"/>
            <a:ext cx="11430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以顺序执行为主，辅以各种常规转移方式。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2123" dur="indefinite" restart="never" nodeType="tmRoot">
          <p:childTnLst>
            <p:seq>
              <p:cTn id="2124" dur="indefinite" nodeType="mainSeq">
                <p:childTnLst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2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4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5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6" fill="hold">
                            <p:stCondLst>
                              <p:cond delay="500"/>
                            </p:stCondLst>
                            <p:childTnLst>
                              <p:par>
                                <p:cTn id="2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9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3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8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9" fill="hold">
                            <p:stCondLst>
                              <p:cond delay="500"/>
                            </p:stCondLst>
                            <p:childTnLst>
                              <p:par>
                                <p:cTn id="2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2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500"/>
                            </p:stCondLst>
                            <p:childTnLst>
                              <p:par>
                                <p:cTn id="2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7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2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0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fill="hold">
                      <p:stCondLst>
                        <p:cond delay="indefinite"/>
                      </p:stCondLst>
                      <p:childTnLst>
                        <p:par>
                          <p:cTn id="2205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08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13" dur="500"/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/>
          <p:nvPr/>
        </p:nvSpPr>
        <p:spPr>
          <a:xfrm>
            <a:off x="0" y="152280"/>
            <a:ext cx="8153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顺序：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现行微地址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+1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。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0" y="762120"/>
            <a:ext cx="8458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跳步：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现行微地址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+2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。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0" y="1447920"/>
            <a:ext cx="57913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无条件转移：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现行微指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给出转移微地址。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6095880" y="0"/>
            <a:ext cx="2895840" cy="6552360"/>
            <a:chOff x="6095880" y="0"/>
            <a:chExt cx="2895840" cy="6552360"/>
          </a:xfrm>
        </p:grpSpPr>
        <p:sp>
          <p:nvSpPr>
            <p:cNvPr id="1094" name=""/>
            <p:cNvSpPr/>
            <p:nvPr/>
          </p:nvSpPr>
          <p:spPr>
            <a:xfrm>
              <a:off x="6095880" y="528480"/>
              <a:ext cx="2895840" cy="602388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086600" y="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6095880" y="990720"/>
            <a:ext cx="2895840" cy="4572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562720" y="914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334120" y="1371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+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095880" y="1905120"/>
            <a:ext cx="2895840" cy="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334120" y="1828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+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095880" y="2362320"/>
            <a:ext cx="2895840" cy="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8305920" y="990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6095880" y="2971800"/>
            <a:ext cx="2895840" cy="457200"/>
            <a:chOff x="6095880" y="2971800"/>
            <a:chExt cx="2895840" cy="457200"/>
          </a:xfrm>
        </p:grpSpPr>
        <p:sp>
          <p:nvSpPr>
            <p:cNvPr id="1104" name=""/>
            <p:cNvSpPr/>
            <p:nvPr/>
          </p:nvSpPr>
          <p:spPr>
            <a:xfrm>
              <a:off x="6095880" y="2971800"/>
              <a:ext cx="289584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095880" y="3429000"/>
              <a:ext cx="289584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6" name=""/>
          <p:cNvSpPr/>
          <p:nvPr/>
        </p:nvSpPr>
        <p:spPr>
          <a:xfrm>
            <a:off x="5638680" y="29718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0" y="2666880"/>
            <a:ext cx="57913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条件转移：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现行微指令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出转移微地址和转移条件。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305920" y="990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6324480" y="990720"/>
            <a:ext cx="3429000" cy="520560"/>
            <a:chOff x="6324480" y="990720"/>
            <a:chExt cx="3429000" cy="520560"/>
          </a:xfrm>
        </p:grpSpPr>
        <p:sp>
          <p:nvSpPr>
            <p:cNvPr id="1110" name=""/>
            <p:cNvSpPr/>
            <p:nvPr/>
          </p:nvSpPr>
          <p:spPr>
            <a:xfrm>
              <a:off x="6324480" y="99072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转移条件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229600" y="990720"/>
              <a:ext cx="0" cy="45720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5638680" y="3733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6095880" y="3809880"/>
            <a:ext cx="2895840" cy="457200"/>
            <a:chOff x="6095880" y="3809880"/>
            <a:chExt cx="2895840" cy="457200"/>
          </a:xfrm>
        </p:grpSpPr>
        <p:sp>
          <p:nvSpPr>
            <p:cNvPr id="1114" name=""/>
            <p:cNvSpPr/>
            <p:nvPr/>
          </p:nvSpPr>
          <p:spPr>
            <a:xfrm>
              <a:off x="6095880" y="3809880"/>
              <a:ext cx="289584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095880" y="4267080"/>
              <a:ext cx="289584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>
            <a:off x="6477120" y="3809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条件满足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400800" y="14479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条件不满足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0" y="3886200"/>
            <a:ext cx="69343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转微子程序：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现行微指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给出微子程序入口。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324480" y="990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转移条件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8381880" y="990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638680" y="4419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6095880" y="4495680"/>
            <a:ext cx="2895840" cy="1371240"/>
            <a:chOff x="6095880" y="4495680"/>
            <a:chExt cx="2895840" cy="1371240"/>
          </a:xfrm>
        </p:grpSpPr>
        <p:sp>
          <p:nvSpPr>
            <p:cNvPr id="1123" name=""/>
            <p:cNvSpPr/>
            <p:nvPr/>
          </p:nvSpPr>
          <p:spPr>
            <a:xfrm>
              <a:off x="6095880" y="4495680"/>
              <a:ext cx="289584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095880" y="5866920"/>
              <a:ext cx="289584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5" name=""/>
          <p:cNvSpPr/>
          <p:nvPr/>
        </p:nvSpPr>
        <p:spPr>
          <a:xfrm>
            <a:off x="6629400" y="4648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微子程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0" y="5105520"/>
            <a:ext cx="57913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返回微主程序：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现行微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令给出寄存器号。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3886200" y="5943600"/>
            <a:ext cx="1752120" cy="558720"/>
            <a:chOff x="3886200" y="5943600"/>
            <a:chExt cx="1752120" cy="558720"/>
          </a:xfrm>
        </p:grpSpPr>
        <p:sp>
          <p:nvSpPr>
            <p:cNvPr id="1128" name=""/>
            <p:cNvSpPr/>
            <p:nvPr/>
          </p:nvSpPr>
          <p:spPr>
            <a:xfrm>
              <a:off x="4343040" y="5943600"/>
              <a:ext cx="1295280" cy="520560"/>
            </a:xfrm>
            <a:prstGeom prst="rect">
              <a:avLst/>
            </a:prstGeom>
            <a:solidFill>
              <a:srgbClr val="ff9900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+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886200" y="598176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6095880" y="5334120"/>
            <a:ext cx="2895840" cy="4572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8305920" y="5334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2214" dur="indefinite" restart="never" nodeType="tmRoot">
          <p:childTnLst>
            <p:seq>
              <p:cTn id="2215" dur="indefinite" nodeType="mainSeq">
                <p:childTnLst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0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6" dur="500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0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5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fill="hold">
                      <p:stCondLst>
                        <p:cond delay="indefinite"/>
                      </p:stCondLst>
                      <p:childTnLst>
                        <p:par>
                          <p:cTn id="2237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0" dur="500"/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4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9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4" dur="500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8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9" fill="hold">
                      <p:stCondLst>
                        <p:cond delay="indefinite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3" dur="500"/>
                                        <p:tgtEl>
                                          <p:spTgt spid="10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8" dur="500"/>
                                        <p:tgtEl>
                                          <p:spTgt spid="10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9" fill="hold">
                      <p:stCondLst>
                        <p:cond delay="indefinite"/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3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2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7" dur="500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2" dur="500"/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7" dur="500"/>
                                        <p:tgtEl>
                                          <p:spTgt spid="1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500"/>
                            </p:stCondLst>
                            <p:childTnLst>
                              <p:par>
                                <p:cTn id="2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0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fill="hold">
                      <p:stCondLst>
                        <p:cond delay="indefinite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6" dur="500"/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1" dur="500"/>
                                        <p:tgtEl>
                                          <p:spTgt spid="1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6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5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0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500"/>
                            </p:stCondLst>
                            <p:childTnLst>
                              <p:par>
                                <p:cTn id="2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4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8" dur="500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3" dur="500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8" dur="500"/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3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4" fill="hold">
                            <p:stCondLst>
                              <p:cond delay="500"/>
                            </p:stCondLst>
                            <p:childTnLst>
                              <p:par>
                                <p:cTn id="2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7" dur="500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/>
          <p:nvPr/>
        </p:nvSpPr>
        <p:spPr>
          <a:xfrm>
            <a:off x="0" y="1219320"/>
            <a:ext cx="25146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微指令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219320" y="2057400"/>
            <a:ext cx="449568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给定后续微地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高位部分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0" y="0"/>
            <a:ext cx="6477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断定方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0" y="533520"/>
            <a:ext cx="11430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由直接给定和测试断定相结合形成微地址。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1600200" y="1143000"/>
            <a:ext cx="5410080" cy="609480"/>
            <a:chOff x="1600200" y="1143000"/>
            <a:chExt cx="5410080" cy="609480"/>
          </a:xfrm>
        </p:grpSpPr>
        <p:sp>
          <p:nvSpPr>
            <p:cNvPr id="1137" name=""/>
            <p:cNvSpPr/>
            <p:nvPr/>
          </p:nvSpPr>
          <p:spPr>
            <a:xfrm>
              <a:off x="1600200" y="1143000"/>
              <a:ext cx="5410080" cy="581400"/>
            </a:xfrm>
            <a:prstGeom prst="rect">
              <a:avLst/>
            </a:prstGeom>
            <a:solidFill>
              <a:srgbClr val="ffffff"/>
            </a:solidFill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给定部分  断定条件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724280" y="1143000"/>
              <a:ext cx="0" cy="6094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819160" y="1143000"/>
              <a:ext cx="0" cy="6094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0" name=""/>
          <p:cNvSpPr/>
          <p:nvPr/>
        </p:nvSpPr>
        <p:spPr>
          <a:xfrm flipH="1">
            <a:off x="2819520" y="1752480"/>
            <a:ext cx="3808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334120" y="2057400"/>
            <a:ext cx="472428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指明后续微地址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位部分的形成方式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791320" y="1752480"/>
            <a:ext cx="30456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0" y="28954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例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066680" y="3048120"/>
            <a:ext cx="25146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微指令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2666880" y="3048120"/>
            <a:ext cx="5410440" cy="609480"/>
            <a:chOff x="2666880" y="3048120"/>
            <a:chExt cx="5410440" cy="609480"/>
          </a:xfrm>
        </p:grpSpPr>
        <p:sp>
          <p:nvSpPr>
            <p:cNvPr id="1146" name=""/>
            <p:cNvSpPr/>
            <p:nvPr/>
          </p:nvSpPr>
          <p:spPr>
            <a:xfrm>
              <a:off x="2666880" y="3048120"/>
              <a:ext cx="5410440" cy="581400"/>
            </a:xfrm>
            <a:prstGeom prst="rect">
              <a:avLst/>
            </a:prstGeom>
            <a:solidFill>
              <a:srgbClr val="ffffff"/>
            </a:solidFill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D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给定）  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A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条件）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791320" y="3048120"/>
              <a:ext cx="0" cy="6094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886200" y="3048120"/>
              <a:ext cx="0" cy="6094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9" name=""/>
          <p:cNvSpPr/>
          <p:nvPr/>
        </p:nvSpPr>
        <p:spPr>
          <a:xfrm rot="16200000">
            <a:off x="4724280" y="31237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rot="16200000">
            <a:off x="6781680" y="31237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553080" y="38098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038480" y="38098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位数可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0" y="38098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微地址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位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36232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约定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0" y="50292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A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85800" y="464832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990720" y="4343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0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914400" y="4800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676520" y="43434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微地址低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位为操作码，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给定高 位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676520" y="6019920"/>
            <a:ext cx="8076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微地址低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位为机器指令目的寻址方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676520" y="5022720"/>
            <a:ext cx="807696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微地址低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位为机器指令源寻址方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391520" y="4343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343400" y="5334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914400" y="57913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676520" y="5486400"/>
            <a:ext cx="7162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编码，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给定高 位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676520" y="6473880"/>
            <a:ext cx="56386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编码，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给定高 位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343400" y="6324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8001000" y="4114440"/>
            <a:ext cx="30492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229600" y="3505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路分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486400" y="5715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09588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路分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410080" y="6629400"/>
            <a:ext cx="609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095880" y="6400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路分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2378" dur="indefinite" restart="never" nodeType="tmRoot">
          <p:childTnLst>
            <p:seq>
              <p:cTn id="2379" dur="indefinite" nodeType="mainSeq">
                <p:childTnLst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8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89" dur="500"/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94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5" fill="hold">
                            <p:stCondLst>
                              <p:cond delay="500"/>
                            </p:stCondLst>
                            <p:childTnLst>
                              <p:par>
                                <p:cTn id="23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9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0" fill="hold">
                      <p:stCondLst>
                        <p:cond delay="indefinite"/>
                      </p:stCondLst>
                      <p:childTnLst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4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5" fill="hold">
                            <p:stCondLst>
                              <p:cond delay="500"/>
                            </p:stCondLst>
                            <p:childTnLst>
                              <p:par>
                                <p:cTn id="2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8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fill="hold">
                      <p:stCondLst>
                        <p:cond delay="indefinite"/>
                      </p:stCondLst>
                      <p:childTnLst>
                        <p:par>
                          <p:cTn id="2410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3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4" fill="hold">
                            <p:stCondLst>
                              <p:cond delay="500"/>
                            </p:stCondLst>
                            <p:childTnLst>
                              <p:par>
                                <p:cTn id="2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7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fill="hold">
                      <p:stCondLst>
                        <p:cond delay="indefinite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3" dur="500" fill="hold"/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fill="hold">
                      <p:stCondLst>
                        <p:cond delay="indefinite"/>
                      </p:stCondLst>
                      <p:childTnLst>
                        <p:par>
                          <p:cTn id="2425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8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9" fill="hold">
                            <p:stCondLst>
                              <p:cond delay="500"/>
                            </p:stCondLst>
                            <p:childTnLst>
                              <p:par>
                                <p:cTn id="24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2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3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8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2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7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1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2" fill="hold">
                      <p:stCondLst>
                        <p:cond delay="indefinite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6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7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4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6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2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4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5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9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4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89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0" fill="hold">
                      <p:stCondLst>
                        <p:cond delay="indefinite"/>
                      </p:stCondLst>
                      <p:childTnLst>
                        <p:par>
                          <p:cTn id="2491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4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99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04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5" fill="hold">
                            <p:stCondLst>
                              <p:cond delay="500"/>
                            </p:stCondLst>
                            <p:childTnLst>
                              <p:par>
                                <p:cTn id="250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08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3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18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23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2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27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2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7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8" fill="hold">
                            <p:stCondLst>
                              <p:cond delay="500"/>
                            </p:stCondLst>
                            <p:childTnLst>
                              <p:par>
                                <p:cTn id="25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1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6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7" fill="hold">
                            <p:stCondLst>
                              <p:cond delay="500"/>
                            </p:stCondLst>
                            <p:childTnLst>
                              <p:par>
                                <p:cTn id="2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0" dur="500"/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5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9" dur="500"/>
                                        <p:tgtEl>
                                          <p:spTgt spid="1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"/>
          <p:cNvSpPr/>
          <p:nvPr/>
        </p:nvSpPr>
        <p:spPr>
          <a:xfrm>
            <a:off x="0" y="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例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0" y="1523880"/>
            <a:ext cx="25146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微指令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rot="16200000">
            <a:off x="3581280" y="15235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rot="16200000">
            <a:off x="5829120" y="110448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990720" y="152280"/>
            <a:ext cx="861048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设微地址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位，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个状态触发器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T1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～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T4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微程序可按它们的状态转移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276720" y="2209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给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019920" y="4114800"/>
            <a:ext cx="152280" cy="60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200400" y="28954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D      A  B 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后续微地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819520" y="335268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000010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1676520" y="1447920"/>
            <a:ext cx="5790960" cy="609480"/>
            <a:chOff x="1676520" y="1447920"/>
            <a:chExt cx="5790960" cy="609480"/>
          </a:xfrm>
        </p:grpSpPr>
        <p:sp>
          <p:nvSpPr>
            <p:cNvPr id="1184" name=""/>
            <p:cNvSpPr/>
            <p:nvPr/>
          </p:nvSpPr>
          <p:spPr>
            <a:xfrm>
              <a:off x="1676520" y="1447920"/>
              <a:ext cx="5790960" cy="581400"/>
            </a:xfrm>
            <a:prstGeom prst="rect">
              <a:avLst/>
            </a:prstGeom>
            <a:solidFill>
              <a:srgbClr val="ffffff"/>
            </a:solidFill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D(8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位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) A(2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位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) B(2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位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495680" y="1447920"/>
              <a:ext cx="0" cy="6094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981160" y="1447920"/>
              <a:ext cx="0" cy="6094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43600" y="1447920"/>
              <a:ext cx="0" cy="6094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5562720" y="2209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条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04920" y="24382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A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低位地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0" y="3121200"/>
            <a:ext cx="2743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00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6320" y="3048120"/>
            <a:ext cx="281916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0" y="3505320"/>
            <a:ext cx="2743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01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0" y="3882960"/>
            <a:ext cx="2743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0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T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0" y="4267080"/>
            <a:ext cx="2743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1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T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04920" y="46450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B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最低位地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0" y="5327640"/>
            <a:ext cx="2743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00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76320" y="5254560"/>
            <a:ext cx="281916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0" y="5711760"/>
            <a:ext cx="2743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01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0" y="6089760"/>
            <a:ext cx="2743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0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T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0" y="6473880"/>
            <a:ext cx="2743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1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T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724280" y="3352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410080" y="3352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705720" y="33526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00001010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724280" y="3733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410080" y="3733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41008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T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172200" y="38862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172200" y="4343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705720" y="38862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00001010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705720" y="43434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00001010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724280" y="48006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410080" y="48006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724280" y="54100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T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410080" y="54100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T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019920" y="5105520"/>
            <a:ext cx="152280" cy="152388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095880" y="5029200"/>
            <a:ext cx="990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705720" y="5029200"/>
            <a:ext cx="30477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00001010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00001010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00001010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00001010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2560" dur="indefinite" restart="never" nodeType="tmRoot">
          <p:childTnLst>
            <p:seq>
              <p:cTn id="2561" dur="indefinite" nodeType="mainSeq">
                <p:childTnLst>
                  <p:par>
                    <p:cTn id="2562" fill="hold">
                      <p:stCondLst>
                        <p:cond delay="indefinite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6" dur="500" fill="hold"/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7" dur="500" fill="hold"/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8" fill="hold">
                      <p:stCondLst>
                        <p:cond delay="indefinite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72" dur="500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3" fill="hold">
                      <p:stCondLst>
                        <p:cond delay="indefinite"/>
                      </p:stCondLst>
                      <p:childTnLst>
                        <p:par>
                          <p:cTn id="2574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77" dur="500"/>
                                        <p:tgtEl>
                                          <p:spTgt spid="1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2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87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8" fill="hold">
                      <p:stCondLst>
                        <p:cond delay="indefinite"/>
                      </p:stCondLst>
                      <p:childTnLst>
                        <p:par>
                          <p:cTn id="2589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2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3" fill="hold">
                            <p:stCondLst>
                              <p:cond delay="500"/>
                            </p:stCondLst>
                            <p:childTnLst>
                              <p:par>
                                <p:cTn id="25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6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7" fill="hold">
                      <p:stCondLst>
                        <p:cond delay="indefinite"/>
                      </p:stCondLst>
                      <p:childTnLst>
                        <p:par>
                          <p:cTn id="2598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1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2" fill="hold">
                            <p:stCondLst>
                              <p:cond delay="500"/>
                            </p:stCondLst>
                            <p:childTnLst>
                              <p:par>
                                <p:cTn id="26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5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6" fill="hold">
                      <p:stCondLst>
                        <p:cond delay="indefinite"/>
                      </p:stCondLst>
                      <p:childTnLst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0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2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3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4" fill="hold">
                            <p:stCondLst>
                              <p:cond delay="500"/>
                            </p:stCondLst>
                            <p:childTnLst>
                              <p:par>
                                <p:cTn id="2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7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8" fill="hold">
                      <p:stCondLst>
                        <p:cond delay="indefinite"/>
                      </p:stCondLst>
                      <p:childTnLst>
                        <p:par>
                          <p:cTn id="2619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2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7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2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7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2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5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6" fill="hold">
                            <p:stCondLst>
                              <p:cond delay="500"/>
                            </p:stCondLst>
                            <p:childTnLst>
                              <p:par>
                                <p:cTn id="2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9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5" fill="hold">
                      <p:stCondLst>
                        <p:cond delay="indefinite"/>
                      </p:stCondLst>
                      <p:childTnLst>
                        <p:par>
                          <p:cTn id="2656" fill="hold">
                            <p:stCondLst>
                              <p:cond delay="0"/>
                            </p:stCondLst>
                            <p:childTnLst>
                              <p:par>
                                <p:cTn id="2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9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0" fill="hold">
                      <p:stCondLst>
                        <p:cond delay="indefinite"/>
                      </p:stCondLst>
                      <p:childTnLst>
                        <p:par>
                          <p:cTn id="2661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4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9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0" fill="hold">
                      <p:stCondLst>
                        <p:cond delay="indefinite"/>
                      </p:stCondLst>
                      <p:childTnLst>
                        <p:par>
                          <p:cTn id="2671" fill="hold">
                            <p:stCondLst>
                              <p:cond delay="0"/>
                            </p:stCondLst>
                            <p:childTnLst>
                              <p:par>
                                <p:cTn id="26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74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5" fill="hold">
                      <p:stCondLst>
                        <p:cond delay="indefinite"/>
                      </p:stCondLst>
                      <p:childTnLst>
                        <p:par>
                          <p:cTn id="2676" fill="hold">
                            <p:stCondLst>
                              <p:cond delay="0"/>
                            </p:stCondLst>
                            <p:childTnLst>
                              <p:par>
                                <p:cTn id="26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9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4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9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0" fill="hold">
                      <p:stCondLst>
                        <p:cond delay="indefinite"/>
                      </p:stCondLst>
                      <p:childTnLst>
                        <p:par>
                          <p:cTn id="2691" fill="hold">
                            <p:stCondLst>
                              <p:cond delay="0"/>
                            </p:stCondLst>
                            <p:childTnLst>
                              <p:par>
                                <p:cTn id="2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4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5" fill="hold">
                      <p:stCondLst>
                        <p:cond delay="indefinite"/>
                      </p:stCondLst>
                      <p:childTnLst>
                        <p:par>
                          <p:cTn id="2696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9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0" fill="hold">
                      <p:stCondLst>
                        <p:cond delay="indefinite"/>
                      </p:stCondLst>
                      <p:childTnLst>
                        <p:par>
                          <p:cTn id="2701" fill="hold">
                            <p:stCondLst>
                              <p:cond delay="0"/>
                            </p:stCondLst>
                            <p:childTnLst>
                              <p:par>
                                <p:cTn id="27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4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5" fill="hold">
                      <p:stCondLst>
                        <p:cond delay="indefinite"/>
                      </p:stCondLst>
                      <p:childTnLst>
                        <p:par>
                          <p:cTn id="2706" fill="hold">
                            <p:stCondLst>
                              <p:cond delay="0"/>
                            </p:stCondLst>
                            <p:childTnLst>
                              <p:par>
                                <p:cTn id="2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9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3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4" fill="hold">
                      <p:stCondLst>
                        <p:cond delay="indefinite"/>
                      </p:stCondLst>
                      <p:childTnLst>
                        <p:par>
                          <p:cTn id="2715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8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9" fill="hold">
                            <p:stCondLst>
                              <p:cond delay="500"/>
                            </p:stCondLst>
                            <p:childTnLst>
                              <p:par>
                                <p:cTn id="2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2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7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2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7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fill="hold">
                      <p:stCondLst>
                        <p:cond delay="indefinite"/>
                      </p:stCondLst>
                      <p:childTnLst>
                        <p:par>
                          <p:cTn id="2739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2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7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2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3" fill="hold">
                      <p:stCondLst>
                        <p:cond delay="indefinite"/>
                      </p:stCondLst>
                      <p:childTnLst>
                        <p:par>
                          <p:cTn id="2754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fill="hold">
                      <p:stCondLst>
                        <p:cond delay="indefinite"/>
                      </p:stCondLst>
                      <p:childTnLst>
                        <p:par>
                          <p:cTn id="2759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2" dur="500"/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7" dur="500"/>
                                        <p:tgtEl>
                                          <p:spTgt spid="1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8" fill="hold">
                      <p:stCondLst>
                        <p:cond delay="indefinite"/>
                      </p:stCondLst>
                      <p:childTnLst>
                        <p:par>
                          <p:cTn id="2769" fill="hold">
                            <p:stCondLst>
                              <p:cond delay="0"/>
                            </p:stCondLst>
                            <p:childTnLst>
                              <p:par>
                                <p:cTn id="2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2" dur="500"/>
                                        <p:tgtEl>
                                          <p:spTgt spid="1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3" fill="hold">
                      <p:stCondLst>
                        <p:cond delay="indefinite"/>
                      </p:stCondLst>
                      <p:childTnLst>
                        <p:par>
                          <p:cTn id="2774" fill="hold">
                            <p:stCondLst>
                              <p:cond delay="0"/>
                            </p:stCondLst>
                            <p:childTnLst>
                              <p:par>
                                <p:cTn id="2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7" dur="500"/>
                                        <p:tgtEl>
                                          <p:spTgt spid="1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2" dur="500"/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7" dur="500"/>
                                        <p:tgtEl>
                                          <p:spTgt spid="1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fill="hold">
                      <p:stCondLst>
                        <p:cond delay="indefinite"/>
                      </p:stCondLst>
                      <p:childTnLst>
                        <p:par>
                          <p:cTn id="2789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2" dur="500"/>
                                        <p:tgtEl>
                                          <p:spTgt spid="1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7" dur="500"/>
                                        <p:tgtEl>
                                          <p:spTgt spid="1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/>
          <p:nvPr/>
        </p:nvSpPr>
        <p:spPr>
          <a:xfrm>
            <a:off x="0" y="762120"/>
            <a:ext cx="998208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同步控制，用统一微指令周期控制各条微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令执行。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0" y="2895480"/>
            <a:ext cx="1066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P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0" y="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4.2.5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微程序时序安排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105520" y="22860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971800" y="2057400"/>
            <a:ext cx="44956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微指令周期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04920" y="3733920"/>
            <a:ext cx="2361960" cy="9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微指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打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µ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0" y="1905120"/>
            <a:ext cx="3505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级时序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685800" y="2743200"/>
            <a:ext cx="8153280" cy="533520"/>
            <a:chOff x="685800" y="2743200"/>
            <a:chExt cx="8153280" cy="533520"/>
          </a:xfrm>
        </p:grpSpPr>
        <p:sp>
          <p:nvSpPr>
            <p:cNvPr id="1226" name=""/>
            <p:cNvSpPr/>
            <p:nvPr/>
          </p:nvSpPr>
          <p:spPr>
            <a:xfrm>
              <a:off x="685800" y="3276720"/>
              <a:ext cx="6858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V="1">
              <a:off x="1371600" y="2743200"/>
              <a:ext cx="0" cy="5335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371600" y="2743200"/>
              <a:ext cx="10666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V="1">
              <a:off x="2438280" y="2743200"/>
              <a:ext cx="0" cy="5335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438280" y="3276720"/>
              <a:ext cx="21337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4572000" y="2743200"/>
              <a:ext cx="0" cy="5335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5638680" y="2743200"/>
              <a:ext cx="0" cy="5335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638680" y="3276720"/>
              <a:ext cx="21337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7772400" y="2743200"/>
              <a:ext cx="0" cy="5335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72000" y="2743200"/>
              <a:ext cx="10666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772400" y="2743200"/>
              <a:ext cx="10666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2438280" y="2057400"/>
            <a:ext cx="0" cy="53352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638680" y="2057400"/>
            <a:ext cx="0" cy="53352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514600" y="2286000"/>
            <a:ext cx="5335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1143000" y="3047760"/>
            <a:ext cx="1219320" cy="609480"/>
          </a:xfrm>
          <a:prstGeom prst="line">
            <a:avLst/>
          </a:prstGeom>
          <a:ln cap="sq" w="1908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438280" y="3352680"/>
            <a:ext cx="0" cy="38124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572000" y="3352680"/>
            <a:ext cx="0" cy="38124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590920" y="4038480"/>
            <a:ext cx="236196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控制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据通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操作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514600" y="3505320"/>
            <a:ext cx="20574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648320" y="3048120"/>
            <a:ext cx="457200" cy="685800"/>
          </a:xfrm>
          <a:prstGeom prst="line">
            <a:avLst/>
          </a:prstGeom>
          <a:ln cap="sq"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648320" y="3733920"/>
            <a:ext cx="236196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结果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入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地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572000" y="2895480"/>
            <a:ext cx="99072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105520" y="2895480"/>
            <a:ext cx="1676160" cy="838440"/>
          </a:xfrm>
          <a:prstGeom prst="line">
            <a:avLst/>
          </a:prstGeom>
          <a:ln cap="sq"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477120" y="3886200"/>
            <a:ext cx="236196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读取后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微指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 flipV="1">
            <a:off x="3276360" y="3505320"/>
            <a:ext cx="152280" cy="45720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648320" y="5334120"/>
            <a:ext cx="236196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后续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地址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µ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4724280" y="1752120"/>
            <a:ext cx="99072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638680" y="1371600"/>
            <a:ext cx="25909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时钟周期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2798" dur="indefinite" restart="never" nodeType="tmRoot">
          <p:childTnLst>
            <p:seq>
              <p:cTn id="2799" dur="indefinite" nodeType="mainSeq">
                <p:childTnLst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4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9" dur="500" fill="hold"/>
                                        <p:tgtEl>
                                          <p:spTgt spid="1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1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5" dur="500" fill="hold"/>
                                        <p:tgtEl>
                                          <p:spTgt spid="1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1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fill="hold">
                      <p:stCondLst>
                        <p:cond delay="indefinite"/>
                      </p:stCondLst>
                      <p:childTnLst>
                        <p:par>
                          <p:cTn id="2818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1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fill="hold">
                      <p:stCondLst>
                        <p:cond delay="indefinite"/>
                      </p:stCondLst>
                      <p:childTnLst>
                        <p:par>
                          <p:cTn id="2824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7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9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0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1" fill="hold">
                            <p:stCondLst>
                              <p:cond delay="500"/>
                            </p:stCondLst>
                            <p:childTnLst>
                              <p:par>
                                <p:cTn id="2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5" fill="hold">
                      <p:stCondLst>
                        <p:cond delay="indefinite"/>
                      </p:stCondLst>
                      <p:childTnLst>
                        <p:par>
                          <p:cTn id="2836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9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0" fill="hold">
                            <p:stCondLst>
                              <p:cond delay="500"/>
                            </p:stCondLst>
                            <p:childTnLst>
                              <p:par>
                                <p:cTn id="28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3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1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5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0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1" fill="hold">
                            <p:stCondLst>
                              <p:cond delay="500"/>
                            </p:stCondLst>
                            <p:childTnLst>
                              <p:par>
                                <p:cTn id="28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4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9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0" fill="hold">
                            <p:stCondLst>
                              <p:cond delay="500"/>
                            </p:stCondLst>
                            <p:childTnLst>
                              <p:par>
                                <p:cTn id="28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3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8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2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86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0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4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fill="hold">
                      <p:stCondLst>
                        <p:cond delay="indefinite"/>
                      </p:stCondLst>
                      <p:childTnLst>
                        <p:par>
                          <p:cTn id="2896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9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0" fill="hold">
                            <p:stCondLst>
                              <p:cond delay="500"/>
                            </p:stCondLst>
                            <p:childTnLst>
                              <p:par>
                                <p:cTn id="29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3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4" fill="hold">
                      <p:stCondLst>
                        <p:cond delay="indefinite"/>
                      </p:stCondLst>
                      <p:childTnLst>
                        <p:par>
                          <p:cTn id="2905" fill="hold">
                            <p:stCondLst>
                              <p:cond delay="0"/>
                            </p:stCondLst>
                            <p:childTnLst>
                              <p:par>
                                <p:cTn id="29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9" fill="hold">
                      <p:stCondLst>
                        <p:cond delay="indefinite"/>
                      </p:stCondLst>
                      <p:childTnLst>
                        <p:par>
                          <p:cTn id="2910" fill="hold">
                            <p:stCondLst>
                              <p:cond delay="0"/>
                            </p:stCondLst>
                            <p:childTnLst>
                              <p:par>
                                <p:cTn id="29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3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4" fill="hold">
                            <p:stCondLst>
                              <p:cond delay="500"/>
                            </p:stCondLst>
                            <p:childTnLst>
                              <p:par>
                                <p:cTn id="29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7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1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4.2.6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微程序控制方式优缺点及应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0" y="762120"/>
            <a:ext cx="281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优点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0" y="1295280"/>
            <a:ext cx="6477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设计规整，设计效率高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0" y="1905120"/>
            <a:ext cx="8915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易于修改、扩展指令系统功能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0" y="2514600"/>
            <a:ext cx="8915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结构规整、简洁，可靠性高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3124080"/>
            <a:ext cx="6477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性价比高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0" y="3809880"/>
            <a:ext cx="281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缺点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0" y="4343400"/>
            <a:ext cx="6477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速度慢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2" name=""/>
          <p:cNvGrpSpPr/>
          <p:nvPr/>
        </p:nvGrpSpPr>
        <p:grpSpPr>
          <a:xfrm>
            <a:off x="2819520" y="4191120"/>
            <a:ext cx="533160" cy="457200"/>
            <a:chOff x="2819520" y="4191120"/>
            <a:chExt cx="533160" cy="457200"/>
          </a:xfrm>
        </p:grpSpPr>
        <p:sp>
          <p:nvSpPr>
            <p:cNvPr id="1263" name=""/>
            <p:cNvSpPr/>
            <p:nvPr/>
          </p:nvSpPr>
          <p:spPr>
            <a:xfrm flipV="1">
              <a:off x="2819520" y="4191120"/>
              <a:ext cx="533160" cy="38088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819520" y="4572000"/>
              <a:ext cx="533160" cy="7632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3352680" y="3962520"/>
            <a:ext cx="350532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访存频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转移较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4952880"/>
            <a:ext cx="6477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执行效率不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0" y="5673600"/>
            <a:ext cx="281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应用范围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0" y="622944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用于速度要求不高、功能较复杂的机器中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334120" y="5638680"/>
            <a:ext cx="4267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特别适用于系列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858000" y="6019920"/>
            <a:ext cx="685800" cy="22860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4114800" y="4495320"/>
            <a:ext cx="1600200" cy="68580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715000" y="4191120"/>
            <a:ext cx="3124080" cy="11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未充分发挥数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通路本身具有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并行能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2922" dur="indefinite" restart="never" nodeType="tmRoot">
          <p:childTnLst>
            <p:seq>
              <p:cTn id="2923" dur="indefinite" nodeType="mainSeq">
                <p:childTnLst>
                  <p:par>
                    <p:cTn id="2924" fill="hold">
                      <p:stCondLst>
                        <p:cond delay="indefinite"/>
                      </p:stCondLst>
                      <p:childTnLst>
                        <p:par>
                          <p:cTn id="2925" fill="hold">
                            <p:stCondLst>
                              <p:cond delay="0"/>
                            </p:stCondLst>
                            <p:childTnLst>
                              <p:par>
                                <p:cTn id="2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8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9" fill="hold">
                      <p:stCondLst>
                        <p:cond delay="indefinite"/>
                      </p:stCondLst>
                      <p:childTnLst>
                        <p:par>
                          <p:cTn id="2930" fill="hold">
                            <p:stCondLst>
                              <p:cond delay="0"/>
                            </p:stCondLst>
                            <p:childTnLst>
                              <p:par>
                                <p:cTn id="29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3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4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5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6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7" fill="hold">
                      <p:stCondLst>
                        <p:cond delay="indefinite"/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41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2" fill="hold">
                      <p:stCondLst>
                        <p:cond delay="indefinite"/>
                      </p:stCondLst>
                      <p:childTnLst>
                        <p:par>
                          <p:cTn id="2943" fill="hold">
                            <p:stCondLst>
                              <p:cond delay="0"/>
                            </p:stCondLst>
                            <p:childTnLst>
                              <p:par>
                                <p:cTn id="29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46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7" fill="hold">
                      <p:stCondLst>
                        <p:cond delay="indefinite"/>
                      </p:stCondLst>
                      <p:childTnLst>
                        <p:par>
                          <p:cTn id="2948" fill="hold">
                            <p:stCondLst>
                              <p:cond delay="0"/>
                            </p:stCondLst>
                            <p:childTnLst>
                              <p:par>
                                <p:cTn id="29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51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2" fill="hold">
                      <p:stCondLst>
                        <p:cond delay="indefinite"/>
                      </p:stCondLst>
                      <p:childTnLst>
                        <p:par>
                          <p:cTn id="2953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56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1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2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3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4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5" fill="hold">
                      <p:stCondLst>
                        <p:cond delay="indefinite"/>
                      </p:stCondLst>
                      <p:childTnLst>
                        <p:par>
                          <p:cTn id="2966" fill="hold">
                            <p:stCondLst>
                              <p:cond delay="0"/>
                            </p:stCondLst>
                            <p:childTnLst>
                              <p:par>
                                <p:cTn id="29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69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4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5" fill="hold">
                            <p:stCondLst>
                              <p:cond delay="500"/>
                            </p:stCondLst>
                            <p:childTnLst>
                              <p:par>
                                <p:cTn id="297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78" dur="500"/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82" dur="500"/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fill="hold">
                      <p:stCondLst>
                        <p:cond delay="indefinite"/>
                      </p:stCondLst>
                      <p:childTnLst>
                        <p:par>
                          <p:cTn id="2984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87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8" fill="hold">
                      <p:stCondLst>
                        <p:cond delay="indefinite"/>
                      </p:stCondLst>
                      <p:childTnLst>
                        <p:par>
                          <p:cTn id="2989" fill="hold">
                            <p:stCondLst>
                              <p:cond delay="0"/>
                            </p:stCondLst>
                            <p:childTnLst>
                              <p:par>
                                <p:cTn id="29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2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9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96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7" fill="hold">
                      <p:stCondLst>
                        <p:cond delay="indefinite"/>
                      </p:stCondLst>
                      <p:childTnLst>
                        <p:par>
                          <p:cTn id="2998" fill="hold">
                            <p:stCondLst>
                              <p:cond delay="0"/>
                            </p:stCondLst>
                            <p:childTnLst>
                              <p:par>
                                <p:cTn id="299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1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2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3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4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5" fill="hold">
                      <p:stCondLst>
                        <p:cond delay="indefinite"/>
                      </p:stCondLst>
                      <p:childTnLst>
                        <p:par>
                          <p:cTn id="3006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9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0" fill="hold">
                      <p:stCondLst>
                        <p:cond delay="indefinite"/>
                      </p:stCondLst>
                      <p:childTnLst>
                        <p:par>
                          <p:cTn id="3011" fill="hold">
                            <p:stCondLst>
                              <p:cond delay="0"/>
                            </p:stCondLst>
                            <p:childTnLst>
                              <p:par>
                                <p:cTn id="30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4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5" fill="hold">
                            <p:stCondLst>
                              <p:cond delay="500"/>
                            </p:stCondLst>
                            <p:childTnLst>
                              <p:par>
                                <p:cTn id="30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18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886200"/>
            <a:ext cx="55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微指令寄存器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µ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495680"/>
            <a:ext cx="1676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功能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76320" y="0"/>
            <a:ext cx="9067680" cy="3580920"/>
            <a:chOff x="76320" y="0"/>
            <a:chExt cx="9067680" cy="3580920"/>
          </a:xfrm>
        </p:grpSpPr>
        <p:grpSp>
          <p:nvGrpSpPr>
            <p:cNvPr id="156" name=""/>
            <p:cNvGrpSpPr/>
            <p:nvPr/>
          </p:nvGrpSpPr>
          <p:grpSpPr>
            <a:xfrm>
              <a:off x="1828800" y="990360"/>
              <a:ext cx="2286000" cy="1143000"/>
              <a:chOff x="1828800" y="990360"/>
              <a:chExt cx="2286000" cy="1143000"/>
            </a:xfrm>
          </p:grpSpPr>
          <p:sp>
            <p:nvSpPr>
              <p:cNvPr id="157" name=""/>
              <p:cNvSpPr/>
              <p:nvPr/>
            </p:nvSpPr>
            <p:spPr>
              <a:xfrm>
                <a:off x="1828800" y="990360"/>
                <a:ext cx="2209680" cy="1143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057400" y="1218960"/>
                <a:ext cx="205740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  </a:t>
                </a: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微地址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形成电路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76320" y="990360"/>
              <a:ext cx="114300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I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320" y="1676160"/>
              <a:ext cx="114300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PS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320" y="2590560"/>
              <a:ext cx="114300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P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752840" y="2590560"/>
              <a:ext cx="2361960" cy="977760"/>
              <a:chOff x="1752840" y="2590560"/>
              <a:chExt cx="2361960" cy="977760"/>
            </a:xfrm>
          </p:grpSpPr>
          <p:sp>
            <p:nvSpPr>
              <p:cNvPr id="163" name=""/>
              <p:cNvSpPr/>
              <p:nvPr/>
            </p:nvSpPr>
            <p:spPr>
              <a:xfrm>
                <a:off x="1752840" y="2590560"/>
                <a:ext cx="2361960" cy="520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微地址寄存器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514600" y="304776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µAR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4648320" y="75960"/>
              <a:ext cx="4495680" cy="3504960"/>
              <a:chOff x="4648320" y="75960"/>
              <a:chExt cx="4495680" cy="350496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4724280" y="2361960"/>
                <a:ext cx="4419720" cy="1218960"/>
                <a:chOff x="4724280" y="2361960"/>
                <a:chExt cx="4419720" cy="121896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724280" y="2361960"/>
                  <a:ext cx="3429000" cy="1218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486400" y="2819160"/>
                  <a:ext cx="2133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cc"/>
                      </a:solidFill>
                      <a:latin typeface="Times New Roman"/>
                      <a:ea typeface="黑体"/>
                    </a:rPr>
                    <a:t>控制存储器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153280" y="2819160"/>
                  <a:ext cx="990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00"/>
                      </a:solidFill>
                      <a:latin typeface="Times New Roman"/>
                    </a:rPr>
                    <a:t>CM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4648320" y="761760"/>
                <a:ext cx="1904760" cy="520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    </a:t>
                </a: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译码器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24280" y="7596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黑体"/>
                  </a:rPr>
                  <a:t>微命令序列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4648320" y="1599840"/>
                <a:ext cx="4495680" cy="520560"/>
                <a:chOff x="4648320" y="1599840"/>
                <a:chExt cx="4495680" cy="52056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4648320" y="1599840"/>
                  <a:ext cx="3504960" cy="459720"/>
                  <a:chOff x="4648320" y="1599840"/>
                  <a:chExt cx="3504960" cy="4597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>
                    <a:off x="4648320" y="1599840"/>
                    <a:ext cx="3504960" cy="45972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cc"/>
                        </a:solidFill>
                        <a:latin typeface="黑体"/>
                        <a:ea typeface="黑体"/>
                      </a:rPr>
                      <a:t>微命令字段 微地址字段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6324480" y="159984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" name=""/>
                <p:cNvSpPr/>
                <p:nvPr/>
              </p:nvSpPr>
              <p:spPr>
                <a:xfrm>
                  <a:off x="8153280" y="1599840"/>
                  <a:ext cx="990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00"/>
                      </a:solidFill>
                      <a:latin typeface="Times New Roman"/>
                    </a:rPr>
                    <a:t>µIR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 flipV="1">
                <a:off x="5486400" y="2056680"/>
                <a:ext cx="0" cy="304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7315200" y="2056680"/>
                <a:ext cx="0" cy="304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5638680" y="1294560"/>
                <a:ext cx="0" cy="304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4724280" y="380160"/>
                <a:ext cx="0" cy="381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6477120" y="380160"/>
                <a:ext cx="0" cy="381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952880" y="609120"/>
                <a:ext cx="1295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4114800" y="2819160"/>
              <a:ext cx="609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343400" y="1600200"/>
              <a:ext cx="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038840" y="160020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95840" y="213336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19320" y="1218960"/>
              <a:ext cx="609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19320" y="1904760"/>
              <a:ext cx="609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95840" y="0"/>
              <a:ext cx="434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39240" y="0"/>
              <a:ext cx="0" cy="1600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5840" y="0"/>
              <a:ext cx="0" cy="99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371600" y="4495680"/>
            <a:ext cx="441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存放现行微指令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5105520"/>
            <a:ext cx="3124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微命令字段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5105520"/>
            <a:ext cx="60199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提供一步操作所需的微命令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6019920"/>
            <a:ext cx="3124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微地址字段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525780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579132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5715000"/>
            <a:ext cx="60199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指明后续微地址的形成方式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324480"/>
            <a:ext cx="60199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提供微地址的给定部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5486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66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fcc66"/>
                </a:solidFill>
                <a:latin typeface="黑体"/>
                <a:ea typeface="黑体"/>
              </a:rPr>
              <a:t>微操作控制字段</a:t>
            </a:r>
            <a:r>
              <a:rPr b="1" lang="zh-CN" sz="2400" spc="-1" strike="noStrike">
                <a:solidFill>
                  <a:srgbClr val="ffcc66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6400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66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fcc66"/>
                </a:solidFill>
                <a:latin typeface="黑体"/>
                <a:ea typeface="黑体"/>
              </a:rPr>
              <a:t>顺序控制字段</a:t>
            </a:r>
            <a:r>
              <a:rPr b="1" lang="zh-CN" sz="2400" spc="-1" strike="noStrike">
                <a:solidFill>
                  <a:srgbClr val="ffcc66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3886200"/>
            <a:ext cx="55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微地址形成电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4495680"/>
            <a:ext cx="1676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功能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6320" y="0"/>
            <a:ext cx="9067680" cy="3580920"/>
            <a:chOff x="76320" y="0"/>
            <a:chExt cx="9067680" cy="3580920"/>
          </a:xfrm>
        </p:grpSpPr>
        <p:grpSp>
          <p:nvGrpSpPr>
            <p:cNvPr id="205" name=""/>
            <p:cNvGrpSpPr/>
            <p:nvPr/>
          </p:nvGrpSpPr>
          <p:grpSpPr>
            <a:xfrm>
              <a:off x="1828800" y="990360"/>
              <a:ext cx="2286000" cy="1143000"/>
              <a:chOff x="1828800" y="990360"/>
              <a:chExt cx="2286000" cy="1143000"/>
            </a:xfrm>
          </p:grpSpPr>
          <p:sp>
            <p:nvSpPr>
              <p:cNvPr id="206" name=""/>
              <p:cNvSpPr/>
              <p:nvPr/>
            </p:nvSpPr>
            <p:spPr>
              <a:xfrm>
                <a:off x="1828800" y="990360"/>
                <a:ext cx="2209680" cy="1143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57400" y="1218960"/>
                <a:ext cx="205740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  </a:t>
                </a: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微地址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形成电路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76320" y="990360"/>
              <a:ext cx="114300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I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320" y="1676160"/>
              <a:ext cx="114300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PS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320" y="2590560"/>
              <a:ext cx="114300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P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1752840" y="2590560"/>
              <a:ext cx="2361960" cy="977760"/>
              <a:chOff x="1752840" y="2590560"/>
              <a:chExt cx="2361960" cy="977760"/>
            </a:xfrm>
          </p:grpSpPr>
          <p:sp>
            <p:nvSpPr>
              <p:cNvPr id="212" name=""/>
              <p:cNvSpPr/>
              <p:nvPr/>
            </p:nvSpPr>
            <p:spPr>
              <a:xfrm>
                <a:off x="1752840" y="2590560"/>
                <a:ext cx="2361960" cy="520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微地址寄存器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514600" y="304776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µAR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4648320" y="75960"/>
              <a:ext cx="4495680" cy="3504960"/>
              <a:chOff x="4648320" y="75960"/>
              <a:chExt cx="4495680" cy="350496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724280" y="2361960"/>
                <a:ext cx="4419720" cy="1218960"/>
                <a:chOff x="4724280" y="2361960"/>
                <a:chExt cx="4419720" cy="1218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724280" y="2361960"/>
                  <a:ext cx="3429000" cy="1218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486400" y="2819160"/>
                  <a:ext cx="2133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cc"/>
                      </a:solidFill>
                      <a:latin typeface="Times New Roman"/>
                      <a:ea typeface="黑体"/>
                    </a:rPr>
                    <a:t>控制存储器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153280" y="2819160"/>
                  <a:ext cx="990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00"/>
                      </a:solidFill>
                      <a:latin typeface="Times New Roman"/>
                    </a:rPr>
                    <a:t>CM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>
                <a:off x="4648320" y="761760"/>
                <a:ext cx="1904760" cy="520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    </a:t>
                </a: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译码器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724280" y="7596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黑体"/>
                  </a:rPr>
                  <a:t>微命令序列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4648320" y="1599840"/>
                <a:ext cx="4495680" cy="520560"/>
                <a:chOff x="4648320" y="1599840"/>
                <a:chExt cx="4495680" cy="520560"/>
              </a:xfrm>
            </p:grpSpPr>
            <p:grpSp>
              <p:nvGrpSpPr>
                <p:cNvPr id="222" name=""/>
                <p:cNvGrpSpPr/>
                <p:nvPr/>
              </p:nvGrpSpPr>
              <p:grpSpPr>
                <a:xfrm>
                  <a:off x="4648320" y="1599840"/>
                  <a:ext cx="3504960" cy="459720"/>
                  <a:chOff x="4648320" y="1599840"/>
                  <a:chExt cx="3504960" cy="45972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4648320" y="1599840"/>
                    <a:ext cx="3504960" cy="45972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cc"/>
                        </a:solidFill>
                        <a:latin typeface="黑体"/>
                        <a:ea typeface="黑体"/>
                      </a:rPr>
                      <a:t>微命令字段 微地址字段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6324480" y="159984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153280" y="1599840"/>
                  <a:ext cx="990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00"/>
                      </a:solidFill>
                      <a:latin typeface="Times New Roman"/>
                    </a:rPr>
                    <a:t>µIR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 flipV="1">
                <a:off x="5486400" y="2056680"/>
                <a:ext cx="0" cy="304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7315200" y="2056680"/>
                <a:ext cx="0" cy="304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5638680" y="1294560"/>
                <a:ext cx="0" cy="304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4724280" y="380160"/>
                <a:ext cx="0" cy="381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6477120" y="380160"/>
                <a:ext cx="0" cy="381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952880" y="609120"/>
                <a:ext cx="1295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4114800" y="2819160"/>
              <a:ext cx="609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343400" y="1600200"/>
              <a:ext cx="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038840" y="160020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840" y="213336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19320" y="1218960"/>
              <a:ext cx="609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19320" y="1904760"/>
              <a:ext cx="609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95840" y="0"/>
              <a:ext cx="434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39240" y="0"/>
              <a:ext cx="0" cy="1600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95840" y="0"/>
              <a:ext cx="0" cy="99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371600" y="4495680"/>
            <a:ext cx="441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提供两类微地址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5105520"/>
            <a:ext cx="4267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微程序入口地址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1120" y="5105520"/>
            <a:ext cx="5410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由机器指令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操作码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形成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5791320"/>
            <a:ext cx="312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后续微地址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518148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29000" y="5791320"/>
            <a:ext cx="60199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由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微地址字段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现行微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址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运行状态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等形成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3886200"/>
            <a:ext cx="3505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工作过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52280" y="0"/>
            <a:ext cx="9068040" cy="3581280"/>
            <a:chOff x="152280" y="0"/>
            <a:chExt cx="9068040" cy="3581280"/>
          </a:xfrm>
        </p:grpSpPr>
        <p:grpSp>
          <p:nvGrpSpPr>
            <p:cNvPr id="249" name=""/>
            <p:cNvGrpSpPr/>
            <p:nvPr/>
          </p:nvGrpSpPr>
          <p:grpSpPr>
            <a:xfrm>
              <a:off x="1905120" y="990720"/>
              <a:ext cx="2286000" cy="1143000"/>
              <a:chOff x="1905120" y="990720"/>
              <a:chExt cx="2286000" cy="1143000"/>
            </a:xfrm>
          </p:grpSpPr>
          <p:sp>
            <p:nvSpPr>
              <p:cNvPr id="250" name=""/>
              <p:cNvSpPr/>
              <p:nvPr/>
            </p:nvSpPr>
            <p:spPr>
              <a:xfrm>
                <a:off x="1905120" y="990720"/>
                <a:ext cx="2209680" cy="1143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133720" y="1219320"/>
                <a:ext cx="205740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  </a:t>
                </a: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微地址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形成电路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152280" y="990720"/>
              <a:ext cx="114300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I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2280" y="1676520"/>
              <a:ext cx="114300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PS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2280" y="2590920"/>
              <a:ext cx="114300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P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1828800" y="2590920"/>
              <a:ext cx="2361960" cy="977760"/>
              <a:chOff x="1828800" y="2590920"/>
              <a:chExt cx="2361960" cy="9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1828800" y="2590920"/>
                <a:ext cx="2361960" cy="520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微地址寄存器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590560" y="304812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µAR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00600" y="2362320"/>
              <a:ext cx="3429000" cy="1218960"/>
              <a:chOff x="4800600" y="2362320"/>
              <a:chExt cx="3429000" cy="1218960"/>
            </a:xfrm>
          </p:grpSpPr>
          <p:sp>
            <p:nvSpPr>
              <p:cNvPr id="259" name=""/>
              <p:cNvSpPr/>
              <p:nvPr/>
            </p:nvSpPr>
            <p:spPr>
              <a:xfrm>
                <a:off x="4800600" y="2362320"/>
                <a:ext cx="3429000" cy="1218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562720" y="2819520"/>
                <a:ext cx="2133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控制存储器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8229600" y="281952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C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280" y="762120"/>
              <a:ext cx="1905120" cy="520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译码器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00600" y="763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微命令序列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724280" y="1600200"/>
              <a:ext cx="4495680" cy="520560"/>
              <a:chOff x="4724280" y="1600200"/>
              <a:chExt cx="4495680" cy="520560"/>
            </a:xfrm>
          </p:grpSpPr>
          <p:grpSp>
            <p:nvGrpSpPr>
              <p:cNvPr id="265" name=""/>
              <p:cNvGrpSpPr/>
              <p:nvPr/>
            </p:nvGrpSpPr>
            <p:grpSpPr>
              <a:xfrm>
                <a:off x="4724280" y="1600200"/>
                <a:ext cx="3504960" cy="459720"/>
                <a:chOff x="4724280" y="1600200"/>
                <a:chExt cx="3504960" cy="4597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4724280" y="1600200"/>
                  <a:ext cx="3504960" cy="4597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cc"/>
                      </a:solidFill>
                      <a:latin typeface="黑体"/>
                      <a:ea typeface="黑体"/>
                    </a:rPr>
                    <a:t>微命令字段 微地址字段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400440" y="160020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8" name=""/>
              <p:cNvSpPr/>
              <p:nvPr/>
            </p:nvSpPr>
            <p:spPr>
              <a:xfrm>
                <a:off x="8229240" y="1600200"/>
                <a:ext cx="99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µIR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 flipV="1">
              <a:off x="5562720" y="2057040"/>
              <a:ext cx="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7391520" y="2057040"/>
              <a:ext cx="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715000" y="1294920"/>
              <a:ext cx="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4800600" y="380520"/>
              <a:ext cx="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6553080" y="380520"/>
              <a:ext cx="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29200" y="609480"/>
              <a:ext cx="129528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91120" y="2819520"/>
              <a:ext cx="60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4419720" y="1599840"/>
              <a:ext cx="0" cy="121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4114440" y="160020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71800" y="213372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1219320"/>
              <a:ext cx="609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95280" y="1905120"/>
              <a:ext cx="609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971800" y="0"/>
              <a:ext cx="434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15200" y="0"/>
              <a:ext cx="0" cy="1600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71800" y="0"/>
              <a:ext cx="0" cy="99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 flipV="1" rot="10800000">
            <a:off x="4800240" y="2438280"/>
            <a:ext cx="3429000" cy="392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取指微指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4495680"/>
            <a:ext cx="5410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取机器指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5257800"/>
            <a:ext cx="1523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C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 rot="10800000">
            <a:off x="685800" y="5028480"/>
            <a:ext cx="274464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取指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微指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54864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5257800"/>
            <a:ext cx="1218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µ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800600" y="2362320"/>
            <a:ext cx="3429000" cy="1218960"/>
            <a:chOff x="4800600" y="2362320"/>
            <a:chExt cx="3429000" cy="1218960"/>
          </a:xfrm>
        </p:grpSpPr>
        <p:sp>
          <p:nvSpPr>
            <p:cNvPr id="291" name=""/>
            <p:cNvSpPr/>
            <p:nvPr/>
          </p:nvSpPr>
          <p:spPr>
            <a:xfrm>
              <a:off x="4800600" y="2362320"/>
              <a:ext cx="3429000" cy="1218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62720" y="2819520"/>
              <a:ext cx="2133360" cy="520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控制存储器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V="1" rot="10800000">
            <a:off x="4800240" y="2438280"/>
            <a:ext cx="3429000" cy="392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取指微指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562720" y="205704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7391520" y="205704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724280" y="1600200"/>
            <a:ext cx="3504960" cy="459720"/>
            <a:chOff x="4724280" y="1600200"/>
            <a:chExt cx="3504960" cy="459720"/>
          </a:xfrm>
        </p:grpSpPr>
        <p:sp>
          <p:nvSpPr>
            <p:cNvPr id="297" name=""/>
            <p:cNvSpPr/>
            <p:nvPr/>
          </p:nvSpPr>
          <p:spPr>
            <a:xfrm>
              <a:off x="4724280" y="1600200"/>
              <a:ext cx="3504960" cy="459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微命令字段 微地址字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00440" y="1600200"/>
              <a:ext cx="0" cy="4572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 flipV="1">
            <a:off x="5715000" y="129492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24280" y="762120"/>
            <a:ext cx="190512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译码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4800600" y="38052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6553080" y="38052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29200" y="60948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00600" y="76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微命令序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280" y="990720"/>
            <a:ext cx="11430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429000" y="5486400"/>
            <a:ext cx="22096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429000" y="49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微命令字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8680" y="51814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译码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562720" y="20570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391520" y="20570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4800600" y="2362320"/>
            <a:ext cx="3429000" cy="1218960"/>
            <a:chOff x="4800600" y="2362320"/>
            <a:chExt cx="3429000" cy="1218960"/>
          </a:xfrm>
        </p:grpSpPr>
        <p:sp>
          <p:nvSpPr>
            <p:cNvPr id="312" name=""/>
            <p:cNvSpPr/>
            <p:nvPr/>
          </p:nvSpPr>
          <p:spPr>
            <a:xfrm>
              <a:off x="4800600" y="2362320"/>
              <a:ext cx="3429000" cy="1218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62720" y="2819520"/>
              <a:ext cx="213336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控制存储器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6934320" y="4952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微命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10280" y="548640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77320" y="52117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主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610480" y="5791320"/>
            <a:ext cx="0" cy="609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6934320" y="6400800"/>
            <a:ext cx="16761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34320" y="5867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机器指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724280" y="1600200"/>
            <a:ext cx="3504960" cy="459720"/>
            <a:chOff x="4724280" y="1600200"/>
            <a:chExt cx="3504960" cy="459720"/>
          </a:xfrm>
        </p:grpSpPr>
        <p:sp>
          <p:nvSpPr>
            <p:cNvPr id="321" name=""/>
            <p:cNvSpPr/>
            <p:nvPr/>
          </p:nvSpPr>
          <p:spPr>
            <a:xfrm>
              <a:off x="4724280" y="1600200"/>
              <a:ext cx="350496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微命令字段 微地址字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00440" y="1600200"/>
              <a:ext cx="0" cy="4572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 flipV="1">
            <a:off x="5715000" y="12949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248520" y="6172200"/>
            <a:ext cx="1218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24280" y="762120"/>
            <a:ext cx="19051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译码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800600" y="38052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29200" y="609480"/>
            <a:ext cx="129528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553080" y="38052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76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微命令序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50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3733920"/>
            <a:ext cx="5410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转微程序入口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4572000"/>
            <a:ext cx="1523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 rot="10800000">
            <a:off x="685800" y="4342680"/>
            <a:ext cx="274464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操作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4800600"/>
            <a:ext cx="12193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05120" y="4419720"/>
            <a:ext cx="1752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微地址形成电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505320" y="4800600"/>
            <a:ext cx="990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505320" y="4267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入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5680" y="4419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µ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43000" y="5867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微命令字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10080" y="480060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43600" y="44197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C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6552720" y="4800600"/>
            <a:ext cx="16765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477120" y="4191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首条微指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76320" y="0"/>
            <a:ext cx="9067320" cy="3581280"/>
            <a:chOff x="76320" y="0"/>
            <a:chExt cx="9067320" cy="3581280"/>
          </a:xfrm>
        </p:grpSpPr>
        <p:grpSp>
          <p:nvGrpSpPr>
            <p:cNvPr id="344" name=""/>
            <p:cNvGrpSpPr/>
            <p:nvPr/>
          </p:nvGrpSpPr>
          <p:grpSpPr>
            <a:xfrm>
              <a:off x="76320" y="0"/>
              <a:ext cx="9067320" cy="3581280"/>
              <a:chOff x="76320" y="0"/>
              <a:chExt cx="9067320" cy="3581280"/>
            </a:xfrm>
          </p:grpSpPr>
          <p:grpSp>
            <p:nvGrpSpPr>
              <p:cNvPr id="345" name=""/>
              <p:cNvGrpSpPr/>
              <p:nvPr/>
            </p:nvGrpSpPr>
            <p:grpSpPr>
              <a:xfrm>
                <a:off x="1828800" y="990720"/>
                <a:ext cx="2285280" cy="1143000"/>
                <a:chOff x="1828800" y="990720"/>
                <a:chExt cx="2285280" cy="114300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1828800" y="990720"/>
                  <a:ext cx="2209320" cy="11430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057040" y="1219320"/>
                  <a:ext cx="2057040" cy="82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6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cc"/>
                      </a:solidFill>
                      <a:latin typeface="Times New Roman"/>
                      <a:ea typeface="黑体"/>
                    </a:rPr>
                    <a:t>  </a:t>
                  </a:r>
                  <a:r>
                    <a:rPr b="1" lang="zh-CN" sz="2800" spc="-1" strike="noStrike">
                      <a:solidFill>
                        <a:srgbClr val="0000cc"/>
                      </a:solidFill>
                      <a:latin typeface="Times New Roman"/>
                      <a:ea typeface="黑体"/>
                    </a:rPr>
                    <a:t>微地址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6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cc"/>
                      </a:solidFill>
                      <a:latin typeface="Times New Roman"/>
                      <a:ea typeface="黑体"/>
                    </a:rPr>
                    <a:t>形成电路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" name=""/>
              <p:cNvSpPr/>
              <p:nvPr/>
            </p:nvSpPr>
            <p:spPr>
              <a:xfrm>
                <a:off x="76320" y="990720"/>
                <a:ext cx="1142640" cy="459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Times New Roman"/>
                  </a:rPr>
                  <a:t>    </a:t>
                </a:r>
                <a:r>
                  <a:rPr b="1" lang="en-US" sz="2400" spc="-1" strike="noStrike">
                    <a:solidFill>
                      <a:srgbClr val="0000cc"/>
                    </a:solidFill>
                    <a:latin typeface="Times New Roman"/>
                  </a:rPr>
                  <a:t>I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6320" y="1676520"/>
                <a:ext cx="1142640" cy="459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0000cc"/>
                    </a:solidFill>
                    <a:latin typeface="Times New Roman"/>
                  </a:rPr>
                  <a:t>PSW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6320" y="2590920"/>
                <a:ext cx="1142640" cy="459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Times New Roman"/>
                  </a:rPr>
                  <a:t>   </a:t>
                </a:r>
                <a:r>
                  <a:rPr b="1" lang="en-US" sz="2400" spc="-1" strike="noStrike">
                    <a:solidFill>
                      <a:srgbClr val="0000cc"/>
                    </a:solidFill>
                    <a:latin typeface="Times New Roman"/>
                  </a:rPr>
                  <a:t>P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1" name=""/>
              <p:cNvGrpSpPr/>
              <p:nvPr/>
            </p:nvGrpSpPr>
            <p:grpSpPr>
              <a:xfrm>
                <a:off x="1752480" y="2590920"/>
                <a:ext cx="2361960" cy="977760"/>
                <a:chOff x="1752480" y="2590920"/>
                <a:chExt cx="2361960" cy="97776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1752480" y="2590920"/>
                  <a:ext cx="2361960" cy="5205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cc"/>
                      </a:solidFill>
                      <a:latin typeface="Times New Roman"/>
                      <a:ea typeface="黑体"/>
                    </a:rPr>
                    <a:t>微地址寄存器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514240" y="3048120"/>
                  <a:ext cx="1219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00"/>
                      </a:solidFill>
                      <a:latin typeface="Times New Roman"/>
                    </a:rPr>
                    <a:t> </a:t>
                  </a:r>
                  <a:r>
                    <a:rPr b="1" lang="en-US" sz="2800" spc="-1" strike="noStrike">
                      <a:solidFill>
                        <a:srgbClr val="ffff00"/>
                      </a:solidFill>
                      <a:latin typeface="Times New Roman"/>
                    </a:rPr>
                    <a:t>µAR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4724280" y="2362320"/>
                <a:ext cx="3428640" cy="1218960"/>
                <a:chOff x="4724280" y="2362320"/>
                <a:chExt cx="3428640" cy="121896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4724280" y="2362320"/>
                  <a:ext cx="3428640" cy="1218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5486040" y="2819520"/>
                  <a:ext cx="213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cc"/>
                      </a:solidFill>
                      <a:latin typeface="Times New Roman"/>
                      <a:ea typeface="黑体"/>
                    </a:rPr>
                    <a:t>控制存储器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8153280" y="2819520"/>
                <a:ext cx="99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CM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647960" y="762120"/>
                <a:ext cx="1904760" cy="520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    </a:t>
                </a: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译码器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24280" y="76320"/>
                <a:ext cx="190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黑体"/>
                  </a:rPr>
                  <a:t>微命令序列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4647960" y="1600200"/>
                <a:ext cx="4495680" cy="520560"/>
                <a:chOff x="4647960" y="1600200"/>
                <a:chExt cx="4495680" cy="520560"/>
              </a:xfrm>
            </p:grpSpPr>
            <p:grpSp>
              <p:nvGrpSpPr>
                <p:cNvPr id="361" name=""/>
                <p:cNvGrpSpPr/>
                <p:nvPr/>
              </p:nvGrpSpPr>
              <p:grpSpPr>
                <a:xfrm>
                  <a:off x="4647960" y="1600200"/>
                  <a:ext cx="3504960" cy="459720"/>
                  <a:chOff x="4647960" y="1600200"/>
                  <a:chExt cx="3504960" cy="45972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>
                    <a:off x="4647960" y="1600200"/>
                    <a:ext cx="3504960" cy="45972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cc"/>
                        </a:solidFill>
                        <a:latin typeface="黑体"/>
                        <a:ea typeface="黑体"/>
                      </a:rPr>
                      <a:t>微命令字段 微地址字段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6324120" y="160020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4" name=""/>
                <p:cNvSpPr/>
                <p:nvPr/>
              </p:nvSpPr>
              <p:spPr>
                <a:xfrm>
                  <a:off x="8152920" y="1600200"/>
                  <a:ext cx="990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00"/>
                      </a:solidFill>
                      <a:latin typeface="Times New Roman"/>
                    </a:rPr>
                    <a:t>µIR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5" name=""/>
              <p:cNvSpPr/>
              <p:nvPr/>
            </p:nvSpPr>
            <p:spPr>
              <a:xfrm flipV="1">
                <a:off x="5486400" y="2057040"/>
                <a:ext cx="0" cy="304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7315200" y="2057040"/>
                <a:ext cx="0" cy="304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5638680" y="1294920"/>
                <a:ext cx="0" cy="304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4724280" y="380520"/>
                <a:ext cx="0" cy="381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6476760" y="380520"/>
                <a:ext cx="0" cy="381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952880" y="609480"/>
                <a:ext cx="1294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114800" y="2819520"/>
                <a:ext cx="6091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4343400" y="1599840"/>
                <a:ext cx="0" cy="1219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4038480" y="1600200"/>
                <a:ext cx="304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895480" y="21337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218960" y="1219320"/>
                <a:ext cx="609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218960" y="1905120"/>
                <a:ext cx="609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895480" y="0"/>
                <a:ext cx="4343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238880" y="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895480" y="0"/>
                <a:ext cx="0" cy="99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 flipV="1" rot="10800000">
              <a:off x="4724280" y="2438280"/>
              <a:ext cx="3428640" cy="392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取指微指令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4724280" y="2362320"/>
              <a:ext cx="3428640" cy="1218960"/>
              <a:chOff x="4724280" y="2362320"/>
              <a:chExt cx="3428640" cy="1218960"/>
            </a:xfrm>
          </p:grpSpPr>
          <p:sp>
            <p:nvSpPr>
              <p:cNvPr id="382" name=""/>
              <p:cNvSpPr/>
              <p:nvPr/>
            </p:nvSpPr>
            <p:spPr>
              <a:xfrm>
                <a:off x="4724280" y="2362320"/>
                <a:ext cx="3428640" cy="12189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486040" y="2819520"/>
                <a:ext cx="2133000" cy="5205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控制存储器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 flipV="1" rot="10800000">
              <a:off x="4724280" y="2438280"/>
              <a:ext cx="3428640" cy="392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取指微指令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5486400" y="205704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7315200" y="205704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4647960" y="1600200"/>
              <a:ext cx="3504960" cy="459720"/>
              <a:chOff x="4647960" y="1600200"/>
              <a:chExt cx="3504960" cy="459720"/>
            </a:xfrm>
          </p:grpSpPr>
          <p:sp>
            <p:nvSpPr>
              <p:cNvPr id="388" name=""/>
              <p:cNvSpPr/>
              <p:nvPr/>
            </p:nvSpPr>
            <p:spPr>
              <a:xfrm>
                <a:off x="4647960" y="1600200"/>
                <a:ext cx="3504960" cy="4597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微命令字段 微地址字段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324120" y="1600200"/>
                <a:ext cx="0" cy="45720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 flipV="1">
              <a:off x="5638680" y="129492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47960" y="762120"/>
              <a:ext cx="1904760" cy="520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译码器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4724280" y="38052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476760" y="38052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52880" y="609480"/>
              <a:ext cx="12949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724280" y="7632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微命令序列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320" y="990720"/>
              <a:ext cx="1142640" cy="459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I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5486400" y="2057040"/>
              <a:ext cx="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7315200" y="2057040"/>
              <a:ext cx="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4724280" y="2362320"/>
              <a:ext cx="3428640" cy="1218960"/>
              <a:chOff x="4724280" y="2362320"/>
              <a:chExt cx="3428640" cy="1218960"/>
            </a:xfrm>
          </p:grpSpPr>
          <p:sp>
            <p:nvSpPr>
              <p:cNvPr id="400" name=""/>
              <p:cNvSpPr/>
              <p:nvPr/>
            </p:nvSpPr>
            <p:spPr>
              <a:xfrm>
                <a:off x="4724280" y="2362320"/>
                <a:ext cx="3428640" cy="1218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486040" y="2819520"/>
                <a:ext cx="2133000" cy="5205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控制存储器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4647960" y="1600200"/>
              <a:ext cx="3504960" cy="459720"/>
              <a:chOff x="4647960" y="1600200"/>
              <a:chExt cx="3504960" cy="459720"/>
            </a:xfrm>
          </p:grpSpPr>
          <p:sp>
            <p:nvSpPr>
              <p:cNvPr id="403" name=""/>
              <p:cNvSpPr/>
              <p:nvPr/>
            </p:nvSpPr>
            <p:spPr>
              <a:xfrm>
                <a:off x="4647960" y="1600200"/>
                <a:ext cx="3504960" cy="459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微命令字段 微地址字段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324120" y="1600200"/>
                <a:ext cx="0" cy="45720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 flipV="1">
              <a:off x="5638680" y="1294920"/>
              <a:ext cx="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47960" y="762120"/>
              <a:ext cx="1904760" cy="520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译码器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4724280" y="380520"/>
              <a:ext cx="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952880" y="609480"/>
              <a:ext cx="129492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476760" y="380520"/>
              <a:ext cx="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24280" y="7632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微命令序列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1219320" y="12193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1828800" y="990720"/>
            <a:ext cx="2209680" cy="1143000"/>
            <a:chOff x="1828800" y="990720"/>
            <a:chExt cx="2209680" cy="1143000"/>
          </a:xfrm>
        </p:grpSpPr>
        <p:sp>
          <p:nvSpPr>
            <p:cNvPr id="413" name=""/>
            <p:cNvSpPr/>
            <p:nvPr/>
          </p:nvSpPr>
          <p:spPr>
            <a:xfrm>
              <a:off x="1828800" y="990720"/>
              <a:ext cx="2209680" cy="1143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57400" y="1219320"/>
              <a:ext cx="1981080" cy="82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微地址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形成电路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6320" y="990720"/>
            <a:ext cx="1143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19320" y="1219320"/>
            <a:ext cx="6094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95480" y="21337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52480" y="2590920"/>
            <a:ext cx="236232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微地址寄存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828800" y="990720"/>
            <a:ext cx="2286000" cy="1143000"/>
            <a:chOff x="1828800" y="990720"/>
            <a:chExt cx="2286000" cy="1143000"/>
          </a:xfrm>
        </p:grpSpPr>
        <p:sp>
          <p:nvSpPr>
            <p:cNvPr id="420" name=""/>
            <p:cNvSpPr/>
            <p:nvPr/>
          </p:nvSpPr>
          <p:spPr>
            <a:xfrm>
              <a:off x="1828800" y="990720"/>
              <a:ext cx="2209680" cy="1143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057400" y="1219320"/>
              <a:ext cx="205740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微地址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形成电路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2895480" y="2133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114800" y="28195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4724280" y="2362320"/>
            <a:ext cx="3429000" cy="1218960"/>
            <a:chOff x="4724280" y="2362320"/>
            <a:chExt cx="3429000" cy="1218960"/>
          </a:xfrm>
        </p:grpSpPr>
        <p:sp>
          <p:nvSpPr>
            <p:cNvPr id="425" name=""/>
            <p:cNvSpPr/>
            <p:nvPr/>
          </p:nvSpPr>
          <p:spPr>
            <a:xfrm>
              <a:off x="4724280" y="2362320"/>
              <a:ext cx="3429000" cy="1218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86400" y="2819520"/>
              <a:ext cx="2133360" cy="520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控制存储器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1752480" y="2590920"/>
            <a:ext cx="23623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微地址寄存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14800" y="28195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5486400" y="205704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7315200" y="205704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4648320" y="1600200"/>
            <a:ext cx="3504960" cy="459720"/>
            <a:chOff x="4648320" y="1600200"/>
            <a:chExt cx="3504960" cy="459720"/>
          </a:xfrm>
        </p:grpSpPr>
        <p:sp>
          <p:nvSpPr>
            <p:cNvPr id="432" name=""/>
            <p:cNvSpPr/>
            <p:nvPr/>
          </p:nvSpPr>
          <p:spPr>
            <a:xfrm>
              <a:off x="4648320" y="1600200"/>
              <a:ext cx="3504960" cy="459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微命令字段 微地址字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324480" y="1600200"/>
              <a:ext cx="0" cy="4572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0" y="5181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执行首条微指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4724280" y="2362320"/>
            <a:ext cx="3429000" cy="1218960"/>
            <a:chOff x="4724280" y="2362320"/>
            <a:chExt cx="3429000" cy="1218960"/>
          </a:xfrm>
        </p:grpSpPr>
        <p:sp>
          <p:nvSpPr>
            <p:cNvPr id="436" name=""/>
            <p:cNvSpPr/>
            <p:nvPr/>
          </p:nvSpPr>
          <p:spPr>
            <a:xfrm>
              <a:off x="4724280" y="2362320"/>
              <a:ext cx="3429000" cy="1218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86400" y="2819520"/>
              <a:ext cx="213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控制存储器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 flipV="1">
            <a:off x="5486400" y="20570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7315200" y="20570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5638680" y="129492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48320" y="762120"/>
            <a:ext cx="190476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译码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153280" y="4419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µ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28600" y="6064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µ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19320" y="6477120"/>
            <a:ext cx="1828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24080" y="6095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译码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648320" y="1600200"/>
            <a:ext cx="3504960" cy="459720"/>
            <a:chOff x="4648320" y="1600200"/>
            <a:chExt cx="3504960" cy="459720"/>
          </a:xfrm>
        </p:grpSpPr>
        <p:sp>
          <p:nvSpPr>
            <p:cNvPr id="447" name=""/>
            <p:cNvSpPr/>
            <p:nvPr/>
          </p:nvSpPr>
          <p:spPr>
            <a:xfrm>
              <a:off x="4648320" y="1600200"/>
              <a:ext cx="350496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微命令字段 微地址字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24480" y="1600200"/>
              <a:ext cx="0" cy="4572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 flipV="1">
            <a:off x="5638680" y="12949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724280" y="38052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477120" y="38052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609480"/>
            <a:ext cx="1295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724280" y="76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微命令序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48320" y="58672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微命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0" y="6477120"/>
            <a:ext cx="1447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5880" y="6095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操作部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500"/>
                            </p:stCondLst>
                            <p:childTnLst>
                              <p:par>
                                <p:cTn id="5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152280" y="0"/>
            <a:ext cx="9067680" cy="3580920"/>
            <a:chOff x="152280" y="0"/>
            <a:chExt cx="9067680" cy="3580920"/>
          </a:xfrm>
        </p:grpSpPr>
        <p:grpSp>
          <p:nvGrpSpPr>
            <p:cNvPr id="458" name=""/>
            <p:cNvGrpSpPr/>
            <p:nvPr/>
          </p:nvGrpSpPr>
          <p:grpSpPr>
            <a:xfrm>
              <a:off x="1904760" y="990360"/>
              <a:ext cx="2286000" cy="1143000"/>
              <a:chOff x="1904760" y="990360"/>
              <a:chExt cx="2286000" cy="1143000"/>
            </a:xfrm>
          </p:grpSpPr>
          <p:sp>
            <p:nvSpPr>
              <p:cNvPr id="459" name=""/>
              <p:cNvSpPr/>
              <p:nvPr/>
            </p:nvSpPr>
            <p:spPr>
              <a:xfrm>
                <a:off x="1904760" y="990360"/>
                <a:ext cx="2209680" cy="1143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133360" y="1218960"/>
                <a:ext cx="205740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  </a:t>
                </a: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微地址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形成电路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152280" y="990360"/>
              <a:ext cx="114300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I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280" y="1676160"/>
              <a:ext cx="114300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PS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2280" y="2590560"/>
              <a:ext cx="114300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P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1828800" y="2590560"/>
              <a:ext cx="2361960" cy="977760"/>
              <a:chOff x="1828800" y="2590560"/>
              <a:chExt cx="2361960" cy="977760"/>
            </a:xfrm>
          </p:grpSpPr>
          <p:sp>
            <p:nvSpPr>
              <p:cNvPr id="465" name=""/>
              <p:cNvSpPr/>
              <p:nvPr/>
            </p:nvSpPr>
            <p:spPr>
              <a:xfrm>
                <a:off x="1828800" y="2590560"/>
                <a:ext cx="2361960" cy="520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微地址寄存器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590560" y="304776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µAR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4724280" y="75960"/>
              <a:ext cx="4495680" cy="3504960"/>
              <a:chOff x="4724280" y="75960"/>
              <a:chExt cx="4495680" cy="3504960"/>
            </a:xfrm>
          </p:grpSpPr>
          <p:grpSp>
            <p:nvGrpSpPr>
              <p:cNvPr id="468" name=""/>
              <p:cNvGrpSpPr/>
              <p:nvPr/>
            </p:nvGrpSpPr>
            <p:grpSpPr>
              <a:xfrm>
                <a:off x="4800240" y="2361960"/>
                <a:ext cx="4419720" cy="1218960"/>
                <a:chOff x="4800240" y="2361960"/>
                <a:chExt cx="4419720" cy="121896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4800240" y="2361960"/>
                  <a:ext cx="3429000" cy="1218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562360" y="2819160"/>
                  <a:ext cx="2133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cc"/>
                      </a:solidFill>
                      <a:latin typeface="Times New Roman"/>
                      <a:ea typeface="黑体"/>
                    </a:rPr>
                    <a:t>控制存储器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8229240" y="2819160"/>
                  <a:ext cx="990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00"/>
                      </a:solidFill>
                      <a:latin typeface="Times New Roman"/>
                    </a:rPr>
                    <a:t>CM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4724280" y="761760"/>
                <a:ext cx="1904760" cy="520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    </a:t>
                </a: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译码器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800240" y="7596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黑体"/>
                  </a:rPr>
                  <a:t>微命令序列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4724280" y="1599840"/>
                <a:ext cx="4495680" cy="520560"/>
                <a:chOff x="4724280" y="1599840"/>
                <a:chExt cx="4495680" cy="520560"/>
              </a:xfrm>
            </p:grpSpPr>
            <p:grpSp>
              <p:nvGrpSpPr>
                <p:cNvPr id="475" name=""/>
                <p:cNvGrpSpPr/>
                <p:nvPr/>
              </p:nvGrpSpPr>
              <p:grpSpPr>
                <a:xfrm>
                  <a:off x="4724280" y="1599840"/>
                  <a:ext cx="3504960" cy="459720"/>
                  <a:chOff x="4724280" y="1599840"/>
                  <a:chExt cx="3504960" cy="45972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4724280" y="1599840"/>
                    <a:ext cx="3504960" cy="45972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cc"/>
                        </a:solidFill>
                        <a:latin typeface="黑体"/>
                        <a:ea typeface="黑体"/>
                      </a:rPr>
                      <a:t>微命令字段 微地址字段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6400440" y="159984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8" name=""/>
                <p:cNvSpPr/>
                <p:nvPr/>
              </p:nvSpPr>
              <p:spPr>
                <a:xfrm>
                  <a:off x="8229240" y="1599840"/>
                  <a:ext cx="990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00"/>
                      </a:solidFill>
                      <a:latin typeface="Times New Roman"/>
                    </a:rPr>
                    <a:t>µIR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9" name=""/>
              <p:cNvSpPr/>
              <p:nvPr/>
            </p:nvSpPr>
            <p:spPr>
              <a:xfrm flipV="1">
                <a:off x="5562360" y="2056680"/>
                <a:ext cx="0" cy="304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160" y="2056680"/>
                <a:ext cx="0" cy="304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5714640" y="1294560"/>
                <a:ext cx="0" cy="304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4800240" y="380160"/>
                <a:ext cx="0" cy="381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>
                <a:off x="6553080" y="380160"/>
                <a:ext cx="0" cy="381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28840" y="609120"/>
                <a:ext cx="1295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4190760" y="2819160"/>
              <a:ext cx="609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4419360" y="1600200"/>
              <a:ext cx="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4114800" y="160020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971800" y="213336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295280" y="1218960"/>
              <a:ext cx="609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295280" y="1904760"/>
              <a:ext cx="609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971800" y="0"/>
              <a:ext cx="434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15200" y="0"/>
              <a:ext cx="0" cy="1600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971800" y="0"/>
              <a:ext cx="0" cy="99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0" y="3886200"/>
            <a:ext cx="5410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取后续微指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 rot="10800000">
            <a:off x="0" y="4647600"/>
            <a:ext cx="274464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微地址字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现行微地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运行状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86000" y="5334120"/>
            <a:ext cx="838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048120" y="4952880"/>
            <a:ext cx="18288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微地址形成电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4724280" y="1600200"/>
            <a:ext cx="3504960" cy="459720"/>
            <a:chOff x="4724280" y="1600200"/>
            <a:chExt cx="3504960" cy="459720"/>
          </a:xfrm>
        </p:grpSpPr>
        <p:sp>
          <p:nvSpPr>
            <p:cNvPr id="499" name=""/>
            <p:cNvSpPr/>
            <p:nvPr/>
          </p:nvSpPr>
          <p:spPr>
            <a:xfrm>
              <a:off x="4724280" y="1600200"/>
              <a:ext cx="3504960" cy="459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微命令字段 微地址字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00440" y="1600200"/>
              <a:ext cx="0" cy="4572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7315200" y="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71800" y="0"/>
            <a:ext cx="4343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71800" y="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52280" y="1676520"/>
            <a:ext cx="11430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PS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295280" y="1905120"/>
            <a:ext cx="6098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828800" y="2590920"/>
            <a:ext cx="236232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微地址寄存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191120" y="28195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419720" y="1599840"/>
            <a:ext cx="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4114440" y="160020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1905120" y="990720"/>
            <a:ext cx="2209680" cy="1143000"/>
            <a:chOff x="1905120" y="990720"/>
            <a:chExt cx="2209680" cy="1143000"/>
          </a:xfrm>
        </p:grpSpPr>
        <p:sp>
          <p:nvSpPr>
            <p:cNvPr id="511" name=""/>
            <p:cNvSpPr/>
            <p:nvPr/>
          </p:nvSpPr>
          <p:spPr>
            <a:xfrm>
              <a:off x="1905120" y="990720"/>
              <a:ext cx="2209680" cy="1143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133720" y="1219320"/>
              <a:ext cx="1981080" cy="82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微地址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形成电路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1981080" y="480060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4724280" y="1600200"/>
            <a:ext cx="3504960" cy="459720"/>
            <a:chOff x="4724280" y="1600200"/>
            <a:chExt cx="3504960" cy="459720"/>
          </a:xfrm>
        </p:grpSpPr>
        <p:sp>
          <p:nvSpPr>
            <p:cNvPr id="515" name=""/>
            <p:cNvSpPr/>
            <p:nvPr/>
          </p:nvSpPr>
          <p:spPr>
            <a:xfrm>
              <a:off x="4724280" y="1600200"/>
              <a:ext cx="350496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微命令字段 微地址字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00440" y="1600200"/>
              <a:ext cx="0" cy="4572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7315200" y="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971800" y="0"/>
            <a:ext cx="434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52280" y="1676520"/>
            <a:ext cx="1143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PS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295280" y="19051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828800" y="2590920"/>
            <a:ext cx="23623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微地址寄存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91120" y="28195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4419720" y="1599840"/>
            <a:ext cx="0" cy="1219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4114440" y="1600200"/>
            <a:ext cx="304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971800" y="21337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828800" y="2590920"/>
            <a:ext cx="236232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微地址寄存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76920" y="5334120"/>
            <a:ext cx="2133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47242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后续微地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010280" y="49528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µ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905120" y="990720"/>
            <a:ext cx="2286000" cy="1143000"/>
            <a:chOff x="1905120" y="990720"/>
            <a:chExt cx="2286000" cy="1143000"/>
          </a:xfrm>
        </p:grpSpPr>
        <p:sp>
          <p:nvSpPr>
            <p:cNvPr id="532" name=""/>
            <p:cNvSpPr/>
            <p:nvPr/>
          </p:nvSpPr>
          <p:spPr>
            <a:xfrm>
              <a:off x="1905120" y="990720"/>
              <a:ext cx="2209680" cy="1143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133720" y="1219320"/>
              <a:ext cx="205740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微地址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形成电路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2971800" y="2133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91120" y="28195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4800600" y="2362320"/>
            <a:ext cx="3429000" cy="1218960"/>
            <a:chOff x="4800600" y="2362320"/>
            <a:chExt cx="3429000" cy="1218960"/>
          </a:xfrm>
        </p:grpSpPr>
        <p:sp>
          <p:nvSpPr>
            <p:cNvPr id="537" name=""/>
            <p:cNvSpPr/>
            <p:nvPr/>
          </p:nvSpPr>
          <p:spPr>
            <a:xfrm>
              <a:off x="4800600" y="2362320"/>
              <a:ext cx="3429000" cy="1218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62720" y="2819520"/>
              <a:ext cx="2133360" cy="520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控制存储器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7467480" y="5562720"/>
            <a:ext cx="0" cy="6094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238880" y="60199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C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029200" y="57913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后续微指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029200" y="6400800"/>
            <a:ext cx="21337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14800" y="60642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µ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828800" y="2590920"/>
            <a:ext cx="23623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微地址寄存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191120" y="28195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4724280" y="1600200"/>
            <a:ext cx="3504960" cy="459720"/>
            <a:chOff x="4724280" y="1600200"/>
            <a:chExt cx="3504960" cy="459720"/>
          </a:xfrm>
        </p:grpSpPr>
        <p:sp>
          <p:nvSpPr>
            <p:cNvPr id="547" name=""/>
            <p:cNvSpPr/>
            <p:nvPr/>
          </p:nvSpPr>
          <p:spPr>
            <a:xfrm>
              <a:off x="4724280" y="1600200"/>
              <a:ext cx="3504960" cy="459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微命令字段 微地址字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00440" y="1600200"/>
              <a:ext cx="0" cy="4572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 flipV="1">
            <a:off x="5562720" y="205704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7391520" y="205704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5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500"/>
                            </p:stCondLst>
                            <p:childTnLst>
                              <p:par>
                                <p:cTn id="7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2500"/>
                            </p:stCondLst>
                            <p:childTnLst>
                              <p:par>
                                <p:cTn id="7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3000"/>
                            </p:stCondLst>
                            <p:childTnLst>
                              <p:par>
                                <p:cTn id="7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35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40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4500"/>
                            </p:stCondLst>
                            <p:childTnLst>
                              <p:par>
                                <p:cTn id="7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500"/>
                            </p:stCondLst>
                            <p:childTnLst>
                              <p:par>
                                <p:cTn id="7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000"/>
                            </p:stCondLst>
                            <p:childTnLst>
                              <p:par>
                                <p:cTn id="7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2000"/>
                            </p:stCondLst>
                            <p:childTnLst>
                              <p:par>
                                <p:cTn id="8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3886200"/>
            <a:ext cx="5410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执行后续微指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 rot="10800000">
            <a:off x="0" y="4494600"/>
            <a:ext cx="2744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同（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152280" y="0"/>
            <a:ext cx="9067680" cy="3580920"/>
            <a:chOff x="152280" y="0"/>
            <a:chExt cx="9067680" cy="3580920"/>
          </a:xfrm>
        </p:grpSpPr>
        <p:grpSp>
          <p:nvGrpSpPr>
            <p:cNvPr id="554" name=""/>
            <p:cNvGrpSpPr/>
            <p:nvPr/>
          </p:nvGrpSpPr>
          <p:grpSpPr>
            <a:xfrm>
              <a:off x="152280" y="0"/>
              <a:ext cx="9067680" cy="3580920"/>
              <a:chOff x="152280" y="0"/>
              <a:chExt cx="9067680" cy="3580920"/>
            </a:xfrm>
          </p:grpSpPr>
          <p:grpSp>
            <p:nvGrpSpPr>
              <p:cNvPr id="555" name=""/>
              <p:cNvGrpSpPr/>
              <p:nvPr/>
            </p:nvGrpSpPr>
            <p:grpSpPr>
              <a:xfrm>
                <a:off x="1904760" y="990360"/>
                <a:ext cx="2286000" cy="1143000"/>
                <a:chOff x="1904760" y="990360"/>
                <a:chExt cx="2286000" cy="114300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1904760" y="990360"/>
                  <a:ext cx="2209680" cy="11430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133360" y="1218960"/>
                  <a:ext cx="2057400" cy="82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6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cc"/>
                      </a:solidFill>
                      <a:latin typeface="Times New Roman"/>
                      <a:ea typeface="黑体"/>
                    </a:rPr>
                    <a:t>  </a:t>
                  </a:r>
                  <a:r>
                    <a:rPr b="1" lang="zh-CN" sz="2800" spc="-1" strike="noStrike">
                      <a:solidFill>
                        <a:srgbClr val="0000cc"/>
                      </a:solidFill>
                      <a:latin typeface="Times New Roman"/>
                      <a:ea typeface="黑体"/>
                    </a:rPr>
                    <a:t>微地址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6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cc"/>
                      </a:solidFill>
                      <a:latin typeface="Times New Roman"/>
                      <a:ea typeface="黑体"/>
                    </a:rPr>
                    <a:t>形成电路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8" name=""/>
              <p:cNvSpPr/>
              <p:nvPr/>
            </p:nvSpPr>
            <p:spPr>
              <a:xfrm>
                <a:off x="152280" y="990360"/>
                <a:ext cx="1143000" cy="459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Times New Roman"/>
                  </a:rPr>
                  <a:t>    </a:t>
                </a:r>
                <a:r>
                  <a:rPr b="1" lang="en-US" sz="2400" spc="-1" strike="noStrike">
                    <a:solidFill>
                      <a:srgbClr val="0000cc"/>
                    </a:solidFill>
                    <a:latin typeface="Times New Roman"/>
                  </a:rPr>
                  <a:t>I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52280" y="1676160"/>
                <a:ext cx="1143000" cy="459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0000cc"/>
                    </a:solidFill>
                    <a:latin typeface="Times New Roman"/>
                  </a:rPr>
                  <a:t>PSW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52280" y="2590560"/>
                <a:ext cx="1143000" cy="459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Times New Roman"/>
                  </a:rPr>
                  <a:t>   </a:t>
                </a:r>
                <a:r>
                  <a:rPr b="1" lang="en-US" sz="2400" spc="-1" strike="noStrike">
                    <a:solidFill>
                      <a:srgbClr val="0000cc"/>
                    </a:solidFill>
                    <a:latin typeface="Times New Roman"/>
                  </a:rPr>
                  <a:t>P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61" name=""/>
              <p:cNvGrpSpPr/>
              <p:nvPr/>
            </p:nvGrpSpPr>
            <p:grpSpPr>
              <a:xfrm>
                <a:off x="1828800" y="2590560"/>
                <a:ext cx="2361960" cy="977760"/>
                <a:chOff x="1828800" y="2590560"/>
                <a:chExt cx="2361960" cy="97776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1828800" y="2590560"/>
                  <a:ext cx="2361960" cy="5205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cc"/>
                      </a:solidFill>
                      <a:latin typeface="Times New Roman"/>
                      <a:ea typeface="黑体"/>
                    </a:rPr>
                    <a:t>微地址寄存器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590560" y="3047760"/>
                  <a:ext cx="1219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00"/>
                      </a:solidFill>
                      <a:latin typeface="Times New Roman"/>
                    </a:rPr>
                    <a:t> </a:t>
                  </a:r>
                  <a:r>
                    <a:rPr b="1" lang="en-US" sz="2800" spc="-1" strike="noStrike">
                      <a:solidFill>
                        <a:srgbClr val="ffff00"/>
                      </a:solidFill>
                      <a:latin typeface="Times New Roman"/>
                    </a:rPr>
                    <a:t>µAR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4724280" y="75960"/>
                <a:ext cx="4495680" cy="3504960"/>
                <a:chOff x="4724280" y="75960"/>
                <a:chExt cx="4495680" cy="3504960"/>
              </a:xfrm>
            </p:grpSpPr>
            <p:grpSp>
              <p:nvGrpSpPr>
                <p:cNvPr id="565" name=""/>
                <p:cNvGrpSpPr/>
                <p:nvPr/>
              </p:nvGrpSpPr>
              <p:grpSpPr>
                <a:xfrm>
                  <a:off x="4800240" y="2361960"/>
                  <a:ext cx="4419720" cy="1218960"/>
                  <a:chOff x="4800240" y="2361960"/>
                  <a:chExt cx="4419720" cy="121896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4800240" y="2361960"/>
                    <a:ext cx="3429000" cy="121896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5562360" y="2819160"/>
                    <a:ext cx="2133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cc"/>
                        </a:solidFill>
                        <a:latin typeface="Times New Roman"/>
                        <a:ea typeface="黑体"/>
                      </a:rPr>
                      <a:t>控制存储器</a:t>
                    </a: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8229240" y="2819160"/>
                    <a:ext cx="990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CM</a:t>
                    </a: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9" name=""/>
                <p:cNvSpPr/>
                <p:nvPr/>
              </p:nvSpPr>
              <p:spPr>
                <a:xfrm>
                  <a:off x="4724280" y="761760"/>
                  <a:ext cx="1904760" cy="5205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cc"/>
                      </a:solidFill>
                      <a:latin typeface="Times New Roman"/>
                      <a:ea typeface="黑体"/>
                    </a:rPr>
                    <a:t>    </a:t>
                  </a:r>
                  <a:r>
                    <a:rPr b="1" lang="zh-CN" sz="2800" spc="-1" strike="noStrike">
                      <a:solidFill>
                        <a:srgbClr val="0000cc"/>
                      </a:solidFill>
                      <a:latin typeface="Times New Roman"/>
                      <a:ea typeface="黑体"/>
                    </a:rPr>
                    <a:t>译码器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800240" y="75960"/>
                  <a:ext cx="1905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微命令序列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4724280" y="1599840"/>
                  <a:ext cx="4495680" cy="520560"/>
                  <a:chOff x="4724280" y="1599840"/>
                  <a:chExt cx="4495680" cy="520560"/>
                </a:xfrm>
              </p:grpSpPr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4724280" y="1599840"/>
                    <a:ext cx="3504960" cy="459720"/>
                    <a:chOff x="4724280" y="1599840"/>
                    <a:chExt cx="3504960" cy="459720"/>
                  </a:xfrm>
                </p:grpSpPr>
                <p:sp>
                  <p:nvSpPr>
                    <p:cNvPr id="573" name=""/>
                    <p:cNvSpPr/>
                    <p:nvPr/>
                  </p:nvSpPr>
                  <p:spPr>
                    <a:xfrm>
                      <a:off x="4724280" y="1599840"/>
                      <a:ext cx="3504960" cy="459720"/>
                    </a:xfrm>
                    <a:prstGeom prst="rect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黑体"/>
                          <a:ea typeface="黑体"/>
                        </a:rPr>
                        <a:t>微命令字段 微地址字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6400440" y="1599840"/>
                      <a:ext cx="0" cy="457200"/>
                    </a:xfrm>
                    <a:prstGeom prst="line">
                      <a:avLst/>
                    </a:prstGeom>
                    <a:ln w="38160">
                      <a:solidFill>
                        <a:srgbClr val="00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75" name=""/>
                  <p:cNvSpPr/>
                  <p:nvPr/>
                </p:nvSpPr>
                <p:spPr>
                  <a:xfrm>
                    <a:off x="8229240" y="1599840"/>
                    <a:ext cx="990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µIR</a:t>
                    </a: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6" name=""/>
                <p:cNvSpPr/>
                <p:nvPr/>
              </p:nvSpPr>
              <p:spPr>
                <a:xfrm flipV="1">
                  <a:off x="5562360" y="2056680"/>
                  <a:ext cx="0" cy="3049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V="1">
                  <a:off x="7391160" y="2056680"/>
                  <a:ext cx="0" cy="3049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flipV="1">
                  <a:off x="5714640" y="1294560"/>
                  <a:ext cx="0" cy="3049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flipV="1">
                  <a:off x="4800240" y="380160"/>
                  <a:ext cx="0" cy="381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flipV="1">
                  <a:off x="6553080" y="380160"/>
                  <a:ext cx="0" cy="381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5028840" y="609120"/>
                  <a:ext cx="129564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>
                <a:off x="4190760" y="2819160"/>
                <a:ext cx="6098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4419360" y="1600200"/>
                <a:ext cx="0" cy="121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4114800" y="1600200"/>
                <a:ext cx="304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971800" y="213336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95280" y="1218960"/>
                <a:ext cx="609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295280" y="1904760"/>
                <a:ext cx="609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971800" y="0"/>
                <a:ext cx="43434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315200" y="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971800" y="0"/>
                <a:ext cx="0" cy="990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4724280" y="1600200"/>
              <a:ext cx="3504960" cy="459720"/>
              <a:chOff x="4724280" y="1600200"/>
              <a:chExt cx="3504960" cy="459720"/>
            </a:xfrm>
          </p:grpSpPr>
          <p:sp>
            <p:nvSpPr>
              <p:cNvPr id="592" name=""/>
              <p:cNvSpPr/>
              <p:nvPr/>
            </p:nvSpPr>
            <p:spPr>
              <a:xfrm>
                <a:off x="4724280" y="1600200"/>
                <a:ext cx="3504960" cy="4597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微命令字段 微地址字段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400440" y="1600200"/>
                <a:ext cx="0" cy="45720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7315200" y="0"/>
              <a:ext cx="0" cy="1600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71800" y="0"/>
              <a:ext cx="4343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971800" y="0"/>
              <a:ext cx="0" cy="99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52280" y="1676520"/>
              <a:ext cx="1143000" cy="459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PS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295280" y="19051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28800" y="2590920"/>
              <a:ext cx="2362320" cy="520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微地址寄存器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91120" y="281952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4419720" y="1599840"/>
              <a:ext cx="0" cy="1219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4114440" y="160020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1905120" y="990720"/>
              <a:ext cx="2209680" cy="1143000"/>
              <a:chOff x="1905120" y="990720"/>
              <a:chExt cx="2209680" cy="1143000"/>
            </a:xfrm>
          </p:grpSpPr>
          <p:sp>
            <p:nvSpPr>
              <p:cNvPr id="604" name=""/>
              <p:cNvSpPr/>
              <p:nvPr/>
            </p:nvSpPr>
            <p:spPr>
              <a:xfrm>
                <a:off x="1905120" y="990720"/>
                <a:ext cx="2209680" cy="1143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133720" y="1219320"/>
                <a:ext cx="1981080" cy="828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  </a:t>
                </a: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微地址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形成电路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4724280" y="1600200"/>
              <a:ext cx="3504960" cy="459720"/>
              <a:chOff x="4724280" y="1600200"/>
              <a:chExt cx="3504960" cy="459720"/>
            </a:xfrm>
          </p:grpSpPr>
          <p:sp>
            <p:nvSpPr>
              <p:cNvPr id="607" name=""/>
              <p:cNvSpPr/>
              <p:nvPr/>
            </p:nvSpPr>
            <p:spPr>
              <a:xfrm>
                <a:off x="4724280" y="1600200"/>
                <a:ext cx="3504960" cy="459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微命令字段 微地址字段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400440" y="1600200"/>
                <a:ext cx="0" cy="45720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7315200" y="0"/>
              <a:ext cx="0" cy="1600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71800" y="0"/>
              <a:ext cx="434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971800" y="0"/>
              <a:ext cx="0" cy="99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52280" y="1676520"/>
              <a:ext cx="114300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PS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295280" y="1905120"/>
              <a:ext cx="609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828800" y="2590920"/>
              <a:ext cx="2362320" cy="520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微地址寄存器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191120" y="2819520"/>
              <a:ext cx="60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4419720" y="1599840"/>
              <a:ext cx="0" cy="121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4114440" y="160020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971800" y="2133720"/>
              <a:ext cx="0" cy="45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2590920"/>
              <a:ext cx="2362320" cy="520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微地址寄存器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1905120" y="990720"/>
              <a:ext cx="2286000" cy="1143000"/>
              <a:chOff x="1905120" y="990720"/>
              <a:chExt cx="2286000" cy="1143000"/>
            </a:xfrm>
          </p:grpSpPr>
          <p:sp>
            <p:nvSpPr>
              <p:cNvPr id="621" name=""/>
              <p:cNvSpPr/>
              <p:nvPr/>
            </p:nvSpPr>
            <p:spPr>
              <a:xfrm>
                <a:off x="1905120" y="990720"/>
                <a:ext cx="2209680" cy="1143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133720" y="1219320"/>
                <a:ext cx="205740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  </a:t>
                </a: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微地址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形成电路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3" name=""/>
            <p:cNvSpPr/>
            <p:nvPr/>
          </p:nvSpPr>
          <p:spPr>
            <a:xfrm>
              <a:off x="2971800" y="213372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91120" y="281952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590920"/>
              <a:ext cx="2362320" cy="520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微地址寄存器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191120" y="2819520"/>
              <a:ext cx="60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4724280" y="1600200"/>
              <a:ext cx="3504960" cy="459720"/>
              <a:chOff x="4724280" y="1600200"/>
              <a:chExt cx="3504960" cy="459720"/>
            </a:xfrm>
          </p:grpSpPr>
          <p:sp>
            <p:nvSpPr>
              <p:cNvPr id="628" name=""/>
              <p:cNvSpPr/>
              <p:nvPr/>
            </p:nvSpPr>
            <p:spPr>
              <a:xfrm>
                <a:off x="4724280" y="1600200"/>
                <a:ext cx="3504960" cy="4597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微命令字段 微地址字段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400440" y="1600200"/>
                <a:ext cx="0" cy="45720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0" name=""/>
          <p:cNvSpPr/>
          <p:nvPr/>
        </p:nvSpPr>
        <p:spPr>
          <a:xfrm>
            <a:off x="0" y="5105520"/>
            <a:ext cx="3505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返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5791320"/>
            <a:ext cx="5410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微程序执行完，返回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C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800600" y="56386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存放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取指微指令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的固定单元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0" y="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4.2.3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微指令格式和编码方法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762120"/>
            <a:ext cx="3048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格式分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1295280"/>
            <a:ext cx="55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垂直型微指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2514600"/>
            <a:ext cx="1676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优点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4952880"/>
            <a:ext cx="9829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一条微指令定义并执行几种并行的基本操作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371600" y="2554200"/>
            <a:ext cx="89154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微指令短、简单、规整，便于编写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程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3733920"/>
            <a:ext cx="1676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缺点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371600" y="3733920"/>
            <a:ext cx="853452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微程序长，执行速度慢；工作效率低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4343400"/>
            <a:ext cx="55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水平型微指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190512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一条微指令定义并执行一种基本操作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5562720"/>
            <a:ext cx="2209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优点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6172200"/>
            <a:ext cx="1676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缺点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371600" y="6172200"/>
            <a:ext cx="762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微指令长，编写微程序较麻烦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371600" y="5562720"/>
            <a:ext cx="6248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微程序短，执行速度快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9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9" dur="5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4" dur="500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4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微程序 控制器</cp:keywords>
  <dc:language>en-US</dc:language>
  <cp:lastModifiedBy/>
  <cp:revision>0</cp:revision>
  <dc:subject/>
  <dc:title/>
</cp:coreProperties>
</file>