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B26-2EE3-4C2E-816E-99111470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703-6EFA-48CE-9441-CD99C4C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7D0-C1AC-4338-9E5A-1876A1A7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753-E9F5-4241-B296-7EC1BA7D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A0BA-98D1-4E29-810B-8B619EBB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8C6B-6349-40ED-BB01-5ED4CCA9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775-6029-4095-B9C5-1695B136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146-9F08-4AD6-9D33-1E055ECC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C80F-A066-405B-9EF5-C731447A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5837-BE2F-4A15-83CF-E92FEEA5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E722-6246-4ABF-B4B0-810A8DB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BBA-5E94-4180-8046-379C906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68CB-E32C-423A-B157-CA74391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31D6-5E25-454E-8B66-DB5F404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CB7C-8E67-45E2-98BE-C76DAFAE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56BA-94C2-4922-8FD1-A9BAFB75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05E-5DEB-4CAA-BD74-B5B3DBC5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47F-CDD9-4ECC-AA12-F71005C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C9A-C65C-4466-AC13-5AAAB84F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298-AD75-4128-966F-C7DD1B2E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166-BED1-44EE-BAB0-EFE43EF8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C79-0544-440C-AB7A-EDA392C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436-04C1-4188-8622-BF31EE6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D1E-82A2-409A-910D-494DDCF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452-3E35-40A5-95CB-A65C86E1B37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E6A-C8BE-478C-AF60-36AB759D7D96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11280" y="3933720"/>
            <a:ext cx="8064360" cy="849240"/>
          </a:xfrm>
          <a:prstGeom prst="horizontalScroll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974880"/>
            <a:ext cx="86868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  <a:ea typeface="黑体"/>
              </a:rPr>
              <a:t>网络蠕虫灾害及其应急处理的新特点</a:t>
            </a:r>
            <a:br>
              <a:rPr sz="4800"/>
            </a:b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EE31-585B-4934-9E13-7F3474D86F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冲击波”蠕虫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启动响应，向各运营商与合作单位与国外组织发送警报和应对措施、交换信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启动针对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DDoS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的数据分析，与各组织保持密切联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发现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MSBlast.Rem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到目前发现感染数目超过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CB3-DEED-4274-90E7-1BBCD06754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Verdana"/>
              </a:rPr>
              <a:t>当前网络安全事件的特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病毒、蠕虫和其他攻击行为互相融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传统病毒的特点：隐蔽性、传染性、破坏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病毒的本质特点：‘寄生’，而不是独立的程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蠕虫的特点：独立存在，自主蔓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更广泛的名称：恶意代码（还包括木马程序等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互联网的发展为各种恶意代码提供了更多的机会，传统的分类界限日渐模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</a:rPr>
              <a:t>传统的方法是否还适用于解决当今恶意代码的问题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</a:rPr>
              <a:t>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70D-3B11-46D3-8AF3-C01ADE919787}" type="slidenum">
              <a:t>11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存在的主要问题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法律法规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垃圾邮件、恶意代码、扫描、隔离、用户权利和义务、刑法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8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条的局限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组织体系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重要部门和行业尚没有建立专门的应急组织、国家应急体系尚不健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协调机制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协调处理机制比较欠缺，跨网、跨部门处理难度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服务规范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应急处理服务规范亟待建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产品技术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关键性的、高指标要求的专门产品和技术尚不过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数据收集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缺乏数据汇集渠道与综合分析能力，缺乏各种必要的基础资源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人力资源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缺乏各种层次的专业队伍，用户安全意识差（漏洞等问题无法根除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5D4-8A48-4FA9-8284-916C3228FE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5560"/>
            <a:ext cx="7848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网络蠕虫事件和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SARS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的比较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现实世界中的一切问题，都会反映到网络世界中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SARS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和网络蠕虫具有很大的相似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传播特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危害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应对措施（发现异常、初步分析、报警、隔离、分析、治疗；信息共享、统一协调、国际合作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法律、媒体的作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不同之处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病人”不自知；隔离缺乏法律依据或技术手段；应急缺乏成熟体系和工作制度…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感染对象的不确定性中包含确定性因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CB3-C069-4BAA-B09B-1BBAA9B9618C}" type="slidenum">
              <a:t>13</a:t>
            </a:fld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2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4" dur="1" fill="hold"/>
                                  <p:tgtEl>
                                    <p:spTgt spid="23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5" dur="1" fill="hold"/>
                                  <p:tgtEl>
                                    <p:spTgt spid="2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现状与危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002680" y="1752480"/>
            <a:ext cx="365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否真正知道我国的网络中正在发生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3800" y="2895480"/>
            <a:ext cx="347256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否掌握国家网络空间安全的真实状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04640" y="3581280"/>
            <a:ext cx="365544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否掌握国家可能面临什么样的网络危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7360" y="4724280"/>
            <a:ext cx="31068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国家信息化发展的相关决策缺乏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70840" y="5410080"/>
            <a:ext cx="34725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信息化及其安全保障的计划可能陷入盲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7360" y="6095880"/>
            <a:ext cx="31068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缺乏准备，将来可能导致灾难性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9208400">
            <a:off x="798480" y="2209320"/>
            <a:ext cx="617400" cy="2186280"/>
          </a:xfrm>
          <a:custGeom>
            <a:avLst/>
            <a:gdLst>
              <a:gd name="textAreaLeft" fmla="*/ 82440 w 617400"/>
              <a:gd name="textAreaRight" fmla="*/ 534960 w 617400"/>
              <a:gd name="textAreaTop" fmla="*/ 382320 h 2186280"/>
              <a:gd name="textAreaBottom" fmla="*/ 1585080 h 218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8400">
            <a:off x="1905120" y="4267080"/>
            <a:ext cx="796680" cy="2271960"/>
          </a:xfrm>
          <a:custGeom>
            <a:avLst/>
            <a:gdLst>
              <a:gd name="textAreaLeft" fmla="*/ 106560 w 796680"/>
              <a:gd name="textAreaRight" fmla="*/ 690120 w 796680"/>
              <a:gd name="textAreaTop" fmla="*/ 397440 h 2271960"/>
              <a:gd name="textAreaBottom" fmla="*/ 1647360 h 22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B8E-7E97-4A4B-8F18-B9CE7D681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从宏观的角度看应急处理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842920" y="2852640"/>
            <a:ext cx="5832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应急处理……………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E077-BC45-4DA9-8DB1-FBB34D78AD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事件处理的一般阶段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一阶段：准备——让我们严阵以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二阶段：确认——对情况综合判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三阶段：封锁——制止事态的扩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四阶段：根除——彻底的补救措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五阶段：恢复——备份，顶上去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六阶段：跟踪——还会有第二次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46C-AF55-44E9-BF50-0C20551D88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正确理解应急响应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299736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如何理解应急响应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4C2-E299-441A-AFAE-9A44BC831D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52480" y="1295280"/>
            <a:ext cx="59436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072a"/>
                </a:solidFill>
                <a:latin typeface="뿷玜쉔 _x0001_"/>
              </a:rPr>
              <a:t>应急工作的十六字方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971800" y="4495680"/>
            <a:ext cx="380988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UpPour">
              <a:avLst>
                <a:gd name="adj1" fmla="val 11805157"/>
                <a:gd name="adj2" fmla="val 7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积极预防——风险评估，安全等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057400" y="3809880"/>
            <a:ext cx="5638680" cy="3200400"/>
            <a:chOff x="2057400" y="3809880"/>
            <a:chExt cx="5638680" cy="3200400"/>
          </a:xfrm>
        </p:grpSpPr>
        <p:sp>
          <p:nvSpPr>
            <p:cNvPr id="255" name=""/>
            <p:cNvSpPr txBox="1"/>
            <p:nvPr/>
          </p:nvSpPr>
          <p:spPr>
            <a:xfrm>
              <a:off x="2743200" y="4419720"/>
              <a:ext cx="4343400" cy="2590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2021950"/>
                  <a:gd name="adj2" fmla="val 76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99cc"/>
                  </a:solidFill>
                  <a:latin typeface="宋体"/>
                </a:rPr>
                <a:t>及时发现——入侵检测，通报机制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latin typeface="宋体"/>
                <a:ea typeface="宋体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057400" y="3809880"/>
              <a:ext cx="5638680" cy="304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805157"/>
                  <a:gd name="adj2" fmla="val 78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00"/>
                  </a:solidFill>
                  <a:latin typeface="宋体"/>
                </a:rPr>
                <a:t>积极预防——风险评估，安全等级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600200" y="2889360"/>
            <a:ext cx="6553080" cy="3962160"/>
            <a:chOff x="1600200" y="2889360"/>
            <a:chExt cx="6553080" cy="3962160"/>
          </a:xfrm>
        </p:grpSpPr>
        <p:sp>
          <p:nvSpPr>
            <p:cNvPr id="258" name=""/>
            <p:cNvSpPr txBox="1"/>
            <p:nvPr/>
          </p:nvSpPr>
          <p:spPr>
            <a:xfrm>
              <a:off x="3048120" y="4108320"/>
              <a:ext cx="3886200" cy="1752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014356"/>
                  <a:gd name="adj2" fmla="val 711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快速反应——迅即救助</a:t>
              </a: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,</a:t>
              </a: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有效反击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600200" y="2889360"/>
              <a:ext cx="6553080" cy="3352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805157"/>
                  <a:gd name="adj2" fmla="val 78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00"/>
                  </a:solidFill>
                  <a:latin typeface="宋体"/>
                </a:rPr>
                <a:t>积极预防——风险评估，安全等级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  <a:ea typeface="宋体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981080" y="3498840"/>
              <a:ext cx="5715000" cy="3352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2021950"/>
                  <a:gd name="adj2" fmla="val 76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99cc"/>
                  </a:solidFill>
                  <a:latin typeface="宋体"/>
                </a:rPr>
                <a:t>及时发现——入侵检测，通报机制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62120" y="2438280"/>
            <a:ext cx="8001000" cy="4567320"/>
            <a:chOff x="762120" y="2438280"/>
            <a:chExt cx="8001000" cy="4567320"/>
          </a:xfrm>
        </p:grpSpPr>
        <p:sp>
          <p:nvSpPr>
            <p:cNvPr id="262" name=""/>
            <p:cNvSpPr txBox="1"/>
            <p:nvPr/>
          </p:nvSpPr>
          <p:spPr>
            <a:xfrm>
              <a:off x="2971800" y="4572000"/>
              <a:ext cx="3962520" cy="1519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0712370"/>
                  <a:gd name="adj2" fmla="val 621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66ffff"/>
                  </a:solidFill>
                  <a:latin typeface="宋体"/>
                </a:rPr>
                <a:t>确保恢复——起死回生</a:t>
              </a: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66ffff"/>
                  </a:solidFill>
                  <a:latin typeface="宋体"/>
                </a:rPr>
                <a:t>,</a:t>
              </a:r>
              <a:r>
                <a:rPr b="0" lang="zh-CN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66ffff"/>
                  </a:solidFill>
                  <a:latin typeface="宋体"/>
                </a:rPr>
                <a:t>系统备份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latin typeface="宋体"/>
                <a:ea typeface="宋体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62120" y="2438280"/>
              <a:ext cx="8001000" cy="403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805157"/>
                  <a:gd name="adj2" fmla="val 78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00"/>
                  </a:solidFill>
                  <a:latin typeface="宋体"/>
                </a:rPr>
                <a:t>积极预防——风险评估，安全等级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  <a:ea typeface="宋体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447920" y="3119400"/>
              <a:ext cx="6781680" cy="388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2021950"/>
                  <a:gd name="adj2" fmla="val 76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99cc"/>
                  </a:solidFill>
                  <a:latin typeface="宋体"/>
                </a:rPr>
                <a:t>及时发现——入侵检测，通报机制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latin typeface="宋体"/>
                <a:ea typeface="宋体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14600" y="3886200"/>
              <a:ext cx="4648320" cy="23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014356"/>
                  <a:gd name="adj2" fmla="val 711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快速反应——迅即救助</a:t>
              </a: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,</a:t>
              </a: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有效反击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914400" y="5410080"/>
            <a:ext cx="7924680" cy="1289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13320" y="5181480"/>
            <a:ext cx="2482560" cy="1447920"/>
          </a:xfrm>
          <a:prstGeom prst="cloudCallout">
            <a:avLst>
              <a:gd name="adj1" fmla="val -12212"/>
              <a:gd name="adj2" fmla="val 4277"/>
            </a:avLst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特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962520" y="5943600"/>
            <a:ext cx="1828800" cy="70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A6F-1D5C-488D-BA4E-3C02112E2B4A}" type="slidenum">
              <a:t>18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国际联动：应急响应组织和体系的建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314172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响应组织体系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958A-EB17-4CF1-86CE-6C425237D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内容安排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网络蠕虫：日益严重的威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网络蠕虫的新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未来蠕虫的威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网络蠕虫灾害的应急处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F4F-F861-46A7-B455-EEC449AE26F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367280" y="502200"/>
            <a:ext cx="7095240" cy="3567240"/>
            <a:chOff x="1367280" y="502200"/>
            <a:chExt cx="7095240" cy="3567240"/>
          </a:xfrm>
        </p:grpSpPr>
        <p:sp>
          <p:nvSpPr>
            <p:cNvPr id="272" name=""/>
            <p:cNvSpPr/>
            <p:nvPr/>
          </p:nvSpPr>
          <p:spPr>
            <a:xfrm rot="21415800">
              <a:off x="1447920" y="685440"/>
              <a:ext cx="6933960" cy="3200400"/>
            </a:xfrm>
            <a:custGeom>
              <a:avLst/>
              <a:gdLst>
                <a:gd name="textAreaLeft" fmla="*/ 0 w 6933960"/>
                <a:gd name="textAreaRight" fmla="*/ 6934320 w 6933960"/>
                <a:gd name="textAreaTop" fmla="*/ 1248120 h 3200400"/>
                <a:gd name="textAreaBottom" fmla="*/ 195228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212"/>
                  </a:moveTo>
                  <a:cubicBezTo>
                    <a:pt x="7200" y="-10709"/>
                    <a:pt x="14400" y="19133"/>
                    <a:pt x="21600" y="4212"/>
                  </a:cubicBezTo>
                  <a:lnTo>
                    <a:pt x="21600" y="17388"/>
                  </a:lnTo>
                  <a:cubicBezTo>
                    <a:pt x="14400" y="32309"/>
                    <a:pt x="7200" y="2467"/>
                    <a:pt x="0" y="17388"/>
                  </a:cubicBezTo>
                  <a:close/>
                </a:path>
              </a:pathLst>
            </a:custGeom>
            <a:solidFill>
              <a:srgbClr val="0033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90000">
              <a:off x="1711080" y="1144800"/>
              <a:ext cx="6248160" cy="228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cap="sq" w="93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积极发展，加强管理，</a:t>
              </a:r>
              <a:endParaRPr b="0" lang="en-US" sz="2400" spc="1" strike="noStrike">
                <a:ln cap="sq"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cap="sq" w="93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趋利避害，为我所用。</a:t>
              </a:r>
              <a:endParaRPr b="0" lang="en-US" sz="2400" spc="1" strike="noStrike">
                <a:ln cap="sq"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186-2D13-444F-B8AE-024744FA44BF}" type="slidenum">
              <a:t>20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近年来的网络蠕虫灾害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红色代码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II/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尼姆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SQL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杀手蠕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口令蠕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红色代码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变种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MSBLAST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蠕虫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冲击波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576-6DB7-4F95-AB84-D0C120F295E8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SQL 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杀手蠕虫事件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00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日发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SQL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数据库服务器，在服务器之间主动蔓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UDP1434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端口攻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造成大面积网络拥塞，部分骨干网络瘫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韩国网络基本处于瘫痪状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我国境内感染主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260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余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具备应急体系和机制之后第一次处理大规模网络安全事件，做到了快速响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E70-EB58-41B5-B68E-A644891EE4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处理过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接到举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核实全网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向全网通报情况，样本分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实施数据监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了解境外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隔离方法分析和确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通报隔离方法，实施隔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恢复故障网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媒体工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跟踪监测与分析报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36C-947F-42BE-A37D-881739F9C8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SQL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事件总结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日召开总结会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技术角度得到的经验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DD0-9B87-46DF-8B97-CD024F8DFD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口令蠕虫事件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日出现，主要在教育网中蔓延，部分大学校园网络瘫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后蔓延到电信、联通、移动、铁通、网通等多个网络，感染服务器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1207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并不利用系统漏洞，而是采用猜口令的方式攻击管理不善的主机（而口令问题由于涉及到每一个用户，始终是最难以解决的问题之一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植入后门以后和境外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个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RC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服务器建立联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D23-EBEC-48DE-B727-976AE74B2C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处理过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接到举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核实全网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向全网通报情况，样本分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实施数据监测，切断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RC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服务器的联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了解境外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隔离方法分析和确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通报隔离方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媒体工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跟踪监测与分析报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692-76B9-49A0-BA6A-D462048E26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红色代码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F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变种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发作，在欧洲一些国家造成影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至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，检测到此蠕虫在我国网络中扩散次数达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27860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接到用户举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监测系统发现最早证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完全利用原来的漏洞，依然可以形成一定规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70B-6C44-4125-9931-E57E900CCC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蠕虫灾害 应急处理</cp:keywords>
  <dc:language>en-US</dc:language>
  <cp:lastModifiedBy/>
  <cp:revision>0</cp:revision>
  <dc:subject/>
  <dc:title/>
</cp:coreProperties>
</file>