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A6C-EE04-4154-81D5-47098A9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E77-90CA-498E-8DA7-9D2014D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E685E-E7C7-401E-93B4-0AF1C24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FE92-D872-42CB-A6B1-5397E90D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DF68-AD45-40EC-A066-3F30CB7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F67D7-D852-4F00-9905-2B0688E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F6AC2-2E55-44A7-B961-4404EFF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1E828-4D77-456E-9BCF-2EF2C6A7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C8304-13E6-4BA7-A8C4-53C1FE7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A0F35-B509-45AF-BCBD-6C2E8D24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E3A54-C9B8-458C-905B-AD3CB240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381E6-81B8-409F-AF3A-8921A10E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7B5-8F2F-4E8F-8EA4-8153C2E3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30AFD-A2B5-456B-BC87-452F11F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143C-7BEB-411F-9ADA-16338504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301D-B974-468F-B0F1-8BFEF6F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5CB0-F7B1-439A-A80B-F2250082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7755-A5D1-46E6-B38B-065C74C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220E1-C86C-4814-BDAC-B1B803F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06219-2546-4B63-A2B2-820D84C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1C3FC-25E4-4A4D-BDE5-9832905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BA02B-F1AF-41AF-AE04-EA8FF60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552D2-7907-40A5-A845-E7A8BD84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9BA-567E-4A2C-9A4B-EEB2E3C5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AE3B6-E7B3-4E73-8CC7-0AC2E6DB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011F6-9D0F-40D8-A1CD-29E6D76B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DB1E-CC9B-423F-860C-3918BC9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C019A-4A14-4E7C-AB70-215B6877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8F1E4-A399-404C-A21C-2F6A151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6249-5356-4314-B403-BA2B47D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F8A0-EFAB-4E13-BA43-C03E31C2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5F81D-A052-402A-9975-CA6F6AF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C482-F28F-491D-B457-497C0717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0F3BF-42FE-449B-847E-EEC84BF3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DA7-BAE6-43B5-8FF7-064BF3B1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3B134-3806-42B7-8974-9E0FC2F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E11E-B339-4231-BB3F-A1A663B2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7ABFB-066B-4960-AA89-21B231DB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A19BB-439E-46AE-9F23-229CAF71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0F37-9F96-4EE9-BD01-D1050C6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8A04F-204F-48BC-BB4B-A906D473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01FB9-EA74-4997-BF91-42BB502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37D1A-E5ED-4A6E-9451-16267D8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52265-512B-4887-99B7-7C70121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8FE93-9D26-434C-9F1F-99DCAEE9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D3D9-A2E1-4E68-8D41-5E28ABF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51D9-86F4-42FE-BD0F-35ED7BB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5E84A-0359-444E-8712-E727619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C33A5-11F1-4140-A6B0-0F50F0B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C30FD-E778-4B4B-9739-AF1BE019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E9928-A463-47F6-919A-870CA54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41ABB-9898-4B1A-A47A-4BEF0F4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F1C61-0A2B-4144-A559-0ABF21B2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CA793-BDE9-4978-9621-2EEE055C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8728F-4D16-4CEE-BB68-B616419C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77B82-B9DA-4E10-ACCC-86E68DF3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E993-CE5D-4229-B940-A9D172E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56F87-9B6F-49C9-B605-E3DE1E6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07EA2-608A-4D2E-9FD7-42251F3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1D299-41C3-4A38-A8FE-120223A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FC7A0-6497-4CA4-910F-C3A34AB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9A8DD-BDF6-481E-B9AF-B8339C2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289B0-66BC-4D42-9A43-6CCCC459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5652F-166D-4903-86CD-32AA48F6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E2025-A2A5-4AE5-B9BD-FAC8B91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67DC2-104F-462A-BD6B-78CDAAA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9066A-D8CF-42AC-AA89-DCD0796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F9F-765F-4B7E-BFB6-97B1295F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64BA8-C354-4F66-906B-B68CCC3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AA318-4FAF-439D-B11B-331D905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AC226-4A36-4736-888E-F87D156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D3806-77BE-46A4-AFC8-277306E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1B49F-289C-43E6-B5AE-D5F8E3A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2F2CE-15A6-4B3F-8704-900C73E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728BC-352D-4A91-AB64-FD199E2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1DB8B-FC68-4717-B97A-668DC870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80C1C-8A80-4E5B-ADEB-D4A08EA5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E01-4A0E-4826-BD02-3064D19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2691-FF53-48E2-8846-077643D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0094-7719-43DF-8D85-3D39F2D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F65-587B-489C-B8A2-47CF390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333F-82B1-40EC-923C-0D6E645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7343-99DD-48FF-9ABD-2E15010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D0C-FC47-48CB-9881-57919C2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E19D-1FF5-420D-A8D5-37DAEBC2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D1BD-68F0-45CF-B5CA-14B1DB99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F713-D2C1-4947-A398-BDB9275A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3CF1-5C51-4F9C-860B-AD0AE4A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BD70-72D0-4327-99E6-E7BB62F4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CE8E-4A93-476D-8225-C6EC07D6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864D-C53F-43C4-9E48-BD77100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E1B-1F6A-4D39-B84C-A21B2D49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452A-33BD-4550-A537-EAC35672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4573-EA00-4914-BB19-706842A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8A73-3480-4AA0-81B5-EE6E7C9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59E8-6068-4248-B3AC-D84E1431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6CA9-C609-4B0F-BC23-E3C1285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0E71-24E8-4A44-9BBB-B317D3A5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7DAA-4762-4245-905E-BE0ADDED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8754-8547-4449-9861-867E1A6C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B0EF-12DF-478A-BBEC-9B7C384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0CF4-AB58-4540-A7FF-6B28240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800-2507-47F7-AC91-15B4A90C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ECD0-CA03-445A-8D45-0014C44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C5FF-2866-4F32-A5C5-B6DCB54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3384-63A9-4737-9561-855B908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713F-45FE-4B4D-93AE-B1427CA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3AA8-16B4-4F1B-BAA3-39692FA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103F-6A51-4612-9E3F-B247D01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DE3D-4AE8-4B31-BCA4-097C059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BB61-1E4C-4EBE-865F-96B3AE22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2ACC-5503-466E-8417-25862626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6350-B531-4583-A2C6-44EB05C0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7B5-D906-4D41-97F3-A72CE07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4543-4100-47A7-8A47-B6FE75E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AC89-7C23-4ABF-9FFC-0FBD7D4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8331-C0BA-4883-A3B7-73E409F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02E6-7444-4725-8E1D-248D009F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2C67-1E43-42A3-A960-6AD7686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CA0C-6825-4245-A3A0-BD7CD97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2626-548B-46BF-817A-33E5FA6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4E5A-F037-4014-8C1A-1BB6067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452E-6482-4F97-BE7C-58311C2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AA21-ED04-4BEC-96E3-D7AE9081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7EA-3A20-4F85-A7EC-C1474CAA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F9CC-188A-41DA-B440-103EF593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026A-88BB-478B-9464-3342254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F4480-E5DE-4ABD-B7C1-E98E06A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E305-AAEF-4F7F-A4C6-FB7D38E0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9EBD-B6EF-4EA0-8294-7216961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EB9D7-D909-4EB6-8A32-1C8F9AC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3F4A-BDF7-4232-AAAF-E0F14C4C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E645-9412-4C36-B11E-2F54472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11E0B-7402-47C5-A913-E61C504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45F7-6D25-46BF-AAA5-5ED91EB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294-4BEF-44B4-83F1-893DB4E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BA3C-6E07-4A0D-870D-3C62808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1936-1527-43AB-9C7E-57D6DBF6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1644-A8FC-476C-A8D9-5BE0FC76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977A-82C7-4E48-9EDD-4DDF4AA5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0CE2-875C-4307-B36C-ADEA407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B7E6-9195-49C2-8772-87C5D20D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53AB-2E52-4A8B-809E-7E03BCA7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4964-A870-434B-A0D2-92437D64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E2DA-A151-4371-8199-540B39F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AA18-F9CA-43FA-9A6A-8E8FBC32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9DE-7872-48EE-B2F9-7FD4F21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550D-2B77-410F-9666-E51E872B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E254-E3F3-4241-9E3E-15CE33A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8166-42ED-4B9E-8EEA-56651BE5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75C5-CB6E-4691-B7D9-CC0808C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DBCD-386B-4AF9-8B60-3F3F53F4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D620E-24EB-431E-9F8F-4F39F2E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B46FD-8531-4067-8D1A-61BF1A8C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0DB6F-8121-4068-893C-BB2A627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DC90-B6F5-4205-B827-774B9A3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EF0A-49F6-4191-B47B-B524D70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02D-CFA3-4D84-B196-AC5F3BA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8B6D-C547-46B7-91A4-4533AA7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8511-E562-4B73-BEF3-E192D9A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4FE7-6FEA-4DE6-8E16-CA5221D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6B68-CAAB-4F29-9047-46EFF23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7208-EF16-4DF7-8C7B-86E9D6B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2C7F-724A-4269-A376-9E245A9B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D4AE-C60D-4365-AFA9-146C3E7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4981-D31B-4351-8CB2-9DF44E5E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2896C-640A-45C0-B90B-E9D0E8EB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15E69-C0F2-438A-8454-24522A2C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4BE-1A44-4573-8B56-3D3B8F9C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3DD1-EFA7-4AD3-8314-B93C818684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5C47-65EA-4662-95C3-F72145BBF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B39-9923-4A89-B1FE-5234595EB9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38E-1C32-40DF-9CE2-239B4DDCF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6E4-3F6E-4E5D-93D8-A103B5F803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530-C5E4-4F93-AB28-4F917BA99B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DD8-6DDE-4DA6-A18B-DFA4F2F547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35B-8147-420A-95C2-18C77E7DC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ADC-2F63-467F-B9CC-744E4B7975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7F4E-8A55-4DF1-A074-93C413427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5AA-8DDC-4F26-A223-86BD52AB8B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2178-83E3-4CC3-9740-A2DDA2BF2C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FF5B-0162-4A42-9E0A-2F5BB49A1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02D1-754E-4EB9-8AF6-152DB4C7A9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0DDE-A82D-421B-A57C-19920BFF5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2C48-DB3D-4ED5-A9DF-944398AD57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1B5-BD26-4DC7-837E-6D771C492B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0DA2-DE00-4DF5-BB17-50A5680D7A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354-10D1-468A-9C65-B3ABF32138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E30-F58A-4D2D-B0DB-EC822127E8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B21-E3DF-4B0E-911E-C89BB0325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345-3BEE-4E30-9F7B-26C01BEEA2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C0B-B9A5-4324-A66C-F475DB496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533-90E3-430E-A1CC-601ECC6243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39F-B848-4853-9870-106C87765F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hyperlink" Target="file:///&#35838;&#25991;&#26391;&#35835;.swf" TargetMode="Externa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0.xml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bff"/>
            </a:gs>
            <a:gs pos="100000">
              <a:srgbClr val="87b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8" descr="BJ_0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5879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4" descr="BJ_035"/>
          <p:cNvPicPr/>
          <p:nvPr/>
        </p:nvPicPr>
        <p:blipFill>
          <a:blip r:embed="rId2"/>
          <a:stretch/>
        </p:blipFill>
        <p:spPr>
          <a:xfrm>
            <a:off x="6477120" y="507996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0"/>
          <p:cNvSpPr/>
          <p:nvPr/>
        </p:nvSpPr>
        <p:spPr>
          <a:xfrm>
            <a:off x="4721400" y="236520"/>
            <a:ext cx="316692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隶书"/>
              </a:rPr>
              <a:t>五柳先生传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东晋</a:t>
            </a:r>
            <a:r>
              <a:rPr b="1" lang="en-US" sz="6600" spc="-1" strike="noStrike" baseline="-1000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陶渊明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95" name="Group 50"/>
          <p:cNvGrpSpPr/>
          <p:nvPr/>
        </p:nvGrpSpPr>
        <p:grpSpPr>
          <a:xfrm>
            <a:off x="1600200" y="990720"/>
            <a:ext cx="2133720" cy="3688920"/>
            <a:chOff x="1600200" y="990720"/>
            <a:chExt cx="2133720" cy="3688920"/>
          </a:xfrm>
        </p:grpSpPr>
        <p:sp>
          <p:nvSpPr>
            <p:cNvPr id="596" name="Text Box 21"/>
            <p:cNvSpPr/>
            <p:nvPr/>
          </p:nvSpPr>
          <p:spPr>
            <a:xfrm>
              <a:off x="1600200" y="990720"/>
              <a:ext cx="2133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3" action="ppaction://hlinksldjump"/>
                </a:rPr>
                <a:t>课文导入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7" name="Rectangle 33"/>
            <p:cNvSpPr/>
            <p:nvPr/>
          </p:nvSpPr>
          <p:spPr>
            <a:xfrm>
              <a:off x="2043720" y="396252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4" action="ppaction://hlinksldjump"/>
                </a:rPr>
                <a:t>拓展延伸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8" name="Rectangle 34"/>
            <p:cNvSpPr/>
            <p:nvPr/>
          </p:nvSpPr>
          <p:spPr>
            <a:xfrm>
              <a:off x="2043720" y="3352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5" action="ppaction://hlinksldjump"/>
                </a:rPr>
                <a:t>问题研讨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9" name="Rectangle 35"/>
            <p:cNvSpPr/>
            <p:nvPr/>
          </p:nvSpPr>
          <p:spPr>
            <a:xfrm>
              <a:off x="2043720" y="274320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6" action="ppaction://hlinksldjump"/>
                </a:rPr>
                <a:t>疏通文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0" name="Rectangle 36"/>
            <p:cNvSpPr/>
            <p:nvPr/>
          </p:nvSpPr>
          <p:spPr>
            <a:xfrm>
              <a:off x="2043720" y="2209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7"/>
                </a:rPr>
                <a:t>课文朗读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1" name="Rectangle 37"/>
            <p:cNvSpPr/>
            <p:nvPr/>
          </p:nvSpPr>
          <p:spPr>
            <a:xfrm>
              <a:off x="2043720" y="160020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8" action="ppaction://hlinksldjump"/>
                </a:rPr>
                <a:t>正音正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率真放达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743200" y="762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274320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每有会意，便欣然忘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743200" y="2743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嗜酒，期在必醉，曾不吝情去留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819520" y="3581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短褐穿结，箪瓢屡空，晏如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4800600" y="4800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常著文章自娱，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457200" y="68580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者风范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704880" y="35812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安贫乐道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304920" y="4800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得其乐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淡泊名利 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704880" y="15238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书中求乐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6" name="Picture 14" descr="BJ_035"/>
          <p:cNvPicPr/>
          <p:nvPr/>
        </p:nvPicPr>
        <p:blipFill>
          <a:blip r:embed="rId1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762120" y="533520"/>
            <a:ext cx="8381880" cy="1251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老舍自传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舒舍予，字老舍，现年四十岁，面黄无须。生于北平，三岁失怙，可谓无父。志学之年，帝王不存，可谓无君。无父无君，特别孝爱老母，布尔乔亚之仁未能一扫空也。幼读三百篇，不求甚解。继学师范，遂奠教书匠之基。及壮，糊口四方，教书为业，甚难发财；每购奖券，以得末彩为荣，示甘于寒贱也。二十七岁，发愤著书，科学哲学无所懂，故写小说，博大家一笑，没什么了不得。三十四岁结婚，今已有一女一男，均狡猾可喜。闲时喜养花，不得其法，每每有叶无花，亦不忍弃。书无所不读，全无所获，并不着急。教书作事，均甚认真，往往吃亏，亦不后悔。如是而已，再活四十年也许能有点出息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813480" y="27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比较课文与下文，说说传记一般应写哪些内容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9" name="Picture 5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70" name="WordArt 6"/>
          <p:cNvSpPr txBox="1"/>
          <p:nvPr/>
        </p:nvSpPr>
        <p:spPr>
          <a:xfrm>
            <a:off x="0" y="1219320"/>
            <a:ext cx="609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展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延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伸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80880" y="1371600"/>
            <a:ext cx="8458200" cy="28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１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传记是用来记载人物生平事迹的，所以与　　此相关的内容都要写清楚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２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五柳先生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了五柳先生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籍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姓　　字、思想、性格、爱好、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情况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、除此之外，还应有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家庭状况、生卒年代、　　主要经历和事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４、写传记最重要的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内容要真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Picture 3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73" name="WordArt 5"/>
          <p:cNvSpPr txBox="1"/>
          <p:nvPr/>
        </p:nvSpPr>
        <p:spPr>
          <a:xfrm>
            <a:off x="4572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传记内容的一般写法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762120" y="1523880"/>
            <a:ext cx="8001000" cy="155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同学们也来介绍一下自己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可以是完整的小传，也可以只是抓住某个特点，表现自己的个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5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676" name="WordArt 8"/>
          <p:cNvSpPr txBox="1"/>
          <p:nvPr/>
        </p:nvSpPr>
        <p:spPr>
          <a:xfrm>
            <a:off x="1981080" y="3049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外练一练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7" name="Picture 9" descr="WW_059"/>
          <p:cNvPicPr/>
          <p:nvPr/>
        </p:nvPicPr>
        <p:blipFill>
          <a:blip r:embed="rId2"/>
          <a:stretch/>
        </p:blipFill>
        <p:spPr>
          <a:xfrm>
            <a:off x="0" y="0"/>
            <a:ext cx="1676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68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0" y="1600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一、初中阶段我们已经学过陶渊明写的文章或者有关陶渊明的文章，想想看，有哪些是我们学过的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228600" y="2819520"/>
            <a:ext cx="861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桃花源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   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1" action="ppaction://hlinksldjump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2" action="ppaction://hlinksldjump"/>
              </a:rPr>
              <a:t>归园田居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3" action="ppaction://hlinksldjump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4" action="ppaction://hlinksldjump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5" action="ppaction://hlinksldjump"/>
              </a:rPr>
              <a:t>爱莲说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6" action="ppaction://hlinksldjump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周敦颐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0" y="36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二、说说你对陶渊明的初步了解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295280" y="4419720"/>
            <a:ext cx="5410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隐者；安贫乐道；洁身自好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慕名利；不为五斗米折腰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Picture 6" descr="BJ_03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07" name="WordArt 9"/>
          <p:cNvSpPr txBox="1"/>
          <p:nvPr/>
        </p:nvSpPr>
        <p:spPr>
          <a:xfrm>
            <a:off x="457200" y="3808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考考你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056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2050"/>
          <p:cNvSpPr/>
          <p:nvPr/>
        </p:nvSpPr>
        <p:spPr>
          <a:xfrm>
            <a:off x="2057400" y="304920"/>
            <a:ext cx="52578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园田居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豆南山下，草盛豆苗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晨兴理荒秽，带月荷锄归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道狭草木长，夕露沾我衣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衣沾不足惜，但使愿无违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Text Box 2051"/>
          <p:cNvSpPr/>
          <p:nvPr/>
        </p:nvSpPr>
        <p:spPr>
          <a:xfrm>
            <a:off x="1981080" y="3352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水陆草木之花，可爱者甚蕃。晋陶渊明独爱菊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Rectangle 2052"/>
          <p:cNvSpPr/>
          <p:nvPr/>
        </p:nvSpPr>
        <p:spPr>
          <a:xfrm>
            <a:off x="4537440" y="441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予谓菊，花之隐逸者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2" name="Picture 2053" descr="BJ_035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5"/>
          <p:cNvSpPr/>
          <p:nvPr/>
        </p:nvSpPr>
        <p:spPr>
          <a:xfrm>
            <a:off x="6948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Text Box 14338"/>
          <p:cNvSpPr/>
          <p:nvPr/>
        </p:nvSpPr>
        <p:spPr>
          <a:xfrm>
            <a:off x="163440" y="0"/>
            <a:ext cx="5627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陶渊明，又名潜，字元亮，东晋著名诗人、散文家。东晋末年，社会黑暗，风气污浊，很多人不择手段追名逐利，社会上充满着虚伪与欺诈。陶渊明做过几任小官，因对官场不满，就辞官归隐田园，从此过着躬耕隐逸、赋诗饮酒的生活，六十三岁逝世。他是我国文学史上第一位以田园生活为题材写诗的著名诗人。其诗多歌颂优美的自然景色和淳朴的农村生活</a:t>
            </a:r>
            <a:r>
              <a:rPr b="1" lang="zh-CN" sz="2800" spc="-1" strike="noStrike">
                <a:solidFill>
                  <a:srgbClr val="840042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15" name="Object 14339"/>
          <p:cNvGraphicFramePr/>
          <p:nvPr/>
        </p:nvGraphicFramePr>
        <p:xfrm>
          <a:off x="5867280" y="692280"/>
          <a:ext cx="3117960" cy="54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43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92280"/>
                    <a:ext cx="311796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7" name="Picture 14340" descr="BJ_035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8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2438280" y="1295280"/>
            <a:ext cx="5791320" cy="4289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Shì         zhé       lìn          h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dān         jí       chóu     shā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Piáo         lǚ          lóu           y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2514600" y="1371600"/>
            <a:ext cx="556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嗜     辄    吝     褐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箪 　  汲　  俦     觞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瓢　   屡　  娄　   欤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3657600" y="2782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572b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2" name="Picture 6" descr="BJ_03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23" name="WordArt 7"/>
          <p:cNvSpPr txBox="1"/>
          <p:nvPr/>
        </p:nvSpPr>
        <p:spPr>
          <a:xfrm>
            <a:off x="685800" y="4572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正音正字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304920" y="923760"/>
            <a:ext cx="28191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何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求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饮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必醉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短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穿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箪　瓢　屡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晏如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戚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贫贱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汲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富贵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82880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8288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22860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36232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、到　　　就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23623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望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5611680" y="3657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粗麻布做成的短上衣。指衣服上有洞和补丁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2743200" y="4191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饭篮　　饮水用具　　经常是空的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205740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安然自若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28954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忧愁的样子。　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4118040" y="5867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情急切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5" name="Picture 14" descr="BJ_03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36" name="WordArt 15"/>
          <p:cNvSpPr txBox="1"/>
          <p:nvPr/>
        </p:nvSpPr>
        <p:spPr>
          <a:xfrm>
            <a:off x="457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重点词语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2438280" y="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解释蓝色字体的字词）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533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　　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五柳先生不知道是什么地方的人，也不知道他的姓名和表字。因为住宅旁边有五棵柳树，就用它做了自己的号。他安安静静的，很少说话，不羡慕荣华利禄。喜欢读书，不在一字一句的解释上过分深究：每当对书中的内容有所领会时，就高兴地连饭都忘了吃。他有嗜酒的天性，家里穷，经常没有酒喝。亲戚朋友知道他有这种嗜好，有时摆了酒叫他来喝。他去喝酒就喝个尽兴，希望一定喝醉。喝醉了就回家去，并不装模作样，说走就走。简陋的居室里空空荡荡，遮不住风和阳光。粗布短衣上面打了很多补丁，饭篮子和水瓢经常是空的，可是他安然自若。经常写文章来消遣时光，从文中也稍微透露出自己的志趣。他从不把得失放在心上，这样过完了自己的一生。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        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赞曰：黔娄的妻子曾经说过：</a:t>
            </a:r>
            <a:r>
              <a:rPr b="0" lang="zh-CN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“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不为贫贱而忧愁，不热衷于发财做官。</a:t>
            </a:r>
            <a:r>
              <a:rPr b="0" lang="zh-CN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”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这话大概说的是五柳先生一类的人吧？一边喝酒一边做诗，为自己抱定的志向而感到无比快乐。他大概是无怀氏时候的百姓，或者是葛天氏治下的百姓吧？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9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40" name="WordArt 5"/>
          <p:cNvSpPr txBox="1"/>
          <p:nvPr/>
        </p:nvSpPr>
        <p:spPr>
          <a:xfrm>
            <a:off x="3581280" y="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参考译文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380880" y="2514600"/>
            <a:ext cx="87631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写了哪些方面的内容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从哪些方面来写五柳先生的？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分别用四字短语来加以概括）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从哪些句子中可以看得出来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2" name="Picture 8" descr="ARROW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43800" y="2743200"/>
            <a:ext cx="609480" cy="298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ARROW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457200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WordArt 11"/>
          <p:cNvSpPr txBox="1"/>
          <p:nvPr/>
        </p:nvSpPr>
        <p:spPr>
          <a:xfrm>
            <a:off x="1219320" y="68580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品读探究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5" name="Picture 12" descr="BJ_035"/>
          <p:cNvPicPr/>
          <p:nvPr/>
        </p:nvPicPr>
        <p:blipFill>
          <a:blip r:embed="rId4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228600" y="1066680"/>
          <a:ext cx="8534520" cy="4267440"/>
        </p:xfrm>
        <a:graphic>
          <a:graphicData uri="http://schemas.openxmlformats.org/drawingml/2006/table">
            <a:tbl>
              <a:tblPr/>
              <a:tblGrid>
                <a:gridCol w="1606680"/>
                <a:gridCol w="6927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主要方面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相关文字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Rectangle 22"/>
          <p:cNvSpPr/>
          <p:nvPr/>
        </p:nvSpPr>
        <p:spPr>
          <a:xfrm>
            <a:off x="2057400" y="1523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先生不知何许人也，亦不详其姓字，宅边有五柳树，因以为号焉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Rectangle 23"/>
          <p:cNvSpPr/>
          <p:nvPr/>
        </p:nvSpPr>
        <p:spPr>
          <a:xfrm>
            <a:off x="3268080" y="24382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；曾不吝情去留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Rectangle 24"/>
          <p:cNvSpPr/>
          <p:nvPr/>
        </p:nvSpPr>
        <p:spPr>
          <a:xfrm>
            <a:off x="2057400" y="3352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性嗜酒；常著文章自娱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三大乐趣：读书、饮酒、写文章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Rectangle 25"/>
          <p:cNvSpPr/>
          <p:nvPr/>
        </p:nvSpPr>
        <p:spPr>
          <a:xfrm>
            <a:off x="2846520" y="43434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短褐穿结，箪瓢屡空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1" name="Picture 26" descr="BJ_035"/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66"/>
          <p:cNvSpPr/>
          <p:nvPr/>
        </p:nvSpPr>
        <p:spPr>
          <a:xfrm>
            <a:off x="514800" y="175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籍贯姓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Rectangle 567"/>
          <p:cNvSpPr/>
          <p:nvPr/>
        </p:nvSpPr>
        <p:spPr>
          <a:xfrm>
            <a:off x="5148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思想性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Rectangle 568"/>
          <p:cNvSpPr/>
          <p:nvPr/>
        </p:nvSpPr>
        <p:spPr>
          <a:xfrm>
            <a:off x="228600" y="3581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乐趣爱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Rectangle 569"/>
          <p:cNvSpPr/>
          <p:nvPr/>
        </p:nvSpPr>
        <p:spPr>
          <a:xfrm>
            <a:off x="51480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生活状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6:07:0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24:13Z</dcterms:modified>
  <cp:revision>2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用途">
    <vt:bool>1</vt:bool>
  </property>
</Properties>
</file>