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D9FE-8797-40CE-810F-263CA2DE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6CF2-63BE-42DC-90F9-746B3DD2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9A985-6A22-479F-8A2F-5F80C405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B322E-0BA8-4122-9CEA-B11D42F9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A8DB2-BB19-4686-8614-1F0ED1B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F851C-FDDB-47C0-B603-4B5F6E2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A80F9-3668-4433-AC60-64CE873E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92193-5D21-4568-8F1F-77419747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B15F3-7BE1-465C-9762-0D2989D4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CBD99-82F6-45E3-AC88-7550825A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F19DB-0653-412D-AEB7-6BC20293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FFC0C-19A5-42CD-8E93-114EE5F8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5EA-1395-4388-8C37-F45456D22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828C2-F4C5-4C44-A63A-81E727B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A0C25-8A75-4589-8CE8-842B7548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A7AF4-B681-4311-A9E5-616B1CFC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A4BBD-7820-4845-B60F-AE064007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3068C-2163-426B-AF02-40E0E973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D6AFE-5382-46EC-B391-61FEF50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BB68C-A0BF-494C-B66E-A2E83F9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AAE85B-5B98-4E06-83C6-0F121962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27ED-64DA-4B73-AA23-9021D381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FDFEA-BC3F-42D4-AEF2-4C80CC6E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34D3-89AC-48F4-A250-8EC7D96E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A266-7B7E-40DB-9710-70085D7A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4C2DE-D5B2-4901-A1E8-AA5AF19C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0E1EB-9A46-4033-8E8A-870BFDB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42570-082D-4BB9-A9CC-3606DF54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DEEE2-4B1D-4A38-8ADF-5E823315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7A184-79A1-4B38-A5CF-819BDC89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AD4B7-B502-4119-9155-E970BF9F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0E9D4-2A75-4E4F-B670-621E5D87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8DE41-A8B7-48B7-A273-E9C0FC7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7791C-5167-45C8-B7D1-B2230E12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EBE0C-F943-4276-BABD-7A08B458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B4140-B9F0-481D-B4A6-9E1C7DC3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D2055-3E56-453C-81D0-486C73CB0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16ED8-95C3-4229-BF0B-A8F14418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C2FBE-8F3C-4705-BC3F-8D1C0846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EE585-AAAB-42C7-9483-DEC8CC6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2E44B-2C08-4DB2-A95E-257C3475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BA5BF-296C-40CD-9386-54808C1B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AF9B9-FA0D-4590-98F3-ACD47DF2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D557F-FBCA-4456-858A-D52C464F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493B2-93D0-4018-8A20-0ABA65D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AB7E-689D-49F6-B47F-6C36EACD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7AEAE-F160-4FA9-A9ED-99A1AFE2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EA1C5-CE99-4E10-96F0-C9EF757D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DB4612-DC9A-435D-85E9-03D441A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83DC5-F9E6-4200-9086-EF494058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8E75B-703C-41DF-AAAD-0DE9AE0A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F12C7-F7D1-4978-B3D8-D580FAFE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4BD046-2EC5-43F1-98C2-B99DE3AF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F3E111-70A2-4D2D-8A40-C899774B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E04AE-ED5B-4783-ADE4-F2CA75D7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DB837-D55B-4984-AAC8-6FABA0F6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EB66-A930-4174-9508-D19C52D5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8DC9C5-4FA7-4698-B44E-BC54445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506E3-E972-4039-937A-54BDB780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87CB6-21E3-49B5-98D4-3B8ADE7E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35235D-B1E3-402A-9AA3-2D8196F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832CC-FFEF-44A9-8419-142D96D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F9255-A8B7-44A1-916C-BC534E2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0B5F3-CF6F-4F30-8D4A-7BCE188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4C2E-677C-493B-ADC6-DE075371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DEDA-3684-42ED-944F-03870A30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5B5B-E63E-4719-BBD3-7255B717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93AAA-EE29-4689-9773-2EB4B46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84F-1B28-4FA3-8427-147F3B28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27E5-5917-4E7E-BEAC-7682FA8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42FE-B99C-46D7-ACBA-1D19C1E2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6208-2DA1-42DF-BC9A-C0FE22EA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C5FF-A3A7-4515-A807-769809FF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DFF-E3D3-438B-A34F-ADD0115E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1272D-D72B-421A-A244-1E7CDF80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C8BD-5692-4EF4-8086-4118896F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330B-BDB2-4955-BEC2-9EE86813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C8322-8B5F-4690-A142-E801765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D5487-B4A4-48C7-840E-7CD35841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300-06DD-4C4F-B579-77CDBD2C1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5C3CC-D88B-401A-9926-147B113B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808D3-0371-43EB-B651-80E22CDE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3239-8C75-47E3-BADD-9A045CC2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AEA33-BDF4-4D85-B821-D49E9FC4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F6CD-E6E1-4FDE-85B6-FB3D5C5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520F6-867C-4C3D-8D34-FD2A33F4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1B96-F337-4782-87E2-CEC00C6E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E02BA-F6F0-4D1E-8D8F-76E235D5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AB53E-B72B-445B-A31D-3D89E0ED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B1F7F-633F-432C-9235-087134C6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257-8E6F-49C8-AF1E-79F9664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F6C85-72C0-4E1D-A693-63AEF52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C23CE-47A1-432F-96DC-8FF31D27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D86C-688C-4170-A309-D6142F03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370D7-1396-4706-8F7E-ECFDC064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CB0C2-7469-44E3-84DC-50A926A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AEE5-E034-483D-9A9A-C7C7117B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CBE03-98B9-463A-BBCC-552004BA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03EC-E419-4ADD-9E06-0DD36855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71C5-048C-4CED-8642-4E896E54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5C31-A0D8-4F3E-A689-14ECB7F7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5407-4F2F-4EC1-B385-0EDDB064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3A016-DA5C-4D97-AD6E-54473911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B2D7-9FC0-4843-8504-398CC5B9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25F5-7D39-48DF-9E7D-BF52954F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61B91-88E0-487E-B7BF-68A95534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48DF3-0AD2-46CD-BC93-78A07E8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4D563-D4E9-4AB7-8D4D-D67A292B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2B0E1-574C-4726-A7A2-C6B508D3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A8416-0DEA-4FEE-990B-5CC76298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1A75F-ACFB-4136-B2E8-40DC1839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B2DC3-BCD8-4C7F-8CEC-91486954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7723-19D2-414B-A846-E2994907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D311-55CC-4176-8AD6-A418FE52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192F-5072-41DA-AE61-FFD95F02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DF0BD-5DE6-406E-9D9E-B9A24CBB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B200-AD19-4A99-B72E-BB17D8EC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0DFE-5C77-4479-95B0-BD11305E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391DF-453F-4C0B-9ABC-07A676AE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34D0-4AB2-4263-819E-6F04DB80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0056D-D4B3-4231-9167-BDC0D76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384B-643B-4CAB-9589-FFE8BFB2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8ED09-A18C-4C47-AD16-C676F9BC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982-75CA-4BB8-80E0-41F6047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8E2F7-157E-47F2-B4D6-105053D7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0DB4E-D602-43CD-8C1D-514F5C1D2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3367C-B6B1-47A4-938A-E175D4C02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CCBA-8434-47DD-B0F1-A57277A1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95605-E564-4DDF-9DAE-11D5846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D95CB-D6E7-427B-A0CC-AA18EC34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6467E-3AF9-4C00-B174-DAF735F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8E951-A1C5-4872-8036-2D4EDF87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BC4C5-E188-4CCD-8C25-D466FD5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D3AA9-192D-45D3-8D1D-A595BCE1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A47-3E58-442C-83C4-CF84771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57B6-E1DC-490F-8595-951BCBA1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108B9-2A4C-45C0-B5BC-19E34E0C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D4425-6B0B-48C3-BAAC-98A79ED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52DC4-91D6-470E-9819-CEF79B24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172AC-ABBB-4902-B585-136D70CA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2EF0-6D5B-4096-B9D3-73A5E7A6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91086-4A2E-4FCC-932C-9ABF981A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D63ED-50FF-4241-9BCC-F9E27074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195E1-E030-4F8F-8971-4DCCFB01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94860-63C0-448B-9BE0-BA1C0E58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0594-9E2D-4825-8400-411AFB01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90EE-DDE4-4936-B817-6E4B4DC9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5D451-18DF-4764-B789-579A0A9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C5912-F3A4-4B96-AF48-A5269898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0E80-D644-4A56-8ADC-7DE9EE1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68E4A-3BE5-4FA0-AAF8-9897516E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4EB89-BCC5-4A2A-8349-BFCAA90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2A768-EDC2-49B1-B6E4-F4A1DFFD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8ACF4-2F12-4EA5-9163-3631F52D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53D05-8AE4-4D22-8093-6C528437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70FAF-8181-40AC-8684-331A6881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3CE-5FEA-4E81-B90E-2FB9A3699C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7854-D3A1-4B66-9F42-3D5623D1A1A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31C9-E762-430F-8B9D-C86044D9FC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46B-66E0-47E6-BE24-661FDCD860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E55F-4BF4-4272-9463-7C189179C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787D-9091-4799-A63F-CBCB957E5E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E6BB5-7523-4AFD-98EF-51CFECB5F4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C531-AB77-4CC6-B32D-359D68EFDF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8335-FA8A-411B-9242-2B2462FF7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4FA7-8675-46B4-BC67-D8D7581652F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064-1267-456D-AAFA-1F35D3C1B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680E-4313-4C85-BE9A-11339C9AA10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310-ACC3-4D2D-823B-B2D5D6A4C4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A9AB-4FA7-47D7-95D5-60420DE99F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82FE-2372-4E75-AC33-74838EF68A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AA0F-74A2-4370-8E8C-B54A1E2796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FF1D-63EC-4B2B-8F16-EB61F4E247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0FE0-B9BC-4F4F-A4EF-8E71980F5F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2A90-411C-4295-870A-3522EF19A0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A81-1E3B-48B1-90B0-56A2FACCEAE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79BF-A81D-49E1-B790-8BCD514A6E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E223-AF71-47E9-AC54-1C5ECD2F15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AFF2-F9A1-4444-9199-BF6CBA5796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D0D-56B5-4406-9212-692756D80F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7E28-AE05-44F7-B3FB-674AFE4861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6"/>
          <p:cNvSpPr/>
          <p:nvPr/>
        </p:nvSpPr>
        <p:spPr>
          <a:xfrm>
            <a:off x="5286240" y="462456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梦幻唯美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5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</cp:lastModifiedBy>
  <dcterms:modified xsi:type="dcterms:W3CDTF">2015-02-10T02:56:42Z</dcterms:modified>
  <cp:revision>351</cp:revision>
  <dc:subject/>
  <dc:title>幻灯片 1</dc:title>
</cp:coreProperties>
</file>