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488-45D4-45B4-9114-4A82AA6A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822-BC3A-4E54-9B60-6DB86BDA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E4F68-36E9-47E8-BFEA-0926562F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E60EE-7DE1-40BA-9F14-E44AD933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46629-3ACB-46B6-99E3-9B3254A4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FBA52-F8AF-425D-99D7-B2F567C9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0EB94-51EE-4661-ABA8-BA1344AA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39647-5D27-44E5-98A2-B2DB68A9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8F776-19A5-424C-9D97-7FB29AFC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DE3A8-A1F2-4893-AC3E-091C9E55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6E975-EAEA-4C93-9AF6-CFBDE9F6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2F6B9-5EDC-4938-894D-603EDE33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95D-838D-4B30-91FB-74EEAD3D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41B60-EFA9-4153-AF25-30099D24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90A58-0E04-4AC6-A57F-FA016D0B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5101C-31D1-4D2B-B7A7-F9A464B9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561BC-3C03-40C9-890B-3BB65281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46285-4C3D-4568-8D97-8995935F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A7B4C-1EBF-4673-89E7-08F7F1B2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1CA6D-76D5-437B-B908-24BDA703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3E543-F07A-49FA-9B25-D7FDFBEC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70ED4-A22E-4864-9432-DFDA9AE1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61C2B-6E90-444E-B7D1-3DEB53E3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4C6-6C85-47D1-89EC-466F5348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CF54F-D8F4-4C00-B431-9DBC85D7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588B8-AFC9-4246-AC03-291F440F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F4F8B-7367-4E2D-B94C-20221659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14491-CC69-483C-9B99-A66EB5AA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5BE43-EEAD-43C0-84BA-370E19D3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453BE-E7E9-43B6-AE19-719EA70F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8F93D-850D-41B0-A44B-20ECA632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4013F-4759-43CA-BA50-52E49ECB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2CEEF-E236-43B4-98D6-3F1D6E25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73231-0E24-4E74-97C1-223D879E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5392-7E7E-4779-B05B-8AE65182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F902B-32BD-4BBF-9076-75891DEE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57E21-AE38-4B58-8FD7-F4CF12AE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B25AF-5BFB-4C48-86C9-067AC49D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5B8E9-534D-4D9B-82D7-3E3D2248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EA742-6745-40AF-89A6-9B5BA9D2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2EBDE-5D88-4FD3-AB56-9FE6BD9B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8C667-8089-48B3-A6E5-6EC1452B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0D9AA-485D-4DFC-8784-5437F40C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F3546-AACB-4EDE-ACA0-24FF23D7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C38C1-AFE5-4CC1-9227-2BE2ED4B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F4E1-14E9-4324-A802-9E190BBF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FBC1F-6665-4AEC-990B-9A77371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215B6-33E7-4522-ACF4-97659629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BC438-EE20-4ABF-A9DD-651B744A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A5953-DD15-4972-8AE5-4626C375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302F3-93D1-4D43-83AD-E68A8329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2470F-6272-4320-9807-562C9971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E784C-9FE5-4374-BA7B-CE5EC37D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8C580-79B2-4AF5-9796-C0AD8DAD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9BF9F-C52A-4EBD-9347-CCF780C7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78C83-4CB2-45B9-BDAC-509B3510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16E0-3897-4735-AB8F-BD88A2E6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687AA-10CE-4171-8426-77B1FDA4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F7BA7-875D-4265-A8D7-332EA0C0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CB5C3-CF5B-481E-8436-4AE2C20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A58D4-B963-40F3-868F-F9B7931D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2E5C3-E65F-45C1-A53D-0684522E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DAEED-5C0B-4B21-8CAF-B8959A86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CE2E4-770F-45A1-BDCF-5572EE48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F25A-1C18-4A91-93BC-26A8BBC5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2335-1BAF-4834-B027-09589D94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BA58-5C0A-4FA0-B2FF-DBCBDA39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6E41-1F1F-4A18-97CA-3C391C4D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AD1-22FA-46CF-BAFE-D9A05D49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E323-01D6-4DC9-AA10-F3630474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A0D1-EB39-4AF7-BCA4-DAEF514D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92D3-362F-4BCE-8A50-EB176631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4568-FD1D-47BE-A989-A8689AEE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E0A1-0349-4637-90BF-785BCEDA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074E-0AB5-4D31-9953-D195BB93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5B00B-C6C9-4532-ACEE-9776C81A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746C-1AFE-4A63-9543-6FDA8F63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DC7C9-D83E-497D-B5D0-FFB7A7DE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CA20-7A14-4FA8-8E61-4C60D8B1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608-DAD8-48BD-B4A3-6088C8EE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641F-E33D-4CAB-86DE-3630F051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FA37-CA23-4E75-BBAD-6B4F5286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2DC6-9441-41FA-8646-ACBA61FE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FED9-FA9F-4855-9967-E08EF920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335F-0B0E-4D54-91D8-386EC8D7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E830-112F-4FB6-B68A-57DCD37C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2BA2-E1CE-48C1-AF4B-F45843F6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39B9-041D-4B2A-A706-C9B42CFA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5DCA-BBCA-458E-A841-B28E5A0B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BBA58-562D-4FBD-B53A-4E605EEC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B39-B287-46EE-998D-D85FB88F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428A0-D3F8-4E69-8F20-A2915FD9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9CFAF-6734-4498-A8CF-42210594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F7DB8-1B46-44D5-8FBB-99BF2207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EB33E-B512-493C-AE57-B3BCA087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AAFA6-83E6-4D31-BA51-F609269B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9F5CE-47EE-4CF9-A3BC-E761B257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C6A92-1C45-4A8C-8C30-54D640CA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15C97-5D56-41C4-9B8B-BB81E4F2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D779-2DEE-4C4C-81CE-B35F2148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32CE5-1761-4616-8D17-5F3A617B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AC3-7422-49B3-8F42-81C7E936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BAA0B-66B2-46D1-B8FE-6EE66C54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D95FD-8C93-4495-8C24-5417AEE4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01174-52B6-4B22-AA2E-6DA4C665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9878C-C07C-4977-9B3D-DC6A2B53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1162-D0D0-4B9B-B014-0C4A3974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23537-45B5-42C2-98E1-B88022A6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191BE-F117-4C4A-B70D-C3791B41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4B0A0-D459-4F27-B969-691DF43A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8C038-CE7B-43A9-A7EA-54CEEB71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30DB0-4FEC-4F83-83B5-2B54D5D8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756-A1D9-460D-BBBC-FD9F248C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159EF-C6B0-4D65-B34B-3C306DCD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EB874-C5D1-4D8D-9EBB-8B6026F6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371DD-F7E3-4A1B-AC4A-278824AC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DD296-AD67-4609-8194-835BE1D0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F0C8E-3084-4C61-BC67-A5CF2D69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A1458-6097-45B3-AD5D-B3FE50F2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127C1-3B17-476E-B8D6-564C4EDE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6C808-5BD5-4F18-80B4-6E9B5066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769BA-4A28-423D-8E95-F2544479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A0073-6462-4D8D-AF0F-F946459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A82-9B1D-4E13-AB4C-A3BF602B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143A5-CA6A-4074-A328-8D23704F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01BA0-2EB2-48F9-90B6-84983A7F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52178-9CC4-424C-A646-CE785205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B1ADE-3D48-458F-99A4-06FB07F2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08A60-9A1E-4D32-9F5F-B3B14134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8FA13-2120-4CEE-82BB-078B3F7E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C9CCF-D487-4C79-8014-F418FB82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D255B-C7B9-4EE0-A0AC-6E863B05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87B05-18B8-4954-B5FB-77FF1D09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18D4B-4899-490C-B966-4FDBF2AA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7D9-1AFD-43A0-A2E7-01673146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7CD58-DAE6-418A-81C9-90362529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36328-D98A-4A39-86F0-5A1F20BC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795E5-12FC-4018-9FFB-717F4557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D50A0-F8AF-45AB-B75E-BEB21CF7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23020-4579-4C89-902F-FA3DC073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A16AA-EC7B-4024-803C-EDA1F3EE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A1F5D-00B2-42E6-ACEC-519B9F71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8787B-40DC-4F3D-8D5C-21E20546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DC8C0-4C3D-498D-8B24-93CF331E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8830D-E885-427B-8E78-1A4F2209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EE7-FE0E-4331-842C-191DDBFC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D3B97-EB7C-48FF-9619-9B481EEC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CDC72-AA7D-4D8E-A92D-EA900DD5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02C7B-CB93-451F-AF3A-BA665D18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AAB8A-2F55-400D-B92C-DC45E451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DA1C7-BE98-4303-83C5-7DAB537B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1672E-A121-4DD7-A404-ABCA8833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5DD25-5BB0-4298-BEE9-8DED6828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16997-2C6D-4E5E-99E6-1AA0E133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51047-9DDB-4D83-A574-990A98B1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86F95-FE56-45BC-9D25-FC9890D1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8D68-A75C-4EFC-A3DB-2A25D4B0B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BAC1-04E2-4929-8946-1D77D2D9B09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5882-1F52-4463-BD12-D98D5E12D9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E0DB-FBF6-48C3-8A59-997B5435AC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95A7-98B6-48B0-B6DC-E1A290A0B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B0CF-3D35-4DE3-8E31-C9113CD3A8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D2A1-B20C-4E70-813B-9B09522C72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EA34-4781-4229-B9CB-0118DDFC68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51E1-75E8-484D-B243-5968F1A260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1462-7E54-4C89-9B4E-E3A947C8D6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59EC-D813-44AB-9FE0-9FAECD76C9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3739-7D5F-4A91-949E-A9E5398652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A6CF-BCF8-4966-9654-31AF3A0E6D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AA4B-14F9-49DE-B274-61ECF3A2E0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F897-4D63-483C-93DB-CF1485B8C2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1B3C-6841-49AF-BD49-3873D11A5A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1BBB-663A-42AF-973F-DE96C932A5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42BE-327A-48D6-9DFE-D8BF3B2A48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883B-A9D6-4137-A529-B785C22313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2F3C-5DD2-4A85-BFC1-462E6A6C750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AC25-47E6-4087-A7ED-962B5135BC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0742-C12E-47D0-B8AE-ECFA853CE4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EAB1-0181-4892-86F6-F24ABBFA8E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10F3-8DD4-4C61-B951-D5181C392E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7FE0-52F0-4BC3-AC7F-11408F0F6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show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WordArt 6"/>
          <p:cNvSpPr txBox="1"/>
          <p:nvPr/>
        </p:nvSpPr>
        <p:spPr>
          <a:xfrm>
            <a:off x="1908000" y="2205000"/>
            <a:ext cx="496908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万年牢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showim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showimg3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5"/>
          <p:cNvSpPr/>
          <p:nvPr/>
        </p:nvSpPr>
        <p:spPr>
          <a:xfrm>
            <a:off x="0" y="184464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走街串巷　天津　　损伤　晾晒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竹签　　　耽误　　甩出　赚钱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嫌弃　　　掺假　　削好　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6" descr="PTW_015"/>
          <p:cNvPicPr/>
          <p:nvPr/>
        </p:nvPicPr>
        <p:blipFill>
          <a:blip r:embed="rId1"/>
          <a:stretch/>
        </p:blipFill>
        <p:spPr>
          <a:xfrm>
            <a:off x="0" y="0"/>
            <a:ext cx="1440000" cy="201600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7"/>
          <p:cNvSpPr/>
          <p:nvPr/>
        </p:nvSpPr>
        <p:spPr>
          <a:xfrm rot="442800">
            <a:off x="1547280" y="0"/>
            <a:ext cx="5473800" cy="1700280"/>
          </a:xfrm>
          <a:prstGeom prst="cloudCallout">
            <a:avLst>
              <a:gd name="adj1" fmla="val -52814"/>
              <a:gd name="adj2" fmla="val 44675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2195640" y="0"/>
            <a:ext cx="48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嗨！同学们，你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正确地读出这些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4"/>
          <p:cNvSpPr/>
          <p:nvPr/>
        </p:nvSpPr>
        <p:spPr>
          <a:xfrm>
            <a:off x="1571040" y="189000"/>
            <a:ext cx="575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的糖葫芦蘸得均匀，越薄越见功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吃一口让人叫好，蘸出的糖葫芦不怕冷不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热不怕潮，这叫万年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1569600" y="2637000"/>
            <a:ext cx="575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公平买卖走正道，顾客点头说声好，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头再来这是宝，做生意讲实在是万年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1569600" y="4653000"/>
            <a:ext cx="575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父亲教导我做万年牢，就是要做个可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人，实实在在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pic_141411"/>
          <p:cNvPicPr/>
          <p:nvPr/>
        </p:nvPicPr>
        <p:blipFill>
          <a:blip r:embed="rId1"/>
          <a:srcRect l="0" t="0" r="0" b="49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4"/>
          <p:cNvSpPr/>
          <p:nvPr/>
        </p:nvSpPr>
        <p:spPr>
          <a:xfrm>
            <a:off x="0" y="9079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    读下面的句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要求选择正确的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父亲的教导使我一生受益”这句中的“益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意思是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加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多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公平买卖走正道，顾客点头说声好，回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来这是宝，做生意讲实在是万年牢。”的理解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让顾客回头来，这是法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说明了讲信誉对生意人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1979640" y="1916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547640" y="4292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4"/>
          <p:cNvSpPr/>
          <p:nvPr/>
        </p:nvSpPr>
        <p:spPr>
          <a:xfrm>
            <a:off x="0" y="1890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选择合适的关联词，将每组中的两句话连接成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的节奏掌握得正好，一点也不耽误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亲很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的成绩不怎么好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乐于助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612720" y="242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因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的节奏掌握得正好，一点也不耽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所以父亲很高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539640" y="4941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虽然他的成绩不怎么好，    但是他乐于助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7:51:17Z</dcterms:created>
  <dc:creator>user</dc:creator>
  <dc:description/>
  <dc:language>en-US</dc:language>
  <cp:lastModifiedBy>a</cp:lastModifiedBy>
  <dcterms:modified xsi:type="dcterms:W3CDTF">2015-03-16T08:58:20Z</dcterms:modified>
  <cp:revision>5</cp:revision>
  <dc:subject/>
  <dc:title>幻灯片 1</dc:title>
</cp:coreProperties>
</file>