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2BC-8EF7-4D40-8C67-D00C6430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3E0-10CD-45AE-B2F4-99DDAE3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4310B-FF03-41C5-BBCA-41FE5A6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1892-C6A7-4579-91E7-DEB6F9C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47D0E-E7CD-4C32-9EDA-2E8DC3E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05D8-14A9-4271-9E57-1DBA84F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83A8B-DEEF-4AA3-B5F1-58715CB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1ADA2-C951-4748-A3E8-95C81E1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8B5B7-6911-4DBB-A76C-A9D3522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4622D-EFE5-42D8-96A6-912BC007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74F9D-D171-40E3-A5B6-0EFF9FF4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46C37-0BCA-4685-8C1C-F9CCB9A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DAB-96FA-49EE-900C-36F1F26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F8EEE-46E6-413F-B175-4558D071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2E233-705C-42AF-87DC-29F69AE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BFFAF-28DF-46A4-BCAC-0BF1C12A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79A9-14DA-4993-9BA5-AD01D97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77632-C837-410A-BE77-549DD9B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819E8-3921-4847-9653-D490113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EBFA2-ABDC-4D6D-89B1-A07879A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77F9-C473-4083-9BAD-3FEC24B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A85B5-2C5E-44CD-8700-0383614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2F4D7-0496-4327-8EE3-CBA37091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410-8463-4AC7-AF59-FD888FE4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62F26-70ED-4FC0-B717-86B781EC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5FDD-4FE5-49F5-9BE5-3928D56C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A6CC5-AB2F-4A0B-96F4-16BD3FF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CD3D-8DE2-43D6-866A-D1FDB8E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B8CDF-4443-479E-A610-238C02F9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B6E6-70A7-4A93-ACA2-3D6A3CD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3CA6-3C7B-4399-A192-29DE357B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1F042-C1C8-4F06-AD83-30C25AC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FD528-C503-4F4F-8E3C-048FC70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FE12-1FFE-455E-A040-2E67727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965-B52A-4A95-87FD-92FEBAC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F0924-7C6A-4915-9BC6-F848DB9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4CFC2-7870-4112-9AF0-51A18054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08DB9-CB6D-430C-BC25-316189DA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E9DF9-C53C-4A71-AE01-AA7FFABE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AA145-F17A-457E-97B6-BE4C8C62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F2522-1E68-41A1-A242-C3C7B282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61383-1A71-4488-AF11-580EAE8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2DEBC-03FA-4760-B0F5-0D309E4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8C87-AEED-4D76-8283-6265B68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5ABBF-976D-4FF6-8B60-5BC0242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977B-A000-45BD-9562-D0F3711C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068D8-ECE6-41D1-935D-9D09803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C16C9-B51C-419E-9CEE-27671C3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0CC00-852D-416A-8478-FA524A7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7ED22-6451-4662-A2C8-C6853C9B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C24C7-D7CC-4F46-A1FA-2DBCDECD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28174-D66F-47F1-BF76-5491F0DC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96997-D902-49A2-934E-A67D9463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E9CC1-F83C-430F-81CE-237226C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8FF23-F1AA-4A18-A53C-A163FCA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07BCE-954F-4E08-83E2-28A7093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26B1-528E-4F89-BC04-12DAB9B0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6AAC5-2E20-46FA-95FD-DD89D2E9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CEA2A-E93E-450F-9B68-6F7BD66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BCDE9-E201-493C-BE67-DE6A736C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38402-B151-4757-BEC7-F4680A8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DD83D-1914-4764-A47C-3466D32F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F4D67-03A2-4364-89A6-A4E21B4E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89BB7-A584-4F9A-894B-C545BEF6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E364B-1312-4E83-9309-125A8C83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E1FE6-55D4-41D0-B701-8BB3B63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16090-86D8-4E6E-B7BB-F19D46A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4DA-6D78-44BD-B8C0-9E08A07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E66FA-E114-4968-9450-293C49C2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C0946-D931-49F8-A3D2-97F24A7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7F7E4-08FF-4293-BC38-43D7594D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C6F99-221D-48C0-AD42-F6421A6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29BE5-16D5-42C3-85F6-16DBA492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16B1B-510B-478B-94D0-C20F868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9009E-DC37-497A-B487-783461F1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BC962-F354-49F6-AE94-545F0C27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CF8F4-3B32-49BE-8617-79501652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2EF-5D4A-46FC-B5A4-7209F2D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07D4-B252-4EF1-9499-F86F1C3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D6E-AB9C-40C4-9C31-C441BE3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DBD-DF73-4FDA-B364-6A7A8289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4018-376C-4CCC-8A09-401108A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F94-A73B-4F13-A529-B39F68E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222-59FD-412D-8E6B-22FFB7B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A5B7-A9A4-4FDB-9E77-71FBA2AA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86F9-0382-4A6F-9D03-B7970AB8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48B9-C739-478A-A53B-354165FC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75CC-1FC5-48CE-A31F-A4D086D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8178-4812-4636-926F-4AFC8D0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ED81-AAAD-4C85-A17F-4E0E544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7F61-CE97-4DAB-A2D7-05D053A2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F24-9726-479D-B8A6-B7929C2E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31EA-826E-41FF-8E33-FB67C64A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1841-1AEE-4826-8C8B-44EABE3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0785-0F83-4F31-BC08-F68D4E8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008C-E21B-4208-B72E-F3925985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0BFF-7D1B-4633-8B43-B198360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7AE0-38DC-403F-A0B2-37ECEE42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3578-B471-4DEF-80D2-B4E3E5AC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CC4E-FF37-499F-AE2A-1D11E3D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56B7-9DEF-426B-8209-62BF9A49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7A5C-F181-4DAB-AE8B-6E84676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119-9EC7-42A4-A208-C8A7AA36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5FEF-9A4C-492D-8FB3-472031C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2CD5-982B-4C3E-9FE9-4D5157E1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BA2F-E609-47F0-BB96-76CA06A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2FCF-7816-43AD-A0F9-15B1603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B25B-7850-4A04-9BE5-9455407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C142-684F-4206-8281-43825AA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409E-42AC-40EA-B702-6B8002B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5EC9-3507-4624-ABB2-EF5FBC10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DCF6-44B4-4ADA-AE9B-C27B0E0B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526C-EF25-468B-BBEA-378ACD17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C97-B90D-4B66-99C5-4307D95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497C-E683-41C1-9D62-AD245C68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E641-2650-49AE-B2C8-C1D1C1FD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3E4F2-A79E-47B7-B955-337BED8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F7E8-DCF2-4FBD-9A9A-5FCB7DA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257D-49E2-4477-8F6C-1C7FEC7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5B4D-2D60-43A8-890A-6ACD644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6565-3BD4-4E07-AD33-AC172D2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9A63-E3E6-42D3-AF97-224EA5F6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EBB78-F2A3-4649-99AB-0182A9FE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3F6C-D48F-4B65-A109-A5EC9CFE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17C-0CC1-413E-8224-0D548BE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5A8B-09E1-46DD-A8E1-D4BEB33B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C1CD-2AC0-4328-B075-1DC132C6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FCF7-CBBF-40C7-AF8F-31320CAA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90D0-5DB2-4A65-81E4-A2255F7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B0F6-956F-40A1-BC53-B4140F2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D94B-7991-41C4-A068-310A048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37849-F260-43DF-ACE5-878FFCD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5901-B8AA-485D-B5B1-B87B179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4883-712F-498C-BAC4-3BE616F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192E-A6FF-4DF4-9DB8-0CA6037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C3B-8167-4D1D-A844-BAB4B55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72E29-771C-40D3-AB49-FF9B48D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799AA-459E-4FF9-B8D1-901CE7CE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DDF8-49AA-484A-AAD2-0E54433F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86D9-7DD7-4661-AC21-D44FB889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4D7B-3FB4-481D-BD8D-87845AF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4BC6-4DD8-43C7-A55A-19EA470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7067-281E-46E2-AEBA-AC47A85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4196-397C-4F93-A957-9A28096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4DC05-E91B-42A7-93E0-B904AD6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2063-41F5-4737-9880-922A09A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EE9-D992-4EB1-84D1-7C06F89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55B2-280D-4BD0-B122-299E3C8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37718-13EB-4A16-BF36-F1A1AC7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B208-3DEA-43BB-9985-91063BD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0AA3-A84B-463F-99BB-85D5FC6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45E1-0C77-4C6B-A1E5-94B935C5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1B532-62BD-4F5C-946C-3C9CB318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1329-8554-49DC-B9FE-D11F1F07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86ADF-D077-4E34-ABB4-39603801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35536-DC34-4696-A1C4-449A80F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7548-0B41-42A2-B203-91CAD8D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D98-20E3-43E0-A06A-127A025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844B-DC9C-48BE-A128-177C314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AD09-BFD1-4F87-91A5-63C16A2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1B2F-A2A3-4B41-8FD0-82A235C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67C9-17E6-4931-934B-698F00D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2837-36EB-472A-851B-E8F841D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2459-5ABA-49E6-A552-F7007B3D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0196-0DCE-4FE1-A694-2B769BDC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4173-F9E3-4BDB-B951-6F914D5F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B94AF-C33B-4D53-906E-1619246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F77AF-83FB-4346-83A6-0B04A8E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696-624C-45A5-84AF-24E392769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CF0-5490-429F-87DC-ACEB7E47A0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7C3-013E-4ACC-A455-D904BC2BF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167C-A077-4507-A859-40E27A73F1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E65-FE03-43DA-A592-48BF1E12D1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82F7-219D-4C0B-BD3E-9E6845E7B2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621-D731-4995-81D3-7C61F99115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3E9-03FA-4241-9CEE-628562D96F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7619-CDFF-4174-AAD3-625F45BC1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EB5C-D995-47FA-8065-5097ED87E2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626-A6E1-4048-A1B6-953796EF2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1CD8-C96C-4963-BA33-93DCF4BEF8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19F-C391-4D19-A191-C0A2BDAC1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8B1-2575-4B13-9361-4A26853DF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153B-01E3-4B36-A9B5-48D6F86B1E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51B0-C3ED-423B-8967-40707465B5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361-2D7F-4E5C-BDBE-1CAD2A0D35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CF9E-03A3-417C-B20A-51930AC9B7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B28-3705-4558-A450-867CE7BD35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7578-17C7-4574-9E3E-82A86E92F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52DD-687E-403B-BC90-E310D2450F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EDF-EB5B-4D0A-BE55-ED53E8AF7A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390-A363-4CEC-83DF-D8F554028F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5797-6B17-45B9-BEA0-700927EB1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EED-F9A4-4FE4-95E1-FDB25DD845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E508-D9A3-4D18-B352-C488309A45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8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892760" y="992160"/>
            <a:ext cx="3927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00"/>
                </a:solidFill>
                <a:latin typeface="华文琥珀"/>
                <a:ea typeface="华文琥珀"/>
              </a:rPr>
              <a:t>乌塔</a:t>
            </a:r>
            <a:endParaRPr b="0" lang="en-US" sz="1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028"/>
          <p:cNvSpPr/>
          <p:nvPr/>
        </p:nvSpPr>
        <p:spPr>
          <a:xfrm>
            <a:off x="1066680" y="6094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下列词语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029"/>
          <p:cNvSpPr/>
          <p:nvPr/>
        </p:nvSpPr>
        <p:spPr>
          <a:xfrm>
            <a:off x="1066680" y="1386000"/>
            <a:ext cx="7682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洗漱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)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享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受          一册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逻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辑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籍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反驳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b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语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i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意             解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惠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033"/>
          <p:cNvSpPr/>
          <p:nvPr/>
        </p:nvSpPr>
        <p:spPr>
          <a:xfrm>
            <a:off x="1066680" y="464832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144792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梵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f2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蒂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d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冈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1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欧（</a:t>
            </a: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#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447920" y="306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恤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447920" y="4006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冰淇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724280" y="3048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ru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1447920" y="210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佛罗伦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*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萨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24280" y="4006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希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762120" y="172404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课文，想一想课文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一些什么事，对这些事你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什么看法和见解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乌塔.MP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905120" y="9907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设计好旅行路线和日程</a:t>
            </a:r>
            <a:endParaRPr b="1" lang="en-US" sz="2400" spc="1" strike="noStrike">
              <a:ln w="19080">
                <a:solidFill>
                  <a:srgbClr val="ff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1905120" y="22860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查警察局的电话号码</a:t>
            </a:r>
            <a:endParaRPr b="1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0" name="WordArt 6"/>
          <p:cNvSpPr txBox="1"/>
          <p:nvPr/>
        </p:nvSpPr>
        <p:spPr>
          <a:xfrm>
            <a:off x="1905120" y="35053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给家里打电话或寄明信片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1" name="WordArt 7" descr=""/>
          <p:cNvPicPr/>
          <p:nvPr/>
        </p:nvPicPr>
        <p:blipFill>
          <a:blip r:embed="rId1"/>
          <a:stretch/>
        </p:blipFill>
        <p:spPr>
          <a:xfrm>
            <a:off x="1895400" y="4791240"/>
            <a:ext cx="54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03:45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10T03:06:04Z</dcterms:modified>
  <cp:revision>10</cp:revision>
  <dc:subject/>
  <dc:title>第一PPT模板网-WWW.1PPT.COM</dc:title>
</cp:coreProperties>
</file>