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701-CF49-4E42-9246-0D3EBB0F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43B-3525-4046-A862-1402364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11E-E22A-4EDE-A5D9-33798CEF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85B-BAB6-43F0-81DD-7BF76547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1D7-C1BF-4413-8565-BFB05B5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EFC5-D07D-4FF0-8CAC-7030F4E5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B88-B07C-4456-B38D-09F83F4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9E24-9ABC-4C60-A332-F179F43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33AD-CCB6-4EF5-B5DB-4580EF69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BAF-5897-4EE3-AD7B-2D70B88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9CF2-2ADE-4A6A-AA5D-B675C3D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105-1B5C-4B9B-B73A-325A304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019B-54DA-4A60-90EE-40DAA2F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B6DA-DC37-4AB1-AC16-DC5DDCFD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8956-54FB-4176-A206-2DA3EC11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C8B3-DCCC-4EE3-979D-40AABF2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1093-09A0-4DFB-805A-8B180D78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E32-F9E4-4991-A872-536A6A9D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085-FB6F-4715-B010-6EBE50A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374-3521-4CBB-B789-EC30344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929-2C18-4C7A-8358-FE1652C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C69-3988-4682-990E-BF3D52D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E96-DE7A-4B00-ACAD-7CAE182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02E-D61B-484D-A1BD-A7C74D3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7A1-2F34-4BDD-80F8-04CEF68BB800}" type="slidenum"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7B2F-43CD-4C50-B141-2A71E1578854}" type="slidenum"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9E9-D70B-4588-8D28-970427140F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新世界</cp:keywords>
  <dc:language>en-US</dc:language>
  <cp:lastModifiedBy/>
  <cp:revision>0</cp:revision>
  <dc:subject/>
  <dc:title/>
</cp:coreProperties>
</file>