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3554-B8DB-4F0C-B815-20E9C5B76E1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6917-81F5-4694-9C1D-6D6C44578C2E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ABD3-47C1-4DA0-838D-66A5A6FE23CC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07BF-D120-41C1-B855-1B96BB78B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2481-13B4-497B-B5B6-FF3EEAAE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4C974C-2E0D-4F7E-B158-42FA7AE3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3766F-F2CE-4047-89E7-A51C332C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275094-CCC3-458E-8CA8-E0E4038E4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069F35-4A9C-49FB-A9C5-76D8C9A6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291588-554E-449B-85E4-15320F0F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BF0E9C-82E4-4D6F-869F-249C3EC4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45801C-C6A4-4FAE-AFC6-31C00FB7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4610BD-95AB-43E6-99C5-E9D119DEE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91A700-825C-4C6B-9FD3-88381CB16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F28D02-89A7-4C3C-B1ED-BE0B7E6EF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8CFF-9490-4855-B4C6-79ADB27FA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78805C-B49D-43A1-9FBF-8A808AFC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B79858-CBD4-4C0E-84C6-26EA27FA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D9E2D7-9971-4328-BF4F-FAE12950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C69289-9EED-4D59-9382-E51472FF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D0B063-2E8E-43ED-8389-513B0548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4DEC3C-CF79-442B-B346-EA7DC1AE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CAAFC1-4A0D-48B8-8954-912EAE16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B7C673-D072-49C3-AF9E-30155F9B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22BBAC-1AC5-402A-B945-C001EFA8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BEA386-F1A7-4C50-94CE-1E0441E25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2328-3FC5-4DF9-A281-70FC3EB33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72D934-3FD1-4460-BD36-D11DBF4B1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8C84D5-BED3-4265-9D1A-98AADB310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A6D26-29F9-499F-92C7-81A69B71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0B31FF-A8F9-4D1B-A32D-EAA2BCA8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874CC-109C-4C4F-901F-01D51CEE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27D15F-8A05-47EC-BA60-C4A48E97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B9FE2-4403-4DD9-89A9-60C32C16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68740-6C95-457A-B349-C2694608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17471-9982-4DA9-B47E-5140302C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4973B1-79A7-4B10-91EE-CCFE1FBC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19FE-7F06-438B-8A8D-CAFC2E68D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3C89B8-928D-4EBD-9EC9-EED1E605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7A5E7-C4BC-44C3-87DD-A24FDDCA9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DC52F-575D-43EF-9AFE-090CFE5E5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2EC7C5-ABA5-4843-93B2-2EB9D8E22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9A90A3-08D4-4EBE-AC21-103C0327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E00959-D813-44C6-BF0E-A0F957F1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8A47F8-4991-4BDA-BFCC-E3061330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2546DF-8FA0-46C9-9C45-330BDC51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5AF8FF-29AE-4E02-B076-5E912577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38992E-DC41-46D2-9C13-F84A280A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D5CF-2CEB-47E3-AF00-5212E29F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3E0D59-7575-4F90-ABA1-7BD1CC2F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DE2A3C-215E-4DE1-AF08-C9D5D9B0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90D905-29B9-4602-A0E0-D6EB0B89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045E4A-4F1E-45F9-98E9-B9917AB69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8C3D96-31A2-4991-9ADF-970F8F765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519225-3731-4022-B15A-CE812D148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37BCC5-5D9A-468A-AA68-EA53AD77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69BA28-1D6A-4403-B878-F2C71F7D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DBD5B2-17AC-4201-A433-04330445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280AFB-277D-48C7-8E25-2737CDEA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93D6-7ED2-4408-90CA-91C31823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274D9E-EA56-45FF-B885-E324E221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508ABD-BAFE-43D0-A326-15B8410C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C1F164-8009-4D5D-B21E-EAB18361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586243-A5B3-42A4-A5AA-324F5B86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EB34A8-B410-4036-80CB-3538F9C2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46BC0E-1E32-4B8F-AD0A-BCD2E31F4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573F8B-68D1-439D-BB33-9B348FFE6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2224-FE18-437F-A27F-6832A847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3979-F8D8-40EE-9D08-EBBB9CB1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E2E9-C39F-4880-9EAE-14649C33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32816-FAD8-465A-B881-98DFC698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4C7B-2587-4923-9F50-1554703D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D510-C9A3-4A3C-AAB7-78FCBBEA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08100-7D18-4DF3-9C4F-014B2FBD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E8EB-E0EB-4AD3-BA77-F1DAED17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23DA2-5E90-4726-951E-33C680AEA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E247-2D96-47B5-A6A7-AF54E9562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3A946-0A7E-434C-A521-4439A1E07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2155A-C358-4558-A011-9EC5B3BD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A8362-E2D7-48CD-9739-4C25FB33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58795-042B-4BB8-9B23-1281CD59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6A1C8-E89A-4B73-892D-72C855A0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9E48-56C0-48CA-92E0-30A73795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685C5-DC63-426A-B4AC-7DC3633F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00AE5-E866-4337-958A-9058792E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A7BBA-ADBE-47D8-895C-3F724016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D08DE-3D97-4F3C-AE63-38771C7C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8DD12-607B-4804-B0ED-09BF09BD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6BD31-D0E5-4A4D-9A86-10D22B264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85669-6D93-46AA-9037-116BB1AEB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E8AE8-001C-4801-A20E-715A6F85A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19CA0-6037-45EA-A8A9-8A1740D5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D4AA9-FF41-42D6-B1A2-868508D8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F99F-E0A6-43D7-8303-1FC71206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67562-68C9-4526-BB28-4482E2A9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7135D-4545-4F85-BA83-05A32F8A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7A8A9-357D-4C8C-90A2-87A990C7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1CDA3-AA6D-4E59-B4DE-5E834422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FC738-C05F-45AC-8662-9BD9AE29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A0B92-7C9E-4021-A6D2-993B4B3C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D72A8-257C-4CD2-971B-99035168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51D5E-F960-4E76-A8BD-225CB4E20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3AB88-12CD-4143-90A4-72CF8EF8C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C73BB-F6DF-4C0D-B24D-B5811794A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675F-3C15-4640-B2C3-81636BB8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D9285-4DFF-4768-AC1F-DC70BA37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6D7C2-9E72-4BBC-9341-0F0FB147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E219F-294E-4620-81A7-2059FD21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58457-5332-46FA-8995-264B78AE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A6E9C-B352-4DBF-8A8C-95D55DA2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F05F4-3A64-4DBF-878B-AA18118F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F0BA7-EBC9-4BEA-93DB-A3FD7B76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D056C-01E8-4E8E-B20E-954A302B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27512-0848-4964-A7B2-F4726BB2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55267-335B-417A-84EF-F7D9D5DCD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372D-AE4C-46B7-AA75-5E90AE85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EA352-ABA8-41F6-BA82-718ED68E6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03E68-A9B2-4F90-98C4-F7AB974E8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19B62-6814-43B1-B26E-667D075D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8FBA1-A525-4D77-BF1C-F65C2522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709AA-DC0F-437A-8388-D4F81A15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89D4F-48C6-41DA-AFC6-7955CE0C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08538-4645-494E-806B-FC5A0BAE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108D1-E440-4F4D-96C9-EB745E47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D3439-A0B1-4F30-AF19-E93AA681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C62D7-F708-477F-BCC8-C60AAFF6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8785-1D05-4AA4-991A-9F598EA3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BB58A-3135-484F-9E3D-092355AC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37374-5888-41D9-8B05-89F8D454F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E2305-A154-43DC-BC04-403BB8858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47522-FCA2-4E18-A6E7-308EFFBDE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C95E1-5532-4075-A216-4FDCFD0E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876EC-8313-4B5F-933F-1D6CAD19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70CD1-3980-47AC-84D6-D15606B9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242ED-4CBC-4D63-9F86-B7B5FA99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A3D29-573C-4F83-A416-04E12E32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92AE6-9B13-4F97-9EC0-78B18330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79C1-9494-448F-B365-64A2A706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20131-2E74-4EA2-98BF-4B18CCD2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62979-2FFE-445F-BB46-0432D196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8BD94-7BE3-4EB8-B224-9F299A3A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1994C-A426-4C7B-B0F2-0CF415E2A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4AD4E-B883-423D-A701-F1B364D18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90872-6785-4214-A870-774EFCEC2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D2BE2-590B-4899-BF12-86550426F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EDBB9-975E-4807-8A65-44D14196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150C3-2AAC-4BA5-A239-0C686B5D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5E9ED-2D65-482F-9C1D-A3AA7DDA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2F03-549F-4EBB-AF40-0A041E0C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ACB97-E493-4FEE-99EA-84E1386B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41E88-D05A-4F1E-A977-C70D5C63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0199B-C6AD-4507-87AE-68F52003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34B03-ECB5-4452-8FD1-BBC6F5D0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46446-DFF3-485D-BBF0-AF67647C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579D1-FBC4-4E4C-8384-9A84D8D29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F5F4F-0D86-4DC7-89C7-BBFC4251C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AB0464-FDA8-4F73-AC78-BA77454F9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3F67A5-B342-43FD-AB1D-A6292F6C0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3403AA-AC6F-4069-BCEB-E2A42E77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27B1-B858-438D-84FA-5045181C4E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91B6-ABA8-4C27-A192-385E9E0D466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ABC5-59CE-4A05-974E-D9C5FACADE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704A-C19C-4C87-8687-34F4A0FEF62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709E-547E-49EF-B0A2-0FE34E2871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105B-1E60-4920-9C71-8EA3D12FD9A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3E39-98F3-4AA6-80B3-979115AF66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93A4-8A5F-4B9D-9603-FF9B1B6723A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4CB6-C7B8-4B3D-AA99-D8D0212FB1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2848-2201-4329-991E-50BCB9D4BD3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46E3-D437-4767-9E8D-575FBE9589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1812-F143-4C77-B2EE-CEFA14BA00A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BE90-13E8-4D42-9372-59903170238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B204-B851-4DA6-917F-296DC3B008D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9F5A-3C8E-4CAE-8294-49E3C271F9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4CBD-7045-4084-8121-B1A3DE28886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3A02-2B00-40AA-9FF0-9352759022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60ED-91AF-4500-8DA8-778DF567923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B080-2714-41EC-85B0-283A1FAF24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CFF7-7D36-46D5-8DEE-B7651F8C80F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B537-417D-4B0E-B6E7-EB3C5DC238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0847-E53F-433E-9910-1E32573E569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D114-767F-4884-9906-64D21066A7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0221-D984-4B9B-A5A5-9DC4ECFDFB5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F8FA-3325-41EB-9013-D8C273B9BC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slide" Target="slide3.xml"/><Relationship Id="rId17" Type="http://schemas.openxmlformats.org/officeDocument/2006/relationships/slide" Target="slide2.xml"/><Relationship Id="rId18" Type="http://schemas.openxmlformats.org/officeDocument/2006/relationships/slide" Target="slide3.xml"/><Relationship Id="rId19" Type="http://schemas.openxmlformats.org/officeDocument/2006/relationships/slide" Target="slide6.xml"/><Relationship Id="rId20" Type="http://schemas.openxmlformats.org/officeDocument/2006/relationships/slide" Target="slide5.xml"/><Relationship Id="rId21" Type="http://schemas.openxmlformats.org/officeDocument/2006/relationships/slide" Target="slide12.xml"/><Relationship Id="rId22" Type="http://schemas.openxmlformats.org/officeDocument/2006/relationships/slide" Target="slide4.xml"/><Relationship Id="rId23" Type="http://schemas.openxmlformats.org/officeDocument/2006/relationships/slide" Target="slide5.xml"/><Relationship Id="rId24" Type="http://schemas.openxmlformats.org/officeDocument/2006/relationships/image" Target="../media/image2.pn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矩形 12"/>
          <p:cNvSpPr/>
          <p:nvPr/>
        </p:nvSpPr>
        <p:spPr>
          <a:xfrm>
            <a:off x="1403280" y="227664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25 </a:t>
            </a:r>
            <a:r>
              <a:rPr b="1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为中华之崛起而读书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2" name="AutoShape 1037">
            <a:hlinkClick r:id="rId16" action="ppaction://hlinksldjump"/>
          </p:cNvPr>
          <p:cNvSpPr/>
          <p:nvPr/>
        </p:nvSpPr>
        <p:spPr>
          <a:xfrm>
            <a:off x="6227640" y="1628640"/>
            <a:ext cx="2210040" cy="838440"/>
          </a:xfrm>
          <a:prstGeom prst="cloudCallout">
            <a:avLst>
              <a:gd name="adj1" fmla="val 19828"/>
              <a:gd name="adj2" fmla="val -43939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  <a:hlinkClick r:id="rId17" action="ppaction://hlinksldjump"/>
              </a:rPr>
              <a:t>读一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AutoShape 1038">
            <a:hlinkClick r:id="rId18" action="ppaction://hlinksldjump"/>
          </p:cNvPr>
          <p:cNvSpPr/>
          <p:nvPr/>
        </p:nvSpPr>
        <p:spPr>
          <a:xfrm>
            <a:off x="4572000" y="2514600"/>
            <a:ext cx="2209680" cy="838080"/>
          </a:xfrm>
          <a:prstGeom prst="cloudCallout">
            <a:avLst>
              <a:gd name="adj1" fmla="val 19611"/>
              <a:gd name="adj2" fmla="val -41666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学一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AutoShape 1039">
            <a:hlinkClick r:id="rId19" action="ppaction://hlinksldjump"/>
          </p:cNvPr>
          <p:cNvSpPr/>
          <p:nvPr/>
        </p:nvSpPr>
        <p:spPr>
          <a:xfrm>
            <a:off x="6629400" y="3213000"/>
            <a:ext cx="2514600" cy="838440"/>
          </a:xfrm>
          <a:prstGeom prst="cloudCallout">
            <a:avLst>
              <a:gd name="adj1" fmla="val 21023"/>
              <a:gd name="adj2" fmla="val -50759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资料展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AutoShape 1040">
            <a:hlinkClick r:id="rId20" action="ppaction://hlinksldjump"/>
          </p:cNvPr>
          <p:cNvSpPr/>
          <p:nvPr/>
        </p:nvSpPr>
        <p:spPr>
          <a:xfrm>
            <a:off x="4495680" y="5562720"/>
            <a:ext cx="2668680" cy="838080"/>
          </a:xfrm>
          <a:prstGeom prst="cloudCallout">
            <a:avLst>
              <a:gd name="adj1" fmla="val 18555"/>
              <a:gd name="adj2" fmla="val -46212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讨论交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AutoShape 1057">
            <a:hlinkClick r:id="rId21" action="ppaction://hlinksldjump"/>
          </p:cNvPr>
          <p:cNvSpPr/>
          <p:nvPr/>
        </p:nvSpPr>
        <p:spPr>
          <a:xfrm>
            <a:off x="6400800" y="4724280"/>
            <a:ext cx="2563920" cy="838440"/>
          </a:xfrm>
          <a:prstGeom prst="cloudCallout">
            <a:avLst>
              <a:gd name="adj1" fmla="val 25129"/>
              <a:gd name="adj2" fmla="val -46782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读思感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AutoShape 1058">
            <a:hlinkClick r:id="rId22" action="ppaction://hlinksldjump"/>
          </p:cNvPr>
          <p:cNvSpPr/>
          <p:nvPr/>
        </p:nvSpPr>
        <p:spPr>
          <a:xfrm>
            <a:off x="4495680" y="4038480"/>
            <a:ext cx="2668680" cy="838440"/>
          </a:xfrm>
          <a:prstGeom prst="cloudCallout">
            <a:avLst>
              <a:gd name="adj1" fmla="val 18555"/>
              <a:gd name="adj2" fmla="val -46212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法国求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8" name="Picture 1061" descr="周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0" y="1295280"/>
            <a:ext cx="4286160" cy="54403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5" descr="平民烟馆比比皆是，简陋的烟榻上总是横满了吸食鸦片的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2" name="眼泪.wma" descr=""/>
          <p:cNvPicPr/>
          <p:nvPr/>
        </p:nvPicPr>
        <p:blipFill>
          <a:blip r:embed="rId2"/>
          <a:stretch/>
        </p:blipFill>
        <p:spPr>
          <a:xfrm>
            <a:off x="32400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230033" fill="hold"/>
                                        <p:tgtEl>
                                          <p:spTgt spid="5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4" descr="人民流离失所"/>
          <p:cNvPicPr/>
          <p:nvPr/>
        </p:nvPicPr>
        <p:blipFill>
          <a:blip r:embed="rId1"/>
          <a:stretch/>
        </p:blipFill>
        <p:spPr>
          <a:xfrm>
            <a:off x="179280" y="46080"/>
            <a:ext cx="8964720" cy="6811920"/>
          </a:xfrm>
          <a:prstGeom prst="rect">
            <a:avLst/>
          </a:prstGeom>
          <a:ln w="0">
            <a:noFill/>
          </a:ln>
        </p:spPr>
      </p:pic>
      <p:pic>
        <p:nvPicPr>
          <p:cNvPr id="584" name="眼泪.wma" descr=""/>
          <p:cNvPicPr/>
          <p:nvPr/>
        </p:nvPicPr>
        <p:blipFill>
          <a:blip r:embed="rId2"/>
          <a:stretch/>
        </p:blipFill>
        <p:spPr>
          <a:xfrm>
            <a:off x="46836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230033" fill="hold"/>
                                        <p:tgtEl>
                                          <p:spTgt spid="5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00000"/>
                </a:solidFill>
                <a:latin typeface="Times New Roman"/>
              </a:rPr>
              <a:t>        </a:t>
            </a:r>
            <a:r>
              <a:rPr b="0" lang="zh-CN" sz="6000" spc="-1" strike="noStrike">
                <a:solidFill>
                  <a:srgbClr val="c00000"/>
                </a:solidFill>
                <a:latin typeface="Times New Roman"/>
              </a:rPr>
              <a:t>学了这一课你有什么感想？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755280" y="1196640"/>
            <a:ext cx="75582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spcBef>
                <a:spcPts val="165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00000"/>
                </a:solidFill>
                <a:latin typeface="Times New Roman"/>
                <a:ea typeface="隶书"/>
              </a:rPr>
              <a:t>读思感悟</a:t>
            </a:r>
            <a:r>
              <a:rPr b="0" lang="en-US" sz="6600" spc="-1" strike="noStrike">
                <a:solidFill>
                  <a:srgbClr val="c00000"/>
                </a:solidFill>
                <a:latin typeface="Times New Roman"/>
              </a:rPr>
              <a:t>: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-226080"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89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读一读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崛 起  帝 国  模 范  巡 警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吵 嚷  惩 处  铿 锵  有 力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1" name="Picture 1028" descr="按钮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8360" y="610236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12" dur="20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17" dur="2000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971800" y="285732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学一学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1676520" y="228600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伯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2209680" y="472428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振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6491160" y="228600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嚷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3352680" y="548640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范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Text Box 8"/>
          <p:cNvSpPr/>
          <p:nvPr/>
        </p:nvSpPr>
        <p:spPr>
          <a:xfrm>
            <a:off x="1752480" y="350532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租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Text Box 11"/>
          <p:cNvSpPr/>
          <p:nvPr/>
        </p:nvSpPr>
        <p:spPr>
          <a:xfrm>
            <a:off x="5958000" y="106668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妇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Text Box 12"/>
          <p:cNvSpPr/>
          <p:nvPr/>
        </p:nvSpPr>
        <p:spPr>
          <a:xfrm>
            <a:off x="2362320" y="114300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Text Box 13"/>
          <p:cNvSpPr/>
          <p:nvPr/>
        </p:nvSpPr>
        <p:spPr>
          <a:xfrm>
            <a:off x="6643800" y="3581280"/>
            <a:ext cx="76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巡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Text Box 14"/>
          <p:cNvSpPr/>
          <p:nvPr/>
        </p:nvSpPr>
        <p:spPr>
          <a:xfrm>
            <a:off x="6095880" y="480060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凡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Text Box 15"/>
          <p:cNvSpPr/>
          <p:nvPr/>
        </p:nvSpPr>
        <p:spPr>
          <a:xfrm>
            <a:off x="3429000" y="38088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帝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Text Box 16"/>
          <p:cNvSpPr/>
          <p:nvPr/>
        </p:nvSpPr>
        <p:spPr>
          <a:xfrm>
            <a:off x="4876920" y="548640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闯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4" name="Picture 19" descr="按钮"/>
          <p:cNvPicPr/>
          <p:nvPr/>
        </p:nvPicPr>
        <p:blipFill>
          <a:blip r:embed="rId1"/>
          <a:stretch/>
        </p:blipFill>
        <p:spPr>
          <a:xfrm>
            <a:off x="8286840" y="600084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20"/>
          <p:cNvSpPr/>
          <p:nvPr/>
        </p:nvSpPr>
        <p:spPr>
          <a:xfrm>
            <a:off x="4738680" y="3049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惩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在法国求学的周恩来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7" name="Rectangle 14"/>
          <p:cNvSpPr/>
          <p:nvPr/>
        </p:nvSpPr>
        <p:spPr>
          <a:xfrm>
            <a:off x="1295280" y="1525680"/>
            <a:ext cx="6629400" cy="74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8" name="Picture 17" descr="按钮"/>
          <p:cNvPicPr/>
          <p:nvPr/>
        </p:nvPicPr>
        <p:blipFill>
          <a:blip r:embed="rId1"/>
          <a:stretch/>
        </p:blipFill>
        <p:spPr>
          <a:xfrm>
            <a:off x="8229600" y="5867280"/>
            <a:ext cx="857160" cy="857520"/>
          </a:xfrm>
          <a:prstGeom prst="rect">
            <a:avLst/>
          </a:prstGeom>
          <a:ln w="0">
            <a:noFill/>
          </a:ln>
        </p:spPr>
      </p:pic>
      <p:pic>
        <p:nvPicPr>
          <p:cNvPr id="569" name="周恩来在法国.asf" descr=""/>
          <p:cNvPicPr/>
          <p:nvPr/>
        </p:nvPicPr>
        <p:blipFill>
          <a:blip r:embed="rId2"/>
          <a:stretch/>
        </p:blipFill>
        <p:spPr>
          <a:xfrm>
            <a:off x="1403280" y="1616040"/>
            <a:ext cx="6408720" cy="52419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569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569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" dur="1" fill="hold"/>
                                        <p:tgtEl>
                                          <p:spTgt spid="5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3"/>
          <p:cNvSpPr/>
          <p:nvPr/>
        </p:nvSpPr>
        <p:spPr>
          <a:xfrm>
            <a:off x="228600" y="685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读思感悟：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Text Box 5"/>
          <p:cNvSpPr/>
          <p:nvPr/>
        </p:nvSpPr>
        <p:spPr>
          <a:xfrm>
            <a:off x="419040" y="271296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*</a:t>
            </a:r>
            <a:r>
              <a:rPr b="0" lang="zh-CN" sz="44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使周恩来立下</a:t>
            </a:r>
            <a:r>
              <a:rPr b="0" lang="zh-CN" sz="4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“</a:t>
            </a:r>
            <a:r>
              <a:rPr b="0" lang="zh-CN" sz="44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为中华之崛起而读书</a:t>
            </a:r>
            <a:r>
              <a:rPr b="0" lang="zh-CN" sz="4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”</a:t>
            </a:r>
            <a:r>
              <a:rPr b="0" lang="zh-CN" sz="44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这个志向的原因是什么？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2" name="Picture 9" descr="按钮"/>
          <p:cNvPicPr/>
          <p:nvPr/>
        </p:nvPicPr>
        <p:blipFill>
          <a:blip r:embed="rId1"/>
          <a:stretch/>
        </p:blipFill>
        <p:spPr>
          <a:xfrm>
            <a:off x="8210520" y="5886360"/>
            <a:ext cx="857160" cy="857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4" descr="北京街头刑场"/>
          <p:cNvPicPr/>
          <p:nvPr/>
        </p:nvPicPr>
        <p:blipFill>
          <a:blip r:embed="rId1"/>
          <a:stretch/>
        </p:blipFill>
        <p:spPr>
          <a:xfrm>
            <a:off x="144360" y="144360"/>
            <a:ext cx="8999640" cy="8153640"/>
          </a:xfrm>
          <a:prstGeom prst="rect">
            <a:avLst/>
          </a:prstGeom>
          <a:ln w="0">
            <a:noFill/>
          </a:ln>
        </p:spPr>
      </p:pic>
      <p:pic>
        <p:nvPicPr>
          <p:cNvPr id="574" name="眼泪.wma" descr=""/>
          <p:cNvPicPr/>
          <p:nvPr/>
        </p:nvPicPr>
        <p:blipFill>
          <a:blip r:embed="rId2"/>
          <a:stretch/>
        </p:blipFill>
        <p:spPr>
          <a:xfrm>
            <a:off x="1476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230033" fill="hold"/>
                                        <p:tgtEl>
                                          <p:spTgt spid="5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4" descr="日本海军陆战队抢先开进中国，他们后来成了联军主力"/>
          <p:cNvPicPr/>
          <p:nvPr/>
        </p:nvPicPr>
        <p:blipFill>
          <a:blip r:embed="rId1"/>
          <a:stretch/>
        </p:blipFill>
        <p:spPr>
          <a:xfrm>
            <a:off x="0" y="-1684440"/>
            <a:ext cx="9144000" cy="8542440"/>
          </a:xfrm>
          <a:prstGeom prst="rect">
            <a:avLst/>
          </a:prstGeom>
          <a:ln w="0">
            <a:noFill/>
          </a:ln>
        </p:spPr>
      </p:pic>
      <p:pic>
        <p:nvPicPr>
          <p:cNvPr id="576" name="眼泪.wma" descr=""/>
          <p:cNvPicPr/>
          <p:nvPr/>
        </p:nvPicPr>
        <p:blipFill>
          <a:blip r:embed="rId2"/>
          <a:stretch/>
        </p:blipFill>
        <p:spPr>
          <a:xfrm>
            <a:off x="46836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230033" fill="hold"/>
                                        <p:tgtEl>
                                          <p:spTgt spid="5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4" descr="图片４"/>
          <p:cNvPicPr/>
          <p:nvPr/>
        </p:nvPicPr>
        <p:blipFill>
          <a:blip r:embed="rId1"/>
          <a:stretch/>
        </p:blipFill>
        <p:spPr>
          <a:xfrm>
            <a:off x="0" y="0"/>
            <a:ext cx="9144000" cy="8037360"/>
          </a:xfrm>
          <a:prstGeom prst="rect">
            <a:avLst/>
          </a:prstGeom>
          <a:ln w="0">
            <a:noFill/>
          </a:ln>
        </p:spPr>
      </p:pic>
      <p:pic>
        <p:nvPicPr>
          <p:cNvPr id="578" name="眼泪.wma" descr=""/>
          <p:cNvPicPr/>
          <p:nvPr/>
        </p:nvPicPr>
        <p:blipFill>
          <a:blip r:embed="rId2"/>
          <a:stretch/>
        </p:blipFill>
        <p:spPr>
          <a:xfrm>
            <a:off x="75564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230033" fill="hold"/>
                                        <p:tgtEl>
                                          <p:spTgt spid="5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052" descr="一位高官即将就刑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0" name="眼泪.wma" descr=""/>
          <p:cNvPicPr/>
          <p:nvPr/>
        </p:nvPicPr>
        <p:blipFill>
          <a:blip r:embed="rId2"/>
          <a:stretch/>
        </p:blipFill>
        <p:spPr>
          <a:xfrm>
            <a:off x="32400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230033" fill="hold"/>
                                        <p:tgtEl>
                                          <p:spTgt spid="5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第一PPT模板网-WWW.1PPT.COM</dc:creator>
  <dc:description>第一PPT模板网-WWW.1PPT.COM
</dc:description>
  <dc:language>en-US</dc:language>
  <cp:lastModifiedBy>a</cp:lastModifiedBy>
  <dcterms:modified xsi:type="dcterms:W3CDTF">2015-02-10T11:21:38Z</dcterms:modified>
  <cp:revision>105</cp:revision>
  <dc:subject/>
  <dc:title>第一PPT模板网-WWW.1PPT.COM</dc:title>
</cp:coreProperties>
</file>