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C8FE-C2D5-49F3-ACE1-FE88978A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29A-BCAF-4342-B237-241B2234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63A-DDA2-446E-8B71-6254712D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C4D-9A72-4567-A952-86C8D846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8D2C-6D9B-4AB0-A4FB-946E3503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ED0E-CA80-42D8-AB55-5F838A23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7EA6-6D38-4466-8EA4-7DB13B49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BB25-5749-48D6-8A9D-65A23EB6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B594-5DD7-4E62-9429-3FFD8864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8B2A-9F71-437D-B106-CE3F55A3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82A3-DD24-4350-AD32-B5A7E126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81F-3E78-4B63-9EE7-5432705F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528F-6C81-4528-8E77-82E37A0F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4BF0-FBE2-432E-8414-E0718123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32DA-96ED-4C84-B181-B0CEEABB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7939-2D0D-48CD-A252-AB8C821C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8086-8958-4422-8499-1ECD280D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462-F0E6-4F0E-A2FA-A0B8A587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D30-EAF7-40F5-B894-3DEE38D8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EE8-3F1D-4E25-8C74-40953974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D9D-618F-498D-A630-539FCE61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A7A-BBBD-4890-94D0-EC48C349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42C-DE79-466D-99B8-47370B0D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278-5CBD-42C2-A009-ACDB4717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AFC4-0AC7-47B9-B38B-4E4EBF6F623B}" type="slidenum"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D838-D6C3-4918-84EE-2BE0043831D4}" type="slidenum"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22720" y="1736640"/>
            <a:ext cx="5025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①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圆柱的上、下两个面怎么样？叫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做什么？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②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用手摸一摸圆柱周围的面，你发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现什么？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③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圆柱一共有几个面？是哪几个面？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④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圆柱两个底面之间的距离叫做什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么？在哪里？有几条？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98000" y="45720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仔细观察，边看书边思考：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82160" y="1676520"/>
            <a:ext cx="536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①</a:t>
            </a: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将圆柱两底面分别画在纸上，剪下重叠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比较大小，你发现什么？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②</a:t>
            </a: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把罐头盒或饮料罐等的商标纸用小刀沿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着它们的一条高切开，再打开，看看商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标纸是什么形状？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③</a:t>
            </a: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用直尺量一量罐头盒的高，你发现什么？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④</a:t>
            </a: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玩一玩你手中的圆柱体，你还发现了什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f8f8f8"/>
                </a:solidFill>
                <a:latin typeface="黑体"/>
                <a:ea typeface="黑体"/>
              </a:rPr>
              <a:t>么？或还有什么疑问？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4280" y="45720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小组合作，动手动脑：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59800" y="5335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指出下列圆柱的底面、侧面和高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971800" y="2362320"/>
            <a:ext cx="3429000" cy="1828800"/>
            <a:chOff x="2971800" y="2362320"/>
            <a:chExt cx="3429000" cy="1828800"/>
          </a:xfrm>
        </p:grpSpPr>
        <p:sp>
          <p:nvSpPr>
            <p:cNvPr id="114" name=""/>
            <p:cNvSpPr/>
            <p:nvPr/>
          </p:nvSpPr>
          <p:spPr>
            <a:xfrm>
              <a:off x="2971800" y="2571840"/>
              <a:ext cx="3429000" cy="14097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1800" y="2362320"/>
              <a:ext cx="3429000" cy="417240"/>
            </a:xfrm>
            <a:prstGeom prst="ellipse">
              <a:avLst/>
            </a:prstGeom>
            <a:solidFill>
              <a:srgbClr val="00cc00"/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1800" y="3773520"/>
              <a:ext cx="3429000" cy="4176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159800" y="5335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指出下列圆柱的底面、侧面和高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60320" y="1989360"/>
            <a:ext cx="3717720" cy="3717720"/>
            <a:chOff x="2560320" y="1989360"/>
            <a:chExt cx="3717720" cy="3717720"/>
          </a:xfrm>
        </p:grpSpPr>
        <p:sp>
          <p:nvSpPr>
            <p:cNvPr id="119" name=""/>
            <p:cNvSpPr/>
            <p:nvPr/>
          </p:nvSpPr>
          <p:spPr>
            <a:xfrm rot="2700000">
              <a:off x="3314160" y="2671920"/>
              <a:ext cx="2209680" cy="23526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700000">
              <a:off x="4145400" y="2668320"/>
              <a:ext cx="2209680" cy="696960"/>
            </a:xfrm>
            <a:prstGeom prst="ellipse">
              <a:avLst/>
            </a:prstGeom>
            <a:solidFill>
              <a:srgbClr val="00cc00"/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700000">
              <a:off x="2482920" y="4330800"/>
              <a:ext cx="2209680" cy="696960"/>
            </a:xfrm>
            <a:prstGeom prst="ellipse">
              <a:avLst/>
            </a:prstGeom>
            <a:solidFill>
              <a:srgbClr val="ff9900"/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159800" y="5335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指出下列圆柱的底面、侧面和高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131560" y="2552760"/>
            <a:ext cx="4457880" cy="2019240"/>
            <a:chOff x="2131560" y="2552760"/>
            <a:chExt cx="4457880" cy="2019240"/>
          </a:xfrm>
        </p:grpSpPr>
        <p:sp>
          <p:nvSpPr>
            <p:cNvPr id="124" name=""/>
            <p:cNvSpPr/>
            <p:nvPr/>
          </p:nvSpPr>
          <p:spPr>
            <a:xfrm rot="5400000">
              <a:off x="3377880" y="1841040"/>
              <a:ext cx="2019240" cy="34419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5108040" y="3051000"/>
              <a:ext cx="1943280" cy="1019160"/>
            </a:xfrm>
            <a:prstGeom prst="ellipse">
              <a:avLst/>
            </a:prstGeom>
            <a:solidFill>
              <a:srgbClr val="6699ff"/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1669320" y="3051000"/>
              <a:ext cx="1943280" cy="101916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58840" y="5335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画圆柱体的步骤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26320" y="1600200"/>
            <a:ext cx="2484720" cy="2209680"/>
            <a:chOff x="526320" y="1600200"/>
            <a:chExt cx="2484720" cy="2209680"/>
          </a:xfrm>
        </p:grpSpPr>
        <p:sp>
          <p:nvSpPr>
            <p:cNvPr id="129" name=""/>
            <p:cNvSpPr/>
            <p:nvPr/>
          </p:nvSpPr>
          <p:spPr>
            <a:xfrm>
              <a:off x="533520" y="2971800"/>
              <a:ext cx="2438280" cy="838080"/>
            </a:xfrm>
            <a:prstGeom prst="ellipse">
              <a:avLst/>
            </a:prstGeom>
            <a:noFill/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320" y="1600200"/>
              <a:ext cx="248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8f8f8"/>
                  </a:solidFill>
                  <a:latin typeface="Times New Roman"/>
                  <a:ea typeface="黑体"/>
                </a:rPr>
                <a:t>第一步：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8f8f8"/>
                  </a:solidFill>
                  <a:latin typeface="Times New Roman"/>
                  <a:ea typeface="楷体_GB2312"/>
                </a:rPr>
                <a:t>    </a:t>
              </a: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楷体_GB2312"/>
                </a:rPr>
                <a:t>画上底面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276720" y="1523880"/>
            <a:ext cx="2438280" cy="4114800"/>
            <a:chOff x="3276720" y="1523880"/>
            <a:chExt cx="2438280" cy="4114800"/>
          </a:xfrm>
        </p:grpSpPr>
        <p:sp>
          <p:nvSpPr>
            <p:cNvPr id="132" name=""/>
            <p:cNvSpPr/>
            <p:nvPr/>
          </p:nvSpPr>
          <p:spPr>
            <a:xfrm>
              <a:off x="3450960" y="1523880"/>
              <a:ext cx="221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8f8f8"/>
                  </a:solidFill>
                  <a:latin typeface="Times New Roman"/>
                  <a:ea typeface="黑体"/>
                </a:rPr>
                <a:t>第二步：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8f8f8"/>
                  </a:solidFill>
                  <a:latin typeface="Times New Roman"/>
                  <a:ea typeface="楷体_GB2312"/>
                </a:rPr>
                <a:t>    </a:t>
              </a: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楷体_GB2312"/>
                </a:rPr>
                <a:t>画侧面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276720" y="2971800"/>
              <a:ext cx="2438280" cy="2666880"/>
              <a:chOff x="3276720" y="2971800"/>
              <a:chExt cx="2438280" cy="2666880"/>
            </a:xfrm>
          </p:grpSpPr>
          <p:sp>
            <p:nvSpPr>
              <p:cNvPr id="134" name=""/>
              <p:cNvSpPr/>
              <p:nvPr/>
            </p:nvSpPr>
            <p:spPr>
              <a:xfrm>
                <a:off x="3276720" y="2971800"/>
                <a:ext cx="2438280" cy="838080"/>
              </a:xfrm>
              <a:prstGeom prst="ellipse">
                <a:avLst/>
              </a:prstGeom>
              <a:noFill/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76720" y="3352680"/>
                <a:ext cx="0" cy="228600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715000" y="3352680"/>
                <a:ext cx="0" cy="228600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6095880" y="1523880"/>
            <a:ext cx="2630160" cy="4496040"/>
            <a:chOff x="6095880" y="1523880"/>
            <a:chExt cx="2630160" cy="4496040"/>
          </a:xfrm>
        </p:grpSpPr>
        <p:sp>
          <p:nvSpPr>
            <p:cNvPr id="138" name=""/>
            <p:cNvSpPr/>
            <p:nvPr/>
          </p:nvSpPr>
          <p:spPr>
            <a:xfrm>
              <a:off x="6241320" y="1523880"/>
              <a:ext cx="248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8f8f8"/>
                  </a:solidFill>
                  <a:latin typeface="Times New Roman"/>
                  <a:ea typeface="黑体"/>
                </a:rPr>
                <a:t>第三步：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8f8f8"/>
                  </a:solidFill>
                  <a:latin typeface="Times New Roman"/>
                  <a:ea typeface="楷体_GB2312"/>
                </a:rPr>
                <a:t>    </a:t>
              </a: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楷体_GB2312"/>
                </a:rPr>
                <a:t>画下底面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6095880" y="2971800"/>
              <a:ext cx="2590920" cy="3048120"/>
              <a:chOff x="6095880" y="2971800"/>
              <a:chExt cx="2590920" cy="3048120"/>
            </a:xfrm>
          </p:grpSpPr>
          <p:sp>
            <p:nvSpPr>
              <p:cNvPr id="140" name=""/>
              <p:cNvSpPr/>
              <p:nvPr/>
            </p:nvSpPr>
            <p:spPr>
              <a:xfrm>
                <a:off x="6172200" y="5181480"/>
                <a:ext cx="2438280" cy="838440"/>
              </a:xfrm>
              <a:prstGeom prst="ellipse">
                <a:avLst/>
              </a:prstGeom>
              <a:noFill/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95880" y="4952880"/>
                <a:ext cx="2590920" cy="609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6172200" y="2971800"/>
                <a:ext cx="2438280" cy="2666880"/>
                <a:chOff x="6172200" y="2971800"/>
                <a:chExt cx="2438280" cy="2666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172200" y="2971800"/>
                  <a:ext cx="2438280" cy="838080"/>
                </a:xfrm>
                <a:prstGeom prst="ellipse">
                  <a:avLst/>
                </a:prstGeom>
                <a:noFill/>
                <a:ln w="381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172200" y="33526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610480" y="33526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19240" y="45720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1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、指出下面图形中哪些是圆柱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34800" y="1355760"/>
            <a:ext cx="2560320" cy="1692360"/>
            <a:chOff x="334800" y="1355760"/>
            <a:chExt cx="2560320" cy="1692360"/>
          </a:xfrm>
        </p:grpSpPr>
        <p:grpSp>
          <p:nvGrpSpPr>
            <p:cNvPr id="148" name=""/>
            <p:cNvGrpSpPr/>
            <p:nvPr/>
          </p:nvGrpSpPr>
          <p:grpSpPr>
            <a:xfrm>
              <a:off x="456840" y="1523880"/>
              <a:ext cx="2438280" cy="1524240"/>
              <a:chOff x="456840" y="1523880"/>
              <a:chExt cx="2438280" cy="1524240"/>
            </a:xfrm>
          </p:grpSpPr>
          <p:sp>
            <p:nvSpPr>
              <p:cNvPr id="149" name=""/>
              <p:cNvSpPr/>
              <p:nvPr/>
            </p:nvSpPr>
            <p:spPr>
              <a:xfrm rot="10800000">
                <a:off x="456840" y="1649520"/>
                <a:ext cx="2438280" cy="1222920"/>
              </a:xfrm>
              <a:custGeom>
                <a:avLst/>
                <a:gdLst>
                  <a:gd name="textAreaLeft" fmla="*/ 536040 w 2438280"/>
                  <a:gd name="textAreaRight" fmla="*/ 1902240 w 2438280"/>
                  <a:gd name="textAreaTop" fmla="*/ 268920 h 1222920"/>
                  <a:gd name="textAreaBottom" fmla="*/ 954000 h 122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30320" y="1523880"/>
                <a:ext cx="1291320" cy="33696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1200" y="2711160"/>
                <a:ext cx="2365920" cy="336960"/>
              </a:xfrm>
              <a:prstGeom prst="ellipse">
                <a:avLst/>
              </a:prstGeom>
              <a:solidFill>
                <a:srgbClr val="ff9900"/>
              </a:solidFill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34800" y="1355760"/>
              <a:ext cx="62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8f8f8"/>
                  </a:solidFill>
                  <a:latin typeface="Times New Roman"/>
                </a:rPr>
                <a:t>①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76720" y="1371600"/>
            <a:ext cx="5104800" cy="1447920"/>
            <a:chOff x="3276720" y="1371600"/>
            <a:chExt cx="5104800" cy="1447920"/>
          </a:xfrm>
        </p:grpSpPr>
        <p:grpSp>
          <p:nvGrpSpPr>
            <p:cNvPr id="154" name=""/>
            <p:cNvGrpSpPr/>
            <p:nvPr/>
          </p:nvGrpSpPr>
          <p:grpSpPr>
            <a:xfrm>
              <a:off x="3962520" y="1600200"/>
              <a:ext cx="4419000" cy="1219320"/>
              <a:chOff x="3962520" y="1600200"/>
              <a:chExt cx="4419000" cy="1219320"/>
            </a:xfrm>
          </p:grpSpPr>
          <p:sp>
            <p:nvSpPr>
              <p:cNvPr id="155" name=""/>
              <p:cNvSpPr/>
              <p:nvPr/>
            </p:nvSpPr>
            <p:spPr>
              <a:xfrm rot="5400000">
                <a:off x="5589000" y="503640"/>
                <a:ext cx="1219320" cy="3412080"/>
              </a:xfrm>
              <a:prstGeom prst="rect">
                <a:avLst/>
              </a:prstGeom>
              <a:solidFill>
                <a:srgbClr val="00cc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5400000">
                <a:off x="7289640" y="1703160"/>
                <a:ext cx="1173240" cy="1010160"/>
              </a:xfrm>
              <a:prstGeom prst="ellipse">
                <a:avLst/>
              </a:prstGeom>
              <a:solidFill>
                <a:srgbClr val="6699ff"/>
              </a:solidFill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5400000">
                <a:off x="3880800" y="1703160"/>
                <a:ext cx="1173240" cy="101016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276720" y="13716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8f8f8"/>
                  </a:solidFill>
                  <a:latin typeface="Times New Roman"/>
                </a:rPr>
                <a:t>②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70600" y="3413160"/>
            <a:ext cx="2095920" cy="2225160"/>
            <a:chOff x="570600" y="3413160"/>
            <a:chExt cx="2095920" cy="2225160"/>
          </a:xfrm>
        </p:grpSpPr>
        <p:grpSp>
          <p:nvGrpSpPr>
            <p:cNvPr id="160" name=""/>
            <p:cNvGrpSpPr/>
            <p:nvPr/>
          </p:nvGrpSpPr>
          <p:grpSpPr>
            <a:xfrm>
              <a:off x="914400" y="3886200"/>
              <a:ext cx="1752120" cy="1752120"/>
              <a:chOff x="914400" y="3886200"/>
              <a:chExt cx="1752120" cy="1752120"/>
            </a:xfrm>
          </p:grpSpPr>
          <p:sp>
            <p:nvSpPr>
              <p:cNvPr id="161" name=""/>
              <p:cNvSpPr/>
              <p:nvPr/>
            </p:nvSpPr>
            <p:spPr>
              <a:xfrm>
                <a:off x="914400" y="3886200"/>
                <a:ext cx="1752120" cy="1752120"/>
              </a:xfrm>
              <a:prstGeom prst="ellipse">
                <a:avLst/>
              </a:prstGeom>
              <a:solidFill>
                <a:srgbClr val="6699ff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53080" y="3886200"/>
                <a:ext cx="1274400" cy="525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153080" y="5112720"/>
                <a:ext cx="1274400" cy="525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70600" y="3413160"/>
              <a:ext cx="62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8f8f8"/>
                  </a:solidFill>
                  <a:latin typeface="Times New Roman"/>
                </a:rPr>
                <a:t>③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921400" y="3413160"/>
            <a:ext cx="2488680" cy="2454120"/>
            <a:chOff x="2921400" y="3413160"/>
            <a:chExt cx="2488680" cy="2454120"/>
          </a:xfrm>
        </p:grpSpPr>
        <p:grpSp>
          <p:nvGrpSpPr>
            <p:cNvPr id="166" name=""/>
            <p:cNvGrpSpPr/>
            <p:nvPr/>
          </p:nvGrpSpPr>
          <p:grpSpPr>
            <a:xfrm>
              <a:off x="3505320" y="3581280"/>
              <a:ext cx="1904760" cy="2286000"/>
              <a:chOff x="3505320" y="3581280"/>
              <a:chExt cx="1904760" cy="2286000"/>
            </a:xfrm>
          </p:grpSpPr>
          <p:sp>
            <p:nvSpPr>
              <p:cNvPr id="167" name=""/>
              <p:cNvSpPr/>
              <p:nvPr/>
            </p:nvSpPr>
            <p:spPr>
              <a:xfrm>
                <a:off x="3505320" y="3843360"/>
                <a:ext cx="1904760" cy="17622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505320" y="3581280"/>
                <a:ext cx="1904760" cy="52236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05320" y="5345280"/>
                <a:ext cx="1904760" cy="52200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921400" y="3413160"/>
              <a:ext cx="62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8f8f8"/>
                  </a:solidFill>
                  <a:latin typeface="Times New Roman"/>
                </a:rPr>
                <a:t>④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045840" y="3475080"/>
            <a:ext cx="2142360" cy="2332080"/>
            <a:chOff x="6045840" y="3475080"/>
            <a:chExt cx="2142360" cy="2332080"/>
          </a:xfrm>
        </p:grpSpPr>
        <p:sp>
          <p:nvSpPr>
            <p:cNvPr id="172" name=""/>
            <p:cNvSpPr/>
            <p:nvPr/>
          </p:nvSpPr>
          <p:spPr>
            <a:xfrm>
              <a:off x="6045840" y="3489480"/>
              <a:ext cx="62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8f8f8"/>
                  </a:solidFill>
                  <a:latin typeface="Times New Roman"/>
                </a:rPr>
                <a:t>⑤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6607440" y="3475080"/>
              <a:ext cx="1580760" cy="2332080"/>
              <a:chOff x="6607440" y="3475080"/>
              <a:chExt cx="1580760" cy="2332080"/>
            </a:xfrm>
          </p:grpSpPr>
          <p:sp>
            <p:nvSpPr>
              <p:cNvPr id="174" name=""/>
              <p:cNvSpPr/>
              <p:nvPr/>
            </p:nvSpPr>
            <p:spPr>
              <a:xfrm>
                <a:off x="6740640" y="3783240"/>
                <a:ext cx="1230120" cy="17622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740640" y="5285160"/>
                <a:ext cx="1230120" cy="52200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350120" y="3733920"/>
                <a:ext cx="838080" cy="685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100000">
                <a:off x="6629400" y="3841920"/>
                <a:ext cx="1447920" cy="533520"/>
              </a:xfrm>
              <a:prstGeom prst="ellipse">
                <a:avLst/>
              </a:prstGeom>
              <a:solidFill>
                <a:srgbClr val="6699ff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02120" y="1905120"/>
            <a:ext cx="5025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①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圆柱体的高只有一条。 （    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②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上下两个底面相等的圆形物体一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定是圆柱体。         （    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③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圆柱体底面周长和高相等时，沿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着它的一条高剪开，侧面是一个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8f8f8"/>
                </a:solidFill>
                <a:latin typeface="黑体"/>
                <a:ea typeface="黑体"/>
              </a:rPr>
              <a:t>正方形。             （    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88560" y="595440"/>
            <a:ext cx="39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、判断：对的打“√”，错的打“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×”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56320" y="4876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√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44800" y="301932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×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68480" y="180036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×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08480" y="492120"/>
            <a:ext cx="628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3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、读出下面各圆柱的有关数据。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        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（图中单位：厘米）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38080" y="2697120"/>
            <a:ext cx="1981440" cy="2636640"/>
            <a:chOff x="838080" y="2697120"/>
            <a:chExt cx="1981440" cy="2636640"/>
          </a:xfrm>
        </p:grpSpPr>
        <p:grpSp>
          <p:nvGrpSpPr>
            <p:cNvPr id="185" name=""/>
            <p:cNvGrpSpPr/>
            <p:nvPr/>
          </p:nvGrpSpPr>
          <p:grpSpPr>
            <a:xfrm>
              <a:off x="838080" y="2895480"/>
              <a:ext cx="1371600" cy="2438280"/>
              <a:chOff x="838080" y="2895480"/>
              <a:chExt cx="1371600" cy="2438280"/>
            </a:xfrm>
          </p:grpSpPr>
          <p:sp>
            <p:nvSpPr>
              <p:cNvPr id="186" name=""/>
              <p:cNvSpPr/>
              <p:nvPr/>
            </p:nvSpPr>
            <p:spPr>
              <a:xfrm>
                <a:off x="838080" y="2895480"/>
                <a:ext cx="1371600" cy="243828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38080" y="3200400"/>
                <a:ext cx="1371600" cy="0"/>
              </a:xfrm>
              <a:prstGeom prst="line">
                <a:avLst/>
              </a:prstGeom>
              <a:ln w="38160">
                <a:solidFill>
                  <a:srgbClr val="f8f8f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295280" y="2697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33720" y="3733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6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124080" y="3505320"/>
            <a:ext cx="2590920" cy="1419480"/>
            <a:chOff x="3124080" y="3505320"/>
            <a:chExt cx="2590920" cy="1419480"/>
          </a:xfrm>
        </p:grpSpPr>
        <p:grpSp>
          <p:nvGrpSpPr>
            <p:cNvPr id="191" name=""/>
            <p:cNvGrpSpPr/>
            <p:nvPr/>
          </p:nvGrpSpPr>
          <p:grpSpPr>
            <a:xfrm>
              <a:off x="3200400" y="3505320"/>
              <a:ext cx="2514600" cy="914400"/>
              <a:chOff x="3200400" y="3505320"/>
              <a:chExt cx="2514600" cy="914400"/>
            </a:xfrm>
          </p:grpSpPr>
          <p:sp>
            <p:nvSpPr>
              <p:cNvPr id="192" name=""/>
              <p:cNvSpPr/>
              <p:nvPr/>
            </p:nvSpPr>
            <p:spPr>
              <a:xfrm rot="16200000">
                <a:off x="4000320" y="2705040"/>
                <a:ext cx="914400" cy="2514600"/>
              </a:xfrm>
              <a:prstGeom prst="can">
                <a:avLst>
                  <a:gd name="adj" fmla="val 25000"/>
                </a:avLst>
              </a:prstGeom>
              <a:solidFill>
                <a:srgbClr val="00cc00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505320" y="3505320"/>
                <a:ext cx="0" cy="914400"/>
              </a:xfrm>
              <a:prstGeom prst="line">
                <a:avLst/>
              </a:prstGeom>
              <a:ln w="38160">
                <a:solidFill>
                  <a:srgbClr val="f8f8f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31240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343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2819520"/>
            <a:ext cx="3048120" cy="2133360"/>
            <a:chOff x="5943600" y="2819520"/>
            <a:chExt cx="3048120" cy="2133360"/>
          </a:xfrm>
        </p:grpSpPr>
        <p:grpSp>
          <p:nvGrpSpPr>
            <p:cNvPr id="197" name=""/>
            <p:cNvGrpSpPr/>
            <p:nvPr/>
          </p:nvGrpSpPr>
          <p:grpSpPr>
            <a:xfrm>
              <a:off x="5943600" y="3124080"/>
              <a:ext cx="2438280" cy="1828800"/>
              <a:chOff x="5943600" y="3124080"/>
              <a:chExt cx="2438280" cy="1828800"/>
            </a:xfrm>
          </p:grpSpPr>
          <p:sp>
            <p:nvSpPr>
              <p:cNvPr id="198" name=""/>
              <p:cNvSpPr/>
              <p:nvPr/>
            </p:nvSpPr>
            <p:spPr>
              <a:xfrm>
                <a:off x="5943600" y="3124080"/>
                <a:ext cx="2438280" cy="1828800"/>
              </a:xfrm>
              <a:prstGeom prst="can">
                <a:avLst>
                  <a:gd name="adj" fmla="val 25000"/>
                </a:avLst>
              </a:prstGeom>
              <a:solidFill>
                <a:srgbClr val="6699ff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943600" y="3352680"/>
                <a:ext cx="2438280" cy="0"/>
              </a:xfrm>
              <a:prstGeom prst="line">
                <a:avLst/>
              </a:prstGeom>
              <a:ln w="38160">
                <a:solidFill>
                  <a:srgbClr val="f8f8f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6629400" y="2819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8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0592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5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小学教育 圆柱体</cp:keywords>
  <dc:language>en-US</dc:language>
  <cp:lastModifiedBy/>
  <cp:revision>0</cp:revision>
  <dc:subject/>
  <dc:title/>
</cp:coreProperties>
</file>