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F4F-7934-491C-9AC2-C191EA27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38C-7A41-440F-9576-75DE0A3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1F1-BC71-43EC-91D9-332E8513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079-D7FB-414D-B806-A4B2F5C1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323-C2C5-436D-8EE0-56541CE5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080-13FD-49C9-8922-399503A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64EE-F6F4-4603-B033-3F206143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0C59-1BCB-4416-AE3A-D9D29F7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3BF-8301-463E-9D43-DD6811FE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DC2-641E-40AB-B8AC-DF5689B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E140-CACA-45CD-A00F-6B9E100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B15-1D6D-48CC-9D6D-8FA7206D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5D16-DCBB-408C-ABBE-70C7D5B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5102-5870-49FC-A44D-8E75189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196-A39B-40E7-B51C-D8DE73D6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8702-D618-4380-A072-663D75D6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EB0-3231-4363-879C-9E8BB134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C66-E80D-4600-B93C-BBA5D802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A41-F1F3-49F3-8C5F-01A7A5D3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810-FEA9-4BEE-AD10-320B6B0D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C20-2F88-4F3C-8A95-C7EA599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1EC-59F7-4250-9624-228242E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68F-E18A-40ED-9520-712CFDA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96B-C00D-45A1-A9E3-A6E7EB9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C80E-25A4-4642-ACBB-E7A925B2A84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5976-C39F-4CD9-B941-A9D7456BF98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349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信息论课程总结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道的信息传输率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由于在平均意义上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一个符号流经信道的平均信息量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I(X;Y)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所以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道的信息传输率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R=I(X;Y)=H(X)-H(X|Y)   bit/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符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若平均传输一个符号的时间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秒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则信道每秒众平均传输的信息量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zh-CN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=I(X;Y) /t       bit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62864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定义：信道容量</a:t>
            </a:r>
            <a:r>
              <a:rPr b="1" i="1" lang="zh-CN" sz="3600" spc="-1" strike="noStrike">
                <a:solidFill>
                  <a:srgbClr val="0066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＝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max  </a:t>
            </a:r>
            <a:r>
              <a:rPr b="0" lang="zh-CN" sz="3600" spc="-1" strike="noStrike">
                <a:solidFill>
                  <a:srgbClr val="003366"/>
                </a:solidFill>
                <a:latin typeface="宋体"/>
              </a:rPr>
              <a:t>I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(X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；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）＝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max [ H(X)-H(X/Y)]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=max [ H(Y)-H(Y/X)]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9000" y="292428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70280" y="292428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5480" y="376236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050920" y="4365720"/>
            <a:ext cx="5156280" cy="1295280"/>
            <a:chOff x="2050920" y="4365720"/>
            <a:chExt cx="5156280" cy="12952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050920" y="4365720"/>
                  <a:ext cx="51562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3727440" y="521820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P(X</a:t>
              </a:r>
              <a:r>
                <a:rPr b="1" lang="en-US" sz="2000" spc="-1" strike="noStrike" baseline="-25000">
                  <a:solidFill>
                    <a:srgbClr val="003366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340000" y="6021360"/>
            <a:ext cx="3887640" cy="576360"/>
          </a:xfrm>
          <a:prstGeom prst="wedgeRoundRectCallout">
            <a:avLst>
              <a:gd name="adj1" fmla="val -30481"/>
              <a:gd name="adj2" fmla="val -140356"/>
              <a:gd name="adj3" fmla="val 1666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信道最大信息传输速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离散无噪信道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一一对应的无噪信道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7336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此时，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H(X/Y)=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此时，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= max H(X) = log 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19700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例：二元对称信道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BSC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Binary Symmetric Channel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2060640"/>
          <a:ext cx="7696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7696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77336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BSC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的信道容量为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82800" y="2997360"/>
          <a:ext cx="7396200" cy="17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2997360"/>
                    <a:ext cx="739620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离散信道容量的一般计算办法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连续信道的信道容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复习思考题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随机事件的不确定度和它的自信息量之间的关系及区别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单符号离散信源的数学模型，自信息量、条件自信息量、联合自信息量的含义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互信息量的性质？含义？分别从输入端、输出端和系统总体来理解互信息量的含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各种熵（信源熵，条件熵，联合熵（共熵），等）的含义及其关系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熵的基本性质与定理及其理解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平均互信息量的定义及物理意义？疑义度及噪声熵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平均互信息量的性质及理解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最大离散熵定理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数据处理定理及其含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信源的种类（详细分类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离散平稳信源的定义，平均符号熵，极限熵的定义，含义与理解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马尔可夫信源的定义，含义及其极限熵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连续信源的熵的定义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几种特殊连续信源的熵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道容量的定义与计算办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例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若你在不知道今天是星期几的情况下，问你的朋友“明天是星期几？”，从答案中能获得多少信息量？如果你在已经知道今天是星期四的情况下，提出同样的问题，能从答案中获得多少信息量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息论的基本概念与术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915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号，消息，数据，知识，情报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定义。（香农信息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主要特征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重要性质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分类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技术的基本内容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解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设事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为：不知道今天是星期几的情况下，问 “明天是星期几？”的答案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设事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为：知道今天是星期四的情况下，问 “明天是星期几？”的答案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则：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P(A)=1/7,     P(B)=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I(A)=log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≈2.807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比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I(B)=log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0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比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习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从统计资料知道，男性中红绿色盲的发病率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％，女性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0.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％，如果你问一个男同志，“你是否是红绿色盲？”他的回答可能是“是”，可能是“否”，问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两个回答各含有多少信息量？平均每个回答含有多少信息量？，如果是女同志，结果又如何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习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设有一个信源，它产生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序列的消息，它在任何时间而且不论以前发出过什么符号，均按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P(0)=0.4,P(1)=0.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概率发出符号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试问该信源是否是平稳的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计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35280" y="5157720"/>
          <a:ext cx="62276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157720"/>
                    <a:ext cx="62276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思考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的基本特征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与信号、消息、数据、知识、情报有那些差别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怎样进行信息分类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信息技术的 “四基元”是什么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为什么说数学是信息科学的基础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信息量、熵和不确定度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自信息量、条件自信息量、联合自信息量、互信息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不确定度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熵、条件熵、联合熵、平均互信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应用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如何利用它们的性质和相互关系计算各种信源、随机变量和事件的相应信息度量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两个基本定理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4040" y="2784600"/>
            <a:ext cx="70516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最大熵定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信息不增原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几种研究对象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单符号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无记忆序列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离散有记忆序列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（主要是马尔可夫信源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连续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需掌握的重点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86000" y="2784240"/>
            <a:ext cx="7053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各种定义、概念的实际含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各种信息量和熵的计算方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难点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条件熵、联合熵和平均互信息量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序列熵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马尔可夫信源熵的计算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马尔可夫信源熵的计算方法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据题意画出状态图，判断是否是齐次遍历的马尔可夫信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写出状态转移概率矩阵，计算状态稳定后的极限概率分布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据状态转移概率矩阵和极限概率分布，计算信源的极限熵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论 课程 总结</cp:keywords>
  <dc:language>en-US</dc:language>
  <cp:lastModifiedBy/>
  <cp:revision>0</cp:revision>
  <dc:subject/>
  <dc:title/>
</cp:coreProperties>
</file>