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AF9-341F-4805-A9F9-1C580CFB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FFD-1E42-4F29-B1BD-C4021382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7F1-203C-4B2E-BA80-E9A7386A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3A3-B2B9-49BF-9130-61C750CC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6EFB-DAC8-4881-85D4-0AF51A0E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069F-3953-40F3-B9E8-5800091E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E39F-6260-44D8-8465-E2EC6848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6576-6694-48C1-8021-2D96954F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EAB2-FAED-4B67-9E9F-366D0894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8336-6F24-4A75-9FB4-1CD84756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FBE2-F1A8-4936-AF56-C24015DA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9C5-2AF9-4C44-83BF-EF47E2CD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F9E6-1F48-4203-81EE-4110CB28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7A52-7AAA-429A-B4C6-F13BB3F2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A0E1-234D-4AB0-A1DA-7160628A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0EAC-D062-4007-B46A-A2932494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D0AC-4827-4C35-9990-383E6336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05A-072B-4FFD-822E-46B52D74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3A4-8A87-448D-AC2C-655FD0D8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B657-B521-4E96-BFDE-DB8B4654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671-F457-424B-B303-529917BA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D56-C299-4861-9B85-E976EC9C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F67-DEB9-4CC6-A9F8-C9D98DCC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C89-18B0-49BD-A8FE-4366798E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C6DD-5545-4805-AF2F-46BDB818BBB7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146C-DB8C-44C2-B613-1859B35AD523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宋体"/>
              </a:rPr>
              <a:t>培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如何正确而高效地工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宋体"/>
              </a:rPr>
              <a:t>介绍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定义主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介绍在本次培训中听众将学到哪些内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找出听众的相关背景和兴趣所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宋体"/>
              </a:rPr>
              <a:t>议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列出要讲述的主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列出每个主题所花费的时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宋体"/>
              </a:rPr>
              <a:t>概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概述各个主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说明各个主题是如何组合在一起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uzzle5"/>
          <p:cNvSpPr/>
          <p:nvPr/>
        </p:nvSpPr>
        <p:spPr>
          <a:xfrm>
            <a:off x="6019920" y="4327560"/>
            <a:ext cx="1523880" cy="1206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文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uzzle2"/>
          <p:cNvSpPr/>
          <p:nvPr/>
        </p:nvSpPr>
        <p:spPr>
          <a:xfrm>
            <a:off x="5124600" y="5470560"/>
            <a:ext cx="1679400" cy="94788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文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uzzle3"/>
          <p:cNvSpPr/>
          <p:nvPr/>
        </p:nvSpPr>
        <p:spPr>
          <a:xfrm>
            <a:off x="6294600" y="5081760"/>
            <a:ext cx="963360" cy="13269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文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uzzle4"/>
          <p:cNvSpPr/>
          <p:nvPr/>
        </p:nvSpPr>
        <p:spPr>
          <a:xfrm>
            <a:off x="5438880" y="4297320"/>
            <a:ext cx="904680" cy="15750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文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uzzle5"/>
          <p:cNvSpPr/>
          <p:nvPr/>
        </p:nvSpPr>
        <p:spPr>
          <a:xfrm>
            <a:off x="4267080" y="4332240"/>
            <a:ext cx="1524240" cy="12067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文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uzzle3"/>
          <p:cNvSpPr/>
          <p:nvPr/>
        </p:nvSpPr>
        <p:spPr>
          <a:xfrm>
            <a:off x="4541760" y="5086440"/>
            <a:ext cx="963720" cy="13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文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uzzle2"/>
          <p:cNvSpPr/>
          <p:nvPr/>
        </p:nvSpPr>
        <p:spPr>
          <a:xfrm>
            <a:off x="4859280" y="3741840"/>
            <a:ext cx="2233800" cy="94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文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uzzle3"/>
          <p:cNvSpPr/>
          <p:nvPr/>
        </p:nvSpPr>
        <p:spPr>
          <a:xfrm>
            <a:off x="6296040" y="3352680"/>
            <a:ext cx="963720" cy="13273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文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uzzle3"/>
          <p:cNvSpPr/>
          <p:nvPr/>
        </p:nvSpPr>
        <p:spPr>
          <a:xfrm>
            <a:off x="4543560" y="3357720"/>
            <a:ext cx="963360" cy="13269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文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宋体"/>
              </a:rPr>
              <a:t>词汇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术语词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定义本主题中要使用的词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宋体"/>
              </a:rPr>
              <a:t>主题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解释细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给出示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进行练习以巩固所学内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宋体"/>
              </a:rPr>
              <a:t>主题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解释细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给出示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进行练习以巩固所学内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宋体"/>
              </a:rPr>
              <a:t>总结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介绍所学到的内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定义应用所学内容的方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要求对培训进行反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宋体"/>
              </a:rPr>
              <a:t>其他信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培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列出书籍、文章、电子文档资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咨询服务、其他资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高效 工作</cp:keywords>
  <dc:language>en-US</dc:language>
  <cp:lastModifiedBy/>
  <cp:revision>0</cp:revision>
  <dc:subject/>
  <dc:title/>
</cp:coreProperties>
</file>