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4E3-3479-4229-850A-0D9C5952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BF1-969C-470F-9517-7B08F3C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50C-CB61-4425-BDC8-B2131472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50A-BEFD-43B4-A7CE-2F213B31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A9B-3B16-41B0-8A84-78F3E4F1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274-9A43-4B2A-80F4-376E5D5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65DB-DF6D-436B-A209-072D1DC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6364-4D8E-4A7C-BA94-0EFF177F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D5B-3B16-4E9E-93C3-FF8A753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9B1-FE78-4C0E-B315-AC2EB6B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4F7-639F-4647-95D1-7B9B688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903-2A90-490D-8769-4557EAE9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1D4-A1A2-4093-8B2C-B5EE389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4B90-9495-4A81-B4DD-5EB3F47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333-6244-4766-B454-40D50F0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11C7-302C-42F8-A1A2-D56D45A1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F1E7-8FC8-428E-9F51-2040D362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258-E258-4A36-99D7-A4B670D1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B75-C128-42B0-A1E2-C0DD9B9C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F99-5689-4310-8CAE-D584146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024-C379-4297-B9C9-05BFE7E0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12D-EB4B-41C9-B553-68E4B3A7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276-76FF-4C2F-A373-67D6FCB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994-95A7-4C0E-9981-6C981B7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5A5-011A-40A3-85EE-C821FF7668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7E0-8808-4333-990D-DFBF2AE6471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  <a:ea typeface="黑体"/>
              </a:rPr>
              <a:t>音乐学科课程标准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5810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目标与教学内容介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目标：体现学生发展为本的</a:t>
            </a:r>
            <a:br>
              <a:rPr sz="4400"/>
            </a:b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理念（１）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53c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89153c"/>
                </a:solidFill>
                <a:latin typeface="Times New Roman"/>
              </a:rPr>
              <a:t>一～五年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激发学生学习兴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加强音乐实践与体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培养对音乐艺术主动探索与即兴创作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逐步拓宽音乐文化视野，培养健康向上的情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目标：体现学生发展为本的</a:t>
            </a:r>
            <a:br>
              <a:rPr sz="4400"/>
            </a:b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理念（２）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53c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89153c"/>
                </a:solidFill>
                <a:latin typeface="Times New Roman"/>
              </a:rPr>
              <a:t>六～七年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激励学生积极投入音乐活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加强基础能力，发展想象与联想，促进思维，开发智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热爱祖国音乐文化，了解不同时代、不同文化背景、不同民族地域及不同价值定位的音乐文化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提高审美能力，陶冶情操，发展个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2971800" cy="1523880"/>
          </a:xfrm>
          <a:prstGeom prst="rect">
            <a:avLst/>
          </a:prstGeom>
          <a:solidFill>
            <a:srgbClr val="e1ef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教学内容和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733920" y="762120"/>
          <a:ext cx="5105160" cy="2827080"/>
        </p:xfrm>
        <a:graphic>
          <a:graphicData uri="http://schemas.openxmlformats.org/drawingml/2006/table">
            <a:tbl>
              <a:tblPr/>
              <a:tblGrid>
                <a:gridCol w="1885680"/>
                <a:gridCol w="1805040"/>
                <a:gridCol w="474480"/>
                <a:gridCol w="471600"/>
                <a:gridCol w="468360"/>
              </a:tblGrid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教学内容与要求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认知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操作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情感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~2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年级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ac164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√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√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~5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年级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√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28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√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124080" y="3657600"/>
          <a:ext cx="5791320" cy="2905200"/>
        </p:xfrm>
        <a:graphic>
          <a:graphicData uri="http://schemas.openxmlformats.org/drawingml/2006/table">
            <a:tbl>
              <a:tblPr/>
              <a:tblGrid>
                <a:gridCol w="1628640"/>
                <a:gridCol w="1538280"/>
                <a:gridCol w="1357560"/>
                <a:gridCol w="126684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28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情意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操作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认知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感知能力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表现能力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鉴赏能力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创造能力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09480" y="2743200"/>
            <a:ext cx="1143000" cy="52056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一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029200"/>
            <a:ext cx="1143000" cy="52056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二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8954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181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543800" cy="1447920"/>
          </a:xfrm>
          <a:prstGeom prst="rect">
            <a:avLst/>
          </a:prstGeom>
          <a:solidFill>
            <a:srgbClr val="e1ef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关于“教学内容与要求”的</a:t>
            </a:r>
            <a:br>
              <a:rPr sz="4800"/>
            </a:b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说明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978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不同年级教学要求更为具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学习领域的编排顺序更强调艺术教育情感与操作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学习要求更强调基础学力的培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8000" y="2781000"/>
            <a:ext cx="57754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5b5249"/>
                </a:solidFill>
                <a:latin typeface="Times New Roman"/>
                <a:ea typeface="幼圆"/>
              </a:rPr>
              <a:t>谢谢！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音乐 课程标准</cp:keywords>
  <dc:language>en-US</dc:language>
  <cp:lastModifiedBy/>
  <cp:revision>0</cp:revision>
  <dc:subject/>
  <dc:title/>
</cp:coreProperties>
</file>