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00F-7EA6-41F5-9049-8E0DCCA2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132-C592-4831-8023-37E5E25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470-5B7E-41FB-B2E4-FCA28583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C23-9A7B-4C0B-878C-9F3DF456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BAC-D975-4CCF-A547-31AF154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F17-6B36-47C1-8808-BDA8C076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9A6-0F1F-48D9-9481-A1C0C485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B3B-DE99-4C9B-82C1-4C795CF6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46B-CB73-4BED-A2C8-E347B08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1A2-4770-41D8-9657-1B7514A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B10-3898-4B38-B5E2-2C52000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C73-34EE-4876-8DFD-D6AB124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880-3014-4740-9FAA-1673E3564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421488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职场、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47149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4192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697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192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折角形 9"/>
          <p:cNvSpPr/>
          <p:nvPr/>
        </p:nvSpPr>
        <p:spPr>
          <a:xfrm>
            <a:off x="480960" y="1928880"/>
            <a:ext cx="2448000" cy="1465200"/>
          </a:xfrm>
          <a:prstGeom prst="foldedCorner">
            <a:avLst>
              <a:gd name="adj" fmla="val 16666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折角形 10"/>
          <p:cNvSpPr/>
          <p:nvPr/>
        </p:nvSpPr>
        <p:spPr>
          <a:xfrm>
            <a:off x="6338880" y="1928880"/>
            <a:ext cx="2448000" cy="1465200"/>
          </a:xfrm>
          <a:prstGeom prst="foldedCorner">
            <a:avLst>
              <a:gd name="adj" fmla="val 16666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折角形 11"/>
          <p:cNvSpPr/>
          <p:nvPr/>
        </p:nvSpPr>
        <p:spPr>
          <a:xfrm>
            <a:off x="3409920" y="1928880"/>
            <a:ext cx="2448000" cy="1465200"/>
          </a:xfrm>
          <a:prstGeom prst="foldedCorner">
            <a:avLst>
              <a:gd name="adj" fmla="val 16666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2"/>
          <p:cNvSpPr/>
          <p:nvPr/>
        </p:nvSpPr>
        <p:spPr>
          <a:xfrm flipH="1">
            <a:off x="3122640" y="3502080"/>
            <a:ext cx="1440" cy="1857240"/>
          </a:xfrm>
          <a:prstGeom prst="line">
            <a:avLst/>
          </a:prstGeom>
          <a:ln w="936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"/>
          <p:cNvSpPr/>
          <p:nvPr/>
        </p:nvSpPr>
        <p:spPr>
          <a:xfrm flipH="1">
            <a:off x="6122520" y="3571920"/>
            <a:ext cx="1800" cy="1857240"/>
          </a:xfrm>
          <a:prstGeom prst="line">
            <a:avLst/>
          </a:prstGeom>
          <a:ln w="936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双大括号 15"/>
          <p:cNvSpPr/>
          <p:nvPr/>
        </p:nvSpPr>
        <p:spPr>
          <a:xfrm>
            <a:off x="1285920" y="1857240"/>
            <a:ext cx="121428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b5c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双大括号 16"/>
          <p:cNvSpPr/>
          <p:nvPr/>
        </p:nvSpPr>
        <p:spPr>
          <a:xfrm>
            <a:off x="3143160" y="1857240"/>
            <a:ext cx="121464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双大括号 17"/>
          <p:cNvSpPr/>
          <p:nvPr/>
        </p:nvSpPr>
        <p:spPr>
          <a:xfrm>
            <a:off x="4786200" y="1857240"/>
            <a:ext cx="121464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b5c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双大括号 18"/>
          <p:cNvSpPr/>
          <p:nvPr/>
        </p:nvSpPr>
        <p:spPr>
          <a:xfrm>
            <a:off x="6643800" y="1857240"/>
            <a:ext cx="121428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500280" y="2714760"/>
            <a:ext cx="42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7072200" y="271476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5214960" y="2714760"/>
            <a:ext cx="2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1571760" y="26431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右箭头 10"/>
          <p:cNvSpPr/>
          <p:nvPr/>
        </p:nvSpPr>
        <p:spPr>
          <a:xfrm>
            <a:off x="2786040" y="2558880"/>
            <a:ext cx="4108320" cy="1370160"/>
          </a:xfrm>
          <a:prstGeom prst="leftRightArrow">
            <a:avLst>
              <a:gd name="adj1" fmla="val 87213"/>
              <a:gd name="adj2" fmla="val 49988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右箭头 11"/>
          <p:cNvSpPr/>
          <p:nvPr/>
        </p:nvSpPr>
        <p:spPr>
          <a:xfrm>
            <a:off x="2786040" y="1201680"/>
            <a:ext cx="4108320" cy="1370160"/>
          </a:xfrm>
          <a:prstGeom prst="leftRightArrow">
            <a:avLst>
              <a:gd name="adj1" fmla="val 87213"/>
              <a:gd name="adj2" fmla="val 49988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右箭头 12"/>
          <p:cNvSpPr/>
          <p:nvPr/>
        </p:nvSpPr>
        <p:spPr>
          <a:xfrm>
            <a:off x="2786040" y="3916440"/>
            <a:ext cx="4108320" cy="1369800"/>
          </a:xfrm>
          <a:prstGeom prst="leftRightArrow">
            <a:avLst>
              <a:gd name="adj1" fmla="val 87213"/>
              <a:gd name="adj2" fmla="val 50001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4497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库存数据 6"/>
          <p:cNvSpPr/>
          <p:nvPr/>
        </p:nvSpPr>
        <p:spPr>
          <a:xfrm>
            <a:off x="2714760" y="2857680"/>
            <a:ext cx="1857240" cy="785520"/>
          </a:xfrm>
          <a:prstGeom prst="flowChartOnlineStorage">
            <a:avLst/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库存数据 7"/>
          <p:cNvSpPr/>
          <p:nvPr/>
        </p:nvSpPr>
        <p:spPr>
          <a:xfrm flipH="1">
            <a:off x="5357160" y="2857680"/>
            <a:ext cx="1857240" cy="785520"/>
          </a:xfrm>
          <a:prstGeom prst="flowChartOnlineStorage">
            <a:avLst/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流程图: 库存数据 8"/>
          <p:cNvSpPr/>
          <p:nvPr/>
        </p:nvSpPr>
        <p:spPr>
          <a:xfrm rot="5400000">
            <a:off x="4035960" y="1607400"/>
            <a:ext cx="1857240" cy="785880"/>
          </a:xfrm>
          <a:prstGeom prst="flowChartOnlineStorage">
            <a:avLst/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流程图: 库存数据 9"/>
          <p:cNvSpPr/>
          <p:nvPr/>
        </p:nvSpPr>
        <p:spPr>
          <a:xfrm flipH="1" rot="5400000">
            <a:off x="4035600" y="4107240"/>
            <a:ext cx="1857240" cy="785880"/>
          </a:xfrm>
          <a:prstGeom prst="flowChartOnlineStorage">
            <a:avLst/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426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140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4497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泪滴形 6"/>
          <p:cNvSpPr/>
          <p:nvPr/>
        </p:nvSpPr>
        <p:spPr>
          <a:xfrm>
            <a:off x="2714760" y="3929040"/>
            <a:ext cx="165240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泪滴形 7"/>
          <p:cNvSpPr/>
          <p:nvPr/>
        </p:nvSpPr>
        <p:spPr>
          <a:xfrm flipH="1">
            <a:off x="5428440" y="3929040"/>
            <a:ext cx="165276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泪滴形 8"/>
          <p:cNvSpPr/>
          <p:nvPr/>
        </p:nvSpPr>
        <p:spPr>
          <a:xfrm flipH="1" flipV="1">
            <a:off x="5428440" y="1213560"/>
            <a:ext cx="165276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泪滴形 9"/>
          <p:cNvSpPr/>
          <p:nvPr/>
        </p:nvSpPr>
        <p:spPr>
          <a:xfrm flipV="1">
            <a:off x="2714760" y="1213200"/>
            <a:ext cx="165240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211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7121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712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泪滴形 6"/>
          <p:cNvSpPr/>
          <p:nvPr/>
        </p:nvSpPr>
        <p:spPr>
          <a:xfrm rot="673800">
            <a:off x="2571480" y="3285720"/>
            <a:ext cx="2357280" cy="2357640"/>
          </a:xfrm>
          <a:custGeom>
            <a:avLst/>
            <a:gdLst/>
            <a:ahLst/>
            <a:rect l="l" t="t" r="r" b="b"/>
            <a:pathLst>
              <a:path w="2357438" h="2357438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8" y="0"/>
                </a:lnTo>
                <a:lnTo>
                  <a:pt x="2357438" y="1178719"/>
                </a:lnTo>
                <a:cubicBezTo>
                  <a:pt x="2357438" y="1829708"/>
                  <a:pt x="1829708" y="2357438"/>
                  <a:pt x="1178719" y="2357438"/>
                </a:cubicBezTo>
                <a:cubicBezTo>
                  <a:pt x="527730" y="2357438"/>
                  <a:pt x="0" y="1829708"/>
                  <a:pt x="0" y="1178719"/>
                </a:cubicBez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泪滴形 7"/>
          <p:cNvSpPr/>
          <p:nvPr/>
        </p:nvSpPr>
        <p:spPr>
          <a:xfrm flipH="1" flipV="1" rot="673800">
            <a:off x="4928040" y="928800"/>
            <a:ext cx="2357640" cy="2357280"/>
          </a:xfrm>
          <a:custGeom>
            <a:avLst/>
            <a:gdLst/>
            <a:ahLst/>
            <a:rect l="l" t="t" r="r" b="b"/>
            <a:pathLst>
              <a:path w="2357437" h="2357437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7" y="0"/>
                </a:lnTo>
                <a:lnTo>
                  <a:pt x="2357437" y="1178719"/>
                </a:lnTo>
                <a:cubicBezTo>
                  <a:pt x="2357437" y="1829708"/>
                  <a:pt x="1829707" y="2357438"/>
                  <a:pt x="1178718" y="2357438"/>
                </a:cubicBezTo>
                <a:cubicBezTo>
                  <a:pt x="527729" y="2357438"/>
                  <a:pt x="-1" y="1829708"/>
                  <a:pt x="-1" y="1178719"/>
                </a:cubicBezTo>
                <a:lnTo>
                  <a:pt x="0" y="1178719"/>
                </a:ln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泪滴形 8"/>
          <p:cNvSpPr/>
          <p:nvPr/>
        </p:nvSpPr>
        <p:spPr>
          <a:xfrm flipH="1" rot="674400">
            <a:off x="4929120" y="3285720"/>
            <a:ext cx="2357640" cy="2358000"/>
          </a:xfrm>
          <a:custGeom>
            <a:avLst/>
            <a:gdLst/>
            <a:ahLst/>
            <a:rect l="l" t="t" r="r" b="b"/>
            <a:pathLst>
              <a:path w="2357437" h="2357438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7" y="0"/>
                </a:lnTo>
                <a:lnTo>
                  <a:pt x="2357437" y="1178719"/>
                </a:lnTo>
                <a:cubicBezTo>
                  <a:pt x="2357437" y="1829708"/>
                  <a:pt x="1829707" y="2357438"/>
                  <a:pt x="1178718" y="2357438"/>
                </a:cubicBezTo>
                <a:cubicBezTo>
                  <a:pt x="527729" y="2357438"/>
                  <a:pt x="-1" y="1829708"/>
                  <a:pt x="-1" y="1178719"/>
                </a:cubicBezTo>
                <a:lnTo>
                  <a:pt x="0" y="1178719"/>
                </a:ln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泪滴形 9"/>
          <p:cNvSpPr/>
          <p:nvPr/>
        </p:nvSpPr>
        <p:spPr>
          <a:xfrm flipV="1" rot="674400">
            <a:off x="2571840" y="928080"/>
            <a:ext cx="2357280" cy="2357280"/>
          </a:xfrm>
          <a:custGeom>
            <a:avLst/>
            <a:gdLst/>
            <a:ahLst/>
            <a:rect l="l" t="t" r="r" b="b"/>
            <a:pathLst>
              <a:path w="2357438" h="2357437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8" y="0"/>
                </a:lnTo>
                <a:lnTo>
                  <a:pt x="2357438" y="1178719"/>
                </a:lnTo>
                <a:cubicBezTo>
                  <a:pt x="2357438" y="1829708"/>
                  <a:pt x="1829708" y="2357438"/>
                  <a:pt x="1178719" y="2357438"/>
                </a:cubicBezTo>
                <a:cubicBezTo>
                  <a:pt x="527730" y="2357438"/>
                  <a:pt x="0" y="1829708"/>
                  <a:pt x="0" y="1178719"/>
                </a:cubicBez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3069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6"/>
          <p:cNvSpPr/>
          <p:nvPr/>
        </p:nvSpPr>
        <p:spPr>
          <a:xfrm>
            <a:off x="2571840" y="642960"/>
            <a:ext cx="4498920" cy="2878200"/>
          </a:xfrm>
          <a:prstGeom prst="downArrow">
            <a:avLst>
              <a:gd name="adj1" fmla="val 0"/>
              <a:gd name="adj2" fmla="val 58106"/>
            </a:avLst>
          </a:prstGeom>
          <a:solidFill>
            <a:srgbClr val="b5c4c7"/>
          </a:solidFill>
          <a:ln w="25560">
            <a:solidFill>
              <a:srgbClr val="b5c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7"/>
          <p:cNvSpPr/>
          <p:nvPr/>
        </p:nvSpPr>
        <p:spPr>
          <a:xfrm flipV="1">
            <a:off x="2585880" y="3551400"/>
            <a:ext cx="4499280" cy="2877840"/>
          </a:xfrm>
          <a:prstGeom prst="downArrow">
            <a:avLst>
              <a:gd name="adj1" fmla="val 0"/>
              <a:gd name="adj2" fmla="val 58106"/>
            </a:avLst>
          </a:prstGeom>
          <a:solidFill>
            <a:srgbClr val="434456"/>
          </a:solidFill>
          <a:ln w="2556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4569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4426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虚尾箭头 6"/>
          <p:cNvSpPr/>
          <p:nvPr/>
        </p:nvSpPr>
        <p:spPr>
          <a:xfrm>
            <a:off x="4689360" y="2286000"/>
            <a:ext cx="2997360" cy="1785960"/>
          </a:xfrm>
          <a:custGeom>
            <a:avLst/>
            <a:gdLst/>
            <a:ahLst/>
            <a:rect l="l" t="t" r="r" b="b"/>
            <a:pathLst>
              <a:path w="2997200" h="1785938">
                <a:moveTo>
                  <a:pt x="0" y="281848"/>
                </a:moveTo>
                <a:lnTo>
                  <a:pt x="55811" y="281848"/>
                </a:lnTo>
                <a:lnTo>
                  <a:pt x="55811" y="1504090"/>
                </a:lnTo>
                <a:lnTo>
                  <a:pt x="0" y="1504090"/>
                </a:lnTo>
                <a:lnTo>
                  <a:pt x="0" y="281848"/>
                </a:lnTo>
                <a:close/>
                <a:moveTo>
                  <a:pt x="111621" y="281848"/>
                </a:moveTo>
                <a:lnTo>
                  <a:pt x="223242" y="281848"/>
                </a:lnTo>
                <a:lnTo>
                  <a:pt x="223242" y="1504090"/>
                </a:lnTo>
                <a:lnTo>
                  <a:pt x="111621" y="1504090"/>
                </a:lnTo>
                <a:lnTo>
                  <a:pt x="111621" y="281848"/>
                </a:lnTo>
                <a:close/>
                <a:moveTo>
                  <a:pt x="279053" y="281848"/>
                </a:moveTo>
                <a:lnTo>
                  <a:pt x="2104231" y="281848"/>
                </a:lnTo>
                <a:lnTo>
                  <a:pt x="2104231" y="0"/>
                </a:lnTo>
                <a:lnTo>
                  <a:pt x="2997200" y="892969"/>
                </a:lnTo>
                <a:lnTo>
                  <a:pt x="2104231" y="1785938"/>
                </a:lnTo>
                <a:lnTo>
                  <a:pt x="2104231" y="1504090"/>
                </a:lnTo>
                <a:lnTo>
                  <a:pt x="279053" y="1504090"/>
                </a:lnTo>
                <a:lnTo>
                  <a:pt x="279053" y="281848"/>
                </a:ln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虚尾箭头 7"/>
          <p:cNvSpPr/>
          <p:nvPr/>
        </p:nvSpPr>
        <p:spPr>
          <a:xfrm flipH="1">
            <a:off x="1643040" y="2286000"/>
            <a:ext cx="2997360" cy="1785960"/>
          </a:xfrm>
          <a:custGeom>
            <a:avLst/>
            <a:gdLst/>
            <a:ahLst/>
            <a:rect l="l" t="t" r="r" b="b"/>
            <a:pathLst>
              <a:path w="2997200" h="1785938">
                <a:moveTo>
                  <a:pt x="0" y="281848"/>
                </a:moveTo>
                <a:lnTo>
                  <a:pt x="55811" y="281848"/>
                </a:lnTo>
                <a:lnTo>
                  <a:pt x="55811" y="1504090"/>
                </a:lnTo>
                <a:lnTo>
                  <a:pt x="0" y="1504090"/>
                </a:lnTo>
                <a:lnTo>
                  <a:pt x="0" y="281848"/>
                </a:lnTo>
                <a:close/>
                <a:moveTo>
                  <a:pt x="111621" y="281848"/>
                </a:moveTo>
                <a:lnTo>
                  <a:pt x="223242" y="281848"/>
                </a:lnTo>
                <a:lnTo>
                  <a:pt x="223242" y="1504090"/>
                </a:lnTo>
                <a:lnTo>
                  <a:pt x="111621" y="1504090"/>
                </a:lnTo>
                <a:lnTo>
                  <a:pt x="111621" y="281848"/>
                </a:lnTo>
                <a:close/>
                <a:moveTo>
                  <a:pt x="279053" y="281848"/>
                </a:moveTo>
                <a:lnTo>
                  <a:pt x="2104231" y="281848"/>
                </a:lnTo>
                <a:lnTo>
                  <a:pt x="2104231" y="0"/>
                </a:lnTo>
                <a:lnTo>
                  <a:pt x="2997200" y="892969"/>
                </a:lnTo>
                <a:lnTo>
                  <a:pt x="2104231" y="1785938"/>
                </a:lnTo>
                <a:lnTo>
                  <a:pt x="2104231" y="1504090"/>
                </a:lnTo>
                <a:lnTo>
                  <a:pt x="279053" y="1504090"/>
                </a:lnTo>
                <a:lnTo>
                  <a:pt x="279053" y="281848"/>
                </a:ln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426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右箭头标注 6"/>
          <p:cNvSpPr/>
          <p:nvPr/>
        </p:nvSpPr>
        <p:spPr>
          <a:xfrm rot="5400000">
            <a:off x="3019680" y="3944160"/>
            <a:ext cx="2567160" cy="1955880"/>
          </a:xfrm>
          <a:prstGeom prst="rightArrowCallout">
            <a:avLst>
              <a:gd name="adj1" fmla="val 13455"/>
              <a:gd name="adj2" fmla="val 15375"/>
              <a:gd name="adj3" fmla="val 19250"/>
              <a:gd name="adj4" fmla="val 64977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右箭头标注 7"/>
          <p:cNvSpPr/>
          <p:nvPr/>
        </p:nvSpPr>
        <p:spPr>
          <a:xfrm>
            <a:off x="5281560" y="3638520"/>
            <a:ext cx="2629080" cy="1649520"/>
          </a:xfrm>
          <a:prstGeom prst="rightArrowCallout">
            <a:avLst>
              <a:gd name="adj1" fmla="val 13455"/>
              <a:gd name="adj2" fmla="val 15375"/>
              <a:gd name="adj3" fmla="val 19252"/>
              <a:gd name="adj4" fmla="val 64977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标注 8"/>
          <p:cNvSpPr/>
          <p:nvPr/>
        </p:nvSpPr>
        <p:spPr>
          <a:xfrm rot="10800000">
            <a:off x="2285640" y="1681920"/>
            <a:ext cx="2995560" cy="1955880"/>
          </a:xfrm>
          <a:prstGeom prst="rightArrowCallout">
            <a:avLst>
              <a:gd name="adj1" fmla="val 13455"/>
              <a:gd name="adj2" fmla="val 15375"/>
              <a:gd name="adj3" fmla="val 19244"/>
              <a:gd name="adj4" fmla="val 64977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右箭头标注 9"/>
          <p:cNvSpPr/>
          <p:nvPr/>
        </p:nvSpPr>
        <p:spPr>
          <a:xfrm flipV="1" rot="16200000">
            <a:off x="4639320" y="1284120"/>
            <a:ext cx="2995560" cy="1711440"/>
          </a:xfrm>
          <a:prstGeom prst="rightArrowCallout">
            <a:avLst>
              <a:gd name="adj1" fmla="val 13455"/>
              <a:gd name="adj2" fmla="val 15375"/>
              <a:gd name="adj3" fmla="val 19245"/>
              <a:gd name="adj4" fmla="val 64977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862080" y="247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634360" y="430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3862080" y="430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634360" y="2538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 .</cp:lastModifiedBy>
  <dcterms:modified xsi:type="dcterms:W3CDTF">2015-09-04T14:38:59Z</dcterms:modified>
  <cp:revision>2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