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487-F6EC-45CC-9506-5ADEEF19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651-733E-4F73-9E0A-C5F4559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1C2-B547-43F6-A776-EA91623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02C-6BA5-4C14-90D3-AC99F71D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E5FA-3F5E-4285-97D5-5A366DE6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11A7-B528-4361-BC76-67A5A039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8AF-33F5-4303-AD86-B9174454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767-74FC-4561-BE38-AA7ED8B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9E93-3E81-40A2-9657-8DE75A22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86F1-C2A6-4A6F-9293-6C55DD8B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157-30C5-44B6-AD67-B844394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1C0-1298-4201-A78B-A632D4AB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91C5-D593-426F-8520-9339B3F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088F-22BF-43EE-B88D-CA04BB65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7A73-0D86-4732-B955-DF366C2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68BD-A158-4E27-B420-9D20FF6F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4867-A061-47E4-B0D6-82DD41FD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4DE-1F0C-4DFE-97E4-06163F7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F85-0D2A-4EB1-B81A-64EF3BAE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879-9CCD-4027-8EED-58AFDB7E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B82-7F47-44A9-A27E-D2C0B9C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890-CD84-4E57-AA76-10BB8E7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CBA-B0EA-4D0E-9405-8213A6D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2F7-03F8-49CF-B357-A9FF664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4045-06B9-4AB2-BD22-AA681DFAF7A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867-DD6F-43E8-9EB4-8114F7B67F8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311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智慧型物流管理系統</a:t>
            </a:r>
            <a:br>
              <a:rPr sz="4400"/>
            </a:b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期末報告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358092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引進宅配服務於私人生鮮超市之研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以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XX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超市為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簡報人：</a:t>
            </a:r>
            <a:r>
              <a:rPr b="0" lang="en-US" sz="3200" spc="-1" strike="noStrike">
                <a:solidFill>
                  <a:srgbClr val="ffffff"/>
                </a:solidFill>
                <a:latin typeface="新細明體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簡報大綱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研究動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研究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文獻回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研究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問卷分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結論建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</a:rPr>
              <a:t>何謂宅配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33520" y="2209680"/>
            <a:ext cx="8152920" cy="4100760"/>
            <a:chOff x="533520" y="2209680"/>
            <a:chExt cx="8152920" cy="4100760"/>
          </a:xfrm>
        </p:grpSpPr>
        <p:grpSp>
          <p:nvGrpSpPr>
            <p:cNvPr id="94" name=""/>
            <p:cNvGrpSpPr/>
            <p:nvPr/>
          </p:nvGrpSpPr>
          <p:grpSpPr>
            <a:xfrm>
              <a:off x="540360" y="2212920"/>
              <a:ext cx="8137800" cy="4093560"/>
              <a:chOff x="540360" y="2212920"/>
              <a:chExt cx="8137800" cy="40935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40360" y="2212920"/>
                <a:ext cx="3017880" cy="1883880"/>
                <a:chOff x="540360" y="2212920"/>
                <a:chExt cx="3017880" cy="188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67000" y="2212920"/>
                  <a:ext cx="2964960" cy="18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XXX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(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民國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XX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40360" y="2212920"/>
                  <a:ext cx="3017880" cy="188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558600" y="2212920"/>
                <a:ext cx="5119560" cy="1883880"/>
                <a:chOff x="3558600" y="2212920"/>
                <a:chExt cx="5119560" cy="18838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585240" y="2212920"/>
                  <a:ext cx="5066280" cy="18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「宅配」是指流通業者把商品透過平面媒體廣告直接販賣給消費者，並提供送貨到府的服務，其乃是屬於零階通路或無店鋪販賣的性質。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58600" y="2212920"/>
                  <a:ext cx="5119560" cy="188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40360" y="4096800"/>
                <a:ext cx="3017880" cy="844920"/>
                <a:chOff x="540360" y="4096800"/>
                <a:chExt cx="3017880" cy="8449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67000" y="4096800"/>
                  <a:ext cx="2964960" cy="84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統一速達公司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0360" y="4096800"/>
                  <a:ext cx="3017880" cy="84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558600" y="4096800"/>
                <a:ext cx="5119560" cy="844920"/>
                <a:chOff x="3558600" y="4096800"/>
                <a:chExt cx="5119560" cy="8449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585240" y="4096800"/>
                  <a:ext cx="5066280" cy="84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將物品「配送到府」之意。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58600" y="4096800"/>
                  <a:ext cx="5119560" cy="84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40360" y="4942080"/>
                <a:ext cx="3017880" cy="1364400"/>
                <a:chOff x="540360" y="4942080"/>
                <a:chExt cx="3017880" cy="1364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7000" y="4942080"/>
                  <a:ext cx="2964960" cy="13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XX</a:t>
                  </a: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宅配通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40360" y="4942080"/>
                  <a:ext cx="3017880" cy="136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558600" y="4942080"/>
                <a:ext cx="5119560" cy="1364400"/>
                <a:chOff x="3558600" y="4942080"/>
                <a:chExt cx="5119560" cy="1364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85240" y="4942080"/>
                  <a:ext cx="5066280" cy="136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400" spc="-1" strike="noStrike">
                      <a:solidFill>
                        <a:srgbClr val="ffffff"/>
                      </a:solidFill>
                      <a:latin typeface="Times New Roman"/>
                    </a:rPr>
                    <a:t>一種「戶對戶」之精緻化貨品配送，主要亦是著重「宅配」服務的便利性與快速性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58600" y="4942080"/>
                  <a:ext cx="5119560" cy="136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533520" y="2209680"/>
              <a:ext cx="8152920" cy="4100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研究動機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由於擁有地緣重要關係，故台灣的私人生鮮超市尚具有部分住宅區之重要地位，而針對此特性，若從地緣之顧客為出發點進行宅配之服務，是否消費者型態將會形成從此區域內擴大至較無地緣限制的狀況，進而增加其超市之銷售量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研究目的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以瞭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消費者對於宅配服務之接受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消費者對宅配服務會使用的程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研究方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問卷調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以</a:t>
            </a:r>
            <a:r>
              <a:rPr b="0" lang="en-US" sz="2400" spc="-1" strike="noStrike">
                <a:solidFill>
                  <a:srgbClr val="ffffff"/>
                </a:solidFill>
                <a:latin typeface="新細明體"/>
              </a:rPr>
              <a:t>XXXX</a:t>
            </a: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超市為調查對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研究議題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社會經濟屬性（個人基本資料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『宅配』一詞於一般大眾的瞭解程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宅配服務之接受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宅配服務之使用狀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新細明體"/>
              </a:rPr>
              <a:t>統計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新細明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新細明體"/>
              </a:rPr>
              <a:t>交叉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問卷調查結果分析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教育程度於高中以上均對宅配有概括性瞭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大部分消費者會願意使用宅配服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顧客對於訂貨到收貨間之時間可接受至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小時以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可支配所得平均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元以上較能接受宅配服務另收費用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，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整體來說消費者是不願意付此項額外費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結論與建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並未能反映出整體台中縣大甲鎮之現況，只能針對一家超市做局部的調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應嚴謹設計問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宅配於大眾的接受度已是相當良好，未來可往如何節省店家之訂貨至送貨到府之時間與成本為研究課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簡報結束</a:t>
            </a:r>
            <a:br>
              <a:rPr sz="4400"/>
            </a:b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標楷體"/>
              </a:rPr>
              <a:t>敬請指教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物流 管理 系统</cp:keywords>
  <dc:language>en-US</dc:language>
  <cp:lastModifiedBy/>
  <cp:revision>0</cp:revision>
  <dc:subject/>
  <dc:title/>
</cp:coreProperties>
</file>