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D7BF-366F-4B7A-B4D9-BDB94776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D8A-30A1-42F4-BEF4-010ABAD4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BF9E-98B4-4BF9-8CDF-DFDDD6E5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07E-5BC9-403F-8BE0-F70CC0D2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586D-E7F6-4F3D-93AE-596DC3BF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695D-CE1B-4E3D-B0B7-3622AE6D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DC01-5636-4B3B-AE3D-DFE164A5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BDA0-480A-433B-84F0-41337D15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3186-2E87-4239-9E43-07EC5667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478E-2676-4E8A-8675-CC836AF9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2F40-DA1C-40AD-BB1A-034129AB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93A-6855-4D22-8187-38C3BB44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B56C-A409-42B0-AD4B-05E0398C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55E4-03D6-44E8-A82E-E6684ADE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D8C8-159D-489E-9D8C-B57DA9C9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9C65-301F-429D-BF72-93B96A3B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DF12-688E-4A4C-81B2-76908268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AE81-68D7-4074-8891-9273C40A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2F2-ECBC-4B71-9FE4-F9927E02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864-0B8C-423E-823E-4AD41CF7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8CD-C2F8-4672-A983-D2B85594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645-054A-4535-80B8-D60531AC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D11-4097-4747-9A4E-29BAF196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BF91-ED49-444B-B5B6-B1E7843C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j0395929"/>
          <p:cNvPicPr/>
          <p:nvPr/>
        </p:nvPicPr>
        <p:blipFill>
          <a:blip r:embed="rId2"/>
          <a:stretch/>
        </p:blipFill>
        <p:spPr>
          <a:xfrm>
            <a:off x="6095880" y="3886200"/>
            <a:ext cx="3048120" cy="2287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7F4E-32E2-43B5-AA4D-5A72FC073C25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09A8-77DD-47BD-B341-6B16F806C8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j0395929"/>
          <p:cNvPicPr/>
          <p:nvPr/>
        </p:nvPicPr>
        <p:blipFill>
          <a:blip r:embed="rId2"/>
          <a:stretch/>
        </p:blipFill>
        <p:spPr>
          <a:xfrm>
            <a:off x="0" y="966960"/>
            <a:ext cx="7848720" cy="5891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034A-FC5F-4FA2-AD29-FD5118999B28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D067-D198-43FF-860E-5C0EB33753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05520" y="533160"/>
            <a:ext cx="3657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F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105520" y="380988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2574720" y="53352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埃菲尔铁塔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日期占位符 3"/>
          <p:cNvSpPr/>
          <p:nvPr/>
        </p:nvSpPr>
        <p:spPr>
          <a:xfrm>
            <a:off x="457200" y="6245280"/>
            <a:ext cx="2133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5BBC-4D35-442A-A423-9CCE9ED43D56}" type="datetime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5"/>
          <p:cNvSpPr/>
          <p:nvPr/>
        </p:nvSpPr>
        <p:spPr>
          <a:xfrm>
            <a:off x="6553080" y="6245280"/>
            <a:ext cx="2133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3DD4-2E83-4AD5-A205-2CEEFF0859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19:55:03Z</dcterms:created>
  <dc:creator/>
  <dc:description/>
  <cp:keywords/>
  <dc:language>en-US</dc:language>
  <cp:lastModifiedBy>a</cp:lastModifiedBy>
  <dcterms:modified xsi:type="dcterms:W3CDTF">2015-07-20T12:01:29Z</dcterms:modified>
  <cp:revision>10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