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5CF0-B2FF-4B31-B09A-0697C20E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9DDA-568E-477C-9215-C0ADA5927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EECF-15A9-40E2-9610-0A9B311CA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9972-39C4-40BD-B760-D5782B922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AF8BE-F40D-4807-AF0B-0ED56F673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2C7E-1011-4AE8-B2F5-51CD2D7D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E63-8EEB-4454-B132-186707164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92113-AB4F-452E-823F-E328B4C5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892-FC51-4564-8D71-D0B51C26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C41-4645-4550-94FC-EA010ED6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AFEB4-1819-4EA3-ADBB-39A54C6C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8069-864E-454E-A513-E799F5444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729A-8659-42C8-879E-4372299C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929-D897-41E6-A9B8-63748092E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CEEB-B593-40DE-9387-D38C3A5A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E842-145D-4D12-9F9B-CB4E6C370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B60C-B91F-4CD9-BFE2-E55DBB840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9A0B-7FFD-4E4A-992B-2F682DB4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44CB-96ED-4032-BAE8-E833BFC3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C831-9C37-41B8-9381-D3B384E76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25D8-2D7D-42F3-9761-9C95AD061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7B3-71FE-4974-9739-8D2D65D9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43EA-C7CF-4C59-9D69-4A1D3CBE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3645-37E4-4A5F-B49B-D387E30DB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36457-5D4D-4907-ACCF-014950F27C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901-45E4-4317-BC69-1660489E0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AFBE-278A-42E3-991D-23965C88371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B408-2854-46D2-9577-E6CC4FEEEE7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16sucai_201402251114"/>
          <p:cNvPicPr/>
          <p:nvPr/>
        </p:nvPicPr>
        <p:blipFill>
          <a:blip r:embed="rId1"/>
          <a:stretch/>
        </p:blipFill>
        <p:spPr>
          <a:xfrm>
            <a:off x="122400" y="0"/>
            <a:ext cx="88866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矩形 1"/>
          <p:cNvSpPr/>
          <p:nvPr/>
        </p:nvSpPr>
        <p:spPr>
          <a:xfrm>
            <a:off x="2422440" y="1136520"/>
            <a:ext cx="384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安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pc</dc:creator>
  <dc:description/>
  <cp:keywords/>
  <dc:language>en-US</dc:language>
  <cp:lastModifiedBy>a</cp:lastModifiedBy>
  <dcterms:modified xsi:type="dcterms:W3CDTF">2015-07-20T12:02:4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