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263-4E62-41D5-9401-B57C737D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ADA-311B-4F41-9AB9-9E00F7A6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466-F1EB-4B8B-B1F4-A4C9B809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25D-A574-4CF6-B048-66BCE06C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2CE-BCBF-4920-9C9E-50A8DAD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C36-898E-446A-ADBC-48C9A3D5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5B0-9B4A-4FC0-A1C2-BCA94D97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DD5-33D2-4398-B432-59C7EC8A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5DD-62A7-47D2-904B-DC571E7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B41-EECD-4969-8103-17081A87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E54-6CBE-4F50-AC2E-E87D451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5AB-292E-4BE1-B48C-26DFA11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86A1-3BF0-4AD0-9703-CC55ACE038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32EF-8D0D-43C8-8241-2F8C9905ED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802212457736"/>
          <p:cNvPicPr/>
          <p:nvPr/>
        </p:nvPicPr>
        <p:blipFill>
          <a:blip r:embed="rId1"/>
          <a:stretch/>
        </p:blipFill>
        <p:spPr>
          <a:xfrm>
            <a:off x="1746360" y="17640"/>
            <a:ext cx="5451480" cy="679896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912760" y="12319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012272101b4a5bbd7"/>
          <p:cNvPicPr/>
          <p:nvPr/>
        </p:nvPicPr>
        <p:blipFill>
          <a:blip r:embed="rId1"/>
          <a:stretch/>
        </p:blipFill>
        <p:spPr>
          <a:xfrm>
            <a:off x="19080" y="14400"/>
            <a:ext cx="9101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01:14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