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415-9145-43EC-BB46-E2DEE519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697-73EC-4A82-B07F-A5C4D381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5AF-4EAB-4C47-B9CA-2EBDC13A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C01-A0B5-49A9-A5EB-6097C0AB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067-B994-4CBC-B4FB-A1C26569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2DB7-A156-454B-8A5C-1EB78AEB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F7FC-D5AA-4019-8978-3035FAC9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2305-8625-4D6E-8769-61D9C08E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C413-C40A-4134-B9FC-1B63D790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D9C-1CCE-44C3-BF87-C08A3B25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E87E-E3B4-4AC2-A82E-A494D74A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92F-D5F1-47C8-AF29-CCA64368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D496F7-2B64-4B3A-BE62-EB198AF9B08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39640" y="4316760"/>
            <a:ext cx="8064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3f0e2"/>
                </a:solidFill>
                <a:latin typeface="方正正准黑简体"/>
                <a:ea typeface="方正正准黑简体"/>
              </a:rPr>
              <a:t>爱心折页温馨浪漫动态</a:t>
            </a:r>
            <a:r>
              <a:rPr b="0" lang="en-US" sz="4000" spc="-1" strike="noStrike">
                <a:solidFill>
                  <a:srgbClr val="f3f0e2"/>
                </a:solidFill>
                <a:latin typeface="方正正准黑简体"/>
                <a:ea typeface="方正正准黑简体"/>
              </a:rPr>
              <a:t>PPT</a:t>
            </a:r>
            <a:r>
              <a:rPr b="0" lang="zh-CN" sz="4000" spc="-1" strike="noStrike">
                <a:solidFill>
                  <a:srgbClr val="f3f0e2"/>
                </a:solidFill>
                <a:latin typeface="方正正准黑简体"/>
                <a:ea typeface="方正正准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3"/>
          <p:cNvCxnSpPr/>
          <p:nvPr/>
        </p:nvCxnSpPr>
        <p:spPr>
          <a:xfrm>
            <a:off x="1187280" y="5024160"/>
            <a:ext cx="6625440" cy="360"/>
          </a:xfrm>
          <a:prstGeom prst="straightConnector1">
            <a:avLst/>
          </a:prstGeom>
          <a:ln w="38100">
            <a:solidFill>
              <a:srgbClr val="7030a0"/>
            </a:solidFill>
            <a:round/>
          </a:ln>
        </p:spPr>
      </p:cxnSp>
      <p:sp>
        <p:nvSpPr>
          <p:cNvPr id="43" name="矩形 8"/>
          <p:cNvSpPr/>
          <p:nvPr/>
        </p:nvSpPr>
        <p:spPr>
          <a:xfrm>
            <a:off x="2843640" y="1268640"/>
            <a:ext cx="6476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风暴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S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矢量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AE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视频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Flash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图片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PS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插件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  <Words>71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16T08:53:23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