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A38-4DC7-4D83-956D-004450A0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3C0-9122-4FC7-A7D9-7360764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0E81E-84B9-4837-BFB7-5243A16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F24E-FD41-48AF-B4B0-7AB5D1F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CA30A-ED61-45C3-84A0-7800778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EEAEE-C582-4374-B05E-B4353EC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5489-8330-4388-AC8C-5D65A8BA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7893E-2B61-4D8A-A409-01E88F65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28E4-645A-48D6-B0EC-14C68836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3667C-1429-4A5C-83B1-8D30D58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1B84D-A09A-4BC0-BAD8-056FA538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B748-DB81-4826-B811-0A98EB3C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951-4E6C-46B9-A384-16164C7C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1C802-8DC4-484B-BEFA-EBA5BD5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78287-CB08-4A7C-81EA-D852760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5C0A1-C21B-493C-B29A-588AF6D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81969-671C-4594-873B-03BDB5C4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0EC21-DFDD-4A62-9B40-FC768C09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049D-AE8F-4F9D-9E88-23FCADE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2993F-088C-46D3-963B-33A9B15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C3C4D-43F8-4402-95C5-4CFF765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A4347-0840-4E5A-958F-C6C6583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B9B03-9D5A-41DD-9B03-0D936DFF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FC8-45F2-4931-B0A7-B7D62D17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2B82D-BE80-4D5A-86A7-8DDD3D57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2F0A-7ECF-4852-AFEC-7ABBD08C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FBF66-29C5-4503-8069-B5B953EF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4040D-071F-4ED4-B10D-B71B2743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2336-F25F-4401-800E-258462D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69FF-9D19-454D-89B3-9865495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81498-0609-496C-92DD-662193A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0B8E9-D015-4D02-A986-FE4A8B5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507DC-93AC-4C1C-87AF-F3CE126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4AA29-58B2-4C33-B7B9-8D4B408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7331-E8CA-4BC5-8059-8F63BBC3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8FF5C-6300-4B8F-A3A6-C638336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74D28-0E4A-4F6A-9ADC-1A452EF4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BBE82-71A7-4527-9973-E3647B8A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7BF2-80F4-4C8A-A599-069B4264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7F25B-2723-4712-BD2E-E3047F0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7A772-F789-40EE-B54D-333EB648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0A005-39F3-4144-BD16-D7D13746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1E27F-5A6A-48D7-928B-DC39AD5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5C7B6-5F5E-4B6A-B260-CEC8EDE1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EE425-4D77-4C6F-B0FD-E8CE11C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6C6C-4ACC-4EC9-802D-7B6E694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F7B51-E57C-42DA-8FF9-27EA617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C66F1-7A35-4EE7-8BCA-09341E0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66A49-AE00-49E6-8DBB-CE7307C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9D0B2-5F78-40E1-B31A-0A928E47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F2DE5-8C16-4E8B-BCAE-C0DBFA72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AAB6-BE80-4505-9AB6-3CF2DAF5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87E3-3D1F-462D-9703-B16D8DAE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F66-6760-402B-85D9-158B78B5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47C6-AACA-4B86-952B-6D100448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57D-8B9A-410D-902E-4BCE28C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549-CAFD-434B-AD97-50EC2438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CA8C-A448-4EA3-A984-5C95AEB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53A5-6294-4B8A-B384-B544BB5D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C2F-7A0E-4EB5-903B-29061C12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3EE6-7E07-4E51-9578-EF93567C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3BE3-D4A9-49C3-A973-7EA2942C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4EF1-63F2-48C4-AF5E-8A5A056F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2BA0-6EFD-4AA9-A52D-363FA9F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E3D8-6A67-43E8-BE57-0C0A169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37A3-1C73-4402-B451-8D5DDD8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12C3-E7D2-4563-B792-EC70636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4AB-D906-4655-99C7-17F97A0E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4A0E-27A7-4C1A-AFD3-11512A0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CF0D-FB81-42D9-B376-34AC67F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BCDB-F382-4BB4-839A-9F26192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BC99-3667-48BB-B018-2CF964DC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C6DE-ED8A-402A-99D9-8E01F13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8EEF-BFB2-4B18-997D-121DE3A7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87E1-A686-4C8E-9E96-5836E620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988B-4F4E-4B38-A1EE-65EC03EF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5F2F-F8CD-4B95-994F-F286E7AC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E1BE-8ACD-492B-8336-119E39E8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18B-9D48-42F4-AA26-F047CE09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E59B-B3D4-46AF-A52F-6174B39A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0B35A-6A35-4C1E-BC51-6FA1627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1782-FA05-4E81-A76B-B90EA739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FA4F-C784-4CC4-AC5C-08F3EAC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7EA1-1272-4EA6-A69F-6034A53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74D3-4983-46AB-B1DB-9E739CC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876E-DE0C-4069-8A75-D62813C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01E8-5AD1-4A5F-9476-B29B7CFD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7DAB-04B2-4902-84EA-0AB16580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314F-2F5A-4D65-BD2D-2A6F477F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31F-A083-4BFD-8D80-675D778A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E27F-D211-474B-AB47-579D413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B99F-0CCE-40BC-A88D-B3FD6686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7A08-8ACA-4EA1-BD65-12C538AE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45C9-8B23-48D4-8D4C-4533A9E6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A585-441A-4EF1-920F-1C0AC644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9DD7-2C9D-4945-AD2D-075E600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19CFD-6264-4BD8-805C-E49D3C2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45B6-8F33-4292-9531-47DA0FD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ADD3-E654-4FD8-A628-6AAAB11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1B05-1304-4D94-825C-24A1556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F7B-6BEB-4571-A161-603C8E59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B8F3-CB68-4165-BE1E-6D3A6440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5CA7A-05CC-4531-AA1A-CF2B1A07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FEB5-F0F1-487A-8817-8F514F3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6EEF-13D8-4E6A-BC0C-5AAF965D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B4FA-DBB6-4E2B-B732-375CB843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93977-3290-4363-860A-A7D5D1D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BEB3-CCB6-4DC3-9123-E49FA91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8953-96EA-406D-ABA6-AA375652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254AD-03FA-4255-8C4F-A3F0633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628B-7070-4546-BE36-57250A6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B46-8136-4CD7-B61D-3F29596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77F9-DD3F-483C-B79A-7201DC02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AB50-4AB3-4300-9430-991C4A97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B58A-2300-4CBF-A28D-B572385A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2B54-636B-4478-A8CC-1AF86350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8E32-E594-480E-B995-827DB9F5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6AE9-8805-40A3-85F7-3C12A32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231CB-6DFB-49BD-ADB5-552C7628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5F790-3922-41F2-8842-5A53983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4FB5A-37D9-42CD-AA30-4316DDF0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AC088-E85D-4500-A589-6C55085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E31-780A-4DD1-B8AD-4766938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EBA3-F57A-4203-B240-8261C71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F80F-7074-4CC1-8680-16D0D83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8BA5-A211-45E2-B5C7-452C9122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B103-05B8-41CB-B04B-2D1CE498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066BE-65AE-42C6-858C-6F211EA1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68712-61AB-4232-836A-0EE35ACA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B56F-4094-4711-A290-7A2D2A0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FF2C-4CFA-4D3D-AFF1-4CDA2F89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36D0-4EBD-4287-B5F6-28DDAD3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FF15C-8C4E-4E96-8F0A-8AF9E8F0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E4D-3B02-476B-8A8A-932755B5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DD048-3295-47BF-8652-D77A6243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2DD38-2848-40BA-BC4B-852D42A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DB1F-46C8-4183-BF22-9DD2E9C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30AB-7BA9-4CB2-A362-5554484C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0A684-8B22-45D0-8AC8-A3646FB5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D51E5-2D2D-4B98-BE8B-B8754AA7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01F9-B754-44DF-8901-5DA2A293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873C8-FA62-4E9D-904D-321996CD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73913-26E8-447C-AD78-27FA1E5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04F6C-70B2-4418-BCC8-CFAE6C83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4585-5B4C-48C2-A8DA-E7424EC232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714-FD65-49E9-B11B-80880B1FCF8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595-E292-4901-B17D-21765E9BE102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0C71-E37E-43CE-B26F-66F2B894CB4E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18C-4AF5-4F13-8469-58BE2ED74C26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D5D-EA33-40F1-B2D5-EEC73EA9E5E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EDB4-F8A3-4368-A644-C7DB8AAA2076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212-365E-47CB-8B91-E19CFD3CE3A3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E3D8-21D4-40C5-AF5C-8BF9025D6C7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714-ABB6-47E2-BEAA-C3FD41AE166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999B-6039-42DF-9797-100902E9984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694-7D96-450D-8854-ECF2D651A304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F9F6-9AAD-4E2A-9992-89951AC018F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A87-15D3-422A-9B7D-997880992D27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EAC3-F3FF-4F3F-8D71-3BC28441862E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2B42-A11A-4A96-B705-9C2A216B5A0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D91-11AD-4FC0-B6A6-F895758014A0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19C-BE4E-4485-8D32-1A0B583B547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EBC0-B523-4D60-8F3E-3BA3512EACA2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C803-6F90-4A3E-AFAE-A475A9BAAB6A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4267-1B65-4957-8BAC-AA3ADF087CDF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C995-53E6-49D8-B129-BDEC9C64CAFE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6E9-4C3D-4806-A723-16BC3F57220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93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55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557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68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1" name="矩形 72"/>
          <p:cNvSpPr/>
          <p:nvPr/>
        </p:nvSpPr>
        <p:spPr>
          <a:xfrm>
            <a:off x="987480" y="3201840"/>
            <a:ext cx="70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89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0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1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92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93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"/>
          <p:cNvSpPr/>
          <p:nvPr/>
        </p:nvSpPr>
        <p:spPr>
          <a:xfrm>
            <a:off x="2395800" y="19051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办公玫瑰动态</a:t>
            </a:r>
            <a:r>
              <a:rPr b="1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12"/>
          <p:cNvSpPr/>
          <p:nvPr/>
        </p:nvSpPr>
        <p:spPr>
          <a:xfrm>
            <a:off x="314280" y="4888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组合 116"/>
          <p:cNvGrpSpPr/>
          <p:nvPr/>
        </p:nvGrpSpPr>
        <p:grpSpPr>
          <a:xfrm>
            <a:off x="85680" y="1230480"/>
            <a:ext cx="8987040" cy="3632040"/>
            <a:chOff x="85680" y="1230480"/>
            <a:chExt cx="8987040" cy="3632040"/>
          </a:xfrm>
        </p:grpSpPr>
        <p:sp>
          <p:nvSpPr>
            <p:cNvPr id="572" name="矩形 117"/>
            <p:cNvSpPr/>
            <p:nvPr/>
          </p:nvSpPr>
          <p:spPr>
            <a:xfrm>
              <a:off x="85680" y="123048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矩形 121"/>
            <p:cNvSpPr/>
            <p:nvPr/>
          </p:nvSpPr>
          <p:spPr>
            <a:xfrm>
              <a:off x="816480" y="1400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TextBox 122"/>
            <p:cNvSpPr/>
            <p:nvPr/>
          </p:nvSpPr>
          <p:spPr>
            <a:xfrm>
              <a:off x="1125360" y="203040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矩形 134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135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136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37"/>
          <p:cNvSpPr/>
          <p:nvPr/>
        </p:nvSpPr>
        <p:spPr>
          <a:xfrm>
            <a:off x="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38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139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40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141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42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585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64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64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81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3" name="TextBox 127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28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29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3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48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4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50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2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5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" dur="2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5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5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-0.78765 L 3.88889E-006 -8.64198E-007 E">
                                      <p:cBhvr>
                                        <p:cTn id="7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661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724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725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68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730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2"/>
            <p:cNvSpPr/>
            <p:nvPr/>
          </p:nvSpPr>
          <p:spPr>
            <a:xfrm>
              <a:off x="81792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TextBox 125"/>
            <p:cNvSpPr/>
            <p:nvPr/>
          </p:nvSpPr>
          <p:spPr>
            <a:xfrm>
              <a:off x="1127160" y="2031840"/>
              <a:ext cx="715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3" name="TextBox 126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27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28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29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3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4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5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组合 154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741" name="矩形 155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矩形 156"/>
            <p:cNvSpPr/>
            <p:nvPr/>
          </p:nvSpPr>
          <p:spPr>
            <a:xfrm>
              <a:off x="81792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TextBox 157"/>
            <p:cNvSpPr/>
            <p:nvPr/>
          </p:nvSpPr>
          <p:spPr>
            <a:xfrm>
              <a:off x="1127160" y="2031840"/>
              <a:ext cx="715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745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6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80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80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Text Box 72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矩形 107"/>
          <p:cNvSpPr/>
          <p:nvPr/>
        </p:nvSpPr>
        <p:spPr>
          <a:xfrm>
            <a:off x="87480" y="1231920"/>
            <a:ext cx="8986680" cy="363060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09"/>
          <p:cNvSpPr/>
          <p:nvPr/>
        </p:nvSpPr>
        <p:spPr>
          <a:xfrm>
            <a:off x="830880" y="1401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44b40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5" name="组合 158"/>
          <p:cNvGrpSpPr/>
          <p:nvPr/>
        </p:nvGrpSpPr>
        <p:grpSpPr>
          <a:xfrm>
            <a:off x="614520" y="2255760"/>
            <a:ext cx="7913520" cy="1925640"/>
            <a:chOff x="614520" y="2255760"/>
            <a:chExt cx="7913520" cy="1925640"/>
          </a:xfrm>
        </p:grpSpPr>
        <p:pic>
          <p:nvPicPr>
            <p:cNvPr id="816" name="图片 159" descr=""/>
            <p:cNvPicPr/>
            <p:nvPr/>
          </p:nvPicPr>
          <p:blipFill>
            <a:blip r:embed="rId2"/>
            <a:stretch/>
          </p:blipFill>
          <p:spPr>
            <a:xfrm>
              <a:off x="614520" y="229968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TextBox 160"/>
            <p:cNvSpPr/>
            <p:nvPr/>
          </p:nvSpPr>
          <p:spPr>
            <a:xfrm>
              <a:off x="2638440" y="2255760"/>
              <a:ext cx="588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8" name="TextBox 161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62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63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64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65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66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68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5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4" dur="25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5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826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88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88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Text Box 67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895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7"/>
            <p:cNvSpPr/>
            <p:nvPr/>
          </p:nvSpPr>
          <p:spPr>
            <a:xfrm>
              <a:off x="83124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7" name="组合 90"/>
            <p:cNvGrpSpPr/>
            <p:nvPr/>
          </p:nvGrpSpPr>
          <p:grpSpPr>
            <a:xfrm>
              <a:off x="613800" y="2256120"/>
              <a:ext cx="7914240" cy="1925280"/>
              <a:chOff x="613800" y="2256120"/>
              <a:chExt cx="7914240" cy="1925280"/>
            </a:xfrm>
          </p:grpSpPr>
          <p:pic>
            <p:nvPicPr>
              <p:cNvPr id="898" name="图片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800" y="2300400"/>
                <a:ext cx="2024280" cy="18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TextBox 92"/>
              <p:cNvSpPr/>
              <p:nvPr/>
            </p:nvSpPr>
            <p:spPr>
              <a:xfrm>
                <a:off x="2638080" y="225612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0" name="TextBox 94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95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96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97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98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9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00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组合 124"/>
          <p:cNvGrpSpPr/>
          <p:nvPr/>
        </p:nvGrpSpPr>
        <p:grpSpPr>
          <a:xfrm>
            <a:off x="85680" y="1239840"/>
            <a:ext cx="8987040" cy="3632040"/>
            <a:chOff x="85680" y="1239840"/>
            <a:chExt cx="8987040" cy="3632040"/>
          </a:xfrm>
        </p:grpSpPr>
        <p:sp>
          <p:nvSpPr>
            <p:cNvPr id="908" name="矩形 138"/>
            <p:cNvSpPr/>
            <p:nvPr/>
          </p:nvSpPr>
          <p:spPr>
            <a:xfrm>
              <a:off x="85680" y="123984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矩形 139"/>
            <p:cNvSpPr/>
            <p:nvPr/>
          </p:nvSpPr>
          <p:spPr>
            <a:xfrm>
              <a:off x="829440" y="140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0" name="组合 140"/>
            <p:cNvGrpSpPr/>
            <p:nvPr/>
          </p:nvGrpSpPr>
          <p:grpSpPr>
            <a:xfrm>
              <a:off x="612000" y="2264400"/>
              <a:ext cx="7914600" cy="1926000"/>
              <a:chOff x="612000" y="2264400"/>
              <a:chExt cx="7914600" cy="1926000"/>
            </a:xfrm>
          </p:grpSpPr>
          <p:pic>
            <p:nvPicPr>
              <p:cNvPr id="911" name="图片 14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000" y="2309040"/>
                <a:ext cx="202428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TextBox 180"/>
              <p:cNvSpPr/>
              <p:nvPr/>
            </p:nvSpPr>
            <p:spPr>
              <a:xfrm>
                <a:off x="2636640" y="226440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13" name="组合 205"/>
          <p:cNvGrpSpPr/>
          <p:nvPr/>
        </p:nvGrpSpPr>
        <p:grpSpPr>
          <a:xfrm>
            <a:off x="-263520" y="1239840"/>
            <a:ext cx="9354960" cy="3632040"/>
            <a:chOff x="-263520" y="1239840"/>
            <a:chExt cx="9354960" cy="3632040"/>
          </a:xfrm>
        </p:grpSpPr>
        <p:sp>
          <p:nvSpPr>
            <p:cNvPr id="914" name="矩形 206"/>
            <p:cNvSpPr/>
            <p:nvPr/>
          </p:nvSpPr>
          <p:spPr>
            <a:xfrm>
              <a:off x="104760" y="1239840"/>
              <a:ext cx="898668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5" name="组合 207"/>
            <p:cNvGrpSpPr/>
            <p:nvPr/>
          </p:nvGrpSpPr>
          <p:grpSpPr>
            <a:xfrm>
              <a:off x="-263520" y="1306080"/>
              <a:ext cx="9144360" cy="3542760"/>
              <a:chOff x="-263520" y="1306080"/>
              <a:chExt cx="9144360" cy="3542760"/>
            </a:xfrm>
          </p:grpSpPr>
          <p:grpSp>
            <p:nvGrpSpPr>
              <p:cNvPr id="916" name="组合 208"/>
              <p:cNvGrpSpPr/>
              <p:nvPr/>
            </p:nvGrpSpPr>
            <p:grpSpPr>
              <a:xfrm>
                <a:off x="719640" y="1306080"/>
                <a:ext cx="7474320" cy="3142080"/>
                <a:chOff x="719640" y="1306080"/>
                <a:chExt cx="7474320" cy="3142080"/>
              </a:xfrm>
            </p:grpSpPr>
            <p:sp>
              <p:nvSpPr>
                <p:cNvPr id="917" name="直接连接符 210"/>
                <p:cNvSpPr/>
                <p:nvPr/>
              </p:nvSpPr>
              <p:spPr>
                <a:xfrm>
                  <a:off x="1578240" y="1838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8" name="直接连接符 211"/>
                <p:cNvSpPr/>
                <p:nvPr/>
              </p:nvSpPr>
              <p:spPr>
                <a:xfrm>
                  <a:off x="1518120" y="3125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9" name="矩形 212"/>
                <p:cNvSpPr/>
                <p:nvPr/>
              </p:nvSpPr>
              <p:spPr>
                <a:xfrm flipH="1">
                  <a:off x="279072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0" name="矩形 213"/>
                <p:cNvSpPr/>
                <p:nvPr/>
              </p:nvSpPr>
              <p:spPr>
                <a:xfrm flipH="1">
                  <a:off x="3525840" y="2477520"/>
                  <a:ext cx="37764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1" name="矩形 214"/>
                <p:cNvSpPr/>
                <p:nvPr/>
              </p:nvSpPr>
              <p:spPr>
                <a:xfrm flipH="1">
                  <a:off x="4262400" y="3125160"/>
                  <a:ext cx="376200" cy="985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2" name="矩形 215"/>
                <p:cNvSpPr/>
                <p:nvPr/>
              </p:nvSpPr>
              <p:spPr>
                <a:xfrm flipH="1">
                  <a:off x="4997520" y="2477520"/>
                  <a:ext cx="37620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矩形 216"/>
                <p:cNvSpPr/>
                <p:nvPr/>
              </p:nvSpPr>
              <p:spPr>
                <a:xfrm flipH="1">
                  <a:off x="5732640" y="1846080"/>
                  <a:ext cx="377640" cy="22647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4" name="矩形 217"/>
                <p:cNvSpPr/>
                <p:nvPr/>
              </p:nvSpPr>
              <p:spPr>
                <a:xfrm flipH="1">
                  <a:off x="646920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5" name="矩形 218"/>
                <p:cNvSpPr/>
                <p:nvPr/>
              </p:nvSpPr>
              <p:spPr>
                <a:xfrm flipH="1">
                  <a:off x="2055600" y="2141280"/>
                  <a:ext cx="376200" cy="19695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926" name="直接箭头连接符 219"/>
                <p:cNvCxnSpPr/>
                <p:nvPr/>
              </p:nvCxnSpPr>
              <p:spPr>
                <a:xfrm>
                  <a:off x="1518120" y="4110480"/>
                  <a:ext cx="648288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927" name="直接箭头连接符 220"/>
                <p:cNvCxnSpPr/>
                <p:nvPr/>
              </p:nvCxnSpPr>
              <p:spPr>
                <a:xfrm flipV="1">
                  <a:off x="1517760" y="1306080"/>
                  <a:ext cx="1080" cy="280512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928" name="TextBox 221"/>
                <p:cNvSpPr/>
                <p:nvPr/>
              </p:nvSpPr>
              <p:spPr>
                <a:xfrm>
                  <a:off x="1876680" y="4110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9" name="TextBox 222"/>
                <p:cNvSpPr/>
                <p:nvPr/>
              </p:nvSpPr>
              <p:spPr>
                <a:xfrm>
                  <a:off x="261180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0" name="TextBox 223"/>
                <p:cNvSpPr/>
                <p:nvPr/>
              </p:nvSpPr>
              <p:spPr>
                <a:xfrm>
                  <a:off x="335016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TextBox 224"/>
                <p:cNvSpPr/>
                <p:nvPr/>
              </p:nvSpPr>
              <p:spPr>
                <a:xfrm>
                  <a:off x="408384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2" name="TextBox 225"/>
                <p:cNvSpPr/>
                <p:nvPr/>
              </p:nvSpPr>
              <p:spPr>
                <a:xfrm>
                  <a:off x="481896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3" name="TextBox 226"/>
                <p:cNvSpPr/>
                <p:nvPr/>
              </p:nvSpPr>
              <p:spPr>
                <a:xfrm>
                  <a:off x="5555520" y="4098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4" name="TextBox 227"/>
                <p:cNvSpPr/>
                <p:nvPr/>
              </p:nvSpPr>
              <p:spPr>
                <a:xfrm>
                  <a:off x="719640" y="1780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5" name="TextBox 228"/>
                <p:cNvSpPr/>
                <p:nvPr/>
              </p:nvSpPr>
              <p:spPr>
                <a:xfrm>
                  <a:off x="1578240" y="13064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6" name="TextBox 229"/>
                <p:cNvSpPr/>
                <p:nvPr/>
              </p:nvSpPr>
              <p:spPr>
                <a:xfrm>
                  <a:off x="763920" y="298080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7" name="TextBox 230"/>
                <p:cNvSpPr/>
                <p:nvPr/>
              </p:nvSpPr>
              <p:spPr>
                <a:xfrm>
                  <a:off x="7459200" y="3760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8" name="TextBox 209"/>
              <p:cNvSpPr/>
              <p:nvPr/>
            </p:nvSpPr>
            <p:spPr>
              <a:xfrm>
                <a:off x="-263520" y="4389120"/>
                <a:ext cx="91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9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940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1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002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003" name="矩形 6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4" name="Text Box 99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5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236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237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238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239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240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24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242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 Box 6"/>
          <p:cNvSpPr/>
          <p:nvPr/>
        </p:nvSpPr>
        <p:spPr>
          <a:xfrm>
            <a:off x="528480" y="484344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25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5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07" dur="1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017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079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080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Text Box 67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5" name="组合 1"/>
          <p:cNvGrpSpPr/>
          <p:nvPr/>
        </p:nvGrpSpPr>
        <p:grpSpPr>
          <a:xfrm>
            <a:off x="-316080" y="1204920"/>
            <a:ext cx="9355320" cy="3630600"/>
            <a:chOff x="-316080" y="1204920"/>
            <a:chExt cx="9355320" cy="3630600"/>
          </a:xfrm>
        </p:grpSpPr>
        <p:sp>
          <p:nvSpPr>
            <p:cNvPr id="1086" name="矩形 79"/>
            <p:cNvSpPr/>
            <p:nvPr/>
          </p:nvSpPr>
          <p:spPr>
            <a:xfrm>
              <a:off x="52200" y="1204920"/>
              <a:ext cx="898704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7" name="组合 109"/>
            <p:cNvGrpSpPr/>
            <p:nvPr/>
          </p:nvGrpSpPr>
          <p:grpSpPr>
            <a:xfrm>
              <a:off x="-316080" y="1270800"/>
              <a:ext cx="9144720" cy="3541680"/>
              <a:chOff x="-316080" y="1270800"/>
              <a:chExt cx="9144720" cy="3541680"/>
            </a:xfrm>
          </p:grpSpPr>
          <p:grpSp>
            <p:nvGrpSpPr>
              <p:cNvPr id="1088" name="组合 110"/>
              <p:cNvGrpSpPr/>
              <p:nvPr/>
            </p:nvGrpSpPr>
            <p:grpSpPr>
              <a:xfrm>
                <a:off x="667080" y="1270800"/>
                <a:ext cx="7474680" cy="3141360"/>
                <a:chOff x="667080" y="1270800"/>
                <a:chExt cx="7474680" cy="3141360"/>
              </a:xfrm>
            </p:grpSpPr>
            <p:sp>
              <p:nvSpPr>
                <p:cNvPr id="1089" name="直接连接符 112"/>
                <p:cNvSpPr/>
                <p:nvPr/>
              </p:nvSpPr>
              <p:spPr>
                <a:xfrm>
                  <a:off x="1526040" y="180324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0" name="直接连接符 113"/>
                <p:cNvSpPr/>
                <p:nvPr/>
              </p:nvSpPr>
              <p:spPr>
                <a:xfrm>
                  <a:off x="1465560" y="309060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1" name="矩形 114"/>
                <p:cNvSpPr/>
                <p:nvPr/>
              </p:nvSpPr>
              <p:spPr>
                <a:xfrm flipH="1">
                  <a:off x="2738160" y="267300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2" name="矩形 115"/>
                <p:cNvSpPr/>
                <p:nvPr/>
              </p:nvSpPr>
              <p:spPr>
                <a:xfrm flipH="1">
                  <a:off x="3473280" y="2441520"/>
                  <a:ext cx="37764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3" name="矩形 116"/>
                <p:cNvSpPr/>
                <p:nvPr/>
              </p:nvSpPr>
              <p:spPr>
                <a:xfrm flipH="1">
                  <a:off x="4209840" y="3090600"/>
                  <a:ext cx="376200" cy="98424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4" name="矩形 118"/>
                <p:cNvSpPr/>
                <p:nvPr/>
              </p:nvSpPr>
              <p:spPr>
                <a:xfrm flipH="1">
                  <a:off x="4944960" y="2441520"/>
                  <a:ext cx="37620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5" name="矩形 119"/>
                <p:cNvSpPr/>
                <p:nvPr/>
              </p:nvSpPr>
              <p:spPr>
                <a:xfrm flipH="1">
                  <a:off x="5680080" y="1811160"/>
                  <a:ext cx="377640" cy="2263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6" name="矩形 139"/>
                <p:cNvSpPr/>
                <p:nvPr/>
              </p:nvSpPr>
              <p:spPr>
                <a:xfrm flipH="1">
                  <a:off x="6417000" y="267300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7" name="矩形 140"/>
                <p:cNvSpPr/>
                <p:nvPr/>
              </p:nvSpPr>
              <p:spPr>
                <a:xfrm flipH="1">
                  <a:off x="2003040" y="2106360"/>
                  <a:ext cx="376200" cy="1968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98" name="直接箭头连接符 141"/>
                <p:cNvCxnSpPr/>
                <p:nvPr/>
              </p:nvCxnSpPr>
              <p:spPr>
                <a:xfrm>
                  <a:off x="1465200" y="4074480"/>
                  <a:ext cx="648324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99" name="直接箭头连接符 142"/>
                <p:cNvCxnSpPr/>
                <p:nvPr/>
              </p:nvCxnSpPr>
              <p:spPr>
                <a:xfrm flipV="1">
                  <a:off x="1465200" y="1270800"/>
                  <a:ext cx="1080" cy="280404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1100" name="TextBox 143"/>
                <p:cNvSpPr/>
                <p:nvPr/>
              </p:nvSpPr>
              <p:spPr>
                <a:xfrm>
                  <a:off x="1824480" y="4074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TextBox 144"/>
                <p:cNvSpPr/>
                <p:nvPr/>
              </p:nvSpPr>
              <p:spPr>
                <a:xfrm>
                  <a:off x="2559600" y="4074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TextBox 145"/>
                <p:cNvSpPr/>
                <p:nvPr/>
              </p:nvSpPr>
              <p:spPr>
                <a:xfrm>
                  <a:off x="3297600" y="4074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TextBox 146"/>
                <p:cNvSpPr/>
                <p:nvPr/>
              </p:nvSpPr>
              <p:spPr>
                <a:xfrm>
                  <a:off x="4031280" y="4062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TextBox 147"/>
                <p:cNvSpPr/>
                <p:nvPr/>
              </p:nvSpPr>
              <p:spPr>
                <a:xfrm>
                  <a:off x="4766400" y="406224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TextBox 148"/>
                <p:cNvSpPr/>
                <p:nvPr/>
              </p:nvSpPr>
              <p:spPr>
                <a:xfrm>
                  <a:off x="5502960" y="4062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TextBox 149"/>
                <p:cNvSpPr/>
                <p:nvPr/>
              </p:nvSpPr>
              <p:spPr>
                <a:xfrm>
                  <a:off x="667080" y="174600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7" name="TextBox 150"/>
                <p:cNvSpPr/>
                <p:nvPr/>
              </p:nvSpPr>
              <p:spPr>
                <a:xfrm>
                  <a:off x="1526040" y="12715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8" name="TextBox 151"/>
                <p:cNvSpPr/>
                <p:nvPr/>
              </p:nvSpPr>
              <p:spPr>
                <a:xfrm>
                  <a:off x="711360" y="2946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9" name="TextBox 152"/>
                <p:cNvSpPr/>
                <p:nvPr/>
              </p:nvSpPr>
              <p:spPr>
                <a:xfrm>
                  <a:off x="7407000" y="3724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10" name="TextBox 111"/>
              <p:cNvSpPr/>
              <p:nvPr/>
            </p:nvSpPr>
            <p:spPr>
              <a:xfrm>
                <a:off x="-316080" y="4352760"/>
                <a:ext cx="91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1" name="TextBox 153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154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55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156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57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158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59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组合 175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1119" name="矩形 176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0" name="组合 177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1121" name="圆角矩形 178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圆角矩形 179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圆角矩形 180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圆角矩形 181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圆角矩形 182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圆角矩形 183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圆角矩形 184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圆角矩形 185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TextBox 186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TextBox 187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TextBox 188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TextBox 189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TextBox 190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TextBox 191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TextBox 192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36" name="组合 136"/>
          <p:cNvGrpSpPr/>
          <p:nvPr/>
        </p:nvGrpSpPr>
        <p:grpSpPr>
          <a:xfrm>
            <a:off x="-297000" y="1224000"/>
            <a:ext cx="9355320" cy="3630600"/>
            <a:chOff x="-297000" y="1224000"/>
            <a:chExt cx="9355320" cy="3630600"/>
          </a:xfrm>
        </p:grpSpPr>
        <p:sp>
          <p:nvSpPr>
            <p:cNvPr id="1137" name="矩形 137"/>
            <p:cNvSpPr/>
            <p:nvPr/>
          </p:nvSpPr>
          <p:spPr>
            <a:xfrm>
              <a:off x="71280" y="1224000"/>
              <a:ext cx="898704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8" name="组合 138"/>
            <p:cNvGrpSpPr/>
            <p:nvPr/>
          </p:nvGrpSpPr>
          <p:grpSpPr>
            <a:xfrm>
              <a:off x="-297000" y="1289880"/>
              <a:ext cx="9144720" cy="3541680"/>
              <a:chOff x="-297000" y="1289880"/>
              <a:chExt cx="9144720" cy="3541680"/>
            </a:xfrm>
          </p:grpSpPr>
          <p:grpSp>
            <p:nvGrpSpPr>
              <p:cNvPr id="1139" name="组合 139"/>
              <p:cNvGrpSpPr/>
              <p:nvPr/>
            </p:nvGrpSpPr>
            <p:grpSpPr>
              <a:xfrm>
                <a:off x="686160" y="1289880"/>
                <a:ext cx="7474680" cy="3141360"/>
                <a:chOff x="686160" y="1289880"/>
                <a:chExt cx="7474680" cy="3141360"/>
              </a:xfrm>
            </p:grpSpPr>
            <p:sp>
              <p:nvSpPr>
                <p:cNvPr id="1140" name="直接连接符 141"/>
                <p:cNvSpPr/>
                <p:nvPr/>
              </p:nvSpPr>
              <p:spPr>
                <a:xfrm>
                  <a:off x="1545120" y="182232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1" name="直接连接符 142"/>
                <p:cNvSpPr/>
                <p:nvPr/>
              </p:nvSpPr>
              <p:spPr>
                <a:xfrm>
                  <a:off x="1484640" y="310968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2" name="矩形 143"/>
                <p:cNvSpPr/>
                <p:nvPr/>
              </p:nvSpPr>
              <p:spPr>
                <a:xfrm flipH="1">
                  <a:off x="2757240" y="269208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3" name="矩形 144"/>
                <p:cNvSpPr/>
                <p:nvPr/>
              </p:nvSpPr>
              <p:spPr>
                <a:xfrm flipH="1">
                  <a:off x="3492360" y="2460600"/>
                  <a:ext cx="37764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矩形 145"/>
                <p:cNvSpPr/>
                <p:nvPr/>
              </p:nvSpPr>
              <p:spPr>
                <a:xfrm flipH="1">
                  <a:off x="4228920" y="3109680"/>
                  <a:ext cx="376200" cy="98424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5" name="矩形 146"/>
                <p:cNvSpPr/>
                <p:nvPr/>
              </p:nvSpPr>
              <p:spPr>
                <a:xfrm flipH="1">
                  <a:off x="4964040" y="2460600"/>
                  <a:ext cx="37620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6" name="矩形 147"/>
                <p:cNvSpPr/>
                <p:nvPr/>
              </p:nvSpPr>
              <p:spPr>
                <a:xfrm flipH="1">
                  <a:off x="5699160" y="1830240"/>
                  <a:ext cx="377640" cy="2263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7" name="矩形 148"/>
                <p:cNvSpPr/>
                <p:nvPr/>
              </p:nvSpPr>
              <p:spPr>
                <a:xfrm flipH="1">
                  <a:off x="6436080" y="269208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8" name="矩形 149"/>
                <p:cNvSpPr/>
                <p:nvPr/>
              </p:nvSpPr>
              <p:spPr>
                <a:xfrm flipH="1">
                  <a:off x="2022120" y="2125440"/>
                  <a:ext cx="376200" cy="1968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149" name="直接箭头连接符 150"/>
                <p:cNvCxnSpPr/>
                <p:nvPr/>
              </p:nvCxnSpPr>
              <p:spPr>
                <a:xfrm>
                  <a:off x="1484280" y="4093560"/>
                  <a:ext cx="648324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50" name="直接箭头连接符 164"/>
                <p:cNvCxnSpPr/>
                <p:nvPr/>
              </p:nvCxnSpPr>
              <p:spPr>
                <a:xfrm flipV="1">
                  <a:off x="1484280" y="1289880"/>
                  <a:ext cx="1080" cy="280404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1151" name="TextBox 165"/>
                <p:cNvSpPr/>
                <p:nvPr/>
              </p:nvSpPr>
              <p:spPr>
                <a:xfrm>
                  <a:off x="1843560" y="4093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2" name="TextBox 166"/>
                <p:cNvSpPr/>
                <p:nvPr/>
              </p:nvSpPr>
              <p:spPr>
                <a:xfrm>
                  <a:off x="2578680" y="40939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3" name="TextBox 167"/>
                <p:cNvSpPr/>
                <p:nvPr/>
              </p:nvSpPr>
              <p:spPr>
                <a:xfrm>
                  <a:off x="3316680" y="40939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4" name="TextBox 168"/>
                <p:cNvSpPr/>
                <p:nvPr/>
              </p:nvSpPr>
              <p:spPr>
                <a:xfrm>
                  <a:off x="4050360" y="40813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5" name="TextBox 169"/>
                <p:cNvSpPr/>
                <p:nvPr/>
              </p:nvSpPr>
              <p:spPr>
                <a:xfrm>
                  <a:off x="4785480" y="408132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6" name="TextBox 170"/>
                <p:cNvSpPr/>
                <p:nvPr/>
              </p:nvSpPr>
              <p:spPr>
                <a:xfrm>
                  <a:off x="5522040" y="40813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7" name="TextBox 171"/>
                <p:cNvSpPr/>
                <p:nvPr/>
              </p:nvSpPr>
              <p:spPr>
                <a:xfrm>
                  <a:off x="686160" y="176508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8" name="TextBox 172"/>
                <p:cNvSpPr/>
                <p:nvPr/>
              </p:nvSpPr>
              <p:spPr>
                <a:xfrm>
                  <a:off x="1545120" y="12906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9" name="TextBox 173"/>
                <p:cNvSpPr/>
                <p:nvPr/>
              </p:nvSpPr>
              <p:spPr>
                <a:xfrm>
                  <a:off x="730440" y="29653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0" name="TextBox 174"/>
                <p:cNvSpPr/>
                <p:nvPr/>
              </p:nvSpPr>
              <p:spPr>
                <a:xfrm>
                  <a:off x="7426080" y="374328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61" name="TextBox 140"/>
              <p:cNvSpPr/>
              <p:nvPr/>
            </p:nvSpPr>
            <p:spPr>
              <a:xfrm>
                <a:off x="-297000" y="4371840"/>
                <a:ext cx="91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2" name="矩形 111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矩形 112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矩形 113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矩形 114"/>
          <p:cNvSpPr/>
          <p:nvPr/>
        </p:nvSpPr>
        <p:spPr>
          <a:xfrm>
            <a:off x="-1908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矩形 115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矩形 116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矩形 118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矩形 119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矩形 134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1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172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3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234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235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6" name="Text Box 120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7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9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TextBox 193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TextBox 194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Box 195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Box 196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extBox 197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Box 198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Box 199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5" dur="25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25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50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2" dur="25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25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5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9" dur="25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25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50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6" dur="25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8" dur="25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5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3" dur="25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25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5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0" dur="25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25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5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7" dur="25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5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5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4" dur="25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25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5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1" dur="2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2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5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-0.78704 L 4.16667E-006 5.71208E-006 E">
                                      <p:cBhvr>
                                        <p:cTn id="182" dur="1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7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248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310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311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Text Box 67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3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5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6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1317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8" name="组合 85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1319" name="圆角矩形 86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圆角矩形 87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圆角矩形 88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圆角矩形 89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圆角矩形 90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圆角矩形 91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圆角矩形 97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圆角矩形 98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TextBox 99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TextBox 100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TextBox 101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TextBox 102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TextBox 103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TextBox 104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TextBox 105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34" name="TextBox 10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Box 10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TextBox 10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TextBox 110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11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12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13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24:43Z</dcterms:created>
  <dc:creator>微软中国</dc:creator>
  <dc:description/>
  <cp:keywords/>
  <dc:language>en-US</dc:language>
  <cp:lastModifiedBy>王玉清</cp:lastModifiedBy>
  <dcterms:modified xsi:type="dcterms:W3CDTF">2016-02-19T07:25:54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