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4E4E-9139-4FB3-9BDC-5739FECC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EB89-5312-4834-BA94-C871ABE1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0FC3-CB01-4291-AE81-39C99739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D2F6-3948-489D-9272-7A65AE2A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D81D-A539-43DB-991B-68B7F164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EF5D-DD21-48DF-9BE2-F1F039F3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B427-8B63-48F5-8ED9-638C4A5D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7D25-41F9-4218-84C0-F346A717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4494-EA0E-4F04-806A-D9FE3B3E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E759-F53F-4B50-BE65-74333165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968D-AC08-49B8-BC80-B732213E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0B90-824D-43EB-A5CC-43F85993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F72B-D0D4-443E-A5BB-9B359647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532E-BC64-446B-829A-A78F2C86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CE07-7AAE-449A-8864-39BCA668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D69D-82DE-4BCC-93B9-3D0C07D4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550C-157C-4537-990E-7F65E93E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9CF9E-7D32-48BC-9595-3082D466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C8089-8F70-4246-8099-E5D933E3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311B4-7DE1-4DC7-A781-25FB49D7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30FD3-A715-4B33-8727-689BA8B3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39246-2D12-4100-9F35-2BDB0E32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87F5-50CF-48F5-A75F-F6DB7D54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D9753-DFE7-46E2-B1BF-82263B0D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C2B47-9B8C-4E68-B75C-F77A68AB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F268B-8312-488A-B751-8CC815A8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1F39A-6473-4B52-B641-03FD8219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474EB-4734-4891-80D9-30A6A843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60A67-DD8B-4697-95E9-D795BA2D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31E17-538D-495A-BE11-E27CC7C0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9CF9-DBA8-406B-911B-23DEE9F7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E715-AC49-4B86-9C6D-C77ED00F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C7C-8274-4BEB-A54C-81BBA345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4046-E8EB-4E56-8D35-F18E0E50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130-5EDB-4A88-BACD-07B63B45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9793-2922-47AC-B537-7DE1923C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C011-65AD-4B38-8E9B-4C57B05881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图片2"/>
          <p:cNvPicPr/>
          <p:nvPr/>
        </p:nvPicPr>
        <p:blipFill>
          <a:blip r:embed="rId2"/>
          <a:srcRect l="14091" t="30956" r="4908" b="0"/>
          <a:stretch/>
        </p:blipFill>
        <p:spPr>
          <a:xfrm>
            <a:off x="6400800" y="0"/>
            <a:ext cx="1752480" cy="2209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图片2"/>
          <p:cNvPicPr/>
          <p:nvPr/>
        </p:nvPicPr>
        <p:blipFill>
          <a:blip r:embed="rId3"/>
          <a:srcRect l="14091" t="35906" r="4908" b="0"/>
          <a:stretch/>
        </p:blipFill>
        <p:spPr>
          <a:xfrm>
            <a:off x="5638680" y="0"/>
            <a:ext cx="1301760" cy="1523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图片2"/>
          <p:cNvPicPr/>
          <p:nvPr/>
        </p:nvPicPr>
        <p:blipFill>
          <a:blip r:embed="rId4"/>
          <a:srcRect l="14091" t="28571" r="15372" b="0"/>
          <a:stretch/>
        </p:blipFill>
        <p:spPr>
          <a:xfrm>
            <a:off x="7542360" y="0"/>
            <a:ext cx="1830240" cy="2743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勋章"/>
          <p:cNvPicPr/>
          <p:nvPr/>
        </p:nvPicPr>
        <p:blipFill>
          <a:blip r:embed="rId5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1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0" y="1219320"/>
            <a:ext cx="9144000" cy="4114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ff0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480060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勋章"/>
          <p:cNvPicPr/>
          <p:nvPr/>
        </p:nvPicPr>
        <p:blipFill>
          <a:blip r:embed="rId2"/>
          <a:stretch/>
        </p:blipFill>
        <p:spPr>
          <a:xfrm>
            <a:off x="2538360" y="0"/>
            <a:ext cx="386244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AF0A-163B-4E52-8476-C19FF3D250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2008123022822100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071B-22F3-4F22-887B-0AEF79F2D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"/>
          <p:cNvSpPr/>
          <p:nvPr/>
        </p:nvSpPr>
        <p:spPr>
          <a:xfrm>
            <a:off x="2426040" y="12794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颁奖典礼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133720" y="6324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复件 31401_165456084876_2"/>
          <p:cNvPicPr/>
          <p:nvPr/>
        </p:nvPicPr>
        <p:blipFill>
          <a:blip r:embed="rId1"/>
          <a:srcRect l="50775" t="5000" r="3676" b="512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06:30:09Z</dcterms:created>
  <dc:creator/>
  <dc:description/>
  <cp:keywords/>
  <dc:language>en-US</dc:language>
  <cp:lastModifiedBy>a</cp:lastModifiedBy>
  <dcterms:modified xsi:type="dcterms:W3CDTF">2015-07-20T12:02:34Z</dcterms:modified>
  <cp:revision>2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