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986-31BC-4BEF-AC5B-FCDD1B2D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E63-4F0F-471D-8933-543BE2B9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BE7-D821-4CD9-B323-16D1D9E5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C39-EE63-49FB-B89A-F0D63ADE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9A9-2F39-483A-AF29-E73F9771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2F2-2A7A-457F-AAD2-BC38A2B8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A47-84A7-4BA6-AA10-54AEEC5B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A6D-41E5-4770-AA7B-AAD96179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2FF-6C84-4B0E-99E0-566B7A34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A67-D7A7-41EF-8D83-C43C5C0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F69-54FF-40A1-B9AF-8DB5CA3E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6DA-4408-435D-AEE8-F7B94CC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27AE-E97C-49EC-BF1F-65D090F9B1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0DE8-A4EC-482B-8AEF-CE4C9C22F1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66"/>
          <p:cNvGrpSpPr/>
          <p:nvPr/>
        </p:nvGrpSpPr>
        <p:grpSpPr>
          <a:xfrm>
            <a:off x="2687760" y="3263760"/>
            <a:ext cx="1838160" cy="1832040"/>
            <a:chOff x="2687760" y="3263760"/>
            <a:chExt cx="1838160" cy="1832040"/>
          </a:xfrm>
        </p:grpSpPr>
        <p:sp>
          <p:nvSpPr>
            <p:cNvPr id="48" name="泪滴形 1"/>
            <p:cNvSpPr/>
            <p:nvPr/>
          </p:nvSpPr>
          <p:spPr>
            <a:xfrm>
              <a:off x="2687760" y="3357720"/>
              <a:ext cx="1738800" cy="1738080"/>
            </a:xfrm>
            <a:custGeom>
              <a:avLst/>
              <a:gdLst>
                <a:gd name="textAreaLeft" fmla="*/ 0 w 1738800"/>
                <a:gd name="textAreaRight" fmla="*/ 1739160 w 17388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384376" h="3384376">
                  <a:moveTo>
                    <a:pt x="1692188" y="504056"/>
                  </a:moveTo>
                  <a:cubicBezTo>
                    <a:pt x="1036001" y="504056"/>
                    <a:pt x="504056" y="1036001"/>
                    <a:pt x="504056" y="1692188"/>
                  </a:cubicBezTo>
                  <a:cubicBezTo>
                    <a:pt x="504056" y="2348375"/>
                    <a:pt x="1036001" y="2880320"/>
                    <a:pt x="1692188" y="2880320"/>
                  </a:cubicBezTo>
                  <a:cubicBezTo>
                    <a:pt x="2348375" y="2880320"/>
                    <a:pt x="2880320" y="2348375"/>
                    <a:pt x="2880320" y="1692188"/>
                  </a:cubicBezTo>
                  <a:lnTo>
                    <a:pt x="2880320" y="504056"/>
                  </a:lnTo>
                  <a:lnTo>
                    <a:pt x="1692188" y="504056"/>
                  </a:lnTo>
                  <a:close/>
                  <a:moveTo>
                    <a:pt x="1692188" y="0"/>
                  </a:moveTo>
                  <a:lnTo>
                    <a:pt x="3384376" y="0"/>
                  </a:lnTo>
                  <a:lnTo>
                    <a:pt x="3384376" y="1692188"/>
                  </a:lnTo>
                  <a:cubicBezTo>
                    <a:pt x="3384376" y="2626758"/>
                    <a:pt x="2626758" y="3384376"/>
                    <a:pt x="1692188" y="3384376"/>
                  </a:cubicBezTo>
                  <a:cubicBezTo>
                    <a:pt x="757618" y="3384376"/>
                    <a:pt x="0" y="2626758"/>
                    <a:pt x="0" y="1692188"/>
                  </a:cubicBezTo>
                  <a:cubicBezTo>
                    <a:pt x="0" y="757618"/>
                    <a:pt x="757618" y="0"/>
                    <a:pt x="16921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泪滴形 1"/>
            <p:cNvSpPr/>
            <p:nvPr/>
          </p:nvSpPr>
          <p:spPr>
            <a:xfrm>
              <a:off x="2787120" y="3263760"/>
              <a:ext cx="1738800" cy="1738080"/>
            </a:xfrm>
            <a:custGeom>
              <a:avLst/>
              <a:gdLst>
                <a:gd name="textAreaLeft" fmla="*/ 0 w 1738800"/>
                <a:gd name="textAreaRight" fmla="*/ 1739160 w 17388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384376" h="3384376">
                  <a:moveTo>
                    <a:pt x="1692188" y="504056"/>
                  </a:moveTo>
                  <a:cubicBezTo>
                    <a:pt x="1036001" y="504056"/>
                    <a:pt x="504056" y="1036001"/>
                    <a:pt x="504056" y="1692188"/>
                  </a:cubicBezTo>
                  <a:cubicBezTo>
                    <a:pt x="504056" y="2348375"/>
                    <a:pt x="1036001" y="2880320"/>
                    <a:pt x="1692188" y="2880320"/>
                  </a:cubicBezTo>
                  <a:cubicBezTo>
                    <a:pt x="2348375" y="2880320"/>
                    <a:pt x="2880320" y="2348375"/>
                    <a:pt x="2880320" y="1692188"/>
                  </a:cubicBezTo>
                  <a:lnTo>
                    <a:pt x="2880320" y="504056"/>
                  </a:lnTo>
                  <a:lnTo>
                    <a:pt x="1692188" y="504056"/>
                  </a:lnTo>
                  <a:close/>
                  <a:moveTo>
                    <a:pt x="1692188" y="0"/>
                  </a:moveTo>
                  <a:lnTo>
                    <a:pt x="3384376" y="0"/>
                  </a:lnTo>
                  <a:lnTo>
                    <a:pt x="3384376" y="1692188"/>
                  </a:lnTo>
                  <a:cubicBezTo>
                    <a:pt x="3384376" y="2626758"/>
                    <a:pt x="2626758" y="3384376"/>
                    <a:pt x="1692188" y="3384376"/>
                  </a:cubicBezTo>
                  <a:cubicBezTo>
                    <a:pt x="757618" y="3384376"/>
                    <a:pt x="0" y="2626758"/>
                    <a:pt x="0" y="1692188"/>
                  </a:cubicBezTo>
                  <a:cubicBezTo>
                    <a:pt x="0" y="757618"/>
                    <a:pt x="757618" y="0"/>
                    <a:pt x="16921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泪滴形 1"/>
            <p:cNvSpPr/>
            <p:nvPr/>
          </p:nvSpPr>
          <p:spPr>
            <a:xfrm>
              <a:off x="2945160" y="3263760"/>
              <a:ext cx="1580760" cy="898200"/>
            </a:xfrm>
            <a:custGeom>
              <a:avLst/>
              <a:gdLst>
                <a:gd name="textAreaLeft" fmla="*/ 0 w 1580760"/>
                <a:gd name="textAreaRight" fmla="*/ 1581120 w 158076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71999" h="1007429">
                  <a:moveTo>
                    <a:pt x="797423" y="0"/>
                  </a:moveTo>
                  <a:lnTo>
                    <a:pt x="1771999" y="0"/>
                  </a:lnTo>
                  <a:lnTo>
                    <a:pt x="1771999" y="974576"/>
                  </a:lnTo>
                  <a:lnTo>
                    <a:pt x="1770340" y="1007429"/>
                  </a:lnTo>
                  <a:cubicBezTo>
                    <a:pt x="1680293" y="944072"/>
                    <a:pt x="1584156" y="885326"/>
                    <a:pt x="1481700" y="833308"/>
                  </a:cubicBezTo>
                  <a:lnTo>
                    <a:pt x="1481700" y="290299"/>
                  </a:lnTo>
                  <a:lnTo>
                    <a:pt x="797423" y="290299"/>
                  </a:lnTo>
                  <a:cubicBezTo>
                    <a:pt x="626144" y="290299"/>
                    <a:pt x="469563" y="353229"/>
                    <a:pt x="351465" y="459450"/>
                  </a:cubicBezTo>
                  <a:cubicBezTo>
                    <a:pt x="236922" y="439028"/>
                    <a:pt x="119532" y="425171"/>
                    <a:pt x="0" y="416700"/>
                  </a:cubicBezTo>
                  <a:cubicBezTo>
                    <a:pt x="175048" y="164401"/>
                    <a:pt x="467037" y="0"/>
                    <a:pt x="7974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70"/>
          <p:cNvGrpSpPr/>
          <p:nvPr/>
        </p:nvGrpSpPr>
        <p:grpSpPr>
          <a:xfrm>
            <a:off x="2682360" y="1413000"/>
            <a:ext cx="1832040" cy="1836720"/>
            <a:chOff x="2682360" y="1413000"/>
            <a:chExt cx="1832040" cy="1836720"/>
          </a:xfrm>
        </p:grpSpPr>
        <p:sp>
          <p:nvSpPr>
            <p:cNvPr id="52" name="泪滴形 1"/>
            <p:cNvSpPr/>
            <p:nvPr/>
          </p:nvSpPr>
          <p:spPr>
            <a:xfrm rot="5400000">
              <a:off x="2682720" y="1412280"/>
              <a:ext cx="1737360" cy="1738080"/>
            </a:xfrm>
            <a:custGeom>
              <a:avLst/>
              <a:gdLst>
                <a:gd name="textAreaLeft" fmla="*/ 0 w 1737360"/>
                <a:gd name="textAreaRight" fmla="*/ 1737720 w 173736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384376" h="3384376">
                  <a:moveTo>
                    <a:pt x="1692188" y="504056"/>
                  </a:moveTo>
                  <a:cubicBezTo>
                    <a:pt x="1036001" y="504056"/>
                    <a:pt x="504056" y="1036001"/>
                    <a:pt x="504056" y="1692188"/>
                  </a:cubicBezTo>
                  <a:cubicBezTo>
                    <a:pt x="504056" y="2348375"/>
                    <a:pt x="1036001" y="2880320"/>
                    <a:pt x="1692188" y="2880320"/>
                  </a:cubicBezTo>
                  <a:cubicBezTo>
                    <a:pt x="2348375" y="2880320"/>
                    <a:pt x="2880320" y="2348375"/>
                    <a:pt x="2880320" y="1692188"/>
                  </a:cubicBezTo>
                  <a:lnTo>
                    <a:pt x="2880320" y="504056"/>
                  </a:lnTo>
                  <a:lnTo>
                    <a:pt x="1692188" y="504056"/>
                  </a:lnTo>
                  <a:close/>
                  <a:moveTo>
                    <a:pt x="1692188" y="0"/>
                  </a:moveTo>
                  <a:lnTo>
                    <a:pt x="3384376" y="0"/>
                  </a:lnTo>
                  <a:lnTo>
                    <a:pt x="3384376" y="1692188"/>
                  </a:lnTo>
                  <a:cubicBezTo>
                    <a:pt x="3384376" y="2626758"/>
                    <a:pt x="2626758" y="3384376"/>
                    <a:pt x="1692188" y="3384376"/>
                  </a:cubicBezTo>
                  <a:cubicBezTo>
                    <a:pt x="757618" y="3384376"/>
                    <a:pt x="0" y="2626758"/>
                    <a:pt x="0" y="1692188"/>
                  </a:cubicBezTo>
                  <a:cubicBezTo>
                    <a:pt x="0" y="757618"/>
                    <a:pt x="757618" y="0"/>
                    <a:pt x="16921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bceb6f"/>
                </a:gs>
              </a:gsLst>
              <a:lin ang="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泪滴形 1"/>
            <p:cNvSpPr/>
            <p:nvPr/>
          </p:nvSpPr>
          <p:spPr>
            <a:xfrm rot="5400000">
              <a:off x="2776680" y="1512000"/>
              <a:ext cx="1737360" cy="1738080"/>
            </a:xfrm>
            <a:custGeom>
              <a:avLst/>
              <a:gdLst>
                <a:gd name="textAreaLeft" fmla="*/ 0 w 1737360"/>
                <a:gd name="textAreaRight" fmla="*/ 1737720 w 173736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384376" h="3384376">
                  <a:moveTo>
                    <a:pt x="1692188" y="504056"/>
                  </a:moveTo>
                  <a:cubicBezTo>
                    <a:pt x="1036001" y="504056"/>
                    <a:pt x="504056" y="1036001"/>
                    <a:pt x="504056" y="1692188"/>
                  </a:cubicBezTo>
                  <a:cubicBezTo>
                    <a:pt x="504056" y="2348375"/>
                    <a:pt x="1036001" y="2880320"/>
                    <a:pt x="1692188" y="2880320"/>
                  </a:cubicBezTo>
                  <a:cubicBezTo>
                    <a:pt x="2348375" y="2880320"/>
                    <a:pt x="2880320" y="2348375"/>
                    <a:pt x="2880320" y="1692188"/>
                  </a:cubicBezTo>
                  <a:lnTo>
                    <a:pt x="2880320" y="504056"/>
                  </a:lnTo>
                  <a:lnTo>
                    <a:pt x="1692188" y="504056"/>
                  </a:lnTo>
                  <a:close/>
                  <a:moveTo>
                    <a:pt x="1692188" y="0"/>
                  </a:moveTo>
                  <a:lnTo>
                    <a:pt x="3384376" y="0"/>
                  </a:lnTo>
                  <a:lnTo>
                    <a:pt x="3384376" y="1692188"/>
                  </a:lnTo>
                  <a:cubicBezTo>
                    <a:pt x="3384376" y="2626758"/>
                    <a:pt x="2626758" y="3384376"/>
                    <a:pt x="1692188" y="3384376"/>
                  </a:cubicBezTo>
                  <a:cubicBezTo>
                    <a:pt x="757618" y="3384376"/>
                    <a:pt x="0" y="2626758"/>
                    <a:pt x="0" y="1692188"/>
                  </a:cubicBezTo>
                  <a:cubicBezTo>
                    <a:pt x="0" y="757618"/>
                    <a:pt x="757618" y="0"/>
                    <a:pt x="16921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bceb6f"/>
                </a:gs>
              </a:gsLst>
              <a:lin ang="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泪滴形 1"/>
            <p:cNvSpPr/>
            <p:nvPr/>
          </p:nvSpPr>
          <p:spPr>
            <a:xfrm rot="5400000">
              <a:off x="3275640" y="2010960"/>
              <a:ext cx="1579320" cy="898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71999" h="1007429">
                  <a:moveTo>
                    <a:pt x="797423" y="0"/>
                  </a:moveTo>
                  <a:lnTo>
                    <a:pt x="1771999" y="0"/>
                  </a:lnTo>
                  <a:lnTo>
                    <a:pt x="1771999" y="974576"/>
                  </a:lnTo>
                  <a:lnTo>
                    <a:pt x="1770340" y="1007429"/>
                  </a:lnTo>
                  <a:cubicBezTo>
                    <a:pt x="1680293" y="944072"/>
                    <a:pt x="1584156" y="885326"/>
                    <a:pt x="1481700" y="833308"/>
                  </a:cubicBezTo>
                  <a:lnTo>
                    <a:pt x="1481700" y="290299"/>
                  </a:lnTo>
                  <a:lnTo>
                    <a:pt x="797423" y="290299"/>
                  </a:lnTo>
                  <a:cubicBezTo>
                    <a:pt x="626144" y="290299"/>
                    <a:pt x="469563" y="353229"/>
                    <a:pt x="351465" y="459450"/>
                  </a:cubicBezTo>
                  <a:cubicBezTo>
                    <a:pt x="236922" y="439028"/>
                    <a:pt x="119532" y="425171"/>
                    <a:pt x="0" y="416700"/>
                  </a:cubicBezTo>
                  <a:cubicBezTo>
                    <a:pt x="175048" y="164401"/>
                    <a:pt x="467037" y="0"/>
                    <a:pt x="7974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74"/>
          <p:cNvGrpSpPr/>
          <p:nvPr/>
        </p:nvGrpSpPr>
        <p:grpSpPr>
          <a:xfrm>
            <a:off x="4551480" y="3262320"/>
            <a:ext cx="1831680" cy="1838160"/>
            <a:chOff x="4551480" y="3262320"/>
            <a:chExt cx="1831680" cy="1838160"/>
          </a:xfrm>
        </p:grpSpPr>
        <p:sp>
          <p:nvSpPr>
            <p:cNvPr id="56" name="泪滴形 1"/>
            <p:cNvSpPr/>
            <p:nvPr/>
          </p:nvSpPr>
          <p:spPr>
            <a:xfrm rot="16200000">
              <a:off x="4644720" y="3362040"/>
              <a:ext cx="1738800" cy="1737720"/>
            </a:xfrm>
            <a:custGeom>
              <a:avLst/>
              <a:gdLst>
                <a:gd name="textAreaLeft" fmla="*/ 0 w 1738800"/>
                <a:gd name="textAreaRight" fmla="*/ 1739160 w 1738800"/>
                <a:gd name="textAreaTop" fmla="*/ 0 h 1737720"/>
                <a:gd name="textAreaBottom" fmla="*/ 1738080 h 1737720"/>
              </a:gdLst>
              <a:ahLst/>
              <a:rect l="textAreaLeft" t="textAreaTop" r="textAreaRight" b="textAreaBottom"/>
              <a:pathLst>
                <a:path w="3384376" h="3384376">
                  <a:moveTo>
                    <a:pt x="1692188" y="504056"/>
                  </a:moveTo>
                  <a:cubicBezTo>
                    <a:pt x="1036001" y="504056"/>
                    <a:pt x="504056" y="1036001"/>
                    <a:pt x="504056" y="1692188"/>
                  </a:cubicBezTo>
                  <a:cubicBezTo>
                    <a:pt x="504056" y="2348375"/>
                    <a:pt x="1036001" y="2880320"/>
                    <a:pt x="1692188" y="2880320"/>
                  </a:cubicBezTo>
                  <a:cubicBezTo>
                    <a:pt x="2348375" y="2880320"/>
                    <a:pt x="2880320" y="2348375"/>
                    <a:pt x="2880320" y="1692188"/>
                  </a:cubicBezTo>
                  <a:lnTo>
                    <a:pt x="2880320" y="504056"/>
                  </a:lnTo>
                  <a:lnTo>
                    <a:pt x="1692188" y="504056"/>
                  </a:lnTo>
                  <a:close/>
                  <a:moveTo>
                    <a:pt x="1692188" y="0"/>
                  </a:moveTo>
                  <a:lnTo>
                    <a:pt x="3384376" y="0"/>
                  </a:lnTo>
                  <a:lnTo>
                    <a:pt x="3384376" y="1692188"/>
                  </a:lnTo>
                  <a:cubicBezTo>
                    <a:pt x="3384376" y="2626758"/>
                    <a:pt x="2626758" y="3384376"/>
                    <a:pt x="1692188" y="3384376"/>
                  </a:cubicBezTo>
                  <a:cubicBezTo>
                    <a:pt x="757618" y="3384376"/>
                    <a:pt x="0" y="2626758"/>
                    <a:pt x="0" y="1692188"/>
                  </a:cubicBezTo>
                  <a:cubicBezTo>
                    <a:pt x="0" y="757618"/>
                    <a:pt x="757618" y="0"/>
                    <a:pt x="16921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泪滴形 1"/>
            <p:cNvSpPr/>
            <p:nvPr/>
          </p:nvSpPr>
          <p:spPr>
            <a:xfrm rot="16200000">
              <a:off x="4550760" y="3262680"/>
              <a:ext cx="1738800" cy="1737720"/>
            </a:xfrm>
            <a:custGeom>
              <a:avLst/>
              <a:gdLst>
                <a:gd name="textAreaLeft" fmla="*/ 0 w 1738800"/>
                <a:gd name="textAreaRight" fmla="*/ 1739160 w 1738800"/>
                <a:gd name="textAreaTop" fmla="*/ 0 h 1737720"/>
                <a:gd name="textAreaBottom" fmla="*/ 1738080 h 1737720"/>
              </a:gdLst>
              <a:ahLst/>
              <a:rect l="textAreaLeft" t="textAreaTop" r="textAreaRight" b="textAreaBottom"/>
              <a:pathLst>
                <a:path w="3384376" h="3384376">
                  <a:moveTo>
                    <a:pt x="1692188" y="504056"/>
                  </a:moveTo>
                  <a:cubicBezTo>
                    <a:pt x="1036001" y="504056"/>
                    <a:pt x="504056" y="1036001"/>
                    <a:pt x="504056" y="1692188"/>
                  </a:cubicBezTo>
                  <a:cubicBezTo>
                    <a:pt x="504056" y="2348375"/>
                    <a:pt x="1036001" y="2880320"/>
                    <a:pt x="1692188" y="2880320"/>
                  </a:cubicBezTo>
                  <a:cubicBezTo>
                    <a:pt x="2348375" y="2880320"/>
                    <a:pt x="2880320" y="2348375"/>
                    <a:pt x="2880320" y="1692188"/>
                  </a:cubicBezTo>
                  <a:lnTo>
                    <a:pt x="2880320" y="504056"/>
                  </a:lnTo>
                  <a:lnTo>
                    <a:pt x="1692188" y="504056"/>
                  </a:lnTo>
                  <a:close/>
                  <a:moveTo>
                    <a:pt x="1692188" y="0"/>
                  </a:moveTo>
                  <a:lnTo>
                    <a:pt x="3384376" y="0"/>
                  </a:lnTo>
                  <a:lnTo>
                    <a:pt x="3384376" y="1692188"/>
                  </a:lnTo>
                  <a:cubicBezTo>
                    <a:pt x="3384376" y="2626758"/>
                    <a:pt x="2626758" y="3384376"/>
                    <a:pt x="1692188" y="3384376"/>
                  </a:cubicBezTo>
                  <a:cubicBezTo>
                    <a:pt x="757618" y="3384376"/>
                    <a:pt x="0" y="2626758"/>
                    <a:pt x="0" y="1692188"/>
                  </a:cubicBezTo>
                  <a:cubicBezTo>
                    <a:pt x="0" y="757618"/>
                    <a:pt x="757618" y="0"/>
                    <a:pt x="16921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泪滴形 1"/>
            <p:cNvSpPr/>
            <p:nvPr/>
          </p:nvSpPr>
          <p:spPr>
            <a:xfrm rot="16200000">
              <a:off x="4210200" y="3603600"/>
              <a:ext cx="1580760" cy="898200"/>
            </a:xfrm>
            <a:custGeom>
              <a:avLst/>
              <a:gdLst>
                <a:gd name="textAreaLeft" fmla="*/ 0 w 1580760"/>
                <a:gd name="textAreaRight" fmla="*/ 1581120 w 158076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71999" h="1007429">
                  <a:moveTo>
                    <a:pt x="797423" y="0"/>
                  </a:moveTo>
                  <a:lnTo>
                    <a:pt x="1771999" y="0"/>
                  </a:lnTo>
                  <a:lnTo>
                    <a:pt x="1771999" y="974576"/>
                  </a:lnTo>
                  <a:lnTo>
                    <a:pt x="1770340" y="1007429"/>
                  </a:lnTo>
                  <a:cubicBezTo>
                    <a:pt x="1680293" y="944072"/>
                    <a:pt x="1584156" y="885326"/>
                    <a:pt x="1481700" y="833308"/>
                  </a:cubicBezTo>
                  <a:lnTo>
                    <a:pt x="1481700" y="290299"/>
                  </a:lnTo>
                  <a:lnTo>
                    <a:pt x="797423" y="290299"/>
                  </a:lnTo>
                  <a:cubicBezTo>
                    <a:pt x="626144" y="290299"/>
                    <a:pt x="469563" y="353229"/>
                    <a:pt x="351465" y="459450"/>
                  </a:cubicBezTo>
                  <a:cubicBezTo>
                    <a:pt x="236922" y="439028"/>
                    <a:pt x="119532" y="425171"/>
                    <a:pt x="0" y="416700"/>
                  </a:cubicBezTo>
                  <a:cubicBezTo>
                    <a:pt x="175048" y="164401"/>
                    <a:pt x="467037" y="0"/>
                    <a:pt x="7974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78"/>
          <p:cNvGrpSpPr/>
          <p:nvPr/>
        </p:nvGrpSpPr>
        <p:grpSpPr>
          <a:xfrm>
            <a:off x="4551480" y="1418760"/>
            <a:ext cx="1836720" cy="1832040"/>
            <a:chOff x="4551480" y="1418760"/>
            <a:chExt cx="1836720" cy="1832040"/>
          </a:xfrm>
        </p:grpSpPr>
        <p:sp>
          <p:nvSpPr>
            <p:cNvPr id="60" name="泪滴形 1"/>
            <p:cNvSpPr/>
            <p:nvPr/>
          </p:nvSpPr>
          <p:spPr>
            <a:xfrm rot="10800000">
              <a:off x="4650840" y="1418760"/>
              <a:ext cx="1737360" cy="1738080"/>
            </a:xfrm>
            <a:custGeom>
              <a:avLst/>
              <a:gdLst>
                <a:gd name="textAreaLeft" fmla="*/ 0 w 1737360"/>
                <a:gd name="textAreaRight" fmla="*/ 1737720 w 173736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384376" h="3384376">
                  <a:moveTo>
                    <a:pt x="1692188" y="504056"/>
                  </a:moveTo>
                  <a:cubicBezTo>
                    <a:pt x="1036001" y="504056"/>
                    <a:pt x="504056" y="1036001"/>
                    <a:pt x="504056" y="1692188"/>
                  </a:cubicBezTo>
                  <a:cubicBezTo>
                    <a:pt x="504056" y="2348375"/>
                    <a:pt x="1036001" y="2880320"/>
                    <a:pt x="1692188" y="2880320"/>
                  </a:cubicBezTo>
                  <a:cubicBezTo>
                    <a:pt x="2348375" y="2880320"/>
                    <a:pt x="2880320" y="2348375"/>
                    <a:pt x="2880320" y="1692188"/>
                  </a:cubicBezTo>
                  <a:lnTo>
                    <a:pt x="2880320" y="504056"/>
                  </a:lnTo>
                  <a:lnTo>
                    <a:pt x="1692188" y="504056"/>
                  </a:lnTo>
                  <a:close/>
                  <a:moveTo>
                    <a:pt x="1692188" y="0"/>
                  </a:moveTo>
                  <a:lnTo>
                    <a:pt x="3384376" y="0"/>
                  </a:lnTo>
                  <a:lnTo>
                    <a:pt x="3384376" y="1692188"/>
                  </a:lnTo>
                  <a:cubicBezTo>
                    <a:pt x="3384376" y="2626758"/>
                    <a:pt x="2626758" y="3384376"/>
                    <a:pt x="1692188" y="3384376"/>
                  </a:cubicBezTo>
                  <a:cubicBezTo>
                    <a:pt x="757618" y="3384376"/>
                    <a:pt x="0" y="2626758"/>
                    <a:pt x="0" y="1692188"/>
                  </a:cubicBezTo>
                  <a:cubicBezTo>
                    <a:pt x="0" y="757618"/>
                    <a:pt x="757618" y="0"/>
                    <a:pt x="16921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8b"/>
                </a:gs>
                <a:gs pos="100000">
                  <a:srgbClr val="00b0f0"/>
                </a:gs>
              </a:gsLst>
              <a:lin ang="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泪滴形 1"/>
            <p:cNvSpPr/>
            <p:nvPr/>
          </p:nvSpPr>
          <p:spPr>
            <a:xfrm rot="10800000">
              <a:off x="4551480" y="1512720"/>
              <a:ext cx="1737360" cy="1738080"/>
            </a:xfrm>
            <a:custGeom>
              <a:avLst/>
              <a:gdLst>
                <a:gd name="textAreaLeft" fmla="*/ 0 w 1737360"/>
                <a:gd name="textAreaRight" fmla="*/ 1737720 w 173736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384376" h="3384376">
                  <a:moveTo>
                    <a:pt x="1692188" y="504056"/>
                  </a:moveTo>
                  <a:cubicBezTo>
                    <a:pt x="1036001" y="504056"/>
                    <a:pt x="504056" y="1036001"/>
                    <a:pt x="504056" y="1692188"/>
                  </a:cubicBezTo>
                  <a:cubicBezTo>
                    <a:pt x="504056" y="2348375"/>
                    <a:pt x="1036001" y="2880320"/>
                    <a:pt x="1692188" y="2880320"/>
                  </a:cubicBezTo>
                  <a:cubicBezTo>
                    <a:pt x="2348375" y="2880320"/>
                    <a:pt x="2880320" y="2348375"/>
                    <a:pt x="2880320" y="1692188"/>
                  </a:cubicBezTo>
                  <a:lnTo>
                    <a:pt x="2880320" y="504056"/>
                  </a:lnTo>
                  <a:lnTo>
                    <a:pt x="1692188" y="504056"/>
                  </a:lnTo>
                  <a:close/>
                  <a:moveTo>
                    <a:pt x="1692188" y="0"/>
                  </a:moveTo>
                  <a:lnTo>
                    <a:pt x="3384376" y="0"/>
                  </a:lnTo>
                  <a:lnTo>
                    <a:pt x="3384376" y="1692188"/>
                  </a:lnTo>
                  <a:cubicBezTo>
                    <a:pt x="3384376" y="2626758"/>
                    <a:pt x="2626758" y="3384376"/>
                    <a:pt x="1692188" y="3384376"/>
                  </a:cubicBezTo>
                  <a:cubicBezTo>
                    <a:pt x="757618" y="3384376"/>
                    <a:pt x="0" y="2626758"/>
                    <a:pt x="0" y="1692188"/>
                  </a:cubicBezTo>
                  <a:cubicBezTo>
                    <a:pt x="0" y="757618"/>
                    <a:pt x="757618" y="0"/>
                    <a:pt x="16921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8b"/>
                </a:gs>
                <a:gs pos="100000">
                  <a:srgbClr val="00b0f0"/>
                </a:gs>
              </a:gsLst>
              <a:lin ang="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泪滴形 1"/>
            <p:cNvSpPr/>
            <p:nvPr/>
          </p:nvSpPr>
          <p:spPr>
            <a:xfrm rot="10800000">
              <a:off x="4551480" y="2352600"/>
              <a:ext cx="1579320" cy="898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71999" h="1007429">
                  <a:moveTo>
                    <a:pt x="797423" y="0"/>
                  </a:moveTo>
                  <a:lnTo>
                    <a:pt x="1771999" y="0"/>
                  </a:lnTo>
                  <a:lnTo>
                    <a:pt x="1771999" y="974576"/>
                  </a:lnTo>
                  <a:lnTo>
                    <a:pt x="1770340" y="1007429"/>
                  </a:lnTo>
                  <a:cubicBezTo>
                    <a:pt x="1680293" y="944072"/>
                    <a:pt x="1584156" y="885326"/>
                    <a:pt x="1481700" y="833308"/>
                  </a:cubicBezTo>
                  <a:lnTo>
                    <a:pt x="1481700" y="290299"/>
                  </a:lnTo>
                  <a:lnTo>
                    <a:pt x="797423" y="290299"/>
                  </a:lnTo>
                  <a:cubicBezTo>
                    <a:pt x="626144" y="290299"/>
                    <a:pt x="469563" y="353229"/>
                    <a:pt x="351465" y="459450"/>
                  </a:cubicBezTo>
                  <a:cubicBezTo>
                    <a:pt x="236922" y="439028"/>
                    <a:pt x="119532" y="425171"/>
                    <a:pt x="0" y="416700"/>
                  </a:cubicBezTo>
                  <a:cubicBezTo>
                    <a:pt x="175048" y="164401"/>
                    <a:pt x="467037" y="0"/>
                    <a:pt x="79742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椭圆 82"/>
          <p:cNvSpPr/>
          <p:nvPr/>
        </p:nvSpPr>
        <p:spPr>
          <a:xfrm>
            <a:off x="1704960" y="5000760"/>
            <a:ext cx="5630760" cy="996840"/>
          </a:xfrm>
          <a:prstGeom prst="ellipse">
            <a:avLst/>
          </a:prstGeom>
          <a:gradFill rotWithShape="0">
            <a:gsLst>
              <a:gs pos="0">
                <a:srgbClr val="1111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3"/>
          <p:cNvSpPr/>
          <p:nvPr/>
        </p:nvSpPr>
        <p:spPr>
          <a:xfrm>
            <a:off x="3376800" y="1920960"/>
            <a:ext cx="55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ozuka Mincho Pro H"/>
                <a:ea typeface="Kozuka Mincho Pro H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4"/>
          <p:cNvSpPr/>
          <p:nvPr/>
        </p:nvSpPr>
        <p:spPr>
          <a:xfrm>
            <a:off x="5046120" y="1920960"/>
            <a:ext cx="8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ozuka Mincho Pro H"/>
                <a:ea typeface="Kozuka Mincho Pro H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5"/>
          <p:cNvSpPr/>
          <p:nvPr/>
        </p:nvSpPr>
        <p:spPr>
          <a:xfrm>
            <a:off x="3205440" y="3670200"/>
            <a:ext cx="72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ozuka Mincho Pro H"/>
                <a:ea typeface="Kozuka Mincho Pro H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6"/>
          <p:cNvSpPr/>
          <p:nvPr/>
        </p:nvSpPr>
        <p:spPr>
          <a:xfrm>
            <a:off x="5190840" y="3670200"/>
            <a:ext cx="5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ozuka Mincho Pro H"/>
                <a:ea typeface="Kozuka Mincho Pro H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 flipH="1">
            <a:off x="680400" y="163836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 flipH="1">
            <a:off x="681120" y="2063880"/>
            <a:ext cx="13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 flipH="1">
            <a:off x="681120" y="2295360"/>
            <a:ext cx="13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90"/>
          <p:cNvSpPr/>
          <p:nvPr/>
        </p:nvSpPr>
        <p:spPr>
          <a:xfrm>
            <a:off x="681120" y="1976400"/>
            <a:ext cx="2095560" cy="1800"/>
          </a:xfrm>
          <a:prstGeom prst="line">
            <a:avLst/>
          </a:prstGeom>
          <a:ln w="25560">
            <a:solidFill>
              <a:srgbClr val="11970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 flipH="1">
            <a:off x="680400" y="370692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 flipH="1">
            <a:off x="681120" y="4133880"/>
            <a:ext cx="13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 flipH="1">
            <a:off x="681120" y="4363920"/>
            <a:ext cx="13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4"/>
          <p:cNvSpPr/>
          <p:nvPr/>
        </p:nvSpPr>
        <p:spPr>
          <a:xfrm>
            <a:off x="681120" y="4044960"/>
            <a:ext cx="2095560" cy="1440"/>
          </a:xfrm>
          <a:prstGeom prst="line">
            <a:avLst/>
          </a:prstGeom>
          <a:ln w="25560">
            <a:solidFill>
              <a:srgbClr val="c73e0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 flipH="1">
            <a:off x="6889680" y="16383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 flipH="1">
            <a:off x="7112160" y="2063880"/>
            <a:ext cx="13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 flipH="1">
            <a:off x="7112160" y="2295360"/>
            <a:ext cx="13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98"/>
          <p:cNvSpPr/>
          <p:nvPr/>
        </p:nvSpPr>
        <p:spPr>
          <a:xfrm>
            <a:off x="6318360" y="1976400"/>
            <a:ext cx="2095560" cy="1800"/>
          </a:xfrm>
          <a:prstGeom prst="line">
            <a:avLst/>
          </a:prstGeom>
          <a:ln w="25560">
            <a:solidFill>
              <a:srgbClr val="006a9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 flipH="1">
            <a:off x="6889680" y="36831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 flipH="1">
            <a:off x="7112160" y="4108320"/>
            <a:ext cx="13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 flipH="1">
            <a:off x="7112160" y="4340160"/>
            <a:ext cx="13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02"/>
          <p:cNvSpPr/>
          <p:nvPr/>
        </p:nvSpPr>
        <p:spPr>
          <a:xfrm>
            <a:off x="6318360" y="4021200"/>
            <a:ext cx="2095560" cy="0"/>
          </a:xfrm>
          <a:prstGeom prst="line">
            <a:avLst/>
          </a:prstGeom>
          <a:ln w="2556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473560" y="428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并列关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1"/>
          <p:cNvSpPr/>
          <p:nvPr/>
        </p:nvSpPr>
        <p:spPr>
          <a:xfrm>
            <a:off x="1755720" y="5083200"/>
            <a:ext cx="5632560" cy="995400"/>
          </a:xfrm>
          <a:prstGeom prst="ellipse">
            <a:avLst/>
          </a:prstGeom>
          <a:gradFill rotWithShape="0">
            <a:gsLst>
              <a:gs pos="0">
                <a:srgbClr val="1111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2"/>
          <p:cNvSpPr/>
          <p:nvPr/>
        </p:nvSpPr>
        <p:spPr>
          <a:xfrm>
            <a:off x="3067200" y="1946160"/>
            <a:ext cx="3136680" cy="313704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53"/>
          <p:cNvGrpSpPr/>
          <p:nvPr/>
        </p:nvGrpSpPr>
        <p:grpSpPr>
          <a:xfrm>
            <a:off x="3600720" y="1153800"/>
            <a:ext cx="2094480" cy="1954080"/>
            <a:chOff x="3600720" y="1153800"/>
            <a:chExt cx="2094480" cy="1954080"/>
          </a:xfrm>
        </p:grpSpPr>
        <p:grpSp>
          <p:nvGrpSpPr>
            <p:cNvPr id="95" name="组合 54"/>
            <p:cNvGrpSpPr/>
            <p:nvPr/>
          </p:nvGrpSpPr>
          <p:grpSpPr>
            <a:xfrm>
              <a:off x="3600720" y="1153800"/>
              <a:ext cx="2094480" cy="1954080"/>
              <a:chOff x="3600720" y="1153800"/>
              <a:chExt cx="2094480" cy="1954080"/>
            </a:xfrm>
          </p:grpSpPr>
          <p:sp>
            <p:nvSpPr>
              <p:cNvPr id="96" name="Freeform 6"/>
              <p:cNvSpPr/>
              <p:nvPr/>
            </p:nvSpPr>
            <p:spPr>
              <a:xfrm rot="21459000">
                <a:off x="3675240" y="1517400"/>
                <a:ext cx="1930320" cy="1551600"/>
              </a:xfrm>
              <a:custGeom>
                <a:avLst/>
                <a:gdLst>
                  <a:gd name="textAreaLeft" fmla="*/ 0 w 1930320"/>
                  <a:gd name="textAreaRight" fmla="*/ 1930680 w 1930320"/>
                  <a:gd name="textAreaTop" fmla="*/ 0 h 1551600"/>
                  <a:gd name="textAreaBottom" fmla="*/ 1551960 h 1551600"/>
                </a:gdLst>
                <a:ahLst/>
                <a:rect l="textAreaLeft" t="textAreaTop" r="textAreaRight" b="textAreaBottom"/>
                <a:pathLst>
                  <a:path w="106" h="85">
                    <a:moveTo>
                      <a:pt x="0" y="39"/>
                    </a:moveTo>
                    <a:cubicBezTo>
                      <a:pt x="0" y="39"/>
                      <a:pt x="6" y="80"/>
                      <a:pt x="46" y="85"/>
                    </a:cubicBezTo>
                    <a:cubicBezTo>
                      <a:pt x="46" y="85"/>
                      <a:pt x="53" y="38"/>
                      <a:pt x="106" y="43"/>
                    </a:cubicBezTo>
                    <a:cubicBezTo>
                      <a:pt x="106" y="43"/>
                      <a:pt x="58" y="0"/>
                      <a:pt x="0" y="39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6"/>
              <p:cNvSpPr/>
              <p:nvPr/>
            </p:nvSpPr>
            <p:spPr>
              <a:xfrm rot="355200">
                <a:off x="4498560" y="1833840"/>
                <a:ext cx="1086480" cy="1107720"/>
              </a:xfrm>
              <a:custGeom>
                <a:avLst/>
                <a:gdLst>
                  <a:gd name="textAreaLeft" fmla="*/ 0 w 1086480"/>
                  <a:gd name="textAreaRight" fmla="*/ 1086840 w 1086480"/>
                  <a:gd name="textAreaTop" fmla="*/ 0 h 1107720"/>
                  <a:gd name="textAreaBottom" fmla="*/ 1108080 h 1107720"/>
                </a:gdLst>
                <a:ahLst/>
                <a:rect l="textAreaLeft" t="textAreaTop" r="textAreaRight" b="textAreaBottom"/>
                <a:pathLst>
                  <a:path w="1511129" h="1540453">
                    <a:moveTo>
                      <a:pt x="100156" y="1"/>
                    </a:moveTo>
                    <a:cubicBezTo>
                      <a:pt x="539397" y="394"/>
                      <a:pt x="906426" y="142846"/>
                      <a:pt x="1155712" y="278485"/>
                    </a:cubicBezTo>
                    <a:lnTo>
                      <a:pt x="1141001" y="263774"/>
                    </a:lnTo>
                    <a:lnTo>
                      <a:pt x="1497718" y="329088"/>
                    </a:lnTo>
                    <a:lnTo>
                      <a:pt x="1497718" y="505189"/>
                    </a:lnTo>
                    <a:cubicBezTo>
                      <a:pt x="1506593" y="512534"/>
                      <a:pt x="1511120" y="516598"/>
                      <a:pt x="1511129" y="516606"/>
                    </a:cubicBezTo>
                    <a:cubicBezTo>
                      <a:pt x="320808" y="404062"/>
                      <a:pt x="46671" y="1329502"/>
                      <a:pt x="0" y="1540453"/>
                    </a:cubicBezTo>
                    <a:lnTo>
                      <a:pt x="0" y="2761"/>
                    </a:lnTo>
                    <a:cubicBezTo>
                      <a:pt x="33768" y="743"/>
                      <a:pt x="67166" y="-29"/>
                      <a:pt x="1001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6"/>
              <p:cNvSpPr/>
              <p:nvPr/>
            </p:nvSpPr>
            <p:spPr>
              <a:xfrm rot="355200">
                <a:off x="3656880" y="1736280"/>
                <a:ext cx="844920" cy="1136160"/>
              </a:xfrm>
              <a:custGeom>
                <a:avLst/>
                <a:gdLst>
                  <a:gd name="textAreaLeft" fmla="*/ 0 w 844920"/>
                  <a:gd name="textAreaRight" fmla="*/ 845280 w 844920"/>
                  <a:gd name="textAreaTop" fmla="*/ 0 h 1136160"/>
                  <a:gd name="textAreaBottom" fmla="*/ 1136160 h 1136160"/>
                </a:gdLst>
                <a:ahLst/>
                <a:rect l="textAreaLeft" t="textAreaTop" r="textAreaRight" b="textAreaBottom"/>
                <a:pathLst>
                  <a:path w="1175144" h="1579860">
                    <a:moveTo>
                      <a:pt x="1175144" y="0"/>
                    </a:moveTo>
                    <a:lnTo>
                      <a:pt x="1175144" y="1537692"/>
                    </a:lnTo>
                    <a:cubicBezTo>
                      <a:pt x="1169036" y="1564580"/>
                      <a:pt x="1166766" y="1579860"/>
                      <a:pt x="1166766" y="1579860"/>
                    </a:cubicBezTo>
                    <a:cubicBezTo>
                      <a:pt x="153833" y="1452963"/>
                      <a:pt x="1832" y="412468"/>
                      <a:pt x="1810" y="412320"/>
                    </a:cubicBezTo>
                    <a:lnTo>
                      <a:pt x="3076" y="411524"/>
                    </a:lnTo>
                    <a:lnTo>
                      <a:pt x="0" y="411739"/>
                    </a:lnTo>
                    <a:lnTo>
                      <a:pt x="0" y="240917"/>
                    </a:lnTo>
                    <a:lnTo>
                      <a:pt x="296427" y="235893"/>
                    </a:lnTo>
                    <a:lnTo>
                      <a:pt x="293970" y="240808"/>
                    </a:lnTo>
                    <a:cubicBezTo>
                      <a:pt x="605988" y="82024"/>
                      <a:pt x="903139" y="12882"/>
                      <a:pt x="117514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 rot="355200">
                <a:off x="3690000" y="1249200"/>
                <a:ext cx="1930320" cy="1551600"/>
              </a:xfrm>
              <a:custGeom>
                <a:avLst/>
                <a:gdLst>
                  <a:gd name="textAreaLeft" fmla="*/ 0 w 1930320"/>
                  <a:gd name="textAreaRight" fmla="*/ 1930680 w 1930320"/>
                  <a:gd name="textAreaTop" fmla="*/ 0 h 1551600"/>
                  <a:gd name="textAreaBottom" fmla="*/ 1551960 h 1551600"/>
                </a:gdLst>
                <a:ahLst/>
                <a:rect l="textAreaLeft" t="textAreaTop" r="textAreaRight" b="textAreaBottom"/>
                <a:pathLst>
                  <a:path w="106" h="85">
                    <a:moveTo>
                      <a:pt x="0" y="39"/>
                    </a:moveTo>
                    <a:cubicBezTo>
                      <a:pt x="0" y="39"/>
                      <a:pt x="6" y="80"/>
                      <a:pt x="46" y="85"/>
                    </a:cubicBezTo>
                    <a:cubicBezTo>
                      <a:pt x="46" y="85"/>
                      <a:pt x="53" y="38"/>
                      <a:pt x="106" y="43"/>
                    </a:cubicBezTo>
                    <a:cubicBezTo>
                      <a:pt x="106" y="43"/>
                      <a:pt x="58" y="0"/>
                      <a:pt x="0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"/>
            <p:cNvSpPr/>
            <p:nvPr/>
          </p:nvSpPr>
          <p:spPr>
            <a:xfrm rot="355200">
              <a:off x="3758400" y="1382040"/>
              <a:ext cx="1661400" cy="1335600"/>
            </a:xfrm>
            <a:custGeom>
              <a:avLst/>
              <a:gdLst>
                <a:gd name="textAreaLeft" fmla="*/ 0 w 1661400"/>
                <a:gd name="textAreaRight" fmla="*/ 1661760 w 1661400"/>
                <a:gd name="textAreaTop" fmla="*/ 0 h 1335600"/>
                <a:gd name="textAreaBottom" fmla="*/ 1335960 h 1335600"/>
              </a:gdLst>
              <a:ahLst/>
              <a:rect l="textAreaLeft" t="textAreaTop" r="textAreaRight" b="textAreaBottom"/>
              <a:pathLst>
                <a:path w="106" h="85">
                  <a:moveTo>
                    <a:pt x="0" y="39"/>
                  </a:moveTo>
                  <a:cubicBezTo>
                    <a:pt x="0" y="39"/>
                    <a:pt x="6" y="80"/>
                    <a:pt x="46" y="85"/>
                  </a:cubicBezTo>
                  <a:cubicBezTo>
                    <a:pt x="46" y="85"/>
                    <a:pt x="53" y="38"/>
                    <a:pt x="106" y="43"/>
                  </a:cubicBezTo>
                  <a:cubicBezTo>
                    <a:pt x="106" y="43"/>
                    <a:pt x="58" y="0"/>
                    <a:pt x="0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346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60"/>
          <p:cNvGrpSpPr/>
          <p:nvPr/>
        </p:nvGrpSpPr>
        <p:grpSpPr>
          <a:xfrm>
            <a:off x="2306520" y="2466000"/>
            <a:ext cx="1953720" cy="2094480"/>
            <a:chOff x="2306520" y="2466000"/>
            <a:chExt cx="1953720" cy="2094480"/>
          </a:xfrm>
        </p:grpSpPr>
        <p:grpSp>
          <p:nvGrpSpPr>
            <p:cNvPr id="102" name="组合 61"/>
            <p:cNvGrpSpPr/>
            <p:nvPr/>
          </p:nvGrpSpPr>
          <p:grpSpPr>
            <a:xfrm>
              <a:off x="2306520" y="2466000"/>
              <a:ext cx="1953720" cy="2094480"/>
              <a:chOff x="2306520" y="2466000"/>
              <a:chExt cx="1953720" cy="2094480"/>
            </a:xfrm>
          </p:grpSpPr>
          <p:sp>
            <p:nvSpPr>
              <p:cNvPr id="103" name="Freeform 6"/>
              <p:cNvSpPr/>
              <p:nvPr/>
            </p:nvSpPr>
            <p:spPr>
              <a:xfrm rot="16058400">
                <a:off x="2480400" y="2745000"/>
                <a:ext cx="1930680" cy="1551240"/>
              </a:xfrm>
              <a:custGeom>
                <a:avLst/>
                <a:gdLst>
                  <a:gd name="textAreaLeft" fmla="*/ 0 w 1930680"/>
                  <a:gd name="textAreaRight" fmla="*/ 1931040 w 1930680"/>
                  <a:gd name="textAreaTop" fmla="*/ 0 h 1551240"/>
                  <a:gd name="textAreaBottom" fmla="*/ 1551600 h 1551240"/>
                </a:gdLst>
                <a:ahLst/>
                <a:rect l="textAreaLeft" t="textAreaTop" r="textAreaRight" b="textAreaBottom"/>
                <a:pathLst>
                  <a:path w="106" h="85">
                    <a:moveTo>
                      <a:pt x="0" y="39"/>
                    </a:moveTo>
                    <a:cubicBezTo>
                      <a:pt x="0" y="39"/>
                      <a:pt x="6" y="80"/>
                      <a:pt x="46" y="85"/>
                    </a:cubicBezTo>
                    <a:cubicBezTo>
                      <a:pt x="46" y="85"/>
                      <a:pt x="53" y="38"/>
                      <a:pt x="106" y="43"/>
                    </a:cubicBezTo>
                    <a:cubicBezTo>
                      <a:pt x="106" y="43"/>
                      <a:pt x="58" y="0"/>
                      <a:pt x="0" y="39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 rot="16555200">
                <a:off x="2997000" y="2565000"/>
                <a:ext cx="1086840" cy="110772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1107720"/>
                  <a:gd name="textAreaBottom" fmla="*/ 1108080 h 1107720"/>
                </a:gdLst>
                <a:ahLst/>
                <a:rect l="textAreaLeft" t="textAreaTop" r="textAreaRight" b="textAreaBottom"/>
                <a:pathLst>
                  <a:path w="1511129" h="1540453">
                    <a:moveTo>
                      <a:pt x="100156" y="1"/>
                    </a:moveTo>
                    <a:cubicBezTo>
                      <a:pt x="539397" y="394"/>
                      <a:pt x="906426" y="142846"/>
                      <a:pt x="1155712" y="278485"/>
                    </a:cubicBezTo>
                    <a:lnTo>
                      <a:pt x="1141001" y="263774"/>
                    </a:lnTo>
                    <a:lnTo>
                      <a:pt x="1497718" y="329088"/>
                    </a:lnTo>
                    <a:lnTo>
                      <a:pt x="1497718" y="505189"/>
                    </a:lnTo>
                    <a:cubicBezTo>
                      <a:pt x="1506593" y="512534"/>
                      <a:pt x="1511120" y="516598"/>
                      <a:pt x="1511129" y="516606"/>
                    </a:cubicBezTo>
                    <a:cubicBezTo>
                      <a:pt x="320808" y="404062"/>
                      <a:pt x="46671" y="1329502"/>
                      <a:pt x="0" y="1540453"/>
                    </a:cubicBezTo>
                    <a:lnTo>
                      <a:pt x="0" y="2761"/>
                    </a:lnTo>
                    <a:cubicBezTo>
                      <a:pt x="33768" y="743"/>
                      <a:pt x="67166" y="-29"/>
                      <a:pt x="1001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"/>
              <p:cNvSpPr/>
              <p:nvPr/>
            </p:nvSpPr>
            <p:spPr>
              <a:xfrm rot="16555200">
                <a:off x="3034440" y="3513600"/>
                <a:ext cx="845280" cy="11358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1135800"/>
                  <a:gd name="textAreaBottom" fmla="*/ 1135800 h 1135800"/>
                </a:gdLst>
                <a:ahLst/>
                <a:rect l="textAreaLeft" t="textAreaTop" r="textAreaRight" b="textAreaBottom"/>
                <a:pathLst>
                  <a:path w="1175144" h="1579860">
                    <a:moveTo>
                      <a:pt x="1175144" y="0"/>
                    </a:moveTo>
                    <a:lnTo>
                      <a:pt x="1175144" y="1537692"/>
                    </a:lnTo>
                    <a:cubicBezTo>
                      <a:pt x="1169036" y="1564580"/>
                      <a:pt x="1166766" y="1579860"/>
                      <a:pt x="1166766" y="1579860"/>
                    </a:cubicBezTo>
                    <a:cubicBezTo>
                      <a:pt x="153833" y="1452963"/>
                      <a:pt x="1832" y="412468"/>
                      <a:pt x="1810" y="412320"/>
                    </a:cubicBezTo>
                    <a:lnTo>
                      <a:pt x="3076" y="411524"/>
                    </a:lnTo>
                    <a:lnTo>
                      <a:pt x="0" y="411739"/>
                    </a:lnTo>
                    <a:lnTo>
                      <a:pt x="0" y="240917"/>
                    </a:lnTo>
                    <a:lnTo>
                      <a:pt x="296427" y="235893"/>
                    </a:lnTo>
                    <a:lnTo>
                      <a:pt x="293970" y="240808"/>
                    </a:lnTo>
                    <a:cubicBezTo>
                      <a:pt x="605988" y="82024"/>
                      <a:pt x="903139" y="12882"/>
                      <a:pt x="117514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"/>
              <p:cNvSpPr/>
              <p:nvPr/>
            </p:nvSpPr>
            <p:spPr>
              <a:xfrm rot="16555200">
                <a:off x="2212200" y="2730240"/>
                <a:ext cx="1930680" cy="1551240"/>
              </a:xfrm>
              <a:custGeom>
                <a:avLst/>
                <a:gdLst>
                  <a:gd name="textAreaLeft" fmla="*/ 0 w 1930680"/>
                  <a:gd name="textAreaRight" fmla="*/ 1931040 w 1930680"/>
                  <a:gd name="textAreaTop" fmla="*/ 0 h 1551240"/>
                  <a:gd name="textAreaBottom" fmla="*/ 1551600 h 1551240"/>
                </a:gdLst>
                <a:ahLst/>
                <a:rect l="textAreaLeft" t="textAreaTop" r="textAreaRight" b="textAreaBottom"/>
                <a:pathLst>
                  <a:path w="106" h="85">
                    <a:moveTo>
                      <a:pt x="0" y="39"/>
                    </a:moveTo>
                    <a:cubicBezTo>
                      <a:pt x="0" y="39"/>
                      <a:pt x="6" y="80"/>
                      <a:pt x="46" y="85"/>
                    </a:cubicBezTo>
                    <a:cubicBezTo>
                      <a:pt x="46" y="85"/>
                      <a:pt x="53" y="38"/>
                      <a:pt x="106" y="43"/>
                    </a:cubicBezTo>
                    <a:cubicBezTo>
                      <a:pt x="106" y="43"/>
                      <a:pt x="58" y="0"/>
                      <a:pt x="0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Freeform 6"/>
            <p:cNvSpPr/>
            <p:nvPr/>
          </p:nvSpPr>
          <p:spPr>
            <a:xfrm rot="16550400">
              <a:off x="2383560" y="2890080"/>
              <a:ext cx="1661760" cy="133524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06" h="85">
                  <a:moveTo>
                    <a:pt x="0" y="39"/>
                  </a:moveTo>
                  <a:cubicBezTo>
                    <a:pt x="0" y="39"/>
                    <a:pt x="6" y="80"/>
                    <a:pt x="46" y="85"/>
                  </a:cubicBezTo>
                  <a:cubicBezTo>
                    <a:pt x="46" y="85"/>
                    <a:pt x="53" y="38"/>
                    <a:pt x="106" y="43"/>
                  </a:cubicBezTo>
                  <a:cubicBezTo>
                    <a:pt x="106" y="43"/>
                    <a:pt x="58" y="0"/>
                    <a:pt x="0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752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67"/>
          <p:cNvGrpSpPr/>
          <p:nvPr/>
        </p:nvGrpSpPr>
        <p:grpSpPr>
          <a:xfrm>
            <a:off x="3613680" y="3889800"/>
            <a:ext cx="2094840" cy="1955520"/>
            <a:chOff x="3613680" y="3889800"/>
            <a:chExt cx="2094840" cy="1955520"/>
          </a:xfrm>
        </p:grpSpPr>
        <p:grpSp>
          <p:nvGrpSpPr>
            <p:cNvPr id="109" name="组合 68"/>
            <p:cNvGrpSpPr/>
            <p:nvPr/>
          </p:nvGrpSpPr>
          <p:grpSpPr>
            <a:xfrm>
              <a:off x="3613680" y="3889800"/>
              <a:ext cx="2094840" cy="1955520"/>
              <a:chOff x="3613680" y="3889800"/>
              <a:chExt cx="2094840" cy="1955520"/>
            </a:xfrm>
          </p:grpSpPr>
          <p:sp>
            <p:nvSpPr>
              <p:cNvPr id="110" name="Freeform 6"/>
              <p:cNvSpPr/>
              <p:nvPr/>
            </p:nvSpPr>
            <p:spPr>
              <a:xfrm rot="10658400">
                <a:off x="3702960" y="3928320"/>
                <a:ext cx="1930680" cy="1553040"/>
              </a:xfrm>
              <a:custGeom>
                <a:avLst/>
                <a:gdLst>
                  <a:gd name="textAreaLeft" fmla="*/ 0 w 1930680"/>
                  <a:gd name="textAreaRight" fmla="*/ 1931040 w 1930680"/>
                  <a:gd name="textAreaTop" fmla="*/ 0 h 1553040"/>
                  <a:gd name="textAreaBottom" fmla="*/ 1553400 h 1553040"/>
                </a:gdLst>
                <a:ahLst/>
                <a:rect l="textAreaLeft" t="textAreaTop" r="textAreaRight" b="textAreaBottom"/>
                <a:pathLst>
                  <a:path w="106" h="85">
                    <a:moveTo>
                      <a:pt x="0" y="39"/>
                    </a:moveTo>
                    <a:cubicBezTo>
                      <a:pt x="0" y="39"/>
                      <a:pt x="6" y="80"/>
                      <a:pt x="46" y="85"/>
                    </a:cubicBezTo>
                    <a:cubicBezTo>
                      <a:pt x="46" y="85"/>
                      <a:pt x="53" y="38"/>
                      <a:pt x="106" y="43"/>
                    </a:cubicBezTo>
                    <a:cubicBezTo>
                      <a:pt x="106" y="43"/>
                      <a:pt x="58" y="0"/>
                      <a:pt x="0" y="39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 rot="11155200">
                <a:off x="3723120" y="4055400"/>
                <a:ext cx="1086840" cy="110880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1108800"/>
                  <a:gd name="textAreaBottom" fmla="*/ 1109160 h 1108800"/>
                </a:gdLst>
                <a:ahLst/>
                <a:rect l="textAreaLeft" t="textAreaTop" r="textAreaRight" b="textAreaBottom"/>
                <a:pathLst>
                  <a:path w="1511129" h="1540453">
                    <a:moveTo>
                      <a:pt x="100156" y="1"/>
                    </a:moveTo>
                    <a:cubicBezTo>
                      <a:pt x="539397" y="394"/>
                      <a:pt x="906426" y="142846"/>
                      <a:pt x="1155712" y="278485"/>
                    </a:cubicBezTo>
                    <a:lnTo>
                      <a:pt x="1141001" y="263774"/>
                    </a:lnTo>
                    <a:lnTo>
                      <a:pt x="1497718" y="329088"/>
                    </a:lnTo>
                    <a:lnTo>
                      <a:pt x="1497718" y="505189"/>
                    </a:lnTo>
                    <a:cubicBezTo>
                      <a:pt x="1506593" y="512534"/>
                      <a:pt x="1511120" y="516598"/>
                      <a:pt x="1511129" y="516606"/>
                    </a:cubicBezTo>
                    <a:cubicBezTo>
                      <a:pt x="320808" y="404062"/>
                      <a:pt x="46671" y="1329502"/>
                      <a:pt x="0" y="1540453"/>
                    </a:cubicBezTo>
                    <a:lnTo>
                      <a:pt x="0" y="2761"/>
                    </a:lnTo>
                    <a:cubicBezTo>
                      <a:pt x="33768" y="743"/>
                      <a:pt x="67166" y="-29"/>
                      <a:pt x="1001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"/>
              <p:cNvSpPr/>
              <p:nvPr/>
            </p:nvSpPr>
            <p:spPr>
              <a:xfrm rot="11155200">
                <a:off x="4806720" y="4124880"/>
                <a:ext cx="845280" cy="11372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1137240"/>
                  <a:gd name="textAreaBottom" fmla="*/ 1137600 h 1137240"/>
                </a:gdLst>
                <a:ahLst/>
                <a:rect l="textAreaLeft" t="textAreaTop" r="textAreaRight" b="textAreaBottom"/>
                <a:pathLst>
                  <a:path w="1175144" h="1579860">
                    <a:moveTo>
                      <a:pt x="1175144" y="0"/>
                    </a:moveTo>
                    <a:lnTo>
                      <a:pt x="1175144" y="1537692"/>
                    </a:lnTo>
                    <a:cubicBezTo>
                      <a:pt x="1169036" y="1564580"/>
                      <a:pt x="1166766" y="1579860"/>
                      <a:pt x="1166766" y="1579860"/>
                    </a:cubicBezTo>
                    <a:cubicBezTo>
                      <a:pt x="153833" y="1452963"/>
                      <a:pt x="1832" y="412468"/>
                      <a:pt x="1810" y="412320"/>
                    </a:cubicBezTo>
                    <a:lnTo>
                      <a:pt x="3076" y="411524"/>
                    </a:lnTo>
                    <a:lnTo>
                      <a:pt x="0" y="411739"/>
                    </a:lnTo>
                    <a:lnTo>
                      <a:pt x="0" y="240917"/>
                    </a:lnTo>
                    <a:lnTo>
                      <a:pt x="296427" y="235893"/>
                    </a:lnTo>
                    <a:lnTo>
                      <a:pt x="293970" y="240808"/>
                    </a:lnTo>
                    <a:cubicBezTo>
                      <a:pt x="605988" y="82024"/>
                      <a:pt x="903139" y="12882"/>
                      <a:pt x="117514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"/>
              <p:cNvSpPr/>
              <p:nvPr/>
            </p:nvSpPr>
            <p:spPr>
              <a:xfrm rot="11155200">
                <a:off x="3688200" y="4196520"/>
                <a:ext cx="1930680" cy="1553040"/>
              </a:xfrm>
              <a:custGeom>
                <a:avLst/>
                <a:gdLst>
                  <a:gd name="textAreaLeft" fmla="*/ 0 w 1930680"/>
                  <a:gd name="textAreaRight" fmla="*/ 1931040 w 1930680"/>
                  <a:gd name="textAreaTop" fmla="*/ 0 h 1553040"/>
                  <a:gd name="textAreaBottom" fmla="*/ 1553400 h 1553040"/>
                </a:gdLst>
                <a:ahLst/>
                <a:rect l="textAreaLeft" t="textAreaTop" r="textAreaRight" b="textAreaBottom"/>
                <a:pathLst>
                  <a:path w="106" h="85">
                    <a:moveTo>
                      <a:pt x="0" y="39"/>
                    </a:moveTo>
                    <a:cubicBezTo>
                      <a:pt x="0" y="39"/>
                      <a:pt x="6" y="80"/>
                      <a:pt x="46" y="85"/>
                    </a:cubicBezTo>
                    <a:cubicBezTo>
                      <a:pt x="46" y="85"/>
                      <a:pt x="53" y="38"/>
                      <a:pt x="106" y="43"/>
                    </a:cubicBezTo>
                    <a:cubicBezTo>
                      <a:pt x="106" y="43"/>
                      <a:pt x="58" y="0"/>
                      <a:pt x="0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6"/>
            <p:cNvSpPr/>
            <p:nvPr/>
          </p:nvSpPr>
          <p:spPr>
            <a:xfrm rot="11130600">
              <a:off x="3893400" y="4281840"/>
              <a:ext cx="1661760" cy="133668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106" h="85">
                  <a:moveTo>
                    <a:pt x="0" y="39"/>
                  </a:moveTo>
                  <a:cubicBezTo>
                    <a:pt x="0" y="39"/>
                    <a:pt x="6" y="80"/>
                    <a:pt x="46" y="85"/>
                  </a:cubicBezTo>
                  <a:cubicBezTo>
                    <a:pt x="46" y="85"/>
                    <a:pt x="53" y="38"/>
                    <a:pt x="106" y="43"/>
                  </a:cubicBezTo>
                  <a:cubicBezTo>
                    <a:pt x="106" y="43"/>
                    <a:pt x="58" y="0"/>
                    <a:pt x="0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17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74"/>
          <p:cNvGrpSpPr/>
          <p:nvPr/>
        </p:nvGrpSpPr>
        <p:grpSpPr>
          <a:xfrm>
            <a:off x="5007240" y="2459520"/>
            <a:ext cx="1953720" cy="2094480"/>
            <a:chOff x="5007240" y="2459520"/>
            <a:chExt cx="1953720" cy="2094480"/>
          </a:xfrm>
        </p:grpSpPr>
        <p:grpSp>
          <p:nvGrpSpPr>
            <p:cNvPr id="116" name="组合 75"/>
            <p:cNvGrpSpPr/>
            <p:nvPr/>
          </p:nvGrpSpPr>
          <p:grpSpPr>
            <a:xfrm>
              <a:off x="5007240" y="2459520"/>
              <a:ext cx="1953720" cy="2094480"/>
              <a:chOff x="5007240" y="2459520"/>
              <a:chExt cx="1953720" cy="2094480"/>
            </a:xfrm>
          </p:grpSpPr>
          <p:sp>
            <p:nvSpPr>
              <p:cNvPr id="117" name="Freeform 6"/>
              <p:cNvSpPr/>
              <p:nvPr/>
            </p:nvSpPr>
            <p:spPr>
              <a:xfrm rot="5259000">
                <a:off x="4856040" y="2723400"/>
                <a:ext cx="1930680" cy="1551240"/>
              </a:xfrm>
              <a:custGeom>
                <a:avLst/>
                <a:gdLst>
                  <a:gd name="textAreaLeft" fmla="*/ 0 w 1930680"/>
                  <a:gd name="textAreaRight" fmla="*/ 1931040 w 1930680"/>
                  <a:gd name="textAreaTop" fmla="*/ 0 h 1551240"/>
                  <a:gd name="textAreaBottom" fmla="*/ 1551600 h 1551240"/>
                </a:gdLst>
                <a:ahLst/>
                <a:rect l="textAreaLeft" t="textAreaTop" r="textAreaRight" b="textAreaBottom"/>
                <a:pathLst>
                  <a:path w="106" h="85">
                    <a:moveTo>
                      <a:pt x="0" y="39"/>
                    </a:moveTo>
                    <a:cubicBezTo>
                      <a:pt x="0" y="39"/>
                      <a:pt x="6" y="80"/>
                      <a:pt x="46" y="85"/>
                    </a:cubicBezTo>
                    <a:cubicBezTo>
                      <a:pt x="46" y="85"/>
                      <a:pt x="53" y="38"/>
                      <a:pt x="106" y="43"/>
                    </a:cubicBezTo>
                    <a:cubicBezTo>
                      <a:pt x="106" y="43"/>
                      <a:pt x="58" y="0"/>
                      <a:pt x="0" y="39"/>
                    </a:cubicBez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"/>
              <p:cNvSpPr/>
              <p:nvPr/>
            </p:nvSpPr>
            <p:spPr>
              <a:xfrm rot="5755200">
                <a:off x="5183280" y="3346920"/>
                <a:ext cx="1086840" cy="110772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1107720"/>
                  <a:gd name="textAreaBottom" fmla="*/ 1108080 h 1107720"/>
                </a:gdLst>
                <a:ahLst/>
                <a:rect l="textAreaLeft" t="textAreaTop" r="textAreaRight" b="textAreaBottom"/>
                <a:pathLst>
                  <a:path w="1511129" h="1540453">
                    <a:moveTo>
                      <a:pt x="100156" y="1"/>
                    </a:moveTo>
                    <a:cubicBezTo>
                      <a:pt x="539397" y="394"/>
                      <a:pt x="906426" y="142846"/>
                      <a:pt x="1155712" y="278485"/>
                    </a:cubicBezTo>
                    <a:lnTo>
                      <a:pt x="1141001" y="263774"/>
                    </a:lnTo>
                    <a:lnTo>
                      <a:pt x="1497718" y="329088"/>
                    </a:lnTo>
                    <a:lnTo>
                      <a:pt x="1497718" y="505189"/>
                    </a:lnTo>
                    <a:cubicBezTo>
                      <a:pt x="1506593" y="512534"/>
                      <a:pt x="1511120" y="516598"/>
                      <a:pt x="1511129" y="516606"/>
                    </a:cubicBezTo>
                    <a:cubicBezTo>
                      <a:pt x="320808" y="404062"/>
                      <a:pt x="46671" y="1329502"/>
                      <a:pt x="0" y="1540453"/>
                    </a:cubicBezTo>
                    <a:lnTo>
                      <a:pt x="0" y="2761"/>
                    </a:lnTo>
                    <a:cubicBezTo>
                      <a:pt x="33768" y="743"/>
                      <a:pt x="67166" y="-29"/>
                      <a:pt x="1001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"/>
              <p:cNvSpPr/>
              <p:nvPr/>
            </p:nvSpPr>
            <p:spPr>
              <a:xfrm rot="5755200">
                <a:off x="5387400" y="2370240"/>
                <a:ext cx="845280" cy="11358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1135800"/>
                  <a:gd name="textAreaBottom" fmla="*/ 1135800 h 1135800"/>
                </a:gdLst>
                <a:ahLst/>
                <a:rect l="textAreaLeft" t="textAreaTop" r="textAreaRight" b="textAreaBottom"/>
                <a:pathLst>
                  <a:path w="1175144" h="1579860">
                    <a:moveTo>
                      <a:pt x="1175144" y="0"/>
                    </a:moveTo>
                    <a:lnTo>
                      <a:pt x="1175144" y="1537692"/>
                    </a:lnTo>
                    <a:cubicBezTo>
                      <a:pt x="1169036" y="1564580"/>
                      <a:pt x="1166766" y="1579860"/>
                      <a:pt x="1166766" y="1579860"/>
                    </a:cubicBezTo>
                    <a:cubicBezTo>
                      <a:pt x="153833" y="1452963"/>
                      <a:pt x="1832" y="412468"/>
                      <a:pt x="1810" y="412320"/>
                    </a:cubicBezTo>
                    <a:lnTo>
                      <a:pt x="3076" y="411524"/>
                    </a:lnTo>
                    <a:lnTo>
                      <a:pt x="0" y="411739"/>
                    </a:lnTo>
                    <a:lnTo>
                      <a:pt x="0" y="240917"/>
                    </a:lnTo>
                    <a:lnTo>
                      <a:pt x="296427" y="235893"/>
                    </a:lnTo>
                    <a:lnTo>
                      <a:pt x="293970" y="240808"/>
                    </a:lnTo>
                    <a:cubicBezTo>
                      <a:pt x="605988" y="82024"/>
                      <a:pt x="903139" y="12882"/>
                      <a:pt x="117514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6"/>
              <p:cNvSpPr/>
              <p:nvPr/>
            </p:nvSpPr>
            <p:spPr>
              <a:xfrm rot="5755200">
                <a:off x="5124240" y="2738160"/>
                <a:ext cx="1930680" cy="1551240"/>
              </a:xfrm>
              <a:custGeom>
                <a:avLst/>
                <a:gdLst>
                  <a:gd name="textAreaLeft" fmla="*/ 0 w 1930680"/>
                  <a:gd name="textAreaRight" fmla="*/ 1931040 w 1930680"/>
                  <a:gd name="textAreaTop" fmla="*/ 0 h 1551240"/>
                  <a:gd name="textAreaBottom" fmla="*/ 1551600 h 1551240"/>
                </a:gdLst>
                <a:ahLst/>
                <a:rect l="textAreaLeft" t="textAreaTop" r="textAreaRight" b="textAreaBottom"/>
                <a:pathLst>
                  <a:path w="106" h="85">
                    <a:moveTo>
                      <a:pt x="0" y="39"/>
                    </a:moveTo>
                    <a:cubicBezTo>
                      <a:pt x="0" y="39"/>
                      <a:pt x="6" y="80"/>
                      <a:pt x="46" y="85"/>
                    </a:cubicBezTo>
                    <a:cubicBezTo>
                      <a:pt x="46" y="85"/>
                      <a:pt x="53" y="38"/>
                      <a:pt x="106" y="43"/>
                    </a:cubicBezTo>
                    <a:cubicBezTo>
                      <a:pt x="106" y="43"/>
                      <a:pt x="58" y="0"/>
                      <a:pt x="0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Freeform 6"/>
            <p:cNvSpPr/>
            <p:nvPr/>
          </p:nvSpPr>
          <p:spPr>
            <a:xfrm rot="5766600">
              <a:off x="5220720" y="2801160"/>
              <a:ext cx="1661760" cy="133524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06" h="85">
                  <a:moveTo>
                    <a:pt x="0" y="39"/>
                  </a:moveTo>
                  <a:cubicBezTo>
                    <a:pt x="0" y="39"/>
                    <a:pt x="6" y="80"/>
                    <a:pt x="46" y="85"/>
                  </a:cubicBezTo>
                  <a:cubicBezTo>
                    <a:pt x="46" y="85"/>
                    <a:pt x="53" y="38"/>
                    <a:pt x="106" y="43"/>
                  </a:cubicBezTo>
                  <a:cubicBezTo>
                    <a:pt x="106" y="43"/>
                    <a:pt x="58" y="0"/>
                    <a:pt x="0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534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任意多边形 81"/>
          <p:cNvSpPr/>
          <p:nvPr/>
        </p:nvSpPr>
        <p:spPr>
          <a:xfrm>
            <a:off x="4784760" y="1390680"/>
            <a:ext cx="2019240" cy="46836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286000" h="472440">
                <a:moveTo>
                  <a:pt x="0" y="472440"/>
                </a:moveTo>
                <a:lnTo>
                  <a:pt x="472440" y="0"/>
                </a:lnTo>
                <a:lnTo>
                  <a:pt x="2286000" y="0"/>
                </a:lnTo>
              </a:path>
            </a:pathLst>
          </a:custGeom>
          <a:noFill/>
          <a:ln w="2556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82"/>
          <p:cNvSpPr/>
          <p:nvPr/>
        </p:nvSpPr>
        <p:spPr>
          <a:xfrm flipH="1">
            <a:off x="2124000" y="2819520"/>
            <a:ext cx="952560" cy="637920"/>
          </a:xfrm>
          <a:custGeom>
            <a:avLst/>
            <a:gdLst>
              <a:gd name="textAreaLeft" fmla="*/ 360 w 952560"/>
              <a:gd name="textAreaRight" fmla="*/ 953280 w 95256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2286000" h="472440">
                <a:moveTo>
                  <a:pt x="0" y="472440"/>
                </a:moveTo>
                <a:lnTo>
                  <a:pt x="472440" y="0"/>
                </a:lnTo>
                <a:lnTo>
                  <a:pt x="2286000" y="0"/>
                </a:lnTo>
              </a:path>
            </a:pathLst>
          </a:custGeom>
          <a:noFill/>
          <a:ln w="25560">
            <a:solidFill>
              <a:srgbClr val="c73e0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83"/>
          <p:cNvSpPr/>
          <p:nvPr/>
        </p:nvSpPr>
        <p:spPr>
          <a:xfrm flipH="1">
            <a:off x="2123640" y="4971960"/>
            <a:ext cx="2320920" cy="1800"/>
          </a:xfrm>
          <a:prstGeom prst="line">
            <a:avLst/>
          </a:prstGeom>
          <a:ln w="25560">
            <a:solidFill>
              <a:srgbClr val="11970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84"/>
          <p:cNvSpPr/>
          <p:nvPr/>
        </p:nvSpPr>
        <p:spPr>
          <a:xfrm>
            <a:off x="6089760" y="3900600"/>
            <a:ext cx="714240" cy="0"/>
          </a:xfrm>
          <a:prstGeom prst="line">
            <a:avLst/>
          </a:prstGeom>
          <a:ln w="25560">
            <a:solidFill>
              <a:srgbClr val="006a9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 flipH="1">
            <a:off x="6944760" y="143496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 flipH="1">
            <a:off x="6945480" y="105264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 flipH="1">
            <a:off x="6944760" y="171144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8"/>
          <p:cNvSpPr/>
          <p:nvPr/>
        </p:nvSpPr>
        <p:spPr>
          <a:xfrm>
            <a:off x="6945480" y="1390680"/>
            <a:ext cx="1584000" cy="4608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 flipH="1">
            <a:off x="6944760" y="391788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 flipH="1">
            <a:off x="6945480" y="353700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 flipH="1">
            <a:off x="6944760" y="419400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2"/>
          <p:cNvSpPr/>
          <p:nvPr/>
        </p:nvSpPr>
        <p:spPr>
          <a:xfrm>
            <a:off x="6945480" y="3875040"/>
            <a:ext cx="1584000" cy="46080"/>
          </a:xfrm>
          <a:prstGeom prst="rect">
            <a:avLst/>
          </a:prstGeom>
          <a:solidFill>
            <a:srgbClr val="006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 flipH="1">
            <a:off x="814320" y="28177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 flipH="1">
            <a:off x="172440" y="2435400"/>
            <a:ext cx="17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 flipH="1">
            <a:off x="814320" y="30942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6"/>
          <p:cNvSpPr/>
          <p:nvPr/>
        </p:nvSpPr>
        <p:spPr>
          <a:xfrm>
            <a:off x="376200" y="2774880"/>
            <a:ext cx="1584360" cy="44640"/>
          </a:xfrm>
          <a:prstGeom prst="rect">
            <a:avLst/>
          </a:prstGeom>
          <a:solidFill>
            <a:srgbClr val="c73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 flipH="1">
            <a:off x="814320" y="49942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 flipH="1">
            <a:off x="172440" y="4611600"/>
            <a:ext cx="17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 flipH="1">
            <a:off x="814320" y="52704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00"/>
          <p:cNvSpPr/>
          <p:nvPr/>
        </p:nvSpPr>
        <p:spPr>
          <a:xfrm>
            <a:off x="376200" y="4950000"/>
            <a:ext cx="1584360" cy="45720"/>
          </a:xfrm>
          <a:prstGeom prst="rect">
            <a:avLst/>
          </a:prstGeom>
          <a:solidFill>
            <a:srgbClr val="119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8"/>
          <p:cNvSpPr/>
          <p:nvPr/>
        </p:nvSpPr>
        <p:spPr>
          <a:xfrm>
            <a:off x="1692360" y="602280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39"/>
          <p:cNvSpPr/>
          <p:nvPr/>
        </p:nvSpPr>
        <p:spPr>
          <a:xfrm>
            <a:off x="1755720" y="5084640"/>
            <a:ext cx="5632560" cy="995400"/>
          </a:xfrm>
          <a:prstGeom prst="ellipse">
            <a:avLst/>
          </a:prstGeom>
          <a:gradFill rotWithShape="0">
            <a:gsLst>
              <a:gs pos="0">
                <a:srgbClr val="1111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40"/>
          <p:cNvGrpSpPr/>
          <p:nvPr/>
        </p:nvGrpSpPr>
        <p:grpSpPr>
          <a:xfrm>
            <a:off x="2967120" y="1674720"/>
            <a:ext cx="3161880" cy="3170160"/>
            <a:chOff x="2967120" y="1674720"/>
            <a:chExt cx="3161880" cy="3170160"/>
          </a:xfrm>
        </p:grpSpPr>
        <p:sp>
          <p:nvSpPr>
            <p:cNvPr id="151" name="Freeform 11"/>
            <p:cNvSpPr/>
            <p:nvPr/>
          </p:nvSpPr>
          <p:spPr>
            <a:xfrm rot="16200000">
              <a:off x="3070080" y="1775520"/>
              <a:ext cx="1155240" cy="115524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1155240"/>
                <a:gd name="textAreaBottom" fmla="*/ 1155600 h 1155240"/>
              </a:gdLst>
              <a:ahLst/>
              <a:rect l="textAreaLeft" t="textAreaTop" r="textAreaRight" b="textAreaBottom"/>
              <a:pathLst>
                <a:path w="345" h="345">
                  <a:moveTo>
                    <a:pt x="340" y="120"/>
                  </a:moveTo>
                  <a:cubicBezTo>
                    <a:pt x="345" y="95"/>
                    <a:pt x="330" y="62"/>
                    <a:pt x="307" y="37"/>
                  </a:cubicBezTo>
                  <a:cubicBezTo>
                    <a:pt x="307" y="37"/>
                    <a:pt x="307" y="37"/>
                    <a:pt x="307" y="37"/>
                  </a:cubicBezTo>
                  <a:cubicBezTo>
                    <a:pt x="307" y="37"/>
                    <a:pt x="307" y="37"/>
                    <a:pt x="307" y="37"/>
                  </a:cubicBezTo>
                  <a:cubicBezTo>
                    <a:pt x="307" y="37"/>
                    <a:pt x="307" y="36"/>
                    <a:pt x="307" y="36"/>
                  </a:cubicBezTo>
                  <a:cubicBezTo>
                    <a:pt x="307" y="36"/>
                    <a:pt x="307" y="36"/>
                    <a:pt x="307" y="36"/>
                  </a:cubicBezTo>
                  <a:cubicBezTo>
                    <a:pt x="282" y="14"/>
                    <a:pt x="249" y="0"/>
                    <a:pt x="225" y="4"/>
                  </a:cubicBezTo>
                  <a:cubicBezTo>
                    <a:pt x="174" y="14"/>
                    <a:pt x="109" y="105"/>
                    <a:pt x="89" y="147"/>
                  </a:cubicBezTo>
                  <a:cubicBezTo>
                    <a:pt x="69" y="189"/>
                    <a:pt x="0" y="297"/>
                    <a:pt x="0" y="297"/>
                  </a:cubicBezTo>
                  <a:cubicBezTo>
                    <a:pt x="49" y="236"/>
                    <a:pt x="61" y="214"/>
                    <a:pt x="61" y="214"/>
                  </a:cubicBezTo>
                  <a:cubicBezTo>
                    <a:pt x="102" y="151"/>
                    <a:pt x="131" y="152"/>
                    <a:pt x="131" y="152"/>
                  </a:cubicBezTo>
                  <a:cubicBezTo>
                    <a:pt x="151" y="151"/>
                    <a:pt x="166" y="157"/>
                    <a:pt x="176" y="168"/>
                  </a:cubicBezTo>
                  <a:cubicBezTo>
                    <a:pt x="187" y="178"/>
                    <a:pt x="193" y="193"/>
                    <a:pt x="192" y="214"/>
                  </a:cubicBezTo>
                  <a:cubicBezTo>
                    <a:pt x="192" y="214"/>
                    <a:pt x="193" y="243"/>
                    <a:pt x="130" y="284"/>
                  </a:cubicBezTo>
                  <a:cubicBezTo>
                    <a:pt x="130" y="284"/>
                    <a:pt x="108" y="296"/>
                    <a:pt x="47" y="345"/>
                  </a:cubicBezTo>
                  <a:cubicBezTo>
                    <a:pt x="47" y="345"/>
                    <a:pt x="155" y="276"/>
                    <a:pt x="197" y="256"/>
                  </a:cubicBezTo>
                  <a:cubicBezTo>
                    <a:pt x="239" y="236"/>
                    <a:pt x="330" y="171"/>
                    <a:pt x="340" y="120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3373920" y="1674720"/>
              <a:ext cx="2341440" cy="1334160"/>
            </a:xfrm>
            <a:custGeom>
              <a:avLst/>
              <a:gdLst>
                <a:gd name="textAreaLeft" fmla="*/ 0 w 2341440"/>
                <a:gd name="textAreaRight" fmla="*/ 2341800 w 2341440"/>
                <a:gd name="textAreaTop" fmla="*/ 0 h 1334160"/>
                <a:gd name="textAreaBottom" fmla="*/ 1334520 h 1334160"/>
              </a:gdLst>
              <a:ahLst/>
              <a:rect l="textAreaLeft" t="textAreaTop" r="textAreaRight" b="textAreaBottom"/>
              <a:pathLst>
                <a:path w="698" h="398">
                  <a:moveTo>
                    <a:pt x="523" y="184"/>
                  </a:moveTo>
                  <a:cubicBezTo>
                    <a:pt x="468" y="290"/>
                    <a:pt x="414" y="378"/>
                    <a:pt x="349" y="377"/>
                  </a:cubicBezTo>
                  <a:cubicBezTo>
                    <a:pt x="284" y="378"/>
                    <a:pt x="230" y="290"/>
                    <a:pt x="176" y="184"/>
                  </a:cubicBezTo>
                  <a:cubicBezTo>
                    <a:pt x="83" y="0"/>
                    <a:pt x="0" y="28"/>
                    <a:pt x="0" y="28"/>
                  </a:cubicBezTo>
                  <a:cubicBezTo>
                    <a:pt x="0" y="28"/>
                    <a:pt x="85" y="10"/>
                    <a:pt x="176" y="204"/>
                  </a:cubicBezTo>
                  <a:cubicBezTo>
                    <a:pt x="227" y="312"/>
                    <a:pt x="284" y="398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415" y="398"/>
                    <a:pt x="472" y="312"/>
                    <a:pt x="523" y="204"/>
                  </a:cubicBezTo>
                  <a:cubicBezTo>
                    <a:pt x="608" y="24"/>
                    <a:pt x="687" y="27"/>
                    <a:pt x="698" y="28"/>
                  </a:cubicBezTo>
                  <a:cubicBezTo>
                    <a:pt x="690" y="26"/>
                    <a:pt x="611" y="9"/>
                    <a:pt x="523" y="18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fec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>
              <a:off x="3373560" y="1680120"/>
              <a:ext cx="2341800" cy="126468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264680"/>
                <a:gd name="textAreaBottom" fmla="*/ 1265040 h 1264680"/>
              </a:gdLst>
              <a:ahLst/>
              <a:rect l="textAreaLeft" t="textAreaTop" r="textAreaRight" b="textAreaBottom"/>
              <a:pathLst>
                <a:path w="699" h="378">
                  <a:moveTo>
                    <a:pt x="571" y="73"/>
                  </a:moveTo>
                  <a:cubicBezTo>
                    <a:pt x="474" y="166"/>
                    <a:pt x="425" y="198"/>
                    <a:pt x="349" y="202"/>
                  </a:cubicBezTo>
                  <a:cubicBezTo>
                    <a:pt x="273" y="198"/>
                    <a:pt x="224" y="166"/>
                    <a:pt x="128" y="73"/>
                  </a:cubicBezTo>
                  <a:cubicBezTo>
                    <a:pt x="128" y="73"/>
                    <a:pt x="53" y="7"/>
                    <a:pt x="0" y="28"/>
                  </a:cubicBezTo>
                  <a:cubicBezTo>
                    <a:pt x="0" y="28"/>
                    <a:pt x="83" y="0"/>
                    <a:pt x="176" y="184"/>
                  </a:cubicBezTo>
                  <a:cubicBezTo>
                    <a:pt x="230" y="290"/>
                    <a:pt x="284" y="378"/>
                    <a:pt x="349" y="377"/>
                  </a:cubicBezTo>
                  <a:cubicBezTo>
                    <a:pt x="414" y="378"/>
                    <a:pt x="468" y="290"/>
                    <a:pt x="523" y="184"/>
                  </a:cubicBezTo>
                  <a:cubicBezTo>
                    <a:pt x="616" y="0"/>
                    <a:pt x="699" y="28"/>
                    <a:pt x="699" y="28"/>
                  </a:cubicBezTo>
                  <a:cubicBezTo>
                    <a:pt x="645" y="7"/>
                    <a:pt x="571" y="73"/>
                    <a:pt x="571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c73e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"/>
            <p:cNvSpPr/>
            <p:nvPr/>
          </p:nvSpPr>
          <p:spPr>
            <a:xfrm>
              <a:off x="4881600" y="1779120"/>
              <a:ext cx="1155240" cy="115524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1155240"/>
                <a:gd name="textAreaBottom" fmla="*/ 1155600 h 1155240"/>
              </a:gdLst>
              <a:ahLst/>
              <a:rect l="textAreaLeft" t="textAreaTop" r="textAreaRight" b="textAreaBottom"/>
              <a:pathLst>
                <a:path w="345" h="345">
                  <a:moveTo>
                    <a:pt x="340" y="120"/>
                  </a:moveTo>
                  <a:cubicBezTo>
                    <a:pt x="345" y="95"/>
                    <a:pt x="330" y="62"/>
                    <a:pt x="307" y="37"/>
                  </a:cubicBezTo>
                  <a:cubicBezTo>
                    <a:pt x="307" y="37"/>
                    <a:pt x="307" y="37"/>
                    <a:pt x="307" y="37"/>
                  </a:cubicBezTo>
                  <a:cubicBezTo>
                    <a:pt x="307" y="37"/>
                    <a:pt x="307" y="37"/>
                    <a:pt x="307" y="37"/>
                  </a:cubicBezTo>
                  <a:cubicBezTo>
                    <a:pt x="307" y="37"/>
                    <a:pt x="307" y="36"/>
                    <a:pt x="307" y="36"/>
                  </a:cubicBezTo>
                  <a:cubicBezTo>
                    <a:pt x="307" y="36"/>
                    <a:pt x="307" y="36"/>
                    <a:pt x="307" y="36"/>
                  </a:cubicBezTo>
                  <a:cubicBezTo>
                    <a:pt x="282" y="14"/>
                    <a:pt x="249" y="0"/>
                    <a:pt x="225" y="4"/>
                  </a:cubicBezTo>
                  <a:cubicBezTo>
                    <a:pt x="174" y="14"/>
                    <a:pt x="109" y="105"/>
                    <a:pt x="89" y="147"/>
                  </a:cubicBezTo>
                  <a:cubicBezTo>
                    <a:pt x="69" y="189"/>
                    <a:pt x="0" y="297"/>
                    <a:pt x="0" y="297"/>
                  </a:cubicBezTo>
                  <a:cubicBezTo>
                    <a:pt x="49" y="236"/>
                    <a:pt x="61" y="214"/>
                    <a:pt x="61" y="214"/>
                  </a:cubicBezTo>
                  <a:cubicBezTo>
                    <a:pt x="102" y="151"/>
                    <a:pt x="131" y="152"/>
                    <a:pt x="131" y="152"/>
                  </a:cubicBezTo>
                  <a:cubicBezTo>
                    <a:pt x="151" y="151"/>
                    <a:pt x="166" y="157"/>
                    <a:pt x="176" y="168"/>
                  </a:cubicBezTo>
                  <a:cubicBezTo>
                    <a:pt x="187" y="178"/>
                    <a:pt x="193" y="193"/>
                    <a:pt x="192" y="214"/>
                  </a:cubicBezTo>
                  <a:cubicBezTo>
                    <a:pt x="192" y="214"/>
                    <a:pt x="193" y="243"/>
                    <a:pt x="130" y="284"/>
                  </a:cubicBezTo>
                  <a:cubicBezTo>
                    <a:pt x="130" y="284"/>
                    <a:pt x="108" y="296"/>
                    <a:pt x="47" y="345"/>
                  </a:cubicBezTo>
                  <a:cubicBezTo>
                    <a:pt x="47" y="345"/>
                    <a:pt x="155" y="276"/>
                    <a:pt x="197" y="256"/>
                  </a:cubicBezTo>
                  <a:cubicBezTo>
                    <a:pt x="239" y="236"/>
                    <a:pt x="330" y="171"/>
                    <a:pt x="340" y="120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4213800" y="2698920"/>
              <a:ext cx="652680" cy="52272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10" h="168">
                  <a:moveTo>
                    <a:pt x="0" y="0"/>
                  </a:moveTo>
                  <a:cubicBezTo>
                    <a:pt x="0" y="0"/>
                    <a:pt x="96" y="168"/>
                    <a:pt x="21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 rot="5400000">
              <a:off x="4291200" y="2593440"/>
              <a:ext cx="2341800" cy="133380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w="698" h="398">
                  <a:moveTo>
                    <a:pt x="523" y="184"/>
                  </a:moveTo>
                  <a:cubicBezTo>
                    <a:pt x="468" y="290"/>
                    <a:pt x="414" y="378"/>
                    <a:pt x="349" y="377"/>
                  </a:cubicBezTo>
                  <a:cubicBezTo>
                    <a:pt x="284" y="378"/>
                    <a:pt x="230" y="290"/>
                    <a:pt x="176" y="184"/>
                  </a:cubicBezTo>
                  <a:cubicBezTo>
                    <a:pt x="83" y="0"/>
                    <a:pt x="0" y="28"/>
                    <a:pt x="0" y="28"/>
                  </a:cubicBezTo>
                  <a:cubicBezTo>
                    <a:pt x="0" y="28"/>
                    <a:pt x="85" y="10"/>
                    <a:pt x="176" y="204"/>
                  </a:cubicBezTo>
                  <a:cubicBezTo>
                    <a:pt x="227" y="312"/>
                    <a:pt x="284" y="398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415" y="398"/>
                    <a:pt x="472" y="312"/>
                    <a:pt x="523" y="204"/>
                  </a:cubicBezTo>
                  <a:cubicBezTo>
                    <a:pt x="608" y="24"/>
                    <a:pt x="687" y="27"/>
                    <a:pt x="698" y="28"/>
                  </a:cubicBezTo>
                  <a:cubicBezTo>
                    <a:pt x="690" y="26"/>
                    <a:pt x="611" y="9"/>
                    <a:pt x="523" y="18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fa94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 rot="5400000">
              <a:off x="4319280" y="2627640"/>
              <a:ext cx="2342160" cy="1264320"/>
            </a:xfrm>
            <a:custGeom>
              <a:avLst/>
              <a:gdLst>
                <a:gd name="textAreaLeft" fmla="*/ 0 w 2342160"/>
                <a:gd name="textAreaRight" fmla="*/ 2342160 w 23421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699" h="378">
                  <a:moveTo>
                    <a:pt x="571" y="73"/>
                  </a:moveTo>
                  <a:cubicBezTo>
                    <a:pt x="474" y="166"/>
                    <a:pt x="425" y="198"/>
                    <a:pt x="349" y="202"/>
                  </a:cubicBezTo>
                  <a:cubicBezTo>
                    <a:pt x="273" y="198"/>
                    <a:pt x="224" y="166"/>
                    <a:pt x="128" y="73"/>
                  </a:cubicBezTo>
                  <a:cubicBezTo>
                    <a:pt x="128" y="73"/>
                    <a:pt x="53" y="7"/>
                    <a:pt x="0" y="28"/>
                  </a:cubicBezTo>
                  <a:cubicBezTo>
                    <a:pt x="0" y="28"/>
                    <a:pt x="83" y="0"/>
                    <a:pt x="176" y="184"/>
                  </a:cubicBezTo>
                  <a:cubicBezTo>
                    <a:pt x="230" y="290"/>
                    <a:pt x="284" y="378"/>
                    <a:pt x="349" y="377"/>
                  </a:cubicBezTo>
                  <a:cubicBezTo>
                    <a:pt x="414" y="378"/>
                    <a:pt x="468" y="290"/>
                    <a:pt x="523" y="184"/>
                  </a:cubicBezTo>
                  <a:cubicBezTo>
                    <a:pt x="616" y="0"/>
                    <a:pt x="699" y="28"/>
                    <a:pt x="699" y="28"/>
                  </a:cubicBezTo>
                  <a:cubicBezTo>
                    <a:pt x="645" y="7"/>
                    <a:pt x="571" y="73"/>
                    <a:pt x="571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be124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 rot="5400000">
              <a:off x="4860720" y="3580560"/>
              <a:ext cx="1155240" cy="115524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1155240"/>
                <a:gd name="textAreaBottom" fmla="*/ 1155600 h 1155240"/>
              </a:gdLst>
              <a:ahLst/>
              <a:rect l="textAreaLeft" t="textAreaTop" r="textAreaRight" b="textAreaBottom"/>
              <a:pathLst>
                <a:path w="345" h="345">
                  <a:moveTo>
                    <a:pt x="340" y="120"/>
                  </a:moveTo>
                  <a:cubicBezTo>
                    <a:pt x="345" y="95"/>
                    <a:pt x="330" y="62"/>
                    <a:pt x="307" y="37"/>
                  </a:cubicBezTo>
                  <a:cubicBezTo>
                    <a:pt x="307" y="37"/>
                    <a:pt x="307" y="37"/>
                    <a:pt x="307" y="37"/>
                  </a:cubicBezTo>
                  <a:cubicBezTo>
                    <a:pt x="307" y="37"/>
                    <a:pt x="307" y="37"/>
                    <a:pt x="307" y="37"/>
                  </a:cubicBezTo>
                  <a:cubicBezTo>
                    <a:pt x="307" y="37"/>
                    <a:pt x="307" y="36"/>
                    <a:pt x="307" y="36"/>
                  </a:cubicBezTo>
                  <a:cubicBezTo>
                    <a:pt x="307" y="36"/>
                    <a:pt x="307" y="36"/>
                    <a:pt x="307" y="36"/>
                  </a:cubicBezTo>
                  <a:cubicBezTo>
                    <a:pt x="282" y="14"/>
                    <a:pt x="249" y="0"/>
                    <a:pt x="225" y="4"/>
                  </a:cubicBezTo>
                  <a:cubicBezTo>
                    <a:pt x="174" y="14"/>
                    <a:pt x="109" y="105"/>
                    <a:pt x="89" y="147"/>
                  </a:cubicBezTo>
                  <a:cubicBezTo>
                    <a:pt x="69" y="189"/>
                    <a:pt x="0" y="297"/>
                    <a:pt x="0" y="297"/>
                  </a:cubicBezTo>
                  <a:cubicBezTo>
                    <a:pt x="49" y="236"/>
                    <a:pt x="61" y="214"/>
                    <a:pt x="61" y="214"/>
                  </a:cubicBezTo>
                  <a:cubicBezTo>
                    <a:pt x="102" y="151"/>
                    <a:pt x="131" y="152"/>
                    <a:pt x="131" y="152"/>
                  </a:cubicBezTo>
                  <a:cubicBezTo>
                    <a:pt x="151" y="151"/>
                    <a:pt x="166" y="157"/>
                    <a:pt x="176" y="168"/>
                  </a:cubicBezTo>
                  <a:cubicBezTo>
                    <a:pt x="187" y="178"/>
                    <a:pt x="193" y="193"/>
                    <a:pt x="192" y="214"/>
                  </a:cubicBezTo>
                  <a:cubicBezTo>
                    <a:pt x="192" y="214"/>
                    <a:pt x="193" y="243"/>
                    <a:pt x="130" y="284"/>
                  </a:cubicBezTo>
                  <a:cubicBezTo>
                    <a:pt x="130" y="284"/>
                    <a:pt x="108" y="296"/>
                    <a:pt x="47" y="345"/>
                  </a:cubicBezTo>
                  <a:cubicBezTo>
                    <a:pt x="47" y="345"/>
                    <a:pt x="155" y="276"/>
                    <a:pt x="197" y="256"/>
                  </a:cubicBezTo>
                  <a:cubicBezTo>
                    <a:pt x="239" y="236"/>
                    <a:pt x="330" y="171"/>
                    <a:pt x="340" y="120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 rot="5400000">
              <a:off x="4516920" y="2994480"/>
              <a:ext cx="653040" cy="522360"/>
            </a:xfrm>
            <a:custGeom>
              <a:avLst/>
              <a:gdLst>
                <a:gd name="textAreaLeft" fmla="*/ 0 w 653040"/>
                <a:gd name="textAreaRight" fmla="*/ 653400 w 653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10" h="168">
                  <a:moveTo>
                    <a:pt x="0" y="0"/>
                  </a:moveTo>
                  <a:cubicBezTo>
                    <a:pt x="0" y="0"/>
                    <a:pt x="96" y="168"/>
                    <a:pt x="21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7"/>
            <p:cNvSpPr/>
            <p:nvPr/>
          </p:nvSpPr>
          <p:spPr>
            <a:xfrm rot="10800000">
              <a:off x="3380040" y="3510720"/>
              <a:ext cx="2341440" cy="1334160"/>
            </a:xfrm>
            <a:custGeom>
              <a:avLst/>
              <a:gdLst>
                <a:gd name="textAreaLeft" fmla="*/ 0 w 2341440"/>
                <a:gd name="textAreaRight" fmla="*/ 2341800 w 2341440"/>
                <a:gd name="textAreaTop" fmla="*/ 0 h 1334160"/>
                <a:gd name="textAreaBottom" fmla="*/ 1334520 h 1334160"/>
              </a:gdLst>
              <a:ahLst/>
              <a:rect l="textAreaLeft" t="textAreaTop" r="textAreaRight" b="textAreaBottom"/>
              <a:pathLst>
                <a:path w="698" h="398">
                  <a:moveTo>
                    <a:pt x="523" y="184"/>
                  </a:moveTo>
                  <a:cubicBezTo>
                    <a:pt x="468" y="290"/>
                    <a:pt x="414" y="378"/>
                    <a:pt x="349" y="377"/>
                  </a:cubicBezTo>
                  <a:cubicBezTo>
                    <a:pt x="284" y="378"/>
                    <a:pt x="230" y="290"/>
                    <a:pt x="176" y="184"/>
                  </a:cubicBezTo>
                  <a:cubicBezTo>
                    <a:pt x="83" y="0"/>
                    <a:pt x="0" y="28"/>
                    <a:pt x="0" y="28"/>
                  </a:cubicBezTo>
                  <a:cubicBezTo>
                    <a:pt x="0" y="28"/>
                    <a:pt x="85" y="10"/>
                    <a:pt x="176" y="204"/>
                  </a:cubicBezTo>
                  <a:cubicBezTo>
                    <a:pt x="227" y="312"/>
                    <a:pt x="284" y="398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415" y="398"/>
                    <a:pt x="472" y="312"/>
                    <a:pt x="523" y="204"/>
                  </a:cubicBezTo>
                  <a:cubicBezTo>
                    <a:pt x="608" y="24"/>
                    <a:pt x="687" y="27"/>
                    <a:pt x="698" y="28"/>
                  </a:cubicBezTo>
                  <a:cubicBezTo>
                    <a:pt x="690" y="26"/>
                    <a:pt x="611" y="9"/>
                    <a:pt x="523" y="184"/>
                  </a:cubicBez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bceb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 rot="10800000">
              <a:off x="3379320" y="3575520"/>
              <a:ext cx="2341800" cy="126468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264680"/>
                <a:gd name="textAreaBottom" fmla="*/ 1265040 h 1264680"/>
              </a:gdLst>
              <a:ahLst/>
              <a:rect l="textAreaLeft" t="textAreaTop" r="textAreaRight" b="textAreaBottom"/>
              <a:pathLst>
                <a:path w="699" h="378">
                  <a:moveTo>
                    <a:pt x="571" y="73"/>
                  </a:moveTo>
                  <a:cubicBezTo>
                    <a:pt x="474" y="166"/>
                    <a:pt x="425" y="198"/>
                    <a:pt x="349" y="202"/>
                  </a:cubicBezTo>
                  <a:cubicBezTo>
                    <a:pt x="273" y="198"/>
                    <a:pt x="224" y="166"/>
                    <a:pt x="128" y="73"/>
                  </a:cubicBezTo>
                  <a:cubicBezTo>
                    <a:pt x="128" y="73"/>
                    <a:pt x="53" y="7"/>
                    <a:pt x="0" y="28"/>
                  </a:cubicBezTo>
                  <a:cubicBezTo>
                    <a:pt x="0" y="28"/>
                    <a:pt x="83" y="0"/>
                    <a:pt x="176" y="184"/>
                  </a:cubicBezTo>
                  <a:cubicBezTo>
                    <a:pt x="230" y="290"/>
                    <a:pt x="284" y="378"/>
                    <a:pt x="349" y="377"/>
                  </a:cubicBezTo>
                  <a:cubicBezTo>
                    <a:pt x="414" y="378"/>
                    <a:pt x="468" y="290"/>
                    <a:pt x="523" y="184"/>
                  </a:cubicBezTo>
                  <a:cubicBezTo>
                    <a:pt x="616" y="0"/>
                    <a:pt x="699" y="28"/>
                    <a:pt x="699" y="28"/>
                  </a:cubicBezTo>
                  <a:cubicBezTo>
                    <a:pt x="645" y="7"/>
                    <a:pt x="571" y="73"/>
                    <a:pt x="571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119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 rot="10800000">
              <a:off x="3074400" y="3578400"/>
              <a:ext cx="1155240" cy="115524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1155240"/>
                <a:gd name="textAreaBottom" fmla="*/ 1155600 h 1155240"/>
              </a:gdLst>
              <a:ahLst/>
              <a:rect l="textAreaLeft" t="textAreaTop" r="textAreaRight" b="textAreaBottom"/>
              <a:pathLst>
                <a:path w="345" h="345">
                  <a:moveTo>
                    <a:pt x="340" y="120"/>
                  </a:moveTo>
                  <a:cubicBezTo>
                    <a:pt x="345" y="95"/>
                    <a:pt x="330" y="62"/>
                    <a:pt x="307" y="37"/>
                  </a:cubicBezTo>
                  <a:cubicBezTo>
                    <a:pt x="307" y="37"/>
                    <a:pt x="307" y="37"/>
                    <a:pt x="307" y="37"/>
                  </a:cubicBezTo>
                  <a:cubicBezTo>
                    <a:pt x="307" y="37"/>
                    <a:pt x="307" y="37"/>
                    <a:pt x="307" y="37"/>
                  </a:cubicBezTo>
                  <a:cubicBezTo>
                    <a:pt x="307" y="37"/>
                    <a:pt x="307" y="36"/>
                    <a:pt x="307" y="36"/>
                  </a:cubicBezTo>
                  <a:cubicBezTo>
                    <a:pt x="307" y="36"/>
                    <a:pt x="307" y="36"/>
                    <a:pt x="307" y="36"/>
                  </a:cubicBezTo>
                  <a:cubicBezTo>
                    <a:pt x="282" y="14"/>
                    <a:pt x="249" y="0"/>
                    <a:pt x="225" y="4"/>
                  </a:cubicBezTo>
                  <a:cubicBezTo>
                    <a:pt x="174" y="14"/>
                    <a:pt x="109" y="105"/>
                    <a:pt x="89" y="147"/>
                  </a:cubicBezTo>
                  <a:cubicBezTo>
                    <a:pt x="69" y="189"/>
                    <a:pt x="0" y="297"/>
                    <a:pt x="0" y="297"/>
                  </a:cubicBezTo>
                  <a:cubicBezTo>
                    <a:pt x="49" y="236"/>
                    <a:pt x="61" y="214"/>
                    <a:pt x="61" y="214"/>
                  </a:cubicBezTo>
                  <a:cubicBezTo>
                    <a:pt x="102" y="151"/>
                    <a:pt x="131" y="152"/>
                    <a:pt x="131" y="152"/>
                  </a:cubicBezTo>
                  <a:cubicBezTo>
                    <a:pt x="151" y="151"/>
                    <a:pt x="166" y="157"/>
                    <a:pt x="176" y="168"/>
                  </a:cubicBezTo>
                  <a:cubicBezTo>
                    <a:pt x="187" y="178"/>
                    <a:pt x="193" y="193"/>
                    <a:pt x="192" y="214"/>
                  </a:cubicBezTo>
                  <a:cubicBezTo>
                    <a:pt x="192" y="214"/>
                    <a:pt x="193" y="243"/>
                    <a:pt x="130" y="284"/>
                  </a:cubicBezTo>
                  <a:cubicBezTo>
                    <a:pt x="130" y="284"/>
                    <a:pt x="108" y="296"/>
                    <a:pt x="47" y="345"/>
                  </a:cubicBezTo>
                  <a:cubicBezTo>
                    <a:pt x="47" y="345"/>
                    <a:pt x="155" y="276"/>
                    <a:pt x="197" y="256"/>
                  </a:cubicBezTo>
                  <a:cubicBezTo>
                    <a:pt x="239" y="236"/>
                    <a:pt x="330" y="171"/>
                    <a:pt x="340" y="120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 rot="10800000">
              <a:off x="4228200" y="3297960"/>
              <a:ext cx="652680" cy="52272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10" h="168">
                  <a:moveTo>
                    <a:pt x="0" y="0"/>
                  </a:moveTo>
                  <a:cubicBezTo>
                    <a:pt x="0" y="0"/>
                    <a:pt x="96" y="168"/>
                    <a:pt x="21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 rot="16200000">
              <a:off x="2463120" y="2592360"/>
              <a:ext cx="2341800" cy="133380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w="698" h="398">
                  <a:moveTo>
                    <a:pt x="523" y="184"/>
                  </a:moveTo>
                  <a:cubicBezTo>
                    <a:pt x="468" y="290"/>
                    <a:pt x="414" y="378"/>
                    <a:pt x="349" y="377"/>
                  </a:cubicBezTo>
                  <a:cubicBezTo>
                    <a:pt x="284" y="378"/>
                    <a:pt x="230" y="290"/>
                    <a:pt x="176" y="184"/>
                  </a:cubicBezTo>
                  <a:cubicBezTo>
                    <a:pt x="83" y="0"/>
                    <a:pt x="0" y="28"/>
                    <a:pt x="0" y="28"/>
                  </a:cubicBezTo>
                  <a:cubicBezTo>
                    <a:pt x="0" y="28"/>
                    <a:pt x="85" y="10"/>
                    <a:pt x="176" y="204"/>
                  </a:cubicBezTo>
                  <a:cubicBezTo>
                    <a:pt x="227" y="312"/>
                    <a:pt x="284" y="398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349" y="397"/>
                    <a:pt x="349" y="397"/>
                    <a:pt x="349" y="397"/>
                  </a:cubicBezTo>
                  <a:cubicBezTo>
                    <a:pt x="415" y="398"/>
                    <a:pt x="472" y="312"/>
                    <a:pt x="523" y="204"/>
                  </a:cubicBezTo>
                  <a:cubicBezTo>
                    <a:pt x="608" y="24"/>
                    <a:pt x="687" y="27"/>
                    <a:pt x="698" y="28"/>
                  </a:cubicBezTo>
                  <a:cubicBezTo>
                    <a:pt x="690" y="26"/>
                    <a:pt x="611" y="9"/>
                    <a:pt x="523" y="18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93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"/>
            <p:cNvSpPr/>
            <p:nvPr/>
          </p:nvSpPr>
          <p:spPr>
            <a:xfrm rot="16200000">
              <a:off x="2432160" y="2619720"/>
              <a:ext cx="2342160" cy="1264320"/>
            </a:xfrm>
            <a:custGeom>
              <a:avLst/>
              <a:gdLst>
                <a:gd name="textAreaLeft" fmla="*/ 0 w 2342160"/>
                <a:gd name="textAreaRight" fmla="*/ 2342160 w 23421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699" h="378">
                  <a:moveTo>
                    <a:pt x="571" y="73"/>
                  </a:moveTo>
                  <a:cubicBezTo>
                    <a:pt x="474" y="166"/>
                    <a:pt x="425" y="198"/>
                    <a:pt x="349" y="202"/>
                  </a:cubicBezTo>
                  <a:cubicBezTo>
                    <a:pt x="273" y="198"/>
                    <a:pt x="224" y="166"/>
                    <a:pt x="128" y="73"/>
                  </a:cubicBezTo>
                  <a:cubicBezTo>
                    <a:pt x="128" y="73"/>
                    <a:pt x="53" y="7"/>
                    <a:pt x="0" y="28"/>
                  </a:cubicBezTo>
                  <a:cubicBezTo>
                    <a:pt x="0" y="28"/>
                    <a:pt x="83" y="0"/>
                    <a:pt x="176" y="184"/>
                  </a:cubicBezTo>
                  <a:cubicBezTo>
                    <a:pt x="230" y="290"/>
                    <a:pt x="284" y="378"/>
                    <a:pt x="349" y="377"/>
                  </a:cubicBezTo>
                  <a:cubicBezTo>
                    <a:pt x="414" y="378"/>
                    <a:pt x="468" y="290"/>
                    <a:pt x="523" y="184"/>
                  </a:cubicBezTo>
                  <a:cubicBezTo>
                    <a:pt x="616" y="0"/>
                    <a:pt x="699" y="28"/>
                    <a:pt x="699" y="28"/>
                  </a:cubicBezTo>
                  <a:cubicBezTo>
                    <a:pt x="645" y="7"/>
                    <a:pt x="571" y="73"/>
                    <a:pt x="571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8b"/>
                </a:gs>
                <a:gs pos="100000">
                  <a:srgbClr val="0066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2"/>
            <p:cNvSpPr/>
            <p:nvPr/>
          </p:nvSpPr>
          <p:spPr>
            <a:xfrm rot="16200000">
              <a:off x="3937680" y="3002760"/>
              <a:ext cx="653040" cy="522360"/>
            </a:xfrm>
            <a:custGeom>
              <a:avLst/>
              <a:gdLst>
                <a:gd name="textAreaLeft" fmla="*/ 0 w 653040"/>
                <a:gd name="textAreaRight" fmla="*/ 653400 w 653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10" h="168">
                  <a:moveTo>
                    <a:pt x="0" y="0"/>
                  </a:moveTo>
                  <a:cubicBezTo>
                    <a:pt x="0" y="0"/>
                    <a:pt x="96" y="168"/>
                    <a:pt x="21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1"/>
          <p:cNvSpPr/>
          <p:nvPr/>
        </p:nvSpPr>
        <p:spPr>
          <a:xfrm flipH="1">
            <a:off x="3980880" y="181116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3e01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 flipH="1">
            <a:off x="3980880" y="439272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19707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 flipH="1">
            <a:off x="3000240" y="2666880"/>
            <a:ext cx="4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a9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 flipH="1">
            <a:off x="5595840" y="2666880"/>
            <a:ext cx="4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e1247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61"/>
          <p:cNvSpPr/>
          <p:nvPr/>
        </p:nvSpPr>
        <p:spPr>
          <a:xfrm flipV="1">
            <a:off x="5715000" y="1612440"/>
            <a:ext cx="576360" cy="476280"/>
          </a:xfrm>
          <a:prstGeom prst="line">
            <a:avLst/>
          </a:prstGeom>
          <a:ln w="25560">
            <a:solidFill>
              <a:srgbClr val="3f3f3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62"/>
          <p:cNvSpPr/>
          <p:nvPr/>
        </p:nvSpPr>
        <p:spPr>
          <a:xfrm flipH="1" flipV="1">
            <a:off x="2966760" y="1612440"/>
            <a:ext cx="460440" cy="476280"/>
          </a:xfrm>
          <a:prstGeom prst="line">
            <a:avLst/>
          </a:prstGeom>
          <a:ln w="25560">
            <a:solidFill>
              <a:srgbClr val="3f3f3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63"/>
          <p:cNvSpPr/>
          <p:nvPr/>
        </p:nvSpPr>
        <p:spPr>
          <a:xfrm flipH="1" flipV="1">
            <a:off x="5721480" y="4422240"/>
            <a:ext cx="460080" cy="476280"/>
          </a:xfrm>
          <a:prstGeom prst="line">
            <a:avLst/>
          </a:prstGeom>
          <a:ln w="25560">
            <a:solidFill>
              <a:srgbClr val="3f3f3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64"/>
          <p:cNvSpPr/>
          <p:nvPr/>
        </p:nvSpPr>
        <p:spPr>
          <a:xfrm flipV="1">
            <a:off x="2851200" y="4392360"/>
            <a:ext cx="574560" cy="477720"/>
          </a:xfrm>
          <a:prstGeom prst="line">
            <a:avLst/>
          </a:prstGeom>
          <a:ln w="25560">
            <a:solidFill>
              <a:srgbClr val="3f3f3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 flipH="1">
            <a:off x="1546920" y="1123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 flipH="1">
            <a:off x="1546920" y="147312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 flipH="1">
            <a:off x="1546920" y="169848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 flipH="1">
            <a:off x="1397880" y="4403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 flipH="1">
            <a:off x="1397880" y="475308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 flipH="1">
            <a:off x="1397880" y="497844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 flipH="1">
            <a:off x="6178680" y="44038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 flipH="1">
            <a:off x="6178680" y="475308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 flipH="1">
            <a:off x="6178680" y="497844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 flipH="1">
            <a:off x="6290640" y="112716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 flipH="1">
            <a:off x="6290640" y="14749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 flipH="1">
            <a:off x="6290640" y="17017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192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"/>
          <p:cNvSpPr/>
          <p:nvPr/>
        </p:nvSpPr>
        <p:spPr>
          <a:xfrm flipH="1">
            <a:off x="5796000" y="4213080"/>
            <a:ext cx="1874880" cy="0"/>
          </a:xfrm>
          <a:prstGeom prst="line">
            <a:avLst/>
          </a:prstGeom>
          <a:ln w="9360">
            <a:solidFill>
              <a:srgbClr val="119707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2"/>
          <p:cNvSpPr/>
          <p:nvPr/>
        </p:nvSpPr>
        <p:spPr>
          <a:xfrm flipH="1" flipV="1">
            <a:off x="5796000" y="4522320"/>
            <a:ext cx="1874880" cy="1800"/>
          </a:xfrm>
          <a:prstGeom prst="line">
            <a:avLst/>
          </a:prstGeom>
          <a:ln w="9360">
            <a:solidFill>
              <a:srgbClr val="c73e01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3"/>
          <p:cNvSpPr/>
          <p:nvPr/>
        </p:nvSpPr>
        <p:spPr>
          <a:xfrm flipH="1">
            <a:off x="1476360" y="4213080"/>
            <a:ext cx="1874880" cy="0"/>
          </a:xfrm>
          <a:prstGeom prst="line">
            <a:avLst/>
          </a:prstGeom>
          <a:ln w="9360">
            <a:solidFill>
              <a:srgbClr val="be1247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4"/>
          <p:cNvSpPr/>
          <p:nvPr/>
        </p:nvSpPr>
        <p:spPr>
          <a:xfrm flipH="1" flipV="1">
            <a:off x="1476360" y="4522320"/>
            <a:ext cx="1874880" cy="1800"/>
          </a:xfrm>
          <a:prstGeom prst="line">
            <a:avLst/>
          </a:prstGeom>
          <a:ln w="9360">
            <a:solidFill>
              <a:srgbClr val="c73e01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5"/>
          <p:cNvSpPr/>
          <p:nvPr/>
        </p:nvSpPr>
        <p:spPr>
          <a:xfrm flipV="1">
            <a:off x="4410000" y="1339560"/>
            <a:ext cx="0" cy="847800"/>
          </a:xfrm>
          <a:prstGeom prst="line">
            <a:avLst/>
          </a:prstGeom>
          <a:ln w="9360">
            <a:solidFill>
              <a:srgbClr val="be1247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6"/>
          <p:cNvSpPr/>
          <p:nvPr/>
        </p:nvSpPr>
        <p:spPr>
          <a:xfrm flipH="1" flipV="1">
            <a:off x="4781520" y="1339560"/>
            <a:ext cx="1440" cy="847800"/>
          </a:xfrm>
          <a:prstGeom prst="line">
            <a:avLst/>
          </a:prstGeom>
          <a:ln w="9360">
            <a:solidFill>
              <a:srgbClr val="119707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7"/>
          <p:cNvSpPr/>
          <p:nvPr/>
        </p:nvSpPr>
        <p:spPr>
          <a:xfrm>
            <a:off x="1754280" y="5013360"/>
            <a:ext cx="5630760" cy="995400"/>
          </a:xfrm>
          <a:prstGeom prst="ellipse">
            <a:avLst/>
          </a:prstGeom>
          <a:gradFill rotWithShape="0">
            <a:gsLst>
              <a:gs pos="0">
                <a:srgbClr val="1111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8"/>
          <p:cNvGrpSpPr/>
          <p:nvPr/>
        </p:nvGrpSpPr>
        <p:grpSpPr>
          <a:xfrm>
            <a:off x="3730680" y="2717640"/>
            <a:ext cx="1704960" cy="1706760"/>
            <a:chOff x="3730680" y="2717640"/>
            <a:chExt cx="1704960" cy="1706760"/>
          </a:xfrm>
        </p:grpSpPr>
        <p:sp>
          <p:nvSpPr>
            <p:cNvPr id="201" name="椭圆 9"/>
            <p:cNvSpPr/>
            <p:nvPr/>
          </p:nvSpPr>
          <p:spPr>
            <a:xfrm>
              <a:off x="3730680" y="2717640"/>
              <a:ext cx="1704960" cy="1706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0"/>
            <p:cNvSpPr/>
            <p:nvPr/>
          </p:nvSpPr>
          <p:spPr>
            <a:xfrm>
              <a:off x="4083840" y="2758320"/>
              <a:ext cx="998280" cy="67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 flipH="1">
            <a:off x="4257720" y="326700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2959200" y="2090880"/>
            <a:ext cx="3247920" cy="2998800"/>
            <a:chOff x="2959200" y="2090880"/>
            <a:chExt cx="3247920" cy="2998800"/>
          </a:xfrm>
        </p:grpSpPr>
        <p:sp>
          <p:nvSpPr>
            <p:cNvPr id="205" name="Freeform 25"/>
            <p:cNvSpPr/>
            <p:nvPr/>
          </p:nvSpPr>
          <p:spPr>
            <a:xfrm>
              <a:off x="5292360" y="4910760"/>
              <a:ext cx="66600" cy="13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1" h="62">
                  <a:moveTo>
                    <a:pt x="11" y="4"/>
                  </a:moveTo>
                  <a:cubicBezTo>
                    <a:pt x="8" y="30"/>
                    <a:pt x="0" y="45"/>
                    <a:pt x="0" y="45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23" y="38"/>
                    <a:pt x="28" y="15"/>
                    <a:pt x="31" y="0"/>
                  </a:cubicBezTo>
                  <a:cubicBezTo>
                    <a:pt x="24" y="2"/>
                    <a:pt x="17" y="3"/>
                    <a:pt x="11" y="4"/>
                  </a:cubicBezTo>
                  <a:close/>
                </a:path>
              </a:pathLst>
            </a:custGeom>
            <a:solidFill>
              <a:srgbClr val="c73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759120" y="4875840"/>
              <a:ext cx="53640" cy="139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5" h="65">
                  <a:moveTo>
                    <a:pt x="9" y="59"/>
                  </a:moveTo>
                  <a:cubicBezTo>
                    <a:pt x="13" y="65"/>
                    <a:pt x="13" y="65"/>
                    <a:pt x="13" y="65"/>
                  </a:cubicBezTo>
                  <a:cubicBezTo>
                    <a:pt x="13" y="65"/>
                    <a:pt x="13" y="65"/>
                    <a:pt x="25" y="46"/>
                  </a:cubicBezTo>
                  <a:cubicBezTo>
                    <a:pt x="21" y="37"/>
                    <a:pt x="17" y="21"/>
                    <a:pt x="13" y="4"/>
                  </a:cubicBezTo>
                  <a:cubicBezTo>
                    <a:pt x="6" y="2"/>
                    <a:pt x="2" y="0"/>
                    <a:pt x="0" y="0"/>
                  </a:cubicBezTo>
                  <a:cubicBezTo>
                    <a:pt x="0" y="12"/>
                    <a:pt x="9" y="42"/>
                    <a:pt x="11" y="61"/>
                  </a:cubicBezTo>
                  <a:cubicBezTo>
                    <a:pt x="11" y="60"/>
                    <a:pt x="10" y="59"/>
                    <a:pt x="9" y="59"/>
                  </a:cubicBezTo>
                  <a:close/>
                </a:path>
              </a:pathLst>
            </a:custGeom>
            <a:solidFill>
              <a:srgbClr val="c73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7"/>
            <p:cNvSpPr/>
            <p:nvPr/>
          </p:nvSpPr>
          <p:spPr>
            <a:xfrm>
              <a:off x="2959200" y="2092680"/>
              <a:ext cx="1628280" cy="2300040"/>
            </a:xfrm>
            <a:custGeom>
              <a:avLst/>
              <a:gdLst>
                <a:gd name="textAreaLeft" fmla="*/ 0 w 1628280"/>
                <a:gd name="textAreaRight" fmla="*/ 1628640 w 162828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755" h="1066">
                  <a:moveTo>
                    <a:pt x="270" y="879"/>
                  </a:moveTo>
                  <a:cubicBezTo>
                    <a:pt x="273" y="866"/>
                    <a:pt x="360" y="519"/>
                    <a:pt x="670" y="223"/>
                  </a:cubicBezTo>
                  <a:cubicBezTo>
                    <a:pt x="694" y="243"/>
                    <a:pt x="712" y="262"/>
                    <a:pt x="730" y="279"/>
                  </a:cubicBezTo>
                  <a:cubicBezTo>
                    <a:pt x="755" y="0"/>
                    <a:pt x="755" y="0"/>
                    <a:pt x="755" y="0"/>
                  </a:cubicBezTo>
                  <a:cubicBezTo>
                    <a:pt x="755" y="0"/>
                    <a:pt x="563" y="4"/>
                    <a:pt x="386" y="71"/>
                  </a:cubicBezTo>
                  <a:cubicBezTo>
                    <a:pt x="444" y="87"/>
                    <a:pt x="444" y="87"/>
                    <a:pt x="444" y="87"/>
                  </a:cubicBezTo>
                  <a:cubicBezTo>
                    <a:pt x="444" y="87"/>
                    <a:pt x="439" y="92"/>
                    <a:pt x="429" y="101"/>
                  </a:cubicBezTo>
                  <a:cubicBezTo>
                    <a:pt x="368" y="157"/>
                    <a:pt x="149" y="378"/>
                    <a:pt x="46" y="727"/>
                  </a:cubicBezTo>
                  <a:cubicBezTo>
                    <a:pt x="45" y="733"/>
                    <a:pt x="43" y="738"/>
                    <a:pt x="41" y="744"/>
                  </a:cubicBezTo>
                  <a:cubicBezTo>
                    <a:pt x="11" y="718"/>
                    <a:pt x="0" y="707"/>
                    <a:pt x="0" y="707"/>
                  </a:cubicBezTo>
                  <a:cubicBezTo>
                    <a:pt x="0" y="707"/>
                    <a:pt x="11" y="868"/>
                    <a:pt x="106" y="1066"/>
                  </a:cubicBezTo>
                  <a:cubicBezTo>
                    <a:pt x="114" y="1060"/>
                    <a:pt x="313" y="926"/>
                    <a:pt x="346" y="907"/>
                  </a:cubicBezTo>
                  <a:cubicBezTo>
                    <a:pt x="310" y="894"/>
                    <a:pt x="277" y="883"/>
                    <a:pt x="270" y="879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8"/>
            <p:cNvSpPr/>
            <p:nvPr/>
          </p:nvSpPr>
          <p:spPr>
            <a:xfrm>
              <a:off x="3241440" y="4120560"/>
              <a:ext cx="2655360" cy="969120"/>
            </a:xfrm>
            <a:custGeom>
              <a:avLst/>
              <a:gdLst>
                <a:gd name="textAreaLeft" fmla="*/ 0 w 2655360"/>
                <a:gd name="textAreaRight" fmla="*/ 2655720 w 265536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1231" h="449">
                  <a:moveTo>
                    <a:pt x="1226" y="151"/>
                  </a:moveTo>
                  <a:cubicBezTo>
                    <a:pt x="1182" y="127"/>
                    <a:pt x="978" y="15"/>
                    <a:pt x="978" y="15"/>
                  </a:cubicBezTo>
                  <a:cubicBezTo>
                    <a:pt x="978" y="15"/>
                    <a:pt x="989" y="68"/>
                    <a:pt x="992" y="93"/>
                  </a:cubicBezTo>
                  <a:cubicBezTo>
                    <a:pt x="978" y="100"/>
                    <a:pt x="603" y="193"/>
                    <a:pt x="239" y="78"/>
                  </a:cubicBezTo>
                  <a:cubicBezTo>
                    <a:pt x="254" y="0"/>
                    <a:pt x="254" y="2"/>
                    <a:pt x="254" y="2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30"/>
                    <a:pt x="77" y="265"/>
                    <a:pt x="249" y="411"/>
                  </a:cubicBezTo>
                  <a:cubicBezTo>
                    <a:pt x="250" y="411"/>
                    <a:pt x="250" y="412"/>
                    <a:pt x="251" y="412"/>
                  </a:cubicBezTo>
                  <a:cubicBezTo>
                    <a:pt x="248" y="394"/>
                    <a:pt x="240" y="364"/>
                    <a:pt x="240" y="352"/>
                  </a:cubicBezTo>
                  <a:cubicBezTo>
                    <a:pt x="242" y="352"/>
                    <a:pt x="246" y="354"/>
                    <a:pt x="253" y="356"/>
                  </a:cubicBezTo>
                  <a:cubicBezTo>
                    <a:pt x="317" y="375"/>
                    <a:pt x="602" y="449"/>
                    <a:pt x="962" y="370"/>
                  </a:cubicBezTo>
                  <a:cubicBezTo>
                    <a:pt x="968" y="369"/>
                    <a:pt x="975" y="368"/>
                    <a:pt x="982" y="366"/>
                  </a:cubicBezTo>
                  <a:cubicBezTo>
                    <a:pt x="979" y="381"/>
                    <a:pt x="974" y="404"/>
                    <a:pt x="963" y="428"/>
                  </a:cubicBezTo>
                  <a:cubicBezTo>
                    <a:pt x="987" y="410"/>
                    <a:pt x="1116" y="317"/>
                    <a:pt x="1231" y="153"/>
                  </a:cubicBezTo>
                  <a:cubicBezTo>
                    <a:pt x="1229" y="153"/>
                    <a:pt x="1228" y="152"/>
                    <a:pt x="1226" y="15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>
              <a:off x="4634640" y="2090880"/>
              <a:ext cx="1572120" cy="2349360"/>
            </a:xfrm>
            <a:custGeom>
              <a:avLst/>
              <a:gdLst>
                <a:gd name="textAreaLeft" fmla="*/ 0 w 1572120"/>
                <a:gd name="textAreaRight" fmla="*/ 1572480 w 1572120"/>
                <a:gd name="textAreaTop" fmla="*/ 0 h 2349360"/>
                <a:gd name="textAreaBottom" fmla="*/ 2349720 h 2349360"/>
              </a:gdLst>
              <a:ahLst/>
              <a:rect l="textAreaLeft" t="textAreaTop" r="textAreaRight" b="textAreaBottom"/>
              <a:pathLst>
                <a:path w="729" h="1089">
                  <a:moveTo>
                    <a:pt x="453" y="896"/>
                  </a:moveTo>
                  <a:cubicBezTo>
                    <a:pt x="450" y="883"/>
                    <a:pt x="376" y="533"/>
                    <a:pt x="77" y="226"/>
                  </a:cubicBezTo>
                  <a:cubicBezTo>
                    <a:pt x="52" y="245"/>
                    <a:pt x="34" y="263"/>
                    <a:pt x="15" y="28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92" y="10"/>
                    <a:pt x="367" y="84"/>
                  </a:cubicBezTo>
                  <a:cubicBezTo>
                    <a:pt x="308" y="98"/>
                    <a:pt x="308" y="98"/>
                    <a:pt x="308" y="98"/>
                  </a:cubicBezTo>
                  <a:cubicBezTo>
                    <a:pt x="308" y="98"/>
                    <a:pt x="313" y="103"/>
                    <a:pt x="323" y="113"/>
                  </a:cubicBezTo>
                  <a:cubicBezTo>
                    <a:pt x="381" y="171"/>
                    <a:pt x="592" y="400"/>
                    <a:pt x="682" y="752"/>
                  </a:cubicBezTo>
                  <a:cubicBezTo>
                    <a:pt x="684" y="758"/>
                    <a:pt x="685" y="764"/>
                    <a:pt x="687" y="770"/>
                  </a:cubicBezTo>
                  <a:cubicBezTo>
                    <a:pt x="718" y="744"/>
                    <a:pt x="729" y="734"/>
                    <a:pt x="729" y="734"/>
                  </a:cubicBezTo>
                  <a:cubicBezTo>
                    <a:pt x="729" y="734"/>
                    <a:pt x="712" y="894"/>
                    <a:pt x="610" y="1089"/>
                  </a:cubicBezTo>
                  <a:cubicBezTo>
                    <a:pt x="602" y="1083"/>
                    <a:pt x="408" y="942"/>
                    <a:pt x="376" y="921"/>
                  </a:cubicBezTo>
                  <a:cubicBezTo>
                    <a:pt x="412" y="910"/>
                    <a:pt x="446" y="900"/>
                    <a:pt x="453" y="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bceb6f"/>
                </a:gs>
              </a:gsLst>
              <a:lin ang="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3241440" y="4099320"/>
              <a:ext cx="2644200" cy="437400"/>
            </a:xfrm>
            <a:custGeom>
              <a:avLst/>
              <a:gdLst>
                <a:gd name="textAreaLeft" fmla="*/ 0 w 2644200"/>
                <a:gd name="textAreaRight" fmla="*/ 2644560 w 26442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226" h="203">
                  <a:moveTo>
                    <a:pt x="239" y="88"/>
                  </a:moveTo>
                  <a:cubicBezTo>
                    <a:pt x="603" y="203"/>
                    <a:pt x="978" y="110"/>
                    <a:pt x="992" y="103"/>
                  </a:cubicBezTo>
                  <a:cubicBezTo>
                    <a:pt x="989" y="78"/>
                    <a:pt x="978" y="25"/>
                    <a:pt x="978" y="25"/>
                  </a:cubicBezTo>
                  <a:cubicBezTo>
                    <a:pt x="978" y="25"/>
                    <a:pt x="1182" y="137"/>
                    <a:pt x="1226" y="161"/>
                  </a:cubicBezTo>
                  <a:cubicBezTo>
                    <a:pt x="1226" y="160"/>
                    <a:pt x="1226" y="160"/>
                    <a:pt x="1226" y="160"/>
                  </a:cubicBezTo>
                  <a:cubicBezTo>
                    <a:pt x="963" y="13"/>
                    <a:pt x="963" y="13"/>
                    <a:pt x="963" y="13"/>
                  </a:cubicBezTo>
                  <a:cubicBezTo>
                    <a:pt x="963" y="13"/>
                    <a:pt x="976" y="68"/>
                    <a:pt x="978" y="90"/>
                  </a:cubicBezTo>
                  <a:cubicBezTo>
                    <a:pt x="618" y="182"/>
                    <a:pt x="253" y="79"/>
                    <a:pt x="253" y="79"/>
                  </a:cubicBezTo>
                  <a:cubicBezTo>
                    <a:pt x="267" y="0"/>
                    <a:pt x="267" y="0"/>
                    <a:pt x="267" y="0"/>
                  </a:cubicBezTo>
                  <a:cubicBezTo>
                    <a:pt x="6" y="132"/>
                    <a:pt x="6" y="132"/>
                    <a:pt x="6" y="132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2"/>
                    <a:pt x="254" y="10"/>
                    <a:pt x="239" y="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3187080" y="2092680"/>
              <a:ext cx="1401480" cy="2300040"/>
            </a:xfrm>
            <a:custGeom>
              <a:avLst/>
              <a:gdLst>
                <a:gd name="textAreaLeft" fmla="*/ 0 w 1401480"/>
                <a:gd name="textAreaRight" fmla="*/ 1401840 w 140148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650" h="1066">
                  <a:moveTo>
                    <a:pt x="649" y="0"/>
                  </a:moveTo>
                  <a:cubicBezTo>
                    <a:pt x="624" y="279"/>
                    <a:pt x="624" y="279"/>
                    <a:pt x="624" y="279"/>
                  </a:cubicBezTo>
                  <a:cubicBezTo>
                    <a:pt x="606" y="262"/>
                    <a:pt x="588" y="243"/>
                    <a:pt x="564" y="223"/>
                  </a:cubicBezTo>
                  <a:cubicBezTo>
                    <a:pt x="254" y="519"/>
                    <a:pt x="167" y="866"/>
                    <a:pt x="164" y="879"/>
                  </a:cubicBezTo>
                  <a:cubicBezTo>
                    <a:pt x="171" y="883"/>
                    <a:pt x="204" y="894"/>
                    <a:pt x="240" y="907"/>
                  </a:cubicBezTo>
                  <a:cubicBezTo>
                    <a:pt x="207" y="926"/>
                    <a:pt x="8" y="1060"/>
                    <a:pt x="0" y="1066"/>
                  </a:cubicBezTo>
                  <a:cubicBezTo>
                    <a:pt x="256" y="902"/>
                    <a:pt x="256" y="902"/>
                    <a:pt x="256" y="902"/>
                  </a:cubicBezTo>
                  <a:cubicBezTo>
                    <a:pt x="256" y="902"/>
                    <a:pt x="213" y="886"/>
                    <a:pt x="182" y="875"/>
                  </a:cubicBezTo>
                  <a:cubicBezTo>
                    <a:pt x="285" y="485"/>
                    <a:pt x="567" y="240"/>
                    <a:pt x="567" y="240"/>
                  </a:cubicBezTo>
                  <a:cubicBezTo>
                    <a:pt x="625" y="295"/>
                    <a:pt x="625" y="295"/>
                    <a:pt x="625" y="295"/>
                  </a:cubicBezTo>
                  <a:cubicBezTo>
                    <a:pt x="650" y="19"/>
                    <a:pt x="650" y="19"/>
                    <a:pt x="650" y="19"/>
                  </a:cubicBezTo>
                  <a:lnTo>
                    <a:pt x="649" y="0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>
              <a:off x="3790800" y="2246040"/>
              <a:ext cx="124920" cy="648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8" h="30">
                  <a:moveTo>
                    <a:pt x="0" y="0"/>
                  </a:moveTo>
                  <a:cubicBezTo>
                    <a:pt x="11" y="22"/>
                    <a:pt x="11" y="22"/>
                    <a:pt x="11" y="22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53" y="21"/>
                    <a:pt x="58" y="16"/>
                    <a:pt x="58" y="1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e1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>
              <a:off x="2959200" y="3618000"/>
              <a:ext cx="98280" cy="79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37">
                  <a:moveTo>
                    <a:pt x="46" y="2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1" y="11"/>
                    <a:pt x="41" y="37"/>
                  </a:cubicBezTo>
                  <a:cubicBezTo>
                    <a:pt x="43" y="31"/>
                    <a:pt x="45" y="26"/>
                    <a:pt x="46" y="20"/>
                  </a:cubicBezTo>
                  <a:close/>
                </a:path>
              </a:pathLst>
            </a:custGeom>
            <a:solidFill>
              <a:srgbClr val="be1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>
              <a:off x="4632120" y="2090880"/>
              <a:ext cx="1318320" cy="2349360"/>
            </a:xfrm>
            <a:custGeom>
              <a:avLst/>
              <a:gdLst>
                <a:gd name="textAreaLeft" fmla="*/ 0 w 1318320"/>
                <a:gd name="textAreaRight" fmla="*/ 1318680 w 1318320"/>
                <a:gd name="textAreaTop" fmla="*/ 0 h 2349360"/>
                <a:gd name="textAreaBottom" fmla="*/ 2349720 h 2349360"/>
              </a:gdLst>
              <a:ahLst/>
              <a:rect l="textAreaLeft" t="textAreaTop" r="textAreaRight" b="textAreaBottom"/>
              <a:pathLst>
                <a:path w="611" h="1089">
                  <a:moveTo>
                    <a:pt x="1" y="0"/>
                  </a:moveTo>
                  <a:cubicBezTo>
                    <a:pt x="16" y="280"/>
                    <a:pt x="16" y="280"/>
                    <a:pt x="16" y="280"/>
                  </a:cubicBezTo>
                  <a:cubicBezTo>
                    <a:pt x="35" y="263"/>
                    <a:pt x="53" y="245"/>
                    <a:pt x="78" y="226"/>
                  </a:cubicBezTo>
                  <a:cubicBezTo>
                    <a:pt x="377" y="533"/>
                    <a:pt x="451" y="883"/>
                    <a:pt x="454" y="896"/>
                  </a:cubicBezTo>
                  <a:cubicBezTo>
                    <a:pt x="447" y="900"/>
                    <a:pt x="413" y="910"/>
                    <a:pt x="377" y="921"/>
                  </a:cubicBezTo>
                  <a:cubicBezTo>
                    <a:pt x="409" y="942"/>
                    <a:pt x="603" y="1083"/>
                    <a:pt x="611" y="1089"/>
                  </a:cubicBezTo>
                  <a:cubicBezTo>
                    <a:pt x="361" y="916"/>
                    <a:pt x="361" y="916"/>
                    <a:pt x="361" y="916"/>
                  </a:cubicBezTo>
                  <a:cubicBezTo>
                    <a:pt x="361" y="916"/>
                    <a:pt x="404" y="901"/>
                    <a:pt x="436" y="891"/>
                  </a:cubicBezTo>
                  <a:cubicBezTo>
                    <a:pt x="347" y="498"/>
                    <a:pt x="74" y="243"/>
                    <a:pt x="74" y="243"/>
                  </a:cubicBezTo>
                  <a:cubicBezTo>
                    <a:pt x="14" y="295"/>
                    <a:pt x="14" y="295"/>
                    <a:pt x="14" y="295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bceb6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5298480" y="2271600"/>
              <a:ext cx="127440" cy="626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59" h="29">
                  <a:moveTo>
                    <a:pt x="59" y="0"/>
                  </a:moveTo>
                  <a:cubicBezTo>
                    <a:pt x="47" y="22"/>
                    <a:pt x="47" y="22"/>
                    <a:pt x="47" y="22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5" y="19"/>
                    <a:pt x="0" y="14"/>
                    <a:pt x="0" y="14"/>
                  </a:cubicBezTo>
                  <a:lnTo>
                    <a:pt x="59" y="0"/>
                  </a:lnTo>
                  <a:close/>
                </a:path>
              </a:pathLst>
            </a:custGeom>
            <a:solidFill>
              <a:srgbClr val="119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105960" y="3672000"/>
              <a:ext cx="101160" cy="792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37">
                  <a:moveTo>
                    <a:pt x="0" y="19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47" y="1"/>
                    <a:pt x="47" y="1"/>
                    <a:pt x="47" y="1"/>
                  </a:cubicBezTo>
                  <a:cubicBezTo>
                    <a:pt x="47" y="1"/>
                    <a:pt x="36" y="11"/>
                    <a:pt x="5" y="37"/>
                  </a:cubicBezTo>
                  <a:cubicBezTo>
                    <a:pt x="3" y="31"/>
                    <a:pt x="2" y="25"/>
                    <a:pt x="0" y="19"/>
                  </a:cubicBezTo>
                  <a:close/>
                </a:path>
              </a:pathLst>
            </a:custGeom>
            <a:solidFill>
              <a:srgbClr val="119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7"/>
            <p:cNvSpPr/>
            <p:nvPr/>
          </p:nvSpPr>
          <p:spPr>
            <a:xfrm>
              <a:off x="4800960" y="2565000"/>
              <a:ext cx="810720" cy="144576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1445760"/>
                <a:gd name="textAreaBottom" fmla="*/ 1445760 h 1445760"/>
              </a:gdLst>
              <a:ahLst/>
              <a:rect l="textAreaLeft" t="textAreaTop" r="textAreaRight" b="textAreaBottom"/>
              <a:pathLst>
                <a:path w="376" h="670">
                  <a:moveTo>
                    <a:pt x="0" y="0"/>
                  </a:moveTo>
                  <a:cubicBezTo>
                    <a:pt x="0" y="0"/>
                    <a:pt x="265" y="205"/>
                    <a:pt x="376" y="670"/>
                  </a:cubicBezTo>
                  <a:cubicBezTo>
                    <a:pt x="350" y="522"/>
                    <a:pt x="283" y="26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8"/>
            <p:cNvSpPr/>
            <p:nvPr/>
          </p:nvSpPr>
          <p:spPr>
            <a:xfrm>
              <a:off x="3855600" y="4342320"/>
              <a:ext cx="1501200" cy="27000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696" h="125">
                  <a:moveTo>
                    <a:pt x="696" y="12"/>
                  </a:moveTo>
                  <a:cubicBezTo>
                    <a:pt x="696" y="12"/>
                    <a:pt x="415" y="125"/>
                    <a:pt x="0" y="0"/>
                  </a:cubicBezTo>
                  <a:cubicBezTo>
                    <a:pt x="127" y="47"/>
                    <a:pt x="393" y="120"/>
                    <a:pt x="69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9"/>
            <p:cNvSpPr/>
            <p:nvPr/>
          </p:nvSpPr>
          <p:spPr>
            <a:xfrm>
              <a:off x="3519720" y="2580480"/>
              <a:ext cx="858240" cy="1414800"/>
            </a:xfrm>
            <a:custGeom>
              <a:avLst/>
              <a:gdLst>
                <a:gd name="textAreaLeft" fmla="*/ 0 w 858240"/>
                <a:gd name="textAreaRight" fmla="*/ 858600 w 858240"/>
                <a:gd name="textAreaTop" fmla="*/ 0 h 1414800"/>
                <a:gd name="textAreaBottom" fmla="*/ 1415160 h 1414800"/>
              </a:gdLst>
              <a:ahLst/>
              <a:rect l="textAreaLeft" t="textAreaTop" r="textAreaRight" b="textAreaBottom"/>
              <a:pathLst>
                <a:path w="398" h="656">
                  <a:moveTo>
                    <a:pt x="398" y="0"/>
                  </a:moveTo>
                  <a:cubicBezTo>
                    <a:pt x="398" y="0"/>
                    <a:pt x="127" y="196"/>
                    <a:pt x="0" y="656"/>
                  </a:cubicBezTo>
                  <a:cubicBezTo>
                    <a:pt x="30" y="510"/>
                    <a:pt x="106" y="253"/>
                    <a:pt x="3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909"/>
          <p:cNvSpPr/>
          <p:nvPr/>
        </p:nvSpPr>
        <p:spPr>
          <a:xfrm rot="18000000">
            <a:off x="3079800" y="3729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09"/>
          <p:cNvSpPr/>
          <p:nvPr/>
        </p:nvSpPr>
        <p:spPr>
          <a:xfrm rot="18763200">
            <a:off x="4031280" y="2130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09"/>
          <p:cNvSpPr/>
          <p:nvPr/>
        </p:nvSpPr>
        <p:spPr>
          <a:xfrm rot="2700000">
            <a:off x="4808520" y="216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09"/>
          <p:cNvSpPr/>
          <p:nvPr/>
        </p:nvSpPr>
        <p:spPr>
          <a:xfrm rot="4500000">
            <a:off x="5773680" y="3824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09"/>
          <p:cNvSpPr/>
          <p:nvPr/>
        </p:nvSpPr>
        <p:spPr>
          <a:xfrm>
            <a:off x="3506400" y="436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09"/>
          <p:cNvSpPr/>
          <p:nvPr/>
        </p:nvSpPr>
        <p:spPr>
          <a:xfrm>
            <a:off x="5304240" y="436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 flipH="1">
            <a:off x="2959200" y="9810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 flipH="1">
            <a:off x="2959200" y="133020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 flipH="1">
            <a:off x="2959200" y="155592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 flipH="1">
            <a:off x="4788720" y="9907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 flipH="1">
            <a:off x="4799880" y="133992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 flipH="1">
            <a:off x="4799880" y="156528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1"/>
          <p:cNvSpPr/>
          <p:nvPr/>
        </p:nvSpPr>
        <p:spPr>
          <a:xfrm flipH="1">
            <a:off x="1475640" y="33703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 flipH="1">
            <a:off x="1485360" y="37195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 flipH="1">
            <a:off x="1485360" y="394488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 flipH="1">
            <a:off x="1475640" y="4506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 flipH="1">
            <a:off x="1485360" y="485604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 flipH="1">
            <a:off x="1485360" y="508176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 flipH="1">
            <a:off x="6241320" y="3349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 flipH="1">
            <a:off x="6241320" y="369900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1"/>
          <p:cNvSpPr/>
          <p:nvPr/>
        </p:nvSpPr>
        <p:spPr>
          <a:xfrm flipH="1">
            <a:off x="6241320" y="392436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 flipH="1">
            <a:off x="6241320" y="4506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 flipH="1">
            <a:off x="6241320" y="485604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 flipH="1">
            <a:off x="6241320" y="508176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36"/>
          <p:cNvGrpSpPr/>
          <p:nvPr/>
        </p:nvGrpSpPr>
        <p:grpSpPr>
          <a:xfrm>
            <a:off x="4970520" y="2212920"/>
            <a:ext cx="3058920" cy="3060720"/>
            <a:chOff x="4970520" y="2212920"/>
            <a:chExt cx="3058920" cy="3060720"/>
          </a:xfrm>
        </p:grpSpPr>
        <p:sp>
          <p:nvSpPr>
            <p:cNvPr id="254" name="饼形 2"/>
            <p:cNvSpPr/>
            <p:nvPr/>
          </p:nvSpPr>
          <p:spPr>
            <a:xfrm>
              <a:off x="5183640" y="2382840"/>
              <a:ext cx="1599480" cy="1290240"/>
            </a:xfrm>
            <a:custGeom>
              <a:avLst/>
              <a:gdLst>
                <a:gd name="textAreaLeft" fmla="*/ 0 w 1599480"/>
                <a:gd name="textAreaRight" fmla="*/ 1599840 w 159948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2033158" h="1639048">
                  <a:moveTo>
                    <a:pt x="1659703" y="0"/>
                  </a:moveTo>
                  <a:lnTo>
                    <a:pt x="2033158" y="819526"/>
                  </a:lnTo>
                  <a:lnTo>
                    <a:pt x="1940376" y="1023130"/>
                  </a:lnTo>
                  <a:cubicBezTo>
                    <a:pt x="1857866" y="989406"/>
                    <a:pt x="1767512" y="972108"/>
                    <a:pt x="1673118" y="972108"/>
                  </a:cubicBezTo>
                  <a:cubicBezTo>
                    <a:pt x="1395838" y="972108"/>
                    <a:pt x="1153419" y="1121368"/>
                    <a:pt x="1024443" y="1345472"/>
                  </a:cubicBezTo>
                  <a:lnTo>
                    <a:pt x="851624" y="1266719"/>
                  </a:lnTo>
                  <a:lnTo>
                    <a:pt x="34569" y="1639048"/>
                  </a:lnTo>
                  <a:lnTo>
                    <a:pt x="0" y="1638605"/>
                  </a:lnTo>
                  <a:cubicBezTo>
                    <a:pt x="11621" y="730257"/>
                    <a:pt x="751281" y="0"/>
                    <a:pt x="165970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fa9496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同心圆 38"/>
            <p:cNvSpPr/>
            <p:nvPr/>
          </p:nvSpPr>
          <p:spPr>
            <a:xfrm>
              <a:off x="4970520" y="2212920"/>
              <a:ext cx="3058920" cy="3060720"/>
            </a:xfrm>
            <a:custGeom>
              <a:avLst/>
              <a:gdLst>
                <a:gd name="textAreaLeft" fmla="*/ 447840 w 3058920"/>
                <a:gd name="textAreaRight" fmla="*/ 2611080 w 3058920"/>
                <a:gd name="textAreaTop" fmla="*/ 448200 h 3060720"/>
                <a:gd name="textAreaBottom" fmla="*/ 2612520 h 30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869" y="10800"/>
                  </a:moveTo>
                  <a:cubicBezTo>
                    <a:pt x="869" y="16285"/>
                    <a:pt x="5315" y="20731"/>
                    <a:pt x="10800" y="20731"/>
                  </a:cubicBezTo>
                  <a:cubicBezTo>
                    <a:pt x="16285" y="20731"/>
                    <a:pt x="20731" y="16285"/>
                    <a:pt x="20731" y="10800"/>
                  </a:cubicBezTo>
                  <a:cubicBezTo>
                    <a:pt x="20731" y="5315"/>
                    <a:pt x="16285" y="869"/>
                    <a:pt x="10800" y="869"/>
                  </a:cubicBezTo>
                  <a:cubicBezTo>
                    <a:pt x="5315" y="869"/>
                    <a:pt x="869" y="5315"/>
                    <a:pt x="869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饼形 2"/>
            <p:cNvSpPr/>
            <p:nvPr/>
          </p:nvSpPr>
          <p:spPr>
            <a:xfrm rot="5400000">
              <a:off x="6372000" y="2519280"/>
              <a:ext cx="1600200" cy="12895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289520"/>
                <a:gd name="textAreaBottom" fmla="*/ 1289880 h 1289520"/>
              </a:gdLst>
              <a:ahLst/>
              <a:rect l="textAreaLeft" t="textAreaTop" r="textAreaRight" b="textAreaBottom"/>
              <a:pathLst>
                <a:path w="2033158" h="1639048">
                  <a:moveTo>
                    <a:pt x="0" y="1638605"/>
                  </a:moveTo>
                  <a:cubicBezTo>
                    <a:pt x="11621" y="730258"/>
                    <a:pt x="751281" y="0"/>
                    <a:pt x="1659703" y="0"/>
                  </a:cubicBezTo>
                  <a:lnTo>
                    <a:pt x="2033158" y="819526"/>
                  </a:lnTo>
                  <a:lnTo>
                    <a:pt x="1971723" y="954341"/>
                  </a:lnTo>
                  <a:cubicBezTo>
                    <a:pt x="1902932" y="929518"/>
                    <a:pt x="1828776" y="918057"/>
                    <a:pt x="1751942" y="918057"/>
                  </a:cubicBezTo>
                  <a:cubicBezTo>
                    <a:pt x="1445318" y="918057"/>
                    <a:pt x="1181325" y="1100580"/>
                    <a:pt x="1064116" y="1363551"/>
                  </a:cubicBezTo>
                  <a:lnTo>
                    <a:pt x="851624" y="1266719"/>
                  </a:lnTo>
                  <a:lnTo>
                    <a:pt x="34569" y="1639048"/>
                  </a:lnTo>
                  <a:lnTo>
                    <a:pt x="0" y="1638605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饼形 2"/>
            <p:cNvSpPr/>
            <p:nvPr/>
          </p:nvSpPr>
          <p:spPr>
            <a:xfrm rot="10800000">
              <a:off x="6226560" y="3707640"/>
              <a:ext cx="1599480" cy="1290240"/>
            </a:xfrm>
            <a:custGeom>
              <a:avLst/>
              <a:gdLst>
                <a:gd name="textAreaLeft" fmla="*/ 0 w 1599480"/>
                <a:gd name="textAreaRight" fmla="*/ 1599840 w 1599480"/>
                <a:gd name="textAreaTop" fmla="*/ 0 h 1290240"/>
                <a:gd name="textAreaBottom" fmla="*/ 1290600 h 1290240"/>
              </a:gdLst>
              <a:ahLst/>
              <a:rect l="textAreaLeft" t="textAreaTop" r="textAreaRight" b="textAreaBottom"/>
              <a:pathLst>
                <a:path w="2033158" h="1639048">
                  <a:moveTo>
                    <a:pt x="34569" y="1639048"/>
                  </a:moveTo>
                  <a:lnTo>
                    <a:pt x="0" y="1638605"/>
                  </a:lnTo>
                  <a:cubicBezTo>
                    <a:pt x="11621" y="730257"/>
                    <a:pt x="751281" y="0"/>
                    <a:pt x="1659703" y="0"/>
                  </a:cubicBezTo>
                  <a:lnTo>
                    <a:pt x="2033158" y="819526"/>
                  </a:lnTo>
                  <a:lnTo>
                    <a:pt x="1994373" y="904638"/>
                  </a:lnTo>
                  <a:cubicBezTo>
                    <a:pt x="1900621" y="861104"/>
                    <a:pt x="1796064" y="837593"/>
                    <a:pt x="1686016" y="837593"/>
                  </a:cubicBezTo>
                  <a:cubicBezTo>
                    <a:pt x="1363084" y="837593"/>
                    <a:pt x="1087438" y="1040047"/>
                    <a:pt x="981162" y="1325749"/>
                  </a:cubicBezTo>
                  <a:lnTo>
                    <a:pt x="851624" y="1266719"/>
                  </a:lnTo>
                  <a:lnTo>
                    <a:pt x="34569" y="1639048"/>
                  </a:ln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bceb6f"/>
                </a:gs>
              </a:gsLst>
              <a:lin ang="162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饼形 2"/>
            <p:cNvSpPr/>
            <p:nvPr/>
          </p:nvSpPr>
          <p:spPr>
            <a:xfrm rot="16200000">
              <a:off x="5046840" y="3584160"/>
              <a:ext cx="1600200" cy="12895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289520"/>
                <a:gd name="textAreaBottom" fmla="*/ 1289880 h 1289520"/>
              </a:gdLst>
              <a:ahLst/>
              <a:rect l="textAreaLeft" t="textAreaTop" r="textAreaRight" b="textAreaBottom"/>
              <a:pathLst>
                <a:path w="2033158" h="1639048">
                  <a:moveTo>
                    <a:pt x="2033158" y="819526"/>
                  </a:moveTo>
                  <a:lnTo>
                    <a:pt x="1963824" y="971676"/>
                  </a:lnTo>
                  <a:cubicBezTo>
                    <a:pt x="1865212" y="920549"/>
                    <a:pt x="1753071" y="893284"/>
                    <a:pt x="1634562" y="893284"/>
                  </a:cubicBezTo>
                  <a:cubicBezTo>
                    <a:pt x="1337264" y="893284"/>
                    <a:pt x="1080043" y="1064873"/>
                    <a:pt x="959232" y="1315755"/>
                  </a:cubicBezTo>
                  <a:lnTo>
                    <a:pt x="851624" y="1266719"/>
                  </a:lnTo>
                  <a:lnTo>
                    <a:pt x="34569" y="1639048"/>
                  </a:lnTo>
                  <a:lnTo>
                    <a:pt x="0" y="1638605"/>
                  </a:lnTo>
                  <a:cubicBezTo>
                    <a:pt x="11621" y="730257"/>
                    <a:pt x="751281" y="0"/>
                    <a:pt x="1659703" y="0"/>
                  </a:cubicBezTo>
                  <a:lnTo>
                    <a:pt x="2033158" y="819526"/>
                  </a:lnTo>
                  <a:close/>
                </a:path>
              </a:pathLst>
            </a:custGeom>
            <a:gradFill rotWithShape="0">
              <a:gsLst>
                <a:gs pos="0">
                  <a:srgbClr val="00668b"/>
                </a:gs>
                <a:gs pos="100000">
                  <a:srgbClr val="00b0f0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42"/>
          <p:cNvGrpSpPr/>
          <p:nvPr/>
        </p:nvGrpSpPr>
        <p:grpSpPr>
          <a:xfrm>
            <a:off x="3962160" y="1577880"/>
            <a:ext cx="2768760" cy="3382920"/>
            <a:chOff x="3962160" y="1577880"/>
            <a:chExt cx="2768760" cy="3382920"/>
          </a:xfrm>
        </p:grpSpPr>
        <p:sp>
          <p:nvSpPr>
            <p:cNvPr id="260" name="任意多边形 43"/>
            <p:cNvSpPr/>
            <p:nvPr/>
          </p:nvSpPr>
          <p:spPr>
            <a:xfrm>
              <a:off x="3962520" y="1577880"/>
              <a:ext cx="2768400" cy="712440"/>
            </a:xfrm>
            <a:custGeom>
              <a:avLst/>
              <a:gdLst>
                <a:gd name="textAreaLeft" fmla="*/ 0 w 2768400"/>
                <a:gd name="textAreaRight" fmla="*/ 2768760 w 276840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111335" h="712520">
                  <a:moveTo>
                    <a:pt x="3111335" y="712520"/>
                  </a:moveTo>
                  <a:lnTo>
                    <a:pt x="2256312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c73e01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44"/>
            <p:cNvSpPr/>
            <p:nvPr/>
          </p:nvSpPr>
          <p:spPr>
            <a:xfrm>
              <a:off x="3962520" y="2383200"/>
              <a:ext cx="1809720" cy="46296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291937" h="463137">
                  <a:moveTo>
                    <a:pt x="2291937" y="463137"/>
                  </a:moveTo>
                  <a:lnTo>
                    <a:pt x="1591293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be1247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45"/>
            <p:cNvSpPr/>
            <p:nvPr/>
          </p:nvSpPr>
          <p:spPr>
            <a:xfrm flipH="1">
              <a:off x="3962160" y="4024800"/>
              <a:ext cx="1384200" cy="0"/>
            </a:xfrm>
            <a:prstGeom prst="line">
              <a:avLst/>
            </a:prstGeom>
            <a:ln w="25560">
              <a:solidFill>
                <a:srgbClr val="006a96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46"/>
            <p:cNvSpPr/>
            <p:nvPr/>
          </p:nvSpPr>
          <p:spPr>
            <a:xfrm flipH="1">
              <a:off x="3962160" y="4960800"/>
              <a:ext cx="1809720" cy="0"/>
            </a:xfrm>
            <a:prstGeom prst="line">
              <a:avLst/>
            </a:prstGeom>
            <a:ln w="25560">
              <a:solidFill>
                <a:srgbClr val="119707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直接连接符 47"/>
          <p:cNvSpPr/>
          <p:nvPr/>
        </p:nvSpPr>
        <p:spPr>
          <a:xfrm>
            <a:off x="3851280" y="1255680"/>
            <a:ext cx="1440" cy="646200"/>
          </a:xfrm>
          <a:prstGeom prst="line">
            <a:avLst/>
          </a:prstGeom>
          <a:ln w="9360">
            <a:solidFill>
              <a:srgbClr val="c73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8"/>
          <p:cNvSpPr/>
          <p:nvPr/>
        </p:nvSpPr>
        <p:spPr>
          <a:xfrm>
            <a:off x="3851280" y="2065320"/>
            <a:ext cx="1440" cy="646200"/>
          </a:xfrm>
          <a:prstGeom prst="line">
            <a:avLst/>
          </a:prstGeom>
          <a:ln w="9360">
            <a:solidFill>
              <a:srgbClr val="be12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9"/>
          <p:cNvSpPr/>
          <p:nvPr/>
        </p:nvSpPr>
        <p:spPr>
          <a:xfrm>
            <a:off x="3851280" y="3670200"/>
            <a:ext cx="1440" cy="647640"/>
          </a:xfrm>
          <a:prstGeom prst="line">
            <a:avLst/>
          </a:prstGeom>
          <a:ln w="9360">
            <a:solidFill>
              <a:srgbClr val="006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50"/>
          <p:cNvSpPr/>
          <p:nvPr/>
        </p:nvSpPr>
        <p:spPr>
          <a:xfrm>
            <a:off x="3851280" y="4633920"/>
            <a:ext cx="1440" cy="646200"/>
          </a:xfrm>
          <a:prstGeom prst="line">
            <a:avLst/>
          </a:prstGeom>
          <a:ln w="9360">
            <a:solidFill>
              <a:srgbClr val="119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"/>
          <p:cNvSpPr/>
          <p:nvPr/>
        </p:nvSpPr>
        <p:spPr>
          <a:xfrm flipH="1">
            <a:off x="2064600" y="1216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2"/>
          <p:cNvSpPr/>
          <p:nvPr/>
        </p:nvSpPr>
        <p:spPr>
          <a:xfrm>
            <a:off x="324000" y="1527120"/>
            <a:ext cx="3527280" cy="16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3"/>
          <p:cNvSpPr/>
          <p:nvPr/>
        </p:nvSpPr>
        <p:spPr>
          <a:xfrm>
            <a:off x="1908000" y="1738440"/>
            <a:ext cx="1943280" cy="160200"/>
          </a:xfrm>
          <a:prstGeom prst="rect">
            <a:avLst/>
          </a:prstGeom>
          <a:solidFill>
            <a:srgbClr val="c73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"/>
          <p:cNvSpPr/>
          <p:nvPr/>
        </p:nvSpPr>
        <p:spPr>
          <a:xfrm flipH="1">
            <a:off x="2064600" y="199692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5"/>
          <p:cNvSpPr/>
          <p:nvPr/>
        </p:nvSpPr>
        <p:spPr>
          <a:xfrm>
            <a:off x="1332000" y="2306520"/>
            <a:ext cx="2519280" cy="162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6"/>
          <p:cNvSpPr/>
          <p:nvPr/>
        </p:nvSpPr>
        <p:spPr>
          <a:xfrm>
            <a:off x="1476360" y="2517840"/>
            <a:ext cx="2374920" cy="16200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 flipH="1">
            <a:off x="2064600" y="36082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58"/>
          <p:cNvSpPr/>
          <p:nvPr/>
        </p:nvSpPr>
        <p:spPr>
          <a:xfrm>
            <a:off x="2959200" y="3917880"/>
            <a:ext cx="892080" cy="16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9"/>
          <p:cNvSpPr/>
          <p:nvPr/>
        </p:nvSpPr>
        <p:spPr>
          <a:xfrm>
            <a:off x="1908000" y="4129200"/>
            <a:ext cx="1943280" cy="160200"/>
          </a:xfrm>
          <a:prstGeom prst="rect">
            <a:avLst/>
          </a:prstGeom>
          <a:solidFill>
            <a:srgbClr val="006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 flipH="1">
            <a:off x="2064600" y="4591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61"/>
          <p:cNvSpPr/>
          <p:nvPr/>
        </p:nvSpPr>
        <p:spPr>
          <a:xfrm>
            <a:off x="2087640" y="4900680"/>
            <a:ext cx="1763640" cy="160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62"/>
          <p:cNvSpPr/>
          <p:nvPr/>
        </p:nvSpPr>
        <p:spPr>
          <a:xfrm>
            <a:off x="2266920" y="5111640"/>
            <a:ext cx="1584360" cy="162000"/>
          </a:xfrm>
          <a:prstGeom prst="rect">
            <a:avLst/>
          </a:prstGeom>
          <a:solidFill>
            <a:srgbClr val="119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3"/>
          <p:cNvSpPr/>
          <p:nvPr/>
        </p:nvSpPr>
        <p:spPr>
          <a:xfrm>
            <a:off x="293760" y="1422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5,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4"/>
          <p:cNvSpPr/>
          <p:nvPr/>
        </p:nvSpPr>
        <p:spPr>
          <a:xfrm>
            <a:off x="1833840" y="1638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5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5"/>
          <p:cNvSpPr/>
          <p:nvPr/>
        </p:nvSpPr>
        <p:spPr>
          <a:xfrm>
            <a:off x="1238760" y="2200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5,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6"/>
          <p:cNvSpPr/>
          <p:nvPr/>
        </p:nvSpPr>
        <p:spPr>
          <a:xfrm>
            <a:off x="1446120" y="241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,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7"/>
          <p:cNvSpPr/>
          <p:nvPr/>
        </p:nvSpPr>
        <p:spPr>
          <a:xfrm>
            <a:off x="2883240" y="3809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8"/>
          <p:cNvSpPr/>
          <p:nvPr/>
        </p:nvSpPr>
        <p:spPr>
          <a:xfrm>
            <a:off x="1862640" y="40370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4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9"/>
          <p:cNvSpPr/>
          <p:nvPr/>
        </p:nvSpPr>
        <p:spPr>
          <a:xfrm>
            <a:off x="1989360" y="4788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,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0"/>
          <p:cNvSpPr/>
          <p:nvPr/>
        </p:nvSpPr>
        <p:spPr>
          <a:xfrm>
            <a:off x="2197440" y="5003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2,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72"/>
          <p:cNvSpPr/>
          <p:nvPr/>
        </p:nvSpPr>
        <p:spPr>
          <a:xfrm>
            <a:off x="3765600" y="5013360"/>
            <a:ext cx="5630760" cy="995400"/>
          </a:xfrm>
          <a:prstGeom prst="ellipse">
            <a:avLst/>
          </a:prstGeom>
          <a:gradFill rotWithShape="0">
            <a:gsLst>
              <a:gs pos="0">
                <a:srgbClr val="1111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4"/>
          <p:cNvSpPr/>
          <p:nvPr/>
        </p:nvSpPr>
        <p:spPr>
          <a:xfrm>
            <a:off x="1692360" y="595008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>http://www.1ppt.com</dc:description>
  <cp:keywords>第一PPT www.1ppt.com</cp:keywords>
  <dc:language>en-US</dc:language>
  <cp:lastModifiedBy>a</cp:lastModifiedBy>
  <dcterms:modified xsi:type="dcterms:W3CDTF">2015-07-20T11:33:47Z</dcterms:modified>
  <cp:revision>1047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