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4CDE-089F-463B-B6D1-26BFF46A8B59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A356-344E-462D-8FD0-0B0346A3AB92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2053015200" y="0"/>
            <a:ext cx="0" cy="2147484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素材天下网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aitianxia.com-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2147484240" y="2147484240"/>
            <a:ext cx="353880" cy="26532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综合教务管理信息系统三年建设计划第三年：基础数据维护；排课系统维护；选课系统维护；综合审查模块测试应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21AF-CB31-477C-B52D-75A141D1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7776-5540-49F4-9248-862057AD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59B9-B7AC-4FF8-9A3D-2DA1465F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F135-FACA-44BE-B4A5-A96EEBA81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A2C0-9E40-45DC-8D30-8F3173A7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F3E6-D01C-4F83-8FCD-1C0E9562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7D5F-6CC1-481F-8CE6-6070730A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ED5F-F9FC-4290-9A43-70AA64BD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0F6C-3080-4F1D-9172-9784EDCF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4E14-9617-4543-98CB-44170445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E710-64DC-4860-A263-63101871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0791-235B-4D0B-BC59-8BF9A7A6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18C1-AC9E-4722-AC64-06EBF345989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ED8B-2F7F-43E5-9962-CB509A407A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3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3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4.png"/><Relationship Id="rId9" Type="http://schemas.openxmlformats.org/officeDocument/2006/relationships/image" Target="../media/image2.png"/><Relationship Id="rId10" Type="http://schemas.openxmlformats.org/officeDocument/2006/relationships/image" Target="../media/image5.png"/><Relationship Id="rId11" Type="http://schemas.openxmlformats.org/officeDocument/2006/relationships/image" Target="../media/image3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任意多边形 3"/>
          <p:cNvSpPr/>
          <p:nvPr/>
        </p:nvSpPr>
        <p:spPr>
          <a:xfrm>
            <a:off x="5284800" y="623880"/>
            <a:ext cx="1776240" cy="1762200"/>
          </a:xfrm>
          <a:custGeom>
            <a:avLst/>
            <a:gdLst>
              <a:gd name="textAreaLeft" fmla="*/ 0 w 1776240"/>
              <a:gd name="textAreaRight" fmla="*/ 1776600 w 1776240"/>
              <a:gd name="textAreaTop" fmla="*/ 0 h 1762200"/>
              <a:gd name="textAreaBottom" fmla="*/ 1762560 h 1762200"/>
            </a:gdLst>
            <a:ahLst/>
            <a:rect l="textAreaLeft" t="textAreaTop" r="textAreaRight" b="textAreaBottom"/>
            <a:pathLst>
              <a:path w="1811218" h="1931525">
                <a:moveTo>
                  <a:pt x="1294486" y="1931525"/>
                </a:moveTo>
                <a:cubicBezTo>
                  <a:pt x="950395" y="1752931"/>
                  <a:pt x="606303" y="1629106"/>
                  <a:pt x="394372" y="1317162"/>
                </a:cubicBezTo>
                <a:cubicBezTo>
                  <a:pt x="182441" y="1005218"/>
                  <a:pt x="-79496" y="221788"/>
                  <a:pt x="22898" y="59863"/>
                </a:cubicBezTo>
                <a:cubicBezTo>
                  <a:pt x="125292" y="-102062"/>
                  <a:pt x="737274" y="88438"/>
                  <a:pt x="1008736" y="345613"/>
                </a:cubicBezTo>
                <a:cubicBezTo>
                  <a:pt x="1280198" y="602788"/>
                  <a:pt x="1517926" y="1373915"/>
                  <a:pt x="1651673" y="1602912"/>
                </a:cubicBezTo>
                <a:cubicBezTo>
                  <a:pt x="1785420" y="1831909"/>
                  <a:pt x="1777980" y="1695285"/>
                  <a:pt x="1811218" y="1719594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任意多边形 4"/>
          <p:cNvSpPr/>
          <p:nvPr/>
        </p:nvSpPr>
        <p:spPr>
          <a:xfrm rot="3911400">
            <a:off x="7246800" y="382680"/>
            <a:ext cx="1470240" cy="2279520"/>
          </a:xfrm>
          <a:custGeom>
            <a:avLst/>
            <a:gdLst>
              <a:gd name="textAreaLeft" fmla="*/ 0 w 1470240"/>
              <a:gd name="textAreaRight" fmla="*/ 1470240 w 1470240"/>
              <a:gd name="textAreaTop" fmla="*/ 0 h 2279520"/>
              <a:gd name="textAreaBottom" fmla="*/ 2279880 h 2279520"/>
            </a:gdLst>
            <a:ahLst/>
            <a:rect l="textAreaLeft" t="textAreaTop" r="textAreaRight" b="textAreaBottom"/>
            <a:pathLst>
              <a:path w="1610626" h="2323282">
                <a:moveTo>
                  <a:pt x="1075796" y="2323282"/>
                </a:moveTo>
                <a:cubicBezTo>
                  <a:pt x="731705" y="2144688"/>
                  <a:pt x="390647" y="1795886"/>
                  <a:pt x="212797" y="1462660"/>
                </a:cubicBezTo>
                <a:cubicBezTo>
                  <a:pt x="34947" y="1129434"/>
                  <a:pt x="-24268" y="563426"/>
                  <a:pt x="8694" y="323929"/>
                </a:cubicBezTo>
                <a:cubicBezTo>
                  <a:pt x="41656" y="84432"/>
                  <a:pt x="296093" y="-62093"/>
                  <a:pt x="410567" y="25679"/>
                </a:cubicBezTo>
                <a:cubicBezTo>
                  <a:pt x="525041" y="113451"/>
                  <a:pt x="695459" y="294406"/>
                  <a:pt x="837408" y="475420"/>
                </a:cubicBezTo>
                <a:cubicBezTo>
                  <a:pt x="979357" y="656434"/>
                  <a:pt x="1174158" y="949841"/>
                  <a:pt x="1262264" y="1111766"/>
                </a:cubicBezTo>
                <a:cubicBezTo>
                  <a:pt x="1350370" y="1273691"/>
                  <a:pt x="1493951" y="1614310"/>
                  <a:pt x="1547528" y="1735440"/>
                </a:cubicBezTo>
                <a:cubicBezTo>
                  <a:pt x="1601105" y="1856570"/>
                  <a:pt x="1638497" y="1921892"/>
                  <a:pt x="1583729" y="1838549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任意多边形 5"/>
          <p:cNvSpPr/>
          <p:nvPr/>
        </p:nvSpPr>
        <p:spPr>
          <a:xfrm>
            <a:off x="6215040" y="2376360"/>
            <a:ext cx="331920" cy="236520"/>
          </a:xfrm>
          <a:custGeom>
            <a:avLst/>
            <a:gdLst>
              <a:gd name="textAreaLeft" fmla="*/ 0 w 331920"/>
              <a:gd name="textAreaRight" fmla="*/ 332280 w 33192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338481" h="260327">
                <a:moveTo>
                  <a:pt x="338481" y="17439"/>
                </a:moveTo>
                <a:cubicBezTo>
                  <a:pt x="277759" y="22201"/>
                  <a:pt x="215848" y="-18279"/>
                  <a:pt x="190845" y="10296"/>
                </a:cubicBezTo>
                <a:cubicBezTo>
                  <a:pt x="165842" y="38871"/>
                  <a:pt x="291253" y="98799"/>
                  <a:pt x="259900" y="103164"/>
                </a:cubicBezTo>
                <a:cubicBezTo>
                  <a:pt x="228547" y="107529"/>
                  <a:pt x="31697" y="-27804"/>
                  <a:pt x="2725" y="36489"/>
                </a:cubicBezTo>
                <a:cubicBezTo>
                  <a:pt x="-26247" y="100782"/>
                  <a:pt x="185287" y="165474"/>
                  <a:pt x="186081" y="188889"/>
                </a:cubicBezTo>
                <a:cubicBezTo>
                  <a:pt x="186875" y="212304"/>
                  <a:pt x="11456" y="115069"/>
                  <a:pt x="7488" y="176982"/>
                </a:cubicBezTo>
                <a:cubicBezTo>
                  <a:pt x="3520" y="238895"/>
                  <a:pt x="85672" y="251199"/>
                  <a:pt x="133693" y="260327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任意多边形 6"/>
          <p:cNvSpPr/>
          <p:nvPr/>
        </p:nvSpPr>
        <p:spPr>
          <a:xfrm flipH="1" flipV="1" rot="17590200">
            <a:off x="7731000" y="2378160"/>
            <a:ext cx="193680" cy="322200"/>
          </a:xfrm>
          <a:custGeom>
            <a:avLst/>
            <a:gdLst>
              <a:gd name="textAreaLeft" fmla="*/ 360 w 193680"/>
              <a:gd name="textAreaRight" fmla="*/ 194400 w 193680"/>
              <a:gd name="textAreaTop" fmla="*/ -360 h 322200"/>
              <a:gd name="textAreaBottom" fmla="*/ 322200 h 322200"/>
            </a:gdLst>
            <a:ahLst/>
            <a:rect l="textAreaLeft" t="textAreaTop" r="textAreaRight" b="textAreaBottom"/>
            <a:pathLst>
              <a:path w="212200" h="329521">
                <a:moveTo>
                  <a:pt x="212200" y="46158"/>
                </a:moveTo>
                <a:cubicBezTo>
                  <a:pt x="151478" y="50920"/>
                  <a:pt x="141534" y="-33130"/>
                  <a:pt x="112931" y="14851"/>
                </a:cubicBezTo>
                <a:cubicBezTo>
                  <a:pt x="84328" y="62832"/>
                  <a:pt x="189006" y="150038"/>
                  <a:pt x="170716" y="153991"/>
                </a:cubicBezTo>
                <a:cubicBezTo>
                  <a:pt x="152426" y="157944"/>
                  <a:pt x="31004" y="-21504"/>
                  <a:pt x="3190" y="38568"/>
                </a:cubicBezTo>
                <a:cubicBezTo>
                  <a:pt x="-24624" y="98640"/>
                  <a:pt x="138555" y="219997"/>
                  <a:pt x="139000" y="249319"/>
                </a:cubicBezTo>
                <a:cubicBezTo>
                  <a:pt x="139445" y="278641"/>
                  <a:pt x="9935" y="201131"/>
                  <a:pt x="5858" y="214498"/>
                </a:cubicBezTo>
                <a:cubicBezTo>
                  <a:pt x="1782" y="227865"/>
                  <a:pt x="66520" y="320393"/>
                  <a:pt x="114541" y="329521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任意多边形 8"/>
          <p:cNvSpPr/>
          <p:nvPr/>
        </p:nvSpPr>
        <p:spPr>
          <a:xfrm rot="20869200">
            <a:off x="6094080" y="3262320"/>
            <a:ext cx="603360" cy="262080"/>
          </a:xfrm>
          <a:custGeom>
            <a:avLst/>
            <a:gdLst>
              <a:gd name="textAreaLeft" fmla="*/ 0 w 603360"/>
              <a:gd name="textAreaRight" fmla="*/ 603720 w 603360"/>
              <a:gd name="textAreaTop" fmla="*/ 0 h 262080"/>
              <a:gd name="textAreaBottom" fmla="*/ 262080 h 262080"/>
            </a:gdLst>
            <a:ahLst/>
            <a:rect l="textAreaLeft" t="textAreaTop" r="textAreaRight" b="textAreaBottom"/>
            <a:pathLst>
              <a:path w="614363" h="287220">
                <a:moveTo>
                  <a:pt x="0" y="287220"/>
                </a:moveTo>
                <a:cubicBezTo>
                  <a:pt x="9525" y="155060"/>
                  <a:pt x="82550" y="84020"/>
                  <a:pt x="154781" y="39570"/>
                </a:cubicBezTo>
                <a:cubicBezTo>
                  <a:pt x="227012" y="-4880"/>
                  <a:pt x="356790" y="-12816"/>
                  <a:pt x="433387" y="20521"/>
                </a:cubicBezTo>
                <a:cubicBezTo>
                  <a:pt x="509984" y="53858"/>
                  <a:pt x="579140" y="161609"/>
                  <a:pt x="614363" y="239594"/>
                </a:cubicBezTo>
              </a:path>
            </a:pathLst>
          </a:custGeom>
          <a:noFill/>
          <a:ln w="1015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任意多边形 9"/>
          <p:cNvSpPr/>
          <p:nvPr/>
        </p:nvSpPr>
        <p:spPr>
          <a:xfrm rot="994800">
            <a:off x="7404120" y="3309840"/>
            <a:ext cx="601560" cy="262080"/>
          </a:xfrm>
          <a:custGeom>
            <a:avLst/>
            <a:gdLst>
              <a:gd name="textAreaLeft" fmla="*/ 0 w 601560"/>
              <a:gd name="textAreaRight" fmla="*/ 601920 w 601560"/>
              <a:gd name="textAreaTop" fmla="*/ 0 h 262080"/>
              <a:gd name="textAreaBottom" fmla="*/ 262080 h 262080"/>
            </a:gdLst>
            <a:ahLst/>
            <a:rect l="textAreaLeft" t="textAreaTop" r="textAreaRight" b="textAreaBottom"/>
            <a:pathLst>
              <a:path w="614363" h="287220">
                <a:moveTo>
                  <a:pt x="0" y="287220"/>
                </a:moveTo>
                <a:cubicBezTo>
                  <a:pt x="9525" y="155060"/>
                  <a:pt x="82550" y="84020"/>
                  <a:pt x="154781" y="39570"/>
                </a:cubicBezTo>
                <a:cubicBezTo>
                  <a:pt x="227012" y="-4880"/>
                  <a:pt x="356790" y="-12816"/>
                  <a:pt x="433387" y="20521"/>
                </a:cubicBezTo>
                <a:cubicBezTo>
                  <a:pt x="509984" y="53858"/>
                  <a:pt x="579140" y="161609"/>
                  <a:pt x="614363" y="239594"/>
                </a:cubicBezTo>
              </a:path>
            </a:pathLst>
          </a:custGeom>
          <a:noFill/>
          <a:ln w="1015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10"/>
          <p:cNvSpPr/>
          <p:nvPr/>
        </p:nvSpPr>
        <p:spPr>
          <a:xfrm rot="19276800">
            <a:off x="6098760" y="1150920"/>
            <a:ext cx="284040" cy="1201680"/>
          </a:xfrm>
          <a:custGeom>
            <a:avLst/>
            <a:gdLst>
              <a:gd name="textAreaLeft" fmla="*/ 0 w 284040"/>
              <a:gd name="textAreaRight" fmla="*/ 284400 w 284040"/>
              <a:gd name="textAreaTop" fmla="*/ 0 h 1201680"/>
              <a:gd name="textAreaBottom" fmla="*/ 1202040 h 1201680"/>
            </a:gdLst>
            <a:ahLst/>
            <a:rect l="textAreaLeft" t="textAreaTop" r="textAreaRight" b="textAreaBottom"/>
            <a:pathLst>
              <a:path w="288923" h="1316648">
                <a:moveTo>
                  <a:pt x="92" y="717751"/>
                </a:moveTo>
                <a:cubicBezTo>
                  <a:pt x="4321" y="498350"/>
                  <a:pt x="162647" y="7806"/>
                  <a:pt x="210785" y="129"/>
                </a:cubicBezTo>
                <a:cubicBezTo>
                  <a:pt x="258923" y="-7548"/>
                  <a:pt x="288923" y="329526"/>
                  <a:pt x="288923" y="671689"/>
                </a:cubicBezTo>
                <a:cubicBezTo>
                  <a:pt x="288923" y="1013852"/>
                  <a:pt x="233551" y="1308859"/>
                  <a:pt x="185413" y="1316536"/>
                </a:cubicBezTo>
                <a:cubicBezTo>
                  <a:pt x="137275" y="1324213"/>
                  <a:pt x="-4137" y="937152"/>
                  <a:pt x="92" y="717751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11"/>
          <p:cNvSpPr/>
          <p:nvPr/>
        </p:nvSpPr>
        <p:spPr>
          <a:xfrm rot="1981800">
            <a:off x="7705440" y="941400"/>
            <a:ext cx="306360" cy="1316160"/>
          </a:xfrm>
          <a:custGeom>
            <a:avLst/>
            <a:gdLst>
              <a:gd name="textAreaLeft" fmla="*/ 0 w 306360"/>
              <a:gd name="textAreaRight" fmla="*/ 306720 w 306360"/>
              <a:gd name="textAreaTop" fmla="*/ 0 h 1316160"/>
              <a:gd name="textAreaBottom" fmla="*/ 1316520 h 1316160"/>
            </a:gdLst>
            <a:ahLst/>
            <a:rect l="textAreaLeft" t="textAreaTop" r="textAreaRight" b="textAreaBottom"/>
            <a:pathLst>
              <a:path w="312825" h="1443017">
                <a:moveTo>
                  <a:pt x="36" y="774719"/>
                </a:moveTo>
                <a:cubicBezTo>
                  <a:pt x="2622" y="534330"/>
                  <a:pt x="148770" y="-12684"/>
                  <a:pt x="200901" y="224"/>
                </a:cubicBezTo>
                <a:cubicBezTo>
                  <a:pt x="253033" y="13132"/>
                  <a:pt x="312825" y="510003"/>
                  <a:pt x="312825" y="852166"/>
                </a:cubicBezTo>
                <a:cubicBezTo>
                  <a:pt x="312825" y="1194329"/>
                  <a:pt x="237515" y="1455467"/>
                  <a:pt x="185383" y="1442559"/>
                </a:cubicBezTo>
                <a:cubicBezTo>
                  <a:pt x="133252" y="1429651"/>
                  <a:pt x="-2550" y="1015108"/>
                  <a:pt x="36" y="774719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12"/>
          <p:cNvSpPr/>
          <p:nvPr/>
        </p:nvSpPr>
        <p:spPr>
          <a:xfrm>
            <a:off x="5715000" y="2612880"/>
            <a:ext cx="2681280" cy="1679760"/>
          </a:xfrm>
          <a:custGeom>
            <a:avLst/>
            <a:gdLst>
              <a:gd name="textAreaLeft" fmla="*/ 0 w 2681280"/>
              <a:gd name="textAreaRight" fmla="*/ 2681640 w 2681280"/>
              <a:gd name="textAreaTop" fmla="*/ 0 h 1679760"/>
              <a:gd name="textAreaBottom" fmla="*/ 1680120 h 1679760"/>
            </a:gdLst>
            <a:ahLst/>
            <a:rect l="textAreaLeft" t="textAreaTop" r="textAreaRight" b="textAreaBottom"/>
            <a:pathLst>
              <a:path w="2734912" h="1841804">
                <a:moveTo>
                  <a:pt x="629716" y="0"/>
                </a:moveTo>
                <a:cubicBezTo>
                  <a:pt x="497424" y="197115"/>
                  <a:pt x="32181" y="627592"/>
                  <a:pt x="2336" y="885190"/>
                </a:cubicBezTo>
                <a:cubicBezTo>
                  <a:pt x="-27509" y="1142788"/>
                  <a:pt x="234534" y="1386205"/>
                  <a:pt x="450646" y="1545590"/>
                </a:cubicBezTo>
                <a:cubicBezTo>
                  <a:pt x="666758" y="1704975"/>
                  <a:pt x="972828" y="1849332"/>
                  <a:pt x="1299006" y="1841500"/>
                </a:cubicBezTo>
                <a:cubicBezTo>
                  <a:pt x="1625184" y="1833668"/>
                  <a:pt x="2169168" y="1657138"/>
                  <a:pt x="2407716" y="1498600"/>
                </a:cubicBezTo>
                <a:cubicBezTo>
                  <a:pt x="2646264" y="1340062"/>
                  <a:pt x="2759929" y="1130512"/>
                  <a:pt x="2730296" y="890270"/>
                </a:cubicBezTo>
                <a:cubicBezTo>
                  <a:pt x="2700663" y="650028"/>
                  <a:pt x="2334162" y="230717"/>
                  <a:pt x="2229916" y="57150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4"/>
          <p:cNvSpPr/>
          <p:nvPr/>
        </p:nvSpPr>
        <p:spPr>
          <a:xfrm>
            <a:off x="5216400" y="4367160"/>
            <a:ext cx="3527640" cy="2212920"/>
          </a:xfrm>
          <a:custGeom>
            <a:avLst/>
            <a:gdLst>
              <a:gd name="textAreaLeft" fmla="*/ 0 w 3527640"/>
              <a:gd name="textAreaRight" fmla="*/ 3528000 w 3527640"/>
              <a:gd name="textAreaTop" fmla="*/ 0 h 2212920"/>
              <a:gd name="textAreaBottom" fmla="*/ 2213280 h 2212920"/>
            </a:gdLst>
            <a:ahLst/>
            <a:rect l="textAreaLeft" t="textAreaTop" r="textAreaRight" b="textAreaBottom"/>
            <a:pathLst>
              <a:path w="4073923" h="2213301">
                <a:moveTo>
                  <a:pt x="485776" y="14893"/>
                </a:moveTo>
                <a:cubicBezTo>
                  <a:pt x="1030214" y="14133"/>
                  <a:pt x="1574652" y="84810"/>
                  <a:pt x="2119090" y="84050"/>
                </a:cubicBezTo>
                <a:lnTo>
                  <a:pt x="4017020" y="606"/>
                </a:lnTo>
                <a:cubicBezTo>
                  <a:pt x="4184464" y="-16443"/>
                  <a:pt x="3933218" y="329699"/>
                  <a:pt x="3890740" y="541250"/>
                </a:cubicBezTo>
                <a:cubicBezTo>
                  <a:pt x="3848262" y="752801"/>
                  <a:pt x="3795876" y="993121"/>
                  <a:pt x="3762154" y="1269912"/>
                </a:cubicBezTo>
                <a:lnTo>
                  <a:pt x="3588396" y="2073409"/>
                </a:lnTo>
                <a:cubicBezTo>
                  <a:pt x="3285977" y="2221047"/>
                  <a:pt x="2468750" y="2208691"/>
                  <a:pt x="2104803" y="2212887"/>
                </a:cubicBezTo>
                <a:cubicBezTo>
                  <a:pt x="1740856" y="2217083"/>
                  <a:pt x="1831716" y="2188509"/>
                  <a:pt x="1533303" y="2170025"/>
                </a:cubicBezTo>
                <a:lnTo>
                  <a:pt x="0" y="2016259"/>
                </a:lnTo>
                <a:cubicBezTo>
                  <a:pt x="44376" y="1681752"/>
                  <a:pt x="274490" y="1432969"/>
                  <a:pt x="318866" y="1098462"/>
                </a:cubicBezTo>
                <a:cubicBezTo>
                  <a:pt x="403077" y="446760"/>
                  <a:pt x="473002" y="495146"/>
                  <a:pt x="485776" y="14893"/>
                </a:cubicBezTo>
                <a:close/>
              </a:path>
            </a:pathLst>
          </a:cu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15"/>
          <p:cNvSpPr/>
          <p:nvPr/>
        </p:nvSpPr>
        <p:spPr>
          <a:xfrm>
            <a:off x="5948280" y="4187880"/>
            <a:ext cx="527040" cy="552240"/>
          </a:xfrm>
          <a:custGeom>
            <a:avLst/>
            <a:gdLst>
              <a:gd name="textAreaLeft" fmla="*/ 0 w 527040"/>
              <a:gd name="textAreaRight" fmla="*/ 527400 w 527040"/>
              <a:gd name="textAreaTop" fmla="*/ 0 h 552240"/>
              <a:gd name="textAreaBottom" fmla="*/ 552600 h 552240"/>
            </a:gdLst>
            <a:ahLst/>
            <a:rect l="textAreaLeft" t="textAreaTop" r="textAreaRight" b="textAreaBottom"/>
            <a:pathLst>
              <a:path w="697038" h="743699">
                <a:moveTo>
                  <a:pt x="75021" y="571699"/>
                </a:moveTo>
                <a:cubicBezTo>
                  <a:pt x="41683" y="476449"/>
                  <a:pt x="-34516" y="266899"/>
                  <a:pt x="17871" y="171649"/>
                </a:cubicBezTo>
                <a:cubicBezTo>
                  <a:pt x="70258" y="76399"/>
                  <a:pt x="277427" y="-4563"/>
                  <a:pt x="389346" y="199"/>
                </a:cubicBezTo>
                <a:cubicBezTo>
                  <a:pt x="501265" y="4961"/>
                  <a:pt x="656046" y="135930"/>
                  <a:pt x="689383" y="200224"/>
                </a:cubicBezTo>
                <a:cubicBezTo>
                  <a:pt x="722720" y="264518"/>
                  <a:pt x="639377" y="366911"/>
                  <a:pt x="589371" y="385961"/>
                </a:cubicBezTo>
                <a:cubicBezTo>
                  <a:pt x="539365" y="405011"/>
                  <a:pt x="386965" y="307380"/>
                  <a:pt x="389346" y="314524"/>
                </a:cubicBezTo>
                <a:cubicBezTo>
                  <a:pt x="391727" y="321668"/>
                  <a:pt x="584608" y="381199"/>
                  <a:pt x="603658" y="428824"/>
                </a:cubicBezTo>
                <a:cubicBezTo>
                  <a:pt x="622708" y="476449"/>
                  <a:pt x="563177" y="583605"/>
                  <a:pt x="503646" y="600274"/>
                </a:cubicBezTo>
                <a:cubicBezTo>
                  <a:pt x="444115" y="616943"/>
                  <a:pt x="270283" y="528836"/>
                  <a:pt x="246471" y="528836"/>
                </a:cubicBezTo>
                <a:cubicBezTo>
                  <a:pt x="222659" y="528836"/>
                  <a:pt x="365533" y="564555"/>
                  <a:pt x="360771" y="600274"/>
                </a:cubicBezTo>
                <a:cubicBezTo>
                  <a:pt x="356009" y="635993"/>
                  <a:pt x="265521" y="752674"/>
                  <a:pt x="217896" y="743149"/>
                </a:cubicBezTo>
                <a:cubicBezTo>
                  <a:pt x="170271" y="733624"/>
                  <a:pt x="108359" y="666949"/>
                  <a:pt x="75021" y="571699"/>
                </a:cubicBezTo>
                <a:close/>
              </a:path>
            </a:pathLst>
          </a:custGeom>
          <a:solidFill>
            <a:srgbClr val="0070c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16"/>
          <p:cNvSpPr/>
          <p:nvPr/>
        </p:nvSpPr>
        <p:spPr>
          <a:xfrm flipH="1">
            <a:off x="7479720" y="4187880"/>
            <a:ext cx="484200" cy="552240"/>
          </a:xfrm>
          <a:custGeom>
            <a:avLst/>
            <a:gdLst>
              <a:gd name="textAreaLeft" fmla="*/ -360 w 484200"/>
              <a:gd name="textAreaRight" fmla="*/ 484200 w 484200"/>
              <a:gd name="textAreaTop" fmla="*/ 0 h 552240"/>
              <a:gd name="textAreaBottom" fmla="*/ 552600 h 552240"/>
            </a:gdLst>
            <a:ahLst/>
            <a:rect l="textAreaLeft" t="textAreaTop" r="textAreaRight" b="textAreaBottom"/>
            <a:pathLst>
              <a:path w="697038" h="743699">
                <a:moveTo>
                  <a:pt x="75021" y="571699"/>
                </a:moveTo>
                <a:cubicBezTo>
                  <a:pt x="41683" y="476449"/>
                  <a:pt x="-34516" y="266899"/>
                  <a:pt x="17871" y="171649"/>
                </a:cubicBezTo>
                <a:cubicBezTo>
                  <a:pt x="70258" y="76399"/>
                  <a:pt x="277427" y="-4563"/>
                  <a:pt x="389346" y="199"/>
                </a:cubicBezTo>
                <a:cubicBezTo>
                  <a:pt x="501265" y="4961"/>
                  <a:pt x="656046" y="135930"/>
                  <a:pt x="689383" y="200224"/>
                </a:cubicBezTo>
                <a:cubicBezTo>
                  <a:pt x="722720" y="264518"/>
                  <a:pt x="639377" y="366911"/>
                  <a:pt x="589371" y="385961"/>
                </a:cubicBezTo>
                <a:cubicBezTo>
                  <a:pt x="539365" y="405011"/>
                  <a:pt x="386965" y="307380"/>
                  <a:pt x="389346" y="314524"/>
                </a:cubicBezTo>
                <a:cubicBezTo>
                  <a:pt x="391727" y="321668"/>
                  <a:pt x="584608" y="381199"/>
                  <a:pt x="603658" y="428824"/>
                </a:cubicBezTo>
                <a:cubicBezTo>
                  <a:pt x="622708" y="476449"/>
                  <a:pt x="563177" y="583605"/>
                  <a:pt x="503646" y="600274"/>
                </a:cubicBezTo>
                <a:cubicBezTo>
                  <a:pt x="444115" y="616943"/>
                  <a:pt x="270283" y="528836"/>
                  <a:pt x="246471" y="528836"/>
                </a:cubicBezTo>
                <a:cubicBezTo>
                  <a:pt x="222659" y="528836"/>
                  <a:pt x="365533" y="564555"/>
                  <a:pt x="360771" y="600274"/>
                </a:cubicBezTo>
                <a:cubicBezTo>
                  <a:pt x="356009" y="635993"/>
                  <a:pt x="265521" y="752674"/>
                  <a:pt x="217896" y="743149"/>
                </a:cubicBezTo>
                <a:cubicBezTo>
                  <a:pt x="170271" y="733624"/>
                  <a:pt x="108359" y="666949"/>
                  <a:pt x="75021" y="571699"/>
                </a:cubicBezTo>
                <a:close/>
              </a:path>
            </a:pathLst>
          </a:custGeom>
          <a:solidFill>
            <a:srgbClr val="0070c0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18"/>
          <p:cNvSpPr/>
          <p:nvPr/>
        </p:nvSpPr>
        <p:spPr>
          <a:xfrm>
            <a:off x="-254160" y="2355840"/>
            <a:ext cx="6770880" cy="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2"/>
          <p:cNvSpPr/>
          <p:nvPr/>
        </p:nvSpPr>
        <p:spPr>
          <a:xfrm>
            <a:off x="6375960" y="5149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兔年吉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4"/>
          <p:cNvSpPr/>
          <p:nvPr/>
        </p:nvSpPr>
        <p:spPr>
          <a:xfrm>
            <a:off x="1832040" y="4130640"/>
            <a:ext cx="182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-2-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684360" y="95400"/>
            <a:ext cx="749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半年汇报蓝色动态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2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2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25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2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2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7" nodeType="after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50">
                                  <p:stCondLst>
                                    <p:cond delay="3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组合 21"/>
          <p:cNvGrpSpPr/>
          <p:nvPr/>
        </p:nvGrpSpPr>
        <p:grpSpPr>
          <a:xfrm>
            <a:off x="2314440" y="4516560"/>
            <a:ext cx="4030560" cy="1979640"/>
            <a:chOff x="2314440" y="4516560"/>
            <a:chExt cx="4030560" cy="1979640"/>
          </a:xfrm>
        </p:grpSpPr>
        <p:grpSp>
          <p:nvGrpSpPr>
            <p:cNvPr id="296" name="Group 305"/>
            <p:cNvGrpSpPr/>
            <p:nvPr/>
          </p:nvGrpSpPr>
          <p:grpSpPr>
            <a:xfrm>
              <a:off x="2796840" y="4516560"/>
              <a:ext cx="3548160" cy="1979640"/>
              <a:chOff x="2796840" y="4516560"/>
              <a:chExt cx="3548160" cy="1979640"/>
            </a:xfrm>
          </p:grpSpPr>
          <p:sp>
            <p:nvSpPr>
              <p:cNvPr id="297" name="Freeform 21"/>
              <p:cNvSpPr/>
              <p:nvPr/>
            </p:nvSpPr>
            <p:spPr>
              <a:xfrm>
                <a:off x="2796840" y="4770720"/>
                <a:ext cx="3548160" cy="1725480"/>
              </a:xfrm>
              <a:custGeom>
                <a:avLst/>
                <a:gdLst>
                  <a:gd name="textAreaLeft" fmla="*/ 0 w 3548160"/>
                  <a:gd name="textAreaRight" fmla="*/ 3548520 w 3548160"/>
                  <a:gd name="textAreaTop" fmla="*/ 0 h 1725480"/>
                  <a:gd name="textAreaBottom" fmla="*/ 1725840 h 1725480"/>
                </a:gdLst>
                <a:ahLst/>
                <a:rect l="textAreaLeft" t="textAreaTop" r="textAreaRight" b="textAreaBottom"/>
                <a:pathLst>
                  <a:path w="1594" h="776">
                    <a:moveTo>
                      <a:pt x="105" y="776"/>
                    </a:moveTo>
                    <a:cubicBezTo>
                      <a:pt x="100" y="776"/>
                      <a:pt x="95" y="776"/>
                      <a:pt x="91" y="774"/>
                    </a:cubicBezTo>
                    <a:cubicBezTo>
                      <a:pt x="86" y="772"/>
                      <a:pt x="82" y="770"/>
                      <a:pt x="79" y="767"/>
                    </a:cubicBezTo>
                    <a:cubicBezTo>
                      <a:pt x="75" y="764"/>
                      <a:pt x="72" y="761"/>
                      <a:pt x="70" y="757"/>
                    </a:cubicBezTo>
                    <a:cubicBezTo>
                      <a:pt x="68" y="753"/>
                      <a:pt x="66" y="749"/>
                      <a:pt x="66" y="744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0" y="33"/>
                      <a:pt x="1" y="28"/>
                      <a:pt x="2" y="23"/>
                    </a:cubicBezTo>
                    <a:cubicBezTo>
                      <a:pt x="4" y="19"/>
                      <a:pt x="7" y="15"/>
                      <a:pt x="10" y="11"/>
                    </a:cubicBezTo>
                    <a:cubicBezTo>
                      <a:pt x="13" y="8"/>
                      <a:pt x="17" y="5"/>
                      <a:pt x="22" y="3"/>
                    </a:cubicBezTo>
                    <a:cubicBezTo>
                      <a:pt x="26" y="1"/>
                      <a:pt x="31" y="0"/>
                      <a:pt x="37" y="0"/>
                    </a:cubicBezTo>
                    <a:cubicBezTo>
                      <a:pt x="1557" y="0"/>
                      <a:pt x="1557" y="0"/>
                      <a:pt x="1557" y="0"/>
                    </a:cubicBezTo>
                    <a:cubicBezTo>
                      <a:pt x="1563" y="0"/>
                      <a:pt x="1568" y="1"/>
                      <a:pt x="1572" y="3"/>
                    </a:cubicBezTo>
                    <a:cubicBezTo>
                      <a:pt x="1577" y="5"/>
                      <a:pt x="1581" y="8"/>
                      <a:pt x="1584" y="11"/>
                    </a:cubicBezTo>
                    <a:cubicBezTo>
                      <a:pt x="1587" y="15"/>
                      <a:pt x="1590" y="19"/>
                      <a:pt x="1591" y="23"/>
                    </a:cubicBezTo>
                    <a:cubicBezTo>
                      <a:pt x="1593" y="28"/>
                      <a:pt x="1594" y="33"/>
                      <a:pt x="1593" y="38"/>
                    </a:cubicBezTo>
                    <a:cubicBezTo>
                      <a:pt x="1528" y="744"/>
                      <a:pt x="1528" y="744"/>
                      <a:pt x="1528" y="744"/>
                    </a:cubicBezTo>
                    <a:cubicBezTo>
                      <a:pt x="1528" y="749"/>
                      <a:pt x="1526" y="753"/>
                      <a:pt x="1524" y="757"/>
                    </a:cubicBezTo>
                    <a:cubicBezTo>
                      <a:pt x="1522" y="761"/>
                      <a:pt x="1519" y="764"/>
                      <a:pt x="1515" y="767"/>
                    </a:cubicBezTo>
                    <a:cubicBezTo>
                      <a:pt x="1512" y="770"/>
                      <a:pt x="1508" y="772"/>
                      <a:pt x="1503" y="774"/>
                    </a:cubicBezTo>
                    <a:cubicBezTo>
                      <a:pt x="1499" y="776"/>
                      <a:pt x="1494" y="776"/>
                      <a:pt x="1489" y="776"/>
                    </a:cubicBezTo>
                    <a:lnTo>
                      <a:pt x="105" y="776"/>
                    </a:lnTo>
                    <a:close/>
                  </a:path>
                </a:pathLst>
              </a:custGeom>
              <a:solidFill>
                <a:srgbClr val="0079c1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23"/>
              <p:cNvSpPr/>
              <p:nvPr/>
            </p:nvSpPr>
            <p:spPr>
              <a:xfrm>
                <a:off x="2823840" y="4516560"/>
                <a:ext cx="3494160" cy="274680"/>
              </a:xfrm>
              <a:custGeom>
                <a:avLst/>
                <a:gdLst>
                  <a:gd name="textAreaLeft" fmla="*/ 0 w 3494160"/>
                  <a:gd name="textAreaRight" fmla="*/ 3494520 w 3494160"/>
                  <a:gd name="textAreaTop" fmla="*/ 0 h 274680"/>
                  <a:gd name="textAreaBottom" fmla="*/ 275040 h 274680"/>
                </a:gdLst>
                <a:ahLst/>
                <a:rect l="textAreaLeft" t="textAreaTop" r="textAreaRight" b="textAreaBottom"/>
                <a:pathLst>
                  <a:path w="1570" h="123">
                    <a:moveTo>
                      <a:pt x="2" y="122"/>
                    </a:moveTo>
                    <a:cubicBezTo>
                      <a:pt x="4" y="120"/>
                      <a:pt x="6" y="119"/>
                      <a:pt x="9" y="118"/>
                    </a:cubicBezTo>
                    <a:cubicBezTo>
                      <a:pt x="11" y="116"/>
                      <a:pt x="14" y="116"/>
                      <a:pt x="16" y="115"/>
                    </a:cubicBezTo>
                    <a:cubicBezTo>
                      <a:pt x="19" y="114"/>
                      <a:pt x="22" y="114"/>
                      <a:pt x="25" y="114"/>
                    </a:cubicBezTo>
                    <a:cubicBezTo>
                      <a:pt x="1545" y="114"/>
                      <a:pt x="1545" y="114"/>
                      <a:pt x="1545" y="114"/>
                    </a:cubicBezTo>
                    <a:cubicBezTo>
                      <a:pt x="1548" y="114"/>
                      <a:pt x="1551" y="114"/>
                      <a:pt x="1554" y="115"/>
                    </a:cubicBezTo>
                    <a:cubicBezTo>
                      <a:pt x="1556" y="116"/>
                      <a:pt x="1559" y="116"/>
                      <a:pt x="1561" y="118"/>
                    </a:cubicBezTo>
                    <a:cubicBezTo>
                      <a:pt x="1564" y="119"/>
                      <a:pt x="1566" y="120"/>
                      <a:pt x="1568" y="122"/>
                    </a:cubicBezTo>
                    <a:cubicBezTo>
                      <a:pt x="1570" y="123"/>
                      <a:pt x="1510" y="50"/>
                      <a:pt x="1479" y="11"/>
                    </a:cubicBezTo>
                    <a:cubicBezTo>
                      <a:pt x="1477" y="9"/>
                      <a:pt x="1475" y="8"/>
                      <a:pt x="1474" y="6"/>
                    </a:cubicBezTo>
                    <a:cubicBezTo>
                      <a:pt x="1472" y="5"/>
                      <a:pt x="1470" y="4"/>
                      <a:pt x="1468" y="3"/>
                    </a:cubicBezTo>
                    <a:cubicBezTo>
                      <a:pt x="1466" y="2"/>
                      <a:pt x="1463" y="1"/>
                      <a:pt x="1461" y="0"/>
                    </a:cubicBezTo>
                    <a:cubicBezTo>
                      <a:pt x="1458" y="0"/>
                      <a:pt x="1456" y="0"/>
                      <a:pt x="1453" y="0"/>
                    </a:cubicBezTo>
                    <a:cubicBezTo>
                      <a:pt x="117" y="0"/>
                      <a:pt x="117" y="0"/>
                      <a:pt x="117" y="0"/>
                    </a:cubicBezTo>
                    <a:cubicBezTo>
                      <a:pt x="114" y="0"/>
                      <a:pt x="112" y="0"/>
                      <a:pt x="109" y="0"/>
                    </a:cubicBezTo>
                    <a:cubicBezTo>
                      <a:pt x="107" y="1"/>
                      <a:pt x="104" y="2"/>
                      <a:pt x="102" y="3"/>
                    </a:cubicBezTo>
                    <a:cubicBezTo>
                      <a:pt x="100" y="4"/>
                      <a:pt x="98" y="5"/>
                      <a:pt x="96" y="6"/>
                    </a:cubicBezTo>
                    <a:cubicBezTo>
                      <a:pt x="94" y="8"/>
                      <a:pt x="93" y="9"/>
                      <a:pt x="91" y="11"/>
                    </a:cubicBezTo>
                    <a:cubicBezTo>
                      <a:pt x="60" y="50"/>
                      <a:pt x="0" y="123"/>
                      <a:pt x="2" y="12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24"/>
              <p:cNvSpPr/>
              <p:nvPr/>
            </p:nvSpPr>
            <p:spPr>
              <a:xfrm>
                <a:off x="2823840" y="4516560"/>
                <a:ext cx="3494160" cy="274680"/>
              </a:xfrm>
              <a:custGeom>
                <a:avLst/>
                <a:gdLst>
                  <a:gd name="textAreaLeft" fmla="*/ 0 w 3494160"/>
                  <a:gd name="textAreaRight" fmla="*/ 3494520 w 3494160"/>
                  <a:gd name="textAreaTop" fmla="*/ 0 h 274680"/>
                  <a:gd name="textAreaBottom" fmla="*/ 275040 h 274680"/>
                </a:gdLst>
                <a:ahLst/>
                <a:rect l="textAreaLeft" t="textAreaTop" r="textAreaRight" b="textAreaBottom"/>
                <a:pathLst>
                  <a:path w="1570" h="123">
                    <a:moveTo>
                      <a:pt x="2" y="122"/>
                    </a:moveTo>
                    <a:cubicBezTo>
                      <a:pt x="4" y="120"/>
                      <a:pt x="6" y="119"/>
                      <a:pt x="9" y="118"/>
                    </a:cubicBezTo>
                    <a:cubicBezTo>
                      <a:pt x="11" y="116"/>
                      <a:pt x="14" y="116"/>
                      <a:pt x="16" y="115"/>
                    </a:cubicBezTo>
                    <a:cubicBezTo>
                      <a:pt x="19" y="114"/>
                      <a:pt x="22" y="114"/>
                      <a:pt x="25" y="114"/>
                    </a:cubicBezTo>
                    <a:cubicBezTo>
                      <a:pt x="1545" y="114"/>
                      <a:pt x="1545" y="114"/>
                      <a:pt x="1545" y="114"/>
                    </a:cubicBezTo>
                    <a:cubicBezTo>
                      <a:pt x="1548" y="114"/>
                      <a:pt x="1551" y="114"/>
                      <a:pt x="1554" y="115"/>
                    </a:cubicBezTo>
                    <a:cubicBezTo>
                      <a:pt x="1556" y="116"/>
                      <a:pt x="1559" y="116"/>
                      <a:pt x="1561" y="118"/>
                    </a:cubicBezTo>
                    <a:cubicBezTo>
                      <a:pt x="1564" y="119"/>
                      <a:pt x="1566" y="120"/>
                      <a:pt x="1568" y="122"/>
                    </a:cubicBezTo>
                    <a:cubicBezTo>
                      <a:pt x="1570" y="123"/>
                      <a:pt x="1510" y="50"/>
                      <a:pt x="1479" y="11"/>
                    </a:cubicBezTo>
                    <a:cubicBezTo>
                      <a:pt x="1477" y="9"/>
                      <a:pt x="1475" y="8"/>
                      <a:pt x="1474" y="6"/>
                    </a:cubicBezTo>
                    <a:cubicBezTo>
                      <a:pt x="1472" y="5"/>
                      <a:pt x="1470" y="4"/>
                      <a:pt x="1468" y="3"/>
                    </a:cubicBezTo>
                    <a:cubicBezTo>
                      <a:pt x="1466" y="2"/>
                      <a:pt x="1463" y="1"/>
                      <a:pt x="1461" y="0"/>
                    </a:cubicBezTo>
                    <a:cubicBezTo>
                      <a:pt x="1458" y="0"/>
                      <a:pt x="1456" y="0"/>
                      <a:pt x="1453" y="0"/>
                    </a:cubicBezTo>
                    <a:cubicBezTo>
                      <a:pt x="117" y="0"/>
                      <a:pt x="117" y="0"/>
                      <a:pt x="117" y="0"/>
                    </a:cubicBezTo>
                    <a:cubicBezTo>
                      <a:pt x="114" y="0"/>
                      <a:pt x="112" y="0"/>
                      <a:pt x="109" y="0"/>
                    </a:cubicBezTo>
                    <a:cubicBezTo>
                      <a:pt x="107" y="1"/>
                      <a:pt x="104" y="2"/>
                      <a:pt x="102" y="3"/>
                    </a:cubicBezTo>
                    <a:cubicBezTo>
                      <a:pt x="100" y="4"/>
                      <a:pt x="98" y="5"/>
                      <a:pt x="96" y="6"/>
                    </a:cubicBezTo>
                    <a:cubicBezTo>
                      <a:pt x="94" y="8"/>
                      <a:pt x="93" y="9"/>
                      <a:pt x="91" y="11"/>
                    </a:cubicBezTo>
                    <a:cubicBezTo>
                      <a:pt x="60" y="50"/>
                      <a:pt x="0" y="123"/>
                      <a:pt x="2" y="122"/>
                    </a:cubicBezTo>
                    <a:close/>
                  </a:path>
                </a:pathLst>
              </a:cu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25"/>
              <p:cNvSpPr/>
              <p:nvPr/>
            </p:nvSpPr>
            <p:spPr>
              <a:xfrm>
                <a:off x="2823840" y="4516560"/>
                <a:ext cx="3494160" cy="274680"/>
              </a:xfrm>
              <a:custGeom>
                <a:avLst/>
                <a:gdLst>
                  <a:gd name="textAreaLeft" fmla="*/ 0 w 3494160"/>
                  <a:gd name="textAreaRight" fmla="*/ 3494520 w 3494160"/>
                  <a:gd name="textAreaTop" fmla="*/ 0 h 274680"/>
                  <a:gd name="textAreaBottom" fmla="*/ 275040 h 274680"/>
                </a:gdLst>
                <a:ahLst/>
                <a:rect l="textAreaLeft" t="textAreaTop" r="textAreaRight" b="textAreaBottom"/>
                <a:pathLst>
                  <a:path w="1570" h="123">
                    <a:moveTo>
                      <a:pt x="2" y="122"/>
                    </a:moveTo>
                    <a:cubicBezTo>
                      <a:pt x="4" y="120"/>
                      <a:pt x="6" y="119"/>
                      <a:pt x="9" y="118"/>
                    </a:cubicBezTo>
                    <a:cubicBezTo>
                      <a:pt x="11" y="116"/>
                      <a:pt x="14" y="116"/>
                      <a:pt x="16" y="115"/>
                    </a:cubicBezTo>
                    <a:cubicBezTo>
                      <a:pt x="19" y="114"/>
                      <a:pt x="22" y="114"/>
                      <a:pt x="25" y="114"/>
                    </a:cubicBezTo>
                    <a:cubicBezTo>
                      <a:pt x="1545" y="114"/>
                      <a:pt x="1545" y="114"/>
                      <a:pt x="1545" y="114"/>
                    </a:cubicBezTo>
                    <a:cubicBezTo>
                      <a:pt x="1548" y="114"/>
                      <a:pt x="1551" y="114"/>
                      <a:pt x="1554" y="115"/>
                    </a:cubicBezTo>
                    <a:cubicBezTo>
                      <a:pt x="1556" y="116"/>
                      <a:pt x="1559" y="116"/>
                      <a:pt x="1561" y="118"/>
                    </a:cubicBezTo>
                    <a:cubicBezTo>
                      <a:pt x="1564" y="119"/>
                      <a:pt x="1566" y="120"/>
                      <a:pt x="1568" y="122"/>
                    </a:cubicBezTo>
                    <a:cubicBezTo>
                      <a:pt x="1570" y="123"/>
                      <a:pt x="1510" y="50"/>
                      <a:pt x="1479" y="11"/>
                    </a:cubicBezTo>
                    <a:cubicBezTo>
                      <a:pt x="1477" y="9"/>
                      <a:pt x="1475" y="8"/>
                      <a:pt x="1474" y="6"/>
                    </a:cubicBezTo>
                    <a:cubicBezTo>
                      <a:pt x="1472" y="5"/>
                      <a:pt x="1470" y="4"/>
                      <a:pt x="1468" y="3"/>
                    </a:cubicBezTo>
                    <a:cubicBezTo>
                      <a:pt x="1466" y="2"/>
                      <a:pt x="1463" y="1"/>
                      <a:pt x="1461" y="0"/>
                    </a:cubicBezTo>
                    <a:cubicBezTo>
                      <a:pt x="1458" y="0"/>
                      <a:pt x="1456" y="0"/>
                      <a:pt x="1453" y="0"/>
                    </a:cubicBezTo>
                    <a:cubicBezTo>
                      <a:pt x="117" y="0"/>
                      <a:pt x="117" y="0"/>
                      <a:pt x="117" y="0"/>
                    </a:cubicBezTo>
                    <a:cubicBezTo>
                      <a:pt x="114" y="0"/>
                      <a:pt x="112" y="0"/>
                      <a:pt x="109" y="0"/>
                    </a:cubicBezTo>
                    <a:cubicBezTo>
                      <a:pt x="107" y="1"/>
                      <a:pt x="104" y="2"/>
                      <a:pt x="102" y="3"/>
                    </a:cubicBezTo>
                    <a:cubicBezTo>
                      <a:pt x="100" y="4"/>
                      <a:pt x="98" y="5"/>
                      <a:pt x="96" y="6"/>
                    </a:cubicBezTo>
                    <a:cubicBezTo>
                      <a:pt x="94" y="8"/>
                      <a:pt x="93" y="9"/>
                      <a:pt x="91" y="11"/>
                    </a:cubicBezTo>
                    <a:cubicBezTo>
                      <a:pt x="60" y="50"/>
                      <a:pt x="0" y="123"/>
                      <a:pt x="2" y="12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26"/>
              <p:cNvSpPr/>
              <p:nvPr/>
            </p:nvSpPr>
            <p:spPr>
              <a:xfrm>
                <a:off x="2823840" y="4516560"/>
                <a:ext cx="3494160" cy="274680"/>
              </a:xfrm>
              <a:custGeom>
                <a:avLst/>
                <a:gdLst>
                  <a:gd name="textAreaLeft" fmla="*/ 0 w 3494160"/>
                  <a:gd name="textAreaRight" fmla="*/ 3494520 w 3494160"/>
                  <a:gd name="textAreaTop" fmla="*/ 0 h 274680"/>
                  <a:gd name="textAreaBottom" fmla="*/ 275040 h 274680"/>
                </a:gdLst>
                <a:ahLst/>
                <a:rect l="textAreaLeft" t="textAreaTop" r="textAreaRight" b="textAreaBottom"/>
                <a:pathLst>
                  <a:path w="1570" h="123">
                    <a:moveTo>
                      <a:pt x="2" y="122"/>
                    </a:moveTo>
                    <a:cubicBezTo>
                      <a:pt x="4" y="120"/>
                      <a:pt x="6" y="119"/>
                      <a:pt x="9" y="118"/>
                    </a:cubicBezTo>
                    <a:cubicBezTo>
                      <a:pt x="11" y="116"/>
                      <a:pt x="14" y="116"/>
                      <a:pt x="16" y="115"/>
                    </a:cubicBezTo>
                    <a:cubicBezTo>
                      <a:pt x="19" y="114"/>
                      <a:pt x="22" y="114"/>
                      <a:pt x="25" y="114"/>
                    </a:cubicBezTo>
                    <a:cubicBezTo>
                      <a:pt x="1545" y="114"/>
                      <a:pt x="1545" y="114"/>
                      <a:pt x="1545" y="114"/>
                    </a:cubicBezTo>
                    <a:cubicBezTo>
                      <a:pt x="1548" y="114"/>
                      <a:pt x="1551" y="114"/>
                      <a:pt x="1554" y="115"/>
                    </a:cubicBezTo>
                    <a:cubicBezTo>
                      <a:pt x="1556" y="116"/>
                      <a:pt x="1559" y="116"/>
                      <a:pt x="1561" y="118"/>
                    </a:cubicBezTo>
                    <a:cubicBezTo>
                      <a:pt x="1564" y="119"/>
                      <a:pt x="1566" y="120"/>
                      <a:pt x="1568" y="122"/>
                    </a:cubicBezTo>
                    <a:cubicBezTo>
                      <a:pt x="1570" y="123"/>
                      <a:pt x="1510" y="50"/>
                      <a:pt x="1479" y="11"/>
                    </a:cubicBezTo>
                    <a:cubicBezTo>
                      <a:pt x="1477" y="9"/>
                      <a:pt x="1475" y="8"/>
                      <a:pt x="1474" y="6"/>
                    </a:cubicBezTo>
                    <a:cubicBezTo>
                      <a:pt x="1472" y="5"/>
                      <a:pt x="1470" y="4"/>
                      <a:pt x="1468" y="3"/>
                    </a:cubicBezTo>
                    <a:cubicBezTo>
                      <a:pt x="1466" y="2"/>
                      <a:pt x="1463" y="1"/>
                      <a:pt x="1461" y="0"/>
                    </a:cubicBezTo>
                    <a:cubicBezTo>
                      <a:pt x="1458" y="0"/>
                      <a:pt x="1456" y="0"/>
                      <a:pt x="1453" y="0"/>
                    </a:cubicBezTo>
                    <a:cubicBezTo>
                      <a:pt x="117" y="0"/>
                      <a:pt x="117" y="0"/>
                      <a:pt x="117" y="0"/>
                    </a:cubicBezTo>
                    <a:cubicBezTo>
                      <a:pt x="114" y="0"/>
                      <a:pt x="112" y="0"/>
                      <a:pt x="109" y="0"/>
                    </a:cubicBezTo>
                    <a:cubicBezTo>
                      <a:pt x="107" y="1"/>
                      <a:pt x="104" y="2"/>
                      <a:pt x="102" y="3"/>
                    </a:cubicBezTo>
                    <a:cubicBezTo>
                      <a:pt x="100" y="4"/>
                      <a:pt x="98" y="5"/>
                      <a:pt x="96" y="6"/>
                    </a:cubicBezTo>
                    <a:cubicBezTo>
                      <a:pt x="94" y="8"/>
                      <a:pt x="93" y="9"/>
                      <a:pt x="91" y="11"/>
                    </a:cubicBezTo>
                    <a:cubicBezTo>
                      <a:pt x="60" y="50"/>
                      <a:pt x="0" y="123"/>
                      <a:pt x="2" y="12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27"/>
              <p:cNvSpPr/>
              <p:nvPr/>
            </p:nvSpPr>
            <p:spPr>
              <a:xfrm>
                <a:off x="2823840" y="4516560"/>
                <a:ext cx="3494160" cy="274680"/>
              </a:xfrm>
              <a:custGeom>
                <a:avLst/>
                <a:gdLst>
                  <a:gd name="textAreaLeft" fmla="*/ 0 w 3494160"/>
                  <a:gd name="textAreaRight" fmla="*/ 3494520 w 3494160"/>
                  <a:gd name="textAreaTop" fmla="*/ 0 h 274680"/>
                  <a:gd name="textAreaBottom" fmla="*/ 275040 h 274680"/>
                </a:gdLst>
                <a:ahLst/>
                <a:rect l="textAreaLeft" t="textAreaTop" r="textAreaRight" b="textAreaBottom"/>
                <a:pathLst>
                  <a:path w="1570" h="123">
                    <a:moveTo>
                      <a:pt x="2" y="122"/>
                    </a:moveTo>
                    <a:cubicBezTo>
                      <a:pt x="4" y="120"/>
                      <a:pt x="6" y="119"/>
                      <a:pt x="9" y="118"/>
                    </a:cubicBezTo>
                    <a:cubicBezTo>
                      <a:pt x="11" y="116"/>
                      <a:pt x="14" y="116"/>
                      <a:pt x="16" y="115"/>
                    </a:cubicBezTo>
                    <a:cubicBezTo>
                      <a:pt x="19" y="114"/>
                      <a:pt x="22" y="114"/>
                      <a:pt x="25" y="114"/>
                    </a:cubicBezTo>
                    <a:cubicBezTo>
                      <a:pt x="1545" y="114"/>
                      <a:pt x="1545" y="114"/>
                      <a:pt x="1545" y="114"/>
                    </a:cubicBezTo>
                    <a:cubicBezTo>
                      <a:pt x="1548" y="114"/>
                      <a:pt x="1551" y="114"/>
                      <a:pt x="1554" y="115"/>
                    </a:cubicBezTo>
                    <a:cubicBezTo>
                      <a:pt x="1556" y="116"/>
                      <a:pt x="1559" y="116"/>
                      <a:pt x="1561" y="118"/>
                    </a:cubicBezTo>
                    <a:cubicBezTo>
                      <a:pt x="1564" y="119"/>
                      <a:pt x="1566" y="120"/>
                      <a:pt x="1568" y="122"/>
                    </a:cubicBezTo>
                    <a:cubicBezTo>
                      <a:pt x="1570" y="123"/>
                      <a:pt x="1510" y="50"/>
                      <a:pt x="1479" y="11"/>
                    </a:cubicBezTo>
                    <a:cubicBezTo>
                      <a:pt x="1477" y="9"/>
                      <a:pt x="1475" y="8"/>
                      <a:pt x="1474" y="6"/>
                    </a:cubicBezTo>
                    <a:cubicBezTo>
                      <a:pt x="1472" y="5"/>
                      <a:pt x="1470" y="4"/>
                      <a:pt x="1468" y="3"/>
                    </a:cubicBezTo>
                    <a:cubicBezTo>
                      <a:pt x="1466" y="2"/>
                      <a:pt x="1463" y="1"/>
                      <a:pt x="1461" y="0"/>
                    </a:cubicBezTo>
                    <a:cubicBezTo>
                      <a:pt x="1458" y="0"/>
                      <a:pt x="1456" y="0"/>
                      <a:pt x="1453" y="0"/>
                    </a:cubicBezTo>
                    <a:cubicBezTo>
                      <a:pt x="117" y="0"/>
                      <a:pt x="117" y="0"/>
                      <a:pt x="117" y="0"/>
                    </a:cubicBezTo>
                    <a:cubicBezTo>
                      <a:pt x="114" y="0"/>
                      <a:pt x="112" y="0"/>
                      <a:pt x="109" y="0"/>
                    </a:cubicBezTo>
                    <a:cubicBezTo>
                      <a:pt x="107" y="1"/>
                      <a:pt x="104" y="2"/>
                      <a:pt x="102" y="3"/>
                    </a:cubicBezTo>
                    <a:cubicBezTo>
                      <a:pt x="100" y="4"/>
                      <a:pt x="98" y="5"/>
                      <a:pt x="96" y="6"/>
                    </a:cubicBezTo>
                    <a:cubicBezTo>
                      <a:pt x="94" y="8"/>
                      <a:pt x="93" y="9"/>
                      <a:pt x="91" y="11"/>
                    </a:cubicBezTo>
                    <a:cubicBezTo>
                      <a:pt x="60" y="50"/>
                      <a:pt x="0" y="123"/>
                      <a:pt x="2" y="12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Freeform 167"/>
            <p:cNvSpPr/>
            <p:nvPr/>
          </p:nvSpPr>
          <p:spPr>
            <a:xfrm>
              <a:off x="3690720" y="56977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7" h="1587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80"/>
            <p:cNvSpPr/>
            <p:nvPr/>
          </p:nvSpPr>
          <p:spPr>
            <a:xfrm>
              <a:off x="4376880" y="568656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58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14"/>
            <p:cNvSpPr/>
            <p:nvPr/>
          </p:nvSpPr>
          <p:spPr>
            <a:xfrm>
              <a:off x="4862520" y="5634360"/>
              <a:ext cx="1440" cy="61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587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3"/>
                    <a:pt x="0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33"/>
            <p:cNvSpPr/>
            <p:nvPr/>
          </p:nvSpPr>
          <p:spPr>
            <a:xfrm>
              <a:off x="2314440" y="558648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7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34"/>
            <p:cNvSpPr/>
            <p:nvPr/>
          </p:nvSpPr>
          <p:spPr>
            <a:xfrm>
              <a:off x="2842920" y="55818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588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8"/>
            <p:cNvSpPr/>
            <p:nvPr/>
          </p:nvSpPr>
          <p:spPr>
            <a:xfrm>
              <a:off x="3895560" y="5581800"/>
              <a:ext cx="4680" cy="14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39"/>
            <p:cNvSpPr/>
            <p:nvPr/>
          </p:nvSpPr>
          <p:spPr>
            <a:xfrm>
              <a:off x="3062160" y="55818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588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41"/>
            <p:cNvSpPr/>
            <p:nvPr/>
          </p:nvSpPr>
          <p:spPr>
            <a:xfrm>
              <a:off x="4516560" y="558180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58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43"/>
            <p:cNvSpPr/>
            <p:nvPr/>
          </p:nvSpPr>
          <p:spPr>
            <a:xfrm>
              <a:off x="4043160" y="558180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58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62"/>
            <p:cNvSpPr/>
            <p:nvPr/>
          </p:nvSpPr>
          <p:spPr>
            <a:xfrm>
              <a:off x="2314440" y="5562720"/>
              <a:ext cx="1440" cy="1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588" h="1588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301"/>
            <p:cNvSpPr/>
            <p:nvPr/>
          </p:nvSpPr>
          <p:spPr>
            <a:xfrm>
              <a:off x="2874600" y="4857840"/>
              <a:ext cx="3393000" cy="1584360"/>
            </a:xfrm>
            <a:custGeom>
              <a:avLst/>
              <a:gdLst>
                <a:gd name="textAreaLeft" fmla="*/ 0 w 3393000"/>
                <a:gd name="textAreaRight" fmla="*/ 3393360 w 339300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10099" h="10060">
                  <a:moveTo>
                    <a:pt x="9674" y="10060"/>
                  </a:moveTo>
                  <a:lnTo>
                    <a:pt x="469" y="10030"/>
                  </a:lnTo>
                  <a:cubicBezTo>
                    <a:pt x="261" y="6705"/>
                    <a:pt x="151" y="3414"/>
                    <a:pt x="0" y="30"/>
                  </a:cubicBezTo>
                  <a:cubicBezTo>
                    <a:pt x="3409" y="-40"/>
                    <a:pt x="6634" y="-50"/>
                    <a:pt x="10099" y="0"/>
                  </a:cubicBezTo>
                  <a:cubicBezTo>
                    <a:pt x="9953" y="3463"/>
                    <a:pt x="9777" y="6566"/>
                    <a:pt x="9674" y="10060"/>
                  </a:cubicBezTo>
                  <a:close/>
                </a:path>
              </a:pathLst>
            </a:custGeom>
            <a:solidFill>
              <a:srgbClr val="0079c5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Box 20"/>
            <p:cNvSpPr/>
            <p:nvPr/>
          </p:nvSpPr>
          <p:spPr>
            <a:xfrm>
              <a:off x="3981600" y="535752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校长办公室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椭圆 22"/>
          <p:cNvSpPr/>
          <p:nvPr/>
        </p:nvSpPr>
        <p:spPr>
          <a:xfrm>
            <a:off x="2647800" y="5037120"/>
            <a:ext cx="1227240" cy="1225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培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23"/>
          <p:cNvSpPr/>
          <p:nvPr/>
        </p:nvSpPr>
        <p:spPr>
          <a:xfrm>
            <a:off x="3490920" y="4281480"/>
            <a:ext cx="2160720" cy="2160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工作规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24"/>
          <p:cNvSpPr/>
          <p:nvPr/>
        </p:nvSpPr>
        <p:spPr>
          <a:xfrm>
            <a:off x="4881600" y="4516560"/>
            <a:ext cx="1836720" cy="1836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年鉴修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25"/>
          <p:cNvSpPr/>
          <p:nvPr/>
        </p:nvSpPr>
        <p:spPr>
          <a:xfrm>
            <a:off x="4194000" y="5587920"/>
            <a:ext cx="714600" cy="714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nodeType="clickEffect" fill="hold">
                      <p:stCondLst>
                        <p:cond delay="0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75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75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9" dur="75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96296E-006 L 0.00017 -0.53379 E">
                                      <p:cBhvr>
                                        <p:cTn id="821" dur="75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75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75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8" dur="75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11111E-006 L -0.00035 -0.32384 E">
                                      <p:cBhvr>
                                        <p:cTn id="830" dur="75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75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75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7" dur="75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59259E-006 L -0.00035 -0.36574 E">
                                      <p:cBhvr>
                                        <p:cTn id="839" dur="75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75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75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4" dur="75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85185E-006 L -0.00034 -0.4088 E">
                                      <p:cBhvr>
                                        <p:cTn id="846" dur="75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组合 1"/>
          <p:cNvGrpSpPr/>
          <p:nvPr/>
        </p:nvGrpSpPr>
        <p:grpSpPr>
          <a:xfrm>
            <a:off x="4622760" y="856800"/>
            <a:ext cx="2841840" cy="646200"/>
            <a:chOff x="4622760" y="856800"/>
            <a:chExt cx="2841840" cy="646200"/>
          </a:xfrm>
        </p:grpSpPr>
        <p:sp>
          <p:nvSpPr>
            <p:cNvPr id="321" name="AutoShape 112"/>
            <p:cNvSpPr/>
            <p:nvPr/>
          </p:nvSpPr>
          <p:spPr>
            <a:xfrm rot="16200000">
              <a:off x="5720400" y="-240840"/>
              <a:ext cx="646200" cy="2841840"/>
            </a:xfrm>
            <a:custGeom>
              <a:avLst/>
              <a:gdLst>
                <a:gd name="textAreaLeft" fmla="*/ 31320 w 646200"/>
                <a:gd name="textAreaRight" fmla="*/ 614880 w 646200"/>
                <a:gd name="textAreaTop" fmla="*/ 31320 h 2841840"/>
                <a:gd name="textAreaBottom" fmla="*/ 2810520 h 2841840"/>
              </a:gdLst>
              <a:ahLst/>
              <a:rect l="textAreaLeft" t="textAreaTop" r="textAreaRight" b="textAreaBottom"/>
              <a:pathLst>
                <a:path w="21600" h="94951">
                  <a:moveTo>
                    <a:pt x="3600" y="0"/>
                  </a:moveTo>
                  <a:arcTo wR="3600" hR="3600" stAng="16200000" swAng="-5400000"/>
                  <a:lnTo>
                    <a:pt x="0" y="91351"/>
                  </a:lnTo>
                  <a:arcTo wR="3600" hR="3600" stAng="10800000" swAng="-5400000"/>
                  <a:lnTo>
                    <a:pt x="18000" y="949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Box 3"/>
            <p:cNvSpPr/>
            <p:nvPr/>
          </p:nvSpPr>
          <p:spPr>
            <a:xfrm>
              <a:off x="5834520" y="957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院系工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直接连接符 5"/>
          <p:cNvSpPr/>
          <p:nvPr/>
        </p:nvSpPr>
        <p:spPr>
          <a:xfrm>
            <a:off x="4651200" y="0"/>
            <a:ext cx="0" cy="98100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组合 8"/>
          <p:cNvGrpSpPr/>
          <p:nvPr/>
        </p:nvGrpSpPr>
        <p:grpSpPr>
          <a:xfrm>
            <a:off x="4660920" y="856800"/>
            <a:ext cx="2841480" cy="646200"/>
            <a:chOff x="4660920" y="856800"/>
            <a:chExt cx="2841480" cy="646200"/>
          </a:xfrm>
        </p:grpSpPr>
        <p:sp>
          <p:nvSpPr>
            <p:cNvPr id="325" name="AutoShape 112"/>
            <p:cNvSpPr/>
            <p:nvPr/>
          </p:nvSpPr>
          <p:spPr>
            <a:xfrm rot="16200000">
              <a:off x="5758560" y="-240840"/>
              <a:ext cx="646200" cy="2841480"/>
            </a:xfrm>
            <a:custGeom>
              <a:avLst/>
              <a:gdLst>
                <a:gd name="textAreaLeft" fmla="*/ 31320 w 646200"/>
                <a:gd name="textAreaRight" fmla="*/ 614880 w 646200"/>
                <a:gd name="textAreaTop" fmla="*/ 31320 h 2841480"/>
                <a:gd name="textAreaBottom" fmla="*/ 2810160 h 2841480"/>
              </a:gdLst>
              <a:ahLst/>
              <a:rect l="textAreaLeft" t="textAreaTop" r="textAreaRight" b="textAreaBottom"/>
              <a:pathLst>
                <a:path w="21600" h="94939">
                  <a:moveTo>
                    <a:pt x="3600" y="0"/>
                  </a:moveTo>
                  <a:arcTo wR="3600" hR="3600" stAng="16200000" swAng="-5400000"/>
                  <a:lnTo>
                    <a:pt x="0" y="91339"/>
                  </a:lnTo>
                  <a:arcTo wR="3600" hR="3600" stAng="10800000" swAng="-5400000"/>
                  <a:lnTo>
                    <a:pt x="18000" y="949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Box 10"/>
            <p:cNvSpPr/>
            <p:nvPr/>
          </p:nvSpPr>
          <p:spPr>
            <a:xfrm>
              <a:off x="5872320" y="957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教学方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圆角矩形 12"/>
          <p:cNvSpPr/>
          <p:nvPr/>
        </p:nvSpPr>
        <p:spPr>
          <a:xfrm>
            <a:off x="4921200" y="1619280"/>
            <a:ext cx="2584440" cy="1584360"/>
          </a:xfrm>
          <a:prstGeom prst="pie">
            <a:avLst/>
          </a:prstGeom>
          <a:gradFill rotWithShape="0">
            <a:gsLst>
              <a:gs pos="0">
                <a:srgbClr val="8cb3e3"/>
              </a:gs>
              <a:gs pos="100000">
                <a:srgbClr val="007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英语四级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算机程序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沿讲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组合 13"/>
          <p:cNvGrpSpPr/>
          <p:nvPr/>
        </p:nvGrpSpPr>
        <p:grpSpPr>
          <a:xfrm>
            <a:off x="1792080" y="2238480"/>
            <a:ext cx="2842920" cy="645840"/>
            <a:chOff x="1792080" y="2238480"/>
            <a:chExt cx="2842920" cy="645840"/>
          </a:xfrm>
        </p:grpSpPr>
        <p:sp>
          <p:nvSpPr>
            <p:cNvPr id="329" name="AutoShape 112"/>
            <p:cNvSpPr/>
            <p:nvPr/>
          </p:nvSpPr>
          <p:spPr>
            <a:xfrm flipH="1" rot="5400000">
              <a:off x="2890080" y="1139760"/>
              <a:ext cx="645840" cy="2842920"/>
            </a:xfrm>
            <a:custGeom>
              <a:avLst/>
              <a:gdLst>
                <a:gd name="textAreaLeft" fmla="*/ 31320 w 645840"/>
                <a:gd name="textAreaRight" fmla="*/ 614520 w 645840"/>
                <a:gd name="textAreaTop" fmla="*/ 31320 h 2842920"/>
                <a:gd name="textAreaBottom" fmla="*/ 2811600 h 2842920"/>
              </a:gdLst>
              <a:ahLst/>
              <a:rect l="textAreaLeft" t="textAreaTop" r="textAreaRight" b="textAreaBottom"/>
              <a:pathLst>
                <a:path w="21600" h="95040">
                  <a:moveTo>
                    <a:pt x="3600" y="0"/>
                  </a:moveTo>
                  <a:arcTo wR="3600" hR="3600" stAng="16200000" swAng="-5400000"/>
                  <a:lnTo>
                    <a:pt x="0" y="91440"/>
                  </a:lnTo>
                  <a:arcTo wR="3600" hR="3600" stAng="10800000" swAng="-5400000"/>
                  <a:lnTo>
                    <a:pt x="18000" y="950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Box 15"/>
            <p:cNvSpPr/>
            <p:nvPr/>
          </p:nvSpPr>
          <p:spPr>
            <a:xfrm flipH="1">
              <a:off x="2510640" y="23389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辅助管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圆角矩形 12"/>
          <p:cNvSpPr/>
          <p:nvPr/>
        </p:nvSpPr>
        <p:spPr>
          <a:xfrm flipH="1">
            <a:off x="1828080" y="2997360"/>
            <a:ext cx="2584440" cy="1201680"/>
          </a:xfrm>
          <a:prstGeom prst="pie">
            <a:avLst/>
          </a:prstGeom>
          <a:gradFill rotWithShape="0">
            <a:gsLst>
              <a:gs pos="0">
                <a:srgbClr val="8cb3e3"/>
              </a:gs>
              <a:gs pos="100000">
                <a:srgbClr val="007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验室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班主任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生组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组合 17"/>
          <p:cNvGrpSpPr/>
          <p:nvPr/>
        </p:nvGrpSpPr>
        <p:grpSpPr>
          <a:xfrm>
            <a:off x="4662360" y="3860640"/>
            <a:ext cx="2843280" cy="648000"/>
            <a:chOff x="4662360" y="3860640"/>
            <a:chExt cx="2843280" cy="648000"/>
          </a:xfrm>
        </p:grpSpPr>
        <p:sp>
          <p:nvSpPr>
            <p:cNvPr id="333" name="AutoShape 112"/>
            <p:cNvSpPr/>
            <p:nvPr/>
          </p:nvSpPr>
          <p:spPr>
            <a:xfrm rot="16200000">
              <a:off x="5760000" y="2763000"/>
              <a:ext cx="648000" cy="2843280"/>
            </a:xfrm>
            <a:custGeom>
              <a:avLst/>
              <a:gdLst>
                <a:gd name="textAreaLeft" fmla="*/ 31320 w 648000"/>
                <a:gd name="textAreaRight" fmla="*/ 616680 w 648000"/>
                <a:gd name="textAreaTop" fmla="*/ 31320 h 2843280"/>
                <a:gd name="textAreaBottom" fmla="*/ 2811960 h 2843280"/>
              </a:gdLst>
              <a:ahLst/>
              <a:rect l="textAreaLeft" t="textAreaTop" r="textAreaRight" b="textAreaBottom"/>
              <a:pathLst>
                <a:path w="21600" h="94735">
                  <a:moveTo>
                    <a:pt x="3600" y="0"/>
                  </a:moveTo>
                  <a:arcTo wR="3600" hR="3600" stAng="16200000" swAng="-5400000"/>
                  <a:lnTo>
                    <a:pt x="0" y="91135"/>
                  </a:lnTo>
                  <a:arcTo wR="3600" hR="3600" stAng="10800000" swAng="-5400000"/>
                  <a:lnTo>
                    <a:pt x="18000" y="947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19"/>
            <p:cNvSpPr/>
            <p:nvPr/>
          </p:nvSpPr>
          <p:spPr>
            <a:xfrm>
              <a:off x="5875200" y="3961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团队训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圆角矩形 12"/>
          <p:cNvSpPr/>
          <p:nvPr/>
        </p:nvSpPr>
        <p:spPr>
          <a:xfrm>
            <a:off x="4932360" y="4619520"/>
            <a:ext cx="2584440" cy="897120"/>
          </a:xfrm>
          <a:prstGeom prst="pie">
            <a:avLst/>
          </a:prstGeom>
          <a:gradFill rotWithShape="0">
            <a:gsLst>
              <a:gs pos="0">
                <a:srgbClr val="8cb3e3"/>
              </a:gs>
              <a:gs pos="100000">
                <a:srgbClr val="007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训练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训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直接连接符 21"/>
          <p:cNvSpPr/>
          <p:nvPr/>
        </p:nvSpPr>
        <p:spPr>
          <a:xfrm>
            <a:off x="4651200" y="971640"/>
            <a:ext cx="0" cy="162864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直接连接符 24"/>
          <p:cNvSpPr/>
          <p:nvPr/>
        </p:nvSpPr>
        <p:spPr>
          <a:xfrm>
            <a:off x="4651200" y="2570040"/>
            <a:ext cx="0" cy="162900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直接连接符 27"/>
          <p:cNvSpPr/>
          <p:nvPr/>
        </p:nvSpPr>
        <p:spPr>
          <a:xfrm>
            <a:off x="4656240" y="4140360"/>
            <a:ext cx="1440" cy="274464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0" descr="C:\Users\TITAN\Desktop\新建文件夹\2006413161622724.png"/>
          <p:cNvPicPr/>
          <p:nvPr/>
        </p:nvPicPr>
        <p:blipFill>
          <a:blip r:embed="rId1"/>
          <a:stretch/>
        </p:blipFill>
        <p:spPr>
          <a:xfrm>
            <a:off x="4292640" y="836640"/>
            <a:ext cx="7189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nodeType="clickEffect" fill="hold">
                      <p:stCondLst>
                        <p:cond delay="0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25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1" dur="25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96296E-006 L 0.26701 2.96296E-006 E">
                                      <p:cBhvr>
                                        <p:cTn id="865" dur="5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701 2.96296E-006 L -0.00087 2.96296E-006 E">
                                      <p:cBhvr>
                                        <p:cTn id="871" dur="5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25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5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2.96296E-006 L -0.00174 0.19953 E">
                                      <p:cBhvr>
                                        <p:cTn id="883" dur="5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4 0.19953 L -0.29219 0.19953 E">
                                      <p:cBhvr>
                                        <p:cTn id="890" dur="25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89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219 0.19953 L -0.00087 0.19953 E">
                                      <p:cBhvr>
                                        <p:cTn id="893" dur="5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25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25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4 0.19953 L -0.00087 0.44097 E">
                                      <p:cBhvr>
                                        <p:cTn id="904" dur="5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0.44097 L 0.29844 0.44097 E">
                                      <p:cBhvr>
                                        <p:cTn id="911" dur="25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91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844 0.44097 L -0.00087 0.44097 E">
                                      <p:cBhvr>
                                        <p:cTn id="914" dur="5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25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25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0.44097 L -0.00087 0.88194 E">
                                      <p:cBhvr>
                                        <p:cTn id="925" dur="5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直接连接符 1"/>
          <p:cNvSpPr/>
          <p:nvPr/>
        </p:nvSpPr>
        <p:spPr>
          <a:xfrm>
            <a:off x="4643280" y="-27000"/>
            <a:ext cx="1800" cy="90792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组合 9"/>
          <p:cNvGrpSpPr/>
          <p:nvPr/>
        </p:nvGrpSpPr>
        <p:grpSpPr>
          <a:xfrm>
            <a:off x="1809720" y="561600"/>
            <a:ext cx="5689800" cy="650880"/>
            <a:chOff x="1809720" y="561600"/>
            <a:chExt cx="5689800" cy="650880"/>
          </a:xfrm>
        </p:grpSpPr>
        <p:grpSp>
          <p:nvGrpSpPr>
            <p:cNvPr id="342" name="组合 2"/>
            <p:cNvGrpSpPr/>
            <p:nvPr/>
          </p:nvGrpSpPr>
          <p:grpSpPr>
            <a:xfrm>
              <a:off x="4656960" y="565560"/>
              <a:ext cx="2842560" cy="646920"/>
              <a:chOff x="4656960" y="565560"/>
              <a:chExt cx="2842560" cy="646920"/>
            </a:xfrm>
          </p:grpSpPr>
          <p:sp>
            <p:nvSpPr>
              <p:cNvPr id="343" name="AutoShape 112"/>
              <p:cNvSpPr/>
              <p:nvPr/>
            </p:nvSpPr>
            <p:spPr>
              <a:xfrm rot="16200000">
                <a:off x="5754600" y="-532080"/>
                <a:ext cx="646920" cy="2842560"/>
              </a:xfrm>
              <a:custGeom>
                <a:avLst/>
                <a:gdLst>
                  <a:gd name="textAreaLeft" fmla="*/ 31320 w 646920"/>
                  <a:gd name="textAreaRight" fmla="*/ 615600 w 646920"/>
                  <a:gd name="textAreaTop" fmla="*/ 31320 h 2842560"/>
                  <a:gd name="textAreaBottom" fmla="*/ 2811240 h 2842560"/>
                </a:gdLst>
                <a:ahLst/>
                <a:rect l="textAreaLeft" t="textAreaTop" r="textAreaRight" b="textAreaBottom"/>
                <a:pathLst>
                  <a:path w="21600" h="94869">
                    <a:moveTo>
                      <a:pt x="3600" y="0"/>
                    </a:moveTo>
                    <a:arcTo wR="3600" hR="3600" stAng="16200000" swAng="-5400000"/>
                    <a:lnTo>
                      <a:pt x="0" y="91269"/>
                    </a:lnTo>
                    <a:arcTo wR="3600" hR="3600" stAng="10800000" swAng="-5400000"/>
                    <a:lnTo>
                      <a:pt x="18000" y="9486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54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Box 4"/>
              <p:cNvSpPr/>
              <p:nvPr/>
            </p:nvSpPr>
            <p:spPr>
              <a:xfrm>
                <a:off x="5821200" y="66600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校友会工作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AutoShape 112"/>
            <p:cNvSpPr/>
            <p:nvPr/>
          </p:nvSpPr>
          <p:spPr>
            <a:xfrm flipH="1" rot="5400000">
              <a:off x="2907360" y="-536040"/>
              <a:ext cx="646920" cy="2842560"/>
            </a:xfrm>
            <a:custGeom>
              <a:avLst/>
              <a:gdLst>
                <a:gd name="textAreaLeft" fmla="*/ 31320 w 646920"/>
                <a:gd name="textAreaRight" fmla="*/ 615600 w 646920"/>
                <a:gd name="textAreaTop" fmla="*/ 31320 h 2842560"/>
                <a:gd name="textAreaBottom" fmla="*/ 2811240 h 2842560"/>
              </a:gdLst>
              <a:ahLst/>
              <a:rect l="textAreaLeft" t="textAreaTop" r="textAreaRight" b="textAreaBottom"/>
              <a:pathLst>
                <a:path w="21600" h="94869">
                  <a:moveTo>
                    <a:pt x="3600" y="0"/>
                  </a:moveTo>
                  <a:arcTo wR="3600" hR="3600" stAng="16200000" swAng="-5400000"/>
                  <a:lnTo>
                    <a:pt x="0" y="91269"/>
                  </a:lnTo>
                  <a:arcTo wR="3600" hR="3600" stAng="10800000" swAng="-5400000"/>
                  <a:lnTo>
                    <a:pt x="18000" y="948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组合 11"/>
          <p:cNvGrpSpPr/>
          <p:nvPr/>
        </p:nvGrpSpPr>
        <p:grpSpPr>
          <a:xfrm>
            <a:off x="1809720" y="561600"/>
            <a:ext cx="5689800" cy="650880"/>
            <a:chOff x="1809720" y="561600"/>
            <a:chExt cx="5689800" cy="650880"/>
          </a:xfrm>
        </p:grpSpPr>
        <p:grpSp>
          <p:nvGrpSpPr>
            <p:cNvPr id="347" name="组合 12"/>
            <p:cNvGrpSpPr/>
            <p:nvPr/>
          </p:nvGrpSpPr>
          <p:grpSpPr>
            <a:xfrm>
              <a:off x="4656960" y="565560"/>
              <a:ext cx="2842560" cy="646920"/>
              <a:chOff x="4656960" y="565560"/>
              <a:chExt cx="2842560" cy="646920"/>
            </a:xfrm>
          </p:grpSpPr>
          <p:sp>
            <p:nvSpPr>
              <p:cNvPr id="348" name="AutoShape 112"/>
              <p:cNvSpPr/>
              <p:nvPr/>
            </p:nvSpPr>
            <p:spPr>
              <a:xfrm rot="16200000">
                <a:off x="5754600" y="-532080"/>
                <a:ext cx="646920" cy="2842560"/>
              </a:xfrm>
              <a:custGeom>
                <a:avLst/>
                <a:gdLst>
                  <a:gd name="textAreaLeft" fmla="*/ 31320 w 646920"/>
                  <a:gd name="textAreaRight" fmla="*/ 615600 w 646920"/>
                  <a:gd name="textAreaTop" fmla="*/ 31320 h 2842560"/>
                  <a:gd name="textAreaBottom" fmla="*/ 2811240 h 2842560"/>
                </a:gdLst>
                <a:ahLst/>
                <a:rect l="textAreaLeft" t="textAreaTop" r="textAreaRight" b="textAreaBottom"/>
                <a:pathLst>
                  <a:path w="21600" h="94869">
                    <a:moveTo>
                      <a:pt x="3600" y="0"/>
                    </a:moveTo>
                    <a:arcTo wR="3600" hR="3600" stAng="16200000" swAng="-5400000"/>
                    <a:lnTo>
                      <a:pt x="0" y="91269"/>
                    </a:lnTo>
                    <a:arcTo wR="3600" hR="3600" stAng="10800000" swAng="-5400000"/>
                    <a:lnTo>
                      <a:pt x="18000" y="9486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54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TextBox 15"/>
              <p:cNvSpPr/>
              <p:nvPr/>
            </p:nvSpPr>
            <p:spPr>
              <a:xfrm rot="16200000">
                <a:off x="5934240" y="-197640"/>
                <a:ext cx="510120" cy="20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0" bIns="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校友会网站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AutoShape 112"/>
            <p:cNvSpPr/>
            <p:nvPr/>
          </p:nvSpPr>
          <p:spPr>
            <a:xfrm flipH="1" rot="5400000">
              <a:off x="2907360" y="-536040"/>
              <a:ext cx="646920" cy="2842560"/>
            </a:xfrm>
            <a:custGeom>
              <a:avLst/>
              <a:gdLst>
                <a:gd name="textAreaLeft" fmla="*/ 31320 w 646920"/>
                <a:gd name="textAreaRight" fmla="*/ 615600 w 646920"/>
                <a:gd name="textAreaTop" fmla="*/ 31320 h 2842560"/>
                <a:gd name="textAreaBottom" fmla="*/ 2811240 h 2842560"/>
              </a:gdLst>
              <a:ahLst/>
              <a:rect l="textAreaLeft" t="textAreaTop" r="textAreaRight" b="textAreaBottom"/>
              <a:pathLst>
                <a:path w="21600" h="94869">
                  <a:moveTo>
                    <a:pt x="3600" y="0"/>
                  </a:moveTo>
                  <a:arcTo wR="3600" hR="3600" stAng="16200000" swAng="-5400000"/>
                  <a:lnTo>
                    <a:pt x="0" y="91269"/>
                  </a:lnTo>
                  <a:arcTo wR="3600" hR="3600" stAng="10800000" swAng="-5400000"/>
                  <a:lnTo>
                    <a:pt x="18000" y="948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组合 16"/>
          <p:cNvGrpSpPr/>
          <p:nvPr/>
        </p:nvGrpSpPr>
        <p:grpSpPr>
          <a:xfrm>
            <a:off x="1809720" y="561600"/>
            <a:ext cx="5689800" cy="650880"/>
            <a:chOff x="1809720" y="561600"/>
            <a:chExt cx="5689800" cy="650880"/>
          </a:xfrm>
        </p:grpSpPr>
        <p:grpSp>
          <p:nvGrpSpPr>
            <p:cNvPr id="352" name="组合 17"/>
            <p:cNvGrpSpPr/>
            <p:nvPr/>
          </p:nvGrpSpPr>
          <p:grpSpPr>
            <a:xfrm>
              <a:off x="4656960" y="565560"/>
              <a:ext cx="2842560" cy="646920"/>
              <a:chOff x="4656960" y="565560"/>
              <a:chExt cx="2842560" cy="646920"/>
            </a:xfrm>
          </p:grpSpPr>
          <p:sp>
            <p:nvSpPr>
              <p:cNvPr id="353" name="AutoShape 112"/>
              <p:cNvSpPr/>
              <p:nvPr/>
            </p:nvSpPr>
            <p:spPr>
              <a:xfrm rot="16200000">
                <a:off x="5754600" y="-532080"/>
                <a:ext cx="646920" cy="2842560"/>
              </a:xfrm>
              <a:custGeom>
                <a:avLst/>
                <a:gdLst>
                  <a:gd name="textAreaLeft" fmla="*/ 31320 w 646920"/>
                  <a:gd name="textAreaRight" fmla="*/ 615600 w 646920"/>
                  <a:gd name="textAreaTop" fmla="*/ 31320 h 2842560"/>
                  <a:gd name="textAreaBottom" fmla="*/ 2811240 h 2842560"/>
                </a:gdLst>
                <a:ahLst/>
                <a:rect l="textAreaLeft" t="textAreaTop" r="textAreaRight" b="textAreaBottom"/>
                <a:pathLst>
                  <a:path w="21600" h="94869">
                    <a:moveTo>
                      <a:pt x="3600" y="0"/>
                    </a:moveTo>
                    <a:arcTo wR="3600" hR="3600" stAng="16200000" swAng="-5400000"/>
                    <a:lnTo>
                      <a:pt x="0" y="91269"/>
                    </a:lnTo>
                    <a:arcTo wR="3600" hR="3600" stAng="10800000" swAng="-5400000"/>
                    <a:lnTo>
                      <a:pt x="18000" y="9486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54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TextBox 20"/>
              <p:cNvSpPr/>
              <p:nvPr/>
            </p:nvSpPr>
            <p:spPr>
              <a:xfrm flipV="1">
                <a:off x="5644440" y="667800"/>
                <a:ext cx="127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百年校庆工作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AutoShape 112"/>
            <p:cNvSpPr/>
            <p:nvPr/>
          </p:nvSpPr>
          <p:spPr>
            <a:xfrm flipH="1" rot="5400000">
              <a:off x="2907360" y="-536040"/>
              <a:ext cx="646920" cy="2842560"/>
            </a:xfrm>
            <a:custGeom>
              <a:avLst/>
              <a:gdLst>
                <a:gd name="textAreaLeft" fmla="*/ 31320 w 646920"/>
                <a:gd name="textAreaRight" fmla="*/ 615600 w 646920"/>
                <a:gd name="textAreaTop" fmla="*/ 31320 h 2842560"/>
                <a:gd name="textAreaBottom" fmla="*/ 2811240 h 2842560"/>
              </a:gdLst>
              <a:ahLst/>
              <a:rect l="textAreaLeft" t="textAreaTop" r="textAreaRight" b="textAreaBottom"/>
              <a:pathLst>
                <a:path w="21600" h="94869">
                  <a:moveTo>
                    <a:pt x="3600" y="0"/>
                  </a:moveTo>
                  <a:arcTo wR="3600" hR="3600" stAng="16200000" swAng="-5400000"/>
                  <a:lnTo>
                    <a:pt x="0" y="91269"/>
                  </a:lnTo>
                  <a:arcTo wR="3600" hR="3600" stAng="10800000" swAng="-5400000"/>
                  <a:lnTo>
                    <a:pt x="18000" y="948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6" name="Picture 13" descr="C:\Users\TITAN\Desktop\新建文件夹\2006413161725253.png"/>
          <p:cNvPicPr/>
          <p:nvPr/>
        </p:nvPicPr>
        <p:blipFill>
          <a:blip r:embed="rId1"/>
          <a:stretch/>
        </p:blipFill>
        <p:spPr>
          <a:xfrm>
            <a:off x="4297320" y="549360"/>
            <a:ext cx="719280" cy="718920"/>
          </a:xfrm>
          <a:prstGeom prst="rect">
            <a:avLst/>
          </a:prstGeom>
          <a:ln w="0">
            <a:noFill/>
          </a:ln>
        </p:spPr>
      </p:pic>
      <p:grpSp>
        <p:nvGrpSpPr>
          <p:cNvPr id="357" name="组合 22"/>
          <p:cNvGrpSpPr/>
          <p:nvPr/>
        </p:nvGrpSpPr>
        <p:grpSpPr>
          <a:xfrm>
            <a:off x="4932360" y="1735200"/>
            <a:ext cx="4095720" cy="4502160"/>
            <a:chOff x="4932360" y="1735200"/>
            <a:chExt cx="4095720" cy="4502160"/>
          </a:xfrm>
        </p:grpSpPr>
        <p:pic>
          <p:nvPicPr>
            <p:cNvPr id="358" name="Picture 5" descr=""/>
            <p:cNvPicPr/>
            <p:nvPr/>
          </p:nvPicPr>
          <p:blipFill>
            <a:blip r:embed="rId2"/>
            <a:srcRect l="27074" t="6614" r="27714" b="9071"/>
            <a:stretch/>
          </p:blipFill>
          <p:spPr>
            <a:xfrm>
              <a:off x="5016240" y="1798560"/>
              <a:ext cx="3940200" cy="43624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359" name="矩形 21"/>
            <p:cNvSpPr/>
            <p:nvPr/>
          </p:nvSpPr>
          <p:spPr>
            <a:xfrm>
              <a:off x="4932360" y="1735200"/>
              <a:ext cx="4095720" cy="4502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组合 23"/>
          <p:cNvGrpSpPr/>
          <p:nvPr/>
        </p:nvGrpSpPr>
        <p:grpSpPr>
          <a:xfrm>
            <a:off x="4932360" y="1735200"/>
            <a:ext cx="4095720" cy="4502160"/>
            <a:chOff x="4932360" y="1735200"/>
            <a:chExt cx="4095720" cy="4502160"/>
          </a:xfrm>
        </p:grpSpPr>
        <p:pic>
          <p:nvPicPr>
            <p:cNvPr id="361" name="Picture 4" descr=""/>
            <p:cNvPicPr/>
            <p:nvPr/>
          </p:nvPicPr>
          <p:blipFill>
            <a:blip r:embed="rId3"/>
            <a:srcRect l="26831" t="6943" r="28160" b="7574"/>
            <a:stretch/>
          </p:blipFill>
          <p:spPr>
            <a:xfrm>
              <a:off x="5032080" y="1784160"/>
              <a:ext cx="3897360" cy="439596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362" name="矩形 27"/>
            <p:cNvSpPr/>
            <p:nvPr/>
          </p:nvSpPr>
          <p:spPr>
            <a:xfrm>
              <a:off x="4932360" y="1735200"/>
              <a:ext cx="4095720" cy="4502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组合 24"/>
          <p:cNvGrpSpPr/>
          <p:nvPr/>
        </p:nvGrpSpPr>
        <p:grpSpPr>
          <a:xfrm>
            <a:off x="4932360" y="1735200"/>
            <a:ext cx="4095720" cy="4502160"/>
            <a:chOff x="4932360" y="1735200"/>
            <a:chExt cx="4095720" cy="4502160"/>
          </a:xfrm>
        </p:grpSpPr>
        <p:pic>
          <p:nvPicPr>
            <p:cNvPr id="364" name="Picture 3" descr=""/>
            <p:cNvPicPr/>
            <p:nvPr/>
          </p:nvPicPr>
          <p:blipFill>
            <a:blip r:embed="rId4"/>
            <a:srcRect l="26604" t="7654" r="26852" b="4879"/>
            <a:stretch/>
          </p:blipFill>
          <p:spPr>
            <a:xfrm>
              <a:off x="5016240" y="1793880"/>
              <a:ext cx="3938760" cy="439740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365" name="矩形 29"/>
            <p:cNvSpPr/>
            <p:nvPr/>
          </p:nvSpPr>
          <p:spPr>
            <a:xfrm>
              <a:off x="4932360" y="1735200"/>
              <a:ext cx="4095720" cy="4502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TextBox 25"/>
          <p:cNvSpPr/>
          <p:nvPr/>
        </p:nvSpPr>
        <p:spPr>
          <a:xfrm>
            <a:off x="1680480" y="1903320"/>
            <a:ext cx="2280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昆仑情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校友访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穿越时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饮水思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激情岁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强不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志存高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28"/>
          <p:cNvSpPr/>
          <p:nvPr/>
        </p:nvSpPr>
        <p:spPr>
          <a:xfrm>
            <a:off x="611280" y="4898880"/>
            <a:ext cx="779400" cy="136872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接连接符 39"/>
          <p:cNvSpPr/>
          <p:nvPr/>
        </p:nvSpPr>
        <p:spPr>
          <a:xfrm>
            <a:off x="1720800" y="4537080"/>
            <a:ext cx="779400" cy="136836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直接连接符 40"/>
          <p:cNvSpPr/>
          <p:nvPr/>
        </p:nvSpPr>
        <p:spPr>
          <a:xfrm flipV="1">
            <a:off x="611280" y="4536720"/>
            <a:ext cx="1109520" cy="36180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直接连接符 43"/>
          <p:cNvSpPr/>
          <p:nvPr/>
        </p:nvSpPr>
        <p:spPr>
          <a:xfrm flipV="1">
            <a:off x="1390680" y="5886360"/>
            <a:ext cx="1109520" cy="36360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直接连接符 44"/>
          <p:cNvSpPr/>
          <p:nvPr/>
        </p:nvSpPr>
        <p:spPr>
          <a:xfrm flipV="1">
            <a:off x="1008000" y="4984560"/>
            <a:ext cx="800280" cy="2617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直接连接符 46"/>
          <p:cNvSpPr/>
          <p:nvPr/>
        </p:nvSpPr>
        <p:spPr>
          <a:xfrm flipV="1">
            <a:off x="1066680" y="5184720"/>
            <a:ext cx="798480" cy="26208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直接连接符 47"/>
          <p:cNvSpPr/>
          <p:nvPr/>
        </p:nvSpPr>
        <p:spPr>
          <a:xfrm flipV="1">
            <a:off x="1181160" y="5356080"/>
            <a:ext cx="798480" cy="26208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直接连接符 48"/>
          <p:cNvSpPr/>
          <p:nvPr/>
        </p:nvSpPr>
        <p:spPr>
          <a:xfrm flipV="1">
            <a:off x="1293840" y="5526000"/>
            <a:ext cx="799920" cy="26208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接连接符 49"/>
          <p:cNvSpPr/>
          <p:nvPr/>
        </p:nvSpPr>
        <p:spPr>
          <a:xfrm flipV="1">
            <a:off x="1407960" y="5697360"/>
            <a:ext cx="798840" cy="26208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直接连接符 52"/>
          <p:cNvSpPr/>
          <p:nvPr/>
        </p:nvSpPr>
        <p:spPr>
          <a:xfrm>
            <a:off x="405360" y="5162760"/>
            <a:ext cx="905400" cy="128844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直接连接符 54"/>
          <p:cNvSpPr/>
          <p:nvPr/>
        </p:nvSpPr>
        <p:spPr>
          <a:xfrm flipV="1">
            <a:off x="404640" y="5040360"/>
            <a:ext cx="268560" cy="12240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直接连接符 55"/>
          <p:cNvSpPr/>
          <p:nvPr/>
        </p:nvSpPr>
        <p:spPr>
          <a:xfrm flipV="1">
            <a:off x="1307160" y="5977440"/>
            <a:ext cx="1070280" cy="46728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nodeType="clickEffect" fill="hold">
                      <p:stCondLst>
                        <p:cond delay="0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0.13241 L -2.5E-006 2.59259E-006 E">
                                      <p:cBhvr>
                                        <p:cTn id="939" dur="25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35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35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5" dur="35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95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25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25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5" dur="25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25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69" dur="25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9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25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25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9" dur="25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25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83" dur="25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9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25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25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995" dur="75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9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9" dur="1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nodeType="afterEffect" fill="hold">
                            <p:stCondLst>
                              <p:cond delay="850"/>
                            </p:stCondLst>
                            <p:childTnLst>
                              <p:par>
                                <p:cTn id="10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3" dur="1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10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1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nodeType="afterEffect" fill="hold">
                            <p:stCondLst>
                              <p:cond delay="1050"/>
                            </p:stCondLst>
                            <p:childTnLst>
                              <p:par>
                                <p:cTn id="10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1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10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1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1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1" dur="1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4" dur="1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1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1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0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4" dur="1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10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1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10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563 0.30046 L -0.02118 -0.01459 E">
                                      <p:cBhvr>
                                        <p:cTn id="1046" dur="5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0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6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2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8" dur="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4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0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6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2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8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4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0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6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1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2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2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8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4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0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7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5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3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5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9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直接连接符 1"/>
          <p:cNvSpPr/>
          <p:nvPr/>
        </p:nvSpPr>
        <p:spPr>
          <a:xfrm>
            <a:off x="4643280" y="-27000"/>
            <a:ext cx="1800" cy="90792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组合 4"/>
          <p:cNvGrpSpPr/>
          <p:nvPr/>
        </p:nvGrpSpPr>
        <p:grpSpPr>
          <a:xfrm>
            <a:off x="4446360" y="647280"/>
            <a:ext cx="2574360" cy="2349720"/>
            <a:chOff x="4446360" y="647280"/>
            <a:chExt cx="2574360" cy="2349720"/>
          </a:xfrm>
        </p:grpSpPr>
        <p:sp>
          <p:nvSpPr>
            <p:cNvPr id="381" name="AutoShape 112"/>
            <p:cNvSpPr/>
            <p:nvPr/>
          </p:nvSpPr>
          <p:spPr>
            <a:xfrm rot="18651600">
              <a:off x="5409360" y="400320"/>
              <a:ext cx="647640" cy="2843280"/>
            </a:xfrm>
            <a:custGeom>
              <a:avLst/>
              <a:gdLst>
                <a:gd name="textAreaLeft" fmla="*/ 31320 w 647640"/>
                <a:gd name="textAreaRight" fmla="*/ 616320 w 647640"/>
                <a:gd name="textAreaTop" fmla="*/ 31320 h 2843280"/>
                <a:gd name="textAreaBottom" fmla="*/ 2811960 h 2843280"/>
              </a:gdLst>
              <a:ahLst/>
              <a:rect l="textAreaLeft" t="textAreaTop" r="textAreaRight" b="textAreaBottom"/>
              <a:pathLst>
                <a:path w="21600" h="94788">
                  <a:moveTo>
                    <a:pt x="3600" y="0"/>
                  </a:moveTo>
                  <a:arcTo wR="3600" hR="3600" stAng="16200000" swAng="-5400000"/>
                  <a:lnTo>
                    <a:pt x="0" y="91188"/>
                  </a:lnTo>
                  <a:arcTo wR="3600" hR="3600" stAng="10800000" swAng="-5400000"/>
                  <a:lnTo>
                    <a:pt x="18000" y="9478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Box 6"/>
            <p:cNvSpPr/>
            <p:nvPr/>
          </p:nvSpPr>
          <p:spPr>
            <a:xfrm rot="2451600">
              <a:off x="5440680" y="18223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团省委工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3" name="Picture 13" descr="C:\Users\TITAN\Desktop\新建文件夹\2006413161725253.png"/>
          <p:cNvPicPr/>
          <p:nvPr/>
        </p:nvPicPr>
        <p:blipFill>
          <a:blip r:embed="rId1"/>
          <a:stretch/>
        </p:blipFill>
        <p:spPr>
          <a:xfrm>
            <a:off x="4297320" y="549360"/>
            <a:ext cx="719280" cy="718920"/>
          </a:xfrm>
          <a:prstGeom prst="rect">
            <a:avLst/>
          </a:prstGeom>
          <a:ln w="0">
            <a:noFill/>
          </a:ln>
        </p:spPr>
      </p:pic>
      <p:grpSp>
        <p:nvGrpSpPr>
          <p:cNvPr id="384" name="组合 25"/>
          <p:cNvGrpSpPr/>
          <p:nvPr/>
        </p:nvGrpSpPr>
        <p:grpSpPr>
          <a:xfrm>
            <a:off x="3489480" y="2400480"/>
            <a:ext cx="2026080" cy="2943000"/>
            <a:chOff x="3489480" y="2400480"/>
            <a:chExt cx="2026080" cy="2943000"/>
          </a:xfrm>
        </p:grpSpPr>
        <p:grpSp>
          <p:nvGrpSpPr>
            <p:cNvPr id="385" name="组合 18"/>
            <p:cNvGrpSpPr/>
            <p:nvPr/>
          </p:nvGrpSpPr>
          <p:grpSpPr>
            <a:xfrm>
              <a:off x="3533040" y="2559600"/>
              <a:ext cx="1982520" cy="2783880"/>
              <a:chOff x="3533040" y="2559600"/>
              <a:chExt cx="1982520" cy="2783880"/>
            </a:xfrm>
          </p:grpSpPr>
          <p:sp>
            <p:nvSpPr>
              <p:cNvPr id="386" name="AutoShape 112"/>
              <p:cNvSpPr/>
              <p:nvPr/>
            </p:nvSpPr>
            <p:spPr>
              <a:xfrm rot="19797600">
                <a:off x="4200840" y="2530440"/>
                <a:ext cx="646560" cy="2841840"/>
              </a:xfrm>
              <a:custGeom>
                <a:avLst/>
                <a:gdLst>
                  <a:gd name="textAreaLeft" fmla="*/ 31320 w 646560"/>
                  <a:gd name="textAreaRight" fmla="*/ 615240 w 646560"/>
                  <a:gd name="textAreaTop" fmla="*/ 31320 h 2841840"/>
                  <a:gd name="textAreaBottom" fmla="*/ 2810520 h 2841840"/>
                </a:gdLst>
                <a:ahLst/>
                <a:rect l="textAreaLeft" t="textAreaTop" r="textAreaRight" b="textAreaBottom"/>
                <a:pathLst>
                  <a:path w="21600" h="94898">
                    <a:moveTo>
                      <a:pt x="3600" y="0"/>
                    </a:moveTo>
                    <a:arcTo wR="3600" hR="3600" stAng="16200000" swAng="-5400000"/>
                    <a:lnTo>
                      <a:pt x="0" y="91298"/>
                    </a:lnTo>
                    <a:arcTo wR="3600" hR="3600" stAng="10800000" swAng="-5400000"/>
                    <a:lnTo>
                      <a:pt x="18000" y="948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54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TextBox 21"/>
              <p:cNvSpPr/>
              <p:nvPr/>
            </p:nvSpPr>
            <p:spPr>
              <a:xfrm rot="3597600">
                <a:off x="4110840" y="4121280"/>
                <a:ext cx="127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管理网站建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88" name="Picture 11" descr="C:\Users\TITAN\Desktop\新建文件夹\2006413161632268.png"/>
            <p:cNvPicPr/>
            <p:nvPr/>
          </p:nvPicPr>
          <p:blipFill>
            <a:blip r:embed="rId2"/>
            <a:stretch/>
          </p:blipFill>
          <p:spPr>
            <a:xfrm>
              <a:off x="3489480" y="2400480"/>
              <a:ext cx="720000" cy="72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9" name="组合 26"/>
          <p:cNvGrpSpPr/>
          <p:nvPr/>
        </p:nvGrpSpPr>
        <p:grpSpPr>
          <a:xfrm>
            <a:off x="4232160" y="2266920"/>
            <a:ext cx="2263680" cy="2801880"/>
            <a:chOff x="4232160" y="2266920"/>
            <a:chExt cx="2263680" cy="2801880"/>
          </a:xfrm>
        </p:grpSpPr>
        <p:grpSp>
          <p:nvGrpSpPr>
            <p:cNvPr id="390" name="组合 13"/>
            <p:cNvGrpSpPr/>
            <p:nvPr/>
          </p:nvGrpSpPr>
          <p:grpSpPr>
            <a:xfrm>
              <a:off x="4297320" y="2391480"/>
              <a:ext cx="2198520" cy="2677320"/>
              <a:chOff x="4297320" y="2391480"/>
              <a:chExt cx="2198520" cy="2677320"/>
            </a:xfrm>
          </p:grpSpPr>
          <p:sp>
            <p:nvSpPr>
              <p:cNvPr id="391" name="AutoShape 112"/>
              <p:cNvSpPr/>
              <p:nvPr/>
            </p:nvSpPr>
            <p:spPr>
              <a:xfrm rot="19432800">
                <a:off x="5073120" y="2308680"/>
                <a:ext cx="646560" cy="2842920"/>
              </a:xfrm>
              <a:custGeom>
                <a:avLst/>
                <a:gdLst>
                  <a:gd name="textAreaLeft" fmla="*/ 31320 w 646560"/>
                  <a:gd name="textAreaRight" fmla="*/ 615240 w 646560"/>
                  <a:gd name="textAreaTop" fmla="*/ 31320 h 2842920"/>
                  <a:gd name="textAreaBottom" fmla="*/ 2811600 h 2842920"/>
                </a:gdLst>
                <a:ahLst/>
                <a:rect l="textAreaLeft" t="textAreaTop" r="textAreaRight" b="textAreaBottom"/>
                <a:pathLst>
                  <a:path w="21600" h="94934">
                    <a:moveTo>
                      <a:pt x="3600" y="0"/>
                    </a:moveTo>
                    <a:arcTo wR="3600" hR="3600" stAng="16200000" swAng="-5400000"/>
                    <a:lnTo>
                      <a:pt x="0" y="91334"/>
                    </a:lnTo>
                    <a:arcTo wR="3600" hR="3600" stAng="10800000" swAng="-5400000"/>
                    <a:lnTo>
                      <a:pt x="18000" y="9493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54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TextBox 16"/>
              <p:cNvSpPr/>
              <p:nvPr/>
            </p:nvSpPr>
            <p:spPr>
              <a:xfrm rot="3232200">
                <a:off x="5140440" y="378684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彩虹计划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93" name="Picture 11" descr="C:\Users\TITAN\Desktop\新建文件夹\2006413161632268.png"/>
            <p:cNvPicPr/>
            <p:nvPr/>
          </p:nvPicPr>
          <p:blipFill>
            <a:blip r:embed="rId3"/>
            <a:stretch/>
          </p:blipFill>
          <p:spPr>
            <a:xfrm>
              <a:off x="4232160" y="2266920"/>
              <a:ext cx="720000" cy="72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4" name="组合 27"/>
          <p:cNvGrpSpPr/>
          <p:nvPr/>
        </p:nvGrpSpPr>
        <p:grpSpPr>
          <a:xfrm>
            <a:off x="4384800" y="1462680"/>
            <a:ext cx="2528640" cy="2607480"/>
            <a:chOff x="4384800" y="1462680"/>
            <a:chExt cx="2528640" cy="2607480"/>
          </a:xfrm>
        </p:grpSpPr>
        <p:grpSp>
          <p:nvGrpSpPr>
            <p:cNvPr id="395" name="组合 7"/>
            <p:cNvGrpSpPr/>
            <p:nvPr/>
          </p:nvGrpSpPr>
          <p:grpSpPr>
            <a:xfrm>
              <a:off x="4482720" y="1566720"/>
              <a:ext cx="2430720" cy="2503440"/>
              <a:chOff x="4482720" y="1566720"/>
              <a:chExt cx="2430720" cy="2503440"/>
            </a:xfrm>
          </p:grpSpPr>
          <p:sp>
            <p:nvSpPr>
              <p:cNvPr id="396" name="AutoShape 112"/>
              <p:cNvSpPr/>
              <p:nvPr/>
            </p:nvSpPr>
            <p:spPr>
              <a:xfrm rot="18980400">
                <a:off x="5374440" y="1396800"/>
                <a:ext cx="646920" cy="2842920"/>
              </a:xfrm>
              <a:custGeom>
                <a:avLst/>
                <a:gdLst>
                  <a:gd name="textAreaLeft" fmla="*/ 31320 w 646920"/>
                  <a:gd name="textAreaRight" fmla="*/ 615600 w 646920"/>
                  <a:gd name="textAreaTop" fmla="*/ 31320 h 2842920"/>
                  <a:gd name="textAreaBottom" fmla="*/ 2811600 h 2842920"/>
                </a:gdLst>
                <a:ahLst/>
                <a:rect l="textAreaLeft" t="textAreaTop" r="textAreaRight" b="textAreaBottom"/>
                <a:pathLst>
                  <a:path w="21600" h="94881">
                    <a:moveTo>
                      <a:pt x="3600" y="0"/>
                    </a:moveTo>
                    <a:arcTo wR="3600" hR="3600" stAng="16200000" swAng="-5400000"/>
                    <a:lnTo>
                      <a:pt x="0" y="91281"/>
                    </a:lnTo>
                    <a:arcTo wR="3600" hR="3600" stAng="10800000" swAng="-5400000"/>
                    <a:lnTo>
                      <a:pt x="18000" y="9488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54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TextBox 9"/>
              <p:cNvSpPr/>
              <p:nvPr/>
            </p:nvSpPr>
            <p:spPr>
              <a:xfrm rot="2780400">
                <a:off x="5290560" y="2841840"/>
                <a:ext cx="127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日常工作汇报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98" name="Picture 11" descr="C:\Users\TITAN\Desktop\新建文件夹\2006413161632268.png"/>
            <p:cNvPicPr/>
            <p:nvPr/>
          </p:nvPicPr>
          <p:blipFill>
            <a:blip r:embed="rId4"/>
            <a:stretch/>
          </p:blipFill>
          <p:spPr>
            <a:xfrm>
              <a:off x="4384800" y="1462680"/>
              <a:ext cx="720000" cy="72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直接连接符 30"/>
          <p:cNvSpPr/>
          <p:nvPr/>
        </p:nvSpPr>
        <p:spPr>
          <a:xfrm>
            <a:off x="4618080" y="-27000"/>
            <a:ext cx="2041560" cy="67464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直接连接符 33"/>
          <p:cNvSpPr/>
          <p:nvPr/>
        </p:nvSpPr>
        <p:spPr>
          <a:xfrm flipH="1">
            <a:off x="3780000" y="-57240"/>
            <a:ext cx="839520" cy="140652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11" descr="C:\Users\TITAN\Desktop\新建文件夹\2006413161632268.png"/>
          <p:cNvPicPr/>
          <p:nvPr/>
        </p:nvPicPr>
        <p:blipFill>
          <a:blip r:embed="rId5"/>
          <a:stretch/>
        </p:blipFill>
        <p:spPr>
          <a:xfrm>
            <a:off x="4284720" y="-747720"/>
            <a:ext cx="718920" cy="720720"/>
          </a:xfrm>
          <a:prstGeom prst="rect">
            <a:avLst/>
          </a:prstGeom>
          <a:ln w="0">
            <a:noFill/>
          </a:ln>
        </p:spPr>
      </p:pic>
      <p:grpSp>
        <p:nvGrpSpPr>
          <p:cNvPr id="402" name="组合 37"/>
          <p:cNvGrpSpPr/>
          <p:nvPr/>
        </p:nvGrpSpPr>
        <p:grpSpPr>
          <a:xfrm>
            <a:off x="2364120" y="3302280"/>
            <a:ext cx="675000" cy="2847960"/>
            <a:chOff x="2364120" y="3302280"/>
            <a:chExt cx="675000" cy="2847960"/>
          </a:xfrm>
        </p:grpSpPr>
        <p:sp>
          <p:nvSpPr>
            <p:cNvPr id="403" name="AutoShape 112"/>
            <p:cNvSpPr/>
            <p:nvPr/>
          </p:nvSpPr>
          <p:spPr>
            <a:xfrm rot="21567000">
              <a:off x="2377440" y="3305160"/>
              <a:ext cx="647640" cy="2841840"/>
            </a:xfrm>
            <a:custGeom>
              <a:avLst/>
              <a:gdLst>
                <a:gd name="textAreaLeft" fmla="*/ 31320 w 647640"/>
                <a:gd name="textAreaRight" fmla="*/ 616320 w 647640"/>
                <a:gd name="textAreaTop" fmla="*/ 31320 h 2841840"/>
                <a:gd name="textAreaBottom" fmla="*/ 2810520 h 2841840"/>
              </a:gdLst>
              <a:ahLst/>
              <a:rect l="textAreaLeft" t="textAreaTop" r="textAreaRight" b="textAreaBottom"/>
              <a:pathLst>
                <a:path w="21600" h="94740">
                  <a:moveTo>
                    <a:pt x="3600" y="0"/>
                  </a:moveTo>
                  <a:arcTo wR="3600" hR="3600" stAng="16200000" swAng="-5400000"/>
                  <a:lnTo>
                    <a:pt x="0" y="91140"/>
                  </a:lnTo>
                  <a:arcTo wR="3600" hR="3600" stAng="10800000" swAng="-5400000"/>
                  <a:lnTo>
                    <a:pt x="18000" y="947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Box 40"/>
            <p:cNvSpPr/>
            <p:nvPr/>
          </p:nvSpPr>
          <p:spPr>
            <a:xfrm rot="5367000">
              <a:off x="2062440" y="49550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管理网站建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5" name="Picture 11" descr="C:\Users\TITAN\Desktop\新建文件夹\2006413161632268.png"/>
          <p:cNvPicPr/>
          <p:nvPr/>
        </p:nvPicPr>
        <p:blipFill>
          <a:blip r:embed="rId6"/>
          <a:stretch/>
        </p:blipFill>
        <p:spPr>
          <a:xfrm rot="1768800">
            <a:off x="2325600" y="2997360"/>
            <a:ext cx="72072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nodeType="clickEffect" fill="hold">
                      <p:stCondLst>
                        <p:cond delay="0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0.01042 L -0.00139 -0.22037 E">
                                      <p:cBhvr>
                                        <p:cTn id="1168" dur="25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1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-2.5E-006 0.17847 E">
                                      <p:cBhvr>
                                        <p:cTn id="1173" dur="5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1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8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4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8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4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17847 L 0.06702 0.21852 C 0.08108 0.22754 0.10209 0.23241 0.12396 0.23241 C 0.14896 0.23241 0.16893 0.22754 0.18299 0.21852 L 0.25 0.17847 E">
                                      <p:cBhvr>
                                        <p:cTn id="1208" dur="3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9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4 C 0.081 0.049 0.102 0.054 0.124 0.054 C 0.149 0.054 0.169 0.049 0.183 0.04 L 0.25 0 E">
                                      <p:cBhvr>
                                        <p:cTn id="1210" dur="3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2" dur="4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6" dur="3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path" presetID="37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73 -0.06111 L 0.06806 -0.01991 C 0.08039 -0.01042 0.09948 -0.00162 0.12066 0.00393 C 0.14462 0.01134 0.1632 0.01389 0.17813 0.01296 L 0.24566 0.00926 E">
                                      <p:cBhvr>
                                        <p:cTn id="1218" dur="25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9" nodeType="withEffect" fill="hold" presetClass="path" presetID="37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-0.01459 -0.10926 L 0.0368 -0.03264 C 0.04722 -0.01574 0.06545 -0.000229999999999999 0.08628 0.00833 C 0.10972 0.01829 0.13021 0.01898 0.14618 0.0132 L 0.22135 -0.01065 E">
                                      <p:cBhvr>
                                        <p:cTn id="1220" dur="2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1" nodeType="withEffect" fill="hold" presetClass="path" presetID="37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746 -0.01366 L 0.06962 0.05394 C 0.08212 0.06991 0.10156 0.08357 0.12482 0.09282 C 0.15191 0.10324 0.1743 0.10324 0.19132 0.10093 L 0.27118 0.08565 E">
                                      <p:cBhvr>
                                        <p:cTn id="1222" dur="2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2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2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0.17847 L 0.17049 0.27083 C 0.15382 0.29074 0.12934 0.32083 0.09948 0.32292 C 0.06684 0.33264 0.03785 0.31482 0.01632 0.31412 L -0.0816 0.25208 E">
                                      <p:cBhvr>
                                        <p:cTn id="1231" dur="5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2" nodeType="with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1.85185E-006 L 0.16406 0.08565 C 0.14705 0.10625 0.11857 0.11945 0.08906 0.12477 C 0.05503 0.13357 0.02691 0.12709 0.00555 0.11505 L -0.09098 0.06296 E">
                                      <p:cBhvr>
                                        <p:cTn id="1233" dur="5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4" nodeType="withEffect" fill="hold" presetClass="path" presetID="58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24566 0.00926 L 0.14063 0.05347 C 0.11962 0.06389 0.08611 0.07037 0.05226 0.07315 C 0.01372 0.07037 -0.01753 0.06412 -0.03906 0.05371 L -0.14184 0.00972 E">
                                      <p:cBhvr>
                                        <p:cTn id="1235" dur="45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6" nodeType="withEffect" fill="hold" presetClass="path" presetID="58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22136 -0.01065 L 0.1158 0.02292 C 0.09341 0.03056 0.0599 0.03658 0.0257 0.03565 C -0.01371 0.03611 -0.04461 0.03102 -0.06753 0.02269 L -0.16996 -0.01065 E">
                                      <p:cBhvr>
                                        <p:cTn id="1237" dur="4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8" nodeType="withEffect" fill="hold" presetClass="path" presetID="58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.27118 0.08565 L 0.16406 0.14583 C 0.14149 0.15903 0.10764 0.16574 0.07257 0.16597 C 0.03229 0.16597 0.00104 0.15903 -0.02188 0.14861 L -0.12778 0.08541 E">
                                      <p:cBhvr>
                                        <p:cTn id="1239" dur="3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path" presetID="58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7 -3.46821E-006 L -0.06441 0.06128 C -0.07865 0.07422 -0.10035 0.08856 -0.12396 0.09642 C -0.15139 0.10798 -0.17361 0.11353 -0.18993 0.1126 L -0.26823 0.11145 E">
                                      <p:cBhvr>
                                        <p:cTn id="1246" dur="5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7" nodeType="withEffect" fill="hold" presetClass="path" presetID="58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.00226 0.00786 L -0.06719 0.0467 C -0.08247 0.05572 -0.10503 0.06589 -0.12743 0.07306 C -0.15417 0.08231 -0.175 0.08763 -0.1908 0.08948 L -0.26267 0.09988 E">
                                      <p:cBhvr>
                                        <p:cTn id="1248" dur="5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9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253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4" dur="2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868 0.09908 L -0.25868 0.60903 E">
                                      <p:cBhvr>
                                        <p:cTn id="1257" dur="75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9" dur="75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组合 2"/>
          <p:cNvGrpSpPr/>
          <p:nvPr/>
        </p:nvGrpSpPr>
        <p:grpSpPr>
          <a:xfrm>
            <a:off x="395280" y="6184440"/>
            <a:ext cx="2841840" cy="647640"/>
            <a:chOff x="395280" y="6184440"/>
            <a:chExt cx="2841840" cy="647640"/>
          </a:xfrm>
        </p:grpSpPr>
        <p:sp>
          <p:nvSpPr>
            <p:cNvPr id="407" name="AutoShape 112"/>
            <p:cNvSpPr/>
            <p:nvPr/>
          </p:nvSpPr>
          <p:spPr>
            <a:xfrm rot="16200000">
              <a:off x="1492200" y="5087160"/>
              <a:ext cx="647640" cy="2841840"/>
            </a:xfrm>
            <a:custGeom>
              <a:avLst/>
              <a:gdLst>
                <a:gd name="textAreaLeft" fmla="*/ 31320 w 647640"/>
                <a:gd name="textAreaRight" fmla="*/ 616320 w 647640"/>
                <a:gd name="textAreaTop" fmla="*/ 31320 h 2841840"/>
                <a:gd name="textAreaBottom" fmla="*/ 2810520 h 2841840"/>
              </a:gdLst>
              <a:ahLst/>
              <a:rect l="textAreaLeft" t="textAreaTop" r="textAreaRight" b="textAreaBottom"/>
              <a:pathLst>
                <a:path w="21600" h="94740">
                  <a:moveTo>
                    <a:pt x="3600" y="0"/>
                  </a:moveTo>
                  <a:arcTo wR="3600" hR="3600" stAng="16200000" swAng="-5400000"/>
                  <a:lnTo>
                    <a:pt x="0" y="91140"/>
                  </a:lnTo>
                  <a:arcTo wR="3600" hR="3600" stAng="10800000" swAng="-5400000"/>
                  <a:lnTo>
                    <a:pt x="18000" y="947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Box 4"/>
            <p:cNvSpPr/>
            <p:nvPr/>
          </p:nvSpPr>
          <p:spPr>
            <a:xfrm>
              <a:off x="2048400" y="627588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协会、学生工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Line 80"/>
          <p:cNvSpPr/>
          <p:nvPr/>
        </p:nvSpPr>
        <p:spPr>
          <a:xfrm>
            <a:off x="2498760" y="319248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81"/>
          <p:cNvSpPr/>
          <p:nvPr/>
        </p:nvSpPr>
        <p:spPr>
          <a:xfrm>
            <a:off x="2498760" y="319248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53"/>
          <p:cNvSpPr/>
          <p:nvPr/>
        </p:nvSpPr>
        <p:spPr>
          <a:xfrm flipH="1" flipV="1">
            <a:off x="771480" y="3419280"/>
            <a:ext cx="130320" cy="198360"/>
          </a:xfrm>
          <a:prstGeom prst="line">
            <a:avLst/>
          </a:prstGeom>
          <a:ln cap="rnd" w="176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154"/>
          <p:cNvSpPr/>
          <p:nvPr/>
        </p:nvSpPr>
        <p:spPr>
          <a:xfrm>
            <a:off x="638280" y="4091040"/>
            <a:ext cx="241200" cy="234720"/>
          </a:xfrm>
          <a:custGeom>
            <a:avLst/>
            <a:gdLst>
              <a:gd name="textAreaLeft" fmla="*/ 0 w 241200"/>
              <a:gd name="textAreaRight" fmla="*/ 241560 w 24120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52" h="148">
                <a:moveTo>
                  <a:pt x="152" y="142"/>
                </a:moveTo>
                <a:lnTo>
                  <a:pt x="111" y="148"/>
                </a:lnTo>
                <a:lnTo>
                  <a:pt x="0" y="0"/>
                </a:lnTo>
              </a:path>
            </a:pathLst>
          </a:custGeom>
          <a:noFill/>
          <a:ln cap="rnd" w="176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224"/>
          <p:cNvGrpSpPr/>
          <p:nvPr/>
        </p:nvGrpSpPr>
        <p:grpSpPr>
          <a:xfrm>
            <a:off x="2601720" y="3460680"/>
            <a:ext cx="215640" cy="363600"/>
            <a:chOff x="2601720" y="3460680"/>
            <a:chExt cx="215640" cy="363600"/>
          </a:xfrm>
        </p:grpSpPr>
        <p:sp>
          <p:nvSpPr>
            <p:cNvPr id="414" name="Line 155"/>
            <p:cNvSpPr/>
            <p:nvPr/>
          </p:nvSpPr>
          <p:spPr>
            <a:xfrm flipH="1">
              <a:off x="2601720" y="3730680"/>
              <a:ext cx="202680" cy="93600"/>
            </a:xfrm>
            <a:prstGeom prst="line">
              <a:avLst/>
            </a:prstGeom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56"/>
            <p:cNvSpPr/>
            <p:nvPr/>
          </p:nvSpPr>
          <p:spPr>
            <a:xfrm>
              <a:off x="2730240" y="3460680"/>
              <a:ext cx="87120" cy="2700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55" h="170">
                  <a:moveTo>
                    <a:pt x="0" y="0"/>
                  </a:moveTo>
                  <a:lnTo>
                    <a:pt x="55" y="165"/>
                  </a:lnTo>
                  <a:lnTo>
                    <a:pt x="47" y="170"/>
                  </a:lnTo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222"/>
          <p:cNvGrpSpPr/>
          <p:nvPr/>
        </p:nvGrpSpPr>
        <p:grpSpPr>
          <a:xfrm>
            <a:off x="1297080" y="4578480"/>
            <a:ext cx="291960" cy="215640"/>
            <a:chOff x="1297080" y="4578480"/>
            <a:chExt cx="291960" cy="215640"/>
          </a:xfrm>
        </p:grpSpPr>
        <p:sp>
          <p:nvSpPr>
            <p:cNvPr id="417" name="Freeform 159"/>
            <p:cNvSpPr/>
            <p:nvPr/>
          </p:nvSpPr>
          <p:spPr>
            <a:xfrm>
              <a:off x="1514520" y="4578480"/>
              <a:ext cx="74520" cy="75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33" h="4">
                  <a:moveTo>
                    <a:pt x="33" y="4"/>
                  </a:moveTo>
                  <a:cubicBezTo>
                    <a:pt x="32" y="3"/>
                    <a:pt x="31" y="3"/>
                    <a:pt x="29" y="3"/>
                  </a:cubicBezTo>
                  <a:cubicBezTo>
                    <a:pt x="24" y="3"/>
                    <a:pt x="19" y="3"/>
                    <a:pt x="14" y="2"/>
                  </a:cubicBezTo>
                  <a:cubicBezTo>
                    <a:pt x="9" y="1"/>
                    <a:pt x="4" y="1"/>
                    <a:pt x="0" y="0"/>
                  </a:cubicBezTo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163"/>
            <p:cNvSpPr/>
            <p:nvPr/>
          </p:nvSpPr>
          <p:spPr>
            <a:xfrm flipH="1">
              <a:off x="1297080" y="4578480"/>
              <a:ext cx="217440" cy="215640"/>
            </a:xfrm>
            <a:prstGeom prst="line">
              <a:avLst/>
            </a:prstGeom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Line 165"/>
          <p:cNvSpPr/>
          <p:nvPr/>
        </p:nvSpPr>
        <p:spPr>
          <a:xfrm flipH="1" flipV="1">
            <a:off x="2260440" y="4354560"/>
            <a:ext cx="268560" cy="71280"/>
          </a:xfrm>
          <a:prstGeom prst="line">
            <a:avLst/>
          </a:prstGeom>
          <a:ln cap="rnd" w="176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171"/>
          <p:cNvSpPr/>
          <p:nvPr/>
        </p:nvSpPr>
        <p:spPr>
          <a:xfrm>
            <a:off x="2498760" y="3170160"/>
            <a:ext cx="231840" cy="290520"/>
          </a:xfrm>
          <a:custGeom>
            <a:avLst/>
            <a:gdLst>
              <a:gd name="textAreaLeft" fmla="*/ 0 w 231840"/>
              <a:gd name="textAreaRight" fmla="*/ 232200 w 231840"/>
              <a:gd name="textAreaTop" fmla="*/ 0 h 290520"/>
              <a:gd name="textAreaBottom" fmla="*/ 290520 h 290520"/>
            </a:gdLst>
            <a:ahLst/>
            <a:rect l="textAreaLeft" t="textAreaTop" r="textAreaRight" b="textAreaBottom"/>
            <a:pathLst>
              <a:path w="146" h="183">
                <a:moveTo>
                  <a:pt x="0" y="14"/>
                </a:moveTo>
                <a:lnTo>
                  <a:pt x="93" y="0"/>
                </a:lnTo>
                <a:lnTo>
                  <a:pt x="146" y="183"/>
                </a:lnTo>
              </a:path>
            </a:pathLst>
          </a:custGeom>
          <a:noFill/>
          <a:ln cap="rnd" w="176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221"/>
          <p:cNvGrpSpPr/>
          <p:nvPr/>
        </p:nvGrpSpPr>
        <p:grpSpPr>
          <a:xfrm>
            <a:off x="1709640" y="2817720"/>
            <a:ext cx="695160" cy="171360"/>
            <a:chOff x="1709640" y="2817720"/>
            <a:chExt cx="695160" cy="171360"/>
          </a:xfrm>
        </p:grpSpPr>
        <p:sp>
          <p:nvSpPr>
            <p:cNvPr id="422" name="Freeform 173"/>
            <p:cNvSpPr/>
            <p:nvPr/>
          </p:nvSpPr>
          <p:spPr>
            <a:xfrm>
              <a:off x="1919160" y="2817720"/>
              <a:ext cx="485640" cy="17136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306" h="108">
                  <a:moveTo>
                    <a:pt x="0" y="108"/>
                  </a:moveTo>
                  <a:lnTo>
                    <a:pt x="119" y="0"/>
                  </a:lnTo>
                  <a:lnTo>
                    <a:pt x="306" y="66"/>
                  </a:lnTo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74"/>
            <p:cNvSpPr/>
            <p:nvPr/>
          </p:nvSpPr>
          <p:spPr>
            <a:xfrm>
              <a:off x="1709640" y="2828880"/>
              <a:ext cx="209520" cy="1602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4" h="72">
                  <a:moveTo>
                    <a:pt x="0" y="0"/>
                  </a:moveTo>
                  <a:cubicBezTo>
                    <a:pt x="34" y="72"/>
                    <a:pt x="34" y="72"/>
                    <a:pt x="34" y="72"/>
                  </a:cubicBezTo>
                  <a:cubicBezTo>
                    <a:pt x="39" y="72"/>
                    <a:pt x="44" y="71"/>
                    <a:pt x="49" y="71"/>
                  </a:cubicBezTo>
                  <a:cubicBezTo>
                    <a:pt x="55" y="71"/>
                    <a:pt x="60" y="71"/>
                    <a:pt x="65" y="71"/>
                  </a:cubicBezTo>
                  <a:cubicBezTo>
                    <a:pt x="70" y="71"/>
                    <a:pt x="75" y="71"/>
                    <a:pt x="80" y="71"/>
                  </a:cubicBezTo>
                  <a:cubicBezTo>
                    <a:pt x="85" y="71"/>
                    <a:pt x="90" y="72"/>
                    <a:pt x="94" y="72"/>
                  </a:cubicBezTo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Freeform 175"/>
          <p:cNvSpPr/>
          <p:nvPr/>
        </p:nvSpPr>
        <p:spPr>
          <a:xfrm>
            <a:off x="1338120" y="2817720"/>
            <a:ext cx="371520" cy="308160"/>
          </a:xfrm>
          <a:custGeom>
            <a:avLst/>
            <a:gdLst>
              <a:gd name="textAreaLeft" fmla="*/ 0 w 371520"/>
              <a:gd name="textAreaRight" fmla="*/ 371880 w 3715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234" h="194">
                <a:moveTo>
                  <a:pt x="0" y="194"/>
                </a:moveTo>
                <a:lnTo>
                  <a:pt x="13" y="66"/>
                </a:lnTo>
                <a:lnTo>
                  <a:pt x="231" y="0"/>
                </a:lnTo>
                <a:lnTo>
                  <a:pt x="234" y="7"/>
                </a:lnTo>
              </a:path>
            </a:pathLst>
          </a:custGeom>
          <a:noFill/>
          <a:ln cap="rnd" w="176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176"/>
          <p:cNvSpPr/>
          <p:nvPr/>
        </p:nvSpPr>
        <p:spPr>
          <a:xfrm>
            <a:off x="771480" y="3125880"/>
            <a:ext cx="566640" cy="293760"/>
          </a:xfrm>
          <a:custGeom>
            <a:avLst/>
            <a:gdLst>
              <a:gd name="textAreaLeft" fmla="*/ 0 w 566640"/>
              <a:gd name="textAreaRight" fmla="*/ 567000 w 56664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254" h="132">
                <a:moveTo>
                  <a:pt x="0" y="132"/>
                </a:moveTo>
                <a:cubicBezTo>
                  <a:pt x="104" y="12"/>
                  <a:pt x="104" y="12"/>
                  <a:pt x="104" y="12"/>
                </a:cubicBezTo>
                <a:cubicBezTo>
                  <a:pt x="203" y="33"/>
                  <a:pt x="203" y="33"/>
                  <a:pt x="203" y="33"/>
                </a:cubicBezTo>
                <a:cubicBezTo>
                  <a:pt x="207" y="30"/>
                  <a:pt x="211" y="27"/>
                  <a:pt x="215" y="25"/>
                </a:cubicBezTo>
                <a:cubicBezTo>
                  <a:pt x="220" y="22"/>
                  <a:pt x="224" y="19"/>
                  <a:pt x="228" y="16"/>
                </a:cubicBezTo>
                <a:cubicBezTo>
                  <a:pt x="232" y="13"/>
                  <a:pt x="237" y="11"/>
                  <a:pt x="241" y="8"/>
                </a:cubicBezTo>
                <a:cubicBezTo>
                  <a:pt x="245" y="5"/>
                  <a:pt x="250" y="3"/>
                  <a:pt x="254" y="0"/>
                </a:cubicBezTo>
              </a:path>
            </a:pathLst>
          </a:custGeom>
          <a:noFill/>
          <a:ln cap="rnd" w="176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178"/>
          <p:cNvSpPr/>
          <p:nvPr/>
        </p:nvSpPr>
        <p:spPr>
          <a:xfrm>
            <a:off x="625320" y="3618000"/>
            <a:ext cx="276480" cy="473040"/>
          </a:xfrm>
          <a:custGeom>
            <a:avLst/>
            <a:gdLst>
              <a:gd name="textAreaLeft" fmla="*/ 0 w 276480"/>
              <a:gd name="textAreaRight" fmla="*/ 276840 w 27648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124" h="212">
                <a:moveTo>
                  <a:pt x="6" y="212"/>
                </a:moveTo>
                <a:cubicBezTo>
                  <a:pt x="0" y="74"/>
                  <a:pt x="0" y="74"/>
                  <a:pt x="0" y="74"/>
                </a:cubicBezTo>
                <a:cubicBezTo>
                  <a:pt x="117" y="21"/>
                  <a:pt x="117" y="21"/>
                  <a:pt x="117" y="21"/>
                </a:cubicBezTo>
                <a:cubicBezTo>
                  <a:pt x="118" y="16"/>
                  <a:pt x="120" y="11"/>
                  <a:pt x="121" y="7"/>
                </a:cubicBezTo>
                <a:cubicBezTo>
                  <a:pt x="122" y="4"/>
                  <a:pt x="123" y="2"/>
                  <a:pt x="124" y="0"/>
                </a:cubicBezTo>
              </a:path>
            </a:pathLst>
          </a:custGeom>
          <a:noFill/>
          <a:ln cap="rnd" w="176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220"/>
          <p:cNvGrpSpPr/>
          <p:nvPr/>
        </p:nvGrpSpPr>
        <p:grpSpPr>
          <a:xfrm>
            <a:off x="831960" y="4316040"/>
            <a:ext cx="465120" cy="478080"/>
            <a:chOff x="831960" y="4316040"/>
            <a:chExt cx="465120" cy="478080"/>
          </a:xfrm>
        </p:grpSpPr>
        <p:sp>
          <p:nvSpPr>
            <p:cNvPr id="428" name="Freeform 164"/>
            <p:cNvSpPr/>
            <p:nvPr/>
          </p:nvSpPr>
          <p:spPr>
            <a:xfrm>
              <a:off x="831960" y="4398840"/>
              <a:ext cx="465120" cy="3952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293" h="249">
                  <a:moveTo>
                    <a:pt x="293" y="249"/>
                  </a:moveTo>
                  <a:lnTo>
                    <a:pt x="110" y="144"/>
                  </a:lnTo>
                  <a:lnTo>
                    <a:pt x="0" y="0"/>
                  </a:lnTo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180"/>
            <p:cNvSpPr/>
            <p:nvPr/>
          </p:nvSpPr>
          <p:spPr>
            <a:xfrm flipV="1">
              <a:off x="831960" y="4316040"/>
              <a:ext cx="47520" cy="82440"/>
            </a:xfrm>
            <a:prstGeom prst="line">
              <a:avLst/>
            </a:prstGeom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Freeform 183"/>
          <p:cNvSpPr/>
          <p:nvPr/>
        </p:nvSpPr>
        <p:spPr>
          <a:xfrm>
            <a:off x="1593720" y="4595760"/>
            <a:ext cx="536760" cy="230400"/>
          </a:xfrm>
          <a:custGeom>
            <a:avLst/>
            <a:gdLst>
              <a:gd name="textAreaLeft" fmla="*/ 0 w 536760"/>
              <a:gd name="textAreaRight" fmla="*/ 537120 w 53676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338" h="145">
                <a:moveTo>
                  <a:pt x="338" y="72"/>
                </a:moveTo>
                <a:lnTo>
                  <a:pt x="91" y="145"/>
                </a:lnTo>
                <a:lnTo>
                  <a:pt x="0" y="0"/>
                </a:lnTo>
              </a:path>
            </a:pathLst>
          </a:custGeom>
          <a:noFill/>
          <a:ln cap="rnd" w="176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Group 223"/>
          <p:cNvGrpSpPr/>
          <p:nvPr/>
        </p:nvGrpSpPr>
        <p:grpSpPr>
          <a:xfrm>
            <a:off x="2130480" y="4354560"/>
            <a:ext cx="129600" cy="355680"/>
            <a:chOff x="2130480" y="4354560"/>
            <a:chExt cx="129600" cy="355680"/>
          </a:xfrm>
        </p:grpSpPr>
        <p:sp>
          <p:nvSpPr>
            <p:cNvPr id="432" name="Freeform 160"/>
            <p:cNvSpPr/>
            <p:nvPr/>
          </p:nvSpPr>
          <p:spPr>
            <a:xfrm>
              <a:off x="2134800" y="4354560"/>
              <a:ext cx="125280" cy="8892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56" h="40">
                  <a:moveTo>
                    <a:pt x="56" y="0"/>
                  </a:moveTo>
                  <a:cubicBezTo>
                    <a:pt x="52" y="3"/>
                    <a:pt x="47" y="7"/>
                    <a:pt x="43" y="11"/>
                  </a:cubicBezTo>
                  <a:cubicBezTo>
                    <a:pt x="38" y="14"/>
                    <a:pt x="34" y="18"/>
                    <a:pt x="29" y="21"/>
                  </a:cubicBezTo>
                  <a:cubicBezTo>
                    <a:pt x="24" y="24"/>
                    <a:pt x="19" y="27"/>
                    <a:pt x="15" y="31"/>
                  </a:cubicBezTo>
                  <a:cubicBezTo>
                    <a:pt x="10" y="34"/>
                    <a:pt x="5" y="37"/>
                    <a:pt x="0" y="40"/>
                  </a:cubicBezTo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185"/>
            <p:cNvSpPr/>
            <p:nvPr/>
          </p:nvSpPr>
          <p:spPr>
            <a:xfrm flipH="1">
              <a:off x="2130480" y="4443480"/>
              <a:ext cx="4320" cy="266760"/>
            </a:xfrm>
            <a:prstGeom prst="line">
              <a:avLst/>
            </a:prstGeom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Line 201"/>
          <p:cNvSpPr/>
          <p:nvPr/>
        </p:nvSpPr>
        <p:spPr>
          <a:xfrm>
            <a:off x="2405160" y="2922480"/>
            <a:ext cx="93600" cy="270000"/>
          </a:xfrm>
          <a:prstGeom prst="line">
            <a:avLst/>
          </a:prstGeom>
          <a:ln cap="rnd" w="176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253"/>
          <p:cNvGrpSpPr/>
          <p:nvPr/>
        </p:nvGrpSpPr>
        <p:grpSpPr>
          <a:xfrm>
            <a:off x="1711440" y="1922400"/>
            <a:ext cx="2635200" cy="1455840"/>
            <a:chOff x="1711440" y="1922400"/>
            <a:chExt cx="2635200" cy="1455840"/>
          </a:xfrm>
        </p:grpSpPr>
        <p:sp>
          <p:nvSpPr>
            <p:cNvPr id="436" name="Line 84"/>
            <p:cNvSpPr/>
            <p:nvPr/>
          </p:nvSpPr>
          <p:spPr>
            <a:xfrm flipH="1" flipV="1">
              <a:off x="2293560" y="3135240"/>
              <a:ext cx="180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86"/>
            <p:cNvSpPr/>
            <p:nvPr/>
          </p:nvSpPr>
          <p:spPr>
            <a:xfrm>
              <a:off x="2586240" y="2139840"/>
              <a:ext cx="125280" cy="23652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9" h="149">
                  <a:moveTo>
                    <a:pt x="1" y="80"/>
                  </a:moveTo>
                  <a:lnTo>
                    <a:pt x="0" y="77"/>
                  </a:lnTo>
                  <a:lnTo>
                    <a:pt x="37" y="0"/>
                  </a:lnTo>
                  <a:lnTo>
                    <a:pt x="79" y="149"/>
                  </a:lnTo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187"/>
            <p:cNvSpPr/>
            <p:nvPr/>
          </p:nvSpPr>
          <p:spPr>
            <a:xfrm>
              <a:off x="1893960" y="2665440"/>
              <a:ext cx="1800" cy="1440"/>
            </a:xfrm>
            <a:prstGeom prst="line">
              <a:avLst/>
            </a:prstGeom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88"/>
            <p:cNvSpPr/>
            <p:nvPr/>
          </p:nvSpPr>
          <p:spPr>
            <a:xfrm>
              <a:off x="1711440" y="2525760"/>
              <a:ext cx="142920" cy="2649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90" h="167">
                  <a:moveTo>
                    <a:pt x="72" y="167"/>
                  </a:moveTo>
                  <a:lnTo>
                    <a:pt x="0" y="0"/>
                  </a:lnTo>
                  <a:lnTo>
                    <a:pt x="90" y="26"/>
                  </a:lnTo>
                  <a:lnTo>
                    <a:pt x="90" y="29"/>
                  </a:lnTo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89"/>
            <p:cNvSpPr/>
            <p:nvPr/>
          </p:nvSpPr>
          <p:spPr>
            <a:xfrm>
              <a:off x="2772000" y="2398680"/>
              <a:ext cx="55440" cy="1382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38240"/>
                <a:gd name="textAreaBottom" fmla="*/ 138240 h 138240"/>
              </a:gdLst>
              <a:ahLst/>
              <a:rect l="textAreaLeft" t="textAreaTop" r="textAreaRight" b="textAreaBottom"/>
              <a:pathLst>
                <a:path w="35" h="87">
                  <a:moveTo>
                    <a:pt x="5" y="87"/>
                  </a:moveTo>
                  <a:lnTo>
                    <a:pt x="0" y="64"/>
                  </a:lnTo>
                  <a:lnTo>
                    <a:pt x="15" y="0"/>
                  </a:lnTo>
                  <a:lnTo>
                    <a:pt x="35" y="74"/>
                  </a:lnTo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90"/>
            <p:cNvSpPr/>
            <p:nvPr/>
          </p:nvSpPr>
          <p:spPr>
            <a:xfrm>
              <a:off x="2595600" y="2500200"/>
              <a:ext cx="184320" cy="32724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327240"/>
                <a:gd name="textAreaBottom" fmla="*/ 327600 h 327240"/>
              </a:gdLst>
              <a:ahLst/>
              <a:rect l="textAreaLeft" t="textAreaTop" r="textAreaRight" b="textAreaBottom"/>
              <a:pathLst>
                <a:path w="116" h="206">
                  <a:moveTo>
                    <a:pt x="95" y="193"/>
                  </a:moveTo>
                  <a:lnTo>
                    <a:pt x="52" y="206"/>
                  </a:lnTo>
                  <a:lnTo>
                    <a:pt x="0" y="33"/>
                  </a:lnTo>
                  <a:lnTo>
                    <a:pt x="111" y="0"/>
                  </a:lnTo>
                  <a:lnTo>
                    <a:pt x="116" y="23"/>
                  </a:lnTo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91"/>
            <p:cNvSpPr/>
            <p:nvPr/>
          </p:nvSpPr>
          <p:spPr>
            <a:xfrm>
              <a:off x="2497320" y="2552760"/>
              <a:ext cx="181080" cy="37152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81" h="167">
                  <a:moveTo>
                    <a:pt x="44" y="0"/>
                  </a:moveTo>
                  <a:cubicBezTo>
                    <a:pt x="81" y="123"/>
                    <a:pt x="81" y="123"/>
                    <a:pt x="81" y="123"/>
                  </a:cubicBezTo>
                  <a:cubicBezTo>
                    <a:pt x="79" y="127"/>
                    <a:pt x="76" y="131"/>
                    <a:pt x="73" y="135"/>
                  </a:cubicBezTo>
                  <a:cubicBezTo>
                    <a:pt x="70" y="139"/>
                    <a:pt x="66" y="143"/>
                    <a:pt x="63" y="146"/>
                  </a:cubicBezTo>
                  <a:cubicBezTo>
                    <a:pt x="59" y="150"/>
                    <a:pt x="56" y="154"/>
                    <a:pt x="52" y="157"/>
                  </a:cubicBezTo>
                  <a:cubicBezTo>
                    <a:pt x="48" y="161"/>
                    <a:pt x="44" y="164"/>
                    <a:pt x="40" y="167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4" y="42"/>
                    <a:pt x="9" y="38"/>
                    <a:pt x="13" y="35"/>
                  </a:cubicBezTo>
                  <a:cubicBezTo>
                    <a:pt x="17" y="31"/>
                    <a:pt x="21" y="27"/>
                    <a:pt x="24" y="24"/>
                  </a:cubicBezTo>
                  <a:cubicBezTo>
                    <a:pt x="28" y="20"/>
                    <a:pt x="31" y="16"/>
                    <a:pt x="35" y="12"/>
                  </a:cubicBezTo>
                  <a:cubicBezTo>
                    <a:pt x="38" y="8"/>
                    <a:pt x="41" y="4"/>
                    <a:pt x="44" y="0"/>
                  </a:cubicBezTo>
                  <a:close/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92"/>
            <p:cNvSpPr/>
            <p:nvPr/>
          </p:nvSpPr>
          <p:spPr>
            <a:xfrm>
              <a:off x="1920960" y="2763720"/>
              <a:ext cx="187200" cy="18756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118" h="118">
                  <a:moveTo>
                    <a:pt x="26" y="118"/>
                  </a:moveTo>
                  <a:lnTo>
                    <a:pt x="0" y="58"/>
                  </a:lnTo>
                  <a:lnTo>
                    <a:pt x="104" y="0"/>
                  </a:lnTo>
                  <a:lnTo>
                    <a:pt x="118" y="34"/>
                  </a:lnTo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93"/>
            <p:cNvSpPr/>
            <p:nvPr/>
          </p:nvSpPr>
          <p:spPr>
            <a:xfrm>
              <a:off x="1822680" y="2801880"/>
              <a:ext cx="139680" cy="1872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88" h="118">
                  <a:moveTo>
                    <a:pt x="52" y="118"/>
                  </a:moveTo>
                  <a:lnTo>
                    <a:pt x="0" y="0"/>
                  </a:lnTo>
                  <a:lnTo>
                    <a:pt x="62" y="34"/>
                  </a:lnTo>
                  <a:lnTo>
                    <a:pt x="88" y="94"/>
                  </a:lnTo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94"/>
            <p:cNvSpPr/>
            <p:nvPr/>
          </p:nvSpPr>
          <p:spPr>
            <a:xfrm>
              <a:off x="2086200" y="2762280"/>
              <a:ext cx="201600" cy="11736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90" h="53">
                  <a:moveTo>
                    <a:pt x="10" y="25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5" y="2"/>
                    <a:pt x="9" y="2"/>
                    <a:pt x="14" y="2"/>
                  </a:cubicBezTo>
                  <a:cubicBezTo>
                    <a:pt x="18" y="3"/>
                    <a:pt x="23" y="3"/>
                    <a:pt x="27" y="3"/>
                  </a:cubicBezTo>
                  <a:cubicBezTo>
                    <a:pt x="32" y="3"/>
                    <a:pt x="37" y="3"/>
                    <a:pt x="41" y="3"/>
                  </a:cubicBezTo>
                  <a:cubicBezTo>
                    <a:pt x="46" y="3"/>
                    <a:pt x="51" y="2"/>
                    <a:pt x="56" y="2"/>
                  </a:cubicBezTo>
                  <a:cubicBezTo>
                    <a:pt x="57" y="2"/>
                    <a:pt x="58" y="1"/>
                    <a:pt x="60" y="1"/>
                  </a:cubicBezTo>
                  <a:cubicBezTo>
                    <a:pt x="61" y="1"/>
                    <a:pt x="62" y="1"/>
                    <a:pt x="63" y="1"/>
                  </a:cubicBezTo>
                  <a:cubicBezTo>
                    <a:pt x="64" y="1"/>
                    <a:pt x="66" y="0"/>
                    <a:pt x="67" y="0"/>
                  </a:cubicBezTo>
                  <a:cubicBezTo>
                    <a:pt x="68" y="0"/>
                    <a:pt x="69" y="0"/>
                    <a:pt x="70" y="0"/>
                  </a:cubicBezTo>
                  <a:cubicBezTo>
                    <a:pt x="90" y="53"/>
                    <a:pt x="90" y="53"/>
                    <a:pt x="90" y="53"/>
                  </a:cubicBezTo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95"/>
            <p:cNvSpPr/>
            <p:nvPr/>
          </p:nvSpPr>
          <p:spPr>
            <a:xfrm>
              <a:off x="2497320" y="2652480"/>
              <a:ext cx="88920" cy="4096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56" h="258">
                  <a:moveTo>
                    <a:pt x="0" y="0"/>
                  </a:moveTo>
                  <a:lnTo>
                    <a:pt x="56" y="171"/>
                  </a:lnTo>
                  <a:lnTo>
                    <a:pt x="56" y="258"/>
                  </a:lnTo>
                  <a:lnTo>
                    <a:pt x="0" y="87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96"/>
            <p:cNvSpPr/>
            <p:nvPr/>
          </p:nvSpPr>
          <p:spPr>
            <a:xfrm>
              <a:off x="2243160" y="2762280"/>
              <a:ext cx="139680" cy="150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8" h="95">
                  <a:moveTo>
                    <a:pt x="28" y="74"/>
                  </a:moveTo>
                  <a:lnTo>
                    <a:pt x="0" y="0"/>
                  </a:lnTo>
                  <a:lnTo>
                    <a:pt x="74" y="56"/>
                  </a:lnTo>
                  <a:lnTo>
                    <a:pt x="88" y="95"/>
                  </a:lnTo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97"/>
            <p:cNvSpPr/>
            <p:nvPr/>
          </p:nvSpPr>
          <p:spPr>
            <a:xfrm>
              <a:off x="1711440" y="2095560"/>
              <a:ext cx="1084320" cy="760320"/>
            </a:xfrm>
            <a:custGeom>
              <a:avLst/>
              <a:gdLst>
                <a:gd name="textAreaLeft" fmla="*/ 0 w 1084320"/>
                <a:gd name="textAreaRight" fmla="*/ 1084680 w 1084320"/>
                <a:gd name="textAreaTop" fmla="*/ 0 h 760320"/>
                <a:gd name="textAreaBottom" fmla="*/ 760680 h 760320"/>
              </a:gdLst>
              <a:ahLst/>
              <a:rect l="textAreaLeft" t="textAreaTop" r="textAreaRight" b="textAreaBottom"/>
              <a:pathLst>
                <a:path w="486" h="341">
                  <a:moveTo>
                    <a:pt x="416" y="117"/>
                  </a:moveTo>
                  <a:cubicBezTo>
                    <a:pt x="486" y="136"/>
                    <a:pt x="486" y="136"/>
                    <a:pt x="486" y="136"/>
                  </a:cubicBezTo>
                  <a:cubicBezTo>
                    <a:pt x="475" y="182"/>
                    <a:pt x="475" y="182"/>
                    <a:pt x="475" y="182"/>
                  </a:cubicBezTo>
                  <a:cubicBezTo>
                    <a:pt x="396" y="205"/>
                    <a:pt x="396" y="205"/>
                    <a:pt x="396" y="205"/>
                  </a:cubicBezTo>
                  <a:cubicBezTo>
                    <a:pt x="393" y="209"/>
                    <a:pt x="390" y="213"/>
                    <a:pt x="387" y="217"/>
                  </a:cubicBezTo>
                  <a:cubicBezTo>
                    <a:pt x="383" y="221"/>
                    <a:pt x="380" y="225"/>
                    <a:pt x="376" y="229"/>
                  </a:cubicBezTo>
                  <a:cubicBezTo>
                    <a:pt x="373" y="232"/>
                    <a:pt x="369" y="236"/>
                    <a:pt x="365" y="240"/>
                  </a:cubicBezTo>
                  <a:cubicBezTo>
                    <a:pt x="361" y="243"/>
                    <a:pt x="356" y="247"/>
                    <a:pt x="352" y="250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291" y="339"/>
                    <a:pt x="291" y="339"/>
                    <a:pt x="291" y="339"/>
                  </a:cubicBezTo>
                  <a:cubicBezTo>
                    <a:pt x="238" y="299"/>
                    <a:pt x="238" y="299"/>
                    <a:pt x="238" y="299"/>
                  </a:cubicBezTo>
                  <a:cubicBezTo>
                    <a:pt x="237" y="299"/>
                    <a:pt x="236" y="299"/>
                    <a:pt x="235" y="299"/>
                  </a:cubicBezTo>
                  <a:cubicBezTo>
                    <a:pt x="234" y="299"/>
                    <a:pt x="232" y="300"/>
                    <a:pt x="231" y="300"/>
                  </a:cubicBezTo>
                  <a:cubicBezTo>
                    <a:pt x="230" y="300"/>
                    <a:pt x="229" y="300"/>
                    <a:pt x="228" y="300"/>
                  </a:cubicBezTo>
                  <a:cubicBezTo>
                    <a:pt x="226" y="300"/>
                    <a:pt x="225" y="301"/>
                    <a:pt x="224" y="301"/>
                  </a:cubicBezTo>
                  <a:cubicBezTo>
                    <a:pt x="219" y="301"/>
                    <a:pt x="214" y="302"/>
                    <a:pt x="209" y="302"/>
                  </a:cubicBezTo>
                  <a:cubicBezTo>
                    <a:pt x="205" y="302"/>
                    <a:pt x="200" y="302"/>
                    <a:pt x="195" y="302"/>
                  </a:cubicBezTo>
                  <a:cubicBezTo>
                    <a:pt x="191" y="302"/>
                    <a:pt x="186" y="302"/>
                    <a:pt x="182" y="301"/>
                  </a:cubicBezTo>
                  <a:cubicBezTo>
                    <a:pt x="177" y="301"/>
                    <a:pt x="173" y="301"/>
                    <a:pt x="168" y="300"/>
                  </a:cubicBezTo>
                  <a:cubicBezTo>
                    <a:pt x="94" y="341"/>
                    <a:pt x="94" y="341"/>
                    <a:pt x="94" y="341"/>
                  </a:cubicBezTo>
                  <a:cubicBezTo>
                    <a:pt x="50" y="317"/>
                    <a:pt x="50" y="317"/>
                    <a:pt x="50" y="317"/>
                  </a:cubicBezTo>
                  <a:cubicBezTo>
                    <a:pt x="82" y="255"/>
                    <a:pt x="82" y="255"/>
                    <a:pt x="82" y="255"/>
                  </a:cubicBezTo>
                  <a:cubicBezTo>
                    <a:pt x="79" y="252"/>
                    <a:pt x="77" y="249"/>
                    <a:pt x="75" y="245"/>
                  </a:cubicBezTo>
                  <a:cubicBezTo>
                    <a:pt x="73" y="242"/>
                    <a:pt x="71" y="239"/>
                    <a:pt x="70" y="235"/>
                  </a:cubicBezTo>
                  <a:cubicBezTo>
                    <a:pt x="68" y="231"/>
                    <a:pt x="67" y="228"/>
                    <a:pt x="66" y="224"/>
                  </a:cubicBezTo>
                  <a:cubicBezTo>
                    <a:pt x="65" y="220"/>
                    <a:pt x="64" y="216"/>
                    <a:pt x="64" y="212"/>
                  </a:cubicBezTo>
                  <a:cubicBezTo>
                    <a:pt x="0" y="193"/>
                    <a:pt x="0" y="193"/>
                    <a:pt x="0" y="193"/>
                  </a:cubicBezTo>
                  <a:cubicBezTo>
                    <a:pt x="13" y="149"/>
                    <a:pt x="13" y="149"/>
                    <a:pt x="13" y="149"/>
                  </a:cubicBezTo>
                  <a:cubicBezTo>
                    <a:pt x="90" y="126"/>
                    <a:pt x="90" y="126"/>
                    <a:pt x="90" y="126"/>
                  </a:cubicBezTo>
                  <a:cubicBezTo>
                    <a:pt x="93" y="123"/>
                    <a:pt x="96" y="119"/>
                    <a:pt x="100" y="115"/>
                  </a:cubicBezTo>
                  <a:cubicBezTo>
                    <a:pt x="103" y="111"/>
                    <a:pt x="107" y="108"/>
                    <a:pt x="110" y="104"/>
                  </a:cubicBezTo>
                  <a:cubicBezTo>
                    <a:pt x="114" y="101"/>
                    <a:pt x="118" y="97"/>
                    <a:pt x="122" y="94"/>
                  </a:cubicBezTo>
                  <a:cubicBezTo>
                    <a:pt x="126" y="90"/>
                    <a:pt x="130" y="87"/>
                    <a:pt x="134" y="84"/>
                  </a:cubicBezTo>
                  <a:cubicBezTo>
                    <a:pt x="138" y="29"/>
                    <a:pt x="138" y="29"/>
                    <a:pt x="138" y="29"/>
                  </a:cubicBezTo>
                  <a:cubicBezTo>
                    <a:pt x="192" y="7"/>
                    <a:pt x="192" y="7"/>
                    <a:pt x="192" y="7"/>
                  </a:cubicBezTo>
                  <a:cubicBezTo>
                    <a:pt x="240" y="40"/>
                    <a:pt x="240" y="40"/>
                    <a:pt x="240" y="40"/>
                  </a:cubicBezTo>
                  <a:cubicBezTo>
                    <a:pt x="241" y="40"/>
                    <a:pt x="242" y="39"/>
                    <a:pt x="243" y="39"/>
                  </a:cubicBezTo>
                  <a:cubicBezTo>
                    <a:pt x="244" y="39"/>
                    <a:pt x="246" y="39"/>
                    <a:pt x="247" y="39"/>
                  </a:cubicBezTo>
                  <a:cubicBezTo>
                    <a:pt x="248" y="39"/>
                    <a:pt x="249" y="38"/>
                    <a:pt x="250" y="38"/>
                  </a:cubicBezTo>
                  <a:cubicBezTo>
                    <a:pt x="251" y="38"/>
                    <a:pt x="252" y="38"/>
                    <a:pt x="253" y="38"/>
                  </a:cubicBezTo>
                  <a:cubicBezTo>
                    <a:pt x="258" y="37"/>
                    <a:pt x="262" y="37"/>
                    <a:pt x="267" y="36"/>
                  </a:cubicBezTo>
                  <a:cubicBezTo>
                    <a:pt x="271" y="36"/>
                    <a:pt x="276" y="36"/>
                    <a:pt x="280" y="36"/>
                  </a:cubicBezTo>
                  <a:cubicBezTo>
                    <a:pt x="284" y="36"/>
                    <a:pt x="289" y="36"/>
                    <a:pt x="293" y="36"/>
                  </a:cubicBezTo>
                  <a:cubicBezTo>
                    <a:pt x="297" y="36"/>
                    <a:pt x="301" y="37"/>
                    <a:pt x="305" y="37"/>
                  </a:cubicBezTo>
                  <a:cubicBezTo>
                    <a:pt x="372" y="0"/>
                    <a:pt x="372" y="0"/>
                    <a:pt x="372" y="0"/>
                  </a:cubicBezTo>
                  <a:cubicBezTo>
                    <a:pt x="418" y="20"/>
                    <a:pt x="418" y="20"/>
                    <a:pt x="418" y="20"/>
                  </a:cubicBezTo>
                  <a:cubicBezTo>
                    <a:pt x="392" y="75"/>
                    <a:pt x="392" y="75"/>
                    <a:pt x="392" y="75"/>
                  </a:cubicBezTo>
                  <a:cubicBezTo>
                    <a:pt x="395" y="78"/>
                    <a:pt x="398" y="81"/>
                    <a:pt x="400" y="84"/>
                  </a:cubicBezTo>
                  <a:cubicBezTo>
                    <a:pt x="403" y="88"/>
                    <a:pt x="405" y="91"/>
                    <a:pt x="407" y="95"/>
                  </a:cubicBezTo>
                  <a:cubicBezTo>
                    <a:pt x="409" y="98"/>
                    <a:pt x="411" y="102"/>
                    <a:pt x="412" y="105"/>
                  </a:cubicBezTo>
                  <a:cubicBezTo>
                    <a:pt x="414" y="109"/>
                    <a:pt x="415" y="113"/>
                    <a:pt x="416" y="117"/>
                  </a:cubicBezTo>
                  <a:close/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98"/>
            <p:cNvSpPr/>
            <p:nvPr/>
          </p:nvSpPr>
          <p:spPr>
            <a:xfrm>
              <a:off x="2360880" y="2790720"/>
              <a:ext cx="225360" cy="32076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42" h="202">
                  <a:moveTo>
                    <a:pt x="14" y="79"/>
                  </a:moveTo>
                  <a:lnTo>
                    <a:pt x="0" y="38"/>
                  </a:lnTo>
                  <a:lnTo>
                    <a:pt x="86" y="0"/>
                  </a:lnTo>
                  <a:lnTo>
                    <a:pt x="142" y="171"/>
                  </a:lnTo>
                  <a:lnTo>
                    <a:pt x="70" y="202"/>
                  </a:lnTo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99"/>
            <p:cNvSpPr/>
            <p:nvPr/>
          </p:nvSpPr>
          <p:spPr>
            <a:xfrm>
              <a:off x="1970280" y="2260440"/>
              <a:ext cx="554040" cy="41436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248" h="186">
                  <a:moveTo>
                    <a:pt x="133" y="2"/>
                  </a:moveTo>
                  <a:cubicBezTo>
                    <a:pt x="149" y="0"/>
                    <a:pt x="165" y="0"/>
                    <a:pt x="179" y="3"/>
                  </a:cubicBezTo>
                  <a:cubicBezTo>
                    <a:pt x="193" y="6"/>
                    <a:pt x="206" y="11"/>
                    <a:pt x="216" y="17"/>
                  </a:cubicBezTo>
                  <a:cubicBezTo>
                    <a:pt x="226" y="24"/>
                    <a:pt x="234" y="33"/>
                    <a:pt x="240" y="42"/>
                  </a:cubicBezTo>
                  <a:cubicBezTo>
                    <a:pt x="245" y="52"/>
                    <a:pt x="248" y="64"/>
                    <a:pt x="247" y="77"/>
                  </a:cubicBezTo>
                  <a:cubicBezTo>
                    <a:pt x="246" y="89"/>
                    <a:pt x="241" y="102"/>
                    <a:pt x="234" y="114"/>
                  </a:cubicBezTo>
                  <a:cubicBezTo>
                    <a:pt x="227" y="125"/>
                    <a:pt x="216" y="137"/>
                    <a:pt x="204" y="146"/>
                  </a:cubicBezTo>
                  <a:cubicBezTo>
                    <a:pt x="192" y="156"/>
                    <a:pt x="178" y="165"/>
                    <a:pt x="162" y="171"/>
                  </a:cubicBezTo>
                  <a:cubicBezTo>
                    <a:pt x="147" y="178"/>
                    <a:pt x="130" y="182"/>
                    <a:pt x="113" y="184"/>
                  </a:cubicBezTo>
                  <a:cubicBezTo>
                    <a:pt x="95" y="186"/>
                    <a:pt x="79" y="185"/>
                    <a:pt x="65" y="182"/>
                  </a:cubicBezTo>
                  <a:cubicBezTo>
                    <a:pt x="51" y="179"/>
                    <a:pt x="38" y="173"/>
                    <a:pt x="28" y="166"/>
                  </a:cubicBezTo>
                  <a:cubicBezTo>
                    <a:pt x="18" y="159"/>
                    <a:pt x="11" y="150"/>
                    <a:pt x="6" y="140"/>
                  </a:cubicBezTo>
                  <a:cubicBezTo>
                    <a:pt x="1" y="129"/>
                    <a:pt x="0" y="118"/>
                    <a:pt x="1" y="105"/>
                  </a:cubicBezTo>
                  <a:cubicBezTo>
                    <a:pt x="3" y="93"/>
                    <a:pt x="8" y="80"/>
                    <a:pt x="16" y="69"/>
                  </a:cubicBezTo>
                  <a:cubicBezTo>
                    <a:pt x="23" y="58"/>
                    <a:pt x="33" y="47"/>
                    <a:pt x="45" y="38"/>
                  </a:cubicBezTo>
                  <a:cubicBezTo>
                    <a:pt x="57" y="29"/>
                    <a:pt x="71" y="21"/>
                    <a:pt x="86" y="14"/>
                  </a:cubicBezTo>
                  <a:cubicBezTo>
                    <a:pt x="100" y="8"/>
                    <a:pt x="116" y="4"/>
                    <a:pt x="133" y="2"/>
                  </a:cubicBezTo>
                  <a:close/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00"/>
            <p:cNvSpPr/>
            <p:nvPr/>
          </p:nvSpPr>
          <p:spPr>
            <a:xfrm>
              <a:off x="2173320" y="2409840"/>
              <a:ext cx="142920" cy="10620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64" h="48">
                  <a:moveTo>
                    <a:pt x="29" y="47"/>
                  </a:moveTo>
                  <a:cubicBezTo>
                    <a:pt x="34" y="47"/>
                    <a:pt x="38" y="46"/>
                    <a:pt x="42" y="44"/>
                  </a:cubicBezTo>
                  <a:cubicBezTo>
                    <a:pt x="46" y="42"/>
                    <a:pt x="49" y="40"/>
                    <a:pt x="53" y="38"/>
                  </a:cubicBezTo>
                  <a:cubicBezTo>
                    <a:pt x="56" y="35"/>
                    <a:pt x="58" y="33"/>
                    <a:pt x="60" y="30"/>
                  </a:cubicBezTo>
                  <a:cubicBezTo>
                    <a:pt x="62" y="27"/>
                    <a:pt x="63" y="23"/>
                    <a:pt x="63" y="20"/>
                  </a:cubicBezTo>
                  <a:cubicBezTo>
                    <a:pt x="64" y="17"/>
                    <a:pt x="63" y="14"/>
                    <a:pt x="62" y="12"/>
                  </a:cubicBezTo>
                  <a:cubicBezTo>
                    <a:pt x="61" y="9"/>
                    <a:pt x="59" y="7"/>
                    <a:pt x="56" y="5"/>
                  </a:cubicBezTo>
                  <a:cubicBezTo>
                    <a:pt x="53" y="3"/>
                    <a:pt x="50" y="2"/>
                    <a:pt x="47" y="1"/>
                  </a:cubicBezTo>
                  <a:cubicBezTo>
                    <a:pt x="43" y="0"/>
                    <a:pt x="39" y="0"/>
                    <a:pt x="35" y="1"/>
                  </a:cubicBezTo>
                  <a:cubicBezTo>
                    <a:pt x="30" y="1"/>
                    <a:pt x="26" y="2"/>
                    <a:pt x="22" y="4"/>
                  </a:cubicBezTo>
                  <a:cubicBezTo>
                    <a:pt x="18" y="6"/>
                    <a:pt x="15" y="8"/>
                    <a:pt x="12" y="10"/>
                  </a:cubicBezTo>
                  <a:cubicBezTo>
                    <a:pt x="9" y="13"/>
                    <a:pt x="6" y="15"/>
                    <a:pt x="4" y="18"/>
                  </a:cubicBezTo>
                  <a:cubicBezTo>
                    <a:pt x="2" y="21"/>
                    <a:pt x="1" y="24"/>
                    <a:pt x="1" y="28"/>
                  </a:cubicBezTo>
                  <a:cubicBezTo>
                    <a:pt x="0" y="31"/>
                    <a:pt x="1" y="34"/>
                    <a:pt x="2" y="36"/>
                  </a:cubicBezTo>
                  <a:cubicBezTo>
                    <a:pt x="3" y="39"/>
                    <a:pt x="5" y="41"/>
                    <a:pt x="8" y="43"/>
                  </a:cubicBezTo>
                  <a:cubicBezTo>
                    <a:pt x="11" y="45"/>
                    <a:pt x="14" y="46"/>
                    <a:pt x="17" y="47"/>
                  </a:cubicBezTo>
                  <a:cubicBezTo>
                    <a:pt x="21" y="48"/>
                    <a:pt x="25" y="48"/>
                    <a:pt x="29" y="47"/>
                  </a:cubicBezTo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02"/>
            <p:cNvSpPr/>
            <p:nvPr/>
          </p:nvSpPr>
          <p:spPr>
            <a:xfrm>
              <a:off x="2773440" y="2327040"/>
              <a:ext cx="147600" cy="19224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93" h="121">
                  <a:moveTo>
                    <a:pt x="32" y="121"/>
                  </a:moveTo>
                  <a:lnTo>
                    <a:pt x="0" y="0"/>
                  </a:lnTo>
                  <a:lnTo>
                    <a:pt x="93" y="56"/>
                  </a:lnTo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03"/>
            <p:cNvSpPr/>
            <p:nvPr/>
          </p:nvSpPr>
          <p:spPr>
            <a:xfrm>
              <a:off x="3961080" y="2003400"/>
              <a:ext cx="95040" cy="1969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60" h="124">
                  <a:moveTo>
                    <a:pt x="0" y="96"/>
                  </a:moveTo>
                  <a:lnTo>
                    <a:pt x="49" y="0"/>
                  </a:lnTo>
                  <a:lnTo>
                    <a:pt x="60" y="124"/>
                  </a:lnTo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04"/>
            <p:cNvSpPr/>
            <p:nvPr/>
          </p:nvSpPr>
          <p:spPr>
            <a:xfrm>
              <a:off x="2738520" y="2746440"/>
              <a:ext cx="249120" cy="30132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157" h="190">
                  <a:moveTo>
                    <a:pt x="123" y="181"/>
                  </a:moveTo>
                  <a:lnTo>
                    <a:pt x="50" y="190"/>
                  </a:lnTo>
                  <a:lnTo>
                    <a:pt x="0" y="17"/>
                  </a:lnTo>
                  <a:lnTo>
                    <a:pt x="140" y="0"/>
                  </a:lnTo>
                  <a:lnTo>
                    <a:pt x="157" y="67"/>
                  </a:lnTo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05"/>
            <p:cNvSpPr/>
            <p:nvPr/>
          </p:nvSpPr>
          <p:spPr>
            <a:xfrm>
              <a:off x="2960640" y="2746440"/>
              <a:ext cx="54000" cy="1062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4" h="48">
                  <a:moveTo>
                    <a:pt x="12" y="48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" y="3"/>
                    <a:pt x="3" y="5"/>
                    <a:pt x="5" y="7"/>
                  </a:cubicBezTo>
                  <a:cubicBezTo>
                    <a:pt x="7" y="9"/>
                    <a:pt x="9" y="12"/>
                    <a:pt x="11" y="14"/>
                  </a:cubicBezTo>
                  <a:cubicBezTo>
                    <a:pt x="13" y="16"/>
                    <a:pt x="15" y="18"/>
                    <a:pt x="18" y="20"/>
                  </a:cubicBezTo>
                  <a:cubicBezTo>
                    <a:pt x="20" y="22"/>
                    <a:pt x="22" y="24"/>
                    <a:pt x="24" y="26"/>
                  </a:cubicBezTo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06"/>
            <p:cNvSpPr/>
            <p:nvPr/>
          </p:nvSpPr>
          <p:spPr>
            <a:xfrm>
              <a:off x="4116600" y="2371680"/>
              <a:ext cx="230040" cy="31572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145" h="199">
                  <a:moveTo>
                    <a:pt x="4" y="105"/>
                  </a:moveTo>
                  <a:lnTo>
                    <a:pt x="0" y="53"/>
                  </a:lnTo>
                  <a:lnTo>
                    <a:pt x="134" y="0"/>
                  </a:lnTo>
                  <a:lnTo>
                    <a:pt x="145" y="187"/>
                  </a:lnTo>
                  <a:lnTo>
                    <a:pt x="111" y="199"/>
                  </a:lnTo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07"/>
            <p:cNvSpPr/>
            <p:nvPr/>
          </p:nvSpPr>
          <p:spPr>
            <a:xfrm>
              <a:off x="4103640" y="2455920"/>
              <a:ext cx="19080" cy="824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9" h="37">
                  <a:moveTo>
                    <a:pt x="0" y="32"/>
                  </a:moveTo>
                  <a:cubicBezTo>
                    <a:pt x="1" y="30"/>
                    <a:pt x="1" y="27"/>
                    <a:pt x="2" y="24"/>
                  </a:cubicBezTo>
                  <a:cubicBezTo>
                    <a:pt x="3" y="22"/>
                    <a:pt x="3" y="19"/>
                    <a:pt x="4" y="16"/>
                  </a:cubicBezTo>
                  <a:cubicBezTo>
                    <a:pt x="4" y="14"/>
                    <a:pt x="5" y="11"/>
                    <a:pt x="5" y="8"/>
                  </a:cubicBezTo>
                  <a:cubicBezTo>
                    <a:pt x="5" y="6"/>
                    <a:pt x="5" y="3"/>
                    <a:pt x="6" y="0"/>
                  </a:cubicBezTo>
                  <a:cubicBezTo>
                    <a:pt x="9" y="37"/>
                    <a:pt x="9" y="37"/>
                    <a:pt x="9" y="37"/>
                  </a:cubicBezTo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08"/>
            <p:cNvSpPr/>
            <p:nvPr/>
          </p:nvSpPr>
          <p:spPr>
            <a:xfrm>
              <a:off x="3335400" y="2933640"/>
              <a:ext cx="152280" cy="2826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68" h="127">
                  <a:moveTo>
                    <a:pt x="43" y="2"/>
                  </a:moveTo>
                  <a:cubicBezTo>
                    <a:pt x="68" y="127"/>
                    <a:pt x="68" y="127"/>
                    <a:pt x="68" y="127"/>
                  </a:cubicBezTo>
                  <a:cubicBezTo>
                    <a:pt x="64" y="127"/>
                    <a:pt x="60" y="127"/>
                    <a:pt x="57" y="127"/>
                  </a:cubicBezTo>
                  <a:cubicBezTo>
                    <a:pt x="53" y="127"/>
                    <a:pt x="50" y="127"/>
                    <a:pt x="46" y="127"/>
                  </a:cubicBezTo>
                  <a:cubicBezTo>
                    <a:pt x="43" y="126"/>
                    <a:pt x="40" y="126"/>
                    <a:pt x="36" y="126"/>
                  </a:cubicBezTo>
                  <a:cubicBezTo>
                    <a:pt x="33" y="125"/>
                    <a:pt x="29" y="125"/>
                    <a:pt x="26" y="12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0"/>
                    <a:pt x="7" y="1"/>
                    <a:pt x="10" y="1"/>
                  </a:cubicBezTo>
                  <a:cubicBezTo>
                    <a:pt x="14" y="1"/>
                    <a:pt x="17" y="2"/>
                    <a:pt x="21" y="2"/>
                  </a:cubicBezTo>
                  <a:cubicBezTo>
                    <a:pt x="25" y="2"/>
                    <a:pt x="28" y="2"/>
                    <a:pt x="32" y="2"/>
                  </a:cubicBezTo>
                  <a:cubicBezTo>
                    <a:pt x="36" y="2"/>
                    <a:pt x="39" y="2"/>
                    <a:pt x="43" y="2"/>
                  </a:cubicBezTo>
                  <a:close/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09"/>
            <p:cNvSpPr/>
            <p:nvPr/>
          </p:nvSpPr>
          <p:spPr>
            <a:xfrm>
              <a:off x="3816360" y="2789280"/>
              <a:ext cx="123840" cy="3380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56" h="152">
                  <a:moveTo>
                    <a:pt x="40" y="0"/>
                  </a:moveTo>
                  <a:cubicBezTo>
                    <a:pt x="56" y="128"/>
                    <a:pt x="56" y="128"/>
                    <a:pt x="56" y="128"/>
                  </a:cubicBezTo>
                  <a:cubicBezTo>
                    <a:pt x="53" y="130"/>
                    <a:pt x="50" y="132"/>
                    <a:pt x="47" y="134"/>
                  </a:cubicBezTo>
                  <a:cubicBezTo>
                    <a:pt x="44" y="137"/>
                    <a:pt x="41" y="139"/>
                    <a:pt x="37" y="141"/>
                  </a:cubicBezTo>
                  <a:cubicBezTo>
                    <a:pt x="34" y="143"/>
                    <a:pt x="31" y="145"/>
                    <a:pt x="28" y="146"/>
                  </a:cubicBezTo>
                  <a:cubicBezTo>
                    <a:pt x="24" y="148"/>
                    <a:pt x="21" y="150"/>
                    <a:pt x="18" y="152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4" y="23"/>
                    <a:pt x="7" y="21"/>
                    <a:pt x="11" y="19"/>
                  </a:cubicBezTo>
                  <a:cubicBezTo>
                    <a:pt x="14" y="17"/>
                    <a:pt x="18" y="15"/>
                    <a:pt x="21" y="13"/>
                  </a:cubicBezTo>
                  <a:cubicBezTo>
                    <a:pt x="24" y="11"/>
                    <a:pt x="28" y="9"/>
                    <a:pt x="31" y="7"/>
                  </a:cubicBezTo>
                  <a:cubicBezTo>
                    <a:pt x="34" y="4"/>
                    <a:pt x="37" y="2"/>
                    <a:pt x="40" y="0"/>
                  </a:cubicBezTo>
                  <a:close/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210"/>
            <p:cNvSpPr/>
            <p:nvPr/>
          </p:nvSpPr>
          <p:spPr>
            <a:xfrm>
              <a:off x="2917800" y="2976480"/>
              <a:ext cx="317520" cy="37620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200" h="237">
                  <a:moveTo>
                    <a:pt x="159" y="64"/>
                  </a:moveTo>
                  <a:lnTo>
                    <a:pt x="200" y="237"/>
                  </a:lnTo>
                  <a:lnTo>
                    <a:pt x="48" y="173"/>
                  </a:lnTo>
                  <a:lnTo>
                    <a:pt x="0" y="0"/>
                  </a:lnTo>
                  <a:lnTo>
                    <a:pt x="159" y="64"/>
                  </a:lnTo>
                  <a:close/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211"/>
            <p:cNvSpPr/>
            <p:nvPr/>
          </p:nvSpPr>
          <p:spPr>
            <a:xfrm>
              <a:off x="3170520" y="2933640"/>
              <a:ext cx="223560" cy="41904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41" h="264">
                  <a:moveTo>
                    <a:pt x="104" y="0"/>
                  </a:moveTo>
                  <a:lnTo>
                    <a:pt x="141" y="176"/>
                  </a:lnTo>
                  <a:lnTo>
                    <a:pt x="41" y="264"/>
                  </a:lnTo>
                  <a:lnTo>
                    <a:pt x="0" y="91"/>
                  </a:lnTo>
                  <a:lnTo>
                    <a:pt x="104" y="0"/>
                  </a:lnTo>
                  <a:close/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212"/>
            <p:cNvSpPr/>
            <p:nvPr/>
          </p:nvSpPr>
          <p:spPr>
            <a:xfrm>
              <a:off x="4137120" y="2630520"/>
              <a:ext cx="171360" cy="4953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08" h="312">
                  <a:moveTo>
                    <a:pt x="95" y="0"/>
                  </a:moveTo>
                  <a:lnTo>
                    <a:pt x="108" y="184"/>
                  </a:lnTo>
                  <a:lnTo>
                    <a:pt x="17" y="312"/>
                  </a:lnTo>
                  <a:lnTo>
                    <a:pt x="0" y="131"/>
                  </a:lnTo>
                  <a:lnTo>
                    <a:pt x="95" y="0"/>
                  </a:lnTo>
                  <a:close/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13"/>
            <p:cNvSpPr/>
            <p:nvPr/>
          </p:nvSpPr>
          <p:spPr>
            <a:xfrm>
              <a:off x="3905280" y="2789280"/>
              <a:ext cx="258840" cy="33660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163" h="212">
                  <a:moveTo>
                    <a:pt x="146" y="31"/>
                  </a:moveTo>
                  <a:lnTo>
                    <a:pt x="163" y="212"/>
                  </a:lnTo>
                  <a:lnTo>
                    <a:pt x="22" y="179"/>
                  </a:lnTo>
                  <a:lnTo>
                    <a:pt x="0" y="0"/>
                  </a:lnTo>
                  <a:lnTo>
                    <a:pt x="146" y="31"/>
                  </a:lnTo>
                  <a:close/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214"/>
            <p:cNvSpPr/>
            <p:nvPr/>
          </p:nvSpPr>
          <p:spPr>
            <a:xfrm>
              <a:off x="3432240" y="2938320"/>
              <a:ext cx="142920" cy="4399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439920"/>
                <a:gd name="textAreaBottom" fmla="*/ 440280 h 439920"/>
              </a:gdLst>
              <a:ahLst/>
              <a:rect l="textAreaLeft" t="textAreaTop" r="textAreaRight" b="textAreaBottom"/>
              <a:pathLst>
                <a:path w="90" h="277">
                  <a:moveTo>
                    <a:pt x="57" y="102"/>
                  </a:moveTo>
                  <a:lnTo>
                    <a:pt x="90" y="277"/>
                  </a:lnTo>
                  <a:lnTo>
                    <a:pt x="35" y="175"/>
                  </a:lnTo>
                  <a:lnTo>
                    <a:pt x="0" y="0"/>
                  </a:lnTo>
                  <a:lnTo>
                    <a:pt x="57" y="102"/>
                  </a:lnTo>
                  <a:close/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215"/>
            <p:cNvSpPr/>
            <p:nvPr/>
          </p:nvSpPr>
          <p:spPr>
            <a:xfrm>
              <a:off x="3522600" y="3022560"/>
              <a:ext cx="346320" cy="35568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218" h="224">
                  <a:moveTo>
                    <a:pt x="194" y="0"/>
                  </a:moveTo>
                  <a:lnTo>
                    <a:pt x="218" y="179"/>
                  </a:lnTo>
                  <a:lnTo>
                    <a:pt x="33" y="224"/>
                  </a:lnTo>
                  <a:lnTo>
                    <a:pt x="0" y="49"/>
                  </a:lnTo>
                  <a:lnTo>
                    <a:pt x="194" y="0"/>
                  </a:lnTo>
                  <a:close/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216"/>
            <p:cNvSpPr/>
            <p:nvPr/>
          </p:nvSpPr>
          <p:spPr>
            <a:xfrm>
              <a:off x="3816360" y="2844720"/>
              <a:ext cx="52560" cy="461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3" h="291">
                  <a:moveTo>
                    <a:pt x="0" y="0"/>
                  </a:moveTo>
                  <a:lnTo>
                    <a:pt x="25" y="178"/>
                  </a:lnTo>
                  <a:lnTo>
                    <a:pt x="33" y="291"/>
                  </a:lnTo>
                  <a:lnTo>
                    <a:pt x="9" y="112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217"/>
            <p:cNvSpPr/>
            <p:nvPr/>
          </p:nvSpPr>
          <p:spPr>
            <a:xfrm>
              <a:off x="2694240" y="1922400"/>
              <a:ext cx="1635120" cy="117792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1177920"/>
                <a:gd name="textAreaBottom" fmla="*/ 1178280 h 1177920"/>
              </a:gdLst>
              <a:ahLst/>
              <a:rect l="textAreaLeft" t="textAreaTop" r="textAreaRight" b="textAreaBottom"/>
              <a:pathLst>
                <a:path w="733" h="528">
                  <a:moveTo>
                    <a:pt x="638" y="239"/>
                  </a:moveTo>
                  <a:cubicBezTo>
                    <a:pt x="637" y="242"/>
                    <a:pt x="637" y="245"/>
                    <a:pt x="637" y="247"/>
                  </a:cubicBezTo>
                  <a:cubicBezTo>
                    <a:pt x="637" y="250"/>
                    <a:pt x="636" y="253"/>
                    <a:pt x="636" y="255"/>
                  </a:cubicBezTo>
                  <a:cubicBezTo>
                    <a:pt x="635" y="258"/>
                    <a:pt x="635" y="261"/>
                    <a:pt x="634" y="263"/>
                  </a:cubicBezTo>
                  <a:cubicBezTo>
                    <a:pt x="633" y="266"/>
                    <a:pt x="633" y="269"/>
                    <a:pt x="632" y="271"/>
                  </a:cubicBezTo>
                  <a:cubicBezTo>
                    <a:pt x="715" y="317"/>
                    <a:pt x="715" y="317"/>
                    <a:pt x="715" y="317"/>
                  </a:cubicBezTo>
                  <a:cubicBezTo>
                    <a:pt x="647" y="410"/>
                    <a:pt x="647" y="410"/>
                    <a:pt x="647" y="410"/>
                  </a:cubicBezTo>
                  <a:cubicBezTo>
                    <a:pt x="543" y="388"/>
                    <a:pt x="543" y="388"/>
                    <a:pt x="543" y="388"/>
                  </a:cubicBezTo>
                  <a:cubicBezTo>
                    <a:pt x="540" y="390"/>
                    <a:pt x="537" y="392"/>
                    <a:pt x="534" y="395"/>
                  </a:cubicBezTo>
                  <a:cubicBezTo>
                    <a:pt x="531" y="397"/>
                    <a:pt x="527" y="399"/>
                    <a:pt x="524" y="401"/>
                  </a:cubicBezTo>
                  <a:cubicBezTo>
                    <a:pt x="521" y="403"/>
                    <a:pt x="517" y="405"/>
                    <a:pt x="514" y="407"/>
                  </a:cubicBezTo>
                  <a:cubicBezTo>
                    <a:pt x="510" y="409"/>
                    <a:pt x="507" y="411"/>
                    <a:pt x="503" y="413"/>
                  </a:cubicBezTo>
                  <a:cubicBezTo>
                    <a:pt x="510" y="493"/>
                    <a:pt x="510" y="493"/>
                    <a:pt x="510" y="493"/>
                  </a:cubicBezTo>
                  <a:cubicBezTo>
                    <a:pt x="372" y="528"/>
                    <a:pt x="372" y="528"/>
                    <a:pt x="372" y="528"/>
                  </a:cubicBezTo>
                  <a:cubicBezTo>
                    <a:pt x="331" y="455"/>
                    <a:pt x="331" y="455"/>
                    <a:pt x="331" y="455"/>
                  </a:cubicBezTo>
                  <a:cubicBezTo>
                    <a:pt x="327" y="455"/>
                    <a:pt x="324" y="455"/>
                    <a:pt x="320" y="455"/>
                  </a:cubicBezTo>
                  <a:cubicBezTo>
                    <a:pt x="316" y="455"/>
                    <a:pt x="313" y="455"/>
                    <a:pt x="309" y="455"/>
                  </a:cubicBezTo>
                  <a:cubicBezTo>
                    <a:pt x="305" y="455"/>
                    <a:pt x="302" y="454"/>
                    <a:pt x="298" y="454"/>
                  </a:cubicBezTo>
                  <a:cubicBezTo>
                    <a:pt x="295" y="454"/>
                    <a:pt x="291" y="453"/>
                    <a:pt x="288" y="453"/>
                  </a:cubicBezTo>
                  <a:cubicBezTo>
                    <a:pt x="214" y="518"/>
                    <a:pt x="214" y="518"/>
                    <a:pt x="214" y="518"/>
                  </a:cubicBezTo>
                  <a:cubicBezTo>
                    <a:pt x="101" y="472"/>
                    <a:pt x="101" y="472"/>
                    <a:pt x="101" y="472"/>
                  </a:cubicBezTo>
                  <a:cubicBezTo>
                    <a:pt x="144" y="395"/>
                    <a:pt x="144" y="395"/>
                    <a:pt x="144" y="395"/>
                  </a:cubicBezTo>
                  <a:cubicBezTo>
                    <a:pt x="142" y="393"/>
                    <a:pt x="140" y="391"/>
                    <a:pt x="138" y="389"/>
                  </a:cubicBezTo>
                  <a:cubicBezTo>
                    <a:pt x="135" y="387"/>
                    <a:pt x="133" y="385"/>
                    <a:pt x="131" y="383"/>
                  </a:cubicBezTo>
                  <a:cubicBezTo>
                    <a:pt x="129" y="381"/>
                    <a:pt x="127" y="378"/>
                    <a:pt x="125" y="376"/>
                  </a:cubicBezTo>
                  <a:cubicBezTo>
                    <a:pt x="123" y="374"/>
                    <a:pt x="122" y="372"/>
                    <a:pt x="120" y="369"/>
                  </a:cubicBezTo>
                  <a:cubicBezTo>
                    <a:pt x="20" y="381"/>
                    <a:pt x="20" y="381"/>
                    <a:pt x="20" y="381"/>
                  </a:cubicBezTo>
                  <a:cubicBezTo>
                    <a:pt x="0" y="290"/>
                    <a:pt x="0" y="290"/>
                    <a:pt x="0" y="290"/>
                  </a:cubicBezTo>
                  <a:cubicBezTo>
                    <a:pt x="93" y="253"/>
                    <a:pt x="93" y="253"/>
                    <a:pt x="93" y="253"/>
                  </a:cubicBezTo>
                  <a:cubicBezTo>
                    <a:pt x="93" y="251"/>
                    <a:pt x="94" y="248"/>
                    <a:pt x="94" y="245"/>
                  </a:cubicBezTo>
                  <a:cubicBezTo>
                    <a:pt x="95" y="243"/>
                    <a:pt x="96" y="240"/>
                    <a:pt x="97" y="237"/>
                  </a:cubicBezTo>
                  <a:cubicBezTo>
                    <a:pt x="98" y="235"/>
                    <a:pt x="98" y="232"/>
                    <a:pt x="99" y="229"/>
                  </a:cubicBezTo>
                  <a:cubicBezTo>
                    <a:pt x="100" y="227"/>
                    <a:pt x="101" y="224"/>
                    <a:pt x="102" y="221"/>
                  </a:cubicBezTo>
                  <a:cubicBezTo>
                    <a:pt x="36" y="181"/>
                    <a:pt x="36" y="181"/>
                    <a:pt x="36" y="181"/>
                  </a:cubicBezTo>
                  <a:cubicBezTo>
                    <a:pt x="107" y="102"/>
                    <a:pt x="107" y="102"/>
                    <a:pt x="107" y="102"/>
                  </a:cubicBezTo>
                  <a:cubicBezTo>
                    <a:pt x="193" y="117"/>
                    <a:pt x="193" y="117"/>
                    <a:pt x="193" y="117"/>
                  </a:cubicBezTo>
                  <a:cubicBezTo>
                    <a:pt x="196" y="116"/>
                    <a:pt x="199" y="114"/>
                    <a:pt x="202" y="112"/>
                  </a:cubicBezTo>
                  <a:cubicBezTo>
                    <a:pt x="205" y="110"/>
                    <a:pt x="208" y="108"/>
                    <a:pt x="210" y="107"/>
                  </a:cubicBezTo>
                  <a:cubicBezTo>
                    <a:pt x="213" y="105"/>
                    <a:pt x="216" y="103"/>
                    <a:pt x="220" y="101"/>
                  </a:cubicBezTo>
                  <a:cubicBezTo>
                    <a:pt x="223" y="100"/>
                    <a:pt x="226" y="98"/>
                    <a:pt x="229" y="97"/>
                  </a:cubicBezTo>
                  <a:cubicBezTo>
                    <a:pt x="228" y="31"/>
                    <a:pt x="228" y="31"/>
                    <a:pt x="228" y="31"/>
                  </a:cubicBezTo>
                  <a:cubicBezTo>
                    <a:pt x="348" y="0"/>
                    <a:pt x="348" y="0"/>
                    <a:pt x="348" y="0"/>
                  </a:cubicBezTo>
                  <a:cubicBezTo>
                    <a:pt x="385" y="57"/>
                    <a:pt x="385" y="57"/>
                    <a:pt x="385" y="57"/>
                  </a:cubicBezTo>
                  <a:cubicBezTo>
                    <a:pt x="388" y="56"/>
                    <a:pt x="392" y="56"/>
                    <a:pt x="395" y="56"/>
                  </a:cubicBezTo>
                  <a:cubicBezTo>
                    <a:pt x="399" y="56"/>
                    <a:pt x="402" y="56"/>
                    <a:pt x="406" y="56"/>
                  </a:cubicBezTo>
                  <a:cubicBezTo>
                    <a:pt x="409" y="56"/>
                    <a:pt x="413" y="56"/>
                    <a:pt x="416" y="57"/>
                  </a:cubicBezTo>
                  <a:cubicBezTo>
                    <a:pt x="419" y="57"/>
                    <a:pt x="423" y="57"/>
                    <a:pt x="426" y="57"/>
                  </a:cubicBezTo>
                  <a:cubicBezTo>
                    <a:pt x="492" y="1"/>
                    <a:pt x="492" y="1"/>
                    <a:pt x="492" y="1"/>
                  </a:cubicBezTo>
                  <a:cubicBezTo>
                    <a:pt x="603" y="36"/>
                    <a:pt x="603" y="36"/>
                    <a:pt x="603" y="36"/>
                  </a:cubicBezTo>
                  <a:cubicBezTo>
                    <a:pt x="568" y="104"/>
                    <a:pt x="568" y="104"/>
                    <a:pt x="568" y="104"/>
                  </a:cubicBezTo>
                  <a:cubicBezTo>
                    <a:pt x="570" y="106"/>
                    <a:pt x="573" y="108"/>
                    <a:pt x="575" y="109"/>
                  </a:cubicBezTo>
                  <a:cubicBezTo>
                    <a:pt x="577" y="111"/>
                    <a:pt x="579" y="113"/>
                    <a:pt x="581" y="115"/>
                  </a:cubicBezTo>
                  <a:cubicBezTo>
                    <a:pt x="584" y="116"/>
                    <a:pt x="586" y="118"/>
                    <a:pt x="588" y="120"/>
                  </a:cubicBezTo>
                  <a:cubicBezTo>
                    <a:pt x="590" y="122"/>
                    <a:pt x="592" y="124"/>
                    <a:pt x="594" y="126"/>
                  </a:cubicBezTo>
                  <a:cubicBezTo>
                    <a:pt x="696" y="113"/>
                    <a:pt x="696" y="113"/>
                    <a:pt x="696" y="113"/>
                  </a:cubicBezTo>
                  <a:cubicBezTo>
                    <a:pt x="733" y="201"/>
                    <a:pt x="733" y="201"/>
                    <a:pt x="733" y="201"/>
                  </a:cubicBezTo>
                  <a:lnTo>
                    <a:pt x="638" y="239"/>
                  </a:lnTo>
                  <a:close/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218"/>
            <p:cNvSpPr/>
            <p:nvPr/>
          </p:nvSpPr>
          <p:spPr>
            <a:xfrm>
              <a:off x="3081600" y="2178000"/>
              <a:ext cx="836640" cy="611280"/>
            </a:xfrm>
            <a:custGeom>
              <a:avLst/>
              <a:gdLst>
                <a:gd name="textAreaLeft" fmla="*/ 0 w 836640"/>
                <a:gd name="textAreaRight" fmla="*/ 837000 w 836640"/>
                <a:gd name="textAreaTop" fmla="*/ 0 h 611280"/>
                <a:gd name="textAreaBottom" fmla="*/ 611640 h 611280"/>
              </a:gdLst>
              <a:ahLst/>
              <a:rect l="textAreaLeft" t="textAreaTop" r="textAreaRight" b="textAreaBottom"/>
              <a:pathLst>
                <a:path w="375" h="274">
                  <a:moveTo>
                    <a:pt x="181" y="3"/>
                  </a:moveTo>
                  <a:cubicBezTo>
                    <a:pt x="206" y="0"/>
                    <a:pt x="230" y="0"/>
                    <a:pt x="252" y="4"/>
                  </a:cubicBezTo>
                  <a:cubicBezTo>
                    <a:pt x="275" y="8"/>
                    <a:pt x="295" y="15"/>
                    <a:pt x="312" y="25"/>
                  </a:cubicBezTo>
                  <a:cubicBezTo>
                    <a:pt x="330" y="34"/>
                    <a:pt x="345" y="47"/>
                    <a:pt x="355" y="61"/>
                  </a:cubicBezTo>
                  <a:cubicBezTo>
                    <a:pt x="366" y="76"/>
                    <a:pt x="373" y="93"/>
                    <a:pt x="374" y="111"/>
                  </a:cubicBezTo>
                  <a:cubicBezTo>
                    <a:pt x="375" y="130"/>
                    <a:pt x="371" y="149"/>
                    <a:pt x="363" y="166"/>
                  </a:cubicBezTo>
                  <a:cubicBezTo>
                    <a:pt x="354" y="184"/>
                    <a:pt x="341" y="201"/>
                    <a:pt x="324" y="215"/>
                  </a:cubicBezTo>
                  <a:cubicBezTo>
                    <a:pt x="308" y="230"/>
                    <a:pt x="287" y="243"/>
                    <a:pt x="264" y="252"/>
                  </a:cubicBezTo>
                  <a:cubicBezTo>
                    <a:pt x="241" y="262"/>
                    <a:pt x="216" y="269"/>
                    <a:pt x="189" y="271"/>
                  </a:cubicBezTo>
                  <a:cubicBezTo>
                    <a:pt x="163" y="274"/>
                    <a:pt x="137" y="273"/>
                    <a:pt x="114" y="268"/>
                  </a:cubicBezTo>
                  <a:cubicBezTo>
                    <a:pt x="91" y="263"/>
                    <a:pt x="71" y="255"/>
                    <a:pt x="54" y="244"/>
                  </a:cubicBezTo>
                  <a:cubicBezTo>
                    <a:pt x="37" y="233"/>
                    <a:pt x="23" y="220"/>
                    <a:pt x="14" y="204"/>
                  </a:cubicBezTo>
                  <a:cubicBezTo>
                    <a:pt x="5" y="189"/>
                    <a:pt x="0" y="172"/>
                    <a:pt x="0" y="153"/>
                  </a:cubicBezTo>
                  <a:cubicBezTo>
                    <a:pt x="1" y="135"/>
                    <a:pt x="6" y="117"/>
                    <a:pt x="15" y="100"/>
                  </a:cubicBezTo>
                  <a:cubicBezTo>
                    <a:pt x="25" y="84"/>
                    <a:pt x="38" y="68"/>
                    <a:pt x="54" y="55"/>
                  </a:cubicBezTo>
                  <a:cubicBezTo>
                    <a:pt x="71" y="41"/>
                    <a:pt x="90" y="30"/>
                    <a:pt x="111" y="21"/>
                  </a:cubicBezTo>
                  <a:cubicBezTo>
                    <a:pt x="133" y="12"/>
                    <a:pt x="156" y="6"/>
                    <a:pt x="181" y="3"/>
                  </a:cubicBezTo>
                  <a:close/>
                  <a:moveTo>
                    <a:pt x="186" y="167"/>
                  </a:moveTo>
                  <a:cubicBezTo>
                    <a:pt x="193" y="166"/>
                    <a:pt x="199" y="165"/>
                    <a:pt x="205" y="162"/>
                  </a:cubicBezTo>
                  <a:cubicBezTo>
                    <a:pt x="211" y="160"/>
                    <a:pt x="216" y="157"/>
                    <a:pt x="220" y="153"/>
                  </a:cubicBezTo>
                  <a:cubicBezTo>
                    <a:pt x="224" y="150"/>
                    <a:pt x="228" y="145"/>
                    <a:pt x="230" y="141"/>
                  </a:cubicBezTo>
                  <a:cubicBezTo>
                    <a:pt x="232" y="137"/>
                    <a:pt x="233" y="132"/>
                    <a:pt x="233" y="127"/>
                  </a:cubicBezTo>
                  <a:cubicBezTo>
                    <a:pt x="233" y="122"/>
                    <a:pt x="231" y="118"/>
                    <a:pt x="229" y="114"/>
                  </a:cubicBezTo>
                  <a:cubicBezTo>
                    <a:pt x="226" y="110"/>
                    <a:pt x="222" y="107"/>
                    <a:pt x="218" y="105"/>
                  </a:cubicBezTo>
                  <a:cubicBezTo>
                    <a:pt x="214" y="102"/>
                    <a:pt x="208" y="100"/>
                    <a:pt x="203" y="99"/>
                  </a:cubicBezTo>
                  <a:cubicBezTo>
                    <a:pt x="197" y="98"/>
                    <a:pt x="191" y="98"/>
                    <a:pt x="184" y="98"/>
                  </a:cubicBezTo>
                  <a:cubicBezTo>
                    <a:pt x="178" y="99"/>
                    <a:pt x="171" y="101"/>
                    <a:pt x="166" y="103"/>
                  </a:cubicBezTo>
                  <a:cubicBezTo>
                    <a:pt x="160" y="106"/>
                    <a:pt x="155" y="109"/>
                    <a:pt x="151" y="112"/>
                  </a:cubicBezTo>
                  <a:cubicBezTo>
                    <a:pt x="147" y="116"/>
                    <a:pt x="143" y="120"/>
                    <a:pt x="141" y="124"/>
                  </a:cubicBezTo>
                  <a:cubicBezTo>
                    <a:pt x="139" y="128"/>
                    <a:pt x="137" y="133"/>
                    <a:pt x="138" y="138"/>
                  </a:cubicBezTo>
                  <a:cubicBezTo>
                    <a:pt x="138" y="143"/>
                    <a:pt x="139" y="147"/>
                    <a:pt x="142" y="151"/>
                  </a:cubicBezTo>
                  <a:cubicBezTo>
                    <a:pt x="144" y="155"/>
                    <a:pt x="148" y="158"/>
                    <a:pt x="152" y="161"/>
                  </a:cubicBezTo>
                  <a:cubicBezTo>
                    <a:pt x="156" y="163"/>
                    <a:pt x="162" y="165"/>
                    <a:pt x="167" y="166"/>
                  </a:cubicBezTo>
                  <a:cubicBezTo>
                    <a:pt x="173" y="168"/>
                    <a:pt x="180" y="168"/>
                    <a:pt x="186" y="167"/>
                  </a:cubicBezTo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Line 219"/>
          <p:cNvSpPr/>
          <p:nvPr/>
        </p:nvSpPr>
        <p:spPr>
          <a:xfrm>
            <a:off x="6480" y="3424320"/>
            <a:ext cx="765000" cy="1440"/>
          </a:xfrm>
          <a:prstGeom prst="line">
            <a:avLst/>
          </a:prstGeom>
          <a:ln cap="rnd" w="176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233"/>
          <p:cNvGrpSpPr/>
          <p:nvPr/>
        </p:nvGrpSpPr>
        <p:grpSpPr>
          <a:xfrm>
            <a:off x="2529000" y="3825720"/>
            <a:ext cx="212760" cy="600120"/>
            <a:chOff x="2529000" y="3825720"/>
            <a:chExt cx="212760" cy="600120"/>
          </a:xfrm>
        </p:grpSpPr>
        <p:sp>
          <p:nvSpPr>
            <p:cNvPr id="471" name="Freeform 168"/>
            <p:cNvSpPr/>
            <p:nvPr/>
          </p:nvSpPr>
          <p:spPr>
            <a:xfrm>
              <a:off x="2529000" y="3857400"/>
              <a:ext cx="212760" cy="56844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134" h="358">
                  <a:moveTo>
                    <a:pt x="75" y="0"/>
                  </a:moveTo>
                  <a:lnTo>
                    <a:pt x="134" y="160"/>
                  </a:lnTo>
                  <a:lnTo>
                    <a:pt x="0" y="358"/>
                  </a:lnTo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232"/>
            <p:cNvSpPr/>
            <p:nvPr/>
          </p:nvSpPr>
          <p:spPr>
            <a:xfrm>
              <a:off x="2597400" y="3825720"/>
              <a:ext cx="46080" cy="33480"/>
            </a:xfrm>
            <a:prstGeom prst="line">
              <a:avLst/>
            </a:prstGeom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Group 252"/>
          <p:cNvGrpSpPr/>
          <p:nvPr/>
        </p:nvGrpSpPr>
        <p:grpSpPr>
          <a:xfrm>
            <a:off x="638280" y="2922480"/>
            <a:ext cx="2092320" cy="1871280"/>
            <a:chOff x="638280" y="2922480"/>
            <a:chExt cx="2092320" cy="1871280"/>
          </a:xfrm>
        </p:grpSpPr>
        <p:sp>
          <p:nvSpPr>
            <p:cNvPr id="474" name="Freeform 170"/>
            <p:cNvSpPr/>
            <p:nvPr/>
          </p:nvSpPr>
          <p:spPr>
            <a:xfrm>
              <a:off x="2432160" y="3460680"/>
              <a:ext cx="298440" cy="36360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134" h="163">
                  <a:moveTo>
                    <a:pt x="134" y="0"/>
                  </a:moveTo>
                  <a:cubicBezTo>
                    <a:pt x="13" y="55"/>
                    <a:pt x="13" y="55"/>
                    <a:pt x="13" y="55"/>
                  </a:cubicBezTo>
                  <a:cubicBezTo>
                    <a:pt x="13" y="60"/>
                    <a:pt x="12" y="65"/>
                    <a:pt x="11" y="69"/>
                  </a:cubicBezTo>
                  <a:cubicBezTo>
                    <a:pt x="10" y="74"/>
                    <a:pt x="9" y="79"/>
                    <a:pt x="8" y="84"/>
                  </a:cubicBezTo>
                  <a:cubicBezTo>
                    <a:pt x="7" y="89"/>
                    <a:pt x="6" y="93"/>
                    <a:pt x="5" y="98"/>
                  </a:cubicBezTo>
                  <a:cubicBezTo>
                    <a:pt x="3" y="103"/>
                    <a:pt x="2" y="107"/>
                    <a:pt x="0" y="112"/>
                  </a:cubicBezTo>
                  <a:cubicBezTo>
                    <a:pt x="76" y="163"/>
                    <a:pt x="76" y="163"/>
                    <a:pt x="76" y="163"/>
                  </a:cubicBezTo>
                </a:path>
              </a:pathLst>
            </a:custGeom>
            <a:noFill/>
            <a:ln cap="rnd" w="176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Group 236"/>
            <p:cNvGrpSpPr/>
            <p:nvPr/>
          </p:nvGrpSpPr>
          <p:grpSpPr>
            <a:xfrm>
              <a:off x="638280" y="2922480"/>
              <a:ext cx="2092320" cy="1871280"/>
              <a:chOff x="638280" y="2922480"/>
              <a:chExt cx="2092320" cy="1871280"/>
            </a:xfrm>
          </p:grpSpPr>
          <p:sp>
            <p:nvSpPr>
              <p:cNvPr id="476" name="Freeform 237"/>
              <p:cNvSpPr/>
              <p:nvPr/>
            </p:nvSpPr>
            <p:spPr>
              <a:xfrm>
                <a:off x="831960" y="4398840"/>
                <a:ext cx="415800" cy="168120"/>
              </a:xfrm>
              <a:custGeom>
                <a:avLst/>
                <a:gdLst>
                  <a:gd name="textAreaLeft" fmla="*/ 0 w 415800"/>
                  <a:gd name="textAreaRight" fmla="*/ 416160 w 41580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262" h="106">
                    <a:moveTo>
                      <a:pt x="262" y="35"/>
                    </a:moveTo>
                    <a:lnTo>
                      <a:pt x="189" y="10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76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7" name="Group 238"/>
              <p:cNvGrpSpPr/>
              <p:nvPr/>
            </p:nvGrpSpPr>
            <p:grpSpPr>
              <a:xfrm>
                <a:off x="638280" y="2922480"/>
                <a:ext cx="2092320" cy="1871280"/>
                <a:chOff x="638280" y="2922480"/>
                <a:chExt cx="2092320" cy="1871280"/>
              </a:xfrm>
            </p:grpSpPr>
            <p:sp>
              <p:nvSpPr>
                <p:cNvPr id="478" name="Freeform 239"/>
                <p:cNvSpPr/>
                <p:nvPr/>
              </p:nvSpPr>
              <p:spPr>
                <a:xfrm>
                  <a:off x="1513080" y="3506760"/>
                  <a:ext cx="282600" cy="241200"/>
                </a:xfrm>
                <a:custGeom>
                  <a:avLst/>
                  <a:gdLst>
                    <a:gd name="textAreaLeft" fmla="*/ 0 w 282600"/>
                    <a:gd name="textAreaRight" fmla="*/ 282960 w 28260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127" h="108">
                      <a:moveTo>
                        <a:pt x="55" y="107"/>
                      </a:moveTo>
                      <a:cubicBezTo>
                        <a:pt x="64" y="106"/>
                        <a:pt x="72" y="104"/>
                        <a:pt x="80" y="100"/>
                      </a:cubicBezTo>
                      <a:cubicBezTo>
                        <a:pt x="88" y="97"/>
                        <a:pt x="96" y="93"/>
                        <a:pt x="102" y="87"/>
                      </a:cubicBezTo>
                      <a:cubicBezTo>
                        <a:pt x="108" y="82"/>
                        <a:pt x="114" y="76"/>
                        <a:pt x="118" y="69"/>
                      </a:cubicBezTo>
                      <a:cubicBezTo>
                        <a:pt x="122" y="62"/>
                        <a:pt x="125" y="55"/>
                        <a:pt x="126" y="48"/>
                      </a:cubicBezTo>
                      <a:cubicBezTo>
                        <a:pt x="127" y="40"/>
                        <a:pt x="126" y="34"/>
                        <a:pt x="124" y="27"/>
                      </a:cubicBezTo>
                      <a:cubicBezTo>
                        <a:pt x="122" y="21"/>
                        <a:pt x="118" y="16"/>
                        <a:pt x="113" y="12"/>
                      </a:cubicBezTo>
                      <a:cubicBezTo>
                        <a:pt x="108" y="8"/>
                        <a:pt x="102" y="4"/>
                        <a:pt x="95" y="3"/>
                      </a:cubicBezTo>
                      <a:cubicBezTo>
                        <a:pt x="88" y="1"/>
                        <a:pt x="80" y="0"/>
                        <a:pt x="72" y="1"/>
                      </a:cubicBezTo>
                      <a:cubicBezTo>
                        <a:pt x="63" y="1"/>
                        <a:pt x="55" y="3"/>
                        <a:pt x="47" y="7"/>
                      </a:cubicBezTo>
                      <a:cubicBezTo>
                        <a:pt x="39" y="10"/>
                        <a:pt x="32" y="14"/>
                        <a:pt x="26" y="20"/>
                      </a:cubicBezTo>
                      <a:cubicBezTo>
                        <a:pt x="19" y="25"/>
                        <a:pt x="14" y="31"/>
                        <a:pt x="10" y="37"/>
                      </a:cubicBezTo>
                      <a:cubicBezTo>
                        <a:pt x="6" y="44"/>
                        <a:pt x="3" y="51"/>
                        <a:pt x="1" y="58"/>
                      </a:cubicBezTo>
                      <a:cubicBezTo>
                        <a:pt x="0" y="66"/>
                        <a:pt x="1" y="73"/>
                        <a:pt x="3" y="79"/>
                      </a:cubicBezTo>
                      <a:cubicBezTo>
                        <a:pt x="5" y="85"/>
                        <a:pt x="8" y="90"/>
                        <a:pt x="13" y="95"/>
                      </a:cubicBezTo>
                      <a:cubicBezTo>
                        <a:pt x="18" y="99"/>
                        <a:pt x="24" y="102"/>
                        <a:pt x="31" y="105"/>
                      </a:cubicBezTo>
                      <a:cubicBezTo>
                        <a:pt x="38" y="107"/>
                        <a:pt x="46" y="108"/>
                        <a:pt x="55" y="107"/>
                      </a:cubicBezTo>
                    </a:path>
                  </a:pathLst>
                </a:custGeom>
                <a:noFill/>
                <a:ln cap="rnd" w="176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240"/>
                <p:cNvSpPr/>
                <p:nvPr/>
              </p:nvSpPr>
              <p:spPr>
                <a:xfrm>
                  <a:off x="2460600" y="3460680"/>
                  <a:ext cx="270000" cy="320760"/>
                </a:xfrm>
                <a:custGeom>
                  <a:avLst/>
                  <a:gdLst>
                    <a:gd name="textAreaLeft" fmla="*/ 0 w 270000"/>
                    <a:gd name="textAreaRight" fmla="*/ 270360 w 270000"/>
                    <a:gd name="textAreaTop" fmla="*/ 0 h 320760"/>
                    <a:gd name="textAreaBottom" fmla="*/ 321120 h 320760"/>
                  </a:gdLst>
                  <a:ahLst/>
                  <a:rect l="textAreaLeft" t="textAreaTop" r="textAreaRight" b="textAreaBottom"/>
                  <a:pathLst>
                    <a:path w="170" h="202">
                      <a:moveTo>
                        <a:pt x="48" y="202"/>
                      </a:moveTo>
                      <a:lnTo>
                        <a:pt x="0" y="77"/>
                      </a:lnTo>
                      <a:lnTo>
                        <a:pt x="170" y="0"/>
                      </a:lnTo>
                    </a:path>
                  </a:pathLst>
                </a:custGeom>
                <a:noFill/>
                <a:ln cap="rnd" w="176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Freeform 241"/>
                <p:cNvSpPr/>
                <p:nvPr/>
              </p:nvSpPr>
              <p:spPr>
                <a:xfrm>
                  <a:off x="1360440" y="4343400"/>
                  <a:ext cx="154080" cy="234720"/>
                </a:xfrm>
                <a:custGeom>
                  <a:avLst/>
                  <a:gdLst>
                    <a:gd name="textAreaLeft" fmla="*/ 0 w 154080"/>
                    <a:gd name="textAreaRight" fmla="*/ 154440 w 154080"/>
                    <a:gd name="textAreaTop" fmla="*/ 0 h 234720"/>
                    <a:gd name="textAreaBottom" fmla="*/ 235080 h 234720"/>
                  </a:gdLst>
                  <a:ahLst/>
                  <a:rect l="textAreaLeft" t="textAreaTop" r="textAreaRight" b="textAreaBottom"/>
                  <a:pathLst>
                    <a:path w="69" h="105">
                      <a:moveTo>
                        <a:pt x="69" y="105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5" y="1"/>
                        <a:pt x="10" y="1"/>
                        <a:pt x="16" y="2"/>
                      </a:cubicBezTo>
                      <a:cubicBezTo>
                        <a:pt x="21" y="2"/>
                        <a:pt x="26" y="3"/>
                        <a:pt x="31" y="3"/>
                      </a:cubicBezTo>
                      <a:cubicBezTo>
                        <a:pt x="37" y="3"/>
                        <a:pt x="42" y="4"/>
                        <a:pt x="47" y="4"/>
                      </a:cubicBezTo>
                      <a:cubicBezTo>
                        <a:pt x="53" y="4"/>
                        <a:pt x="58" y="4"/>
                        <a:pt x="64" y="4"/>
                      </a:cubicBezTo>
                      <a:cubicBezTo>
                        <a:pt x="65" y="6"/>
                        <a:pt x="65" y="6"/>
                        <a:pt x="65" y="6"/>
                      </a:cubicBezTo>
                    </a:path>
                  </a:pathLst>
                </a:custGeom>
                <a:noFill/>
                <a:ln cap="rnd" w="176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Line 242"/>
                <p:cNvSpPr/>
                <p:nvPr/>
              </p:nvSpPr>
              <p:spPr>
                <a:xfrm flipH="1" flipV="1">
                  <a:off x="2009880" y="4200120"/>
                  <a:ext cx="125280" cy="243000"/>
                </a:xfrm>
                <a:prstGeom prst="line">
                  <a:avLst/>
                </a:prstGeom>
                <a:ln cap="rnd" w="176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Line 243"/>
                <p:cNvSpPr/>
                <p:nvPr/>
              </p:nvSpPr>
              <p:spPr>
                <a:xfrm flipH="1" flipV="1">
                  <a:off x="1131480" y="4566600"/>
                  <a:ext cx="165240" cy="227160"/>
                </a:xfrm>
                <a:prstGeom prst="line">
                  <a:avLst/>
                </a:prstGeom>
                <a:ln cap="rnd" w="176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Line 244"/>
                <p:cNvSpPr/>
                <p:nvPr/>
              </p:nvSpPr>
              <p:spPr>
                <a:xfrm>
                  <a:off x="2422800" y="4178160"/>
                  <a:ext cx="106200" cy="247680"/>
                </a:xfrm>
                <a:prstGeom prst="line">
                  <a:avLst/>
                </a:prstGeom>
                <a:ln cap="rnd" w="176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Line 245"/>
                <p:cNvSpPr/>
                <p:nvPr/>
              </p:nvSpPr>
              <p:spPr>
                <a:xfrm flipH="1" flipV="1">
                  <a:off x="2144880" y="4111200"/>
                  <a:ext cx="115920" cy="243000"/>
                </a:xfrm>
                <a:prstGeom prst="line">
                  <a:avLst/>
                </a:prstGeom>
                <a:ln cap="rnd" w="176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Freeform 246"/>
                <p:cNvSpPr/>
                <p:nvPr/>
              </p:nvSpPr>
              <p:spPr>
                <a:xfrm>
                  <a:off x="2293920" y="2922480"/>
                  <a:ext cx="204840" cy="291960"/>
                </a:xfrm>
                <a:custGeom>
                  <a:avLst/>
                  <a:gdLst>
                    <a:gd name="textAreaLeft" fmla="*/ 0 w 204840"/>
                    <a:gd name="textAreaRight" fmla="*/ 205200 w 204840"/>
                    <a:gd name="textAreaTop" fmla="*/ 0 h 291960"/>
                    <a:gd name="textAreaBottom" fmla="*/ 292320 h 291960"/>
                  </a:gdLst>
                  <a:ahLst/>
                  <a:rect l="textAreaLeft" t="textAreaTop" r="textAreaRight" b="textAreaBottom"/>
                  <a:pathLst>
                    <a:path w="92" h="131">
                      <a:moveTo>
                        <a:pt x="50" y="0"/>
                      </a:moveTo>
                      <a:cubicBezTo>
                        <a:pt x="0" y="95"/>
                        <a:pt x="0" y="95"/>
                        <a:pt x="0" y="95"/>
                      </a:cubicBezTo>
                      <a:cubicBezTo>
                        <a:pt x="3" y="98"/>
                        <a:pt x="6" y="101"/>
                        <a:pt x="9" y="103"/>
                      </a:cubicBezTo>
                      <a:cubicBezTo>
                        <a:pt x="12" y="106"/>
                        <a:pt x="15" y="109"/>
                        <a:pt x="18" y="112"/>
                      </a:cubicBezTo>
                      <a:cubicBezTo>
                        <a:pt x="21" y="115"/>
                        <a:pt x="23" y="118"/>
                        <a:pt x="26" y="121"/>
                      </a:cubicBezTo>
                      <a:cubicBezTo>
                        <a:pt x="29" y="124"/>
                        <a:pt x="31" y="127"/>
                        <a:pt x="33" y="131"/>
                      </a:cubicBezTo>
                      <a:cubicBezTo>
                        <a:pt x="92" y="121"/>
                        <a:pt x="92" y="121"/>
                        <a:pt x="92" y="121"/>
                      </a:cubicBezTo>
                    </a:path>
                  </a:pathLst>
                </a:custGeom>
                <a:noFill/>
                <a:ln cap="rnd" w="176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Freeform 247"/>
                <p:cNvSpPr/>
                <p:nvPr/>
              </p:nvSpPr>
              <p:spPr>
                <a:xfrm>
                  <a:off x="771480" y="3419280"/>
                  <a:ext cx="162000" cy="198360"/>
                </a:xfrm>
                <a:custGeom>
                  <a:avLst/>
                  <a:gdLst>
                    <a:gd name="textAreaLeft" fmla="*/ 0 w 162000"/>
                    <a:gd name="textAreaRight" fmla="*/ 162360 w 162000"/>
                    <a:gd name="textAreaTop" fmla="*/ 0 h 198360"/>
                    <a:gd name="textAreaBottom" fmla="*/ 198720 h 198360"/>
                  </a:gdLst>
                  <a:ahLst/>
                  <a:rect l="textAreaLeft" t="textAreaTop" r="textAreaRight" b="textAreaBottom"/>
                  <a:pathLst>
                    <a:path w="72" h="89">
                      <a:moveTo>
                        <a:pt x="58" y="89"/>
                      </a:moveTo>
                      <a:cubicBezTo>
                        <a:pt x="59" y="87"/>
                        <a:pt x="59" y="84"/>
                        <a:pt x="60" y="82"/>
                      </a:cubicBezTo>
                      <a:cubicBezTo>
                        <a:pt x="62" y="78"/>
                        <a:pt x="64" y="73"/>
                        <a:pt x="66" y="69"/>
                      </a:cubicBezTo>
                      <a:cubicBezTo>
                        <a:pt x="67" y="64"/>
                        <a:pt x="70" y="60"/>
                        <a:pt x="72" y="56"/>
                      </a:cubicBezTo>
                      <a:cubicBezTo>
                        <a:pt x="0" y="0"/>
                        <a:pt x="0" y="0"/>
                        <a:pt x="0" y="0"/>
                      </a:cubicBezTo>
                    </a:path>
                  </a:pathLst>
                </a:custGeom>
                <a:noFill/>
                <a:ln cap="rnd" w="176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Freeform 248"/>
                <p:cNvSpPr/>
                <p:nvPr/>
              </p:nvSpPr>
              <p:spPr>
                <a:xfrm>
                  <a:off x="638280" y="4051080"/>
                  <a:ext cx="341280" cy="265320"/>
                </a:xfrm>
                <a:custGeom>
                  <a:avLst/>
                  <a:gdLst>
                    <a:gd name="textAreaLeft" fmla="*/ 0 w 341280"/>
                    <a:gd name="textAreaRight" fmla="*/ 341640 w 341280"/>
                    <a:gd name="textAreaTop" fmla="*/ 0 h 265320"/>
                    <a:gd name="textAreaBottom" fmla="*/ 265680 h 265320"/>
                  </a:gdLst>
                  <a:ahLst/>
                  <a:rect l="textAreaLeft" t="textAreaTop" r="textAreaRight" b="textAreaBottom"/>
                  <a:pathLst>
                    <a:path w="153" h="119">
                      <a:moveTo>
                        <a:pt x="108" y="119"/>
                      </a:moveTo>
                      <a:cubicBezTo>
                        <a:pt x="153" y="43"/>
                        <a:pt x="153" y="43"/>
                        <a:pt x="153" y="43"/>
                      </a:cubicBezTo>
                      <a:cubicBezTo>
                        <a:pt x="150" y="40"/>
                        <a:pt x="147" y="36"/>
                        <a:pt x="145" y="33"/>
                      </a:cubicBezTo>
                      <a:cubicBezTo>
                        <a:pt x="142" y="29"/>
                        <a:pt x="140" y="26"/>
                        <a:pt x="137" y="22"/>
                      </a:cubicBezTo>
                      <a:cubicBezTo>
                        <a:pt x="135" y="19"/>
                        <a:pt x="132" y="15"/>
                        <a:pt x="130" y="11"/>
                      </a:cubicBezTo>
                      <a:cubicBezTo>
                        <a:pt x="128" y="7"/>
                        <a:pt x="126" y="4"/>
                        <a:pt x="124" y="0"/>
                      </a:cubicBezTo>
                      <a:cubicBezTo>
                        <a:pt x="0" y="18"/>
                        <a:pt x="0" y="18"/>
                        <a:pt x="0" y="18"/>
                      </a:cubicBezTo>
                    </a:path>
                  </a:pathLst>
                </a:custGeom>
                <a:noFill/>
                <a:ln cap="rnd" w="176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Freeform 249"/>
                <p:cNvSpPr/>
                <p:nvPr/>
              </p:nvSpPr>
              <p:spPr>
                <a:xfrm>
                  <a:off x="1106640" y="3174840"/>
                  <a:ext cx="1106280" cy="941400"/>
                </a:xfrm>
                <a:custGeom>
                  <a:avLst/>
                  <a:gdLst>
                    <a:gd name="textAreaLeft" fmla="*/ 0 w 1106280"/>
                    <a:gd name="textAreaRight" fmla="*/ 1106640 w 1106280"/>
                    <a:gd name="textAreaTop" fmla="*/ 0 h 941400"/>
                    <a:gd name="textAreaBottom" fmla="*/ 941760 h 941400"/>
                  </a:gdLst>
                  <a:ahLst/>
                  <a:rect l="textAreaLeft" t="textAreaTop" r="textAreaRight" b="textAreaBottom"/>
                  <a:pathLst>
                    <a:path w="496" h="422">
                      <a:moveTo>
                        <a:pt x="211" y="420"/>
                      </a:moveTo>
                      <a:cubicBezTo>
                        <a:pt x="247" y="417"/>
                        <a:pt x="281" y="408"/>
                        <a:pt x="314" y="395"/>
                      </a:cubicBezTo>
                      <a:cubicBezTo>
                        <a:pt x="346" y="381"/>
                        <a:pt x="376" y="362"/>
                        <a:pt x="401" y="340"/>
                      </a:cubicBezTo>
                      <a:cubicBezTo>
                        <a:pt x="427" y="318"/>
                        <a:pt x="448" y="293"/>
                        <a:pt x="464" y="266"/>
                      </a:cubicBezTo>
                      <a:cubicBezTo>
                        <a:pt x="480" y="239"/>
                        <a:pt x="490" y="210"/>
                        <a:pt x="493" y="181"/>
                      </a:cubicBezTo>
                      <a:cubicBezTo>
                        <a:pt x="496" y="152"/>
                        <a:pt x="491" y="126"/>
                        <a:pt x="481" y="102"/>
                      </a:cubicBezTo>
                      <a:cubicBezTo>
                        <a:pt x="472" y="79"/>
                        <a:pt x="456" y="60"/>
                        <a:pt x="436" y="44"/>
                      </a:cubicBezTo>
                      <a:cubicBezTo>
                        <a:pt x="417" y="28"/>
                        <a:pt x="393" y="17"/>
                        <a:pt x="366" y="10"/>
                      </a:cubicBezTo>
                      <a:cubicBezTo>
                        <a:pt x="339" y="3"/>
                        <a:pt x="309" y="0"/>
                        <a:pt x="277" y="4"/>
                      </a:cubicBezTo>
                      <a:cubicBezTo>
                        <a:pt x="244" y="7"/>
                        <a:pt x="213" y="15"/>
                        <a:pt x="184" y="27"/>
                      </a:cubicBezTo>
                      <a:cubicBezTo>
                        <a:pt x="154" y="40"/>
                        <a:pt x="127" y="56"/>
                        <a:pt x="103" y="75"/>
                      </a:cubicBezTo>
                      <a:cubicBezTo>
                        <a:pt x="78" y="95"/>
                        <a:pt x="57" y="118"/>
                        <a:pt x="40" y="142"/>
                      </a:cubicBezTo>
                      <a:cubicBezTo>
                        <a:pt x="24" y="167"/>
                        <a:pt x="12" y="194"/>
                        <a:pt x="6" y="223"/>
                      </a:cubicBezTo>
                      <a:cubicBezTo>
                        <a:pt x="0" y="251"/>
                        <a:pt x="1" y="278"/>
                        <a:pt x="8" y="303"/>
                      </a:cubicBezTo>
                      <a:cubicBezTo>
                        <a:pt x="15" y="327"/>
                        <a:pt x="28" y="349"/>
                        <a:pt x="46" y="367"/>
                      </a:cubicBezTo>
                      <a:cubicBezTo>
                        <a:pt x="65" y="386"/>
                        <a:pt x="88" y="400"/>
                        <a:pt x="116" y="409"/>
                      </a:cubicBezTo>
                      <a:cubicBezTo>
                        <a:pt x="144" y="418"/>
                        <a:pt x="176" y="422"/>
                        <a:pt x="211" y="420"/>
                      </a:cubicBezTo>
                    </a:path>
                  </a:pathLst>
                </a:custGeom>
                <a:noFill/>
                <a:ln cap="rnd" w="176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Line 250"/>
                <p:cNvSpPr/>
                <p:nvPr/>
              </p:nvSpPr>
              <p:spPr>
                <a:xfrm flipH="1" flipV="1">
                  <a:off x="2003040" y="4473000"/>
                  <a:ext cx="127080" cy="236520"/>
                </a:xfrm>
                <a:prstGeom prst="line">
                  <a:avLst/>
                </a:prstGeom>
                <a:ln cap="rnd" w="176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Freeform 251"/>
                <p:cNvSpPr/>
                <p:nvPr/>
              </p:nvSpPr>
              <p:spPr>
                <a:xfrm>
                  <a:off x="1241640" y="3859200"/>
                  <a:ext cx="1401480" cy="739800"/>
                </a:xfrm>
                <a:custGeom>
                  <a:avLst/>
                  <a:gdLst>
                    <a:gd name="textAreaLeft" fmla="*/ 0 w 1401480"/>
                    <a:gd name="textAreaRight" fmla="*/ 1401840 w 1401480"/>
                    <a:gd name="textAreaTop" fmla="*/ 0 h 739800"/>
                    <a:gd name="textAreaBottom" fmla="*/ 740160 h 739800"/>
                  </a:gdLst>
                  <a:ahLst/>
                  <a:rect l="textAreaLeft" t="textAreaTop" r="textAreaRight" b="textAreaBottom"/>
                  <a:pathLst>
                    <a:path w="628" h="331">
                      <a:moveTo>
                        <a:pt x="628" y="0"/>
                      </a:moveTo>
                      <a:cubicBezTo>
                        <a:pt x="527" y="144"/>
                        <a:pt x="527" y="144"/>
                        <a:pt x="527" y="144"/>
                      </a:cubicBezTo>
                      <a:cubicBezTo>
                        <a:pt x="402" y="113"/>
                        <a:pt x="402" y="113"/>
                        <a:pt x="402" y="113"/>
                      </a:cubicBezTo>
                      <a:cubicBezTo>
                        <a:pt x="397" y="116"/>
                        <a:pt x="392" y="120"/>
                        <a:pt x="388" y="124"/>
                      </a:cubicBezTo>
                      <a:cubicBezTo>
                        <a:pt x="383" y="127"/>
                        <a:pt x="378" y="131"/>
                        <a:pt x="373" y="134"/>
                      </a:cubicBezTo>
                      <a:cubicBezTo>
                        <a:pt x="368" y="138"/>
                        <a:pt x="363" y="141"/>
                        <a:pt x="358" y="145"/>
                      </a:cubicBezTo>
                      <a:cubicBezTo>
                        <a:pt x="353" y="148"/>
                        <a:pt x="347" y="151"/>
                        <a:pt x="342" y="154"/>
                      </a:cubicBezTo>
                      <a:cubicBezTo>
                        <a:pt x="339" y="276"/>
                        <a:pt x="339" y="276"/>
                        <a:pt x="339" y="276"/>
                      </a:cubicBezTo>
                      <a:cubicBezTo>
                        <a:pt x="155" y="331"/>
                        <a:pt x="155" y="331"/>
                        <a:pt x="155" y="331"/>
                      </a:cubicBezTo>
                      <a:cubicBezTo>
                        <a:pt x="115" y="222"/>
                        <a:pt x="115" y="222"/>
                        <a:pt x="115" y="222"/>
                      </a:cubicBezTo>
                      <a:cubicBezTo>
                        <a:pt x="109" y="222"/>
                        <a:pt x="104" y="222"/>
                        <a:pt x="98" y="222"/>
                      </a:cubicBezTo>
                      <a:cubicBezTo>
                        <a:pt x="93" y="222"/>
                        <a:pt x="88" y="221"/>
                        <a:pt x="82" y="221"/>
                      </a:cubicBezTo>
                      <a:cubicBezTo>
                        <a:pt x="77" y="221"/>
                        <a:pt x="72" y="220"/>
                        <a:pt x="67" y="220"/>
                      </a:cubicBezTo>
                      <a:cubicBezTo>
                        <a:pt x="61" y="219"/>
                        <a:pt x="56" y="219"/>
                        <a:pt x="51" y="218"/>
                      </a:cubicBezTo>
                      <a:cubicBezTo>
                        <a:pt x="0" y="268"/>
                        <a:pt x="0" y="268"/>
                        <a:pt x="0" y="268"/>
                      </a:cubicBezTo>
                    </a:path>
                  </a:pathLst>
                </a:custGeom>
                <a:noFill/>
                <a:ln cap="rnd" w="1764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91" name="TextBox 87"/>
          <p:cNvSpPr/>
          <p:nvPr/>
        </p:nvSpPr>
        <p:spPr>
          <a:xfrm>
            <a:off x="2670480" y="1322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红十字协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圆角矩形 88"/>
          <p:cNvSpPr/>
          <p:nvPr/>
        </p:nvSpPr>
        <p:spPr>
          <a:xfrm>
            <a:off x="4572000" y="1339920"/>
            <a:ext cx="4105440" cy="4603680"/>
          </a:xfrm>
          <a:custGeom>
            <a:avLst/>
            <a:gdLst>
              <a:gd name="textAreaLeft" fmla="*/ 0 w 4105440"/>
              <a:gd name="textAreaRight" fmla="*/ 4105800 w 4105440"/>
              <a:gd name="textAreaTop" fmla="*/ 0 h 4603680"/>
              <a:gd name="textAreaBottom" fmla="*/ 4604040 h 4603680"/>
            </a:gdLst>
            <a:ahLst/>
            <a:rect l="textAreaLeft" t="textAreaTop" r="textAreaRight" b="textAreaBottom"/>
            <a:pathLst>
              <a:path w="4104456" h="4602456">
                <a:moveTo>
                  <a:pt x="0" y="684090"/>
                </a:moveTo>
                <a:cubicBezTo>
                  <a:pt x="0" y="306278"/>
                  <a:pt x="58628" y="0"/>
                  <a:pt x="436440" y="0"/>
                </a:cubicBezTo>
                <a:lnTo>
                  <a:pt x="3668016" y="0"/>
                </a:lnTo>
                <a:cubicBezTo>
                  <a:pt x="4045828" y="0"/>
                  <a:pt x="4104456" y="306278"/>
                  <a:pt x="4104456" y="684090"/>
                </a:cubicBezTo>
                <a:lnTo>
                  <a:pt x="4104456" y="3918366"/>
                </a:lnTo>
                <a:cubicBezTo>
                  <a:pt x="4104456" y="4296178"/>
                  <a:pt x="4064878" y="4602456"/>
                  <a:pt x="3687066" y="4602456"/>
                </a:cubicBezTo>
                <a:lnTo>
                  <a:pt x="436440" y="4602456"/>
                </a:lnTo>
                <a:cubicBezTo>
                  <a:pt x="58628" y="4602456"/>
                  <a:pt x="0" y="4296178"/>
                  <a:pt x="0" y="3918366"/>
                </a:cubicBezTo>
                <a:lnTo>
                  <a:pt x="0" y="684090"/>
                </a:lnTo>
                <a:close/>
              </a:path>
            </a:pathLst>
          </a:custGeom>
          <a:gradFill rotWithShape="0">
            <a:gsLst>
              <a:gs pos="0">
                <a:srgbClr val="8cb3e3"/>
              </a:gs>
              <a:gs pos="100000">
                <a:srgbClr val="007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90"/>
          <p:cNvSpPr/>
          <p:nvPr/>
        </p:nvSpPr>
        <p:spPr>
          <a:xfrm>
            <a:off x="2809440" y="1322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生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矩形 91"/>
          <p:cNvSpPr/>
          <p:nvPr/>
        </p:nvSpPr>
        <p:spPr>
          <a:xfrm>
            <a:off x="-9182160" y="-4680"/>
            <a:ext cx="9217080" cy="6858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4" descr="C:\Users\TITAN\Desktop\新建文件夹\2006413161734397.png"/>
          <p:cNvPicPr/>
          <p:nvPr/>
        </p:nvPicPr>
        <p:blipFill>
          <a:blip r:embed="rId1"/>
          <a:stretch/>
        </p:blipFill>
        <p:spPr>
          <a:xfrm>
            <a:off x="34920" y="-89208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nodeType="clickEffect" fill="hold">
                      <p:stCondLst>
                        <p:cond delay="0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-3.7037E-006 L -0.00573 1.02894 E">
                                      <p:cBhvr>
                                        <p:cTn id="1265" dur="75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7" dur="8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1" dur="25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nodeType="afterEffect" fill="hold">
                            <p:stCondLst>
                              <p:cond delay="1050"/>
                            </p:stCondLst>
                            <p:childTnLst>
                              <p:par>
                                <p:cTn id="1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5" dur="2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8" dur="2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1" dur="2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4" dur="2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1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18" presetSubtype="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0" dur="1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3" dur="1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6" dur="2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9" dur="1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2" dur="1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5" dur="2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18" presetSubtype="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8" dur="1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18" presetSubtype="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1" dur="2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4" dur="1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7" dur="2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0" dur="2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1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7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nodeType="clickEffect" fill="hold">
                      <p:stCondLst>
                        <p:cond delay="indefinite"/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3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1.02894 L 1.02378 1.02894 E">
                                      <p:cBhvr>
                                        <p:cTn id="1349" dur="1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51" dur="125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44444E-006 L 0.98437 0.00069 E">
                                      <p:cBhvr>
                                        <p:cTn id="1353" dur="1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2" descr="together"/>
          <p:cNvPicPr/>
          <p:nvPr/>
        </p:nvPicPr>
        <p:blipFill>
          <a:blip r:embed="rId1"/>
          <a:stretch/>
        </p:blipFill>
        <p:spPr>
          <a:xfrm>
            <a:off x="898560" y="692280"/>
            <a:ext cx="7351560" cy="4503600"/>
          </a:xfrm>
          <a:prstGeom prst="rect">
            <a:avLst/>
          </a:prstGeom>
          <a:ln w="0">
            <a:noFill/>
          </a:ln>
        </p:spPr>
      </p:pic>
      <p:pic>
        <p:nvPicPr>
          <p:cNvPr id="497" name="图片 11" descr=""/>
          <p:cNvPicPr/>
          <p:nvPr/>
        </p:nvPicPr>
        <p:blipFill>
          <a:blip r:embed="rId2"/>
          <a:stretch/>
        </p:blipFill>
        <p:spPr>
          <a:xfrm>
            <a:off x="36360" y="5400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98" name="椭圆 2"/>
          <p:cNvSpPr/>
          <p:nvPr/>
        </p:nvSpPr>
        <p:spPr>
          <a:xfrm>
            <a:off x="2235240" y="5950080"/>
            <a:ext cx="181080" cy="14292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椭圆 3"/>
          <p:cNvSpPr/>
          <p:nvPr/>
        </p:nvSpPr>
        <p:spPr>
          <a:xfrm>
            <a:off x="2627280" y="5697360"/>
            <a:ext cx="316080" cy="25272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椭圆 4"/>
          <p:cNvSpPr/>
          <p:nvPr/>
        </p:nvSpPr>
        <p:spPr>
          <a:xfrm>
            <a:off x="2982960" y="5307120"/>
            <a:ext cx="423720" cy="36036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组合 7"/>
          <p:cNvGrpSpPr/>
          <p:nvPr/>
        </p:nvGrpSpPr>
        <p:grpSpPr>
          <a:xfrm>
            <a:off x="1873080" y="6136920"/>
            <a:ext cx="2843280" cy="647640"/>
            <a:chOff x="1873080" y="6136920"/>
            <a:chExt cx="2843280" cy="647640"/>
          </a:xfrm>
        </p:grpSpPr>
        <p:sp>
          <p:nvSpPr>
            <p:cNvPr id="502" name="AutoShape 112"/>
            <p:cNvSpPr/>
            <p:nvPr/>
          </p:nvSpPr>
          <p:spPr>
            <a:xfrm rot="16200000">
              <a:off x="2970720" y="5038920"/>
              <a:ext cx="647640" cy="2843280"/>
            </a:xfrm>
            <a:custGeom>
              <a:avLst/>
              <a:gdLst>
                <a:gd name="textAreaLeft" fmla="*/ 31320 w 647640"/>
                <a:gd name="textAreaRight" fmla="*/ 616320 w 647640"/>
                <a:gd name="textAreaTop" fmla="*/ 31320 h 2843280"/>
                <a:gd name="textAreaBottom" fmla="*/ 2811960 h 2843280"/>
              </a:gdLst>
              <a:ahLst/>
              <a:rect l="textAreaLeft" t="textAreaTop" r="textAreaRight" b="textAreaBottom"/>
              <a:pathLst>
                <a:path w="21600" h="94788">
                  <a:moveTo>
                    <a:pt x="3600" y="0"/>
                  </a:moveTo>
                  <a:arcTo wR="3600" hR="3600" stAng="16200000" swAng="-5400000"/>
                  <a:lnTo>
                    <a:pt x="0" y="91188"/>
                  </a:lnTo>
                  <a:arcTo wR="3600" hR="3600" stAng="10800000" swAng="-5400000"/>
                  <a:lnTo>
                    <a:pt x="18000" y="9478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Box 9"/>
            <p:cNvSpPr/>
            <p:nvPr/>
          </p:nvSpPr>
          <p:spPr>
            <a:xfrm>
              <a:off x="3085920" y="62427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团队建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4" name="Picture 12" descr="C:\Users\TITAN\Desktop\新建文件夹\2006413161643529.png"/>
          <p:cNvPicPr/>
          <p:nvPr/>
        </p:nvPicPr>
        <p:blipFill>
          <a:blip r:embed="rId3"/>
          <a:stretch/>
        </p:blipFill>
        <p:spPr>
          <a:xfrm>
            <a:off x="-828720" y="609300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05" name="圆角矩形 10"/>
          <p:cNvSpPr/>
          <p:nvPr/>
        </p:nvSpPr>
        <p:spPr>
          <a:xfrm>
            <a:off x="1079640" y="692280"/>
            <a:ext cx="6984720" cy="4503600"/>
          </a:xfrm>
          <a:custGeom>
            <a:avLst/>
            <a:gdLst>
              <a:gd name="textAreaLeft" fmla="*/ 0 w 6984720"/>
              <a:gd name="textAreaRight" fmla="*/ 6985080 w 6984720"/>
              <a:gd name="textAreaTop" fmla="*/ 0 h 4503600"/>
              <a:gd name="textAreaBottom" fmla="*/ 4503960 h 4503600"/>
            </a:gdLst>
            <a:ahLst/>
            <a:rect l="textAreaLeft" t="textAreaTop" r="textAreaRight" b="textAreaBottom"/>
            <a:pathLst>
              <a:path w="6984796" h="4502596">
                <a:moveTo>
                  <a:pt x="0" y="744098"/>
                </a:moveTo>
                <a:cubicBezTo>
                  <a:pt x="0" y="333144"/>
                  <a:pt x="28344" y="0"/>
                  <a:pt x="439298" y="0"/>
                </a:cubicBezTo>
                <a:lnTo>
                  <a:pt x="6583578" y="0"/>
                </a:lnTo>
                <a:cubicBezTo>
                  <a:pt x="6994532" y="0"/>
                  <a:pt x="6984776" y="333144"/>
                  <a:pt x="6984776" y="744098"/>
                </a:cubicBezTo>
                <a:lnTo>
                  <a:pt x="6984776" y="3720398"/>
                </a:lnTo>
                <a:cubicBezTo>
                  <a:pt x="6984776" y="4131352"/>
                  <a:pt x="6956432" y="4464496"/>
                  <a:pt x="6545478" y="4464496"/>
                </a:cubicBezTo>
                <a:lnTo>
                  <a:pt x="420248" y="4502596"/>
                </a:lnTo>
                <a:cubicBezTo>
                  <a:pt x="9294" y="4502596"/>
                  <a:pt x="0" y="4131352"/>
                  <a:pt x="0" y="3720398"/>
                </a:cubicBezTo>
                <a:lnTo>
                  <a:pt x="0" y="744098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4" descr="wecreatemore"/>
          <p:cNvPicPr/>
          <p:nvPr/>
        </p:nvPicPr>
        <p:blipFill>
          <a:blip r:embed="rId4"/>
          <a:stretch/>
        </p:blipFill>
        <p:spPr>
          <a:xfrm>
            <a:off x="2435400" y="4068720"/>
            <a:ext cx="5279760" cy="10922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5" descr="together"/>
          <p:cNvPicPr/>
          <p:nvPr/>
        </p:nvPicPr>
        <p:blipFill>
          <a:blip r:embed="rId5"/>
          <a:stretch/>
        </p:blipFill>
        <p:spPr>
          <a:xfrm>
            <a:off x="1200240" y="996840"/>
            <a:ext cx="3844800" cy="1293840"/>
          </a:xfrm>
          <a:prstGeom prst="rect">
            <a:avLst/>
          </a:prstGeom>
          <a:ln w="0">
            <a:noFill/>
          </a:ln>
        </p:spPr>
      </p:pic>
      <p:sp>
        <p:nvSpPr>
          <p:cNvPr id="50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nodeType="clickEffect" fill="hold">
                      <p:stCondLst>
                        <p:cond delay="0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359" dur="5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5" dur="25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8" dur="25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1" dur="35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4" dur="45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13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6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139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94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together"/>
          <p:cNvPicPr/>
          <p:nvPr/>
        </p:nvPicPr>
        <p:blipFill>
          <a:blip r:embed="rId1"/>
          <a:stretch/>
        </p:blipFill>
        <p:spPr>
          <a:xfrm>
            <a:off x="898560" y="692280"/>
            <a:ext cx="7351560" cy="4503600"/>
          </a:xfrm>
          <a:prstGeom prst="rect">
            <a:avLst/>
          </a:prstGeom>
          <a:ln w="0">
            <a:noFill/>
          </a:ln>
        </p:spPr>
      </p:pic>
      <p:pic>
        <p:nvPicPr>
          <p:cNvPr id="510" name="图片 11" descr=""/>
          <p:cNvPicPr/>
          <p:nvPr/>
        </p:nvPicPr>
        <p:blipFill>
          <a:blip r:embed="rId2"/>
          <a:stretch/>
        </p:blipFill>
        <p:spPr>
          <a:xfrm>
            <a:off x="34920" y="39600"/>
            <a:ext cx="9144000" cy="6802560"/>
          </a:xfrm>
          <a:prstGeom prst="rect">
            <a:avLst/>
          </a:prstGeom>
          <a:ln w="0">
            <a:noFill/>
          </a:ln>
        </p:spPr>
      </p:pic>
      <p:sp>
        <p:nvSpPr>
          <p:cNvPr id="511" name="椭圆 2"/>
          <p:cNvSpPr/>
          <p:nvPr/>
        </p:nvSpPr>
        <p:spPr>
          <a:xfrm>
            <a:off x="2235240" y="5950080"/>
            <a:ext cx="181080" cy="14292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椭圆 3"/>
          <p:cNvSpPr/>
          <p:nvPr/>
        </p:nvSpPr>
        <p:spPr>
          <a:xfrm>
            <a:off x="2627280" y="5697360"/>
            <a:ext cx="316080" cy="25272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椭圆 4"/>
          <p:cNvSpPr/>
          <p:nvPr/>
        </p:nvSpPr>
        <p:spPr>
          <a:xfrm>
            <a:off x="2982960" y="5307120"/>
            <a:ext cx="423720" cy="360360"/>
          </a:xfrm>
          <a:prstGeom prst="ellipse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组合 7"/>
          <p:cNvGrpSpPr/>
          <p:nvPr/>
        </p:nvGrpSpPr>
        <p:grpSpPr>
          <a:xfrm>
            <a:off x="1873080" y="6136920"/>
            <a:ext cx="2843280" cy="647640"/>
            <a:chOff x="1873080" y="6136920"/>
            <a:chExt cx="2843280" cy="647640"/>
          </a:xfrm>
        </p:grpSpPr>
        <p:sp>
          <p:nvSpPr>
            <p:cNvPr id="515" name="AutoShape 112"/>
            <p:cNvSpPr/>
            <p:nvPr/>
          </p:nvSpPr>
          <p:spPr>
            <a:xfrm rot="16200000">
              <a:off x="2970720" y="5038920"/>
              <a:ext cx="647640" cy="2843280"/>
            </a:xfrm>
            <a:custGeom>
              <a:avLst/>
              <a:gdLst>
                <a:gd name="textAreaLeft" fmla="*/ 31320 w 647640"/>
                <a:gd name="textAreaRight" fmla="*/ 616320 w 647640"/>
                <a:gd name="textAreaTop" fmla="*/ 31320 h 2843280"/>
                <a:gd name="textAreaBottom" fmla="*/ 2811960 h 2843280"/>
              </a:gdLst>
              <a:ahLst/>
              <a:rect l="textAreaLeft" t="textAreaTop" r="textAreaRight" b="textAreaBottom"/>
              <a:pathLst>
                <a:path w="21600" h="94788">
                  <a:moveTo>
                    <a:pt x="3600" y="0"/>
                  </a:moveTo>
                  <a:arcTo wR="3600" hR="3600" stAng="16200000" swAng="-5400000"/>
                  <a:lnTo>
                    <a:pt x="0" y="91188"/>
                  </a:lnTo>
                  <a:arcTo wR="3600" hR="3600" stAng="10800000" swAng="-5400000"/>
                  <a:lnTo>
                    <a:pt x="18000" y="9478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Box 9"/>
            <p:cNvSpPr/>
            <p:nvPr/>
          </p:nvSpPr>
          <p:spPr>
            <a:xfrm>
              <a:off x="3085920" y="62427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团队建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7" name="Picture 12" descr="C:\Users\TITAN\Desktop\新建文件夹\2006413161643529.png"/>
          <p:cNvPicPr/>
          <p:nvPr/>
        </p:nvPicPr>
        <p:blipFill>
          <a:blip r:embed="rId3"/>
          <a:stretch/>
        </p:blipFill>
        <p:spPr>
          <a:xfrm>
            <a:off x="1457280" y="609300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518" name="圆角矩形 10"/>
          <p:cNvSpPr/>
          <p:nvPr/>
        </p:nvSpPr>
        <p:spPr>
          <a:xfrm>
            <a:off x="1079640" y="692280"/>
            <a:ext cx="6984720" cy="4503600"/>
          </a:xfrm>
          <a:custGeom>
            <a:avLst/>
            <a:gdLst>
              <a:gd name="textAreaLeft" fmla="*/ 0 w 6984720"/>
              <a:gd name="textAreaRight" fmla="*/ 6985080 w 6984720"/>
              <a:gd name="textAreaTop" fmla="*/ 0 h 4503600"/>
              <a:gd name="textAreaBottom" fmla="*/ 4503960 h 4503600"/>
            </a:gdLst>
            <a:ahLst/>
            <a:rect l="textAreaLeft" t="textAreaTop" r="textAreaRight" b="textAreaBottom"/>
            <a:pathLst>
              <a:path w="6984796" h="4502596">
                <a:moveTo>
                  <a:pt x="0" y="744098"/>
                </a:moveTo>
                <a:cubicBezTo>
                  <a:pt x="0" y="333144"/>
                  <a:pt x="28344" y="0"/>
                  <a:pt x="439298" y="0"/>
                </a:cubicBezTo>
                <a:lnTo>
                  <a:pt x="6583578" y="0"/>
                </a:lnTo>
                <a:cubicBezTo>
                  <a:pt x="6994532" y="0"/>
                  <a:pt x="6984776" y="333144"/>
                  <a:pt x="6984776" y="744098"/>
                </a:cubicBezTo>
                <a:lnTo>
                  <a:pt x="6984776" y="3720398"/>
                </a:lnTo>
                <a:cubicBezTo>
                  <a:pt x="6984776" y="4131352"/>
                  <a:pt x="6956432" y="4464496"/>
                  <a:pt x="6545478" y="4464496"/>
                </a:cubicBezTo>
                <a:lnTo>
                  <a:pt x="420248" y="4502596"/>
                </a:lnTo>
                <a:cubicBezTo>
                  <a:pt x="9294" y="4502596"/>
                  <a:pt x="0" y="4131352"/>
                  <a:pt x="0" y="3720398"/>
                </a:cubicBezTo>
                <a:lnTo>
                  <a:pt x="0" y="744098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4" descr="wecreatemore"/>
          <p:cNvPicPr/>
          <p:nvPr/>
        </p:nvPicPr>
        <p:blipFill>
          <a:blip r:embed="rId4"/>
          <a:stretch/>
        </p:blipFill>
        <p:spPr>
          <a:xfrm>
            <a:off x="2435400" y="4068720"/>
            <a:ext cx="5279760" cy="10922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5" descr="together"/>
          <p:cNvPicPr/>
          <p:nvPr/>
        </p:nvPicPr>
        <p:blipFill>
          <a:blip r:embed="rId5"/>
          <a:stretch/>
        </p:blipFill>
        <p:spPr>
          <a:xfrm>
            <a:off x="1200240" y="996840"/>
            <a:ext cx="3844800" cy="1293840"/>
          </a:xfrm>
          <a:prstGeom prst="rect">
            <a:avLst/>
          </a:prstGeom>
          <a:ln w="0">
            <a:noFill/>
          </a:ln>
        </p:spPr>
      </p:pic>
      <p:sp>
        <p:nvSpPr>
          <p:cNvPr id="521" name="十字星 5"/>
          <p:cNvSpPr/>
          <p:nvPr/>
        </p:nvSpPr>
        <p:spPr>
          <a:xfrm>
            <a:off x="1619280" y="2670120"/>
            <a:ext cx="5832360" cy="1055880"/>
          </a:xfrm>
          <a:custGeom>
            <a:avLst/>
            <a:gdLst>
              <a:gd name="textAreaLeft" fmla="*/ 0 w 5832360"/>
              <a:gd name="textAreaRight" fmla="*/ 5832720 w 5832360"/>
              <a:gd name="textAreaTop" fmla="*/ 0 h 1055880"/>
              <a:gd name="textAreaBottom" fmla="*/ 1056240 h 1055880"/>
            </a:gdLst>
            <a:ahLst/>
            <a:rect l="textAreaLeft" t="textAreaTop" r="textAreaRight" b="textAreaBottom"/>
            <a:pathLst>
              <a:path w="2182278" h="1055935">
                <a:moveTo>
                  <a:pt x="0" y="535111"/>
                </a:moveTo>
                <a:lnTo>
                  <a:pt x="950639" y="392148"/>
                </a:lnTo>
                <a:lnTo>
                  <a:pt x="1094703" y="0"/>
                </a:lnTo>
                <a:lnTo>
                  <a:pt x="1235171" y="401673"/>
                </a:lnTo>
                <a:lnTo>
                  <a:pt x="2182278" y="535111"/>
                </a:lnTo>
                <a:lnTo>
                  <a:pt x="1239966" y="754274"/>
                </a:lnTo>
                <a:lnTo>
                  <a:pt x="1101830" y="1055935"/>
                </a:lnTo>
                <a:lnTo>
                  <a:pt x="942312" y="749512"/>
                </a:lnTo>
                <a:lnTo>
                  <a:pt x="0" y="5351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组合 14"/>
          <p:cNvGrpSpPr/>
          <p:nvPr/>
        </p:nvGrpSpPr>
        <p:grpSpPr>
          <a:xfrm>
            <a:off x="5086440" y="1733400"/>
            <a:ext cx="1933560" cy="3432240"/>
            <a:chOff x="5086440" y="1733400"/>
            <a:chExt cx="1933560" cy="3432240"/>
          </a:xfrm>
        </p:grpSpPr>
        <p:sp>
          <p:nvSpPr>
            <p:cNvPr id="523" name="任意多边形 17"/>
            <p:cNvSpPr/>
            <p:nvPr/>
          </p:nvSpPr>
          <p:spPr>
            <a:xfrm>
              <a:off x="5297400" y="2643120"/>
              <a:ext cx="1278000" cy="1214280"/>
            </a:xfrm>
            <a:custGeom>
              <a:avLst/>
              <a:gdLst>
                <a:gd name="textAreaLeft" fmla="*/ 0 w 1278000"/>
                <a:gd name="textAreaRight" fmla="*/ 1278360 w 1278000"/>
                <a:gd name="textAreaTop" fmla="*/ 0 h 1214280"/>
                <a:gd name="textAreaBottom" fmla="*/ 1214640 h 1214280"/>
              </a:gdLst>
              <a:ahLst/>
              <a:rect l="textAreaLeft" t="textAreaTop" r="textAreaRight" b="textAreaBottom"/>
              <a:pathLst>
                <a:path w="1386178" h="1315845">
                  <a:moveTo>
                    <a:pt x="5354" y="0"/>
                  </a:moveTo>
                  <a:cubicBezTo>
                    <a:pt x="-3377" y="288131"/>
                    <a:pt x="-12108" y="576263"/>
                    <a:pt x="72029" y="781050"/>
                  </a:cubicBezTo>
                  <a:cubicBezTo>
                    <a:pt x="156166" y="985837"/>
                    <a:pt x="373654" y="1146175"/>
                    <a:pt x="510179" y="1228725"/>
                  </a:cubicBezTo>
                  <a:cubicBezTo>
                    <a:pt x="646704" y="1311275"/>
                    <a:pt x="754654" y="1350963"/>
                    <a:pt x="891179" y="1276350"/>
                  </a:cubicBezTo>
                  <a:cubicBezTo>
                    <a:pt x="1027704" y="1201738"/>
                    <a:pt x="1249954" y="990600"/>
                    <a:pt x="1329329" y="781050"/>
                  </a:cubicBezTo>
                  <a:cubicBezTo>
                    <a:pt x="1408704" y="571500"/>
                    <a:pt x="1388066" y="295275"/>
                    <a:pt x="1367429" y="1905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任意多边形 18"/>
            <p:cNvSpPr/>
            <p:nvPr/>
          </p:nvSpPr>
          <p:spPr>
            <a:xfrm>
              <a:off x="5106960" y="1733400"/>
              <a:ext cx="1684440" cy="1060560"/>
            </a:xfrm>
            <a:custGeom>
              <a:avLst/>
              <a:gdLst>
                <a:gd name="textAreaLeft" fmla="*/ 0 w 1684440"/>
                <a:gd name="textAreaRight" fmla="*/ 1684800 w 1684440"/>
                <a:gd name="textAreaTop" fmla="*/ 0 h 1060560"/>
                <a:gd name="textAreaBottom" fmla="*/ 1060920 h 1060560"/>
              </a:gdLst>
              <a:ahLst/>
              <a:rect l="textAreaLeft" t="textAreaTop" r="textAreaRight" b="textAreaBottom"/>
              <a:pathLst>
                <a:path w="1826187" h="1149303">
                  <a:moveTo>
                    <a:pt x="1258858" y="660793"/>
                  </a:moveTo>
                  <a:cubicBezTo>
                    <a:pt x="1281876" y="625074"/>
                    <a:pt x="1146939" y="812003"/>
                    <a:pt x="1120745" y="827481"/>
                  </a:cubicBezTo>
                  <a:cubicBezTo>
                    <a:pt x="1094551" y="842959"/>
                    <a:pt x="1088203" y="794144"/>
                    <a:pt x="1101696" y="753663"/>
                  </a:cubicBezTo>
                  <a:cubicBezTo>
                    <a:pt x="1105665" y="686988"/>
                    <a:pt x="1144558" y="560385"/>
                    <a:pt x="1094552" y="696512"/>
                  </a:cubicBezTo>
                  <a:cubicBezTo>
                    <a:pt x="1044546" y="832639"/>
                    <a:pt x="963980" y="885028"/>
                    <a:pt x="830233" y="956069"/>
                  </a:cubicBezTo>
                  <a:cubicBezTo>
                    <a:pt x="696486" y="1027110"/>
                    <a:pt x="413117" y="1096563"/>
                    <a:pt x="292070" y="1122757"/>
                  </a:cubicBezTo>
                  <a:cubicBezTo>
                    <a:pt x="171023" y="1148951"/>
                    <a:pt x="118240" y="1118787"/>
                    <a:pt x="103952" y="1113231"/>
                  </a:cubicBezTo>
                  <a:cubicBezTo>
                    <a:pt x="89664" y="1107675"/>
                    <a:pt x="215474" y="942972"/>
                    <a:pt x="220633" y="917969"/>
                  </a:cubicBezTo>
                  <a:cubicBezTo>
                    <a:pt x="225792" y="892966"/>
                    <a:pt x="156737" y="939004"/>
                    <a:pt x="134909" y="963213"/>
                  </a:cubicBezTo>
                  <a:cubicBezTo>
                    <a:pt x="113081" y="987422"/>
                    <a:pt x="108318" y="1089022"/>
                    <a:pt x="89665" y="1063225"/>
                  </a:cubicBezTo>
                  <a:cubicBezTo>
                    <a:pt x="71012" y="1037428"/>
                    <a:pt x="34499" y="880266"/>
                    <a:pt x="22989" y="808432"/>
                  </a:cubicBezTo>
                  <a:cubicBezTo>
                    <a:pt x="11479" y="736598"/>
                    <a:pt x="-34558" y="521888"/>
                    <a:pt x="49183" y="403619"/>
                  </a:cubicBezTo>
                  <a:cubicBezTo>
                    <a:pt x="132924" y="285350"/>
                    <a:pt x="343267" y="152794"/>
                    <a:pt x="525433" y="98819"/>
                  </a:cubicBezTo>
                  <a:cubicBezTo>
                    <a:pt x="707599" y="44844"/>
                    <a:pt x="1052483" y="94056"/>
                    <a:pt x="1142177" y="79769"/>
                  </a:cubicBezTo>
                  <a:cubicBezTo>
                    <a:pt x="1231871" y="65482"/>
                    <a:pt x="1031052" y="23810"/>
                    <a:pt x="1063596" y="13094"/>
                  </a:cubicBezTo>
                  <a:cubicBezTo>
                    <a:pt x="1096140" y="2378"/>
                    <a:pt x="1272352" y="-11116"/>
                    <a:pt x="1337439" y="15475"/>
                  </a:cubicBezTo>
                  <a:cubicBezTo>
                    <a:pt x="1402527" y="42066"/>
                    <a:pt x="1411258" y="248838"/>
                    <a:pt x="1454121" y="172638"/>
                  </a:cubicBezTo>
                  <a:cubicBezTo>
                    <a:pt x="1496984" y="96438"/>
                    <a:pt x="1639858" y="113503"/>
                    <a:pt x="1651764" y="129775"/>
                  </a:cubicBezTo>
                  <a:cubicBezTo>
                    <a:pt x="1663670" y="146047"/>
                    <a:pt x="1505317" y="226216"/>
                    <a:pt x="1525558" y="270269"/>
                  </a:cubicBezTo>
                  <a:cubicBezTo>
                    <a:pt x="1545799" y="314322"/>
                    <a:pt x="1724392" y="307972"/>
                    <a:pt x="1773208" y="394094"/>
                  </a:cubicBezTo>
                  <a:cubicBezTo>
                    <a:pt x="1822024" y="480216"/>
                    <a:pt x="1837105" y="661191"/>
                    <a:pt x="1818452" y="787000"/>
                  </a:cubicBezTo>
                  <a:cubicBezTo>
                    <a:pt x="1799799" y="912809"/>
                    <a:pt x="1713677" y="1139028"/>
                    <a:pt x="1661290" y="1148950"/>
                  </a:cubicBezTo>
                  <a:cubicBezTo>
                    <a:pt x="1608903" y="1158872"/>
                    <a:pt x="1554530" y="957261"/>
                    <a:pt x="1504127" y="846533"/>
                  </a:cubicBezTo>
                  <a:cubicBezTo>
                    <a:pt x="1456105" y="761999"/>
                    <a:pt x="1385461" y="655238"/>
                    <a:pt x="1373158" y="641744"/>
                  </a:cubicBezTo>
                  <a:cubicBezTo>
                    <a:pt x="1360855" y="628250"/>
                    <a:pt x="1395384" y="732232"/>
                    <a:pt x="1406496" y="770332"/>
                  </a:cubicBezTo>
                  <a:cubicBezTo>
                    <a:pt x="1417608" y="808432"/>
                    <a:pt x="1516826" y="898125"/>
                    <a:pt x="1439833" y="870344"/>
                  </a:cubicBezTo>
                  <a:cubicBezTo>
                    <a:pt x="1362840" y="842563"/>
                    <a:pt x="1235840" y="696512"/>
                    <a:pt x="1258858" y="660793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任意多边形 19"/>
            <p:cNvSpPr/>
            <p:nvPr/>
          </p:nvSpPr>
          <p:spPr>
            <a:xfrm>
              <a:off x="5121000" y="2757240"/>
              <a:ext cx="185760" cy="35532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200918" h="384714">
                  <a:moveTo>
                    <a:pt x="178058" y="64973"/>
                  </a:moveTo>
                  <a:cubicBezTo>
                    <a:pt x="112018" y="35128"/>
                    <a:pt x="107891" y="-26468"/>
                    <a:pt x="39946" y="12585"/>
                  </a:cubicBezTo>
                  <a:cubicBezTo>
                    <a:pt x="-27999" y="51638"/>
                    <a:pt x="6846" y="137284"/>
                    <a:pt x="27563" y="199276"/>
                  </a:cubicBezTo>
                  <a:cubicBezTo>
                    <a:pt x="48280" y="261268"/>
                    <a:pt x="113923" y="380886"/>
                    <a:pt x="164247" y="384537"/>
                  </a:cubicBezTo>
                  <a:cubicBezTo>
                    <a:pt x="214571" y="388188"/>
                    <a:pt x="186313" y="334848"/>
                    <a:pt x="200918" y="278333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任意多边形 20"/>
            <p:cNvSpPr/>
            <p:nvPr/>
          </p:nvSpPr>
          <p:spPr>
            <a:xfrm flipH="1" rot="21297600">
              <a:off x="6573600" y="2700000"/>
              <a:ext cx="183960" cy="355320"/>
            </a:xfrm>
            <a:custGeom>
              <a:avLst/>
              <a:gdLst>
                <a:gd name="textAreaLeft" fmla="*/ -360 w 183960"/>
                <a:gd name="textAreaRight" fmla="*/ 183960 w 18396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200918" h="384714">
                  <a:moveTo>
                    <a:pt x="178058" y="64973"/>
                  </a:moveTo>
                  <a:cubicBezTo>
                    <a:pt x="112018" y="35128"/>
                    <a:pt x="107891" y="-26468"/>
                    <a:pt x="39946" y="12585"/>
                  </a:cubicBezTo>
                  <a:cubicBezTo>
                    <a:pt x="-27999" y="51638"/>
                    <a:pt x="6846" y="137284"/>
                    <a:pt x="27563" y="199276"/>
                  </a:cubicBezTo>
                  <a:cubicBezTo>
                    <a:pt x="48280" y="261268"/>
                    <a:pt x="113923" y="380886"/>
                    <a:pt x="164247" y="384537"/>
                  </a:cubicBezTo>
                  <a:cubicBezTo>
                    <a:pt x="214571" y="388188"/>
                    <a:pt x="186313" y="334848"/>
                    <a:pt x="200918" y="278333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圆角矩形 7"/>
            <p:cNvSpPr/>
            <p:nvPr/>
          </p:nvSpPr>
          <p:spPr>
            <a:xfrm>
              <a:off x="5317920" y="2935080"/>
              <a:ext cx="493560" cy="25380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534913" h="274910">
                  <a:moveTo>
                    <a:pt x="0" y="45819"/>
                  </a:moveTo>
                  <a:cubicBezTo>
                    <a:pt x="0" y="20514"/>
                    <a:pt x="39564" y="0"/>
                    <a:pt x="64869" y="0"/>
                  </a:cubicBezTo>
                  <a:lnTo>
                    <a:pt x="470044" y="0"/>
                  </a:lnTo>
                  <a:cubicBezTo>
                    <a:pt x="495349" y="0"/>
                    <a:pt x="534913" y="20514"/>
                    <a:pt x="534913" y="45819"/>
                  </a:cubicBezTo>
                  <a:lnTo>
                    <a:pt x="503163" y="229091"/>
                  </a:lnTo>
                  <a:cubicBezTo>
                    <a:pt x="503163" y="254396"/>
                    <a:pt x="457249" y="274910"/>
                    <a:pt x="431944" y="274910"/>
                  </a:cubicBezTo>
                  <a:lnTo>
                    <a:pt x="112494" y="271735"/>
                  </a:lnTo>
                  <a:cubicBezTo>
                    <a:pt x="87189" y="271735"/>
                    <a:pt x="22225" y="260746"/>
                    <a:pt x="22225" y="235441"/>
                  </a:cubicBezTo>
                  <a:lnTo>
                    <a:pt x="0" y="45819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圆角矩形 7"/>
            <p:cNvSpPr/>
            <p:nvPr/>
          </p:nvSpPr>
          <p:spPr>
            <a:xfrm flipH="1">
              <a:off x="6047640" y="2935080"/>
              <a:ext cx="493560" cy="253800"/>
            </a:xfrm>
            <a:custGeom>
              <a:avLst/>
              <a:gdLst>
                <a:gd name="textAreaLeft" fmla="*/ -360 w 493560"/>
                <a:gd name="textAreaRight" fmla="*/ 493560 w 49356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534913" h="274910">
                  <a:moveTo>
                    <a:pt x="0" y="45819"/>
                  </a:moveTo>
                  <a:cubicBezTo>
                    <a:pt x="0" y="20514"/>
                    <a:pt x="39564" y="0"/>
                    <a:pt x="64869" y="0"/>
                  </a:cubicBezTo>
                  <a:lnTo>
                    <a:pt x="470044" y="0"/>
                  </a:lnTo>
                  <a:cubicBezTo>
                    <a:pt x="495349" y="0"/>
                    <a:pt x="534913" y="20514"/>
                    <a:pt x="534913" y="45819"/>
                  </a:cubicBezTo>
                  <a:lnTo>
                    <a:pt x="503163" y="229091"/>
                  </a:lnTo>
                  <a:cubicBezTo>
                    <a:pt x="503163" y="254396"/>
                    <a:pt x="457249" y="274910"/>
                    <a:pt x="431944" y="274910"/>
                  </a:cubicBezTo>
                  <a:lnTo>
                    <a:pt x="112494" y="271735"/>
                  </a:lnTo>
                  <a:cubicBezTo>
                    <a:pt x="87189" y="271735"/>
                    <a:pt x="22225" y="260746"/>
                    <a:pt x="22225" y="235441"/>
                  </a:cubicBezTo>
                  <a:lnTo>
                    <a:pt x="0" y="45819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任意多边形 23"/>
            <p:cNvSpPr/>
            <p:nvPr/>
          </p:nvSpPr>
          <p:spPr>
            <a:xfrm>
              <a:off x="5783040" y="3419280"/>
              <a:ext cx="345960" cy="18864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375484" h="203615">
                  <a:moveTo>
                    <a:pt x="0" y="49189"/>
                  </a:moveTo>
                  <a:cubicBezTo>
                    <a:pt x="155575" y="23789"/>
                    <a:pt x="319882" y="-12724"/>
                    <a:pt x="364808" y="4421"/>
                  </a:cubicBezTo>
                  <a:cubicBezTo>
                    <a:pt x="409734" y="21566"/>
                    <a:pt x="300275" y="119595"/>
                    <a:pt x="269557" y="152059"/>
                  </a:cubicBezTo>
                  <a:cubicBezTo>
                    <a:pt x="238839" y="184524"/>
                    <a:pt x="209629" y="190953"/>
                    <a:pt x="180498" y="199208"/>
                  </a:cubicBezTo>
                  <a:cubicBezTo>
                    <a:pt x="151367" y="207463"/>
                    <a:pt x="111442" y="201589"/>
                    <a:pt x="94773" y="201589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矩形 13"/>
            <p:cNvSpPr/>
            <p:nvPr/>
          </p:nvSpPr>
          <p:spPr>
            <a:xfrm>
              <a:off x="5583240" y="2933640"/>
              <a:ext cx="131760" cy="25380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416049" h="393440">
                  <a:moveTo>
                    <a:pt x="190500" y="0"/>
                  </a:moveTo>
                  <a:lnTo>
                    <a:pt x="416049" y="9525"/>
                  </a:lnTo>
                  <a:lnTo>
                    <a:pt x="216024" y="393440"/>
                  </a:lnTo>
                  <a:lnTo>
                    <a:pt x="0" y="393440"/>
                  </a:lnTo>
                  <a:lnTo>
                    <a:pt x="190500" y="0"/>
                  </a:lnTo>
                  <a:close/>
                </a:path>
              </a:pathLst>
            </a:custGeom>
            <a:solidFill>
              <a:srgbClr val="ffffff">
                <a:alpha val="94000"/>
              </a:srgbClr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矩形 13"/>
            <p:cNvSpPr/>
            <p:nvPr/>
          </p:nvSpPr>
          <p:spPr>
            <a:xfrm>
              <a:off x="5518080" y="2930400"/>
              <a:ext cx="131760" cy="25380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416049" h="393440">
                  <a:moveTo>
                    <a:pt x="190500" y="0"/>
                  </a:moveTo>
                  <a:lnTo>
                    <a:pt x="416049" y="9525"/>
                  </a:lnTo>
                  <a:lnTo>
                    <a:pt x="216024" y="393440"/>
                  </a:lnTo>
                  <a:lnTo>
                    <a:pt x="0" y="393440"/>
                  </a:lnTo>
                  <a:lnTo>
                    <a:pt x="190500" y="0"/>
                  </a:lnTo>
                  <a:close/>
                </a:path>
              </a:pathLst>
            </a:custGeom>
            <a:solidFill>
              <a:srgbClr val="ffff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矩形 13"/>
            <p:cNvSpPr/>
            <p:nvPr/>
          </p:nvSpPr>
          <p:spPr>
            <a:xfrm>
              <a:off x="6315120" y="2933640"/>
              <a:ext cx="131760" cy="25380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416049" h="393440">
                  <a:moveTo>
                    <a:pt x="190500" y="0"/>
                  </a:moveTo>
                  <a:lnTo>
                    <a:pt x="416049" y="9525"/>
                  </a:lnTo>
                  <a:lnTo>
                    <a:pt x="216024" y="393440"/>
                  </a:lnTo>
                  <a:lnTo>
                    <a:pt x="0" y="393440"/>
                  </a:lnTo>
                  <a:lnTo>
                    <a:pt x="190500" y="0"/>
                  </a:lnTo>
                  <a:close/>
                </a:path>
              </a:pathLst>
            </a:custGeom>
            <a:solidFill>
              <a:srgbClr val="ffffff">
                <a:alpha val="94000"/>
              </a:srgbClr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矩形 13"/>
            <p:cNvSpPr/>
            <p:nvPr/>
          </p:nvSpPr>
          <p:spPr>
            <a:xfrm>
              <a:off x="6249960" y="2930400"/>
              <a:ext cx="131760" cy="25380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416049" h="393440">
                  <a:moveTo>
                    <a:pt x="190500" y="0"/>
                  </a:moveTo>
                  <a:lnTo>
                    <a:pt x="416049" y="9525"/>
                  </a:lnTo>
                  <a:lnTo>
                    <a:pt x="216024" y="393440"/>
                  </a:lnTo>
                  <a:lnTo>
                    <a:pt x="0" y="393440"/>
                  </a:lnTo>
                  <a:lnTo>
                    <a:pt x="190500" y="0"/>
                  </a:lnTo>
                  <a:close/>
                </a:path>
              </a:pathLst>
            </a:custGeom>
            <a:solidFill>
              <a:srgbClr val="ffff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任意多边形 28"/>
            <p:cNvSpPr/>
            <p:nvPr/>
          </p:nvSpPr>
          <p:spPr>
            <a:xfrm>
              <a:off x="5645160" y="3735360"/>
              <a:ext cx="819000" cy="53640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887217" h="727132">
                  <a:moveTo>
                    <a:pt x="132055" y="50800"/>
                  </a:moveTo>
                  <a:cubicBezTo>
                    <a:pt x="155338" y="186266"/>
                    <a:pt x="178622" y="321733"/>
                    <a:pt x="157455" y="406400"/>
                  </a:cubicBezTo>
                  <a:cubicBezTo>
                    <a:pt x="136288" y="491067"/>
                    <a:pt x="-30928" y="505349"/>
                    <a:pt x="5055" y="558800"/>
                  </a:cubicBezTo>
                  <a:cubicBezTo>
                    <a:pt x="41038" y="612251"/>
                    <a:pt x="227305" y="729221"/>
                    <a:pt x="373355" y="727104"/>
                  </a:cubicBezTo>
                  <a:cubicBezTo>
                    <a:pt x="519405" y="724987"/>
                    <a:pt x="834524" y="627255"/>
                    <a:pt x="881355" y="546099"/>
                  </a:cubicBezTo>
                  <a:cubicBezTo>
                    <a:pt x="928186" y="464943"/>
                    <a:pt x="680272" y="510116"/>
                    <a:pt x="640055" y="419100"/>
                  </a:cubicBezTo>
                  <a:cubicBezTo>
                    <a:pt x="599838" y="328084"/>
                    <a:pt x="640055" y="0"/>
                    <a:pt x="640055" y="0"/>
                  </a:cubicBezTo>
                  <a:lnTo>
                    <a:pt x="640055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任意多边形 29"/>
            <p:cNvSpPr/>
            <p:nvPr/>
          </p:nvSpPr>
          <p:spPr>
            <a:xfrm>
              <a:off x="6442200" y="4100400"/>
              <a:ext cx="577800" cy="100800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627063" h="1092201">
                  <a:moveTo>
                    <a:pt x="0" y="0"/>
                  </a:moveTo>
                  <a:cubicBezTo>
                    <a:pt x="49212" y="3704"/>
                    <a:pt x="88900" y="3175"/>
                    <a:pt x="158750" y="76200"/>
                  </a:cubicBezTo>
                  <a:cubicBezTo>
                    <a:pt x="228600" y="149225"/>
                    <a:pt x="347133" y="302683"/>
                    <a:pt x="419100" y="438150"/>
                  </a:cubicBezTo>
                  <a:cubicBezTo>
                    <a:pt x="491067" y="573617"/>
                    <a:pt x="555890" y="779992"/>
                    <a:pt x="590550" y="889000"/>
                  </a:cubicBezTo>
                  <a:cubicBezTo>
                    <a:pt x="625210" y="998008"/>
                    <a:pt x="610660" y="1015470"/>
                    <a:pt x="627063" y="1092201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任意多边形 30"/>
            <p:cNvSpPr/>
            <p:nvPr/>
          </p:nvSpPr>
          <p:spPr>
            <a:xfrm>
              <a:off x="6666120" y="4605480"/>
              <a:ext cx="88920" cy="498240"/>
            </a:xfrm>
            <a:custGeom>
              <a:avLst/>
              <a:gdLst>
                <a:gd name="textAreaLeft" fmla="*/ 0 w 88920"/>
                <a:gd name="textAreaRight" fmla="*/ 88920 w 88920"/>
                <a:gd name="textAreaTop" fmla="*/ 0 h 498240"/>
                <a:gd name="textAreaBottom" fmla="*/ 498600 h 498240"/>
              </a:gdLst>
              <a:ahLst/>
              <a:rect l="textAreaLeft" t="textAreaTop" r="textAreaRight" b="textAreaBottom"/>
              <a:pathLst>
                <a:path w="104261" h="604777">
                  <a:moveTo>
                    <a:pt x="0" y="0"/>
                  </a:moveTo>
                  <a:cubicBezTo>
                    <a:pt x="65616" y="220133"/>
                    <a:pt x="52493" y="209127"/>
                    <a:pt x="68580" y="309880"/>
                  </a:cubicBezTo>
                  <a:cubicBezTo>
                    <a:pt x="84667" y="410633"/>
                    <a:pt x="119803" y="612986"/>
                    <a:pt x="96520" y="60452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任意多边形 31"/>
            <p:cNvSpPr/>
            <p:nvPr/>
          </p:nvSpPr>
          <p:spPr>
            <a:xfrm flipH="1">
              <a:off x="5515560" y="4659480"/>
              <a:ext cx="88920" cy="498240"/>
            </a:xfrm>
            <a:custGeom>
              <a:avLst/>
              <a:gdLst>
                <a:gd name="textAreaLeft" fmla="*/ 0 w 88920"/>
                <a:gd name="textAreaRight" fmla="*/ 88920 w 88920"/>
                <a:gd name="textAreaTop" fmla="*/ 0 h 498240"/>
                <a:gd name="textAreaBottom" fmla="*/ 498600 h 498240"/>
              </a:gdLst>
              <a:ahLst/>
              <a:rect l="textAreaLeft" t="textAreaTop" r="textAreaRight" b="textAreaBottom"/>
              <a:pathLst>
                <a:path w="104261" h="604777">
                  <a:moveTo>
                    <a:pt x="0" y="0"/>
                  </a:moveTo>
                  <a:cubicBezTo>
                    <a:pt x="65616" y="220133"/>
                    <a:pt x="52493" y="209127"/>
                    <a:pt x="68580" y="309880"/>
                  </a:cubicBezTo>
                  <a:cubicBezTo>
                    <a:pt x="84667" y="410633"/>
                    <a:pt x="119803" y="612986"/>
                    <a:pt x="96520" y="60452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任意多边形 32"/>
            <p:cNvSpPr/>
            <p:nvPr/>
          </p:nvSpPr>
          <p:spPr>
            <a:xfrm flipH="1" rot="21382200">
              <a:off x="5117040" y="4152600"/>
              <a:ext cx="576360" cy="995760"/>
            </a:xfrm>
            <a:custGeom>
              <a:avLst/>
              <a:gdLst>
                <a:gd name="textAreaLeft" fmla="*/ -360 w 576360"/>
                <a:gd name="textAreaRight" fmla="*/ 576360 w 576360"/>
                <a:gd name="textAreaTop" fmla="*/ 0 h 995760"/>
                <a:gd name="textAreaBottom" fmla="*/ 996120 h 995760"/>
              </a:gdLst>
              <a:ahLst/>
              <a:rect l="textAreaLeft" t="textAreaTop" r="textAreaRight" b="textAreaBottom"/>
              <a:pathLst>
                <a:path w="624586" h="1076908">
                  <a:moveTo>
                    <a:pt x="0" y="0"/>
                  </a:moveTo>
                  <a:cubicBezTo>
                    <a:pt x="49212" y="3704"/>
                    <a:pt x="88900" y="3175"/>
                    <a:pt x="158750" y="76200"/>
                  </a:cubicBezTo>
                  <a:cubicBezTo>
                    <a:pt x="228600" y="149225"/>
                    <a:pt x="347133" y="302683"/>
                    <a:pt x="419100" y="438150"/>
                  </a:cubicBezTo>
                  <a:cubicBezTo>
                    <a:pt x="491067" y="573617"/>
                    <a:pt x="556302" y="782540"/>
                    <a:pt x="590550" y="889000"/>
                  </a:cubicBezTo>
                  <a:cubicBezTo>
                    <a:pt x="624798" y="995460"/>
                    <a:pt x="616684" y="972744"/>
                    <a:pt x="624586" y="1076908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TextBox 33"/>
          <p:cNvSpPr/>
          <p:nvPr/>
        </p:nvSpPr>
        <p:spPr>
          <a:xfrm>
            <a:off x="2975040" y="2585880"/>
            <a:ext cx="174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5" dur="indefinite" restart="never" nodeType="tmRoot">
          <p:childTnLst>
            <p:seq>
              <p:cTn id="1396" dur="indefinite" nodeType="mainSeq">
                <p:childTnLst>
                  <p:par>
                    <p:cTn id="1397" nodeType="clickEffect" fill="hold">
                      <p:stCondLst>
                        <p:cond delay="indefinite"/>
                      </p:stCondLst>
                      <p:childTnLst>
                        <p:par>
                          <p:cTn id="1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0" dur="3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3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02" dur="3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3" dur="3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3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7" dur="3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3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09" dur="3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0" dur="3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3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4" dur="3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3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16" dur="3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7" dur="3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3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25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25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24" dur="25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6" dur="2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2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28" dur="2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41">
                                  <p:stCondLst>
                                    <p:cond delay="25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36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1"/>
          <p:cNvSpPr/>
          <p:nvPr/>
        </p:nvSpPr>
        <p:spPr>
          <a:xfrm>
            <a:off x="2622600" y="2638440"/>
            <a:ext cx="2568600" cy="3394080"/>
          </a:xfrm>
          <a:custGeom>
            <a:avLst/>
            <a:gdLst>
              <a:gd name="textAreaLeft" fmla="*/ 0 w 2568600"/>
              <a:gd name="textAreaRight" fmla="*/ 2568960 w 2568600"/>
              <a:gd name="textAreaTop" fmla="*/ 0 h 3394080"/>
              <a:gd name="textAreaBottom" fmla="*/ 3394440 h 3394080"/>
            </a:gdLst>
            <a:ahLst/>
            <a:rect l="textAreaLeft" t="textAreaTop" r="textAreaRight" b="textAreaBottom"/>
            <a:pathLst>
              <a:path w="2568912" h="3393530">
                <a:moveTo>
                  <a:pt x="14922" y="0"/>
                </a:moveTo>
                <a:lnTo>
                  <a:pt x="2540336" y="571501"/>
                </a:lnTo>
                <a:lnTo>
                  <a:pt x="2568912" y="3393530"/>
                </a:lnTo>
                <a:lnTo>
                  <a:pt x="634" y="2693443"/>
                </a:lnTo>
                <a:cubicBezTo>
                  <a:pt x="-4128" y="1776579"/>
                  <a:pt x="19684" y="916864"/>
                  <a:pt x="14922" y="0"/>
                </a:cubicBezTo>
                <a:close/>
              </a:path>
            </a:pathLst>
          </a:cu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"/>
          <p:cNvSpPr/>
          <p:nvPr/>
        </p:nvSpPr>
        <p:spPr>
          <a:xfrm>
            <a:off x="2652840" y="2000160"/>
            <a:ext cx="3997080" cy="1235160"/>
          </a:xfrm>
          <a:custGeom>
            <a:avLst/>
            <a:gdLst>
              <a:gd name="textAreaLeft" fmla="*/ 0 w 3997080"/>
              <a:gd name="textAreaRight" fmla="*/ 3997440 w 3997080"/>
              <a:gd name="textAreaTop" fmla="*/ 0 h 1235160"/>
              <a:gd name="textAreaBottom" fmla="*/ 1235520 h 1235160"/>
            </a:gdLst>
            <a:ahLst/>
            <a:rect l="textAreaLeft" t="textAreaTop" r="textAreaRight" b="textAreaBottom"/>
            <a:pathLst>
              <a:path w="3997027" h="1236117">
                <a:moveTo>
                  <a:pt x="2028825" y="0"/>
                </a:moveTo>
                <a:lnTo>
                  <a:pt x="3997027" y="328613"/>
                </a:lnTo>
                <a:lnTo>
                  <a:pt x="2525414" y="1236117"/>
                </a:lnTo>
                <a:lnTo>
                  <a:pt x="0" y="664617"/>
                </a:lnTo>
                <a:lnTo>
                  <a:pt x="2028825" y="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3"/>
          <p:cNvSpPr/>
          <p:nvPr/>
        </p:nvSpPr>
        <p:spPr>
          <a:xfrm>
            <a:off x="5162400" y="2335320"/>
            <a:ext cx="1554480" cy="3693960"/>
          </a:xfrm>
          <a:custGeom>
            <a:avLst/>
            <a:gdLst>
              <a:gd name="textAreaLeft" fmla="*/ 0 w 1554480"/>
              <a:gd name="textAreaRight" fmla="*/ 1554840 w 1554480"/>
              <a:gd name="textAreaTop" fmla="*/ 0 h 3693960"/>
              <a:gd name="textAreaBottom" fmla="*/ 3694320 h 3693960"/>
            </a:gdLst>
            <a:ahLst/>
            <a:rect l="textAreaLeft" t="textAreaTop" r="textAreaRight" b="textAreaBottom"/>
            <a:pathLst>
              <a:path w="1553864" h="3693566">
                <a:moveTo>
                  <a:pt x="0" y="900112"/>
                </a:moveTo>
                <a:lnTo>
                  <a:pt x="1511002" y="0"/>
                </a:lnTo>
                <a:lnTo>
                  <a:pt x="1553864" y="2722015"/>
                </a:lnTo>
                <a:lnTo>
                  <a:pt x="28575" y="3693566"/>
                </a:lnTo>
                <a:lnTo>
                  <a:pt x="0" y="900112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2987640" y="2759040"/>
            <a:ext cx="159228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 rot="21212400">
            <a:off x="5199120" y="2924280"/>
            <a:ext cx="159084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 rot="3070200">
            <a:off x="4355640" y="1658520"/>
            <a:ext cx="15922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10"/>
          <p:cNvSpPr/>
          <p:nvPr/>
        </p:nvSpPr>
        <p:spPr>
          <a:xfrm>
            <a:off x="4651200" y="0"/>
            <a:ext cx="0" cy="200016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11"/>
          <p:cNvGrpSpPr/>
          <p:nvPr/>
        </p:nvGrpSpPr>
        <p:grpSpPr>
          <a:xfrm>
            <a:off x="2619360" y="1379520"/>
            <a:ext cx="4311360" cy="4649760"/>
            <a:chOff x="2619360" y="1379520"/>
            <a:chExt cx="4311360" cy="4649760"/>
          </a:xfrm>
        </p:grpSpPr>
        <p:grpSp>
          <p:nvGrpSpPr>
            <p:cNvPr id="74" name="组合 12"/>
            <p:cNvGrpSpPr/>
            <p:nvPr/>
          </p:nvGrpSpPr>
          <p:grpSpPr>
            <a:xfrm>
              <a:off x="2619360" y="1995840"/>
              <a:ext cx="4094280" cy="4033440"/>
              <a:chOff x="2619360" y="1995840"/>
              <a:chExt cx="4094280" cy="4033440"/>
            </a:xfrm>
          </p:grpSpPr>
          <p:sp>
            <p:nvSpPr>
              <p:cNvPr id="75" name="矩形 1"/>
              <p:cNvSpPr/>
              <p:nvPr/>
            </p:nvSpPr>
            <p:spPr>
              <a:xfrm>
                <a:off x="2619360" y="2635560"/>
                <a:ext cx="2568600" cy="3393720"/>
              </a:xfrm>
              <a:custGeom>
                <a:avLst/>
                <a:gdLst>
                  <a:gd name="textAreaLeft" fmla="*/ 0 w 2568600"/>
                  <a:gd name="textAreaRight" fmla="*/ 2568960 w 2568600"/>
                  <a:gd name="textAreaTop" fmla="*/ 0 h 3393720"/>
                  <a:gd name="textAreaBottom" fmla="*/ 3394080 h 3393720"/>
                </a:gdLst>
                <a:ahLst/>
                <a:rect l="textAreaLeft" t="textAreaTop" r="textAreaRight" b="textAreaBottom"/>
                <a:pathLst>
                  <a:path w="2568912" h="3393530">
                    <a:moveTo>
                      <a:pt x="14922" y="0"/>
                    </a:moveTo>
                    <a:lnTo>
                      <a:pt x="2540336" y="571501"/>
                    </a:lnTo>
                    <a:lnTo>
                      <a:pt x="2568912" y="3393530"/>
                    </a:lnTo>
                    <a:lnTo>
                      <a:pt x="634" y="2693443"/>
                    </a:lnTo>
                    <a:cubicBezTo>
                      <a:pt x="-4128" y="1776579"/>
                      <a:pt x="19684" y="916864"/>
                      <a:pt x="14922" y="0"/>
                    </a:cubicBezTo>
                    <a:close/>
                  </a:path>
                </a:pathLst>
              </a:custGeom>
              <a:noFill/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矩形 2"/>
              <p:cNvSpPr/>
              <p:nvPr/>
            </p:nvSpPr>
            <p:spPr>
              <a:xfrm>
                <a:off x="2651040" y="1995840"/>
                <a:ext cx="3997440" cy="1236600"/>
              </a:xfrm>
              <a:custGeom>
                <a:avLst/>
                <a:gdLst>
                  <a:gd name="textAreaLeft" fmla="*/ 0 w 3997440"/>
                  <a:gd name="textAreaRight" fmla="*/ 3997800 w 3997440"/>
                  <a:gd name="textAreaTop" fmla="*/ 0 h 1236600"/>
                  <a:gd name="textAreaBottom" fmla="*/ 1236960 h 1236600"/>
                </a:gdLst>
                <a:ahLst/>
                <a:rect l="textAreaLeft" t="textAreaTop" r="textAreaRight" b="textAreaBottom"/>
                <a:pathLst>
                  <a:path w="3997027" h="1236117">
                    <a:moveTo>
                      <a:pt x="2028825" y="0"/>
                    </a:moveTo>
                    <a:lnTo>
                      <a:pt x="3997027" y="328613"/>
                    </a:lnTo>
                    <a:lnTo>
                      <a:pt x="2525414" y="1236117"/>
                    </a:lnTo>
                    <a:lnTo>
                      <a:pt x="0" y="664617"/>
                    </a:lnTo>
                    <a:lnTo>
                      <a:pt x="2028825" y="0"/>
                    </a:lnTo>
                    <a:close/>
                  </a:path>
                </a:pathLst>
              </a:custGeom>
              <a:noFill/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矩形 3"/>
              <p:cNvSpPr/>
              <p:nvPr/>
            </p:nvSpPr>
            <p:spPr>
              <a:xfrm>
                <a:off x="5159520" y="2330640"/>
                <a:ext cx="1554120" cy="3693960"/>
              </a:xfrm>
              <a:custGeom>
                <a:avLst/>
                <a:gdLst>
                  <a:gd name="textAreaLeft" fmla="*/ 0 w 1554120"/>
                  <a:gd name="textAreaRight" fmla="*/ 1554480 w 1554120"/>
                  <a:gd name="textAreaTop" fmla="*/ 0 h 3693960"/>
                  <a:gd name="textAreaBottom" fmla="*/ 3694320 h 3693960"/>
                </a:gdLst>
                <a:ahLst/>
                <a:rect l="textAreaLeft" t="textAreaTop" r="textAreaRight" b="textAreaBottom"/>
                <a:pathLst>
                  <a:path w="1553864" h="3693566">
                    <a:moveTo>
                      <a:pt x="0" y="900112"/>
                    </a:moveTo>
                    <a:lnTo>
                      <a:pt x="1511002" y="0"/>
                    </a:lnTo>
                    <a:lnTo>
                      <a:pt x="1553864" y="2722015"/>
                    </a:lnTo>
                    <a:lnTo>
                      <a:pt x="28575" y="3693566"/>
                    </a:lnTo>
                    <a:lnTo>
                      <a:pt x="0" y="900112"/>
                    </a:lnTo>
                    <a:close/>
                  </a:path>
                </a:pathLst>
              </a:custGeom>
              <a:noFill/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TextBox 13"/>
            <p:cNvSpPr/>
            <p:nvPr/>
          </p:nvSpPr>
          <p:spPr>
            <a:xfrm>
              <a:off x="2985120" y="2755080"/>
              <a:ext cx="1592280" cy="31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9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19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Box 14"/>
            <p:cNvSpPr/>
            <p:nvPr/>
          </p:nvSpPr>
          <p:spPr>
            <a:xfrm rot="21212400">
              <a:off x="5195520" y="2919960"/>
              <a:ext cx="1592280" cy="26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6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1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15"/>
            <p:cNvSpPr/>
            <p:nvPr/>
          </p:nvSpPr>
          <p:spPr>
            <a:xfrm rot="3070200">
              <a:off x="4353480" y="1655280"/>
              <a:ext cx="15922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组合 19"/>
          <p:cNvGrpSpPr/>
          <p:nvPr/>
        </p:nvGrpSpPr>
        <p:grpSpPr>
          <a:xfrm>
            <a:off x="826920" y="3493080"/>
            <a:ext cx="2601720" cy="2931480"/>
            <a:chOff x="826920" y="3493080"/>
            <a:chExt cx="2601720" cy="2931480"/>
          </a:xfrm>
        </p:grpSpPr>
        <p:grpSp>
          <p:nvGrpSpPr>
            <p:cNvPr id="82" name="组合 20"/>
            <p:cNvGrpSpPr/>
            <p:nvPr/>
          </p:nvGrpSpPr>
          <p:grpSpPr>
            <a:xfrm>
              <a:off x="826920" y="4004640"/>
              <a:ext cx="2456640" cy="2419920"/>
              <a:chOff x="826920" y="4004640"/>
              <a:chExt cx="2456640" cy="2419920"/>
            </a:xfrm>
          </p:grpSpPr>
          <p:sp>
            <p:nvSpPr>
              <p:cNvPr id="83" name="矩形 1"/>
              <p:cNvSpPr/>
              <p:nvPr/>
            </p:nvSpPr>
            <p:spPr>
              <a:xfrm>
                <a:off x="826920" y="4388760"/>
                <a:ext cx="1541880" cy="2035800"/>
              </a:xfrm>
              <a:custGeom>
                <a:avLst/>
                <a:gdLst>
                  <a:gd name="textAreaLeft" fmla="*/ 0 w 1541880"/>
                  <a:gd name="textAreaRight" fmla="*/ 1542240 w 1541880"/>
                  <a:gd name="textAreaTop" fmla="*/ 0 h 2035800"/>
                  <a:gd name="textAreaBottom" fmla="*/ 2036160 h 2035800"/>
                </a:gdLst>
                <a:ahLst/>
                <a:rect l="textAreaLeft" t="textAreaTop" r="textAreaRight" b="textAreaBottom"/>
                <a:pathLst>
                  <a:path w="2568912" h="3393530">
                    <a:moveTo>
                      <a:pt x="14922" y="0"/>
                    </a:moveTo>
                    <a:lnTo>
                      <a:pt x="2540336" y="571501"/>
                    </a:lnTo>
                    <a:lnTo>
                      <a:pt x="2568912" y="3393530"/>
                    </a:lnTo>
                    <a:lnTo>
                      <a:pt x="634" y="2693443"/>
                    </a:lnTo>
                    <a:cubicBezTo>
                      <a:pt x="-4128" y="1776579"/>
                      <a:pt x="19684" y="916864"/>
                      <a:pt x="14922" y="0"/>
                    </a:cubicBezTo>
                    <a:close/>
                  </a:path>
                </a:pathLst>
              </a:custGeom>
              <a:noFill/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矩形 2"/>
              <p:cNvSpPr/>
              <p:nvPr/>
            </p:nvSpPr>
            <p:spPr>
              <a:xfrm>
                <a:off x="845640" y="4004640"/>
                <a:ext cx="2397960" cy="741600"/>
              </a:xfrm>
              <a:custGeom>
                <a:avLst/>
                <a:gdLst>
                  <a:gd name="textAreaLeft" fmla="*/ 0 w 2397960"/>
                  <a:gd name="textAreaRight" fmla="*/ 2398320 w 2397960"/>
                  <a:gd name="textAreaTop" fmla="*/ 0 h 741600"/>
                  <a:gd name="textAreaBottom" fmla="*/ 741960 h 741600"/>
                </a:gdLst>
                <a:ahLst/>
                <a:rect l="textAreaLeft" t="textAreaTop" r="textAreaRight" b="textAreaBottom"/>
                <a:pathLst>
                  <a:path w="3997027" h="1236117">
                    <a:moveTo>
                      <a:pt x="2028825" y="0"/>
                    </a:moveTo>
                    <a:lnTo>
                      <a:pt x="3997027" y="328613"/>
                    </a:lnTo>
                    <a:lnTo>
                      <a:pt x="2525414" y="1236117"/>
                    </a:lnTo>
                    <a:lnTo>
                      <a:pt x="0" y="664617"/>
                    </a:lnTo>
                    <a:lnTo>
                      <a:pt x="2028825" y="0"/>
                    </a:lnTo>
                    <a:close/>
                  </a:path>
                </a:pathLst>
              </a:custGeom>
              <a:noFill/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矩形 3"/>
              <p:cNvSpPr/>
              <p:nvPr/>
            </p:nvSpPr>
            <p:spPr>
              <a:xfrm>
                <a:off x="2351520" y="4206240"/>
                <a:ext cx="932040" cy="2215080"/>
              </a:xfrm>
              <a:custGeom>
                <a:avLst/>
                <a:gdLst>
                  <a:gd name="textAreaLeft" fmla="*/ 0 w 932040"/>
                  <a:gd name="textAreaRight" fmla="*/ 932400 w 932040"/>
                  <a:gd name="textAreaTop" fmla="*/ 0 h 2215080"/>
                  <a:gd name="textAreaBottom" fmla="*/ 2215440 h 2215080"/>
                </a:gdLst>
                <a:ahLst/>
                <a:rect l="textAreaLeft" t="textAreaTop" r="textAreaRight" b="textAreaBottom"/>
                <a:pathLst>
                  <a:path w="1553864" h="3693566">
                    <a:moveTo>
                      <a:pt x="0" y="900112"/>
                    </a:moveTo>
                    <a:lnTo>
                      <a:pt x="1511002" y="0"/>
                    </a:lnTo>
                    <a:lnTo>
                      <a:pt x="1553864" y="2722015"/>
                    </a:lnTo>
                    <a:lnTo>
                      <a:pt x="28575" y="3693566"/>
                    </a:lnTo>
                    <a:lnTo>
                      <a:pt x="0" y="900112"/>
                    </a:lnTo>
                    <a:close/>
                  </a:path>
                </a:pathLst>
              </a:custGeom>
              <a:noFill/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TextBox 21"/>
            <p:cNvSpPr/>
            <p:nvPr/>
          </p:nvSpPr>
          <p:spPr>
            <a:xfrm>
              <a:off x="1046160" y="4460040"/>
              <a:ext cx="9550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22"/>
            <p:cNvSpPr/>
            <p:nvPr/>
          </p:nvSpPr>
          <p:spPr>
            <a:xfrm rot="21212400">
              <a:off x="2372760" y="4422240"/>
              <a:ext cx="9550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Box 23"/>
            <p:cNvSpPr/>
            <p:nvPr/>
          </p:nvSpPr>
          <p:spPr>
            <a:xfrm rot="3070200">
              <a:off x="1868760" y="3574440"/>
              <a:ext cx="955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矩形 10"/>
          <p:cNvSpPr/>
          <p:nvPr/>
        </p:nvSpPr>
        <p:spPr>
          <a:xfrm>
            <a:off x="846000" y="3927600"/>
            <a:ext cx="1949760" cy="344520"/>
          </a:xfrm>
          <a:custGeom>
            <a:avLst/>
            <a:gdLst>
              <a:gd name="textAreaLeft" fmla="*/ 0 w 1949760"/>
              <a:gd name="textAreaRight" fmla="*/ 1950120 w 194976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2880320" h="508595">
                <a:moveTo>
                  <a:pt x="557212" y="0"/>
                </a:moveTo>
                <a:lnTo>
                  <a:pt x="2308821" y="1"/>
                </a:lnTo>
                <a:lnTo>
                  <a:pt x="2880320" y="508595"/>
                </a:lnTo>
                <a:lnTo>
                  <a:pt x="0" y="508595"/>
                </a:lnTo>
                <a:lnTo>
                  <a:pt x="557212" y="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8"/>
          <p:cNvSpPr/>
          <p:nvPr/>
        </p:nvSpPr>
        <p:spPr>
          <a:xfrm>
            <a:off x="855720" y="4272120"/>
            <a:ext cx="1949400" cy="1949400"/>
          </a:xfrm>
          <a:prstGeom prst="rect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4"/>
          <p:cNvSpPr/>
          <p:nvPr/>
        </p:nvSpPr>
        <p:spPr>
          <a:xfrm>
            <a:off x="855720" y="3927600"/>
            <a:ext cx="371520" cy="2286000"/>
          </a:xfrm>
          <a:custGeom>
            <a:avLst/>
            <a:gdLst>
              <a:gd name="textAreaLeft" fmla="*/ 0 w 371520"/>
              <a:gd name="textAreaRight" fmla="*/ 371880 w 3715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548758" h="3377375">
                <a:moveTo>
                  <a:pt x="0" y="495300"/>
                </a:moveTo>
                <a:lnTo>
                  <a:pt x="547488" y="0"/>
                </a:lnTo>
                <a:cubicBezTo>
                  <a:pt x="547911" y="588582"/>
                  <a:pt x="548335" y="1167638"/>
                  <a:pt x="548758" y="1756220"/>
                </a:cubicBezTo>
                <a:lnTo>
                  <a:pt x="0" y="3377375"/>
                </a:lnTo>
                <a:lnTo>
                  <a:pt x="0" y="4953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4"/>
          <p:cNvSpPr/>
          <p:nvPr/>
        </p:nvSpPr>
        <p:spPr>
          <a:xfrm flipH="1">
            <a:off x="2421720" y="3924360"/>
            <a:ext cx="389160" cy="2278080"/>
          </a:xfrm>
          <a:custGeom>
            <a:avLst/>
            <a:gdLst>
              <a:gd name="textAreaLeft" fmla="*/ -360 w 389160"/>
              <a:gd name="textAreaRight" fmla="*/ 389160 w 389160"/>
              <a:gd name="textAreaTop" fmla="*/ 0 h 2278080"/>
              <a:gd name="textAreaBottom" fmla="*/ 2278440 h 2278080"/>
            </a:gdLst>
            <a:ahLst/>
            <a:rect l="textAreaLeft" t="textAreaTop" r="textAreaRight" b="textAreaBottom"/>
            <a:pathLst>
              <a:path w="575322" h="3364040">
                <a:moveTo>
                  <a:pt x="688" y="512921"/>
                </a:moveTo>
                <a:lnTo>
                  <a:pt x="572940" y="0"/>
                </a:lnTo>
                <a:cubicBezTo>
                  <a:pt x="574527" y="578739"/>
                  <a:pt x="573735" y="1169385"/>
                  <a:pt x="575322" y="1748124"/>
                </a:cubicBezTo>
                <a:lnTo>
                  <a:pt x="688" y="3364040"/>
                </a:lnTo>
                <a:cubicBezTo>
                  <a:pt x="-1693" y="2409698"/>
                  <a:pt x="3069" y="1467263"/>
                  <a:pt x="688" y="512921"/>
                </a:cubicBezTo>
                <a:close/>
              </a:path>
            </a:pathLst>
          </a:cu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31"/>
          <p:cNvGrpSpPr/>
          <p:nvPr/>
        </p:nvGrpSpPr>
        <p:grpSpPr>
          <a:xfrm>
            <a:off x="855720" y="3924360"/>
            <a:ext cx="1947960" cy="2281320"/>
            <a:chOff x="855720" y="3924360"/>
            <a:chExt cx="1947960" cy="2281320"/>
          </a:xfrm>
        </p:grpSpPr>
        <p:sp>
          <p:nvSpPr>
            <p:cNvPr id="94" name="矩形 32"/>
            <p:cNvSpPr/>
            <p:nvPr/>
          </p:nvSpPr>
          <p:spPr>
            <a:xfrm>
              <a:off x="1225440" y="3924360"/>
              <a:ext cx="1189080" cy="1189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矩形 16"/>
            <p:cNvSpPr/>
            <p:nvPr/>
          </p:nvSpPr>
          <p:spPr>
            <a:xfrm>
              <a:off x="855720" y="5113440"/>
              <a:ext cx="1947960" cy="1092240"/>
            </a:xfrm>
            <a:custGeom>
              <a:avLst/>
              <a:gdLst>
                <a:gd name="textAreaLeft" fmla="*/ 0 w 1947960"/>
                <a:gd name="textAreaRight" fmla="*/ 1948320 w 1947960"/>
                <a:gd name="textAreaTop" fmla="*/ 0 h 1092240"/>
                <a:gd name="textAreaBottom" fmla="*/ 1092600 h 1092240"/>
              </a:gdLst>
              <a:ahLst/>
              <a:rect l="textAreaLeft" t="textAreaTop" r="textAreaRight" b="textAreaBottom"/>
              <a:pathLst>
                <a:path w="2878337" h="1613893">
                  <a:moveTo>
                    <a:pt x="545307" y="0"/>
                  </a:moveTo>
                  <a:lnTo>
                    <a:pt x="2302075" y="0"/>
                  </a:lnTo>
                  <a:lnTo>
                    <a:pt x="2878337" y="1613893"/>
                  </a:lnTo>
                  <a:lnTo>
                    <a:pt x="0" y="1613893"/>
                  </a:lnTo>
                  <a:lnTo>
                    <a:pt x="545307" y="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直接连接符 34"/>
          <p:cNvSpPr/>
          <p:nvPr/>
        </p:nvSpPr>
        <p:spPr>
          <a:xfrm>
            <a:off x="863640" y="6213600"/>
            <a:ext cx="1947960" cy="144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35"/>
          <p:cNvGrpSpPr/>
          <p:nvPr/>
        </p:nvGrpSpPr>
        <p:grpSpPr>
          <a:xfrm>
            <a:off x="1230480" y="1546200"/>
            <a:ext cx="1188720" cy="2378160"/>
            <a:chOff x="1230480" y="1546200"/>
            <a:chExt cx="1188720" cy="2378160"/>
          </a:xfrm>
        </p:grpSpPr>
        <p:sp>
          <p:nvSpPr>
            <p:cNvPr id="98" name="矩形 36"/>
            <p:cNvSpPr/>
            <p:nvPr/>
          </p:nvSpPr>
          <p:spPr>
            <a:xfrm>
              <a:off x="1230480" y="1546200"/>
              <a:ext cx="1188720" cy="1189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37"/>
            <p:cNvSpPr/>
            <p:nvPr/>
          </p:nvSpPr>
          <p:spPr>
            <a:xfrm>
              <a:off x="1230480" y="2735280"/>
              <a:ext cx="1188720" cy="1189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矩形 38"/>
          <p:cNvSpPr/>
          <p:nvPr/>
        </p:nvSpPr>
        <p:spPr>
          <a:xfrm>
            <a:off x="2413080" y="3924360"/>
            <a:ext cx="1189080" cy="1189080"/>
          </a:xfrm>
          <a:prstGeom prst="rect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9"/>
          <p:cNvSpPr/>
          <p:nvPr/>
        </p:nvSpPr>
        <p:spPr>
          <a:xfrm>
            <a:off x="1224000" y="5119560"/>
            <a:ext cx="1189080" cy="1189080"/>
          </a:xfrm>
          <a:prstGeom prst="rect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40"/>
          <p:cNvSpPr/>
          <p:nvPr/>
        </p:nvSpPr>
        <p:spPr>
          <a:xfrm>
            <a:off x="34920" y="3930480"/>
            <a:ext cx="1189080" cy="1189080"/>
          </a:xfrm>
          <a:prstGeom prst="rect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sh dir="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5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5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25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2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25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25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500" fill="hold"/>
                                        <p:tgtEl>
                                          <p:spTgt spid="73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59259E-006 L -0.32934 0.21365 E">
                                      <p:cBhvr>
                                        <p:cTn id="140" dur="5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501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4002"/>
                            </p:stCondLst>
                            <p:childTnLst>
                              <p:par>
                                <p:cTn id="15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44444E-006 L 0.00139 -0.28148 E">
                                      <p:cBhvr>
                                        <p:cTn id="160" dur="25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2" dur="25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252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4253"/>
                            </p:stCondLst>
                            <p:childTnLst>
                              <p:par>
                                <p:cTn id="17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3" dur="250" fill="hold"/>
                                        <p:tgtEl>
                                          <p:spTgt spid="96"/>
                                        </p:tgtEl>
                                      </p:cBhvr>
                                      <p:to x="62000" y="62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5" dur="2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28148 L 0.00139 -0.33402 E">
                                      <p:cBhvr>
                                        <p:cTn id="178" dur="25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503"/>
                            </p:stCondLst>
                            <p:childTnLst>
                              <p:par>
                                <p:cTn id="18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1" dur="25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0" dur="25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2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6" dur="25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20"/>
          <p:cNvSpPr/>
          <p:nvPr/>
        </p:nvSpPr>
        <p:spPr>
          <a:xfrm>
            <a:off x="1230480" y="1547640"/>
            <a:ext cx="1188720" cy="1189080"/>
          </a:xfrm>
          <a:prstGeom prst="rect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1"/>
          <p:cNvSpPr/>
          <p:nvPr/>
        </p:nvSpPr>
        <p:spPr>
          <a:xfrm>
            <a:off x="1230480" y="2736720"/>
            <a:ext cx="1188720" cy="1189080"/>
          </a:xfrm>
          <a:prstGeom prst="rect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6"/>
          <p:cNvSpPr/>
          <p:nvPr/>
        </p:nvSpPr>
        <p:spPr>
          <a:xfrm>
            <a:off x="2413080" y="3925800"/>
            <a:ext cx="1189080" cy="1189080"/>
          </a:xfrm>
          <a:prstGeom prst="rect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7"/>
          <p:cNvSpPr/>
          <p:nvPr/>
        </p:nvSpPr>
        <p:spPr>
          <a:xfrm>
            <a:off x="1224000" y="5121360"/>
            <a:ext cx="1189080" cy="1189080"/>
          </a:xfrm>
          <a:prstGeom prst="rect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8"/>
          <p:cNvSpPr/>
          <p:nvPr/>
        </p:nvSpPr>
        <p:spPr>
          <a:xfrm>
            <a:off x="34920" y="3932280"/>
            <a:ext cx="1189080" cy="1189080"/>
          </a:xfrm>
          <a:prstGeom prst="rect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33"/>
          <p:cNvSpPr/>
          <p:nvPr/>
        </p:nvSpPr>
        <p:spPr>
          <a:xfrm>
            <a:off x="1222200" y="3933720"/>
            <a:ext cx="1189080" cy="1189080"/>
          </a:xfrm>
          <a:prstGeom prst="rect">
            <a:avLst/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2"/>
          <p:cNvGrpSpPr/>
          <p:nvPr/>
        </p:nvGrpSpPr>
        <p:grpSpPr>
          <a:xfrm>
            <a:off x="4826160" y="569520"/>
            <a:ext cx="2841480" cy="647640"/>
            <a:chOff x="4826160" y="569520"/>
            <a:chExt cx="2841480" cy="647640"/>
          </a:xfrm>
        </p:grpSpPr>
        <p:sp>
          <p:nvSpPr>
            <p:cNvPr id="110" name="AutoShape 112"/>
            <p:cNvSpPr/>
            <p:nvPr/>
          </p:nvSpPr>
          <p:spPr>
            <a:xfrm rot="16200000">
              <a:off x="5923080" y="-527400"/>
              <a:ext cx="647640" cy="2841480"/>
            </a:xfrm>
            <a:custGeom>
              <a:avLst/>
              <a:gdLst>
                <a:gd name="textAreaLeft" fmla="*/ 31320 w 647640"/>
                <a:gd name="textAreaRight" fmla="*/ 616320 w 647640"/>
                <a:gd name="textAreaTop" fmla="*/ 31320 h 2841480"/>
                <a:gd name="textAreaBottom" fmla="*/ 2810160 h 2841480"/>
              </a:gdLst>
              <a:ahLst/>
              <a:rect l="textAreaLeft" t="textAreaTop" r="textAreaRight" b="textAreaBottom"/>
              <a:pathLst>
                <a:path w="21600" h="94728">
                  <a:moveTo>
                    <a:pt x="3600" y="0"/>
                  </a:moveTo>
                  <a:arcTo wR="3600" hR="3600" stAng="16200000" swAng="-5400000"/>
                  <a:lnTo>
                    <a:pt x="0" y="91128"/>
                  </a:lnTo>
                  <a:arcTo wR="3600" hR="3600" stAng="10800000" swAng="-5400000"/>
                  <a:lnTo>
                    <a:pt x="18000" y="947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1"/>
            <p:cNvSpPr/>
            <p:nvPr/>
          </p:nvSpPr>
          <p:spPr>
            <a:xfrm>
              <a:off x="5975280" y="670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部门工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Picture 10" descr="C:\Users\TITAN\Desktop\新建文件夹\2006413161622724.png"/>
          <p:cNvPicPr/>
          <p:nvPr/>
        </p:nvPicPr>
        <p:blipFill>
          <a:blip r:embed="rId1"/>
          <a:stretch/>
        </p:blipFill>
        <p:spPr>
          <a:xfrm>
            <a:off x="1366920" y="288144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C:\Users\TITAN\Desktop\新建文件夹\2006413161632268.png"/>
          <p:cNvPicPr/>
          <p:nvPr/>
        </p:nvPicPr>
        <p:blipFill>
          <a:blip r:embed="rId2"/>
          <a:stretch/>
        </p:blipFill>
        <p:spPr>
          <a:xfrm>
            <a:off x="1374840" y="536400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C:\Users\TITAN\Desktop\新建文件夹\2006413161643529.png"/>
          <p:cNvPicPr/>
          <p:nvPr/>
        </p:nvPicPr>
        <p:blipFill>
          <a:blip r:embed="rId3"/>
          <a:stretch/>
        </p:blipFill>
        <p:spPr>
          <a:xfrm>
            <a:off x="1374840" y="407052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C:\Users\TITAN\Desktop\新建文件夹\2006413161725253.png"/>
          <p:cNvPicPr/>
          <p:nvPr/>
        </p:nvPicPr>
        <p:blipFill>
          <a:blip r:embed="rId4"/>
          <a:stretch/>
        </p:blipFill>
        <p:spPr>
          <a:xfrm>
            <a:off x="179280" y="4124160"/>
            <a:ext cx="900360" cy="900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C:\Users\TITAN\Desktop\新建文件夹\2006413161734397.png"/>
          <p:cNvPicPr/>
          <p:nvPr/>
        </p:nvPicPr>
        <p:blipFill>
          <a:blip r:embed="rId5"/>
          <a:stretch/>
        </p:blipFill>
        <p:spPr>
          <a:xfrm>
            <a:off x="2557440" y="4070520"/>
            <a:ext cx="900000" cy="900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C:\Users\TITAN\Desktop\新建文件夹\2006413161740347.png"/>
          <p:cNvPicPr/>
          <p:nvPr/>
        </p:nvPicPr>
        <p:blipFill>
          <a:blip r:embed="rId6"/>
          <a:stretch/>
        </p:blipFill>
        <p:spPr>
          <a:xfrm>
            <a:off x="1366920" y="1692360"/>
            <a:ext cx="900000" cy="898560"/>
          </a:xfrm>
          <a:prstGeom prst="rect">
            <a:avLst/>
          </a:prstGeom>
          <a:ln w="0">
            <a:noFill/>
          </a:ln>
        </p:spPr>
      </p:pic>
      <p:grpSp>
        <p:nvGrpSpPr>
          <p:cNvPr id="118" name="组合 3"/>
          <p:cNvGrpSpPr/>
          <p:nvPr/>
        </p:nvGrpSpPr>
        <p:grpSpPr>
          <a:xfrm>
            <a:off x="4788000" y="1557000"/>
            <a:ext cx="2843280" cy="646200"/>
            <a:chOff x="4788000" y="1557000"/>
            <a:chExt cx="2843280" cy="646200"/>
          </a:xfrm>
        </p:grpSpPr>
        <p:sp>
          <p:nvSpPr>
            <p:cNvPr id="119" name="AutoShape 112"/>
            <p:cNvSpPr/>
            <p:nvPr/>
          </p:nvSpPr>
          <p:spPr>
            <a:xfrm rot="16200000">
              <a:off x="5886360" y="458280"/>
              <a:ext cx="646200" cy="2843280"/>
            </a:xfrm>
            <a:custGeom>
              <a:avLst/>
              <a:gdLst>
                <a:gd name="textAreaLeft" fmla="*/ 31320 w 646200"/>
                <a:gd name="textAreaRight" fmla="*/ 614880 w 646200"/>
                <a:gd name="textAreaTop" fmla="*/ 31320 h 2843280"/>
                <a:gd name="textAreaBottom" fmla="*/ 2811960 h 2843280"/>
              </a:gdLst>
              <a:ahLst/>
              <a:rect l="textAreaLeft" t="textAreaTop" r="textAreaRight" b="textAreaBottom"/>
              <a:pathLst>
                <a:path w="21600" h="94999">
                  <a:moveTo>
                    <a:pt x="3600" y="0"/>
                  </a:moveTo>
                  <a:arcTo wR="3600" hR="3600" stAng="16200000" swAng="-5400000"/>
                  <a:lnTo>
                    <a:pt x="0" y="91399"/>
                  </a:lnTo>
                  <a:arcTo wR="3600" hR="3600" stAng="10800000" swAng="-5400000"/>
                  <a:lnTo>
                    <a:pt x="18000" y="949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34"/>
            <p:cNvSpPr/>
            <p:nvPr/>
          </p:nvSpPr>
          <p:spPr>
            <a:xfrm>
              <a:off x="6000840" y="1657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院系工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组合 4"/>
          <p:cNvGrpSpPr/>
          <p:nvPr/>
        </p:nvGrpSpPr>
        <p:grpSpPr>
          <a:xfrm>
            <a:off x="4807080" y="2544480"/>
            <a:ext cx="2841480" cy="647640"/>
            <a:chOff x="4807080" y="2544480"/>
            <a:chExt cx="2841480" cy="647640"/>
          </a:xfrm>
        </p:grpSpPr>
        <p:sp>
          <p:nvSpPr>
            <p:cNvPr id="122" name="AutoShape 112"/>
            <p:cNvSpPr/>
            <p:nvPr/>
          </p:nvSpPr>
          <p:spPr>
            <a:xfrm rot="16200000">
              <a:off x="5904000" y="1447560"/>
              <a:ext cx="647640" cy="2841480"/>
            </a:xfrm>
            <a:custGeom>
              <a:avLst/>
              <a:gdLst>
                <a:gd name="textAreaLeft" fmla="*/ 31320 w 647640"/>
                <a:gd name="textAreaRight" fmla="*/ 616320 w 647640"/>
                <a:gd name="textAreaTop" fmla="*/ 31320 h 2841480"/>
                <a:gd name="textAreaBottom" fmla="*/ 2810160 h 2841480"/>
              </a:gdLst>
              <a:ahLst/>
              <a:rect l="textAreaLeft" t="textAreaTop" r="textAreaRight" b="textAreaBottom"/>
              <a:pathLst>
                <a:path w="21600" h="94728">
                  <a:moveTo>
                    <a:pt x="3600" y="0"/>
                  </a:moveTo>
                  <a:arcTo wR="3600" hR="3600" stAng="16200000" swAng="-5400000"/>
                  <a:lnTo>
                    <a:pt x="0" y="91128"/>
                  </a:lnTo>
                  <a:arcTo wR="3600" hR="3600" stAng="10800000" swAng="-5400000"/>
                  <a:lnTo>
                    <a:pt x="18000" y="947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Box 36"/>
            <p:cNvSpPr/>
            <p:nvPr/>
          </p:nvSpPr>
          <p:spPr>
            <a:xfrm>
              <a:off x="5970600" y="26456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校友会工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组合 5"/>
          <p:cNvGrpSpPr/>
          <p:nvPr/>
        </p:nvGrpSpPr>
        <p:grpSpPr>
          <a:xfrm>
            <a:off x="4826160" y="3532320"/>
            <a:ext cx="2841480" cy="645840"/>
            <a:chOff x="4826160" y="3532320"/>
            <a:chExt cx="2841480" cy="645840"/>
          </a:xfrm>
        </p:grpSpPr>
        <p:sp>
          <p:nvSpPr>
            <p:cNvPr id="125" name="AutoShape 112"/>
            <p:cNvSpPr/>
            <p:nvPr/>
          </p:nvSpPr>
          <p:spPr>
            <a:xfrm rot="16200000">
              <a:off x="5923800" y="2434320"/>
              <a:ext cx="645840" cy="2841480"/>
            </a:xfrm>
            <a:custGeom>
              <a:avLst/>
              <a:gdLst>
                <a:gd name="textAreaLeft" fmla="*/ 31320 w 645840"/>
                <a:gd name="textAreaRight" fmla="*/ 614520 w 645840"/>
                <a:gd name="textAreaTop" fmla="*/ 31320 h 2841480"/>
                <a:gd name="textAreaBottom" fmla="*/ 2810160 h 2841480"/>
              </a:gdLst>
              <a:ahLst/>
              <a:rect l="textAreaLeft" t="textAreaTop" r="textAreaRight" b="textAreaBottom"/>
              <a:pathLst>
                <a:path w="21600" h="94992">
                  <a:moveTo>
                    <a:pt x="3600" y="0"/>
                  </a:moveTo>
                  <a:arcTo wR="3600" hR="3600" stAng="16200000" swAng="-5400000"/>
                  <a:lnTo>
                    <a:pt x="0" y="91392"/>
                  </a:lnTo>
                  <a:arcTo wR="3600" hR="3600" stAng="10800000" swAng="-5400000"/>
                  <a:lnTo>
                    <a:pt x="18000" y="949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Box 38"/>
            <p:cNvSpPr/>
            <p:nvPr/>
          </p:nvSpPr>
          <p:spPr>
            <a:xfrm>
              <a:off x="6042600" y="36327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团省委工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6"/>
          <p:cNvGrpSpPr/>
          <p:nvPr/>
        </p:nvGrpSpPr>
        <p:grpSpPr>
          <a:xfrm>
            <a:off x="4792680" y="4517640"/>
            <a:ext cx="2841840" cy="647640"/>
            <a:chOff x="4792680" y="4517640"/>
            <a:chExt cx="2841840" cy="647640"/>
          </a:xfrm>
        </p:grpSpPr>
        <p:sp>
          <p:nvSpPr>
            <p:cNvPr id="128" name="AutoShape 112"/>
            <p:cNvSpPr/>
            <p:nvPr/>
          </p:nvSpPr>
          <p:spPr>
            <a:xfrm rot="16200000">
              <a:off x="5889600" y="3420360"/>
              <a:ext cx="647640" cy="2841840"/>
            </a:xfrm>
            <a:custGeom>
              <a:avLst/>
              <a:gdLst>
                <a:gd name="textAreaLeft" fmla="*/ 31320 w 647640"/>
                <a:gd name="textAreaRight" fmla="*/ 616320 w 647640"/>
                <a:gd name="textAreaTop" fmla="*/ 31320 h 2841840"/>
                <a:gd name="textAreaBottom" fmla="*/ 2810520 h 2841840"/>
              </a:gdLst>
              <a:ahLst/>
              <a:rect l="textAreaLeft" t="textAreaTop" r="textAreaRight" b="textAreaBottom"/>
              <a:pathLst>
                <a:path w="21600" h="94740">
                  <a:moveTo>
                    <a:pt x="3600" y="0"/>
                  </a:moveTo>
                  <a:arcTo wR="3600" hR="3600" stAng="16200000" swAng="-5400000"/>
                  <a:lnTo>
                    <a:pt x="0" y="91140"/>
                  </a:lnTo>
                  <a:arcTo wR="3600" hR="3600" stAng="10800000" swAng="-5400000"/>
                  <a:lnTo>
                    <a:pt x="18000" y="947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40"/>
            <p:cNvSpPr/>
            <p:nvPr/>
          </p:nvSpPr>
          <p:spPr>
            <a:xfrm>
              <a:off x="6445800" y="460908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协会、学生工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组合 7"/>
          <p:cNvGrpSpPr/>
          <p:nvPr/>
        </p:nvGrpSpPr>
        <p:grpSpPr>
          <a:xfrm>
            <a:off x="4788000" y="5511600"/>
            <a:ext cx="2843280" cy="647640"/>
            <a:chOff x="4788000" y="5511600"/>
            <a:chExt cx="2843280" cy="647640"/>
          </a:xfrm>
        </p:grpSpPr>
        <p:sp>
          <p:nvSpPr>
            <p:cNvPr id="131" name="AutoShape 112"/>
            <p:cNvSpPr/>
            <p:nvPr/>
          </p:nvSpPr>
          <p:spPr>
            <a:xfrm rot="16200000">
              <a:off x="5885640" y="4413600"/>
              <a:ext cx="647640" cy="2843280"/>
            </a:xfrm>
            <a:custGeom>
              <a:avLst/>
              <a:gdLst>
                <a:gd name="textAreaLeft" fmla="*/ 31320 w 647640"/>
                <a:gd name="textAreaRight" fmla="*/ 616320 w 647640"/>
                <a:gd name="textAreaTop" fmla="*/ 31320 h 2843280"/>
                <a:gd name="textAreaBottom" fmla="*/ 2811960 h 2843280"/>
              </a:gdLst>
              <a:ahLst/>
              <a:rect l="textAreaLeft" t="textAreaTop" r="textAreaRight" b="textAreaBottom"/>
              <a:pathLst>
                <a:path w="21600" h="94788">
                  <a:moveTo>
                    <a:pt x="3600" y="0"/>
                  </a:moveTo>
                  <a:arcTo wR="3600" hR="3600" stAng="16200000" swAng="-5400000"/>
                  <a:lnTo>
                    <a:pt x="0" y="91188"/>
                  </a:lnTo>
                  <a:arcTo wR="3600" hR="3600" stAng="10800000" swAng="-5400000"/>
                  <a:lnTo>
                    <a:pt x="18000" y="9478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54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42"/>
            <p:cNvSpPr/>
            <p:nvPr/>
          </p:nvSpPr>
          <p:spPr>
            <a:xfrm>
              <a:off x="6000840" y="5617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团队建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Picture 10" descr="C:\Users\TITAN\Desktop\新建文件夹\2006413161622724.png"/>
          <p:cNvPicPr/>
          <p:nvPr/>
        </p:nvPicPr>
        <p:blipFill>
          <a:blip r:embed="rId7"/>
          <a:stretch/>
        </p:blipFill>
        <p:spPr>
          <a:xfrm>
            <a:off x="4457880" y="1536840"/>
            <a:ext cx="718920" cy="720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C:\Users\TITAN\Desktop\新建文件夹\2006413161725253.png"/>
          <p:cNvPicPr/>
          <p:nvPr/>
        </p:nvPicPr>
        <p:blipFill>
          <a:blip r:embed="rId8"/>
          <a:stretch/>
        </p:blipFill>
        <p:spPr>
          <a:xfrm>
            <a:off x="4457880" y="2525760"/>
            <a:ext cx="718920" cy="718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C:\Users\TITAN\Desktop\新建文件夹\2006413161632268.png"/>
          <p:cNvPicPr/>
          <p:nvPr/>
        </p:nvPicPr>
        <p:blipFill>
          <a:blip r:embed="rId9"/>
          <a:stretch/>
        </p:blipFill>
        <p:spPr>
          <a:xfrm>
            <a:off x="4457880" y="3513240"/>
            <a:ext cx="718920" cy="720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C:\Users\TITAN\Desktop\新建文件夹\2006413161734397.png"/>
          <p:cNvPicPr/>
          <p:nvPr/>
        </p:nvPicPr>
        <p:blipFill>
          <a:blip r:embed="rId10"/>
          <a:stretch/>
        </p:blipFill>
        <p:spPr>
          <a:xfrm>
            <a:off x="4457880" y="450216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C:\Users\TITAN\Desktop\新建文件夹\2006413161643529.png"/>
          <p:cNvPicPr/>
          <p:nvPr/>
        </p:nvPicPr>
        <p:blipFill>
          <a:blip r:embed="rId11"/>
          <a:stretch/>
        </p:blipFill>
        <p:spPr>
          <a:xfrm>
            <a:off x="4457880" y="5489640"/>
            <a:ext cx="718920" cy="720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C:\Users\TITAN\Desktop\新建文件夹\2006413161740347.png"/>
          <p:cNvPicPr/>
          <p:nvPr/>
        </p:nvPicPr>
        <p:blipFill>
          <a:blip r:embed="rId12"/>
          <a:stretch/>
        </p:blipFill>
        <p:spPr>
          <a:xfrm>
            <a:off x="4457880" y="549360"/>
            <a:ext cx="718920" cy="718920"/>
          </a:xfrm>
          <a:prstGeom prst="rect">
            <a:avLst/>
          </a:prstGeom>
          <a:ln w="0">
            <a:noFill/>
          </a:ln>
        </p:spPr>
      </p:pic>
      <p:sp>
        <p:nvSpPr>
          <p:cNvPr id="139" name="Freeform 297"/>
          <p:cNvSpPr/>
          <p:nvPr/>
        </p:nvSpPr>
        <p:spPr>
          <a:xfrm>
            <a:off x="7451640" y="893880"/>
            <a:ext cx="1674720" cy="2286000"/>
          </a:xfrm>
          <a:custGeom>
            <a:avLst/>
            <a:gdLst>
              <a:gd name="textAreaLeft" fmla="*/ 0 w 1674720"/>
              <a:gd name="textAreaRight" fmla="*/ 1675080 w 16747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454" h="1222">
                <a:moveTo>
                  <a:pt x="0" y="0"/>
                </a:moveTo>
                <a:lnTo>
                  <a:pt x="322" y="0"/>
                </a:lnTo>
                <a:lnTo>
                  <a:pt x="1544" y="1222"/>
                </a:lnTo>
                <a:lnTo>
                  <a:pt x="2454" y="1222"/>
                </a:ln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2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53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04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17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75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18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656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19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847"/>
                            </p:stCondLst>
                            <p:childTnLst>
                              <p:par>
                                <p:cTn id="23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7" dur="500" fill="hold"/>
                                        <p:tgtEl>
                                          <p:spTgt spid="11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347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25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25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9" dur="500" fill="hold"/>
                                        <p:tgtEl>
                                          <p:spTgt spid="11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847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2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2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1" dur="500" fill="hold"/>
                                        <p:tgtEl>
                                          <p:spTgt spid="11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347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2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25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3" dur="500" fill="hold"/>
                                        <p:tgtEl>
                                          <p:spTgt spid="11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847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2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2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5" dur="500" fill="hold"/>
                                        <p:tgtEl>
                                          <p:spTgt spid="11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3347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25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7" dur="500" fill="hold"/>
                                        <p:tgtEl>
                                          <p:spTgt spid="11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847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2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25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59259E-006 L 0.24895 2.59259E-006 E">
                                      <p:cBhvr>
                                        <p:cTn id="311" dur="5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305"/>
          <p:cNvGrpSpPr/>
          <p:nvPr/>
        </p:nvGrpSpPr>
        <p:grpSpPr>
          <a:xfrm>
            <a:off x="2797200" y="4516560"/>
            <a:ext cx="3548160" cy="1979640"/>
            <a:chOff x="2797200" y="4516560"/>
            <a:chExt cx="3548160" cy="1979640"/>
          </a:xfrm>
        </p:grpSpPr>
        <p:sp>
          <p:nvSpPr>
            <p:cNvPr id="141" name="Freeform 21"/>
            <p:cNvSpPr/>
            <p:nvPr/>
          </p:nvSpPr>
          <p:spPr>
            <a:xfrm>
              <a:off x="2797200" y="4770720"/>
              <a:ext cx="3548160" cy="1725480"/>
            </a:xfrm>
            <a:custGeom>
              <a:avLst/>
              <a:gdLst>
                <a:gd name="textAreaLeft" fmla="*/ 0 w 3548160"/>
                <a:gd name="textAreaRight" fmla="*/ 3548520 w 3548160"/>
                <a:gd name="textAreaTop" fmla="*/ 0 h 1725480"/>
                <a:gd name="textAreaBottom" fmla="*/ 1725840 h 1725480"/>
              </a:gdLst>
              <a:ahLst/>
              <a:rect l="textAreaLeft" t="textAreaTop" r="textAreaRight" b="textAreaBottom"/>
              <a:pathLst>
                <a:path w="1594" h="776">
                  <a:moveTo>
                    <a:pt x="105" y="776"/>
                  </a:moveTo>
                  <a:cubicBezTo>
                    <a:pt x="100" y="776"/>
                    <a:pt x="95" y="776"/>
                    <a:pt x="91" y="774"/>
                  </a:cubicBezTo>
                  <a:cubicBezTo>
                    <a:pt x="86" y="772"/>
                    <a:pt x="82" y="770"/>
                    <a:pt x="79" y="767"/>
                  </a:cubicBezTo>
                  <a:cubicBezTo>
                    <a:pt x="75" y="764"/>
                    <a:pt x="72" y="761"/>
                    <a:pt x="70" y="757"/>
                  </a:cubicBezTo>
                  <a:cubicBezTo>
                    <a:pt x="68" y="753"/>
                    <a:pt x="66" y="749"/>
                    <a:pt x="66" y="744"/>
                  </a:cubicBezTo>
                  <a:cubicBezTo>
                    <a:pt x="1" y="38"/>
                    <a:pt x="1" y="38"/>
                    <a:pt x="1" y="38"/>
                  </a:cubicBezTo>
                  <a:cubicBezTo>
                    <a:pt x="0" y="33"/>
                    <a:pt x="1" y="28"/>
                    <a:pt x="2" y="23"/>
                  </a:cubicBezTo>
                  <a:cubicBezTo>
                    <a:pt x="4" y="19"/>
                    <a:pt x="7" y="15"/>
                    <a:pt x="10" y="11"/>
                  </a:cubicBezTo>
                  <a:cubicBezTo>
                    <a:pt x="13" y="8"/>
                    <a:pt x="17" y="5"/>
                    <a:pt x="22" y="3"/>
                  </a:cubicBezTo>
                  <a:cubicBezTo>
                    <a:pt x="26" y="1"/>
                    <a:pt x="31" y="0"/>
                    <a:pt x="37" y="0"/>
                  </a:cubicBezTo>
                  <a:cubicBezTo>
                    <a:pt x="1557" y="0"/>
                    <a:pt x="1557" y="0"/>
                    <a:pt x="1557" y="0"/>
                  </a:cubicBezTo>
                  <a:cubicBezTo>
                    <a:pt x="1563" y="0"/>
                    <a:pt x="1568" y="1"/>
                    <a:pt x="1572" y="3"/>
                  </a:cubicBezTo>
                  <a:cubicBezTo>
                    <a:pt x="1577" y="5"/>
                    <a:pt x="1581" y="8"/>
                    <a:pt x="1584" y="11"/>
                  </a:cubicBezTo>
                  <a:cubicBezTo>
                    <a:pt x="1587" y="15"/>
                    <a:pt x="1590" y="19"/>
                    <a:pt x="1591" y="23"/>
                  </a:cubicBezTo>
                  <a:cubicBezTo>
                    <a:pt x="1593" y="28"/>
                    <a:pt x="1594" y="33"/>
                    <a:pt x="1593" y="38"/>
                  </a:cubicBezTo>
                  <a:cubicBezTo>
                    <a:pt x="1528" y="744"/>
                    <a:pt x="1528" y="744"/>
                    <a:pt x="1528" y="744"/>
                  </a:cubicBezTo>
                  <a:cubicBezTo>
                    <a:pt x="1528" y="749"/>
                    <a:pt x="1526" y="753"/>
                    <a:pt x="1524" y="757"/>
                  </a:cubicBezTo>
                  <a:cubicBezTo>
                    <a:pt x="1522" y="761"/>
                    <a:pt x="1519" y="764"/>
                    <a:pt x="1515" y="767"/>
                  </a:cubicBezTo>
                  <a:cubicBezTo>
                    <a:pt x="1512" y="770"/>
                    <a:pt x="1508" y="772"/>
                    <a:pt x="1503" y="774"/>
                  </a:cubicBezTo>
                  <a:cubicBezTo>
                    <a:pt x="1499" y="776"/>
                    <a:pt x="1494" y="776"/>
                    <a:pt x="1489" y="776"/>
                  </a:cubicBezTo>
                  <a:lnTo>
                    <a:pt x="105" y="776"/>
                  </a:lnTo>
                  <a:close/>
                </a:path>
              </a:pathLst>
            </a:custGeom>
            <a:solidFill>
              <a:srgbClr val="0079c1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3"/>
            <p:cNvSpPr/>
            <p:nvPr/>
          </p:nvSpPr>
          <p:spPr>
            <a:xfrm>
              <a:off x="2824200" y="4516560"/>
              <a:ext cx="3494160" cy="274680"/>
            </a:xfrm>
            <a:custGeom>
              <a:avLst/>
              <a:gdLst>
                <a:gd name="textAreaLeft" fmla="*/ 0 w 3494160"/>
                <a:gd name="textAreaRight" fmla="*/ 3494520 w 34941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1570" h="123">
                  <a:moveTo>
                    <a:pt x="2" y="122"/>
                  </a:moveTo>
                  <a:cubicBezTo>
                    <a:pt x="4" y="120"/>
                    <a:pt x="6" y="119"/>
                    <a:pt x="9" y="118"/>
                  </a:cubicBezTo>
                  <a:cubicBezTo>
                    <a:pt x="11" y="116"/>
                    <a:pt x="14" y="116"/>
                    <a:pt x="16" y="115"/>
                  </a:cubicBezTo>
                  <a:cubicBezTo>
                    <a:pt x="19" y="114"/>
                    <a:pt x="22" y="114"/>
                    <a:pt x="25" y="114"/>
                  </a:cubicBezTo>
                  <a:cubicBezTo>
                    <a:pt x="1545" y="114"/>
                    <a:pt x="1545" y="114"/>
                    <a:pt x="1545" y="114"/>
                  </a:cubicBezTo>
                  <a:cubicBezTo>
                    <a:pt x="1548" y="114"/>
                    <a:pt x="1551" y="114"/>
                    <a:pt x="1554" y="115"/>
                  </a:cubicBezTo>
                  <a:cubicBezTo>
                    <a:pt x="1556" y="116"/>
                    <a:pt x="1559" y="116"/>
                    <a:pt x="1561" y="118"/>
                  </a:cubicBezTo>
                  <a:cubicBezTo>
                    <a:pt x="1564" y="119"/>
                    <a:pt x="1566" y="120"/>
                    <a:pt x="1568" y="122"/>
                  </a:cubicBezTo>
                  <a:cubicBezTo>
                    <a:pt x="1570" y="123"/>
                    <a:pt x="1510" y="50"/>
                    <a:pt x="1479" y="11"/>
                  </a:cubicBezTo>
                  <a:cubicBezTo>
                    <a:pt x="1477" y="9"/>
                    <a:pt x="1475" y="8"/>
                    <a:pt x="1474" y="6"/>
                  </a:cubicBezTo>
                  <a:cubicBezTo>
                    <a:pt x="1472" y="5"/>
                    <a:pt x="1470" y="4"/>
                    <a:pt x="1468" y="3"/>
                  </a:cubicBezTo>
                  <a:cubicBezTo>
                    <a:pt x="1466" y="2"/>
                    <a:pt x="1463" y="1"/>
                    <a:pt x="1461" y="0"/>
                  </a:cubicBezTo>
                  <a:cubicBezTo>
                    <a:pt x="1458" y="0"/>
                    <a:pt x="1456" y="0"/>
                    <a:pt x="1453" y="0"/>
                  </a:cubicBezTo>
                  <a:cubicBezTo>
                    <a:pt x="117" y="0"/>
                    <a:pt x="117" y="0"/>
                    <a:pt x="117" y="0"/>
                  </a:cubicBezTo>
                  <a:cubicBezTo>
                    <a:pt x="114" y="0"/>
                    <a:pt x="112" y="0"/>
                    <a:pt x="109" y="0"/>
                  </a:cubicBezTo>
                  <a:cubicBezTo>
                    <a:pt x="107" y="1"/>
                    <a:pt x="104" y="2"/>
                    <a:pt x="102" y="3"/>
                  </a:cubicBezTo>
                  <a:cubicBezTo>
                    <a:pt x="100" y="4"/>
                    <a:pt x="98" y="5"/>
                    <a:pt x="96" y="6"/>
                  </a:cubicBezTo>
                  <a:cubicBezTo>
                    <a:pt x="94" y="8"/>
                    <a:pt x="93" y="9"/>
                    <a:pt x="91" y="11"/>
                  </a:cubicBezTo>
                  <a:cubicBezTo>
                    <a:pt x="60" y="50"/>
                    <a:pt x="0" y="123"/>
                    <a:pt x="2" y="1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4"/>
            <p:cNvSpPr/>
            <p:nvPr/>
          </p:nvSpPr>
          <p:spPr>
            <a:xfrm>
              <a:off x="2824200" y="4516560"/>
              <a:ext cx="3494160" cy="274680"/>
            </a:xfrm>
            <a:custGeom>
              <a:avLst/>
              <a:gdLst>
                <a:gd name="textAreaLeft" fmla="*/ 0 w 3494160"/>
                <a:gd name="textAreaRight" fmla="*/ 3494520 w 34941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1570" h="123">
                  <a:moveTo>
                    <a:pt x="2" y="122"/>
                  </a:moveTo>
                  <a:cubicBezTo>
                    <a:pt x="4" y="120"/>
                    <a:pt x="6" y="119"/>
                    <a:pt x="9" y="118"/>
                  </a:cubicBezTo>
                  <a:cubicBezTo>
                    <a:pt x="11" y="116"/>
                    <a:pt x="14" y="116"/>
                    <a:pt x="16" y="115"/>
                  </a:cubicBezTo>
                  <a:cubicBezTo>
                    <a:pt x="19" y="114"/>
                    <a:pt x="22" y="114"/>
                    <a:pt x="25" y="114"/>
                  </a:cubicBezTo>
                  <a:cubicBezTo>
                    <a:pt x="1545" y="114"/>
                    <a:pt x="1545" y="114"/>
                    <a:pt x="1545" y="114"/>
                  </a:cubicBezTo>
                  <a:cubicBezTo>
                    <a:pt x="1548" y="114"/>
                    <a:pt x="1551" y="114"/>
                    <a:pt x="1554" y="115"/>
                  </a:cubicBezTo>
                  <a:cubicBezTo>
                    <a:pt x="1556" y="116"/>
                    <a:pt x="1559" y="116"/>
                    <a:pt x="1561" y="118"/>
                  </a:cubicBezTo>
                  <a:cubicBezTo>
                    <a:pt x="1564" y="119"/>
                    <a:pt x="1566" y="120"/>
                    <a:pt x="1568" y="122"/>
                  </a:cubicBezTo>
                  <a:cubicBezTo>
                    <a:pt x="1570" y="123"/>
                    <a:pt x="1510" y="50"/>
                    <a:pt x="1479" y="11"/>
                  </a:cubicBezTo>
                  <a:cubicBezTo>
                    <a:pt x="1477" y="9"/>
                    <a:pt x="1475" y="8"/>
                    <a:pt x="1474" y="6"/>
                  </a:cubicBezTo>
                  <a:cubicBezTo>
                    <a:pt x="1472" y="5"/>
                    <a:pt x="1470" y="4"/>
                    <a:pt x="1468" y="3"/>
                  </a:cubicBezTo>
                  <a:cubicBezTo>
                    <a:pt x="1466" y="2"/>
                    <a:pt x="1463" y="1"/>
                    <a:pt x="1461" y="0"/>
                  </a:cubicBezTo>
                  <a:cubicBezTo>
                    <a:pt x="1458" y="0"/>
                    <a:pt x="1456" y="0"/>
                    <a:pt x="1453" y="0"/>
                  </a:cubicBezTo>
                  <a:cubicBezTo>
                    <a:pt x="117" y="0"/>
                    <a:pt x="117" y="0"/>
                    <a:pt x="117" y="0"/>
                  </a:cubicBezTo>
                  <a:cubicBezTo>
                    <a:pt x="114" y="0"/>
                    <a:pt x="112" y="0"/>
                    <a:pt x="109" y="0"/>
                  </a:cubicBezTo>
                  <a:cubicBezTo>
                    <a:pt x="107" y="1"/>
                    <a:pt x="104" y="2"/>
                    <a:pt x="102" y="3"/>
                  </a:cubicBezTo>
                  <a:cubicBezTo>
                    <a:pt x="100" y="4"/>
                    <a:pt x="98" y="5"/>
                    <a:pt x="96" y="6"/>
                  </a:cubicBezTo>
                  <a:cubicBezTo>
                    <a:pt x="94" y="8"/>
                    <a:pt x="93" y="9"/>
                    <a:pt x="91" y="11"/>
                  </a:cubicBezTo>
                  <a:cubicBezTo>
                    <a:pt x="60" y="50"/>
                    <a:pt x="0" y="123"/>
                    <a:pt x="2" y="122"/>
                  </a:cubicBez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5"/>
            <p:cNvSpPr/>
            <p:nvPr/>
          </p:nvSpPr>
          <p:spPr>
            <a:xfrm>
              <a:off x="2824200" y="4516560"/>
              <a:ext cx="3494160" cy="274680"/>
            </a:xfrm>
            <a:custGeom>
              <a:avLst/>
              <a:gdLst>
                <a:gd name="textAreaLeft" fmla="*/ 0 w 3494160"/>
                <a:gd name="textAreaRight" fmla="*/ 3494520 w 34941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1570" h="123">
                  <a:moveTo>
                    <a:pt x="2" y="122"/>
                  </a:moveTo>
                  <a:cubicBezTo>
                    <a:pt x="4" y="120"/>
                    <a:pt x="6" y="119"/>
                    <a:pt x="9" y="118"/>
                  </a:cubicBezTo>
                  <a:cubicBezTo>
                    <a:pt x="11" y="116"/>
                    <a:pt x="14" y="116"/>
                    <a:pt x="16" y="115"/>
                  </a:cubicBezTo>
                  <a:cubicBezTo>
                    <a:pt x="19" y="114"/>
                    <a:pt x="22" y="114"/>
                    <a:pt x="25" y="114"/>
                  </a:cubicBezTo>
                  <a:cubicBezTo>
                    <a:pt x="1545" y="114"/>
                    <a:pt x="1545" y="114"/>
                    <a:pt x="1545" y="114"/>
                  </a:cubicBezTo>
                  <a:cubicBezTo>
                    <a:pt x="1548" y="114"/>
                    <a:pt x="1551" y="114"/>
                    <a:pt x="1554" y="115"/>
                  </a:cubicBezTo>
                  <a:cubicBezTo>
                    <a:pt x="1556" y="116"/>
                    <a:pt x="1559" y="116"/>
                    <a:pt x="1561" y="118"/>
                  </a:cubicBezTo>
                  <a:cubicBezTo>
                    <a:pt x="1564" y="119"/>
                    <a:pt x="1566" y="120"/>
                    <a:pt x="1568" y="122"/>
                  </a:cubicBezTo>
                  <a:cubicBezTo>
                    <a:pt x="1570" y="123"/>
                    <a:pt x="1510" y="50"/>
                    <a:pt x="1479" y="11"/>
                  </a:cubicBezTo>
                  <a:cubicBezTo>
                    <a:pt x="1477" y="9"/>
                    <a:pt x="1475" y="8"/>
                    <a:pt x="1474" y="6"/>
                  </a:cubicBezTo>
                  <a:cubicBezTo>
                    <a:pt x="1472" y="5"/>
                    <a:pt x="1470" y="4"/>
                    <a:pt x="1468" y="3"/>
                  </a:cubicBezTo>
                  <a:cubicBezTo>
                    <a:pt x="1466" y="2"/>
                    <a:pt x="1463" y="1"/>
                    <a:pt x="1461" y="0"/>
                  </a:cubicBezTo>
                  <a:cubicBezTo>
                    <a:pt x="1458" y="0"/>
                    <a:pt x="1456" y="0"/>
                    <a:pt x="1453" y="0"/>
                  </a:cubicBezTo>
                  <a:cubicBezTo>
                    <a:pt x="117" y="0"/>
                    <a:pt x="117" y="0"/>
                    <a:pt x="117" y="0"/>
                  </a:cubicBezTo>
                  <a:cubicBezTo>
                    <a:pt x="114" y="0"/>
                    <a:pt x="112" y="0"/>
                    <a:pt x="109" y="0"/>
                  </a:cubicBezTo>
                  <a:cubicBezTo>
                    <a:pt x="107" y="1"/>
                    <a:pt x="104" y="2"/>
                    <a:pt x="102" y="3"/>
                  </a:cubicBezTo>
                  <a:cubicBezTo>
                    <a:pt x="100" y="4"/>
                    <a:pt x="98" y="5"/>
                    <a:pt x="96" y="6"/>
                  </a:cubicBezTo>
                  <a:cubicBezTo>
                    <a:pt x="94" y="8"/>
                    <a:pt x="93" y="9"/>
                    <a:pt x="91" y="11"/>
                  </a:cubicBezTo>
                  <a:cubicBezTo>
                    <a:pt x="60" y="50"/>
                    <a:pt x="0" y="123"/>
                    <a:pt x="2" y="1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6"/>
            <p:cNvSpPr/>
            <p:nvPr/>
          </p:nvSpPr>
          <p:spPr>
            <a:xfrm>
              <a:off x="2824200" y="4516560"/>
              <a:ext cx="3494160" cy="274680"/>
            </a:xfrm>
            <a:custGeom>
              <a:avLst/>
              <a:gdLst>
                <a:gd name="textAreaLeft" fmla="*/ 0 w 3494160"/>
                <a:gd name="textAreaRight" fmla="*/ 3494520 w 34941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1570" h="123">
                  <a:moveTo>
                    <a:pt x="2" y="122"/>
                  </a:moveTo>
                  <a:cubicBezTo>
                    <a:pt x="4" y="120"/>
                    <a:pt x="6" y="119"/>
                    <a:pt x="9" y="118"/>
                  </a:cubicBezTo>
                  <a:cubicBezTo>
                    <a:pt x="11" y="116"/>
                    <a:pt x="14" y="116"/>
                    <a:pt x="16" y="115"/>
                  </a:cubicBezTo>
                  <a:cubicBezTo>
                    <a:pt x="19" y="114"/>
                    <a:pt x="22" y="114"/>
                    <a:pt x="25" y="114"/>
                  </a:cubicBezTo>
                  <a:cubicBezTo>
                    <a:pt x="1545" y="114"/>
                    <a:pt x="1545" y="114"/>
                    <a:pt x="1545" y="114"/>
                  </a:cubicBezTo>
                  <a:cubicBezTo>
                    <a:pt x="1548" y="114"/>
                    <a:pt x="1551" y="114"/>
                    <a:pt x="1554" y="115"/>
                  </a:cubicBezTo>
                  <a:cubicBezTo>
                    <a:pt x="1556" y="116"/>
                    <a:pt x="1559" y="116"/>
                    <a:pt x="1561" y="118"/>
                  </a:cubicBezTo>
                  <a:cubicBezTo>
                    <a:pt x="1564" y="119"/>
                    <a:pt x="1566" y="120"/>
                    <a:pt x="1568" y="122"/>
                  </a:cubicBezTo>
                  <a:cubicBezTo>
                    <a:pt x="1570" y="123"/>
                    <a:pt x="1510" y="50"/>
                    <a:pt x="1479" y="11"/>
                  </a:cubicBezTo>
                  <a:cubicBezTo>
                    <a:pt x="1477" y="9"/>
                    <a:pt x="1475" y="8"/>
                    <a:pt x="1474" y="6"/>
                  </a:cubicBezTo>
                  <a:cubicBezTo>
                    <a:pt x="1472" y="5"/>
                    <a:pt x="1470" y="4"/>
                    <a:pt x="1468" y="3"/>
                  </a:cubicBezTo>
                  <a:cubicBezTo>
                    <a:pt x="1466" y="2"/>
                    <a:pt x="1463" y="1"/>
                    <a:pt x="1461" y="0"/>
                  </a:cubicBezTo>
                  <a:cubicBezTo>
                    <a:pt x="1458" y="0"/>
                    <a:pt x="1456" y="0"/>
                    <a:pt x="1453" y="0"/>
                  </a:cubicBezTo>
                  <a:cubicBezTo>
                    <a:pt x="117" y="0"/>
                    <a:pt x="117" y="0"/>
                    <a:pt x="117" y="0"/>
                  </a:cubicBezTo>
                  <a:cubicBezTo>
                    <a:pt x="114" y="0"/>
                    <a:pt x="112" y="0"/>
                    <a:pt x="109" y="0"/>
                  </a:cubicBezTo>
                  <a:cubicBezTo>
                    <a:pt x="107" y="1"/>
                    <a:pt x="104" y="2"/>
                    <a:pt x="102" y="3"/>
                  </a:cubicBezTo>
                  <a:cubicBezTo>
                    <a:pt x="100" y="4"/>
                    <a:pt x="98" y="5"/>
                    <a:pt x="96" y="6"/>
                  </a:cubicBezTo>
                  <a:cubicBezTo>
                    <a:pt x="94" y="8"/>
                    <a:pt x="93" y="9"/>
                    <a:pt x="91" y="11"/>
                  </a:cubicBezTo>
                  <a:cubicBezTo>
                    <a:pt x="60" y="50"/>
                    <a:pt x="0" y="123"/>
                    <a:pt x="2" y="1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7"/>
            <p:cNvSpPr/>
            <p:nvPr/>
          </p:nvSpPr>
          <p:spPr>
            <a:xfrm>
              <a:off x="2824200" y="4516560"/>
              <a:ext cx="3494160" cy="274680"/>
            </a:xfrm>
            <a:custGeom>
              <a:avLst/>
              <a:gdLst>
                <a:gd name="textAreaLeft" fmla="*/ 0 w 3494160"/>
                <a:gd name="textAreaRight" fmla="*/ 3494520 w 34941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1570" h="123">
                  <a:moveTo>
                    <a:pt x="2" y="122"/>
                  </a:moveTo>
                  <a:cubicBezTo>
                    <a:pt x="4" y="120"/>
                    <a:pt x="6" y="119"/>
                    <a:pt x="9" y="118"/>
                  </a:cubicBezTo>
                  <a:cubicBezTo>
                    <a:pt x="11" y="116"/>
                    <a:pt x="14" y="116"/>
                    <a:pt x="16" y="115"/>
                  </a:cubicBezTo>
                  <a:cubicBezTo>
                    <a:pt x="19" y="114"/>
                    <a:pt x="22" y="114"/>
                    <a:pt x="25" y="114"/>
                  </a:cubicBezTo>
                  <a:cubicBezTo>
                    <a:pt x="1545" y="114"/>
                    <a:pt x="1545" y="114"/>
                    <a:pt x="1545" y="114"/>
                  </a:cubicBezTo>
                  <a:cubicBezTo>
                    <a:pt x="1548" y="114"/>
                    <a:pt x="1551" y="114"/>
                    <a:pt x="1554" y="115"/>
                  </a:cubicBezTo>
                  <a:cubicBezTo>
                    <a:pt x="1556" y="116"/>
                    <a:pt x="1559" y="116"/>
                    <a:pt x="1561" y="118"/>
                  </a:cubicBezTo>
                  <a:cubicBezTo>
                    <a:pt x="1564" y="119"/>
                    <a:pt x="1566" y="120"/>
                    <a:pt x="1568" y="122"/>
                  </a:cubicBezTo>
                  <a:cubicBezTo>
                    <a:pt x="1570" y="123"/>
                    <a:pt x="1510" y="50"/>
                    <a:pt x="1479" y="11"/>
                  </a:cubicBezTo>
                  <a:cubicBezTo>
                    <a:pt x="1477" y="9"/>
                    <a:pt x="1475" y="8"/>
                    <a:pt x="1474" y="6"/>
                  </a:cubicBezTo>
                  <a:cubicBezTo>
                    <a:pt x="1472" y="5"/>
                    <a:pt x="1470" y="4"/>
                    <a:pt x="1468" y="3"/>
                  </a:cubicBezTo>
                  <a:cubicBezTo>
                    <a:pt x="1466" y="2"/>
                    <a:pt x="1463" y="1"/>
                    <a:pt x="1461" y="0"/>
                  </a:cubicBezTo>
                  <a:cubicBezTo>
                    <a:pt x="1458" y="0"/>
                    <a:pt x="1456" y="0"/>
                    <a:pt x="1453" y="0"/>
                  </a:cubicBezTo>
                  <a:cubicBezTo>
                    <a:pt x="117" y="0"/>
                    <a:pt x="117" y="0"/>
                    <a:pt x="117" y="0"/>
                  </a:cubicBezTo>
                  <a:cubicBezTo>
                    <a:pt x="114" y="0"/>
                    <a:pt x="112" y="0"/>
                    <a:pt x="109" y="0"/>
                  </a:cubicBezTo>
                  <a:cubicBezTo>
                    <a:pt x="107" y="1"/>
                    <a:pt x="104" y="2"/>
                    <a:pt x="102" y="3"/>
                  </a:cubicBezTo>
                  <a:cubicBezTo>
                    <a:pt x="100" y="4"/>
                    <a:pt x="98" y="5"/>
                    <a:pt x="96" y="6"/>
                  </a:cubicBezTo>
                  <a:cubicBezTo>
                    <a:pt x="94" y="8"/>
                    <a:pt x="93" y="9"/>
                    <a:pt x="91" y="11"/>
                  </a:cubicBezTo>
                  <a:cubicBezTo>
                    <a:pt x="60" y="50"/>
                    <a:pt x="0" y="123"/>
                    <a:pt x="2" y="1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303"/>
          <p:cNvGrpSpPr/>
          <p:nvPr/>
        </p:nvGrpSpPr>
        <p:grpSpPr>
          <a:xfrm>
            <a:off x="2797200" y="374760"/>
            <a:ext cx="3548160" cy="1981080"/>
            <a:chOff x="2797200" y="374760"/>
            <a:chExt cx="3548160" cy="1981080"/>
          </a:xfrm>
        </p:grpSpPr>
        <p:sp>
          <p:nvSpPr>
            <p:cNvPr id="148" name="Freeform 18"/>
            <p:cNvSpPr/>
            <p:nvPr/>
          </p:nvSpPr>
          <p:spPr>
            <a:xfrm>
              <a:off x="2797200" y="374760"/>
              <a:ext cx="3548160" cy="1725480"/>
            </a:xfrm>
            <a:custGeom>
              <a:avLst/>
              <a:gdLst>
                <a:gd name="textAreaLeft" fmla="*/ 0 w 3548160"/>
                <a:gd name="textAreaRight" fmla="*/ 3548520 w 3548160"/>
                <a:gd name="textAreaTop" fmla="*/ 0 h 1725480"/>
                <a:gd name="textAreaBottom" fmla="*/ 1725840 h 1725480"/>
              </a:gdLst>
              <a:ahLst/>
              <a:rect l="textAreaLeft" t="textAreaTop" r="textAreaRight" b="textAreaBottom"/>
              <a:pathLst>
                <a:path w="1594" h="776">
                  <a:moveTo>
                    <a:pt x="1489" y="0"/>
                  </a:moveTo>
                  <a:cubicBezTo>
                    <a:pt x="1494" y="0"/>
                    <a:pt x="1499" y="1"/>
                    <a:pt x="1503" y="2"/>
                  </a:cubicBezTo>
                  <a:cubicBezTo>
                    <a:pt x="1508" y="4"/>
                    <a:pt x="1512" y="6"/>
                    <a:pt x="1515" y="9"/>
                  </a:cubicBezTo>
                  <a:cubicBezTo>
                    <a:pt x="1519" y="12"/>
                    <a:pt x="1522" y="15"/>
                    <a:pt x="1524" y="19"/>
                  </a:cubicBezTo>
                  <a:cubicBezTo>
                    <a:pt x="1526" y="23"/>
                    <a:pt x="1528" y="27"/>
                    <a:pt x="1528" y="32"/>
                  </a:cubicBezTo>
                  <a:cubicBezTo>
                    <a:pt x="1593" y="738"/>
                    <a:pt x="1593" y="738"/>
                    <a:pt x="1593" y="738"/>
                  </a:cubicBezTo>
                  <a:cubicBezTo>
                    <a:pt x="1594" y="743"/>
                    <a:pt x="1593" y="748"/>
                    <a:pt x="1592" y="753"/>
                  </a:cubicBezTo>
                  <a:cubicBezTo>
                    <a:pt x="1590" y="757"/>
                    <a:pt x="1587" y="762"/>
                    <a:pt x="1584" y="765"/>
                  </a:cubicBezTo>
                  <a:cubicBezTo>
                    <a:pt x="1581" y="768"/>
                    <a:pt x="1577" y="771"/>
                    <a:pt x="1572" y="773"/>
                  </a:cubicBezTo>
                  <a:cubicBezTo>
                    <a:pt x="1568" y="775"/>
                    <a:pt x="1563" y="776"/>
                    <a:pt x="1557" y="776"/>
                  </a:cubicBezTo>
                  <a:cubicBezTo>
                    <a:pt x="37" y="776"/>
                    <a:pt x="37" y="776"/>
                    <a:pt x="37" y="776"/>
                  </a:cubicBezTo>
                  <a:cubicBezTo>
                    <a:pt x="31" y="776"/>
                    <a:pt x="26" y="775"/>
                    <a:pt x="22" y="773"/>
                  </a:cubicBezTo>
                  <a:cubicBezTo>
                    <a:pt x="17" y="771"/>
                    <a:pt x="13" y="768"/>
                    <a:pt x="10" y="765"/>
                  </a:cubicBezTo>
                  <a:cubicBezTo>
                    <a:pt x="7" y="762"/>
                    <a:pt x="4" y="757"/>
                    <a:pt x="2" y="753"/>
                  </a:cubicBezTo>
                  <a:cubicBezTo>
                    <a:pt x="1" y="748"/>
                    <a:pt x="0" y="743"/>
                    <a:pt x="1" y="738"/>
                  </a:cubicBezTo>
                  <a:cubicBezTo>
                    <a:pt x="66" y="32"/>
                    <a:pt x="66" y="32"/>
                    <a:pt x="66" y="32"/>
                  </a:cubicBezTo>
                  <a:cubicBezTo>
                    <a:pt x="66" y="27"/>
                    <a:pt x="68" y="23"/>
                    <a:pt x="70" y="19"/>
                  </a:cubicBezTo>
                  <a:cubicBezTo>
                    <a:pt x="72" y="15"/>
                    <a:pt x="75" y="12"/>
                    <a:pt x="79" y="9"/>
                  </a:cubicBezTo>
                  <a:cubicBezTo>
                    <a:pt x="82" y="6"/>
                    <a:pt x="86" y="4"/>
                    <a:pt x="91" y="2"/>
                  </a:cubicBezTo>
                  <a:cubicBezTo>
                    <a:pt x="95" y="1"/>
                    <a:pt x="100" y="0"/>
                    <a:pt x="105" y="0"/>
                  </a:cubicBezTo>
                  <a:lnTo>
                    <a:pt x="1489" y="0"/>
                  </a:lnTo>
                  <a:close/>
                </a:path>
              </a:pathLst>
            </a:custGeom>
            <a:solidFill>
              <a:srgbClr val="0079c1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0"/>
            <p:cNvSpPr/>
            <p:nvPr/>
          </p:nvSpPr>
          <p:spPr>
            <a:xfrm>
              <a:off x="2824200" y="2079720"/>
              <a:ext cx="3494160" cy="276120"/>
            </a:xfrm>
            <a:custGeom>
              <a:avLst/>
              <a:gdLst>
                <a:gd name="textAreaLeft" fmla="*/ 0 w 3494160"/>
                <a:gd name="textAreaRight" fmla="*/ 3494520 w 349416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570" h="124">
                  <a:moveTo>
                    <a:pt x="1568" y="2"/>
                  </a:moveTo>
                  <a:cubicBezTo>
                    <a:pt x="1566" y="3"/>
                    <a:pt x="1564" y="5"/>
                    <a:pt x="1561" y="6"/>
                  </a:cubicBezTo>
                  <a:cubicBezTo>
                    <a:pt x="1559" y="7"/>
                    <a:pt x="1556" y="8"/>
                    <a:pt x="1554" y="8"/>
                  </a:cubicBezTo>
                  <a:cubicBezTo>
                    <a:pt x="1551" y="9"/>
                    <a:pt x="1548" y="9"/>
                    <a:pt x="1545" y="9"/>
                  </a:cubicBezTo>
                  <a:cubicBezTo>
                    <a:pt x="25" y="9"/>
                    <a:pt x="25" y="9"/>
                    <a:pt x="25" y="9"/>
                  </a:cubicBezTo>
                  <a:cubicBezTo>
                    <a:pt x="22" y="9"/>
                    <a:pt x="19" y="9"/>
                    <a:pt x="16" y="8"/>
                  </a:cubicBezTo>
                  <a:cubicBezTo>
                    <a:pt x="14" y="8"/>
                    <a:pt x="11" y="7"/>
                    <a:pt x="9" y="6"/>
                  </a:cubicBezTo>
                  <a:cubicBezTo>
                    <a:pt x="6" y="5"/>
                    <a:pt x="4" y="3"/>
                    <a:pt x="2" y="2"/>
                  </a:cubicBezTo>
                  <a:cubicBezTo>
                    <a:pt x="0" y="0"/>
                    <a:pt x="60" y="73"/>
                    <a:pt x="91" y="112"/>
                  </a:cubicBezTo>
                  <a:cubicBezTo>
                    <a:pt x="93" y="114"/>
                    <a:pt x="94" y="115"/>
                    <a:pt x="96" y="117"/>
                  </a:cubicBezTo>
                  <a:cubicBezTo>
                    <a:pt x="98" y="118"/>
                    <a:pt x="100" y="120"/>
                    <a:pt x="102" y="121"/>
                  </a:cubicBezTo>
                  <a:cubicBezTo>
                    <a:pt x="104" y="122"/>
                    <a:pt x="107" y="122"/>
                    <a:pt x="109" y="123"/>
                  </a:cubicBezTo>
                  <a:cubicBezTo>
                    <a:pt x="112" y="123"/>
                    <a:pt x="114" y="124"/>
                    <a:pt x="117" y="124"/>
                  </a:cubicBezTo>
                  <a:cubicBezTo>
                    <a:pt x="1453" y="124"/>
                    <a:pt x="1453" y="124"/>
                    <a:pt x="1453" y="124"/>
                  </a:cubicBezTo>
                  <a:cubicBezTo>
                    <a:pt x="1456" y="124"/>
                    <a:pt x="1458" y="123"/>
                    <a:pt x="1461" y="123"/>
                  </a:cubicBezTo>
                  <a:cubicBezTo>
                    <a:pt x="1463" y="122"/>
                    <a:pt x="1466" y="122"/>
                    <a:pt x="1468" y="121"/>
                  </a:cubicBezTo>
                  <a:cubicBezTo>
                    <a:pt x="1470" y="120"/>
                    <a:pt x="1472" y="118"/>
                    <a:pt x="1474" y="117"/>
                  </a:cubicBezTo>
                  <a:cubicBezTo>
                    <a:pt x="1475" y="115"/>
                    <a:pt x="1477" y="114"/>
                    <a:pt x="1479" y="112"/>
                  </a:cubicBezTo>
                  <a:cubicBezTo>
                    <a:pt x="1510" y="73"/>
                    <a:pt x="1570" y="0"/>
                    <a:pt x="1568" y="2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Freeform 301"/>
          <p:cNvSpPr/>
          <p:nvPr/>
        </p:nvSpPr>
        <p:spPr>
          <a:xfrm>
            <a:off x="2951280" y="2573280"/>
            <a:ext cx="3240000" cy="1708200"/>
          </a:xfrm>
          <a:custGeom>
            <a:avLst/>
            <a:gdLst>
              <a:gd name="textAreaLeft" fmla="*/ 0 w 3240000"/>
              <a:gd name="textAreaRight" fmla="*/ 3240360 w 3240000"/>
              <a:gd name="textAreaTop" fmla="*/ 0 h 1708200"/>
              <a:gd name="textAreaBottom" fmla="*/ 1708560 h 1708200"/>
            </a:gdLst>
            <a:ahLst/>
            <a:rect l="textAreaLeft" t="textAreaTop" r="textAreaRight" b="textAreaBottom"/>
            <a:pathLst>
              <a:path w="2041" h="1076">
                <a:moveTo>
                  <a:pt x="2041" y="1076"/>
                </a:moveTo>
                <a:lnTo>
                  <a:pt x="2041" y="1076"/>
                </a:lnTo>
                <a:lnTo>
                  <a:pt x="0" y="1076"/>
                </a:lnTo>
                <a:lnTo>
                  <a:pt x="0" y="0"/>
                </a:lnTo>
                <a:lnTo>
                  <a:pt x="2041" y="0"/>
                </a:lnTo>
                <a:lnTo>
                  <a:pt x="2041" y="1076"/>
                </a:lnTo>
                <a:close/>
              </a:path>
            </a:pathLst>
          </a:custGeom>
          <a:solidFill>
            <a:srgbClr val="0079c5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9"/>
          <p:cNvSpPr/>
          <p:nvPr/>
        </p:nvSpPr>
        <p:spPr>
          <a:xfrm>
            <a:off x="1801800" y="3425760"/>
            <a:ext cx="1440" cy="835200"/>
          </a:xfrm>
          <a:custGeom>
            <a:avLst/>
            <a:gdLst>
              <a:gd name="textAreaLeft" fmla="*/ 0 w 1440"/>
              <a:gd name="textAreaRight" fmla="*/ 1800 w 14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1587" h="526">
                <a:moveTo>
                  <a:pt x="0" y="526"/>
                </a:moveTo>
                <a:lnTo>
                  <a:pt x="0" y="0"/>
                </a:lnTo>
                <a:lnTo>
                  <a:pt x="0" y="526"/>
                </a:lnTo>
                <a:close/>
              </a:path>
            </a:pathLst>
          </a:custGeom>
          <a:solidFill>
            <a:srgbClr val="007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0"/>
          <p:cNvSpPr/>
          <p:nvPr/>
        </p:nvSpPr>
        <p:spPr>
          <a:xfrm flipV="1">
            <a:off x="2879640" y="3427200"/>
            <a:ext cx="1800" cy="834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"/>
          <p:cNvSpPr/>
          <p:nvPr/>
        </p:nvSpPr>
        <p:spPr>
          <a:xfrm>
            <a:off x="2879640" y="4260960"/>
            <a:ext cx="3382920" cy="91800"/>
          </a:xfrm>
          <a:custGeom>
            <a:avLst/>
            <a:gdLst>
              <a:gd name="textAreaLeft" fmla="*/ 0 w 3382920"/>
              <a:gd name="textAreaRight" fmla="*/ 3383280 w 338292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1520" h="41">
                <a:moveTo>
                  <a:pt x="1520" y="0"/>
                </a:moveTo>
                <a:cubicBezTo>
                  <a:pt x="1520" y="9"/>
                  <a:pt x="1520" y="9"/>
                  <a:pt x="1520" y="9"/>
                </a:cubicBezTo>
                <a:cubicBezTo>
                  <a:pt x="1520" y="26"/>
                  <a:pt x="1506" y="41"/>
                  <a:pt x="1488" y="41"/>
                </a:cubicBezTo>
                <a:cubicBezTo>
                  <a:pt x="32" y="41"/>
                  <a:pt x="32" y="41"/>
                  <a:pt x="32" y="41"/>
                </a:cubicBezTo>
                <a:cubicBezTo>
                  <a:pt x="14" y="41"/>
                  <a:pt x="0" y="26"/>
                  <a:pt x="0" y="9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3"/>
          <p:cNvSpPr/>
          <p:nvPr/>
        </p:nvSpPr>
        <p:spPr>
          <a:xfrm>
            <a:off x="2967120" y="2502000"/>
            <a:ext cx="3297240" cy="1779480"/>
          </a:xfrm>
          <a:custGeom>
            <a:avLst/>
            <a:gdLst>
              <a:gd name="textAreaLeft" fmla="*/ 0 w 3297240"/>
              <a:gd name="textAreaRight" fmla="*/ 3297600 w 3297240"/>
              <a:gd name="textAreaTop" fmla="*/ 0 h 1779480"/>
              <a:gd name="textAreaBottom" fmla="*/ 1779840 h 1779480"/>
            </a:gdLst>
            <a:ahLst/>
            <a:rect l="textAreaLeft" t="textAreaTop" r="textAreaRight" b="textAreaBottom"/>
            <a:pathLst>
              <a:path w="2077" h="1121">
                <a:moveTo>
                  <a:pt x="0" y="0"/>
                </a:moveTo>
                <a:cubicBezTo>
                  <a:pt x="2031" y="0"/>
                  <a:pt x="2031" y="0"/>
                  <a:pt x="2031" y="0"/>
                </a:cubicBezTo>
                <a:cubicBezTo>
                  <a:pt x="2056" y="0"/>
                  <a:pt x="2076" y="20"/>
                  <a:pt x="2076" y="45"/>
                </a:cubicBezTo>
                <a:cubicBezTo>
                  <a:pt x="2076" y="1108"/>
                  <a:pt x="2077" y="1121"/>
                  <a:pt x="2077" y="1121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5"/>
          <p:cNvSpPr/>
          <p:nvPr/>
        </p:nvSpPr>
        <p:spPr>
          <a:xfrm>
            <a:off x="2879640" y="2503440"/>
            <a:ext cx="87480" cy="924120"/>
          </a:xfrm>
          <a:custGeom>
            <a:avLst/>
            <a:gdLst>
              <a:gd name="textAreaLeft" fmla="*/ 0 w 87480"/>
              <a:gd name="textAreaRight" fmla="*/ 87840 w 87480"/>
              <a:gd name="textAreaTop" fmla="*/ 0 h 924120"/>
              <a:gd name="textAreaBottom" fmla="*/ 924480 h 924120"/>
            </a:gdLst>
            <a:ahLst/>
            <a:rect l="textAreaLeft" t="textAreaTop" r="textAreaRight" b="textAreaBottom"/>
            <a:pathLst>
              <a:path w="39" h="415">
                <a:moveTo>
                  <a:pt x="0" y="415"/>
                </a:moveTo>
                <a:cubicBezTo>
                  <a:pt x="0" y="32"/>
                  <a:pt x="0" y="32"/>
                  <a:pt x="0" y="32"/>
                </a:cubicBezTo>
                <a:cubicBezTo>
                  <a:pt x="0" y="14"/>
                  <a:pt x="14" y="0"/>
                  <a:pt x="32" y="0"/>
                </a:cubicBezTo>
                <a:cubicBezTo>
                  <a:pt x="39" y="0"/>
                  <a:pt x="39" y="0"/>
                  <a:pt x="39" y="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34"/>
          <p:cNvSpPr/>
          <p:nvPr/>
        </p:nvSpPr>
        <p:spPr>
          <a:xfrm>
            <a:off x="2813040" y="1150920"/>
            <a:ext cx="3240" cy="1440"/>
          </a:xfrm>
          <a:custGeom>
            <a:avLst/>
            <a:gdLst>
              <a:gd name="textAreaLeft" fmla="*/ 0 w 3240"/>
              <a:gd name="textAreaRight" fmla="*/ 3600 w 3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" h="1587">
                <a:moveTo>
                  <a:pt x="2" y="0"/>
                </a:moveTo>
                <a:cubicBezTo>
                  <a:pt x="2" y="0"/>
                  <a:pt x="2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7"/>
          <p:cNvSpPr/>
          <p:nvPr/>
        </p:nvSpPr>
        <p:spPr>
          <a:xfrm>
            <a:off x="4284720" y="1152360"/>
            <a:ext cx="9360" cy="1800"/>
          </a:xfrm>
          <a:custGeom>
            <a:avLst/>
            <a:gdLst>
              <a:gd name="textAreaLeft" fmla="*/ 0 w 9360"/>
              <a:gd name="textAreaRight" fmla="*/ 9720 w 93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" h="1588">
                <a:moveTo>
                  <a:pt x="0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2" y="0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3" y="0"/>
                  <a:pt x="4" y="0"/>
                </a:cubicBez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9"/>
          <p:cNvSpPr/>
          <p:nvPr/>
        </p:nvSpPr>
        <p:spPr>
          <a:xfrm>
            <a:off x="4668840" y="1155600"/>
            <a:ext cx="1440" cy="1800"/>
          </a:xfrm>
          <a:custGeom>
            <a:avLst/>
            <a:gdLst>
              <a:gd name="textAreaLeft" fmla="*/ 0 w 1440"/>
              <a:gd name="textAreaRight" fmla="*/ 1800 w 14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" h="1588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40"/>
          <p:cNvSpPr/>
          <p:nvPr/>
        </p:nvSpPr>
        <p:spPr>
          <a:xfrm>
            <a:off x="2948040" y="1168560"/>
            <a:ext cx="4680" cy="1440"/>
          </a:xfrm>
          <a:custGeom>
            <a:avLst/>
            <a:gdLst>
              <a:gd name="textAreaLeft" fmla="*/ 0 w 4680"/>
              <a:gd name="textAreaRight" fmla="*/ 5040 w 46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" h="1588">
                <a:moveTo>
                  <a:pt x="2" y="0"/>
                </a:moveTo>
                <a:cubicBezTo>
                  <a:pt x="2" y="0"/>
                  <a:pt x="2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43"/>
          <p:cNvSpPr/>
          <p:nvPr/>
        </p:nvSpPr>
        <p:spPr>
          <a:xfrm>
            <a:off x="3244680" y="117144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1588">
                <a:moveTo>
                  <a:pt x="2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45"/>
          <p:cNvSpPr/>
          <p:nvPr/>
        </p:nvSpPr>
        <p:spPr>
          <a:xfrm>
            <a:off x="3890880" y="1173240"/>
            <a:ext cx="4680" cy="1440"/>
          </a:xfrm>
          <a:custGeom>
            <a:avLst/>
            <a:gdLst>
              <a:gd name="textAreaLeft" fmla="*/ 0 w 4680"/>
              <a:gd name="textAreaRight" fmla="*/ 5040 w 46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" h="1587">
                <a:moveTo>
                  <a:pt x="0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54"/>
          <p:cNvSpPr/>
          <p:nvPr/>
        </p:nvSpPr>
        <p:spPr>
          <a:xfrm>
            <a:off x="4826160" y="117324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588" h="1587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55"/>
          <p:cNvSpPr/>
          <p:nvPr/>
        </p:nvSpPr>
        <p:spPr>
          <a:xfrm>
            <a:off x="4433760" y="117792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587" h="1588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87"/>
          <p:cNvSpPr/>
          <p:nvPr/>
        </p:nvSpPr>
        <p:spPr>
          <a:xfrm>
            <a:off x="2808360" y="1273320"/>
            <a:ext cx="4680" cy="1440"/>
          </a:xfrm>
          <a:custGeom>
            <a:avLst/>
            <a:gdLst>
              <a:gd name="textAreaLeft" fmla="*/ 0 w 4680"/>
              <a:gd name="textAreaRight" fmla="*/ 5040 w 46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" h="1588">
                <a:moveTo>
                  <a:pt x="2" y="0"/>
                </a:moveTo>
                <a:cubicBezTo>
                  <a:pt x="2" y="0"/>
                  <a:pt x="2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88"/>
          <p:cNvSpPr/>
          <p:nvPr/>
        </p:nvSpPr>
        <p:spPr>
          <a:xfrm>
            <a:off x="3090960" y="1273320"/>
            <a:ext cx="7920" cy="1440"/>
          </a:xfrm>
          <a:custGeom>
            <a:avLst/>
            <a:gdLst>
              <a:gd name="textAreaLeft" fmla="*/ 0 w 7920"/>
              <a:gd name="textAreaRight" fmla="*/ 8280 w 79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" h="1588">
                <a:moveTo>
                  <a:pt x="4" y="0"/>
                </a:move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  <a:cubicBezTo>
                  <a:pt x="1" y="0"/>
                  <a:pt x="2" y="0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3" y="0"/>
                  <a:pt x="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102"/>
          <p:cNvSpPr/>
          <p:nvPr/>
        </p:nvSpPr>
        <p:spPr>
          <a:xfrm>
            <a:off x="4832280" y="1278000"/>
            <a:ext cx="3240" cy="1440"/>
          </a:xfrm>
          <a:custGeom>
            <a:avLst/>
            <a:gdLst>
              <a:gd name="textAreaLeft" fmla="*/ 0 w 3240"/>
              <a:gd name="textAreaRight" fmla="*/ 3600 w 3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1587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16"/>
          <p:cNvSpPr/>
          <p:nvPr/>
        </p:nvSpPr>
        <p:spPr>
          <a:xfrm>
            <a:off x="4511520" y="1295280"/>
            <a:ext cx="7920" cy="1800"/>
          </a:xfrm>
          <a:custGeom>
            <a:avLst/>
            <a:gdLst>
              <a:gd name="textAreaLeft" fmla="*/ 0 w 7920"/>
              <a:gd name="textAreaRight" fmla="*/ 8280 w 79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3" h="1588">
                <a:moveTo>
                  <a:pt x="0" y="0"/>
                </a:moveTo>
                <a:cubicBezTo>
                  <a:pt x="0" y="0"/>
                  <a:pt x="0" y="0"/>
                  <a:pt x="1" y="0"/>
                </a:cubicBezTo>
                <a:cubicBezTo>
                  <a:pt x="1" y="0"/>
                  <a:pt x="1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17"/>
          <p:cNvSpPr/>
          <p:nvPr/>
        </p:nvSpPr>
        <p:spPr>
          <a:xfrm>
            <a:off x="4676760" y="1297080"/>
            <a:ext cx="4680" cy="1440"/>
          </a:xfrm>
          <a:custGeom>
            <a:avLst/>
            <a:gdLst>
              <a:gd name="textAreaLeft" fmla="*/ 0 w 4680"/>
              <a:gd name="textAreaRight" fmla="*/ 5040 w 46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" h="1587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22"/>
          <p:cNvSpPr/>
          <p:nvPr/>
        </p:nvSpPr>
        <p:spPr>
          <a:xfrm>
            <a:off x="2583000" y="1123920"/>
            <a:ext cx="6120" cy="1440"/>
          </a:xfrm>
          <a:custGeom>
            <a:avLst/>
            <a:gdLst>
              <a:gd name="textAreaLeft" fmla="*/ 0 w 6120"/>
              <a:gd name="textAreaRight" fmla="*/ 6480 w 61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" h="1588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  <a:cubicBezTo>
                  <a:pt x="1" y="0"/>
                  <a:pt x="2" y="0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67"/>
          <p:cNvSpPr/>
          <p:nvPr/>
        </p:nvSpPr>
        <p:spPr>
          <a:xfrm>
            <a:off x="3691080" y="5697360"/>
            <a:ext cx="1440" cy="1800"/>
          </a:xfrm>
          <a:custGeom>
            <a:avLst/>
            <a:gdLst>
              <a:gd name="textAreaLeft" fmla="*/ 0 w 1440"/>
              <a:gd name="textAreaRight" fmla="*/ 1800 w 14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587" h="1587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80"/>
          <p:cNvSpPr/>
          <p:nvPr/>
        </p:nvSpPr>
        <p:spPr>
          <a:xfrm>
            <a:off x="4376880" y="568656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1588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214"/>
          <p:cNvSpPr/>
          <p:nvPr/>
        </p:nvSpPr>
        <p:spPr>
          <a:xfrm>
            <a:off x="4862520" y="5634000"/>
            <a:ext cx="1440" cy="6480"/>
          </a:xfrm>
          <a:custGeom>
            <a:avLst/>
            <a:gdLst>
              <a:gd name="textAreaLeft" fmla="*/ 0 w 1440"/>
              <a:gd name="textAreaRight" fmla="*/ 1800 w 144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1587" h="3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3"/>
                  <a:pt x="0" y="3"/>
                </a:cubicBezTo>
                <a:cubicBezTo>
                  <a:pt x="0" y="3"/>
                  <a:pt x="0" y="2"/>
                  <a:pt x="0" y="2"/>
                </a:cubicBezTo>
                <a:cubicBezTo>
                  <a:pt x="0" y="2"/>
                  <a:pt x="0" y="2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233"/>
          <p:cNvSpPr/>
          <p:nvPr/>
        </p:nvSpPr>
        <p:spPr>
          <a:xfrm>
            <a:off x="2314440" y="558648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588" h="1587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234"/>
          <p:cNvSpPr/>
          <p:nvPr/>
        </p:nvSpPr>
        <p:spPr>
          <a:xfrm>
            <a:off x="2843280" y="5581800"/>
            <a:ext cx="3240" cy="1440"/>
          </a:xfrm>
          <a:custGeom>
            <a:avLst/>
            <a:gdLst>
              <a:gd name="textAreaLeft" fmla="*/ 0 w 3240"/>
              <a:gd name="textAreaRight" fmla="*/ 3600 w 3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1588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238"/>
          <p:cNvSpPr/>
          <p:nvPr/>
        </p:nvSpPr>
        <p:spPr>
          <a:xfrm>
            <a:off x="3895560" y="5581800"/>
            <a:ext cx="5040" cy="1440"/>
          </a:xfrm>
          <a:custGeom>
            <a:avLst/>
            <a:gdLst>
              <a:gd name="textAreaLeft" fmla="*/ 0 w 5040"/>
              <a:gd name="textAreaRight" fmla="*/ 5400 w 50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" h="1588">
                <a:moveTo>
                  <a:pt x="0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2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239"/>
          <p:cNvSpPr/>
          <p:nvPr/>
        </p:nvSpPr>
        <p:spPr>
          <a:xfrm>
            <a:off x="3062160" y="5581800"/>
            <a:ext cx="3240" cy="1440"/>
          </a:xfrm>
          <a:custGeom>
            <a:avLst/>
            <a:gdLst>
              <a:gd name="textAreaLeft" fmla="*/ 0 w 3240"/>
              <a:gd name="textAreaRight" fmla="*/ 3600 w 3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" h="1588">
                <a:moveTo>
                  <a:pt x="2" y="0"/>
                </a:moveTo>
                <a:cubicBezTo>
                  <a:pt x="2" y="0"/>
                  <a:pt x="2" y="0"/>
                  <a:pt x="2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2" y="0"/>
                </a:cubicBezTo>
                <a:cubicBezTo>
                  <a:pt x="2" y="0"/>
                  <a:pt x="2" y="0"/>
                  <a:pt x="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241"/>
          <p:cNvSpPr/>
          <p:nvPr/>
        </p:nvSpPr>
        <p:spPr>
          <a:xfrm>
            <a:off x="4516560" y="5581800"/>
            <a:ext cx="2880" cy="1440"/>
          </a:xfrm>
          <a:custGeom>
            <a:avLst/>
            <a:gdLst>
              <a:gd name="textAreaLeft" fmla="*/ 0 w 2880"/>
              <a:gd name="textAreaRight" fmla="*/ 3240 w 28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1588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243"/>
          <p:cNvSpPr/>
          <p:nvPr/>
        </p:nvSpPr>
        <p:spPr>
          <a:xfrm>
            <a:off x="4043520" y="558180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1588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262"/>
          <p:cNvSpPr/>
          <p:nvPr/>
        </p:nvSpPr>
        <p:spPr>
          <a:xfrm>
            <a:off x="2314440" y="556272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588" h="1588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00"/>
          <p:cNvSpPr/>
          <p:nvPr/>
        </p:nvSpPr>
        <p:spPr>
          <a:xfrm>
            <a:off x="0" y="3427560"/>
            <a:ext cx="2863800" cy="1440"/>
          </a:xfrm>
          <a:prstGeom prst="line">
            <a:avLst/>
          </a:prstGeom>
          <a:ln cap="rnd"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07"/>
          <p:cNvSpPr/>
          <p:nvPr/>
        </p:nvSpPr>
        <p:spPr>
          <a:xfrm>
            <a:off x="2692440" y="179280"/>
            <a:ext cx="3700440" cy="22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301"/>
          <p:cNvSpPr/>
          <p:nvPr/>
        </p:nvSpPr>
        <p:spPr>
          <a:xfrm>
            <a:off x="2874960" y="4857840"/>
            <a:ext cx="3392640" cy="1584360"/>
          </a:xfrm>
          <a:custGeom>
            <a:avLst/>
            <a:gdLst>
              <a:gd name="textAreaLeft" fmla="*/ 0 w 3392640"/>
              <a:gd name="textAreaRight" fmla="*/ 3393000 w 339264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10099" h="10060">
                <a:moveTo>
                  <a:pt x="9674" y="10060"/>
                </a:moveTo>
                <a:lnTo>
                  <a:pt x="469" y="10030"/>
                </a:lnTo>
                <a:cubicBezTo>
                  <a:pt x="261" y="6705"/>
                  <a:pt x="151" y="3414"/>
                  <a:pt x="0" y="30"/>
                </a:cubicBezTo>
                <a:cubicBezTo>
                  <a:pt x="3409" y="-40"/>
                  <a:pt x="6634" y="-50"/>
                  <a:pt x="10099" y="0"/>
                </a:cubicBezTo>
                <a:cubicBezTo>
                  <a:pt x="9953" y="3463"/>
                  <a:pt x="9777" y="6566"/>
                  <a:pt x="9674" y="10060"/>
                </a:cubicBezTo>
                <a:close/>
              </a:path>
            </a:pathLst>
          </a:custGeom>
          <a:solidFill>
            <a:srgbClr val="0079c5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301"/>
          <p:cNvSpPr/>
          <p:nvPr/>
        </p:nvSpPr>
        <p:spPr>
          <a:xfrm flipV="1">
            <a:off x="2870280" y="444960"/>
            <a:ext cx="3392280" cy="1582920"/>
          </a:xfrm>
          <a:custGeom>
            <a:avLst/>
            <a:gdLst>
              <a:gd name="textAreaLeft" fmla="*/ 0 w 3392280"/>
              <a:gd name="textAreaRight" fmla="*/ 3392640 w 3392280"/>
              <a:gd name="textAreaTop" fmla="*/ -360 h 1582920"/>
              <a:gd name="textAreaBottom" fmla="*/ 1582920 h 1582920"/>
            </a:gdLst>
            <a:ahLst/>
            <a:rect l="textAreaLeft" t="textAreaTop" r="textAreaRight" b="textAreaBottom"/>
            <a:pathLst>
              <a:path w="10099" h="10060">
                <a:moveTo>
                  <a:pt x="9674" y="10060"/>
                </a:moveTo>
                <a:lnTo>
                  <a:pt x="469" y="10030"/>
                </a:lnTo>
                <a:cubicBezTo>
                  <a:pt x="261" y="6705"/>
                  <a:pt x="151" y="3414"/>
                  <a:pt x="0" y="30"/>
                </a:cubicBezTo>
                <a:cubicBezTo>
                  <a:pt x="3409" y="-40"/>
                  <a:pt x="6634" y="-50"/>
                  <a:pt x="10099" y="0"/>
                </a:cubicBezTo>
                <a:cubicBezTo>
                  <a:pt x="9953" y="3463"/>
                  <a:pt x="9777" y="6566"/>
                  <a:pt x="9674" y="10060"/>
                </a:cubicBezTo>
                <a:close/>
              </a:path>
            </a:pathLst>
          </a:custGeom>
          <a:solidFill>
            <a:srgbClr val="0079c5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"/>
          <p:cNvSpPr/>
          <p:nvPr/>
        </p:nvSpPr>
        <p:spPr>
          <a:xfrm>
            <a:off x="3842640" y="944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口支援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02"/>
          <p:cNvSpPr/>
          <p:nvPr/>
        </p:nvSpPr>
        <p:spPr>
          <a:xfrm>
            <a:off x="4114800" y="31352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务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03"/>
          <p:cNvSpPr/>
          <p:nvPr/>
        </p:nvSpPr>
        <p:spPr>
          <a:xfrm>
            <a:off x="3981600" y="53578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校长办公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297"/>
          <p:cNvSpPr/>
          <p:nvPr/>
        </p:nvSpPr>
        <p:spPr>
          <a:xfrm>
            <a:off x="6281640" y="1239840"/>
            <a:ext cx="2844720" cy="1940040"/>
          </a:xfrm>
          <a:custGeom>
            <a:avLst/>
            <a:gdLst>
              <a:gd name="textAreaLeft" fmla="*/ 0 w 2844720"/>
              <a:gd name="textAreaRight" fmla="*/ 2845080 w 2844720"/>
              <a:gd name="textAreaTop" fmla="*/ 0 h 1940040"/>
              <a:gd name="textAreaBottom" fmla="*/ 1940400 h 1940040"/>
            </a:gdLst>
            <a:ahLst/>
            <a:rect l="textAreaLeft" t="textAreaTop" r="textAreaRight" b="textAreaBottom"/>
            <a:pathLst>
              <a:path w="2454" h="1222">
                <a:moveTo>
                  <a:pt x="0" y="0"/>
                </a:moveTo>
                <a:lnTo>
                  <a:pt x="322" y="0"/>
                </a:lnTo>
                <a:lnTo>
                  <a:pt x="1544" y="1222"/>
                </a:lnTo>
                <a:lnTo>
                  <a:pt x="2454" y="1222"/>
                </a:ln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05"/>
          <p:cNvSpPr/>
          <p:nvPr/>
        </p:nvSpPr>
        <p:spPr>
          <a:xfrm>
            <a:off x="294120" y="2916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门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3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2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7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7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7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7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7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7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7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7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25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25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25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25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Line 300"/>
          <p:cNvSpPr/>
          <p:nvPr/>
        </p:nvSpPr>
        <p:spPr>
          <a:xfrm>
            <a:off x="0" y="3427560"/>
            <a:ext cx="1719360" cy="1440"/>
          </a:xfrm>
          <a:prstGeom prst="line">
            <a:avLst/>
          </a:prstGeom>
          <a:ln cap="rnd"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38"/>
          <p:cNvSpPr/>
          <p:nvPr/>
        </p:nvSpPr>
        <p:spPr>
          <a:xfrm flipH="1">
            <a:off x="539640" y="3427560"/>
            <a:ext cx="1177920" cy="151416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39"/>
          <p:cNvSpPr/>
          <p:nvPr/>
        </p:nvSpPr>
        <p:spPr>
          <a:xfrm flipH="1">
            <a:off x="539640" y="4941720"/>
            <a:ext cx="7894800" cy="1620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接连接符 42"/>
          <p:cNvSpPr/>
          <p:nvPr/>
        </p:nvSpPr>
        <p:spPr>
          <a:xfrm flipH="1" flipV="1">
            <a:off x="7633800" y="2282760"/>
            <a:ext cx="800280" cy="264168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45"/>
          <p:cNvSpPr/>
          <p:nvPr/>
        </p:nvSpPr>
        <p:spPr>
          <a:xfrm flipV="1">
            <a:off x="2541600" y="2282400"/>
            <a:ext cx="5092560" cy="4284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48"/>
          <p:cNvSpPr/>
          <p:nvPr/>
        </p:nvSpPr>
        <p:spPr>
          <a:xfrm flipV="1">
            <a:off x="1719360" y="2325240"/>
            <a:ext cx="822240" cy="110484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组合 36"/>
          <p:cNvGrpSpPr/>
          <p:nvPr/>
        </p:nvGrpSpPr>
        <p:grpSpPr>
          <a:xfrm>
            <a:off x="2217600" y="1413000"/>
            <a:ext cx="5162760" cy="2992320"/>
            <a:chOff x="2217600" y="1413000"/>
            <a:chExt cx="5162760" cy="2992320"/>
          </a:xfrm>
        </p:grpSpPr>
        <p:sp>
          <p:nvSpPr>
            <p:cNvPr id="197" name="直接连接符 9"/>
            <p:cNvSpPr/>
            <p:nvPr/>
          </p:nvSpPr>
          <p:spPr>
            <a:xfrm>
              <a:off x="7369560" y="2357280"/>
              <a:ext cx="0" cy="149688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任意多边形 11"/>
            <p:cNvSpPr/>
            <p:nvPr/>
          </p:nvSpPr>
          <p:spPr>
            <a:xfrm>
              <a:off x="6377040" y="1449360"/>
              <a:ext cx="998640" cy="236376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2363760"/>
                <a:gd name="textAreaBottom" fmla="*/ 2364120 h 2363760"/>
              </a:gdLst>
              <a:ahLst/>
              <a:rect l="textAreaLeft" t="textAreaTop" r="textAreaRight" b="textAreaBottom"/>
              <a:pathLst>
                <a:path w="717550" h="1695450">
                  <a:moveTo>
                    <a:pt x="0" y="1066800"/>
                  </a:moveTo>
                  <a:lnTo>
                    <a:pt x="12700" y="0"/>
                  </a:lnTo>
                  <a:cubicBezTo>
                    <a:pt x="139700" y="40746"/>
                    <a:pt x="197643" y="29104"/>
                    <a:pt x="377031" y="124618"/>
                  </a:cubicBezTo>
                  <a:cubicBezTo>
                    <a:pt x="520964" y="227541"/>
                    <a:pt x="622036" y="404284"/>
                    <a:pt x="644525" y="438150"/>
                  </a:cubicBezTo>
                  <a:cubicBezTo>
                    <a:pt x="668867" y="488686"/>
                    <a:pt x="693208" y="543983"/>
                    <a:pt x="717550" y="596900"/>
                  </a:cubicBezTo>
                  <a:cubicBezTo>
                    <a:pt x="715433" y="963083"/>
                    <a:pt x="713317" y="1329267"/>
                    <a:pt x="711200" y="1695450"/>
                  </a:cubicBezTo>
                  <a:lnTo>
                    <a:pt x="469900" y="1250950"/>
                  </a:lnTo>
                  <a:lnTo>
                    <a:pt x="209550" y="1123950"/>
                  </a:lnTo>
                  <a:lnTo>
                    <a:pt x="0" y="1066800"/>
                  </a:lnTo>
                  <a:close/>
                </a:path>
              </a:pathLst>
            </a:custGeom>
            <a:gradFill rotWithShape="0">
              <a:gsLst>
                <a:gs pos="0">
                  <a:srgbClr val="284a71"/>
                </a:gs>
                <a:gs pos="100000">
                  <a:srgbClr val="007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直接连接符 8"/>
            <p:cNvSpPr/>
            <p:nvPr/>
          </p:nvSpPr>
          <p:spPr>
            <a:xfrm>
              <a:off x="6575760" y="2909880"/>
              <a:ext cx="0" cy="14954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任意多边形 3"/>
            <p:cNvSpPr/>
            <p:nvPr/>
          </p:nvSpPr>
          <p:spPr>
            <a:xfrm>
              <a:off x="2217600" y="2909880"/>
              <a:ext cx="5151960" cy="1495440"/>
            </a:xfrm>
            <a:custGeom>
              <a:avLst/>
              <a:gdLst>
                <a:gd name="textAreaLeft" fmla="*/ 0 w 5151960"/>
                <a:gd name="textAreaRight" fmla="*/ 5152320 w 5151960"/>
                <a:gd name="textAreaTop" fmla="*/ 0 h 1495440"/>
                <a:gd name="textAreaBottom" fmla="*/ 1495800 h 1495440"/>
              </a:gdLst>
              <a:ahLst/>
              <a:rect l="textAreaLeft" t="textAreaTop" r="textAreaRight" b="textAreaBottom"/>
              <a:pathLst>
                <a:path w="3697339" h="1073598">
                  <a:moveTo>
                    <a:pt x="0" y="838648"/>
                  </a:moveTo>
                  <a:cubicBezTo>
                    <a:pt x="277283" y="892623"/>
                    <a:pt x="678392" y="929665"/>
                    <a:pt x="933450" y="889448"/>
                  </a:cubicBezTo>
                  <a:cubicBezTo>
                    <a:pt x="1188508" y="849231"/>
                    <a:pt x="1354667" y="716940"/>
                    <a:pt x="1530350" y="597348"/>
                  </a:cubicBezTo>
                  <a:cubicBezTo>
                    <a:pt x="1706033" y="477756"/>
                    <a:pt x="1794933" y="271381"/>
                    <a:pt x="1987550" y="171898"/>
                  </a:cubicBezTo>
                  <a:cubicBezTo>
                    <a:pt x="2180167" y="72415"/>
                    <a:pt x="2458508" y="5740"/>
                    <a:pt x="2686050" y="448"/>
                  </a:cubicBezTo>
                  <a:cubicBezTo>
                    <a:pt x="2913592" y="-4844"/>
                    <a:pt x="3184525" y="36431"/>
                    <a:pt x="3352800" y="140148"/>
                  </a:cubicBezTo>
                  <a:cubicBezTo>
                    <a:pt x="3521075" y="243865"/>
                    <a:pt x="3676650" y="485165"/>
                    <a:pt x="3695700" y="622748"/>
                  </a:cubicBezTo>
                  <a:cubicBezTo>
                    <a:pt x="3714750" y="760331"/>
                    <a:pt x="3563408" y="890506"/>
                    <a:pt x="3467100" y="965648"/>
                  </a:cubicBezTo>
                  <a:cubicBezTo>
                    <a:pt x="3370792" y="1040790"/>
                    <a:pt x="3288241" y="1064073"/>
                    <a:pt x="3117850" y="107359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任意多边形 10"/>
            <p:cNvSpPr/>
            <p:nvPr/>
          </p:nvSpPr>
          <p:spPr>
            <a:xfrm>
              <a:off x="6575760" y="2347920"/>
              <a:ext cx="804600" cy="2052720"/>
            </a:xfrm>
            <a:custGeom>
              <a:avLst/>
              <a:gdLst>
                <a:gd name="textAreaLeft" fmla="*/ 0 w 804600"/>
                <a:gd name="textAreaRight" fmla="*/ 804960 w 804600"/>
                <a:gd name="textAreaTop" fmla="*/ 0 h 2052720"/>
                <a:gd name="textAreaBottom" fmla="*/ 2053080 h 2052720"/>
              </a:gdLst>
              <a:ahLst/>
              <a:rect l="textAreaLeft" t="textAreaTop" r="textAreaRight" b="textAreaBottom"/>
              <a:pathLst>
                <a:path w="577991" h="1473200">
                  <a:moveTo>
                    <a:pt x="3316" y="403225"/>
                  </a:moveTo>
                  <a:cubicBezTo>
                    <a:pt x="4374" y="760942"/>
                    <a:pt x="-917" y="1115483"/>
                    <a:pt x="141" y="1473200"/>
                  </a:cubicBezTo>
                  <a:cubicBezTo>
                    <a:pt x="72108" y="1466850"/>
                    <a:pt x="194874" y="1492250"/>
                    <a:pt x="416066" y="1311275"/>
                  </a:cubicBezTo>
                  <a:cubicBezTo>
                    <a:pt x="582224" y="1156758"/>
                    <a:pt x="564233" y="1068917"/>
                    <a:pt x="577991" y="1066800"/>
                  </a:cubicBezTo>
                  <a:cubicBezTo>
                    <a:pt x="576933" y="723900"/>
                    <a:pt x="569524" y="342900"/>
                    <a:pt x="568466" y="0"/>
                  </a:cubicBezTo>
                  <a:cubicBezTo>
                    <a:pt x="553649" y="124883"/>
                    <a:pt x="497558" y="170392"/>
                    <a:pt x="355741" y="285750"/>
                  </a:cubicBezTo>
                  <a:cubicBezTo>
                    <a:pt x="332458" y="316442"/>
                    <a:pt x="178999" y="416983"/>
                    <a:pt x="3316" y="403225"/>
                  </a:cubicBezTo>
                  <a:close/>
                </a:path>
              </a:pathLst>
            </a:custGeom>
            <a:gradFill rotWithShape="0">
              <a:gsLst>
                <a:gs pos="0">
                  <a:srgbClr val="538cd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任意多边形 13"/>
            <p:cNvSpPr/>
            <p:nvPr/>
          </p:nvSpPr>
          <p:spPr>
            <a:xfrm>
              <a:off x="2222280" y="1430280"/>
              <a:ext cx="4218120" cy="2728800"/>
            </a:xfrm>
            <a:custGeom>
              <a:avLst/>
              <a:gdLst>
                <a:gd name="textAreaLeft" fmla="*/ 0 w 4218120"/>
                <a:gd name="textAreaRight" fmla="*/ 4218480 w 4218120"/>
                <a:gd name="textAreaTop" fmla="*/ 0 h 2728800"/>
                <a:gd name="textAreaBottom" fmla="*/ 2729160 h 2728800"/>
              </a:gdLst>
              <a:ahLst/>
              <a:rect l="textAreaLeft" t="textAreaTop" r="textAreaRight" b="textAreaBottom"/>
              <a:pathLst>
                <a:path w="3026568" h="1958975">
                  <a:moveTo>
                    <a:pt x="793" y="1890712"/>
                  </a:moveTo>
                  <a:cubicBezTo>
                    <a:pt x="-1" y="1535112"/>
                    <a:pt x="794" y="1191418"/>
                    <a:pt x="0" y="835818"/>
                  </a:cubicBezTo>
                  <a:cubicBezTo>
                    <a:pt x="231775" y="875506"/>
                    <a:pt x="380204" y="891380"/>
                    <a:pt x="447673" y="895350"/>
                  </a:cubicBezTo>
                  <a:cubicBezTo>
                    <a:pt x="590548" y="893762"/>
                    <a:pt x="757236" y="911225"/>
                    <a:pt x="876299" y="890587"/>
                  </a:cubicBezTo>
                  <a:cubicBezTo>
                    <a:pt x="948530" y="888206"/>
                    <a:pt x="1099342" y="850106"/>
                    <a:pt x="1207292" y="804862"/>
                  </a:cubicBezTo>
                  <a:cubicBezTo>
                    <a:pt x="1339055" y="736599"/>
                    <a:pt x="1466056" y="646906"/>
                    <a:pt x="1574006" y="557212"/>
                  </a:cubicBezTo>
                  <a:cubicBezTo>
                    <a:pt x="1643856" y="482600"/>
                    <a:pt x="1659730" y="481012"/>
                    <a:pt x="1739105" y="390525"/>
                  </a:cubicBezTo>
                  <a:cubicBezTo>
                    <a:pt x="1805780" y="323850"/>
                    <a:pt x="1847055" y="269875"/>
                    <a:pt x="1897855" y="219075"/>
                  </a:cubicBezTo>
                  <a:cubicBezTo>
                    <a:pt x="1958180" y="187325"/>
                    <a:pt x="2043905" y="142875"/>
                    <a:pt x="2148680" y="98425"/>
                  </a:cubicBezTo>
                  <a:lnTo>
                    <a:pt x="2450305" y="23812"/>
                  </a:lnTo>
                  <a:lnTo>
                    <a:pt x="2783680" y="0"/>
                  </a:lnTo>
                  <a:lnTo>
                    <a:pt x="3026568" y="30162"/>
                  </a:lnTo>
                  <a:lnTo>
                    <a:pt x="2993230" y="1085850"/>
                  </a:lnTo>
                  <a:cubicBezTo>
                    <a:pt x="2881047" y="1072092"/>
                    <a:pt x="2835538" y="1061508"/>
                    <a:pt x="2656680" y="1057275"/>
                  </a:cubicBezTo>
                  <a:cubicBezTo>
                    <a:pt x="2519626" y="1057275"/>
                    <a:pt x="2474647" y="1073150"/>
                    <a:pt x="2350293" y="1095375"/>
                  </a:cubicBezTo>
                  <a:cubicBezTo>
                    <a:pt x="2277268" y="1120775"/>
                    <a:pt x="2194718" y="1127125"/>
                    <a:pt x="2032793" y="1187450"/>
                  </a:cubicBezTo>
                  <a:cubicBezTo>
                    <a:pt x="1924314" y="1236133"/>
                    <a:pt x="1917434" y="1265767"/>
                    <a:pt x="1859755" y="1304925"/>
                  </a:cubicBezTo>
                  <a:cubicBezTo>
                    <a:pt x="1791493" y="1385887"/>
                    <a:pt x="1751805" y="1409700"/>
                    <a:pt x="1645443" y="1544637"/>
                  </a:cubicBezTo>
                  <a:lnTo>
                    <a:pt x="1415255" y="1722437"/>
                  </a:lnTo>
                  <a:cubicBezTo>
                    <a:pt x="1307834" y="1784879"/>
                    <a:pt x="1222639" y="1834620"/>
                    <a:pt x="1080293" y="1900237"/>
                  </a:cubicBezTo>
                  <a:cubicBezTo>
                    <a:pt x="932126" y="1955800"/>
                    <a:pt x="876035" y="1938337"/>
                    <a:pt x="781843" y="1958975"/>
                  </a:cubicBezTo>
                  <a:cubicBezTo>
                    <a:pt x="698235" y="1953683"/>
                    <a:pt x="538426" y="1948392"/>
                    <a:pt x="426243" y="1949450"/>
                  </a:cubicBezTo>
                  <a:lnTo>
                    <a:pt x="793" y="1890712"/>
                  </a:lnTo>
                  <a:close/>
                </a:path>
              </a:pathLst>
            </a:custGeom>
            <a:gradFill rotWithShape="0">
              <a:gsLst>
                <a:gs pos="0">
                  <a:srgbClr val="0f61a3"/>
                </a:gs>
                <a:gs pos="100000">
                  <a:srgbClr val="4680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任意多边形 4"/>
            <p:cNvSpPr/>
            <p:nvPr/>
          </p:nvSpPr>
          <p:spPr>
            <a:xfrm>
              <a:off x="2217600" y="1413000"/>
              <a:ext cx="5151960" cy="1496880"/>
            </a:xfrm>
            <a:custGeom>
              <a:avLst/>
              <a:gdLst>
                <a:gd name="textAreaLeft" fmla="*/ 0 w 5151960"/>
                <a:gd name="textAreaRight" fmla="*/ 5152320 w 515196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97339" h="1073598">
                  <a:moveTo>
                    <a:pt x="0" y="838648"/>
                  </a:moveTo>
                  <a:cubicBezTo>
                    <a:pt x="277283" y="892623"/>
                    <a:pt x="678392" y="929665"/>
                    <a:pt x="933450" y="889448"/>
                  </a:cubicBezTo>
                  <a:cubicBezTo>
                    <a:pt x="1188508" y="849231"/>
                    <a:pt x="1354667" y="716940"/>
                    <a:pt x="1530350" y="597348"/>
                  </a:cubicBezTo>
                  <a:cubicBezTo>
                    <a:pt x="1706033" y="477756"/>
                    <a:pt x="1794933" y="271381"/>
                    <a:pt x="1987550" y="171898"/>
                  </a:cubicBezTo>
                  <a:cubicBezTo>
                    <a:pt x="2180167" y="72415"/>
                    <a:pt x="2458508" y="5740"/>
                    <a:pt x="2686050" y="448"/>
                  </a:cubicBezTo>
                  <a:cubicBezTo>
                    <a:pt x="2913592" y="-4844"/>
                    <a:pt x="3184525" y="36431"/>
                    <a:pt x="3352800" y="140148"/>
                  </a:cubicBezTo>
                  <a:cubicBezTo>
                    <a:pt x="3521075" y="243865"/>
                    <a:pt x="3676650" y="485165"/>
                    <a:pt x="3695700" y="622748"/>
                  </a:cubicBezTo>
                  <a:cubicBezTo>
                    <a:pt x="3714750" y="760331"/>
                    <a:pt x="3563408" y="890506"/>
                    <a:pt x="3467100" y="965648"/>
                  </a:cubicBezTo>
                  <a:cubicBezTo>
                    <a:pt x="3370792" y="1040790"/>
                    <a:pt x="3288241" y="1064073"/>
                    <a:pt x="3117850" y="107359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直接连接符 6"/>
            <p:cNvSpPr/>
            <p:nvPr/>
          </p:nvSpPr>
          <p:spPr>
            <a:xfrm>
              <a:off x="2217600" y="2581200"/>
              <a:ext cx="0" cy="149688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Picture 8" descr=""/>
          <p:cNvPicPr/>
          <p:nvPr/>
        </p:nvPicPr>
        <p:blipFill>
          <a:blip r:embed="rId1"/>
          <a:srcRect l="35412" t="37969" r="19219" b="21505"/>
          <a:stretch/>
        </p:blipFill>
        <p:spPr>
          <a:xfrm>
            <a:off x="131760" y="1519200"/>
            <a:ext cx="8736120" cy="4876920"/>
          </a:xfrm>
          <a:prstGeom prst="rect">
            <a:avLst/>
          </a:prstGeom>
          <a:ln w="0">
            <a:noFill/>
          </a:ln>
        </p:spPr>
      </p:pic>
      <p:sp>
        <p:nvSpPr>
          <p:cNvPr id="206" name="TextBox 50"/>
          <p:cNvSpPr/>
          <p:nvPr/>
        </p:nvSpPr>
        <p:spPr>
          <a:xfrm>
            <a:off x="2805120" y="2826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口支援十周年图片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组合 35"/>
          <p:cNvGrpSpPr/>
          <p:nvPr/>
        </p:nvGrpSpPr>
        <p:grpSpPr>
          <a:xfrm>
            <a:off x="2968560" y="3110040"/>
            <a:ext cx="360360" cy="360360"/>
            <a:chOff x="2968560" y="3110040"/>
            <a:chExt cx="360360" cy="360360"/>
          </a:xfrm>
        </p:grpSpPr>
        <p:grpSp>
          <p:nvGrpSpPr>
            <p:cNvPr id="208" name="组合 25"/>
            <p:cNvGrpSpPr/>
            <p:nvPr/>
          </p:nvGrpSpPr>
          <p:grpSpPr>
            <a:xfrm>
              <a:off x="2968560" y="3110040"/>
              <a:ext cx="98640" cy="98640"/>
              <a:chOff x="2968560" y="3110040"/>
              <a:chExt cx="98640" cy="98640"/>
            </a:xfrm>
          </p:grpSpPr>
          <p:sp>
            <p:nvSpPr>
              <p:cNvPr id="209" name="直接连接符 17"/>
              <p:cNvSpPr/>
              <p:nvPr/>
            </p:nvSpPr>
            <p:spPr>
              <a:xfrm flipV="1">
                <a:off x="2970000" y="3110040"/>
                <a:ext cx="0" cy="9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直接连接符 24"/>
              <p:cNvSpPr/>
              <p:nvPr/>
            </p:nvSpPr>
            <p:spPr>
              <a:xfrm flipH="1">
                <a:off x="2968560" y="3111480"/>
                <a:ext cx="98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组合 26"/>
            <p:cNvGrpSpPr/>
            <p:nvPr/>
          </p:nvGrpSpPr>
          <p:grpSpPr>
            <a:xfrm>
              <a:off x="3229200" y="3111120"/>
              <a:ext cx="98640" cy="98640"/>
              <a:chOff x="3229200" y="3111120"/>
              <a:chExt cx="98640" cy="98640"/>
            </a:xfrm>
          </p:grpSpPr>
          <p:sp>
            <p:nvSpPr>
              <p:cNvPr id="212" name="直接连接符 27"/>
              <p:cNvSpPr/>
              <p:nvPr/>
            </p:nvSpPr>
            <p:spPr>
              <a:xfrm flipV="1">
                <a:off x="3326400" y="3111120"/>
                <a:ext cx="0" cy="9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直接连接符 28"/>
              <p:cNvSpPr/>
              <p:nvPr/>
            </p:nvSpPr>
            <p:spPr>
              <a:xfrm>
                <a:off x="3229200" y="3112560"/>
                <a:ext cx="98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组合 29"/>
            <p:cNvGrpSpPr/>
            <p:nvPr/>
          </p:nvGrpSpPr>
          <p:grpSpPr>
            <a:xfrm>
              <a:off x="2969640" y="3371760"/>
              <a:ext cx="98640" cy="98640"/>
              <a:chOff x="2969640" y="3371760"/>
              <a:chExt cx="98640" cy="98640"/>
            </a:xfrm>
          </p:grpSpPr>
          <p:sp>
            <p:nvSpPr>
              <p:cNvPr id="215" name="直接连接符 30"/>
              <p:cNvSpPr/>
              <p:nvPr/>
            </p:nvSpPr>
            <p:spPr>
              <a:xfrm>
                <a:off x="2971080" y="3371760"/>
                <a:ext cx="0" cy="9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直接连接符 31"/>
              <p:cNvSpPr/>
              <p:nvPr/>
            </p:nvSpPr>
            <p:spPr>
              <a:xfrm flipH="1">
                <a:off x="2969640" y="3468960"/>
                <a:ext cx="98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组合 32"/>
            <p:cNvGrpSpPr/>
            <p:nvPr/>
          </p:nvGrpSpPr>
          <p:grpSpPr>
            <a:xfrm>
              <a:off x="3230280" y="3370680"/>
              <a:ext cx="98640" cy="98640"/>
              <a:chOff x="3230280" y="3370680"/>
              <a:chExt cx="98640" cy="98640"/>
            </a:xfrm>
          </p:grpSpPr>
          <p:sp>
            <p:nvSpPr>
              <p:cNvPr id="218" name="直接连接符 33"/>
              <p:cNvSpPr/>
              <p:nvPr/>
            </p:nvSpPr>
            <p:spPr>
              <a:xfrm>
                <a:off x="3230280" y="3467880"/>
                <a:ext cx="98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直接连接符 34"/>
              <p:cNvSpPr/>
              <p:nvPr/>
            </p:nvSpPr>
            <p:spPr>
              <a:xfrm>
                <a:off x="3327480" y="3370680"/>
                <a:ext cx="0" cy="98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25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25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25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25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25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4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250" autoRev="1" fill="hold"/>
                                        <p:tgtEl>
                                          <p:spTgt spid="2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4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1" dur="500" fill="hold"/>
                                        <p:tgtEl>
                                          <p:spTgt spid="207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4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3" dur="500" fill="hold"/>
                                        <p:tgtEl>
                                          <p:spTgt spid="19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4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组合 8"/>
          <p:cNvGrpSpPr/>
          <p:nvPr/>
        </p:nvGrpSpPr>
        <p:grpSpPr>
          <a:xfrm>
            <a:off x="179280" y="1577880"/>
            <a:ext cx="8640720" cy="4753080"/>
            <a:chOff x="179280" y="1577880"/>
            <a:chExt cx="8640720" cy="4753080"/>
          </a:xfrm>
        </p:grpSpPr>
        <p:sp>
          <p:nvSpPr>
            <p:cNvPr id="221" name="矩形 1"/>
            <p:cNvSpPr/>
            <p:nvPr/>
          </p:nvSpPr>
          <p:spPr>
            <a:xfrm>
              <a:off x="179280" y="1577880"/>
              <a:ext cx="8640720" cy="47530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直接连接符 5"/>
            <p:cNvSpPr/>
            <p:nvPr/>
          </p:nvSpPr>
          <p:spPr>
            <a:xfrm>
              <a:off x="2266560" y="1577880"/>
              <a:ext cx="0" cy="475308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直接连接符 6"/>
            <p:cNvSpPr/>
            <p:nvPr/>
          </p:nvSpPr>
          <p:spPr>
            <a:xfrm>
              <a:off x="6732720" y="1577880"/>
              <a:ext cx="0" cy="4753080"/>
            </a:xfrm>
            <a:prstGeom prst="line">
              <a:avLst/>
            </a:prstGeom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组合 16"/>
          <p:cNvGrpSpPr/>
          <p:nvPr/>
        </p:nvGrpSpPr>
        <p:grpSpPr>
          <a:xfrm>
            <a:off x="-1332000" y="2268360"/>
            <a:ext cx="24284160" cy="3372120"/>
            <a:chOff x="-1332000" y="2268360"/>
            <a:chExt cx="24284160" cy="3372120"/>
          </a:xfrm>
        </p:grpSpPr>
        <p:pic>
          <p:nvPicPr>
            <p:cNvPr id="225" name="Picture 2" descr="N:\256x256\可爱4叶草超大图标\20071220165313802.png"/>
            <p:cNvPicPr/>
            <p:nvPr/>
          </p:nvPicPr>
          <p:blipFill>
            <a:blip r:embed="rId2"/>
            <a:stretch/>
          </p:blipFill>
          <p:spPr>
            <a:xfrm>
              <a:off x="19580400" y="2268360"/>
              <a:ext cx="3371760" cy="337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3" descr="N:\256x256\可爱4叶草超大图标\20071220165312209.png"/>
            <p:cNvPicPr/>
            <p:nvPr/>
          </p:nvPicPr>
          <p:blipFill>
            <a:blip r:embed="rId3"/>
            <a:stretch/>
          </p:blipFill>
          <p:spPr>
            <a:xfrm>
              <a:off x="3191400" y="2482920"/>
              <a:ext cx="2941920" cy="294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4" descr="N:\256x256\可爱4叶草超大图标\20071220165312407.png"/>
            <p:cNvPicPr/>
            <p:nvPr/>
          </p:nvPicPr>
          <p:blipFill>
            <a:blip r:embed="rId4"/>
            <a:stretch/>
          </p:blipFill>
          <p:spPr>
            <a:xfrm>
              <a:off x="11171160" y="2268360"/>
              <a:ext cx="3371760" cy="337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5" descr="N:\256x256\可爱4叶草超大图标\20071220165312509.png"/>
            <p:cNvPicPr/>
            <p:nvPr/>
          </p:nvPicPr>
          <p:blipFill>
            <a:blip r:embed="rId5"/>
            <a:stretch/>
          </p:blipFill>
          <p:spPr>
            <a:xfrm>
              <a:off x="15375960" y="2268360"/>
              <a:ext cx="3371760" cy="337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6" descr="N:\256x256\可爱4叶草超大图标\20071220165312514.png"/>
            <p:cNvPicPr/>
            <p:nvPr/>
          </p:nvPicPr>
          <p:blipFill>
            <a:blip r:embed="rId6"/>
            <a:stretch/>
          </p:blipFill>
          <p:spPr>
            <a:xfrm>
              <a:off x="6966360" y="2268360"/>
              <a:ext cx="3371760" cy="337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7" descr="N:\256x256\可爱4叶草超大图标\20071220165312609.png"/>
            <p:cNvPicPr/>
            <p:nvPr/>
          </p:nvPicPr>
          <p:blipFill>
            <a:blip r:embed="rId7"/>
            <a:stretch/>
          </p:blipFill>
          <p:spPr>
            <a:xfrm>
              <a:off x="-1332000" y="2268360"/>
              <a:ext cx="3371760" cy="337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1" name="图片 17" descr=""/>
          <p:cNvPicPr/>
          <p:nvPr/>
        </p:nvPicPr>
        <p:blipFill>
          <a:blip r:embed="rId8"/>
          <a:stretch/>
        </p:blipFill>
        <p:spPr>
          <a:xfrm>
            <a:off x="0" y="-42840"/>
            <a:ext cx="9180360" cy="6956280"/>
          </a:xfrm>
          <a:prstGeom prst="rect">
            <a:avLst/>
          </a:prstGeom>
          <a:ln w="0">
            <a:noFill/>
          </a:ln>
        </p:spPr>
      </p:pic>
      <p:sp>
        <p:nvSpPr>
          <p:cNvPr id="232" name="矩形 14"/>
          <p:cNvSpPr/>
          <p:nvPr/>
        </p:nvSpPr>
        <p:spPr>
          <a:xfrm>
            <a:off x="42840" y="1577880"/>
            <a:ext cx="2225520" cy="4753080"/>
          </a:xfrm>
          <a:prstGeom prst="rect">
            <a:avLst/>
          </a:prstGeom>
          <a:blipFill rotWithShape="0">
            <a:blip r:embed="rId9">
              <a:alphaModFix amt="93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15"/>
          <p:cNvSpPr/>
          <p:nvPr/>
        </p:nvSpPr>
        <p:spPr>
          <a:xfrm>
            <a:off x="6732720" y="1577880"/>
            <a:ext cx="2195280" cy="4753080"/>
          </a:xfrm>
          <a:prstGeom prst="rect">
            <a:avLst/>
          </a:prstGeom>
          <a:blipFill rotWithShape="0">
            <a:blip r:embed="rId10">
              <a:alphaModFix amt="93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2805120" y="2826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口支援十周年图片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7037E-007 L -0.46163 -0.00301 E">
                                      <p:cBhvr>
                                        <p:cTn id="443" dur="1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6163 -0.00301 L -0.92413 -0.00301 E">
                                      <p:cBhvr>
                                        <p:cTn id="447" dur="1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92413 -0.00301 L -1.38663 -0.00301 E">
                                      <p:cBhvr>
                                        <p:cTn id="451" dur="1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663 -0.00301 L -1.84913 -0.00301 E">
                                      <p:cBhvr>
                                        <p:cTn id="455" dur="1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reeform 9"/>
          <p:cNvSpPr/>
          <p:nvPr/>
        </p:nvSpPr>
        <p:spPr>
          <a:xfrm>
            <a:off x="1801800" y="3425760"/>
            <a:ext cx="1440" cy="835200"/>
          </a:xfrm>
          <a:custGeom>
            <a:avLst/>
            <a:gdLst>
              <a:gd name="textAreaLeft" fmla="*/ 0 w 1440"/>
              <a:gd name="textAreaRight" fmla="*/ 1800 w 14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1587" h="526">
                <a:moveTo>
                  <a:pt x="0" y="526"/>
                </a:moveTo>
                <a:lnTo>
                  <a:pt x="0" y="0"/>
                </a:lnTo>
                <a:lnTo>
                  <a:pt x="0" y="526"/>
                </a:lnTo>
                <a:close/>
              </a:path>
            </a:pathLst>
          </a:custGeom>
          <a:solidFill>
            <a:srgbClr val="0079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00"/>
          <p:cNvSpPr/>
          <p:nvPr/>
        </p:nvSpPr>
        <p:spPr>
          <a:xfrm>
            <a:off x="0" y="3427560"/>
            <a:ext cx="2863800" cy="1440"/>
          </a:xfrm>
          <a:prstGeom prst="line">
            <a:avLst/>
          </a:prstGeom>
          <a:ln cap="rnd"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组合 10"/>
          <p:cNvGrpSpPr/>
          <p:nvPr/>
        </p:nvGrpSpPr>
        <p:grpSpPr>
          <a:xfrm>
            <a:off x="2879640" y="2502000"/>
            <a:ext cx="3384720" cy="1850760"/>
            <a:chOff x="2879640" y="2502000"/>
            <a:chExt cx="3384720" cy="1850760"/>
          </a:xfrm>
        </p:grpSpPr>
        <p:sp>
          <p:nvSpPr>
            <p:cNvPr id="238" name="Freeform 301"/>
            <p:cNvSpPr/>
            <p:nvPr/>
          </p:nvSpPr>
          <p:spPr>
            <a:xfrm>
              <a:off x="2950920" y="2573280"/>
              <a:ext cx="3240360" cy="1708200"/>
            </a:xfrm>
            <a:custGeom>
              <a:avLst/>
              <a:gdLst>
                <a:gd name="textAreaLeft" fmla="*/ 0 w 3240360"/>
                <a:gd name="textAreaRight" fmla="*/ 3240720 w 3240360"/>
                <a:gd name="textAreaTop" fmla="*/ 0 h 1708200"/>
                <a:gd name="textAreaBottom" fmla="*/ 1708560 h 1708200"/>
              </a:gdLst>
              <a:ahLst/>
              <a:rect l="textAreaLeft" t="textAreaTop" r="textAreaRight" b="textAreaBottom"/>
              <a:pathLst>
                <a:path w="2041" h="1076">
                  <a:moveTo>
                    <a:pt x="2041" y="1076"/>
                  </a:moveTo>
                  <a:lnTo>
                    <a:pt x="2041" y="1076"/>
                  </a:lnTo>
                  <a:lnTo>
                    <a:pt x="0" y="1076"/>
                  </a:lnTo>
                  <a:lnTo>
                    <a:pt x="0" y="0"/>
                  </a:lnTo>
                  <a:lnTo>
                    <a:pt x="2041" y="0"/>
                  </a:lnTo>
                  <a:lnTo>
                    <a:pt x="2041" y="1076"/>
                  </a:lnTo>
                  <a:close/>
                </a:path>
              </a:pathLst>
            </a:custGeom>
            <a:solidFill>
              <a:srgbClr val="0079c5"/>
            </a:soli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0"/>
            <p:cNvSpPr/>
            <p:nvPr/>
          </p:nvSpPr>
          <p:spPr>
            <a:xfrm flipV="1">
              <a:off x="2879640" y="3427200"/>
              <a:ext cx="1440" cy="834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1"/>
            <p:cNvSpPr/>
            <p:nvPr/>
          </p:nvSpPr>
          <p:spPr>
            <a:xfrm>
              <a:off x="2879640" y="4260960"/>
              <a:ext cx="3383280" cy="91800"/>
            </a:xfrm>
            <a:custGeom>
              <a:avLst/>
              <a:gdLst>
                <a:gd name="textAreaLeft" fmla="*/ 0 w 3383280"/>
                <a:gd name="textAreaRight" fmla="*/ 3383640 w 33832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520" h="41">
                  <a:moveTo>
                    <a:pt x="1520" y="0"/>
                  </a:moveTo>
                  <a:cubicBezTo>
                    <a:pt x="1520" y="9"/>
                    <a:pt x="1520" y="9"/>
                    <a:pt x="1520" y="9"/>
                  </a:cubicBezTo>
                  <a:cubicBezTo>
                    <a:pt x="1520" y="26"/>
                    <a:pt x="1506" y="41"/>
                    <a:pt x="1488" y="41"/>
                  </a:cubicBezTo>
                  <a:cubicBezTo>
                    <a:pt x="32" y="41"/>
                    <a:pt x="32" y="41"/>
                    <a:pt x="32" y="41"/>
                  </a:cubicBezTo>
                  <a:cubicBezTo>
                    <a:pt x="14" y="41"/>
                    <a:pt x="0" y="26"/>
                    <a:pt x="0" y="9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3"/>
            <p:cNvSpPr/>
            <p:nvPr/>
          </p:nvSpPr>
          <p:spPr>
            <a:xfrm>
              <a:off x="2966760" y="2502000"/>
              <a:ext cx="3297600" cy="1779480"/>
            </a:xfrm>
            <a:custGeom>
              <a:avLst/>
              <a:gdLst>
                <a:gd name="textAreaLeft" fmla="*/ 0 w 3297600"/>
                <a:gd name="textAreaRight" fmla="*/ 3297960 w 3297600"/>
                <a:gd name="textAreaTop" fmla="*/ 0 h 1779480"/>
                <a:gd name="textAreaBottom" fmla="*/ 1779840 h 1779480"/>
              </a:gdLst>
              <a:ahLst/>
              <a:rect l="textAreaLeft" t="textAreaTop" r="textAreaRight" b="textAreaBottom"/>
              <a:pathLst>
                <a:path w="2077" h="1121">
                  <a:moveTo>
                    <a:pt x="0" y="0"/>
                  </a:moveTo>
                  <a:cubicBezTo>
                    <a:pt x="2031" y="0"/>
                    <a:pt x="2031" y="0"/>
                    <a:pt x="2031" y="0"/>
                  </a:cubicBezTo>
                  <a:cubicBezTo>
                    <a:pt x="2056" y="0"/>
                    <a:pt x="2076" y="20"/>
                    <a:pt x="2076" y="45"/>
                  </a:cubicBezTo>
                  <a:cubicBezTo>
                    <a:pt x="2076" y="1108"/>
                    <a:pt x="2077" y="1121"/>
                    <a:pt x="2077" y="11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5"/>
            <p:cNvSpPr/>
            <p:nvPr/>
          </p:nvSpPr>
          <p:spPr>
            <a:xfrm>
              <a:off x="2879640" y="2503440"/>
              <a:ext cx="87120" cy="9237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39" h="415">
                  <a:moveTo>
                    <a:pt x="0" y="415"/>
                  </a:move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39" y="0"/>
                    <a:pt x="39" y="0"/>
                    <a:pt x="39" y="0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8"/>
            <p:cNvSpPr/>
            <p:nvPr/>
          </p:nvSpPr>
          <p:spPr>
            <a:xfrm>
              <a:off x="4114800" y="313488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教务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Line 300"/>
          <p:cNvSpPr/>
          <p:nvPr/>
        </p:nvSpPr>
        <p:spPr>
          <a:xfrm>
            <a:off x="6280200" y="3427560"/>
            <a:ext cx="2863800" cy="1440"/>
          </a:xfrm>
          <a:prstGeom prst="line">
            <a:avLst/>
          </a:prstGeom>
          <a:ln cap="rnd"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25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25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Line 300"/>
          <p:cNvSpPr/>
          <p:nvPr/>
        </p:nvSpPr>
        <p:spPr>
          <a:xfrm>
            <a:off x="0" y="3427560"/>
            <a:ext cx="1116000" cy="1440"/>
          </a:xfrm>
          <a:prstGeom prst="line">
            <a:avLst/>
          </a:prstGeom>
          <a:ln cap="rnd"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3"/>
          <p:cNvSpPr/>
          <p:nvPr/>
        </p:nvSpPr>
        <p:spPr>
          <a:xfrm flipH="1" flipV="1">
            <a:off x="783720" y="2924280"/>
            <a:ext cx="360360" cy="50328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4"/>
          <p:cNvSpPr/>
          <p:nvPr/>
        </p:nvSpPr>
        <p:spPr>
          <a:xfrm flipH="1">
            <a:off x="774720" y="2924280"/>
            <a:ext cx="1147680" cy="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接连接符 7"/>
          <p:cNvSpPr/>
          <p:nvPr/>
        </p:nvSpPr>
        <p:spPr>
          <a:xfrm flipH="1" flipV="1">
            <a:off x="1914120" y="2924280"/>
            <a:ext cx="360360" cy="50328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8"/>
          <p:cNvSpPr/>
          <p:nvPr/>
        </p:nvSpPr>
        <p:spPr>
          <a:xfrm flipH="1">
            <a:off x="774360" y="3425760"/>
            <a:ext cx="360360" cy="50328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直接连接符 9"/>
          <p:cNvSpPr/>
          <p:nvPr/>
        </p:nvSpPr>
        <p:spPr>
          <a:xfrm flipH="1" flipV="1">
            <a:off x="779400" y="3929040"/>
            <a:ext cx="1147680" cy="144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10"/>
          <p:cNvSpPr/>
          <p:nvPr/>
        </p:nvSpPr>
        <p:spPr>
          <a:xfrm flipH="1">
            <a:off x="1914120" y="3406680"/>
            <a:ext cx="360360" cy="50328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1"/>
          <p:cNvSpPr/>
          <p:nvPr/>
        </p:nvSpPr>
        <p:spPr>
          <a:xfrm>
            <a:off x="774720" y="4005360"/>
            <a:ext cx="123840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2"/>
          <p:cNvSpPr/>
          <p:nvPr/>
        </p:nvSpPr>
        <p:spPr>
          <a:xfrm rot="18360000">
            <a:off x="1816920" y="3751920"/>
            <a:ext cx="676080" cy="144360"/>
          </a:xfrm>
          <a:custGeom>
            <a:avLst/>
            <a:gdLst>
              <a:gd name="textAreaLeft" fmla="*/ 0 w 676080"/>
              <a:gd name="textAreaRight" fmla="*/ 676440 w 67608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676278" h="144016">
                <a:moveTo>
                  <a:pt x="0" y="0"/>
                </a:moveTo>
                <a:lnTo>
                  <a:pt x="676278" y="1716"/>
                </a:lnTo>
                <a:lnTo>
                  <a:pt x="494379" y="142500"/>
                </a:lnTo>
                <a:lnTo>
                  <a:pt x="0" y="14401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直接箭头连接符 46"/>
          <p:cNvCxnSpPr/>
          <p:nvPr/>
        </p:nvCxnSpPr>
        <p:spPr>
          <a:xfrm flipV="1">
            <a:off x="774360" y="835920"/>
            <a:ext cx="1080" cy="2088360"/>
          </a:xfrm>
          <a:prstGeom prst="straightConnector1">
            <a:avLst/>
          </a:prstGeom>
          <a:ln w="28440">
            <a:solidFill>
              <a:srgbClr val="ffffff"/>
            </a:solidFill>
            <a:bevel/>
            <a:tailEnd len="med" type="arrow" w="med"/>
          </a:ln>
        </p:spPr>
      </p:cxnSp>
      <p:sp>
        <p:nvSpPr>
          <p:cNvPr id="255" name="TextBox 53"/>
          <p:cNvSpPr/>
          <p:nvPr/>
        </p:nvSpPr>
        <p:spPr>
          <a:xfrm>
            <a:off x="1453320" y="1052640"/>
            <a:ext cx="200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综合教务管理信息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年建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基础数据维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00"/>
          <p:cNvSpPr/>
          <p:nvPr/>
        </p:nvSpPr>
        <p:spPr>
          <a:xfrm>
            <a:off x="8028000" y="3427560"/>
            <a:ext cx="1116000" cy="1440"/>
          </a:xfrm>
          <a:prstGeom prst="line">
            <a:avLst/>
          </a:prstGeom>
          <a:ln cap="rnd"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69"/>
          <p:cNvSpPr/>
          <p:nvPr/>
        </p:nvSpPr>
        <p:spPr>
          <a:xfrm flipH="1" flipV="1">
            <a:off x="2706480" y="2924280"/>
            <a:ext cx="360360" cy="50328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直接连接符 70"/>
          <p:cNvSpPr/>
          <p:nvPr/>
        </p:nvSpPr>
        <p:spPr>
          <a:xfrm flipH="1">
            <a:off x="2697120" y="2924280"/>
            <a:ext cx="1147680" cy="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接连接符 71"/>
          <p:cNvSpPr/>
          <p:nvPr/>
        </p:nvSpPr>
        <p:spPr>
          <a:xfrm flipH="1" flipV="1">
            <a:off x="3836520" y="2924280"/>
            <a:ext cx="358920" cy="50328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直接连接符 72"/>
          <p:cNvSpPr/>
          <p:nvPr/>
        </p:nvSpPr>
        <p:spPr>
          <a:xfrm flipH="1">
            <a:off x="2696760" y="3425760"/>
            <a:ext cx="360360" cy="50328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73"/>
          <p:cNvSpPr/>
          <p:nvPr/>
        </p:nvSpPr>
        <p:spPr>
          <a:xfrm flipH="1" flipV="1">
            <a:off x="2700000" y="3929040"/>
            <a:ext cx="1149480" cy="144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直接连接符 74"/>
          <p:cNvSpPr/>
          <p:nvPr/>
        </p:nvSpPr>
        <p:spPr>
          <a:xfrm flipH="1">
            <a:off x="3836520" y="3406680"/>
            <a:ext cx="358920" cy="50328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75"/>
          <p:cNvSpPr/>
          <p:nvPr/>
        </p:nvSpPr>
        <p:spPr>
          <a:xfrm>
            <a:off x="2697120" y="4005360"/>
            <a:ext cx="123840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2"/>
          <p:cNvSpPr/>
          <p:nvPr/>
        </p:nvSpPr>
        <p:spPr>
          <a:xfrm rot="18360000">
            <a:off x="3738600" y="3752640"/>
            <a:ext cx="676080" cy="142920"/>
          </a:xfrm>
          <a:custGeom>
            <a:avLst/>
            <a:gdLst>
              <a:gd name="textAreaLeft" fmla="*/ 0 w 676080"/>
              <a:gd name="textAreaRight" fmla="*/ 676440 w 6760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676278" h="144016">
                <a:moveTo>
                  <a:pt x="0" y="0"/>
                </a:moveTo>
                <a:lnTo>
                  <a:pt x="676278" y="1716"/>
                </a:lnTo>
                <a:lnTo>
                  <a:pt x="494379" y="142500"/>
                </a:lnTo>
                <a:lnTo>
                  <a:pt x="0" y="14401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直接箭头连接符 77"/>
          <p:cNvCxnSpPr/>
          <p:nvPr/>
        </p:nvCxnSpPr>
        <p:spPr>
          <a:xfrm flipH="1">
            <a:off x="2706480" y="4140000"/>
            <a:ext cx="2160" cy="1531080"/>
          </a:xfrm>
          <a:prstGeom prst="straightConnector1">
            <a:avLst/>
          </a:prstGeom>
          <a:ln w="28440">
            <a:solidFill>
              <a:srgbClr val="ffffff"/>
            </a:solidFill>
            <a:bevel/>
            <a:tailEnd len="med" type="arrow" w="med"/>
          </a:ln>
        </p:spPr>
      </p:cxnSp>
      <p:sp>
        <p:nvSpPr>
          <p:cNvPr id="266" name="TextBox 78"/>
          <p:cNvSpPr/>
          <p:nvPr/>
        </p:nvSpPr>
        <p:spPr>
          <a:xfrm>
            <a:off x="2958480" y="484020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排课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81"/>
          <p:cNvSpPr/>
          <p:nvPr/>
        </p:nvSpPr>
        <p:spPr>
          <a:xfrm flipH="1" flipV="1">
            <a:off x="4671720" y="2924280"/>
            <a:ext cx="360360" cy="50328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接连接符 82"/>
          <p:cNvSpPr/>
          <p:nvPr/>
        </p:nvSpPr>
        <p:spPr>
          <a:xfrm flipH="1">
            <a:off x="4662000" y="2924280"/>
            <a:ext cx="1149480" cy="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83"/>
          <p:cNvSpPr/>
          <p:nvPr/>
        </p:nvSpPr>
        <p:spPr>
          <a:xfrm flipH="1" flipV="1">
            <a:off x="5802120" y="2924280"/>
            <a:ext cx="360360" cy="50328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直接连接符 84"/>
          <p:cNvSpPr/>
          <p:nvPr/>
        </p:nvSpPr>
        <p:spPr>
          <a:xfrm flipH="1">
            <a:off x="4662000" y="3425760"/>
            <a:ext cx="360360" cy="50328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直接连接符 85"/>
          <p:cNvSpPr/>
          <p:nvPr/>
        </p:nvSpPr>
        <p:spPr>
          <a:xfrm flipH="1" flipV="1">
            <a:off x="4667400" y="3929040"/>
            <a:ext cx="1147680" cy="144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86"/>
          <p:cNvSpPr/>
          <p:nvPr/>
        </p:nvSpPr>
        <p:spPr>
          <a:xfrm flipH="1">
            <a:off x="5802120" y="3406680"/>
            <a:ext cx="360360" cy="50328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87"/>
          <p:cNvSpPr/>
          <p:nvPr/>
        </p:nvSpPr>
        <p:spPr>
          <a:xfrm>
            <a:off x="4662360" y="4005360"/>
            <a:ext cx="123984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12"/>
          <p:cNvSpPr/>
          <p:nvPr/>
        </p:nvSpPr>
        <p:spPr>
          <a:xfrm rot="18360000">
            <a:off x="5704560" y="3751920"/>
            <a:ext cx="676080" cy="144360"/>
          </a:xfrm>
          <a:custGeom>
            <a:avLst/>
            <a:gdLst>
              <a:gd name="textAreaLeft" fmla="*/ 0 w 676080"/>
              <a:gd name="textAreaRight" fmla="*/ 676440 w 67608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676278" h="144016">
                <a:moveTo>
                  <a:pt x="0" y="0"/>
                </a:moveTo>
                <a:lnTo>
                  <a:pt x="676278" y="1716"/>
                </a:lnTo>
                <a:lnTo>
                  <a:pt x="494379" y="142500"/>
                </a:lnTo>
                <a:lnTo>
                  <a:pt x="0" y="14401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直接箭头连接符 89"/>
          <p:cNvCxnSpPr/>
          <p:nvPr/>
        </p:nvCxnSpPr>
        <p:spPr>
          <a:xfrm flipV="1">
            <a:off x="4662000" y="1652760"/>
            <a:ext cx="10440" cy="1271880"/>
          </a:xfrm>
          <a:prstGeom prst="straightConnector1">
            <a:avLst/>
          </a:prstGeom>
          <a:ln w="28440">
            <a:solidFill>
              <a:srgbClr val="ffffff"/>
            </a:solidFill>
            <a:bevel/>
            <a:tailEnd len="med" type="arrow" w="med"/>
          </a:ln>
        </p:spPr>
      </p:cxnSp>
      <p:sp>
        <p:nvSpPr>
          <p:cNvPr id="276" name="TextBox 90"/>
          <p:cNvSpPr/>
          <p:nvPr/>
        </p:nvSpPr>
        <p:spPr>
          <a:xfrm>
            <a:off x="4800960" y="1652760"/>
            <a:ext cx="13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课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000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直接连接符 92"/>
          <p:cNvSpPr/>
          <p:nvPr/>
        </p:nvSpPr>
        <p:spPr>
          <a:xfrm flipH="1" flipV="1">
            <a:off x="6516360" y="2933640"/>
            <a:ext cx="358920" cy="50184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直接连接符 93"/>
          <p:cNvSpPr/>
          <p:nvPr/>
        </p:nvSpPr>
        <p:spPr>
          <a:xfrm flipH="1">
            <a:off x="6506640" y="2933640"/>
            <a:ext cx="1148040" cy="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直接连接符 94"/>
          <p:cNvSpPr/>
          <p:nvPr/>
        </p:nvSpPr>
        <p:spPr>
          <a:xfrm flipH="1" flipV="1">
            <a:off x="7644960" y="2933640"/>
            <a:ext cx="360360" cy="50184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直接连接符 95"/>
          <p:cNvSpPr/>
          <p:nvPr/>
        </p:nvSpPr>
        <p:spPr>
          <a:xfrm flipH="1">
            <a:off x="6506640" y="3433680"/>
            <a:ext cx="358920" cy="50328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96"/>
          <p:cNvSpPr/>
          <p:nvPr/>
        </p:nvSpPr>
        <p:spPr>
          <a:xfrm flipH="1">
            <a:off x="6509880" y="3936960"/>
            <a:ext cx="1148040" cy="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直接连接符 97"/>
          <p:cNvSpPr/>
          <p:nvPr/>
        </p:nvSpPr>
        <p:spPr>
          <a:xfrm flipH="1">
            <a:off x="7644960" y="3414600"/>
            <a:ext cx="360360" cy="50328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98"/>
          <p:cNvSpPr/>
          <p:nvPr/>
        </p:nvSpPr>
        <p:spPr>
          <a:xfrm>
            <a:off x="6507000" y="4013280"/>
            <a:ext cx="123840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2"/>
          <p:cNvSpPr/>
          <p:nvPr/>
        </p:nvSpPr>
        <p:spPr>
          <a:xfrm rot="18360000">
            <a:off x="7548480" y="3762000"/>
            <a:ext cx="676440" cy="142920"/>
          </a:xfrm>
          <a:custGeom>
            <a:avLst/>
            <a:gdLst>
              <a:gd name="textAreaLeft" fmla="*/ 0 w 676440"/>
              <a:gd name="textAreaRight" fmla="*/ 676800 w 6764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676278" h="144016">
                <a:moveTo>
                  <a:pt x="0" y="0"/>
                </a:moveTo>
                <a:lnTo>
                  <a:pt x="676278" y="1716"/>
                </a:lnTo>
                <a:lnTo>
                  <a:pt x="494379" y="142500"/>
                </a:lnTo>
                <a:lnTo>
                  <a:pt x="0" y="14401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直接箭头连接符 100"/>
          <p:cNvCxnSpPr/>
          <p:nvPr/>
        </p:nvCxnSpPr>
        <p:spPr>
          <a:xfrm flipH="1">
            <a:off x="6516360" y="4149720"/>
            <a:ext cx="2160" cy="1899360"/>
          </a:xfrm>
          <a:prstGeom prst="straightConnector1">
            <a:avLst/>
          </a:prstGeom>
          <a:ln w="28440">
            <a:solidFill>
              <a:srgbClr val="ffffff"/>
            </a:solidFill>
            <a:bevel/>
            <a:tailEnd len="med" type="arrow" w="med"/>
          </a:ln>
        </p:spPr>
      </p:cxnSp>
      <p:sp>
        <p:nvSpPr>
          <p:cNvPr id="286" name="TextBox 101"/>
          <p:cNvSpPr/>
          <p:nvPr/>
        </p:nvSpPr>
        <p:spPr>
          <a:xfrm>
            <a:off x="6631200" y="4848120"/>
            <a:ext cx="122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综合审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95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25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4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1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350"/>
                            </p:stCondLst>
                            <p:childTnLst>
                              <p:par>
                                <p:cTn id="4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1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4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1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50"/>
                            </p:stCondLst>
                            <p:childTnLst>
                              <p:par>
                                <p:cTn id="4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1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650"/>
                            </p:stCondLst>
                            <p:childTnLst>
                              <p:par>
                                <p:cTn id="4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1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1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850"/>
                            </p:stCondLst>
                            <p:childTnLst>
                              <p:par>
                                <p:cTn id="5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1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5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1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050"/>
                            </p:stCondLst>
                            <p:childTnLst>
                              <p:par>
                                <p:cTn id="5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2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indefinite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indefinite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-999"/>
                            </p:stCondLst>
                            <p:childTnLst>
                              <p:par>
                                <p:cTn id="5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1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-899"/>
                            </p:stCondLst>
                            <p:childTnLst>
                              <p:par>
                                <p:cTn id="5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1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-799"/>
                            </p:stCondLst>
                            <p:childTnLst>
                              <p:par>
                                <p:cTn id="5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1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-699"/>
                            </p:stCondLst>
                            <p:childTnLst>
                              <p:par>
                                <p:cTn id="5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1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-599"/>
                            </p:stCondLst>
                            <p:childTnLst>
                              <p:par>
                                <p:cTn id="5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1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-499"/>
                            </p:stCondLst>
                            <p:childTnLst>
                              <p:par>
                                <p:cTn id="5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1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-399"/>
                            </p:stCondLst>
                            <p:childTnLst>
                              <p:par>
                                <p:cTn id="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1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-299"/>
                            </p:stCondLst>
                            <p:childTnLst>
                              <p:par>
                                <p:cTn id="5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1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-199"/>
                            </p:stCondLst>
                            <p:childTnLst>
                              <p:par>
                                <p:cTn id="5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25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indefinite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indefinite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indefinite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indefinite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indefinite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indefinite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indefinite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indefinite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-999"/>
                            </p:stCondLst>
                            <p:childTnLst>
                              <p:par>
                                <p:cTn id="6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1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-899"/>
                            </p:stCondLst>
                            <p:childTnLst>
                              <p:par>
                                <p:cTn id="6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1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-799"/>
                            </p:stCondLst>
                            <p:childTnLst>
                              <p:par>
                                <p:cTn id="6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1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-699"/>
                            </p:stCondLst>
                            <p:childTnLst>
                              <p:par>
                                <p:cTn id="6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1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-599"/>
                            </p:stCondLst>
                            <p:childTnLst>
                              <p:par>
                                <p:cTn id="6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1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-499"/>
                            </p:stCondLst>
                            <p:childTnLst>
                              <p:par>
                                <p:cTn id="6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1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-399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1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-299"/>
                            </p:stCondLst>
                            <p:childTnLst>
                              <p:par>
                                <p:cTn id="6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1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-199"/>
                            </p:stCondLst>
                            <p:childTnLst>
                              <p:par>
                                <p:cTn id="6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25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indefinite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indefinite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indefinite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indefinite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indefinite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indefinite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indefinite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indefinite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indefinite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indefinite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-999"/>
                            </p:stCondLst>
                            <p:childTnLst>
                              <p:par>
                                <p:cTn id="6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1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-899"/>
                            </p:stCondLst>
                            <p:childTnLst>
                              <p:par>
                                <p:cTn id="6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1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-799"/>
                            </p:stCondLst>
                            <p:childTnLst>
                              <p:par>
                                <p:cTn id="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1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-699"/>
                            </p:stCondLst>
                            <p:childTnLst>
                              <p:par>
                                <p:cTn id="6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1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-599"/>
                            </p:stCondLst>
                            <p:childTnLst>
                              <p:par>
                                <p:cTn id="6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1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-499"/>
                            </p:stCondLst>
                            <p:childTnLst>
                              <p:par>
                                <p:cTn id="6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1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-399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1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-299"/>
                            </p:stCondLst>
                            <p:childTnLst>
                              <p:par>
                                <p:cTn id="6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1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-199"/>
                            </p:stCondLst>
                            <p:childTnLst>
                              <p:par>
                                <p:cTn id="7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25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indefinite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indefinite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indefinite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indefinite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indefinite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indefinite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indefinite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indefinite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indefinite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indefinite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25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圆角矩形 3"/>
          <p:cNvSpPr/>
          <p:nvPr/>
        </p:nvSpPr>
        <p:spPr>
          <a:xfrm>
            <a:off x="2048040" y="836640"/>
            <a:ext cx="6411600" cy="5256360"/>
          </a:xfrm>
          <a:custGeom>
            <a:avLst/>
            <a:gdLst>
              <a:gd name="textAreaLeft" fmla="*/ 0 w 6411600"/>
              <a:gd name="textAreaRight" fmla="*/ 6411960 w 6411600"/>
              <a:gd name="textAreaTop" fmla="*/ 0 h 5256360"/>
              <a:gd name="textAreaBottom" fmla="*/ 5256720 h 5256360"/>
            </a:gdLst>
            <a:ahLst/>
            <a:rect l="textAreaLeft" t="textAreaTop" r="textAreaRight" b="textAreaBottom"/>
            <a:pathLst>
              <a:path w="6413028" h="4608512">
                <a:moveTo>
                  <a:pt x="38100" y="450601"/>
                </a:moveTo>
                <a:cubicBezTo>
                  <a:pt x="38100" y="26391"/>
                  <a:pt x="102591" y="12700"/>
                  <a:pt x="526801" y="12700"/>
                </a:cubicBezTo>
                <a:lnTo>
                  <a:pt x="5810027" y="0"/>
                </a:lnTo>
                <a:cubicBezTo>
                  <a:pt x="6234237" y="0"/>
                  <a:pt x="6413028" y="343891"/>
                  <a:pt x="6413028" y="768101"/>
                </a:cubicBezTo>
                <a:lnTo>
                  <a:pt x="6413028" y="3840411"/>
                </a:lnTo>
                <a:cubicBezTo>
                  <a:pt x="6413028" y="4264621"/>
                  <a:pt x="6310437" y="4608512"/>
                  <a:pt x="5886227" y="4608512"/>
                </a:cubicBezTo>
                <a:lnTo>
                  <a:pt x="552201" y="4595812"/>
                </a:lnTo>
                <a:cubicBezTo>
                  <a:pt x="127991" y="4595812"/>
                  <a:pt x="0" y="4658321"/>
                  <a:pt x="0" y="4234111"/>
                </a:cubicBezTo>
                <a:lnTo>
                  <a:pt x="38100" y="450601"/>
                </a:lnTo>
                <a:close/>
              </a:path>
            </a:pathLst>
          </a:custGeom>
          <a:gradFill rotWithShape="0">
            <a:gsLst>
              <a:gs pos="0">
                <a:srgbClr val="8cb3e3"/>
              </a:gs>
              <a:gs pos="100000">
                <a:srgbClr val="538cd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5" descr="N:\256x256\碳笔扫描风格图标\20071221161527178.png"/>
          <p:cNvPicPr/>
          <p:nvPr/>
        </p:nvPicPr>
        <p:blipFill>
          <a:blip r:embed="rId1"/>
          <a:stretch/>
        </p:blipFill>
        <p:spPr>
          <a:xfrm>
            <a:off x="3629160" y="7029360"/>
            <a:ext cx="3251160" cy="3251160"/>
          </a:xfrm>
          <a:prstGeom prst="rect">
            <a:avLst/>
          </a:prstGeom>
          <a:ln w="0">
            <a:noFill/>
          </a:ln>
        </p:spPr>
      </p:pic>
      <p:sp>
        <p:nvSpPr>
          <p:cNvPr id="289" name="Line 300"/>
          <p:cNvSpPr/>
          <p:nvPr/>
        </p:nvSpPr>
        <p:spPr>
          <a:xfrm>
            <a:off x="0" y="3427560"/>
            <a:ext cx="1116000" cy="1440"/>
          </a:xfrm>
          <a:prstGeom prst="line">
            <a:avLst/>
          </a:prstGeom>
          <a:ln cap="rnd"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圆角矩形 2"/>
          <p:cNvSpPr/>
          <p:nvPr/>
        </p:nvSpPr>
        <p:spPr>
          <a:xfrm>
            <a:off x="1116000" y="836640"/>
            <a:ext cx="792000" cy="5256360"/>
          </a:xfrm>
          <a:custGeom>
            <a:avLst/>
            <a:gdLst>
              <a:gd name="textAreaLeft" fmla="*/ 38520 w 792000"/>
              <a:gd name="textAreaRight" fmla="*/ 753480 w 792000"/>
              <a:gd name="textAreaTop" fmla="*/ 38520 h 5256360"/>
              <a:gd name="textAreaBottom" fmla="*/ 5217840 h 5256360"/>
            </a:gdLst>
            <a:ahLst/>
            <a:rect l="textAreaLeft" t="textAreaTop" r="textAreaRight" b="textAreaBottom"/>
            <a:pathLst>
              <a:path w="21600" h="143300">
                <a:moveTo>
                  <a:pt x="3600" y="0"/>
                </a:moveTo>
                <a:arcTo wR="3600" hR="3600" stAng="16200000" swAng="-5400000"/>
                <a:lnTo>
                  <a:pt x="0" y="139700"/>
                </a:lnTo>
                <a:arcTo wR="3600" hR="3600" stAng="10800000" swAng="-5400000"/>
                <a:lnTo>
                  <a:pt x="18000" y="1433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综合考务管理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5"/>
          <p:cNvSpPr/>
          <p:nvPr/>
        </p:nvSpPr>
        <p:spPr>
          <a:xfrm flipV="1">
            <a:off x="1116000" y="952200"/>
            <a:ext cx="1440" cy="248436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8"/>
          <p:cNvSpPr/>
          <p:nvPr/>
        </p:nvSpPr>
        <p:spPr>
          <a:xfrm flipV="1">
            <a:off x="1116000" y="3428640"/>
            <a:ext cx="1440" cy="248436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3" descr="N:\256x256\碳笔扫描风格图标\20071221161527426.png"/>
          <p:cNvPicPr/>
          <p:nvPr/>
        </p:nvPicPr>
        <p:blipFill>
          <a:blip r:embed="rId2"/>
          <a:stretch/>
        </p:blipFill>
        <p:spPr>
          <a:xfrm>
            <a:off x="3629160" y="702936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N:\256x256\碳笔扫描风格图标\20071221161532646.png"/>
          <p:cNvPicPr/>
          <p:nvPr/>
        </p:nvPicPr>
        <p:blipFill>
          <a:blip r:embed="rId3"/>
          <a:stretch/>
        </p:blipFill>
        <p:spPr>
          <a:xfrm>
            <a:off x="3629160" y="7029360"/>
            <a:ext cx="325116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0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1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7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1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1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7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25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7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25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96296E-006 L 0.00417 -0.77246 E">
                                      <p:cBhvr>
                                        <p:cTn id="763" dur="5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7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77246 L 0.00417 -1.65463 E">
                                      <p:cBhvr>
                                        <p:cTn id="772" dur="5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96296E-006 L 0.00417 -0.77246 E">
                                      <p:cBhvr>
                                        <p:cTn id="779" dur="5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3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77246 L 0.00417 -1.65463 E">
                                      <p:cBhvr>
                                        <p:cTn id="788" dur="5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96296E-006 L 0.00417 -0.77246 E">
                                      <p:cBhvr>
                                        <p:cTn id="795" dur="5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77246 L 0.00417 -1.65463 E">
                                      <p:cBhvr>
                                        <p:cTn id="804" dur="5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2:11:00Z</dcterms:created>
  <dc:creator>TITAN</dc:creator>
  <dc:description/>
  <cp:keywords/>
  <dc:language>en-US</dc:language>
  <cp:lastModifiedBy>王玉清</cp:lastModifiedBy>
  <dcterms:modified xsi:type="dcterms:W3CDTF">2016-02-19T04:50:11Z</dcterms:modified>
  <cp:revision>26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