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CB706-FB7A-41D4-A2F7-6EA44E160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9C648-C993-491F-BF6B-E76EFFC7F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20A80-B010-44F1-8FEA-66BF62844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8800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4436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3164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8800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4436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4E721-6887-4303-B19F-F1429373C7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9DF98-5063-4712-A15F-9D39E8535E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D65CB-A6FF-49D3-8CB7-BCF3AA1BF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DE192-EC85-44BA-9F5C-48F18D0E9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F5820-16D5-42D3-B633-DC07EA91C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576360"/>
            <a:ext cx="747720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84953-E11C-4B7F-98DB-836CE80D5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CB634-A261-47F2-9C2C-8468DAA9A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814B4-1DCD-40DF-95F0-337FDC265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15ECE-98FE-4E2F-9B37-DCC1403BA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37"/>
          <p:cNvSpPr/>
          <p:nvPr/>
        </p:nvSpPr>
        <p:spPr>
          <a:xfrm rot="5400000">
            <a:off x="-2099160" y="3143160"/>
            <a:ext cx="6874200" cy="590760"/>
          </a:xfrm>
          <a:custGeom>
            <a:avLst/>
            <a:gdLst>
              <a:gd name="textAreaLeft" fmla="*/ 0 w 6874200"/>
              <a:gd name="textAreaRight" fmla="*/ 6874560 w 6874200"/>
              <a:gd name="textAreaTop" fmla="*/ 0 h 590760"/>
              <a:gd name="textAreaBottom" fmla="*/ 591120 h 590760"/>
            </a:gdLst>
            <a:ahLst/>
            <a:rect l="textAreaLeft" t="textAreaTop" r="textAreaRight" b="textAreaBottom"/>
            <a:pathLst>
              <a:path w="5765" h="372">
                <a:moveTo>
                  <a:pt x="0" y="31"/>
                </a:moveTo>
                <a:cubicBezTo>
                  <a:pt x="722" y="175"/>
                  <a:pt x="1841" y="300"/>
                  <a:pt x="2802" y="295"/>
                </a:cubicBezTo>
                <a:cubicBezTo>
                  <a:pt x="3763" y="290"/>
                  <a:pt x="5272" y="18"/>
                  <a:pt x="5765" y="0"/>
                </a:cubicBezTo>
                <a:cubicBezTo>
                  <a:pt x="5765" y="0"/>
                  <a:pt x="5762" y="100"/>
                  <a:pt x="5761" y="184"/>
                </a:cubicBezTo>
                <a:cubicBezTo>
                  <a:pt x="5241" y="248"/>
                  <a:pt x="3771" y="362"/>
                  <a:pt x="2810" y="367"/>
                </a:cubicBezTo>
                <a:cubicBezTo>
                  <a:pt x="1850" y="372"/>
                  <a:pt x="468" y="272"/>
                  <a:pt x="0" y="216"/>
                </a:cubicBezTo>
                <a:cubicBezTo>
                  <a:pt x="0" y="116"/>
                  <a:pt x="0" y="31"/>
                  <a:pt x="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1106640" y="0"/>
            <a:ext cx="950760" cy="6875640"/>
          </a:xfrm>
          <a:custGeom>
            <a:avLst/>
            <a:gdLst>
              <a:gd name="textAreaLeft" fmla="*/ 0 w 950760"/>
              <a:gd name="textAreaRight" fmla="*/ 951120 w 950760"/>
              <a:gd name="textAreaTop" fmla="*/ 0 h 6875640"/>
              <a:gd name="textAreaBottom" fmla="*/ 6876000 h 6875640"/>
            </a:gdLst>
            <a:ahLst/>
            <a:rect l="textAreaLeft" t="textAreaTop" r="textAreaRight" b="textAreaBottom"/>
            <a:pathLst>
              <a:path w="599" h="4331">
                <a:moveTo>
                  <a:pt x="591" y="0"/>
                </a:moveTo>
                <a:cubicBezTo>
                  <a:pt x="247" y="529"/>
                  <a:pt x="73" y="1373"/>
                  <a:pt x="77" y="2094"/>
                </a:cubicBezTo>
                <a:cubicBezTo>
                  <a:pt x="78" y="2816"/>
                  <a:pt x="254" y="3788"/>
                  <a:pt x="596" y="4331"/>
                </a:cubicBezTo>
                <a:cubicBezTo>
                  <a:pt x="599" y="4331"/>
                  <a:pt x="413" y="4331"/>
                  <a:pt x="324" y="4331"/>
                </a:cubicBezTo>
                <a:cubicBezTo>
                  <a:pt x="214" y="3941"/>
                  <a:pt x="10" y="2822"/>
                  <a:pt x="5" y="2100"/>
                </a:cubicBezTo>
                <a:cubicBezTo>
                  <a:pt x="0" y="1378"/>
                  <a:pt x="196" y="351"/>
                  <a:pt x="293" y="1"/>
                </a:cubicBezTo>
                <a:cubicBezTo>
                  <a:pt x="394" y="1"/>
                  <a:pt x="591" y="0"/>
                  <a:pt x="591" y="0"/>
                </a:cubicBez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" name="Freeform 39"/>
          <p:cNvSpPr/>
          <p:nvPr/>
        </p:nvSpPr>
        <p:spPr>
          <a:xfrm>
            <a:off x="1217520" y="-12600"/>
            <a:ext cx="7931160" cy="6889680"/>
          </a:xfrm>
          <a:custGeom>
            <a:avLst/>
            <a:gdLst>
              <a:gd name="textAreaLeft" fmla="*/ 0 w 7931160"/>
              <a:gd name="textAreaRight" fmla="*/ 7931520 w 7931160"/>
              <a:gd name="textAreaTop" fmla="*/ 0 h 6889680"/>
              <a:gd name="textAreaBottom" fmla="*/ 6890040 h 6889680"/>
            </a:gdLst>
            <a:ahLst/>
            <a:rect l="textAreaLeft" t="textAreaTop" r="textAreaRight" b="textAreaBottom"/>
            <a:pathLst>
              <a:path w="4996" h="4339">
                <a:moveTo>
                  <a:pt x="4993" y="0"/>
                </a:moveTo>
                <a:cubicBezTo>
                  <a:pt x="4993" y="0"/>
                  <a:pt x="4990" y="4335"/>
                  <a:pt x="4993" y="4336"/>
                </a:cubicBezTo>
                <a:cubicBezTo>
                  <a:pt x="4996" y="4337"/>
                  <a:pt x="615" y="4339"/>
                  <a:pt x="526" y="4339"/>
                </a:cubicBezTo>
                <a:cubicBezTo>
                  <a:pt x="342" y="4021"/>
                  <a:pt x="8" y="3349"/>
                  <a:pt x="0" y="2115"/>
                </a:cubicBezTo>
                <a:cubicBezTo>
                  <a:pt x="8" y="928"/>
                  <a:pt x="327" y="349"/>
                  <a:pt x="523" y="0"/>
                </a:cubicBezTo>
                <a:cubicBezTo>
                  <a:pt x="623" y="0"/>
                  <a:pt x="4993" y="0"/>
                  <a:pt x="4993" y="0"/>
                </a:cubicBezTo>
                <a:close/>
              </a:path>
            </a:pathLst>
          </a:custGeom>
          <a:solidFill>
            <a:srgbClr val="c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Verdana"/>
              <a:buChar char="–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Wingdings" charset="2"/>
              <a:buChar char="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5327280" y="0"/>
            <a:ext cx="3816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1358640" y="6524640"/>
            <a:ext cx="765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90d800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A151-A64A-4DE4-A137-52D1795DF6C8}" type="slidenum">
              <a:rPr b="1" lang="zh-CN" sz="1400" spc="-1" strike="noStrike">
                <a:solidFill>
                  <a:srgbClr val="90d800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7047000" y="6477120"/>
            <a:ext cx="186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0d800"/>
                </a:solidFill>
                <a:latin typeface="Verdana"/>
                <a:ea typeface="Gulim"/>
              </a:rPr>
              <a:t>COMPANY LOGO</a:t>
            </a:r>
            <a:endParaRPr b="0" lang="en-US" sz="1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jinrong/" TargetMode="External"/><Relationship Id="rId2" Type="http://schemas.openxmlformats.org/officeDocument/2006/relationships/hyperlink" Target="http://www.eeppt.com/moban/jinrong/" TargetMode="External"/><Relationship Id="rId3" Type="http://schemas.openxmlformats.org/officeDocument/2006/relationships/hyperlink" Target="http://www.eeppt.com/moban/jinrong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49"/>
          <p:cNvSpPr/>
          <p:nvPr/>
        </p:nvSpPr>
        <p:spPr>
          <a:xfrm>
            <a:off x="-3240" y="1589040"/>
            <a:ext cx="9153720" cy="59076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590760"/>
              <a:gd name="textAreaBottom" fmla="*/ 591120 h 590760"/>
            </a:gdLst>
            <a:ahLst/>
            <a:rect l="textAreaLeft" t="textAreaTop" r="textAreaRight" b="textAreaBottom"/>
            <a:pathLst>
              <a:path w="5765" h="372">
                <a:moveTo>
                  <a:pt x="0" y="31"/>
                </a:moveTo>
                <a:cubicBezTo>
                  <a:pt x="722" y="175"/>
                  <a:pt x="1841" y="300"/>
                  <a:pt x="2802" y="295"/>
                </a:cubicBezTo>
                <a:cubicBezTo>
                  <a:pt x="3763" y="290"/>
                  <a:pt x="5272" y="18"/>
                  <a:pt x="5765" y="0"/>
                </a:cubicBezTo>
                <a:cubicBezTo>
                  <a:pt x="5765" y="0"/>
                  <a:pt x="5762" y="100"/>
                  <a:pt x="5761" y="184"/>
                </a:cubicBezTo>
                <a:cubicBezTo>
                  <a:pt x="5241" y="248"/>
                  <a:pt x="3771" y="362"/>
                  <a:pt x="2810" y="367"/>
                </a:cubicBezTo>
                <a:cubicBezTo>
                  <a:pt x="1850" y="372"/>
                  <a:pt x="468" y="272"/>
                  <a:pt x="0" y="216"/>
                </a:cubicBezTo>
                <a:cubicBezTo>
                  <a:pt x="0" y="116"/>
                  <a:pt x="0" y="31"/>
                  <a:pt x="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45" name="Freeform 50"/>
          <p:cNvSpPr/>
          <p:nvPr/>
        </p:nvSpPr>
        <p:spPr>
          <a:xfrm>
            <a:off x="-4680" y="1174680"/>
            <a:ext cx="9153360" cy="954000"/>
          </a:xfrm>
          <a:custGeom>
            <a:avLst/>
            <a:gdLst>
              <a:gd name="textAreaLeft" fmla="*/ 0 w 9153360"/>
              <a:gd name="textAreaRight" fmla="*/ 9153720 w 9153360"/>
              <a:gd name="textAreaTop" fmla="*/ 0 h 954000"/>
              <a:gd name="textAreaBottom" fmla="*/ 954360 h 954000"/>
            </a:gdLst>
            <a:ahLst/>
            <a:rect l="textAreaLeft" t="textAreaTop" r="textAreaRight" b="textAreaBottom"/>
            <a:pathLst>
              <a:path w="5766" h="601">
                <a:moveTo>
                  <a:pt x="0" y="10"/>
                </a:moveTo>
                <a:cubicBezTo>
                  <a:pt x="704" y="354"/>
                  <a:pt x="1827" y="528"/>
                  <a:pt x="2787" y="524"/>
                </a:cubicBezTo>
                <a:cubicBezTo>
                  <a:pt x="3748" y="523"/>
                  <a:pt x="5042" y="345"/>
                  <a:pt x="5765" y="3"/>
                </a:cubicBezTo>
                <a:cubicBezTo>
                  <a:pt x="5766" y="0"/>
                  <a:pt x="5765" y="188"/>
                  <a:pt x="5765" y="277"/>
                </a:cubicBezTo>
                <a:cubicBezTo>
                  <a:pt x="5246" y="387"/>
                  <a:pt x="3757" y="591"/>
                  <a:pt x="2795" y="596"/>
                </a:cubicBezTo>
                <a:cubicBezTo>
                  <a:pt x="1834" y="601"/>
                  <a:pt x="467" y="405"/>
                  <a:pt x="1" y="307"/>
                </a:cubicBezTo>
                <a:cubicBezTo>
                  <a:pt x="1" y="207"/>
                  <a:pt x="0" y="10"/>
                  <a:pt x="0" y="10"/>
                </a:cubicBez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46" name="Freeform 54"/>
          <p:cNvSpPr/>
          <p:nvPr/>
        </p:nvSpPr>
        <p:spPr>
          <a:xfrm>
            <a:off x="0" y="-17640"/>
            <a:ext cx="9158400" cy="2048040"/>
          </a:xfrm>
          <a:custGeom>
            <a:avLst/>
            <a:gdLst>
              <a:gd name="textAreaLeft" fmla="*/ 0 w 9158400"/>
              <a:gd name="textAreaRight" fmla="*/ 9158760 w 9158400"/>
              <a:gd name="textAreaTop" fmla="*/ 0 h 2048040"/>
              <a:gd name="textAreaBottom" fmla="*/ 2048400 h 2048040"/>
            </a:gdLst>
            <a:ahLst/>
            <a:rect l="textAreaLeft" t="textAreaTop" r="textAreaRight" b="textAreaBottom"/>
            <a:pathLst>
              <a:path w="5769" h="1290">
                <a:moveTo>
                  <a:pt x="0" y="3"/>
                </a:moveTo>
                <a:cubicBezTo>
                  <a:pt x="0" y="3"/>
                  <a:pt x="5767" y="6"/>
                  <a:pt x="5768" y="3"/>
                </a:cubicBezTo>
                <a:cubicBezTo>
                  <a:pt x="5769" y="0"/>
                  <a:pt x="5766" y="668"/>
                  <a:pt x="5766" y="757"/>
                </a:cubicBezTo>
                <a:cubicBezTo>
                  <a:pt x="5310" y="943"/>
                  <a:pt x="4445" y="1282"/>
                  <a:pt x="2802" y="1290"/>
                </a:cubicBezTo>
                <a:cubicBezTo>
                  <a:pt x="1222" y="1282"/>
                  <a:pt x="466" y="964"/>
                  <a:pt x="1" y="768"/>
                </a:cubicBezTo>
                <a:cubicBezTo>
                  <a:pt x="1" y="668"/>
                  <a:pt x="0" y="3"/>
                  <a:pt x="0" y="3"/>
                </a:cubicBezTo>
                <a:close/>
              </a:path>
            </a:pathLst>
          </a:custGeom>
          <a:solidFill>
            <a:srgbClr val="c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7308720" y="5805360"/>
            <a:ext cx="15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0d800"/>
                </a:solidFill>
                <a:latin typeface="Verdana"/>
                <a:ea typeface="Gulim"/>
              </a:rPr>
              <a:t>Company</a:t>
            </a:r>
            <a:r>
              <a:rPr b="0" lang="zh-CN" sz="2000" spc="-1" strike="noStrike">
                <a:solidFill>
                  <a:srgbClr val="90d800"/>
                </a:solidFill>
                <a:latin typeface="Verdana"/>
                <a:ea typeface="Gulim"/>
              </a:rPr>
              <a:t> </a:t>
            </a:r>
            <a:r>
              <a:rPr b="1" lang="zh-CN" sz="2800" spc="-1" strike="noStrike">
                <a:solidFill>
                  <a:srgbClr val="90d800"/>
                </a:solidFill>
                <a:latin typeface="Verdana"/>
                <a:ea typeface="Gulim"/>
              </a:rPr>
              <a:t>LOGO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48" name="Freeform 62"/>
          <p:cNvSpPr/>
          <p:nvPr/>
        </p:nvSpPr>
        <p:spPr>
          <a:xfrm flipV="1">
            <a:off x="-4320" y="4771800"/>
            <a:ext cx="9151920" cy="590400"/>
          </a:xfrm>
          <a:custGeom>
            <a:avLst/>
            <a:gdLst>
              <a:gd name="textAreaLeft" fmla="*/ 0 w 9151920"/>
              <a:gd name="textAreaRight" fmla="*/ 9152280 w 9151920"/>
              <a:gd name="textAreaTop" fmla="*/ 360 h 590400"/>
              <a:gd name="textAreaBottom" fmla="*/ 591120 h 590400"/>
            </a:gdLst>
            <a:ahLst/>
            <a:rect l="textAreaLeft" t="textAreaTop" r="textAreaRight" b="textAreaBottom"/>
            <a:pathLst>
              <a:path w="5765" h="372">
                <a:moveTo>
                  <a:pt x="0" y="31"/>
                </a:moveTo>
                <a:cubicBezTo>
                  <a:pt x="722" y="175"/>
                  <a:pt x="1841" y="300"/>
                  <a:pt x="2802" y="295"/>
                </a:cubicBezTo>
                <a:cubicBezTo>
                  <a:pt x="3763" y="290"/>
                  <a:pt x="5272" y="18"/>
                  <a:pt x="5765" y="0"/>
                </a:cubicBezTo>
                <a:cubicBezTo>
                  <a:pt x="5765" y="0"/>
                  <a:pt x="5762" y="100"/>
                  <a:pt x="5761" y="184"/>
                </a:cubicBezTo>
                <a:cubicBezTo>
                  <a:pt x="5241" y="248"/>
                  <a:pt x="3771" y="362"/>
                  <a:pt x="2810" y="367"/>
                </a:cubicBezTo>
                <a:cubicBezTo>
                  <a:pt x="1850" y="372"/>
                  <a:pt x="468" y="272"/>
                  <a:pt x="0" y="216"/>
                </a:cubicBezTo>
                <a:cubicBezTo>
                  <a:pt x="0" y="116"/>
                  <a:pt x="0" y="31"/>
                  <a:pt x="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49" name="Freeform 63"/>
          <p:cNvSpPr/>
          <p:nvPr/>
        </p:nvSpPr>
        <p:spPr>
          <a:xfrm flipV="1">
            <a:off x="-6120" y="4822560"/>
            <a:ext cx="9153720" cy="954000"/>
          </a:xfrm>
          <a:custGeom>
            <a:avLst/>
            <a:gdLst>
              <a:gd name="textAreaLeft" fmla="*/ 0 w 9153720"/>
              <a:gd name="textAreaRight" fmla="*/ 9154080 w 9153720"/>
              <a:gd name="textAreaTop" fmla="*/ 360 h 954000"/>
              <a:gd name="textAreaBottom" fmla="*/ 954720 h 954000"/>
            </a:gdLst>
            <a:ahLst/>
            <a:rect l="textAreaLeft" t="textAreaTop" r="textAreaRight" b="textAreaBottom"/>
            <a:pathLst>
              <a:path w="5766" h="601">
                <a:moveTo>
                  <a:pt x="0" y="10"/>
                </a:moveTo>
                <a:cubicBezTo>
                  <a:pt x="704" y="354"/>
                  <a:pt x="1827" y="528"/>
                  <a:pt x="2787" y="524"/>
                </a:cubicBezTo>
                <a:cubicBezTo>
                  <a:pt x="3748" y="523"/>
                  <a:pt x="5042" y="345"/>
                  <a:pt x="5765" y="3"/>
                </a:cubicBezTo>
                <a:cubicBezTo>
                  <a:pt x="5766" y="0"/>
                  <a:pt x="5765" y="188"/>
                  <a:pt x="5765" y="277"/>
                </a:cubicBezTo>
                <a:cubicBezTo>
                  <a:pt x="5246" y="387"/>
                  <a:pt x="3757" y="591"/>
                  <a:pt x="2795" y="596"/>
                </a:cubicBezTo>
                <a:cubicBezTo>
                  <a:pt x="1834" y="601"/>
                  <a:pt x="467" y="405"/>
                  <a:pt x="1" y="307"/>
                </a:cubicBezTo>
                <a:cubicBezTo>
                  <a:pt x="1" y="207"/>
                  <a:pt x="0" y="10"/>
                  <a:pt x="0" y="10"/>
                </a:cubicBez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50" name="Freeform 64"/>
          <p:cNvSpPr/>
          <p:nvPr/>
        </p:nvSpPr>
        <p:spPr>
          <a:xfrm>
            <a:off x="0" y="4921200"/>
            <a:ext cx="9151920" cy="1940040"/>
          </a:xfrm>
          <a:custGeom>
            <a:avLst/>
            <a:gdLst>
              <a:gd name="textAreaLeft" fmla="*/ 0 w 9151920"/>
              <a:gd name="textAreaRight" fmla="*/ 9152280 w 9151920"/>
              <a:gd name="textAreaTop" fmla="*/ 0 h 1940040"/>
              <a:gd name="textAreaBottom" fmla="*/ 1940400 h 1940040"/>
            </a:gdLst>
            <a:ahLst/>
            <a:rect l="textAreaLeft" t="textAreaTop" r="textAreaRight" b="textAreaBottom"/>
            <a:pathLst>
              <a:path w="5765" h="1222">
                <a:moveTo>
                  <a:pt x="0" y="1220"/>
                </a:moveTo>
                <a:cubicBezTo>
                  <a:pt x="0" y="1220"/>
                  <a:pt x="5762" y="1216"/>
                  <a:pt x="5763" y="1219"/>
                </a:cubicBezTo>
                <a:cubicBezTo>
                  <a:pt x="5764" y="1222"/>
                  <a:pt x="5765" y="622"/>
                  <a:pt x="5765" y="533"/>
                </a:cubicBezTo>
                <a:cubicBezTo>
                  <a:pt x="5309" y="347"/>
                  <a:pt x="4444" y="8"/>
                  <a:pt x="2801" y="0"/>
                </a:cubicBezTo>
                <a:cubicBezTo>
                  <a:pt x="1221" y="8"/>
                  <a:pt x="465" y="326"/>
                  <a:pt x="0" y="522"/>
                </a:cubicBezTo>
                <a:cubicBezTo>
                  <a:pt x="0" y="622"/>
                  <a:pt x="0" y="1220"/>
                  <a:pt x="0" y="1220"/>
                </a:cubicBezTo>
                <a:close/>
              </a:path>
            </a:pathLst>
          </a:custGeom>
          <a:solidFill>
            <a:srgbClr val="c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1440" y="259920"/>
            <a:ext cx="6624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别墅动态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3"/>
          <p:cNvSpPr/>
          <p:nvPr/>
        </p:nvSpPr>
        <p:spPr>
          <a:xfrm>
            <a:off x="1359000" y="6524640"/>
            <a:ext cx="765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D9B9-1E2A-431F-87DC-3073BD881D71}" type="slidenum">
              <a:rPr b="1" lang="zh-CN" sz="1400" spc="-1" strike="noStrike">
                <a:solidFill>
                  <a:srgbClr val="90d800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22" name="Freeform 2"/>
          <p:cNvSpPr/>
          <p:nvPr/>
        </p:nvSpPr>
        <p:spPr>
          <a:xfrm>
            <a:off x="1866960" y="1925640"/>
            <a:ext cx="2706480" cy="1182600"/>
          </a:xfrm>
          <a:custGeom>
            <a:avLst/>
            <a:gdLst>
              <a:gd name="textAreaLeft" fmla="*/ 0 w 2706480"/>
              <a:gd name="textAreaRight" fmla="*/ 2706840 w 2706480"/>
              <a:gd name="textAreaTop" fmla="*/ 0 h 1182600"/>
              <a:gd name="textAreaBottom" fmla="*/ 1182960 h 1182600"/>
            </a:gdLst>
            <a:ahLst/>
            <a:rect l="textAreaLeft" t="textAreaTop" r="textAreaRight" b="textAreaBottom"/>
            <a:pathLst>
              <a:path w="1705" h="745">
                <a:moveTo>
                  <a:pt x="1704" y="0"/>
                </a:moveTo>
                <a:lnTo>
                  <a:pt x="744" y="0"/>
                </a:lnTo>
                <a:lnTo>
                  <a:pt x="0" y="744"/>
                </a:lnTo>
              </a:path>
            </a:pathLst>
          </a:custGeom>
          <a:noFill/>
          <a:ln cap="rnd" w="7632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4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Freeform 5"/>
          <p:cNvSpPr/>
          <p:nvPr/>
        </p:nvSpPr>
        <p:spPr>
          <a:xfrm>
            <a:off x="1866960" y="4476600"/>
            <a:ext cx="2706480" cy="1182960"/>
          </a:xfrm>
          <a:custGeom>
            <a:avLst/>
            <a:gdLst>
              <a:gd name="textAreaLeft" fmla="*/ 0 w 2706480"/>
              <a:gd name="textAreaRight" fmla="*/ 2706840 w 2706480"/>
              <a:gd name="textAreaTop" fmla="*/ 0 h 1182960"/>
              <a:gd name="textAreaBottom" fmla="*/ 1183320 h 1182960"/>
            </a:gdLst>
            <a:ahLst/>
            <a:rect l="textAreaLeft" t="textAreaTop" r="textAreaRight" b="textAreaBottom"/>
            <a:pathLst>
              <a:path w="1705" h="745">
                <a:moveTo>
                  <a:pt x="1704" y="744"/>
                </a:moveTo>
                <a:lnTo>
                  <a:pt x="744" y="74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25" name="Freeform 10"/>
          <p:cNvSpPr/>
          <p:nvPr/>
        </p:nvSpPr>
        <p:spPr>
          <a:xfrm>
            <a:off x="3124080" y="3192480"/>
            <a:ext cx="1449360" cy="420840"/>
          </a:xfrm>
          <a:custGeom>
            <a:avLst/>
            <a:gdLst>
              <a:gd name="textAreaLeft" fmla="*/ 0 w 1449360"/>
              <a:gd name="textAreaRight" fmla="*/ 1449720 w 144936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913" h="265">
                <a:moveTo>
                  <a:pt x="912" y="0"/>
                </a:moveTo>
                <a:lnTo>
                  <a:pt x="396" y="0"/>
                </a:lnTo>
                <a:lnTo>
                  <a:pt x="0" y="264"/>
                </a:lnTo>
              </a:path>
            </a:pathLst>
          </a:custGeom>
          <a:noFill/>
          <a:ln cap="rnd" w="7632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26" name="Freeform 11"/>
          <p:cNvSpPr/>
          <p:nvPr/>
        </p:nvSpPr>
        <p:spPr>
          <a:xfrm>
            <a:off x="3124080" y="3989520"/>
            <a:ext cx="1449360" cy="420480"/>
          </a:xfrm>
          <a:custGeom>
            <a:avLst/>
            <a:gdLst>
              <a:gd name="textAreaLeft" fmla="*/ 0 w 1449360"/>
              <a:gd name="textAreaRight" fmla="*/ 1449720 w 144936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913" h="265">
                <a:moveTo>
                  <a:pt x="912" y="264"/>
                </a:moveTo>
                <a:lnTo>
                  <a:pt x="396" y="26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324000" y="2362320"/>
            <a:ext cx="2958840" cy="2921040"/>
          </a:xfrm>
          <a:prstGeom prst="ellipse">
            <a:avLst/>
          </a:prstGeom>
          <a:gradFill rotWithShape="0">
            <a:gsLst>
              <a:gs pos="0">
                <a:srgbClr val="c08000"/>
              </a:gs>
              <a:gs pos="100000">
                <a:srgbClr val="573a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Topic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578480" y="149400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100000">
                <a:srgbClr val="005700"/>
              </a:gs>
            </a:gsLst>
            <a:lin ang="5400000"/>
          </a:gradFill>
          <a:ln w="3816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4578480" y="270360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d800"/>
              </a:gs>
              <a:gs pos="100000">
                <a:srgbClr val="7bba00"/>
              </a:gs>
            </a:gsLst>
            <a:lin ang="5400000"/>
          </a:gradFill>
          <a:ln w="3816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4578480" y="390060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8000"/>
              </a:gs>
              <a:gs pos="100000">
                <a:srgbClr val="a46d00"/>
              </a:gs>
            </a:gsLst>
            <a:lin ang="5400000"/>
          </a:gradFill>
          <a:ln w="3816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4578480" y="511164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dbaf00"/>
              </a:gs>
            </a:gsLst>
            <a:lin ang="5400000"/>
          </a:gradFill>
          <a:ln w="3816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3"/>
          <p:cNvSpPr/>
          <p:nvPr/>
        </p:nvSpPr>
        <p:spPr>
          <a:xfrm>
            <a:off x="1359000" y="6524640"/>
            <a:ext cx="765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819E-AF27-482A-8A39-CCAF2A0030EA}" type="slidenum">
              <a:rPr b="1" lang="zh-CN" sz="1400" spc="-1" strike="noStrike">
                <a:solidFill>
                  <a:srgbClr val="90d800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33" name="Oval 26"/>
          <p:cNvSpPr/>
          <p:nvPr/>
        </p:nvSpPr>
        <p:spPr>
          <a:xfrm>
            <a:off x="2527200" y="1338120"/>
            <a:ext cx="5200920" cy="5038920"/>
          </a:xfrm>
          <a:prstGeom prst="ellipse">
            <a:avLst/>
          </a:prstGeom>
          <a:gradFill rotWithShape="0">
            <a:gsLst>
              <a:gs pos="0">
                <a:srgbClr val="c08000"/>
              </a:gs>
              <a:gs pos="100000">
                <a:srgbClr val="573a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5 Part Concep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Arc 3"/>
          <p:cNvSpPr/>
          <p:nvPr/>
        </p:nvSpPr>
        <p:spPr>
          <a:xfrm>
            <a:off x="5345280" y="1916280"/>
            <a:ext cx="2339640" cy="2589120"/>
          </a:xfrm>
          <a:custGeom>
            <a:avLst/>
            <a:gdLst>
              <a:gd name="textAreaLeft" fmla="*/ 0 w 2339640"/>
              <a:gd name="textAreaRight" fmla="*/ 2340000 w 2339640"/>
              <a:gd name="textAreaTop" fmla="*/ 0 h 2589120"/>
              <a:gd name="textAreaBottom" fmla="*/ 2589480 h 2589120"/>
            </a:gdLst>
            <a:ahLst/>
            <a:rect l="textAreaLeft" t="textAreaTop" r="textAreaRight" b="textAreaBottom"/>
            <a:pathLst>
              <a:path w="21600" h="24155">
                <a:moveTo>
                  <a:pt x="12687" y="-1"/>
                </a:moveTo>
                <a:cubicBezTo>
                  <a:pt x="18286" y="4063"/>
                  <a:pt x="21600" y="10562"/>
                  <a:pt x="21600" y="17481"/>
                </a:cubicBezTo>
                <a:cubicBezTo>
                  <a:pt x="21600" y="19747"/>
                  <a:pt x="21243" y="21999"/>
                  <a:pt x="20543" y="24155"/>
                </a:cubicBezTo>
              </a:path>
              <a:path w="21600" h="24155">
                <a:moveTo>
                  <a:pt x="12687" y="-1"/>
                </a:moveTo>
                <a:cubicBezTo>
                  <a:pt x="18286" y="4063"/>
                  <a:pt x="21600" y="10562"/>
                  <a:pt x="21600" y="17481"/>
                </a:cubicBezTo>
                <a:cubicBezTo>
                  <a:pt x="21600" y="19747"/>
                  <a:pt x="21243" y="21999"/>
                  <a:pt x="20543" y="24155"/>
                </a:cubicBezTo>
                <a:lnTo>
                  <a:pt x="0" y="17481"/>
                </a:lnTo>
                <a:lnTo>
                  <a:pt x="12687" y="-1"/>
                </a:lnTo>
                <a:close/>
              </a:path>
            </a:pathLst>
          </a:custGeom>
          <a:gradFill rotWithShape="0">
            <a:gsLst>
              <a:gs pos="0">
                <a:srgbClr val="c08000"/>
              </a:gs>
              <a:gs pos="100000">
                <a:srgbClr val="0b07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36" name="Arc 4"/>
          <p:cNvSpPr/>
          <p:nvPr/>
        </p:nvSpPr>
        <p:spPr>
          <a:xfrm>
            <a:off x="3741840" y="1360440"/>
            <a:ext cx="2749320" cy="2317680"/>
          </a:xfrm>
          <a:custGeom>
            <a:avLst/>
            <a:gdLst>
              <a:gd name="textAreaLeft" fmla="*/ 0 w 2749320"/>
              <a:gd name="textAreaRight" fmla="*/ 2749320 w 2749320"/>
              <a:gd name="textAreaTop" fmla="*/ 0 h 2317680"/>
              <a:gd name="textAreaBottom" fmla="*/ 2318040 h 2317680"/>
            </a:gdLst>
            <a:ahLst/>
            <a:rect l="textAreaLeft" t="textAreaTop" r="textAreaRight" b="textAreaBottom"/>
            <a:pathLst>
              <a:path w="25376" h="21600">
                <a:moveTo>
                  <a:pt x="-1" y="4122"/>
                </a:moveTo>
                <a:cubicBezTo>
                  <a:pt x="3689" y="1443"/>
                  <a:pt x="8132" y="-1"/>
                  <a:pt x="12693" y="0"/>
                </a:cubicBezTo>
                <a:cubicBezTo>
                  <a:pt x="17248" y="0"/>
                  <a:pt x="21688" y="1440"/>
                  <a:pt x="25376" y="4115"/>
                </a:cubicBezTo>
              </a:path>
              <a:path w="25376" h="21600">
                <a:moveTo>
                  <a:pt x="-1" y="4122"/>
                </a:moveTo>
                <a:cubicBezTo>
                  <a:pt x="3689" y="1443"/>
                  <a:pt x="8132" y="-1"/>
                  <a:pt x="12693" y="0"/>
                </a:cubicBezTo>
                <a:cubicBezTo>
                  <a:pt x="17248" y="0"/>
                  <a:pt x="21688" y="1440"/>
                  <a:pt x="25376" y="4115"/>
                </a:cubicBezTo>
                <a:lnTo>
                  <a:pt x="12693" y="21600"/>
                </a:lnTo>
                <a:lnTo>
                  <a:pt x="-1" y="4122"/>
                </a:lnTo>
                <a:close/>
              </a:path>
            </a:pathLst>
          </a:custGeom>
          <a:gradFill rotWithShape="0">
            <a:gsLst>
              <a:gs pos="0">
                <a:srgbClr val="0f0c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37" name="Arc 5"/>
          <p:cNvSpPr/>
          <p:nvPr/>
        </p:nvSpPr>
        <p:spPr>
          <a:xfrm>
            <a:off x="2556000" y="1952640"/>
            <a:ext cx="2341440" cy="2587680"/>
          </a:xfrm>
          <a:custGeom>
            <a:avLst/>
            <a:gdLst>
              <a:gd name="textAreaLeft" fmla="*/ 0 w 2341440"/>
              <a:gd name="textAreaRight" fmla="*/ 2341800 w 2341440"/>
              <a:gd name="textAreaTop" fmla="*/ 0 h 2587680"/>
              <a:gd name="textAreaBottom" fmla="*/ 2588040 h 2587680"/>
            </a:gdLst>
            <a:ahLst/>
            <a:rect l="textAreaLeft" t="textAreaTop" r="textAreaRight" b="textAreaBottom"/>
            <a:pathLst>
              <a:path w="21600" h="24138">
                <a:moveTo>
                  <a:pt x="1054" y="24138"/>
                </a:moveTo>
                <a:cubicBezTo>
                  <a:pt x="356" y="21984"/>
                  <a:pt x="0" y="19734"/>
                  <a:pt x="0" y="17470"/>
                </a:cubicBezTo>
                <a:cubicBezTo>
                  <a:pt x="-1" y="10558"/>
                  <a:pt x="3307" y="4064"/>
                  <a:pt x="8897" y="0"/>
                </a:cubicBezTo>
              </a:path>
              <a:path w="21600" h="24138">
                <a:moveTo>
                  <a:pt x="1054" y="24138"/>
                </a:moveTo>
                <a:cubicBezTo>
                  <a:pt x="356" y="21984"/>
                  <a:pt x="0" y="19734"/>
                  <a:pt x="0" y="17470"/>
                </a:cubicBezTo>
                <a:cubicBezTo>
                  <a:pt x="-1" y="10558"/>
                  <a:pt x="3307" y="4064"/>
                  <a:pt x="8897" y="0"/>
                </a:cubicBezTo>
                <a:lnTo>
                  <a:pt x="21600" y="17470"/>
                </a:lnTo>
                <a:lnTo>
                  <a:pt x="1054" y="24138"/>
                </a:lnTo>
                <a:close/>
              </a:path>
            </a:pathLst>
          </a:custGeom>
          <a:gradFill rotWithShape="0">
            <a:gsLst>
              <a:gs pos="0">
                <a:srgbClr val="080d00"/>
              </a:gs>
              <a:gs pos="100000">
                <a:srgbClr val="90d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38" name="Arc 6"/>
          <p:cNvSpPr/>
          <p:nvPr/>
        </p:nvSpPr>
        <p:spPr>
          <a:xfrm>
            <a:off x="2757600" y="4005360"/>
            <a:ext cx="2228760" cy="2317680"/>
          </a:xfrm>
          <a:custGeom>
            <a:avLst/>
            <a:gdLst>
              <a:gd name="textAreaLeft" fmla="*/ 0 w 2228760"/>
              <a:gd name="textAreaRight" fmla="*/ 2229120 w 2228760"/>
              <a:gd name="textAreaTop" fmla="*/ 0 h 2317680"/>
              <a:gd name="textAreaBottom" fmla="*/ 2318040 h 2317680"/>
            </a:gdLst>
            <a:ahLst/>
            <a:rect l="textAreaLeft" t="textAreaTop" r="textAreaRight" b="textAreaBottom"/>
            <a:pathLst>
              <a:path w="20550" h="21600">
                <a:moveTo>
                  <a:pt x="20536" y="21599"/>
                </a:moveTo>
                <a:cubicBezTo>
                  <a:pt x="11175" y="21593"/>
                  <a:pt x="2883" y="15558"/>
                  <a:pt x="0" y="6652"/>
                </a:cubicBezTo>
              </a:path>
              <a:path w="20550" h="21600">
                <a:moveTo>
                  <a:pt x="20536" y="21599"/>
                </a:moveTo>
                <a:cubicBezTo>
                  <a:pt x="11175" y="21593"/>
                  <a:pt x="2883" y="15558"/>
                  <a:pt x="0" y="6652"/>
                </a:cubicBezTo>
                <a:lnTo>
                  <a:pt x="20550" y="0"/>
                </a:lnTo>
                <a:lnTo>
                  <a:pt x="20536" y="21599"/>
                </a:lnTo>
                <a:close/>
              </a:path>
            </a:pathLst>
          </a:custGeom>
          <a:gradFill rotWithShape="0">
            <a:gsLst>
              <a:gs pos="0">
                <a:srgbClr val="000600"/>
              </a:gs>
              <a:gs pos="100000">
                <a:srgbClr val="0066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39" name="Arc 7"/>
          <p:cNvSpPr/>
          <p:nvPr/>
        </p:nvSpPr>
        <p:spPr>
          <a:xfrm>
            <a:off x="5253120" y="4005360"/>
            <a:ext cx="2227320" cy="23176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317680"/>
              <a:gd name="textAreaBottom" fmla="*/ 2318040 h 2317680"/>
            </a:gdLst>
            <a:ahLst/>
            <a:rect l="textAreaLeft" t="textAreaTop" r="textAreaRight" b="textAreaBottom"/>
            <a:pathLst>
              <a:path w="20548" h="21600">
                <a:moveTo>
                  <a:pt x="20547" y="6658"/>
                </a:moveTo>
                <a:cubicBezTo>
                  <a:pt x="17661" y="15566"/>
                  <a:pt x="9363" y="21599"/>
                  <a:pt x="0" y="21600"/>
                </a:cubicBezTo>
              </a:path>
              <a:path w="20548" h="21600">
                <a:moveTo>
                  <a:pt x="20547" y="6658"/>
                </a:moveTo>
                <a:cubicBezTo>
                  <a:pt x="17661" y="15566"/>
                  <a:pt x="9363" y="21599"/>
                  <a:pt x="0" y="21600"/>
                </a:cubicBezTo>
                <a:lnTo>
                  <a:pt x="0" y="0"/>
                </a:lnTo>
                <a:lnTo>
                  <a:pt x="20547" y="6658"/>
                </a:lnTo>
                <a:close/>
              </a:path>
            </a:pathLst>
          </a:custGeom>
          <a:gradFill rotWithShape="0">
            <a:gsLst>
              <a:gs pos="0">
                <a:srgbClr val="878fa5"/>
              </a:gs>
              <a:gs pos="100000">
                <a:srgbClr val="08080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4606200" y="161280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8 Poin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2826720" y="300348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8 Poin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6462000" y="300348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8 Poin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43" name="Rectangle 21"/>
          <p:cNvSpPr/>
          <p:nvPr/>
        </p:nvSpPr>
        <p:spPr>
          <a:xfrm>
            <a:off x="3509280" y="499572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8 Poin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44" name="Rectangle 22"/>
          <p:cNvSpPr/>
          <p:nvPr/>
        </p:nvSpPr>
        <p:spPr>
          <a:xfrm>
            <a:off x="5723640" y="499572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8 Poin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45" name="Oval 25"/>
          <p:cNvSpPr/>
          <p:nvPr/>
        </p:nvSpPr>
        <p:spPr>
          <a:xfrm>
            <a:off x="3983040" y="2798640"/>
            <a:ext cx="2298600" cy="2229120"/>
          </a:xfrm>
          <a:prstGeom prst="ellipse">
            <a:avLst/>
          </a:prstGeom>
          <a:gradFill rotWithShape="0">
            <a:gsLst>
              <a:gs pos="0">
                <a:srgbClr val="c08000"/>
              </a:gs>
              <a:gs pos="100000">
                <a:srgbClr val="573a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46" name="Oval 13"/>
          <p:cNvSpPr/>
          <p:nvPr/>
        </p:nvSpPr>
        <p:spPr>
          <a:xfrm>
            <a:off x="4559400" y="3343320"/>
            <a:ext cx="1139760" cy="1090440"/>
          </a:xfrm>
          <a:prstGeom prst="ellipse">
            <a:avLst/>
          </a:prstGeom>
          <a:gradFill rotWithShape="0">
            <a:gsLst>
              <a:gs pos="0">
                <a:srgbClr val="c08000"/>
              </a:gs>
              <a:gs pos="100000">
                <a:srgbClr val="573a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3"/>
          <p:cNvSpPr/>
          <p:nvPr/>
        </p:nvSpPr>
        <p:spPr>
          <a:xfrm>
            <a:off x="1359000" y="6524640"/>
            <a:ext cx="765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283E-63B5-4C7E-A166-83C5C8DCA319}" type="slidenum">
              <a:rPr b="1" lang="zh-CN" sz="1400" spc="-1" strike="noStrike">
                <a:solidFill>
                  <a:srgbClr val="90d800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5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1403280" y="1616040"/>
            <a:ext cx="4040280" cy="4645080"/>
          </a:xfrm>
          <a:prstGeom prst="rtTriangle">
            <a:avLst/>
          </a:prstGeom>
          <a:gradFill rotWithShape="0">
            <a:gsLst>
              <a:gs pos="0">
                <a:srgbClr val="c08000"/>
              </a:gs>
              <a:gs pos="100000">
                <a:srgbClr val="0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ext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2779560" y="1684440"/>
            <a:ext cx="317340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78fa5"/>
              </a:gs>
              <a:gs pos="100000">
                <a:srgbClr val="747b8e"/>
              </a:gs>
            </a:gsLst>
            <a:lin ang="5400000"/>
          </a:gradFill>
          <a:ln w="3816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1940040" y="1808280"/>
            <a:ext cx="774720" cy="441360"/>
          </a:xfrm>
          <a:prstGeom prst="rightArrow">
            <a:avLst>
              <a:gd name="adj1" fmla="val 50000"/>
              <a:gd name="adj2" fmla="val 64215"/>
            </a:avLst>
          </a:prstGeom>
          <a:gradFill rotWithShape="0">
            <a:gsLst>
              <a:gs pos="0">
                <a:srgbClr val="747474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3571920" y="2584440"/>
            <a:ext cx="317340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d800"/>
              </a:gs>
              <a:gs pos="100000">
                <a:srgbClr val="7bba00"/>
              </a:gs>
            </a:gsLst>
            <a:lin ang="5400000"/>
          </a:gradFill>
          <a:ln w="3816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4325760" y="3421080"/>
            <a:ext cx="317376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100000">
                <a:srgbClr val="005700"/>
              </a:gs>
            </a:gsLst>
            <a:lin ang="5400000"/>
          </a:gradFill>
          <a:ln w="3816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5067360" y="4284720"/>
            <a:ext cx="317340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a64c"/>
              </a:gs>
              <a:gs pos="100000">
                <a:srgbClr val="c08000"/>
              </a:gs>
            </a:gsLst>
            <a:lin ang="5400000"/>
          </a:gradFill>
          <a:ln w="3816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5808600" y="5146560"/>
            <a:ext cx="3173400" cy="663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d4c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2703600" y="2697120"/>
            <a:ext cx="776160" cy="441360"/>
          </a:xfrm>
          <a:prstGeom prst="rightArrow">
            <a:avLst>
              <a:gd name="adj1" fmla="val 50000"/>
              <a:gd name="adj2" fmla="val 64367"/>
            </a:avLst>
          </a:prstGeom>
          <a:gradFill rotWithShape="0">
            <a:gsLst>
              <a:gs pos="0">
                <a:srgbClr val="747474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3456000" y="3532320"/>
            <a:ext cx="774720" cy="441360"/>
          </a:xfrm>
          <a:prstGeom prst="rightArrow">
            <a:avLst>
              <a:gd name="adj1" fmla="val 50000"/>
              <a:gd name="adj2" fmla="val 64215"/>
            </a:avLst>
          </a:prstGeom>
          <a:gradFill rotWithShape="0">
            <a:gsLst>
              <a:gs pos="0">
                <a:srgbClr val="747474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58" name="AutoShape 12"/>
          <p:cNvSpPr/>
          <p:nvPr/>
        </p:nvSpPr>
        <p:spPr>
          <a:xfrm>
            <a:off x="4194000" y="4395960"/>
            <a:ext cx="776520" cy="441000"/>
          </a:xfrm>
          <a:prstGeom prst="rightArrow">
            <a:avLst>
              <a:gd name="adj1" fmla="val 50000"/>
              <a:gd name="adj2" fmla="val 64392"/>
            </a:avLst>
          </a:prstGeom>
          <a:gradFill rotWithShape="0">
            <a:gsLst>
              <a:gs pos="0">
                <a:srgbClr val="747474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4946760" y="5257800"/>
            <a:ext cx="774720" cy="441360"/>
          </a:xfrm>
          <a:prstGeom prst="rightArrow">
            <a:avLst>
              <a:gd name="adj1" fmla="val 50000"/>
              <a:gd name="adj2" fmla="val 64215"/>
            </a:avLst>
          </a:prstGeom>
          <a:gradFill rotWithShape="0">
            <a:gsLst>
              <a:gs pos="0">
                <a:srgbClr val="747474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3"/>
          <p:cNvSpPr/>
          <p:nvPr/>
        </p:nvSpPr>
        <p:spPr>
          <a:xfrm>
            <a:off x="1359000" y="6524640"/>
            <a:ext cx="765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3619-CA2C-4C15-B01D-226615DB0C7E}" type="slidenum">
              <a:rPr b="1" lang="zh-CN" sz="1400" spc="-1" strike="noStrike">
                <a:solidFill>
                  <a:srgbClr val="90d800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5 Part 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149400" y="1521000"/>
            <a:ext cx="8845200" cy="4644720"/>
          </a:xfrm>
          <a:prstGeom prst="roundRect">
            <a:avLst>
              <a:gd name="adj" fmla="val 8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20760" y="1949400"/>
            <a:ext cx="1587240" cy="730440"/>
          </a:xfrm>
          <a:prstGeom prst="rect">
            <a:avLst/>
          </a:prstGeom>
          <a:solidFill>
            <a:srgbClr val="878fa5"/>
          </a:solidFill>
          <a:ln w="12600">
            <a:solidFill>
              <a:srgbClr val="878f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Text 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920960" y="1949400"/>
            <a:ext cx="1587240" cy="730440"/>
          </a:xfrm>
          <a:prstGeom prst="rect">
            <a:avLst/>
          </a:prstGeom>
          <a:solidFill>
            <a:srgbClr val="90d800"/>
          </a:solidFill>
          <a:ln w="12600">
            <a:solidFill>
              <a:srgbClr val="90d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Text 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3521160" y="1949400"/>
            <a:ext cx="1587240" cy="730440"/>
          </a:xfrm>
          <a:prstGeom prst="rect">
            <a:avLst/>
          </a:prstGeom>
          <a:solidFill>
            <a:srgbClr val="006600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Text 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5121360" y="1949400"/>
            <a:ext cx="1587240" cy="730440"/>
          </a:xfrm>
          <a:prstGeom prst="rect">
            <a:avLst/>
          </a:prstGeom>
          <a:solidFill>
            <a:srgbClr val="c08000"/>
          </a:solidFill>
          <a:ln w="12600">
            <a:solidFill>
              <a:srgbClr val="c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Text 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6721560" y="1949400"/>
            <a:ext cx="1587240" cy="730440"/>
          </a:xfrm>
          <a:prstGeom prst="rect">
            <a:avLst/>
          </a:prstGeom>
          <a:solidFill>
            <a:srgbClr val="ffcc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Text 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20760" y="3178080"/>
            <a:ext cx="1587240" cy="1987560"/>
          </a:xfrm>
          <a:prstGeom prst="rect">
            <a:avLst/>
          </a:prstGeom>
          <a:solidFill>
            <a:srgbClr val="878fa5"/>
          </a:solidFill>
          <a:ln w="12600">
            <a:solidFill>
              <a:srgbClr val="878f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1920960" y="3178080"/>
            <a:ext cx="1587240" cy="1987560"/>
          </a:xfrm>
          <a:prstGeom prst="rect">
            <a:avLst/>
          </a:prstGeom>
          <a:solidFill>
            <a:srgbClr val="90d800"/>
          </a:solidFill>
          <a:ln w="12600">
            <a:solidFill>
              <a:srgbClr val="90d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3521160" y="3178080"/>
            <a:ext cx="1587240" cy="1987560"/>
          </a:xfrm>
          <a:prstGeom prst="rect">
            <a:avLst/>
          </a:prstGeom>
          <a:solidFill>
            <a:srgbClr val="006600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5121360" y="3178080"/>
            <a:ext cx="1587240" cy="1987560"/>
          </a:xfrm>
          <a:prstGeom prst="rect">
            <a:avLst/>
          </a:prstGeom>
          <a:solidFill>
            <a:srgbClr val="c08000"/>
          </a:solidFill>
          <a:ln w="12600">
            <a:solidFill>
              <a:srgbClr val="c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6721560" y="3178080"/>
            <a:ext cx="1587240" cy="1987560"/>
          </a:xfrm>
          <a:prstGeom prst="rect">
            <a:avLst/>
          </a:prstGeom>
          <a:solidFill>
            <a:srgbClr val="ffcc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320760" y="2449440"/>
            <a:ext cx="8575560" cy="959040"/>
          </a:xfrm>
          <a:prstGeom prst="rightArrow">
            <a:avLst>
              <a:gd name="adj1" fmla="val 50000"/>
              <a:gd name="adj2" fmla="val 6114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320760" y="4935600"/>
            <a:ext cx="8575560" cy="958680"/>
          </a:xfrm>
          <a:prstGeom prst="rightArrow">
            <a:avLst>
              <a:gd name="adj1" fmla="val 50000"/>
              <a:gd name="adj2" fmla="val 611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3"/>
          <p:cNvSpPr/>
          <p:nvPr/>
        </p:nvSpPr>
        <p:spPr>
          <a:xfrm>
            <a:off x="1359000" y="6524640"/>
            <a:ext cx="765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CA8C-F090-4992-816A-F3CBC96A02AE}" type="slidenum">
              <a:rPr b="1" lang="zh-CN" sz="1400" spc="-1" strike="noStrike">
                <a:solidFill>
                  <a:srgbClr val="90d800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hart Docu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835280" y="1722600"/>
            <a:ext cx="7129440" cy="451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938240" y="1811160"/>
            <a:ext cx="6916680" cy="4294440"/>
          </a:xfrm>
          <a:prstGeom prst="rect">
            <a:avLst/>
          </a:prstGeom>
          <a:gradFill rotWithShape="0">
            <a:gsLst>
              <a:gs pos="0">
                <a:srgbClr val="573a00"/>
              </a:gs>
              <a:gs pos="100000">
                <a:srgbClr val="c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pic>
        <p:nvPicPr>
          <p:cNvPr id="179" name="Object 9" descr=""/>
          <p:cNvPicPr/>
          <p:nvPr/>
        </p:nvPicPr>
        <p:blipFill>
          <a:blip r:embed="rId1"/>
          <a:stretch/>
        </p:blipFill>
        <p:spPr>
          <a:xfrm>
            <a:off x="1203480" y="843120"/>
            <a:ext cx="7939080" cy="5352840"/>
          </a:xfrm>
          <a:prstGeom prst="rect">
            <a:avLst/>
          </a:prstGeom>
          <a:ln w="0">
            <a:noFill/>
          </a:ln>
        </p:spPr>
      </p:pic>
      <p:sp>
        <p:nvSpPr>
          <p:cNvPr id="18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3"/>
          <p:cNvSpPr txBox="1"/>
          <p:nvPr/>
        </p:nvSpPr>
        <p:spPr>
          <a:xfrm>
            <a:off x="2556000" y="1844640"/>
            <a:ext cx="5400720" cy="1511280"/>
          </a:xfrm>
          <a:prstGeom prst="rect">
            <a:avLst/>
          </a:prstGeom>
        </p:spPr>
        <p:txBody>
          <a:bodyPr wrap="none" lIns="90000" rIns="90000" tIns="46800" bIns="46800" anchor="t">
            <a:prstTxWarp prst="textStop">
              <a:avLst>
                <a:gd name="adj" fmla="val 2221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0d800"/>
                    </a:gs>
                    <a:gs pos="100000">
                      <a:srgbClr val="006600"/>
                    </a:gs>
                  </a:gsLst>
                  <a:lin ang="5400000"/>
                </a:gradFill>
                <a:latin typeface="Impact"/>
              </a:rPr>
              <a:t>Thank You 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0d800"/>
                  </a:gs>
                  <a:gs pos="100000">
                    <a:srgbClr val="0066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1746360" y="1916280"/>
            <a:ext cx="6914880" cy="653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45d00"/>
              </a:gs>
              <a:gs pos="50000">
                <a:srgbClr val="ffcc00"/>
              </a:gs>
              <a:gs pos="100000">
                <a:srgbClr val="745d00"/>
              </a:gs>
            </a:gsLst>
            <a:lin ang="5400000"/>
          </a:gradFill>
          <a:ln w="3816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1. Introduction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1760400" y="2846520"/>
            <a:ext cx="6915240" cy="653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16400"/>
              </a:gs>
              <a:gs pos="50000">
                <a:srgbClr val="90d800"/>
              </a:gs>
              <a:gs pos="100000">
                <a:srgbClr val="416400"/>
              </a:gs>
            </a:gsLst>
            <a:lin ang="5400000"/>
          </a:gradFill>
          <a:ln w="3816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2. Strategy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1746360" y="3782880"/>
            <a:ext cx="6914880" cy="654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3a00"/>
              </a:gs>
              <a:gs pos="50000">
                <a:srgbClr val="c08000"/>
              </a:gs>
              <a:gs pos="100000">
                <a:srgbClr val="573a00"/>
              </a:gs>
            </a:gsLst>
            <a:lin ang="5400000"/>
          </a:gradFill>
          <a:ln w="3816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3. Challenges Forward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746360" y="4791240"/>
            <a:ext cx="6914880" cy="653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414c"/>
              </a:gs>
              <a:gs pos="50000">
                <a:srgbClr val="878fa5"/>
              </a:gs>
              <a:gs pos="100000">
                <a:srgbClr val="3e414c"/>
              </a:gs>
            </a:gsLst>
            <a:lin ang="5400000"/>
          </a:gradFill>
          <a:ln w="3816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4. Conclusion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5"/>
          <p:cNvSpPr/>
          <p:nvPr/>
        </p:nvSpPr>
        <p:spPr>
          <a:xfrm>
            <a:off x="1474920" y="3246480"/>
            <a:ext cx="7561080" cy="466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3a00"/>
              </a:gs>
              <a:gs pos="50000">
                <a:srgbClr val="c08000"/>
              </a:gs>
              <a:gs pos="100000">
                <a:srgbClr val="573a00"/>
              </a:gs>
            </a:gsLst>
            <a:lin ang="5400000"/>
          </a:gradFill>
          <a:ln w="3816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1474920" y="4572000"/>
            <a:ext cx="7561080" cy="466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3a00"/>
              </a:gs>
              <a:gs pos="50000">
                <a:srgbClr val="c08000"/>
              </a:gs>
              <a:gs pos="100000">
                <a:srgbClr val="573a00"/>
              </a:gs>
            </a:gsLst>
            <a:lin ang="5400000"/>
          </a:gradFill>
          <a:ln w="3816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474920" y="1569960"/>
            <a:ext cx="7561080" cy="466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3a00"/>
              </a:gs>
              <a:gs pos="50000">
                <a:srgbClr val="c08000"/>
              </a:gs>
              <a:gs pos="100000">
                <a:srgbClr val="573a00"/>
              </a:gs>
            </a:gsLst>
            <a:lin ang="5400000"/>
          </a:gradFill>
          <a:ln w="3816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4560" y="1557360"/>
            <a:ext cx="7489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Competitor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Verdana"/>
              <a:buChar char="–"/>
            </a:pPr>
            <a:r>
              <a:rPr b="0" lang="zh-CN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006600"/>
                </a:solidFill>
                <a:latin typeface="Verdana"/>
              </a:rPr>
              <a:t>You may want to allocate one slide per competitor</a:t>
            </a: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Strength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Verdana"/>
              <a:buChar char="–"/>
            </a:pPr>
            <a:r>
              <a:rPr b="0" lang="zh-CN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006600"/>
                </a:solidFill>
                <a:latin typeface="Verdana"/>
              </a:rPr>
              <a:t>Your strengths relative to competitors</a:t>
            </a: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Weakne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Verdana"/>
              <a:buChar char="–"/>
            </a:pPr>
            <a:r>
              <a:rPr b="0" lang="zh-CN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006600"/>
                </a:solidFill>
                <a:latin typeface="Verdana"/>
              </a:rPr>
              <a:t>Your weaknesses relative to competitor</a:t>
            </a: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45880" y="5497560"/>
            <a:ext cx="9093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Gulim"/>
              </a:rPr>
              <a:t>[Image information in product]</a:t>
            </a:r>
            <a:endParaRPr b="0" lang="en-US" sz="1400" spc="-1" strike="noStrike">
              <a:solidFill>
                <a:srgbClr val="006600"/>
              </a:solidFill>
              <a:latin typeface="Gulim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  <a:ea typeface="Gulim"/>
              </a:rPr>
              <a:t>Title Master : Wee,Young Ji - Image Created &amp; licensed by Wee,Young Ji </a:t>
            </a:r>
            <a:endParaRPr b="0" lang="en-US" sz="1400" spc="-1" strike="noStrike">
              <a:solidFill>
                <a:srgbClr val="006600"/>
              </a:solidFill>
              <a:latin typeface="Gulim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  <a:ea typeface="Gulim"/>
              </a:rPr>
              <a:t>Note to customers: This image has been licensed to be used within this PowerPoint template only. </a:t>
            </a:r>
            <a:endParaRPr b="0" lang="en-US" sz="1400" spc="-1" strike="noStrike">
              <a:solidFill>
                <a:srgbClr val="006600"/>
              </a:solidFill>
              <a:latin typeface="Gulim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  <a:ea typeface="Gulim"/>
              </a:rPr>
              <a:t>You may not extract the image for any other use.</a:t>
            </a:r>
            <a:endParaRPr b="0" lang="en-US" sz="14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16"/>
          <p:cNvSpPr/>
          <p:nvPr/>
        </p:nvSpPr>
        <p:spPr>
          <a:xfrm>
            <a:off x="1692360" y="2492280"/>
            <a:ext cx="7343640" cy="3986280"/>
          </a:xfrm>
          <a:prstGeom prst="roundRect">
            <a:avLst>
              <a:gd name="adj" fmla="val 4843"/>
            </a:avLst>
          </a:prstGeom>
          <a:solidFill>
            <a:srgbClr val="f7f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2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6032520" y="1838160"/>
            <a:ext cx="1104840" cy="36864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d1d1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1738440" y="1646280"/>
            <a:ext cx="7232400" cy="628560"/>
          </a:xfrm>
          <a:prstGeom prst="roundRect">
            <a:avLst>
              <a:gd name="adj" fmla="val 48991"/>
            </a:avLst>
          </a:prstGeom>
          <a:gradFill rotWithShape="0">
            <a:gsLst>
              <a:gs pos="0">
                <a:srgbClr val="90d800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Conclusion 1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68" name="Rectangle 14"/>
          <p:cNvSpPr/>
          <p:nvPr/>
        </p:nvSpPr>
        <p:spPr>
          <a:xfrm flipH="1">
            <a:off x="5423040" y="3083040"/>
            <a:ext cx="3386160" cy="3154320"/>
          </a:xfrm>
          <a:prstGeom prst="rect">
            <a:avLst/>
          </a:prstGeom>
          <a:gradFill rotWithShape="0">
            <a:gsLst>
              <a:gs pos="0">
                <a:srgbClr val="90d800"/>
              </a:gs>
              <a:gs pos="100000">
                <a:srgbClr val="080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69" name="Rectangle 15"/>
          <p:cNvSpPr/>
          <p:nvPr/>
        </p:nvSpPr>
        <p:spPr>
          <a:xfrm flipH="1">
            <a:off x="1920960" y="3083040"/>
            <a:ext cx="3386160" cy="3154320"/>
          </a:xfrm>
          <a:prstGeom prst="rect">
            <a:avLst/>
          </a:prstGeom>
          <a:gradFill rotWithShape="0">
            <a:gsLst>
              <a:gs pos="0">
                <a:srgbClr val="90d800"/>
              </a:gs>
              <a:gs pos="100000">
                <a:srgbClr val="080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70" name="AutoShape 9"/>
          <p:cNvSpPr/>
          <p:nvPr/>
        </p:nvSpPr>
        <p:spPr>
          <a:xfrm flipV="1">
            <a:off x="3276720" y="2637720"/>
            <a:ext cx="644400" cy="4827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1260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71" name="AutoShape 10"/>
          <p:cNvSpPr/>
          <p:nvPr/>
        </p:nvSpPr>
        <p:spPr>
          <a:xfrm flipV="1">
            <a:off x="6804000" y="2625840"/>
            <a:ext cx="644400" cy="482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1260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灯片编号占位符 3"/>
          <p:cNvSpPr/>
          <p:nvPr/>
        </p:nvSpPr>
        <p:spPr>
          <a:xfrm>
            <a:off x="1359000" y="6524640"/>
            <a:ext cx="765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E2EF-A923-44BF-BA2D-8485033DFD78}" type="slidenum">
              <a:rPr b="1" lang="zh-CN" sz="1400" spc="-1" strike="noStrike">
                <a:solidFill>
                  <a:srgbClr val="90d800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73" name="AutoShape 14"/>
          <p:cNvSpPr/>
          <p:nvPr/>
        </p:nvSpPr>
        <p:spPr>
          <a:xfrm>
            <a:off x="1908000" y="1293840"/>
            <a:ext cx="6912000" cy="5184720"/>
          </a:xfrm>
          <a:prstGeom prst="roundRect">
            <a:avLst>
              <a:gd name="adj" fmla="val 4843"/>
            </a:avLst>
          </a:prstGeom>
          <a:solidFill>
            <a:srgbClr val="f7f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3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2282760" y="3933720"/>
            <a:ext cx="1047960" cy="2159280"/>
          </a:xfrm>
          <a:prstGeom prst="downArrow">
            <a:avLst>
              <a:gd name="adj1" fmla="val 50000"/>
              <a:gd name="adj2" fmla="val 39101"/>
            </a:avLst>
          </a:prstGeom>
          <a:gradFill rotWithShape="0">
            <a:gsLst>
              <a:gs pos="0">
                <a:srgbClr val="878fa5"/>
              </a:gs>
              <a:gs pos="100000">
                <a:srgbClr val="08080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2282760" y="1773360"/>
            <a:ext cx="1047960" cy="2039760"/>
          </a:xfrm>
          <a:prstGeom prst="upArrow">
            <a:avLst>
              <a:gd name="adj1" fmla="val 50000"/>
              <a:gd name="adj2" fmla="val 36928"/>
            </a:avLst>
          </a:prstGeom>
          <a:gradFill rotWithShape="0">
            <a:gsLst>
              <a:gs pos="0">
                <a:srgbClr val="000000"/>
              </a:gs>
              <a:gs pos="100000">
                <a:srgbClr val="878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2424600" y="6083280"/>
            <a:ext cx="76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Less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2392920" y="1413000"/>
            <a:ext cx="79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Mo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79" name="AutoShape 11"/>
          <p:cNvSpPr/>
          <p:nvPr/>
        </p:nvSpPr>
        <p:spPr>
          <a:xfrm rot="5400000">
            <a:off x="5124240" y="-28440"/>
            <a:ext cx="1816200" cy="471168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005100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80" name="AutoShape 12"/>
          <p:cNvSpPr/>
          <p:nvPr/>
        </p:nvSpPr>
        <p:spPr>
          <a:xfrm rot="5400000">
            <a:off x="5124240" y="1531800"/>
            <a:ext cx="1816200" cy="471168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a46d00"/>
              </a:gs>
              <a:gs pos="100000">
                <a:srgbClr val="c08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81" name="AutoShape 13"/>
          <p:cNvSpPr/>
          <p:nvPr/>
        </p:nvSpPr>
        <p:spPr>
          <a:xfrm rot="5400000">
            <a:off x="5124240" y="3093840"/>
            <a:ext cx="1816200" cy="471168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7bba00"/>
              </a:gs>
              <a:gs pos="100000">
                <a:srgbClr val="90d8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79280" y="6508800"/>
            <a:ext cx="6492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1"/>
              </a:rPr>
              <a:t>金融</a:t>
            </a:r>
            <a:r>
              <a:rPr b="0" lang="zh-CN" sz="18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8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3"/>
              </a:rPr>
              <a:t>模板</a:t>
            </a:r>
            <a:r>
              <a:rPr b="0" lang="zh-CN" sz="1800" spc="-1" strike="noStrike">
                <a:solidFill>
                  <a:srgbClr val="006600"/>
                </a:solidFill>
                <a:latin typeface="Arial"/>
                <a:ea typeface="宋体"/>
              </a:rPr>
              <a:t>http://www.eeppt.com/moban/jinrong/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灯片编号占位符 3"/>
          <p:cNvSpPr/>
          <p:nvPr/>
        </p:nvSpPr>
        <p:spPr>
          <a:xfrm>
            <a:off x="1359000" y="6524640"/>
            <a:ext cx="765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D84C-B68C-4CDB-A5F8-1F0A9EB758B8}" type="slidenum">
              <a:rPr b="1" lang="zh-CN" sz="1400" spc="-1" strike="noStrike">
                <a:solidFill>
                  <a:srgbClr val="90d800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3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Oval 3"/>
          <p:cNvSpPr/>
          <p:nvPr/>
        </p:nvSpPr>
        <p:spPr>
          <a:xfrm>
            <a:off x="3112920" y="1984320"/>
            <a:ext cx="4051440" cy="3968640"/>
          </a:xfrm>
          <a:prstGeom prst="ellipse">
            <a:avLst/>
          </a:prstGeom>
          <a:gradFill rotWithShape="0">
            <a:gsLst>
              <a:gs pos="0">
                <a:srgbClr val="90d800"/>
              </a:gs>
              <a:gs pos="100000">
                <a:srgbClr val="c08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86" name="AutoShape 5"/>
          <p:cNvSpPr/>
          <p:nvPr/>
        </p:nvSpPr>
        <p:spPr>
          <a:xfrm flipH="1">
            <a:off x="6190560" y="4854600"/>
            <a:ext cx="236052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f8af"/>
              </a:gs>
              <a:gs pos="100000">
                <a:srgbClr val="a3f2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1692360" y="4854600"/>
            <a:ext cx="236052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b4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3960720" y="1830240"/>
            <a:ext cx="23590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6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灯片编号占位符 3"/>
          <p:cNvSpPr/>
          <p:nvPr/>
        </p:nvSpPr>
        <p:spPr>
          <a:xfrm>
            <a:off x="1359000" y="6524640"/>
            <a:ext cx="765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4BA6-3A3B-4300-954C-FFEB83762575}" type="slidenum">
              <a:rPr b="1" lang="zh-CN" sz="1400" spc="-1" strike="noStrike">
                <a:solidFill>
                  <a:srgbClr val="90d800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4460760" y="5148360"/>
            <a:ext cx="1185840" cy="1440"/>
          </a:xfrm>
          <a:prstGeom prst="line">
            <a:avLst/>
          </a:prstGeom>
          <a:ln w="76320">
            <a:solidFill>
              <a:srgbClr val="f7f4d5"/>
            </a:solidFill>
            <a:bevel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4460760" y="2422440"/>
            <a:ext cx="1185840" cy="0"/>
          </a:xfrm>
          <a:prstGeom prst="line">
            <a:avLst/>
          </a:prstGeom>
          <a:ln w="76320">
            <a:solidFill>
              <a:srgbClr val="f7f4d5"/>
            </a:solidFill>
            <a:bevel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4460760" y="3773520"/>
            <a:ext cx="1185840" cy="1440"/>
          </a:xfrm>
          <a:prstGeom prst="line">
            <a:avLst/>
          </a:prstGeom>
          <a:ln w="76320">
            <a:solidFill>
              <a:srgbClr val="f7f4d5"/>
            </a:solidFill>
            <a:bevel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3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476360" y="1924200"/>
            <a:ext cx="3317760" cy="1000080"/>
          </a:xfrm>
          <a:prstGeom prst="rect">
            <a:avLst/>
          </a:prstGeom>
          <a:gradFill rotWithShape="0">
            <a:gsLst>
              <a:gs pos="0">
                <a:srgbClr val="747474"/>
              </a:gs>
              <a:gs pos="50000">
                <a:srgbClr val="ffffff"/>
              </a:gs>
              <a:gs pos="100000">
                <a:srgbClr val="747474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476360" y="3278160"/>
            <a:ext cx="3317760" cy="1025640"/>
          </a:xfrm>
          <a:prstGeom prst="rect">
            <a:avLst/>
          </a:prstGeom>
          <a:gradFill rotWithShape="0">
            <a:gsLst>
              <a:gs pos="0">
                <a:srgbClr val="747474"/>
              </a:gs>
              <a:gs pos="50000">
                <a:srgbClr val="ffffff"/>
              </a:gs>
              <a:gs pos="100000">
                <a:srgbClr val="747474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76360" y="4653000"/>
            <a:ext cx="3317760" cy="1030320"/>
          </a:xfrm>
          <a:prstGeom prst="rect">
            <a:avLst/>
          </a:prstGeom>
          <a:gradFill rotWithShape="0">
            <a:gsLst>
              <a:gs pos="0">
                <a:srgbClr val="747474"/>
              </a:gs>
              <a:gs pos="50000">
                <a:srgbClr val="ffffff"/>
              </a:gs>
              <a:gs pos="100000">
                <a:srgbClr val="747474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97" name="AutoShape 6"/>
          <p:cNvSpPr/>
          <p:nvPr/>
        </p:nvSpPr>
        <p:spPr>
          <a:xfrm rot="5400000">
            <a:off x="6805080" y="765000"/>
            <a:ext cx="1000080" cy="3318120"/>
          </a:xfrm>
          <a:prstGeom prst="cube">
            <a:avLst>
              <a:gd name="adj" fmla="val 11666"/>
            </a:avLst>
          </a:prstGeom>
          <a:solidFill>
            <a:srgbClr val="9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onclusion 1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98" name="AutoShape 7"/>
          <p:cNvSpPr/>
          <p:nvPr/>
        </p:nvSpPr>
        <p:spPr>
          <a:xfrm rot="5400000">
            <a:off x="6793200" y="2130840"/>
            <a:ext cx="1023840" cy="3318120"/>
          </a:xfrm>
          <a:prstGeom prst="cube">
            <a:avLst>
              <a:gd name="adj" fmla="val 11666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onclusion 2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99" name="AutoShape 8"/>
          <p:cNvSpPr/>
          <p:nvPr/>
        </p:nvSpPr>
        <p:spPr>
          <a:xfrm rot="5400000">
            <a:off x="6789960" y="3508920"/>
            <a:ext cx="1030320" cy="3318120"/>
          </a:xfrm>
          <a:prstGeom prst="cube">
            <a:avLst>
              <a:gd name="adj" fmla="val 11666"/>
            </a:avLst>
          </a:prstGeom>
          <a:solidFill>
            <a:srgbClr val="9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onclusion 3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灯片编号占位符 3"/>
          <p:cNvSpPr/>
          <p:nvPr/>
        </p:nvSpPr>
        <p:spPr>
          <a:xfrm>
            <a:off x="1359000" y="6524640"/>
            <a:ext cx="765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F0FE-886F-468E-A641-0DE83433453F}" type="slidenum">
              <a:rPr b="1" lang="zh-CN" sz="1400" spc="-1" strike="noStrike">
                <a:solidFill>
                  <a:srgbClr val="90d800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4 Part Proc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1476360" y="1557360"/>
            <a:ext cx="7559640" cy="4319640"/>
          </a:xfrm>
          <a:prstGeom prst="roundRect">
            <a:avLst>
              <a:gd name="adj" fmla="val 16667"/>
            </a:avLst>
          </a:prstGeom>
          <a:solidFill>
            <a:srgbClr val="f7f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03" name="AutoShape 4"/>
          <p:cNvSpPr/>
          <p:nvPr/>
        </p:nvSpPr>
        <p:spPr>
          <a:xfrm rot="5400000">
            <a:off x="905400" y="3097800"/>
            <a:ext cx="3095640" cy="1741680"/>
          </a:xfrm>
          <a:prstGeom prst="cube">
            <a:avLst>
              <a:gd name="adj" fmla="val 11666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ulim"/>
              </a:rPr>
              <a:t>Your Text Here</a:t>
            </a:r>
            <a:endParaRPr b="0" lang="en-US" sz="22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04" name="AutoShape 5"/>
          <p:cNvSpPr/>
          <p:nvPr/>
        </p:nvSpPr>
        <p:spPr>
          <a:xfrm rot="5400000">
            <a:off x="2741760" y="3098160"/>
            <a:ext cx="3095640" cy="1741320"/>
          </a:xfrm>
          <a:prstGeom prst="cube">
            <a:avLst>
              <a:gd name="adj" fmla="val 11666"/>
            </a:avLst>
          </a:prstGeom>
          <a:solidFill>
            <a:srgbClr val="9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ulim"/>
              </a:rPr>
              <a:t>Your Text Here</a:t>
            </a:r>
            <a:endParaRPr b="0" lang="en-US" sz="22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05" name="AutoShape 6"/>
          <p:cNvSpPr/>
          <p:nvPr/>
        </p:nvSpPr>
        <p:spPr>
          <a:xfrm rot="5400000">
            <a:off x="4579560" y="3097440"/>
            <a:ext cx="3095640" cy="1742760"/>
          </a:xfrm>
          <a:prstGeom prst="cube">
            <a:avLst>
              <a:gd name="adj" fmla="val 11666"/>
            </a:avLst>
          </a:prstGeom>
          <a:solidFill>
            <a:srgbClr val="c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ulim"/>
              </a:rPr>
              <a:t>Your Text Here</a:t>
            </a:r>
            <a:endParaRPr b="0" lang="en-US" sz="22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06" name="AutoShape 7"/>
          <p:cNvSpPr/>
          <p:nvPr/>
        </p:nvSpPr>
        <p:spPr>
          <a:xfrm rot="5400000">
            <a:off x="6416640" y="3097080"/>
            <a:ext cx="3095640" cy="1743120"/>
          </a:xfrm>
          <a:prstGeom prst="cube">
            <a:avLst>
              <a:gd name="adj" fmla="val 11666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ulim"/>
              </a:rPr>
              <a:t>Your Text Here</a:t>
            </a:r>
            <a:endParaRPr b="0" lang="en-US" sz="22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07" name="AutoShape 12"/>
          <p:cNvSpPr/>
          <p:nvPr/>
        </p:nvSpPr>
        <p:spPr>
          <a:xfrm flipV="1" rot="16200000">
            <a:off x="3077640" y="3626640"/>
            <a:ext cx="428760" cy="320760"/>
          </a:xfrm>
          <a:prstGeom prst="triangle">
            <a:avLst>
              <a:gd name="adj" fmla="val 50000"/>
            </a:avLst>
          </a:prstGeom>
          <a:solidFill>
            <a:srgbClr val="c08000"/>
          </a:solidFill>
          <a:ln w="1260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08" name="AutoShape 13"/>
          <p:cNvSpPr/>
          <p:nvPr/>
        </p:nvSpPr>
        <p:spPr>
          <a:xfrm flipV="1" rot="16200000">
            <a:off x="4878000" y="3626640"/>
            <a:ext cx="428760" cy="320760"/>
          </a:xfrm>
          <a:prstGeom prst="triangle">
            <a:avLst>
              <a:gd name="adj" fmla="val 50000"/>
            </a:avLst>
          </a:prstGeom>
          <a:solidFill>
            <a:srgbClr val="c08000"/>
          </a:solidFill>
          <a:ln w="1260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09" name="AutoShape 14"/>
          <p:cNvSpPr/>
          <p:nvPr/>
        </p:nvSpPr>
        <p:spPr>
          <a:xfrm flipV="1" rot="16200000">
            <a:off x="6749640" y="3626640"/>
            <a:ext cx="428760" cy="320760"/>
          </a:xfrm>
          <a:prstGeom prst="triangle">
            <a:avLst>
              <a:gd name="adj" fmla="val 50000"/>
            </a:avLst>
          </a:prstGeom>
          <a:solidFill>
            <a:srgbClr val="c08000"/>
          </a:solidFill>
          <a:ln w="1260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3"/>
          <p:cNvSpPr/>
          <p:nvPr/>
        </p:nvSpPr>
        <p:spPr>
          <a:xfrm>
            <a:off x="1359000" y="6524640"/>
            <a:ext cx="765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2768-D30B-4128-B74D-F58E788853C6}" type="slidenum">
              <a:rPr b="1" lang="zh-CN" sz="1400" spc="-1" strike="noStrike">
                <a:solidFill>
                  <a:srgbClr val="90d800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4 Part Centered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Freeform 2"/>
          <p:cNvSpPr/>
          <p:nvPr/>
        </p:nvSpPr>
        <p:spPr>
          <a:xfrm>
            <a:off x="6132600" y="2743200"/>
            <a:ext cx="1895400" cy="830160"/>
          </a:xfrm>
          <a:custGeom>
            <a:avLst/>
            <a:gdLst>
              <a:gd name="textAreaLeft" fmla="*/ 0 w 1895400"/>
              <a:gd name="textAreaRight" fmla="*/ 1895760 w 189540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2061" h="1556">
                <a:moveTo>
                  <a:pt x="0" y="1544"/>
                </a:moveTo>
                <a:lnTo>
                  <a:pt x="112" y="1555"/>
                </a:lnTo>
                <a:lnTo>
                  <a:pt x="170" y="1555"/>
                </a:lnTo>
                <a:lnTo>
                  <a:pt x="237" y="1555"/>
                </a:lnTo>
                <a:lnTo>
                  <a:pt x="300" y="1551"/>
                </a:lnTo>
                <a:lnTo>
                  <a:pt x="365" y="1544"/>
                </a:lnTo>
                <a:lnTo>
                  <a:pt x="427" y="1533"/>
                </a:lnTo>
                <a:lnTo>
                  <a:pt x="484" y="1519"/>
                </a:lnTo>
                <a:lnTo>
                  <a:pt x="547" y="1501"/>
                </a:lnTo>
                <a:lnTo>
                  <a:pt x="622" y="1472"/>
                </a:lnTo>
                <a:lnTo>
                  <a:pt x="689" y="1439"/>
                </a:lnTo>
                <a:lnTo>
                  <a:pt x="754" y="1410"/>
                </a:lnTo>
                <a:lnTo>
                  <a:pt x="824" y="1371"/>
                </a:lnTo>
                <a:lnTo>
                  <a:pt x="891" y="1324"/>
                </a:lnTo>
                <a:lnTo>
                  <a:pt x="959" y="1280"/>
                </a:lnTo>
                <a:lnTo>
                  <a:pt x="1016" y="1233"/>
                </a:lnTo>
                <a:lnTo>
                  <a:pt x="1081" y="1190"/>
                </a:lnTo>
                <a:lnTo>
                  <a:pt x="1134" y="1143"/>
                </a:lnTo>
                <a:lnTo>
                  <a:pt x="1194" y="1092"/>
                </a:lnTo>
                <a:lnTo>
                  <a:pt x="1253" y="1041"/>
                </a:lnTo>
                <a:lnTo>
                  <a:pt x="1313" y="980"/>
                </a:lnTo>
                <a:lnTo>
                  <a:pt x="1366" y="929"/>
                </a:lnTo>
                <a:lnTo>
                  <a:pt x="1423" y="861"/>
                </a:lnTo>
                <a:lnTo>
                  <a:pt x="1476" y="799"/>
                </a:lnTo>
                <a:lnTo>
                  <a:pt x="1523" y="734"/>
                </a:lnTo>
                <a:lnTo>
                  <a:pt x="1566" y="665"/>
                </a:lnTo>
                <a:lnTo>
                  <a:pt x="1598" y="608"/>
                </a:lnTo>
                <a:lnTo>
                  <a:pt x="1626" y="546"/>
                </a:lnTo>
                <a:lnTo>
                  <a:pt x="2060" y="629"/>
                </a:lnTo>
                <a:lnTo>
                  <a:pt x="1993" y="586"/>
                </a:lnTo>
                <a:lnTo>
                  <a:pt x="1940" y="546"/>
                </a:lnTo>
                <a:lnTo>
                  <a:pt x="1875" y="506"/>
                </a:lnTo>
                <a:lnTo>
                  <a:pt x="1828" y="467"/>
                </a:lnTo>
                <a:lnTo>
                  <a:pt x="1785" y="427"/>
                </a:lnTo>
                <a:lnTo>
                  <a:pt x="1748" y="398"/>
                </a:lnTo>
                <a:lnTo>
                  <a:pt x="1713" y="354"/>
                </a:lnTo>
                <a:lnTo>
                  <a:pt x="1675" y="318"/>
                </a:lnTo>
                <a:lnTo>
                  <a:pt x="1638" y="275"/>
                </a:lnTo>
                <a:lnTo>
                  <a:pt x="1596" y="221"/>
                </a:lnTo>
                <a:lnTo>
                  <a:pt x="1551" y="166"/>
                </a:lnTo>
                <a:lnTo>
                  <a:pt x="1513" y="112"/>
                </a:lnTo>
                <a:lnTo>
                  <a:pt x="1473" y="51"/>
                </a:lnTo>
                <a:lnTo>
                  <a:pt x="1441" y="0"/>
                </a:lnTo>
                <a:lnTo>
                  <a:pt x="1408" y="18"/>
                </a:lnTo>
                <a:lnTo>
                  <a:pt x="1373" y="47"/>
                </a:lnTo>
                <a:lnTo>
                  <a:pt x="1338" y="72"/>
                </a:lnTo>
                <a:lnTo>
                  <a:pt x="1296" y="98"/>
                </a:lnTo>
                <a:lnTo>
                  <a:pt x="1251" y="127"/>
                </a:lnTo>
                <a:lnTo>
                  <a:pt x="1211" y="145"/>
                </a:lnTo>
                <a:lnTo>
                  <a:pt x="1174" y="163"/>
                </a:lnTo>
                <a:lnTo>
                  <a:pt x="1129" y="184"/>
                </a:lnTo>
                <a:lnTo>
                  <a:pt x="1084" y="199"/>
                </a:lnTo>
                <a:lnTo>
                  <a:pt x="1034" y="221"/>
                </a:lnTo>
                <a:lnTo>
                  <a:pt x="991" y="235"/>
                </a:lnTo>
                <a:lnTo>
                  <a:pt x="949" y="253"/>
                </a:lnTo>
                <a:lnTo>
                  <a:pt x="901" y="264"/>
                </a:lnTo>
                <a:lnTo>
                  <a:pt x="859" y="278"/>
                </a:lnTo>
                <a:lnTo>
                  <a:pt x="817" y="293"/>
                </a:lnTo>
                <a:lnTo>
                  <a:pt x="769" y="307"/>
                </a:lnTo>
                <a:lnTo>
                  <a:pt x="704" y="318"/>
                </a:lnTo>
                <a:lnTo>
                  <a:pt x="1154" y="438"/>
                </a:lnTo>
                <a:lnTo>
                  <a:pt x="1124" y="528"/>
                </a:lnTo>
                <a:lnTo>
                  <a:pt x="1089" y="597"/>
                </a:lnTo>
                <a:lnTo>
                  <a:pt x="1024" y="720"/>
                </a:lnTo>
                <a:lnTo>
                  <a:pt x="986" y="781"/>
                </a:lnTo>
                <a:lnTo>
                  <a:pt x="949" y="839"/>
                </a:lnTo>
                <a:lnTo>
                  <a:pt x="881" y="933"/>
                </a:lnTo>
                <a:lnTo>
                  <a:pt x="839" y="991"/>
                </a:lnTo>
                <a:lnTo>
                  <a:pt x="792" y="1060"/>
                </a:lnTo>
                <a:lnTo>
                  <a:pt x="747" y="1110"/>
                </a:lnTo>
                <a:lnTo>
                  <a:pt x="709" y="1154"/>
                </a:lnTo>
                <a:lnTo>
                  <a:pt x="672" y="1201"/>
                </a:lnTo>
                <a:lnTo>
                  <a:pt x="627" y="1244"/>
                </a:lnTo>
                <a:lnTo>
                  <a:pt x="577" y="1291"/>
                </a:lnTo>
                <a:lnTo>
                  <a:pt x="529" y="1324"/>
                </a:lnTo>
                <a:lnTo>
                  <a:pt x="479" y="1363"/>
                </a:lnTo>
                <a:lnTo>
                  <a:pt x="419" y="1400"/>
                </a:lnTo>
                <a:lnTo>
                  <a:pt x="365" y="1425"/>
                </a:lnTo>
                <a:lnTo>
                  <a:pt x="300" y="1450"/>
                </a:lnTo>
                <a:lnTo>
                  <a:pt x="240" y="1472"/>
                </a:lnTo>
                <a:lnTo>
                  <a:pt x="177" y="1494"/>
                </a:lnTo>
                <a:lnTo>
                  <a:pt x="107" y="1515"/>
                </a:lnTo>
                <a:lnTo>
                  <a:pt x="0" y="1544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6018120" y="4287960"/>
            <a:ext cx="1897200" cy="796680"/>
          </a:xfrm>
          <a:custGeom>
            <a:avLst/>
            <a:gdLst>
              <a:gd name="textAreaLeft" fmla="*/ 0 w 1897200"/>
              <a:gd name="textAreaRight" fmla="*/ 1897560 w 1897200"/>
              <a:gd name="textAreaTop" fmla="*/ 0 h 796680"/>
              <a:gd name="textAreaBottom" fmla="*/ 797040 h 796680"/>
            </a:gdLst>
            <a:ahLst/>
            <a:rect l="textAreaLeft" t="textAreaTop" r="textAreaRight" b="textAreaBottom"/>
            <a:pathLst>
              <a:path w="2063" h="1497">
                <a:moveTo>
                  <a:pt x="0" y="11"/>
                </a:moveTo>
                <a:lnTo>
                  <a:pt x="115" y="0"/>
                </a:lnTo>
                <a:lnTo>
                  <a:pt x="170" y="0"/>
                </a:lnTo>
                <a:lnTo>
                  <a:pt x="237" y="0"/>
                </a:lnTo>
                <a:lnTo>
                  <a:pt x="302" y="7"/>
                </a:lnTo>
                <a:lnTo>
                  <a:pt x="364" y="11"/>
                </a:lnTo>
                <a:lnTo>
                  <a:pt x="429" y="22"/>
                </a:lnTo>
                <a:lnTo>
                  <a:pt x="484" y="40"/>
                </a:lnTo>
                <a:lnTo>
                  <a:pt x="549" y="54"/>
                </a:lnTo>
                <a:lnTo>
                  <a:pt x="624" y="83"/>
                </a:lnTo>
                <a:lnTo>
                  <a:pt x="691" y="116"/>
                </a:lnTo>
                <a:lnTo>
                  <a:pt x="754" y="141"/>
                </a:lnTo>
                <a:lnTo>
                  <a:pt x="826" y="181"/>
                </a:lnTo>
                <a:lnTo>
                  <a:pt x="894" y="224"/>
                </a:lnTo>
                <a:lnTo>
                  <a:pt x="961" y="267"/>
                </a:lnTo>
                <a:lnTo>
                  <a:pt x="1016" y="311"/>
                </a:lnTo>
                <a:lnTo>
                  <a:pt x="1081" y="354"/>
                </a:lnTo>
                <a:lnTo>
                  <a:pt x="1136" y="397"/>
                </a:lnTo>
                <a:lnTo>
                  <a:pt x="1196" y="444"/>
                </a:lnTo>
                <a:lnTo>
                  <a:pt x="1256" y="495"/>
                </a:lnTo>
                <a:lnTo>
                  <a:pt x="1316" y="553"/>
                </a:lnTo>
                <a:lnTo>
                  <a:pt x="1368" y="603"/>
                </a:lnTo>
                <a:lnTo>
                  <a:pt x="1423" y="669"/>
                </a:lnTo>
                <a:lnTo>
                  <a:pt x="1475" y="726"/>
                </a:lnTo>
                <a:lnTo>
                  <a:pt x="1525" y="788"/>
                </a:lnTo>
                <a:lnTo>
                  <a:pt x="1565" y="853"/>
                </a:lnTo>
                <a:lnTo>
                  <a:pt x="1600" y="911"/>
                </a:lnTo>
                <a:lnTo>
                  <a:pt x="1625" y="968"/>
                </a:lnTo>
                <a:lnTo>
                  <a:pt x="2062" y="889"/>
                </a:lnTo>
                <a:lnTo>
                  <a:pt x="2000" y="932"/>
                </a:lnTo>
                <a:lnTo>
                  <a:pt x="1930" y="976"/>
                </a:lnTo>
                <a:lnTo>
                  <a:pt x="1872" y="1012"/>
                </a:lnTo>
                <a:lnTo>
                  <a:pt x="1830" y="1041"/>
                </a:lnTo>
                <a:lnTo>
                  <a:pt x="1782" y="1077"/>
                </a:lnTo>
                <a:lnTo>
                  <a:pt x="1745" y="1109"/>
                </a:lnTo>
                <a:lnTo>
                  <a:pt x="1710" y="1145"/>
                </a:lnTo>
                <a:lnTo>
                  <a:pt x="1673" y="1189"/>
                </a:lnTo>
                <a:lnTo>
                  <a:pt x="1638" y="1229"/>
                </a:lnTo>
                <a:lnTo>
                  <a:pt x="1595" y="1283"/>
                </a:lnTo>
                <a:lnTo>
                  <a:pt x="1555" y="1337"/>
                </a:lnTo>
                <a:lnTo>
                  <a:pt x="1518" y="1384"/>
                </a:lnTo>
                <a:lnTo>
                  <a:pt x="1475" y="1445"/>
                </a:lnTo>
                <a:lnTo>
                  <a:pt x="1443" y="1496"/>
                </a:lnTo>
                <a:lnTo>
                  <a:pt x="1408" y="1474"/>
                </a:lnTo>
                <a:lnTo>
                  <a:pt x="1375" y="1445"/>
                </a:lnTo>
                <a:lnTo>
                  <a:pt x="1338" y="1424"/>
                </a:lnTo>
                <a:lnTo>
                  <a:pt x="1296" y="1398"/>
                </a:lnTo>
                <a:lnTo>
                  <a:pt x="1253" y="1373"/>
                </a:lnTo>
                <a:lnTo>
                  <a:pt x="1213" y="1351"/>
                </a:lnTo>
                <a:lnTo>
                  <a:pt x="1173" y="1337"/>
                </a:lnTo>
                <a:lnTo>
                  <a:pt x="1131" y="1315"/>
                </a:lnTo>
                <a:lnTo>
                  <a:pt x="1083" y="1301"/>
                </a:lnTo>
                <a:lnTo>
                  <a:pt x="1036" y="1283"/>
                </a:lnTo>
                <a:lnTo>
                  <a:pt x="991" y="1265"/>
                </a:lnTo>
                <a:lnTo>
                  <a:pt x="949" y="1250"/>
                </a:lnTo>
                <a:lnTo>
                  <a:pt x="904" y="1239"/>
                </a:lnTo>
                <a:lnTo>
                  <a:pt x="859" y="1225"/>
                </a:lnTo>
                <a:lnTo>
                  <a:pt x="819" y="1211"/>
                </a:lnTo>
                <a:lnTo>
                  <a:pt x="769" y="1196"/>
                </a:lnTo>
                <a:lnTo>
                  <a:pt x="704" y="1185"/>
                </a:lnTo>
                <a:lnTo>
                  <a:pt x="1153" y="1073"/>
                </a:lnTo>
                <a:lnTo>
                  <a:pt x="1123" y="986"/>
                </a:lnTo>
                <a:lnTo>
                  <a:pt x="1088" y="921"/>
                </a:lnTo>
                <a:lnTo>
                  <a:pt x="1024" y="799"/>
                </a:lnTo>
                <a:lnTo>
                  <a:pt x="986" y="744"/>
                </a:lnTo>
                <a:lnTo>
                  <a:pt x="949" y="690"/>
                </a:lnTo>
                <a:lnTo>
                  <a:pt x="881" y="596"/>
                </a:lnTo>
                <a:lnTo>
                  <a:pt x="841" y="542"/>
                </a:lnTo>
                <a:lnTo>
                  <a:pt x="791" y="477"/>
                </a:lnTo>
                <a:lnTo>
                  <a:pt x="746" y="430"/>
                </a:lnTo>
                <a:lnTo>
                  <a:pt x="709" y="387"/>
                </a:lnTo>
                <a:lnTo>
                  <a:pt x="672" y="343"/>
                </a:lnTo>
                <a:lnTo>
                  <a:pt x="627" y="300"/>
                </a:lnTo>
                <a:lnTo>
                  <a:pt x="579" y="257"/>
                </a:lnTo>
                <a:lnTo>
                  <a:pt x="529" y="224"/>
                </a:lnTo>
                <a:lnTo>
                  <a:pt x="482" y="184"/>
                </a:lnTo>
                <a:lnTo>
                  <a:pt x="422" y="152"/>
                </a:lnTo>
                <a:lnTo>
                  <a:pt x="364" y="126"/>
                </a:lnTo>
                <a:lnTo>
                  <a:pt x="302" y="105"/>
                </a:lnTo>
                <a:lnTo>
                  <a:pt x="242" y="83"/>
                </a:lnTo>
                <a:lnTo>
                  <a:pt x="177" y="61"/>
                </a:lnTo>
                <a:lnTo>
                  <a:pt x="110" y="43"/>
                </a:lnTo>
                <a:lnTo>
                  <a:pt x="0" y="1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14" name="Freeform 4"/>
          <p:cNvSpPr/>
          <p:nvPr/>
        </p:nvSpPr>
        <p:spPr>
          <a:xfrm>
            <a:off x="2762280" y="4226040"/>
            <a:ext cx="1898640" cy="82872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2063" h="1556">
                <a:moveTo>
                  <a:pt x="2062" y="11"/>
                </a:moveTo>
                <a:lnTo>
                  <a:pt x="1947" y="0"/>
                </a:lnTo>
                <a:lnTo>
                  <a:pt x="1892" y="0"/>
                </a:lnTo>
                <a:lnTo>
                  <a:pt x="1825" y="0"/>
                </a:lnTo>
                <a:lnTo>
                  <a:pt x="1760" y="7"/>
                </a:lnTo>
                <a:lnTo>
                  <a:pt x="1698" y="11"/>
                </a:lnTo>
                <a:lnTo>
                  <a:pt x="1633" y="22"/>
                </a:lnTo>
                <a:lnTo>
                  <a:pt x="1578" y="40"/>
                </a:lnTo>
                <a:lnTo>
                  <a:pt x="1513" y="58"/>
                </a:lnTo>
                <a:lnTo>
                  <a:pt x="1438" y="83"/>
                </a:lnTo>
                <a:lnTo>
                  <a:pt x="1371" y="119"/>
                </a:lnTo>
                <a:lnTo>
                  <a:pt x="1308" y="148"/>
                </a:lnTo>
                <a:lnTo>
                  <a:pt x="1236" y="188"/>
                </a:lnTo>
                <a:lnTo>
                  <a:pt x="1168" y="231"/>
                </a:lnTo>
                <a:lnTo>
                  <a:pt x="1101" y="278"/>
                </a:lnTo>
                <a:lnTo>
                  <a:pt x="1046" y="322"/>
                </a:lnTo>
                <a:lnTo>
                  <a:pt x="981" y="369"/>
                </a:lnTo>
                <a:lnTo>
                  <a:pt x="926" y="412"/>
                </a:lnTo>
                <a:lnTo>
                  <a:pt x="866" y="463"/>
                </a:lnTo>
                <a:lnTo>
                  <a:pt x="806" y="514"/>
                </a:lnTo>
                <a:lnTo>
                  <a:pt x="746" y="579"/>
                </a:lnTo>
                <a:lnTo>
                  <a:pt x="694" y="629"/>
                </a:lnTo>
                <a:lnTo>
                  <a:pt x="639" y="698"/>
                </a:lnTo>
                <a:lnTo>
                  <a:pt x="587" y="759"/>
                </a:lnTo>
                <a:lnTo>
                  <a:pt x="537" y="825"/>
                </a:lnTo>
                <a:lnTo>
                  <a:pt x="497" y="893"/>
                </a:lnTo>
                <a:lnTo>
                  <a:pt x="462" y="947"/>
                </a:lnTo>
                <a:lnTo>
                  <a:pt x="437" y="1013"/>
                </a:lnTo>
                <a:lnTo>
                  <a:pt x="0" y="929"/>
                </a:lnTo>
                <a:lnTo>
                  <a:pt x="70" y="973"/>
                </a:lnTo>
                <a:lnTo>
                  <a:pt x="122" y="1013"/>
                </a:lnTo>
                <a:lnTo>
                  <a:pt x="185" y="1052"/>
                </a:lnTo>
                <a:lnTo>
                  <a:pt x="232" y="1092"/>
                </a:lnTo>
                <a:lnTo>
                  <a:pt x="275" y="1128"/>
                </a:lnTo>
                <a:lnTo>
                  <a:pt x="312" y="1157"/>
                </a:lnTo>
                <a:lnTo>
                  <a:pt x="349" y="1201"/>
                </a:lnTo>
                <a:lnTo>
                  <a:pt x="384" y="1240"/>
                </a:lnTo>
                <a:lnTo>
                  <a:pt x="424" y="1284"/>
                </a:lnTo>
                <a:lnTo>
                  <a:pt x="467" y="1338"/>
                </a:lnTo>
                <a:lnTo>
                  <a:pt x="512" y="1392"/>
                </a:lnTo>
                <a:lnTo>
                  <a:pt x="549" y="1447"/>
                </a:lnTo>
                <a:lnTo>
                  <a:pt x="589" y="1504"/>
                </a:lnTo>
                <a:lnTo>
                  <a:pt x="619" y="1555"/>
                </a:lnTo>
                <a:lnTo>
                  <a:pt x="654" y="1537"/>
                </a:lnTo>
                <a:lnTo>
                  <a:pt x="687" y="1508"/>
                </a:lnTo>
                <a:lnTo>
                  <a:pt x="724" y="1486"/>
                </a:lnTo>
                <a:lnTo>
                  <a:pt x="766" y="1457"/>
                </a:lnTo>
                <a:lnTo>
                  <a:pt x="809" y="1432"/>
                </a:lnTo>
                <a:lnTo>
                  <a:pt x="849" y="1410"/>
                </a:lnTo>
                <a:lnTo>
                  <a:pt x="889" y="1396"/>
                </a:lnTo>
                <a:lnTo>
                  <a:pt x="931" y="1374"/>
                </a:lnTo>
                <a:lnTo>
                  <a:pt x="979" y="1356"/>
                </a:lnTo>
                <a:lnTo>
                  <a:pt x="1026" y="1338"/>
                </a:lnTo>
                <a:lnTo>
                  <a:pt x="1071" y="1320"/>
                </a:lnTo>
                <a:lnTo>
                  <a:pt x="1113" y="1305"/>
                </a:lnTo>
                <a:lnTo>
                  <a:pt x="1158" y="1291"/>
                </a:lnTo>
                <a:lnTo>
                  <a:pt x="1203" y="1277"/>
                </a:lnTo>
                <a:lnTo>
                  <a:pt x="1243" y="1266"/>
                </a:lnTo>
                <a:lnTo>
                  <a:pt x="1293" y="1248"/>
                </a:lnTo>
                <a:lnTo>
                  <a:pt x="1356" y="1237"/>
                </a:lnTo>
                <a:lnTo>
                  <a:pt x="909" y="1117"/>
                </a:lnTo>
                <a:lnTo>
                  <a:pt x="939" y="1027"/>
                </a:lnTo>
                <a:lnTo>
                  <a:pt x="974" y="962"/>
                </a:lnTo>
                <a:lnTo>
                  <a:pt x="1038" y="835"/>
                </a:lnTo>
                <a:lnTo>
                  <a:pt x="1076" y="774"/>
                </a:lnTo>
                <a:lnTo>
                  <a:pt x="1113" y="720"/>
                </a:lnTo>
                <a:lnTo>
                  <a:pt x="1181" y="622"/>
                </a:lnTo>
                <a:lnTo>
                  <a:pt x="1221" y="568"/>
                </a:lnTo>
                <a:lnTo>
                  <a:pt x="1271" y="499"/>
                </a:lnTo>
                <a:lnTo>
                  <a:pt x="1316" y="448"/>
                </a:lnTo>
                <a:lnTo>
                  <a:pt x="1353" y="401"/>
                </a:lnTo>
                <a:lnTo>
                  <a:pt x="1390" y="358"/>
                </a:lnTo>
                <a:lnTo>
                  <a:pt x="1435" y="311"/>
                </a:lnTo>
                <a:lnTo>
                  <a:pt x="1483" y="268"/>
                </a:lnTo>
                <a:lnTo>
                  <a:pt x="1533" y="231"/>
                </a:lnTo>
                <a:lnTo>
                  <a:pt x="1580" y="192"/>
                </a:lnTo>
                <a:lnTo>
                  <a:pt x="1640" y="159"/>
                </a:lnTo>
                <a:lnTo>
                  <a:pt x="1698" y="130"/>
                </a:lnTo>
                <a:lnTo>
                  <a:pt x="1760" y="108"/>
                </a:lnTo>
                <a:lnTo>
                  <a:pt x="1820" y="83"/>
                </a:lnTo>
                <a:lnTo>
                  <a:pt x="1885" y="61"/>
                </a:lnTo>
                <a:lnTo>
                  <a:pt x="1952" y="43"/>
                </a:lnTo>
                <a:lnTo>
                  <a:pt x="2062" y="11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15" name="Freeform 5"/>
          <p:cNvSpPr/>
          <p:nvPr/>
        </p:nvSpPr>
        <p:spPr>
          <a:xfrm>
            <a:off x="2765520" y="2730600"/>
            <a:ext cx="1895400" cy="796680"/>
          </a:xfrm>
          <a:custGeom>
            <a:avLst/>
            <a:gdLst>
              <a:gd name="textAreaLeft" fmla="*/ 0 w 1895400"/>
              <a:gd name="textAreaRight" fmla="*/ 1895760 w 1895400"/>
              <a:gd name="textAreaTop" fmla="*/ 0 h 796680"/>
              <a:gd name="textAreaBottom" fmla="*/ 797040 h 796680"/>
            </a:gdLst>
            <a:ahLst/>
            <a:rect l="textAreaLeft" t="textAreaTop" r="textAreaRight" b="textAreaBottom"/>
            <a:pathLst>
              <a:path w="2061" h="1497">
                <a:moveTo>
                  <a:pt x="2060" y="1482"/>
                </a:moveTo>
                <a:lnTo>
                  <a:pt x="1945" y="1496"/>
                </a:lnTo>
                <a:lnTo>
                  <a:pt x="1890" y="1496"/>
                </a:lnTo>
                <a:lnTo>
                  <a:pt x="1823" y="1496"/>
                </a:lnTo>
                <a:lnTo>
                  <a:pt x="1760" y="1489"/>
                </a:lnTo>
                <a:lnTo>
                  <a:pt x="1695" y="1482"/>
                </a:lnTo>
                <a:lnTo>
                  <a:pt x="1633" y="1471"/>
                </a:lnTo>
                <a:lnTo>
                  <a:pt x="1576" y="1456"/>
                </a:lnTo>
                <a:lnTo>
                  <a:pt x="1513" y="1442"/>
                </a:lnTo>
                <a:lnTo>
                  <a:pt x="1438" y="1413"/>
                </a:lnTo>
                <a:lnTo>
                  <a:pt x="1371" y="1380"/>
                </a:lnTo>
                <a:lnTo>
                  <a:pt x="1306" y="1355"/>
                </a:lnTo>
                <a:lnTo>
                  <a:pt x="1236" y="1315"/>
                </a:lnTo>
                <a:lnTo>
                  <a:pt x="1169" y="1272"/>
                </a:lnTo>
                <a:lnTo>
                  <a:pt x="1101" y="1229"/>
                </a:lnTo>
                <a:lnTo>
                  <a:pt x="1044" y="1185"/>
                </a:lnTo>
                <a:lnTo>
                  <a:pt x="981" y="1142"/>
                </a:lnTo>
                <a:lnTo>
                  <a:pt x="926" y="1099"/>
                </a:lnTo>
                <a:lnTo>
                  <a:pt x="866" y="1052"/>
                </a:lnTo>
                <a:lnTo>
                  <a:pt x="807" y="1001"/>
                </a:lnTo>
                <a:lnTo>
                  <a:pt x="747" y="943"/>
                </a:lnTo>
                <a:lnTo>
                  <a:pt x="694" y="893"/>
                </a:lnTo>
                <a:lnTo>
                  <a:pt x="637" y="827"/>
                </a:lnTo>
                <a:lnTo>
                  <a:pt x="584" y="770"/>
                </a:lnTo>
                <a:lnTo>
                  <a:pt x="537" y="708"/>
                </a:lnTo>
                <a:lnTo>
                  <a:pt x="494" y="643"/>
                </a:lnTo>
                <a:lnTo>
                  <a:pt x="462" y="585"/>
                </a:lnTo>
                <a:lnTo>
                  <a:pt x="434" y="528"/>
                </a:lnTo>
                <a:lnTo>
                  <a:pt x="0" y="611"/>
                </a:lnTo>
                <a:lnTo>
                  <a:pt x="60" y="564"/>
                </a:lnTo>
                <a:lnTo>
                  <a:pt x="132" y="520"/>
                </a:lnTo>
                <a:lnTo>
                  <a:pt x="187" y="484"/>
                </a:lnTo>
                <a:lnTo>
                  <a:pt x="232" y="455"/>
                </a:lnTo>
                <a:lnTo>
                  <a:pt x="277" y="419"/>
                </a:lnTo>
                <a:lnTo>
                  <a:pt x="315" y="387"/>
                </a:lnTo>
                <a:lnTo>
                  <a:pt x="352" y="351"/>
                </a:lnTo>
                <a:lnTo>
                  <a:pt x="385" y="307"/>
                </a:lnTo>
                <a:lnTo>
                  <a:pt x="422" y="267"/>
                </a:lnTo>
                <a:lnTo>
                  <a:pt x="464" y="213"/>
                </a:lnTo>
                <a:lnTo>
                  <a:pt x="507" y="159"/>
                </a:lnTo>
                <a:lnTo>
                  <a:pt x="544" y="112"/>
                </a:lnTo>
                <a:lnTo>
                  <a:pt x="587" y="54"/>
                </a:lnTo>
                <a:lnTo>
                  <a:pt x="619" y="0"/>
                </a:lnTo>
                <a:lnTo>
                  <a:pt x="652" y="22"/>
                </a:lnTo>
                <a:lnTo>
                  <a:pt x="687" y="51"/>
                </a:lnTo>
                <a:lnTo>
                  <a:pt x="722" y="72"/>
                </a:lnTo>
                <a:lnTo>
                  <a:pt x="764" y="98"/>
                </a:lnTo>
                <a:lnTo>
                  <a:pt x="809" y="123"/>
                </a:lnTo>
                <a:lnTo>
                  <a:pt x="849" y="145"/>
                </a:lnTo>
                <a:lnTo>
                  <a:pt x="886" y="159"/>
                </a:lnTo>
                <a:lnTo>
                  <a:pt x="931" y="181"/>
                </a:lnTo>
                <a:lnTo>
                  <a:pt x="979" y="195"/>
                </a:lnTo>
                <a:lnTo>
                  <a:pt x="1026" y="213"/>
                </a:lnTo>
                <a:lnTo>
                  <a:pt x="1069" y="231"/>
                </a:lnTo>
                <a:lnTo>
                  <a:pt x="1111" y="246"/>
                </a:lnTo>
                <a:lnTo>
                  <a:pt x="1159" y="257"/>
                </a:lnTo>
                <a:lnTo>
                  <a:pt x="1201" y="271"/>
                </a:lnTo>
                <a:lnTo>
                  <a:pt x="1243" y="285"/>
                </a:lnTo>
                <a:lnTo>
                  <a:pt x="1291" y="300"/>
                </a:lnTo>
                <a:lnTo>
                  <a:pt x="1358" y="311"/>
                </a:lnTo>
                <a:lnTo>
                  <a:pt x="906" y="423"/>
                </a:lnTo>
                <a:lnTo>
                  <a:pt x="936" y="510"/>
                </a:lnTo>
                <a:lnTo>
                  <a:pt x="974" y="575"/>
                </a:lnTo>
                <a:lnTo>
                  <a:pt x="1036" y="697"/>
                </a:lnTo>
                <a:lnTo>
                  <a:pt x="1074" y="752"/>
                </a:lnTo>
                <a:lnTo>
                  <a:pt x="1111" y="806"/>
                </a:lnTo>
                <a:lnTo>
                  <a:pt x="1179" y="900"/>
                </a:lnTo>
                <a:lnTo>
                  <a:pt x="1221" y="954"/>
                </a:lnTo>
                <a:lnTo>
                  <a:pt x="1268" y="1019"/>
                </a:lnTo>
                <a:lnTo>
                  <a:pt x="1313" y="1066"/>
                </a:lnTo>
                <a:lnTo>
                  <a:pt x="1351" y="1109"/>
                </a:lnTo>
                <a:lnTo>
                  <a:pt x="1388" y="1153"/>
                </a:lnTo>
                <a:lnTo>
                  <a:pt x="1433" y="1196"/>
                </a:lnTo>
                <a:lnTo>
                  <a:pt x="1483" y="1239"/>
                </a:lnTo>
                <a:lnTo>
                  <a:pt x="1531" y="1272"/>
                </a:lnTo>
                <a:lnTo>
                  <a:pt x="1581" y="1312"/>
                </a:lnTo>
                <a:lnTo>
                  <a:pt x="1641" y="1344"/>
                </a:lnTo>
                <a:lnTo>
                  <a:pt x="1695" y="1370"/>
                </a:lnTo>
                <a:lnTo>
                  <a:pt x="1760" y="1391"/>
                </a:lnTo>
                <a:lnTo>
                  <a:pt x="1820" y="1413"/>
                </a:lnTo>
                <a:lnTo>
                  <a:pt x="1883" y="1435"/>
                </a:lnTo>
                <a:lnTo>
                  <a:pt x="1950" y="1453"/>
                </a:lnTo>
                <a:lnTo>
                  <a:pt x="2060" y="148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3484440" y="2776680"/>
            <a:ext cx="3708360" cy="2143080"/>
          </a:xfrm>
          <a:prstGeom prst="octagon">
            <a:avLst>
              <a:gd name="adj" fmla="val 29282"/>
            </a:avLst>
          </a:prstGeom>
          <a:gradFill rotWithShape="0">
            <a:gsLst>
              <a:gs pos="0">
                <a:srgbClr val="c08000"/>
              </a:gs>
              <a:gs pos="100000">
                <a:srgbClr val="573a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36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17" name="AutoShape 13"/>
          <p:cNvSpPr/>
          <p:nvPr/>
        </p:nvSpPr>
        <p:spPr>
          <a:xfrm>
            <a:off x="1692360" y="15573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d800"/>
              </a:gs>
              <a:gs pos="100000">
                <a:srgbClr val="629500"/>
              </a:gs>
            </a:gsLst>
            <a:lin ang="5400000"/>
          </a:gradFill>
          <a:ln w="3816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5581800" y="15573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d800"/>
              </a:gs>
              <a:gs pos="100000">
                <a:srgbClr val="5e8e00"/>
              </a:gs>
            </a:gsLst>
            <a:lin ang="5400000"/>
          </a:gradFill>
          <a:ln w="3816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19" name="AutoShape 15"/>
          <p:cNvSpPr/>
          <p:nvPr/>
        </p:nvSpPr>
        <p:spPr>
          <a:xfrm>
            <a:off x="1692360" y="52149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d800"/>
              </a:gs>
              <a:gs pos="100000">
                <a:srgbClr val="5b8800"/>
              </a:gs>
            </a:gsLst>
            <a:lin ang="5400000"/>
          </a:gradFill>
          <a:ln w="3816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5581800" y="52149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d800"/>
              </a:gs>
              <a:gs pos="100000">
                <a:srgbClr val="5e8e00"/>
              </a:gs>
            </a:gsLst>
            <a:lin ang="5400000"/>
          </a:gradFill>
          <a:ln w="38160">
            <a:solidFill>
              <a:srgbClr val="f7f4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4T02:49:00Z</dcterms:created>
  <dc:creator>Administrator</dc:creator>
  <dc:description/>
  <cp:keywords/>
  <dc:language>en-US</dc:language>
  <cp:lastModifiedBy>王玉清</cp:lastModifiedBy>
  <dcterms:modified xsi:type="dcterms:W3CDTF">2016-02-19T07:08:38Z</dcterms:modified>
  <cp:revision>4</cp:revision>
  <dc:subject>housing_round</dc:subject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