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icrosoft JhengHe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22"/>
          <p:cNvSpPr/>
          <p:nvPr/>
        </p:nvSpPr>
        <p:spPr>
          <a:xfrm>
            <a:off x="1447920" y="0"/>
            <a:ext cx="9924840" cy="19335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文本框 12"/>
          <p:cNvSpPr/>
          <p:nvPr/>
        </p:nvSpPr>
        <p:spPr>
          <a:xfrm>
            <a:off x="3866760" y="9669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标志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" name="组合 79"/>
          <p:cNvGrpSpPr/>
          <p:nvPr/>
        </p:nvGrpSpPr>
        <p:grpSpPr>
          <a:xfrm>
            <a:off x="11657160" y="6922800"/>
            <a:ext cx="1907280" cy="976320"/>
            <a:chOff x="11657160" y="6922800"/>
            <a:chExt cx="1907280" cy="976320"/>
          </a:xfrm>
        </p:grpSpPr>
        <p:grpSp>
          <p:nvGrpSpPr>
            <p:cNvPr id="39" name="组合 80"/>
            <p:cNvGrpSpPr/>
            <p:nvPr/>
          </p:nvGrpSpPr>
          <p:grpSpPr>
            <a:xfrm>
              <a:off x="11657160" y="6922800"/>
              <a:ext cx="1907280" cy="976320"/>
              <a:chOff x="11657160" y="6922800"/>
              <a:chExt cx="1907280" cy="976320"/>
            </a:xfrm>
          </p:grpSpPr>
          <p:sp>
            <p:nvSpPr>
              <p:cNvPr id="40" name="任意多边形 86"/>
              <p:cNvSpPr/>
              <p:nvPr/>
            </p:nvSpPr>
            <p:spPr>
              <a:xfrm rot="21360000">
                <a:off x="11775960" y="6982920"/>
                <a:ext cx="1760400" cy="855720"/>
              </a:xfrm>
              <a:custGeom>
                <a:avLst/>
                <a:gdLst>
                  <a:gd name="textAreaLeft" fmla="*/ 0 w 1760400"/>
                  <a:gd name="textAreaRight" fmla="*/ 1760760 w 176040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759744" h="855066">
                    <a:moveTo>
                      <a:pt x="0" y="103967"/>
                    </a:moveTo>
                    <a:cubicBezTo>
                      <a:pt x="7938" y="17713"/>
                      <a:pt x="46699" y="46553"/>
                      <a:pt x="86519" y="29355"/>
                    </a:cubicBezTo>
                    <a:cubicBezTo>
                      <a:pt x="173964" y="18507"/>
                      <a:pt x="124090" y="-4512"/>
                      <a:pt x="238919" y="779"/>
                    </a:cubicBezTo>
                    <a:cubicBezTo>
                      <a:pt x="368565" y="15860"/>
                      <a:pt x="446088" y="-27795"/>
                      <a:pt x="756444" y="194454"/>
                    </a:cubicBezTo>
                    <a:lnTo>
                      <a:pt x="886619" y="334154"/>
                    </a:lnTo>
                    <a:cubicBezTo>
                      <a:pt x="950384" y="309283"/>
                      <a:pt x="1009386" y="315369"/>
                      <a:pt x="1077913" y="259542"/>
                    </a:cubicBezTo>
                    <a:cubicBezTo>
                      <a:pt x="1082410" y="307166"/>
                      <a:pt x="1096434" y="357173"/>
                      <a:pt x="1012825" y="495285"/>
                    </a:cubicBezTo>
                    <a:cubicBezTo>
                      <a:pt x="1098285" y="578364"/>
                      <a:pt x="1343290" y="582862"/>
                      <a:pt x="1340644" y="451629"/>
                    </a:cubicBezTo>
                    <a:cubicBezTo>
                      <a:pt x="1208617" y="284677"/>
                      <a:pt x="1348051" y="196307"/>
                      <a:pt x="1404143" y="146036"/>
                    </a:cubicBezTo>
                    <a:cubicBezTo>
                      <a:pt x="1396206" y="260072"/>
                      <a:pt x="1481137" y="295525"/>
                      <a:pt x="1518444" y="426229"/>
                    </a:cubicBezTo>
                    <a:cubicBezTo>
                      <a:pt x="1608402" y="385483"/>
                      <a:pt x="1648355" y="451894"/>
                      <a:pt x="1759744" y="461154"/>
                    </a:cubicBezTo>
                    <a:cubicBezTo>
                      <a:pt x="1660261" y="505604"/>
                      <a:pt x="1679839" y="588154"/>
                      <a:pt x="1461294" y="594504"/>
                    </a:cubicBezTo>
                    <a:cubicBezTo>
                      <a:pt x="942711" y="1099859"/>
                      <a:pt x="621771" y="712243"/>
                      <a:pt x="534194" y="724679"/>
                    </a:cubicBezTo>
                    <a:cubicBezTo>
                      <a:pt x="471752" y="741612"/>
                      <a:pt x="480748" y="775214"/>
                      <a:pt x="346869" y="775479"/>
                    </a:cubicBezTo>
                    <a:cubicBezTo>
                      <a:pt x="345810" y="696897"/>
                      <a:pt x="344752" y="661179"/>
                      <a:pt x="343694" y="604029"/>
                    </a:cubicBezTo>
                    <a:cubicBezTo>
                      <a:pt x="-265" y="394480"/>
                      <a:pt x="42862" y="199746"/>
                      <a:pt x="0" y="103967"/>
                    </a:cubicBezTo>
                    <a:close/>
                  </a:path>
                </a:pathLst>
              </a:custGeom>
              <a:solidFill>
                <a:srgbClr val="0c0c0c"/>
              </a:solidFill>
              <a:ln w="38160">
                <a:solidFill>
                  <a:srgbClr val="0c0c0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任意多边形 87"/>
              <p:cNvSpPr/>
              <p:nvPr/>
            </p:nvSpPr>
            <p:spPr>
              <a:xfrm rot="21360000">
                <a:off x="11953800" y="7216920"/>
                <a:ext cx="307080" cy="167400"/>
              </a:xfrm>
              <a:custGeom>
                <a:avLst/>
                <a:gdLst>
                  <a:gd name="textAreaLeft" fmla="*/ 0 w 307080"/>
                  <a:gd name="textAreaRight" fmla="*/ 307440 w 307080"/>
                  <a:gd name="textAreaTop" fmla="*/ 0 h 167400"/>
                  <a:gd name="textAreaBottom" fmla="*/ 167760 h 167400"/>
                </a:gdLst>
                <a:ahLst/>
                <a:rect l="textAreaLeft" t="textAreaTop" r="textAreaRight" b="textAreaBottom"/>
                <a:pathLst>
                  <a:path w="307181" h="167492">
                    <a:moveTo>
                      <a:pt x="0" y="7477"/>
                    </a:moveTo>
                    <a:cubicBezTo>
                      <a:pt x="118268" y="-17922"/>
                      <a:pt x="200819" y="28114"/>
                      <a:pt x="307181" y="45577"/>
                    </a:cubicBezTo>
                    <a:cubicBezTo>
                      <a:pt x="277812" y="114633"/>
                      <a:pt x="217884" y="173371"/>
                      <a:pt x="166687" y="167021"/>
                    </a:cubicBezTo>
                    <a:cubicBezTo>
                      <a:pt x="115490" y="160671"/>
                      <a:pt x="24606" y="79708"/>
                      <a:pt x="0" y="7477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任意多边形 88"/>
              <p:cNvSpPr/>
              <p:nvPr/>
            </p:nvSpPr>
            <p:spPr>
              <a:xfrm rot="21360000">
                <a:off x="12462840" y="7730280"/>
                <a:ext cx="308520" cy="96840"/>
              </a:xfrm>
              <a:custGeom>
                <a:avLst/>
                <a:gdLst>
                  <a:gd name="textAreaLeft" fmla="*/ 0 w 308520"/>
                  <a:gd name="textAreaRight" fmla="*/ 308880 w 30852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308526" h="96794">
                    <a:moveTo>
                      <a:pt x="1344" y="37262"/>
                    </a:moveTo>
                    <a:cubicBezTo>
                      <a:pt x="34682" y="-38143"/>
                      <a:pt x="275188" y="19799"/>
                      <a:pt x="308526" y="46787"/>
                    </a:cubicBezTo>
                    <a:cubicBezTo>
                      <a:pt x="275981" y="122987"/>
                      <a:pt x="195813" y="-27031"/>
                      <a:pt x="132313" y="96794"/>
                    </a:cubicBezTo>
                    <a:cubicBezTo>
                      <a:pt x="79132" y="96000"/>
                      <a:pt x="-12150" y="54724"/>
                      <a:pt x="1344" y="37262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任意多边形 89"/>
              <p:cNvSpPr/>
              <p:nvPr/>
            </p:nvSpPr>
            <p:spPr>
              <a:xfrm rot="21360000">
                <a:off x="13270320" y="7362000"/>
                <a:ext cx="159480" cy="3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159543" h="38100">
                    <a:moveTo>
                      <a:pt x="0" y="38100"/>
                    </a:moveTo>
                    <a:cubicBezTo>
                      <a:pt x="11906" y="6350"/>
                      <a:pt x="42863" y="12700"/>
                      <a:pt x="64294" y="0"/>
                    </a:cubicBezTo>
                    <a:cubicBezTo>
                      <a:pt x="94456" y="6350"/>
                      <a:pt x="129381" y="-1587"/>
                      <a:pt x="159543" y="19050"/>
                    </a:cubicBezTo>
                    <a:cubicBezTo>
                      <a:pt x="115887" y="53975"/>
                      <a:pt x="57943" y="12700"/>
                      <a:pt x="0" y="38100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任意多边形 90"/>
              <p:cNvSpPr/>
              <p:nvPr/>
            </p:nvSpPr>
            <p:spPr>
              <a:xfrm rot="21360000">
                <a:off x="12063960" y="7042320"/>
                <a:ext cx="273240" cy="72720"/>
              </a:xfrm>
              <a:custGeom>
                <a:avLst/>
                <a:gdLst>
                  <a:gd name="textAreaLeft" fmla="*/ 0 w 273240"/>
                  <a:gd name="textAreaRight" fmla="*/ 273600 w 27324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273426" h="72708">
                    <a:moveTo>
                      <a:pt x="32" y="11055"/>
                    </a:moveTo>
                    <a:cubicBezTo>
                      <a:pt x="1864" y="5168"/>
                      <a:pt x="67381" y="-13789"/>
                      <a:pt x="146281" y="17643"/>
                    </a:cubicBezTo>
                    <a:cubicBezTo>
                      <a:pt x="184699" y="39550"/>
                      <a:pt x="275231" y="65176"/>
                      <a:pt x="273399" y="71063"/>
                    </a:cubicBezTo>
                    <a:cubicBezTo>
                      <a:pt x="271567" y="76950"/>
                      <a:pt x="171799" y="66141"/>
                      <a:pt x="135288" y="52965"/>
                    </a:cubicBezTo>
                    <a:cubicBezTo>
                      <a:pt x="73534" y="19945"/>
                      <a:pt x="-1800" y="16942"/>
                      <a:pt x="32" y="11055"/>
                    </a:cubicBez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23"/>
              <p:cNvSpPr/>
              <p:nvPr/>
            </p:nvSpPr>
            <p:spPr>
              <a:xfrm rot="1773600">
                <a:off x="11676600" y="7266960"/>
                <a:ext cx="555120" cy="226440"/>
              </a:xfrm>
              <a:custGeom>
                <a:avLst/>
                <a:gdLst>
                  <a:gd name="textAreaLeft" fmla="*/ 0 w 555120"/>
                  <a:gd name="textAreaRight" fmla="*/ 555480 w 55512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1111" h="453">
                    <a:moveTo>
                      <a:pt x="587" y="379"/>
                    </a:moveTo>
                    <a:cubicBezTo>
                      <a:pt x="595" y="387"/>
                      <a:pt x="602" y="400"/>
                      <a:pt x="609" y="401"/>
                    </a:cubicBezTo>
                    <a:cubicBezTo>
                      <a:pt x="635" y="402"/>
                      <a:pt x="649" y="422"/>
                      <a:pt x="668" y="433"/>
                    </a:cubicBezTo>
                    <a:cubicBezTo>
                      <a:pt x="669" y="434"/>
                      <a:pt x="669" y="437"/>
                      <a:pt x="669" y="442"/>
                    </a:cubicBezTo>
                    <a:cubicBezTo>
                      <a:pt x="663" y="443"/>
                      <a:pt x="657" y="445"/>
                      <a:pt x="651" y="444"/>
                    </a:cubicBezTo>
                    <a:cubicBezTo>
                      <a:pt x="616" y="438"/>
                      <a:pt x="582" y="432"/>
                      <a:pt x="548" y="425"/>
                    </a:cubicBezTo>
                    <a:cubicBezTo>
                      <a:pt x="539" y="424"/>
                      <a:pt x="529" y="422"/>
                      <a:pt x="523" y="416"/>
                    </a:cubicBezTo>
                    <a:cubicBezTo>
                      <a:pt x="485" y="385"/>
                      <a:pt x="437" y="374"/>
                      <a:pt x="396" y="348"/>
                    </a:cubicBezTo>
                    <a:cubicBezTo>
                      <a:pt x="371" y="333"/>
                      <a:pt x="347" y="315"/>
                      <a:pt x="321" y="300"/>
                    </a:cubicBezTo>
                    <a:cubicBezTo>
                      <a:pt x="275" y="273"/>
                      <a:pt x="231" y="242"/>
                      <a:pt x="190" y="207"/>
                    </a:cubicBezTo>
                    <a:cubicBezTo>
                      <a:pt x="164" y="187"/>
                      <a:pt x="135" y="171"/>
                      <a:pt x="108" y="152"/>
                    </a:cubicBezTo>
                    <a:cubicBezTo>
                      <a:pt x="88" y="139"/>
                      <a:pt x="69" y="125"/>
                      <a:pt x="50" y="110"/>
                    </a:cubicBezTo>
                    <a:cubicBezTo>
                      <a:pt x="45" y="107"/>
                      <a:pt x="44" y="101"/>
                      <a:pt x="40" y="94"/>
                    </a:cubicBezTo>
                    <a:cubicBezTo>
                      <a:pt x="49" y="91"/>
                      <a:pt x="56" y="89"/>
                      <a:pt x="67" y="86"/>
                    </a:cubicBezTo>
                    <a:cubicBezTo>
                      <a:pt x="61" y="82"/>
                      <a:pt x="59" y="78"/>
                      <a:pt x="55" y="78"/>
                    </a:cubicBezTo>
                    <a:cubicBezTo>
                      <a:pt x="39" y="75"/>
                      <a:pt x="22" y="74"/>
                      <a:pt x="12" y="57"/>
                    </a:cubicBezTo>
                    <a:cubicBezTo>
                      <a:pt x="3" y="42"/>
                      <a:pt x="0" y="28"/>
                      <a:pt x="10" y="10"/>
                    </a:cubicBezTo>
                    <a:cubicBezTo>
                      <a:pt x="40" y="14"/>
                      <a:pt x="71" y="16"/>
                      <a:pt x="101" y="22"/>
                    </a:cubicBezTo>
                    <a:cubicBezTo>
                      <a:pt x="140" y="29"/>
                      <a:pt x="177" y="22"/>
                      <a:pt x="214" y="17"/>
                    </a:cubicBezTo>
                    <a:cubicBezTo>
                      <a:pt x="232" y="15"/>
                      <a:pt x="250" y="15"/>
                      <a:pt x="268" y="13"/>
                    </a:cubicBezTo>
                    <a:cubicBezTo>
                      <a:pt x="290" y="11"/>
                      <a:pt x="313" y="8"/>
                      <a:pt x="335" y="4"/>
                    </a:cubicBezTo>
                    <a:cubicBezTo>
                      <a:pt x="355" y="0"/>
                      <a:pt x="359" y="1"/>
                      <a:pt x="364" y="20"/>
                    </a:cubicBezTo>
                    <a:cubicBezTo>
                      <a:pt x="369" y="39"/>
                      <a:pt x="382" y="48"/>
                      <a:pt x="397" y="59"/>
                    </a:cubicBezTo>
                    <a:cubicBezTo>
                      <a:pt x="416" y="74"/>
                      <a:pt x="442" y="77"/>
                      <a:pt x="456" y="100"/>
                    </a:cubicBezTo>
                    <a:cubicBezTo>
                      <a:pt x="460" y="107"/>
                      <a:pt x="476" y="109"/>
                      <a:pt x="487" y="109"/>
                    </a:cubicBezTo>
                    <a:cubicBezTo>
                      <a:pt x="538" y="109"/>
                      <a:pt x="585" y="126"/>
                      <a:pt x="634" y="137"/>
                    </a:cubicBezTo>
                    <a:cubicBezTo>
                      <a:pt x="663" y="143"/>
                      <a:pt x="690" y="142"/>
                      <a:pt x="719" y="132"/>
                    </a:cubicBezTo>
                    <a:cubicBezTo>
                      <a:pt x="735" y="125"/>
                      <a:pt x="753" y="123"/>
                      <a:pt x="771" y="121"/>
                    </a:cubicBezTo>
                    <a:cubicBezTo>
                      <a:pt x="800" y="118"/>
                      <a:pt x="829" y="117"/>
                      <a:pt x="859" y="115"/>
                    </a:cubicBezTo>
                    <a:cubicBezTo>
                      <a:pt x="859" y="113"/>
                      <a:pt x="857" y="108"/>
                      <a:pt x="855" y="103"/>
                    </a:cubicBezTo>
                    <a:cubicBezTo>
                      <a:pt x="888" y="76"/>
                      <a:pt x="922" y="48"/>
                      <a:pt x="957" y="19"/>
                    </a:cubicBezTo>
                    <a:cubicBezTo>
                      <a:pt x="977" y="33"/>
                      <a:pt x="999" y="46"/>
                      <a:pt x="1019" y="62"/>
                    </a:cubicBezTo>
                    <a:cubicBezTo>
                      <a:pt x="1026" y="68"/>
                      <a:pt x="1026" y="81"/>
                      <a:pt x="1031" y="94"/>
                    </a:cubicBezTo>
                    <a:cubicBezTo>
                      <a:pt x="1054" y="103"/>
                      <a:pt x="1066" y="128"/>
                      <a:pt x="1072" y="153"/>
                    </a:cubicBezTo>
                    <a:cubicBezTo>
                      <a:pt x="1086" y="214"/>
                      <a:pt x="1097" y="277"/>
                      <a:pt x="1109" y="338"/>
                    </a:cubicBezTo>
                    <a:cubicBezTo>
                      <a:pt x="1110" y="343"/>
                      <a:pt x="1111" y="349"/>
                      <a:pt x="1110" y="353"/>
                    </a:cubicBezTo>
                    <a:cubicBezTo>
                      <a:pt x="1102" y="382"/>
                      <a:pt x="1098" y="412"/>
                      <a:pt x="1080" y="437"/>
                    </a:cubicBezTo>
                    <a:cubicBezTo>
                      <a:pt x="1073" y="447"/>
                      <a:pt x="1064" y="453"/>
                      <a:pt x="1050" y="452"/>
                    </a:cubicBezTo>
                    <a:cubicBezTo>
                      <a:pt x="1013" y="448"/>
                      <a:pt x="975" y="446"/>
                      <a:pt x="937" y="443"/>
                    </a:cubicBezTo>
                    <a:cubicBezTo>
                      <a:pt x="932" y="443"/>
                      <a:pt x="927" y="441"/>
                      <a:pt x="922" y="443"/>
                    </a:cubicBezTo>
                    <a:cubicBezTo>
                      <a:pt x="884" y="453"/>
                      <a:pt x="850" y="437"/>
                      <a:pt x="814" y="426"/>
                    </a:cubicBezTo>
                    <a:cubicBezTo>
                      <a:pt x="803" y="423"/>
                      <a:pt x="791" y="421"/>
                      <a:pt x="780" y="417"/>
                    </a:cubicBezTo>
                    <a:cubicBezTo>
                      <a:pt x="756" y="409"/>
                      <a:pt x="732" y="400"/>
                      <a:pt x="707" y="392"/>
                    </a:cubicBezTo>
                    <a:cubicBezTo>
                      <a:pt x="700" y="389"/>
                      <a:pt x="690" y="385"/>
                      <a:pt x="685" y="388"/>
                    </a:cubicBezTo>
                    <a:cubicBezTo>
                      <a:pt x="661" y="402"/>
                      <a:pt x="639" y="392"/>
                      <a:pt x="616" y="387"/>
                    </a:cubicBezTo>
                    <a:cubicBezTo>
                      <a:pt x="606" y="385"/>
                      <a:pt x="596" y="382"/>
                      <a:pt x="587" y="380"/>
                    </a:cubicBezTo>
                    <a:cubicBezTo>
                      <a:pt x="577" y="373"/>
                      <a:pt x="569" y="362"/>
                      <a:pt x="551" y="365"/>
                    </a:cubicBezTo>
                    <a:cubicBezTo>
                      <a:pt x="560" y="384"/>
                      <a:pt x="574" y="381"/>
                      <a:pt x="587" y="379"/>
                    </a:cubicBezTo>
                    <a:close/>
                    <a:moveTo>
                      <a:pt x="145" y="83"/>
                    </a:moveTo>
                    <a:cubicBezTo>
                      <a:pt x="145" y="85"/>
                      <a:pt x="145" y="87"/>
                      <a:pt x="145" y="89"/>
                    </a:cubicBezTo>
                    <a:cubicBezTo>
                      <a:pt x="151" y="89"/>
                      <a:pt x="158" y="89"/>
                      <a:pt x="164" y="89"/>
                    </a:cubicBezTo>
                    <a:cubicBezTo>
                      <a:pt x="164" y="88"/>
                      <a:pt x="164" y="86"/>
                      <a:pt x="164" y="84"/>
                    </a:cubicBezTo>
                    <a:cubicBezTo>
                      <a:pt x="158" y="84"/>
                      <a:pt x="151" y="83"/>
                      <a:pt x="145" y="83"/>
                    </a:cubicBezTo>
                    <a:close/>
                    <a:moveTo>
                      <a:pt x="97" y="80"/>
                    </a:moveTo>
                    <a:cubicBezTo>
                      <a:pt x="97" y="83"/>
                      <a:pt x="96" y="85"/>
                      <a:pt x="96" y="88"/>
                    </a:cubicBezTo>
                    <a:cubicBezTo>
                      <a:pt x="102" y="89"/>
                      <a:pt x="109" y="90"/>
                      <a:pt x="116" y="91"/>
                    </a:cubicBezTo>
                    <a:cubicBezTo>
                      <a:pt x="117" y="91"/>
                      <a:pt x="117" y="88"/>
                      <a:pt x="118" y="85"/>
                    </a:cubicBezTo>
                    <a:cubicBezTo>
                      <a:pt x="111" y="83"/>
                      <a:pt x="104" y="82"/>
                      <a:pt x="97" y="80"/>
                    </a:cubicBezTo>
                    <a:close/>
                    <a:moveTo>
                      <a:pt x="1028" y="126"/>
                    </a:moveTo>
                    <a:cubicBezTo>
                      <a:pt x="1028" y="125"/>
                      <a:pt x="1029" y="124"/>
                      <a:pt x="1030" y="122"/>
                    </a:cubicBezTo>
                    <a:cubicBezTo>
                      <a:pt x="1027" y="120"/>
                      <a:pt x="1025" y="117"/>
                      <a:pt x="1022" y="117"/>
                    </a:cubicBezTo>
                    <a:cubicBezTo>
                      <a:pt x="1019" y="116"/>
                      <a:pt x="1015" y="118"/>
                      <a:pt x="1011" y="118"/>
                    </a:cubicBezTo>
                    <a:cubicBezTo>
                      <a:pt x="1011" y="120"/>
                      <a:pt x="1011" y="122"/>
                      <a:pt x="1011" y="123"/>
                    </a:cubicBezTo>
                    <a:cubicBezTo>
                      <a:pt x="1017" y="124"/>
                      <a:pt x="1022" y="125"/>
                      <a:pt x="1028" y="126"/>
                    </a:cubicBezTo>
                    <a:close/>
                    <a:moveTo>
                      <a:pt x="381" y="102"/>
                    </a:moveTo>
                    <a:cubicBezTo>
                      <a:pt x="382" y="101"/>
                      <a:pt x="383" y="99"/>
                      <a:pt x="384" y="97"/>
                    </a:cubicBezTo>
                    <a:cubicBezTo>
                      <a:pt x="379" y="95"/>
                      <a:pt x="374" y="93"/>
                      <a:pt x="369" y="91"/>
                    </a:cubicBezTo>
                    <a:cubicBezTo>
                      <a:pt x="368" y="93"/>
                      <a:pt x="368" y="95"/>
                      <a:pt x="367" y="96"/>
                    </a:cubicBezTo>
                    <a:cubicBezTo>
                      <a:pt x="372" y="98"/>
                      <a:pt x="377" y="100"/>
                      <a:pt x="381" y="102"/>
                    </a:cubicBezTo>
                    <a:close/>
                    <a:moveTo>
                      <a:pt x="327" y="97"/>
                    </a:moveTo>
                    <a:cubicBezTo>
                      <a:pt x="328" y="95"/>
                      <a:pt x="329" y="93"/>
                      <a:pt x="330" y="92"/>
                    </a:cubicBezTo>
                    <a:cubicBezTo>
                      <a:pt x="327" y="91"/>
                      <a:pt x="325" y="90"/>
                      <a:pt x="322" y="90"/>
                    </a:cubicBezTo>
                    <a:cubicBezTo>
                      <a:pt x="319" y="90"/>
                      <a:pt x="317" y="91"/>
                      <a:pt x="314" y="92"/>
                    </a:cubicBezTo>
                    <a:cubicBezTo>
                      <a:pt x="316" y="94"/>
                      <a:pt x="317" y="97"/>
                      <a:pt x="319" y="98"/>
                    </a:cubicBezTo>
                    <a:cubicBezTo>
                      <a:pt x="321" y="99"/>
                      <a:pt x="324" y="97"/>
                      <a:pt x="327" y="9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Freeform 30"/>
            <p:cNvSpPr/>
            <p:nvPr/>
          </p:nvSpPr>
          <p:spPr>
            <a:xfrm rot="1706400">
              <a:off x="12789720" y="7241400"/>
              <a:ext cx="68040" cy="1746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74600"/>
                <a:gd name="textAreaBottom" fmla="*/ 174960 h 174600"/>
              </a:gdLst>
              <a:ahLst/>
              <a:rect l="textAreaLeft" t="textAreaTop" r="textAreaRight" b="textAreaBottom"/>
              <a:pathLst>
                <a:path w="136" h="348">
                  <a:moveTo>
                    <a:pt x="42" y="0"/>
                  </a:moveTo>
                  <a:cubicBezTo>
                    <a:pt x="52" y="12"/>
                    <a:pt x="60" y="19"/>
                    <a:pt x="64" y="28"/>
                  </a:cubicBezTo>
                  <a:cubicBezTo>
                    <a:pt x="76" y="58"/>
                    <a:pt x="88" y="89"/>
                    <a:pt x="99" y="120"/>
                  </a:cubicBezTo>
                  <a:cubicBezTo>
                    <a:pt x="106" y="138"/>
                    <a:pt x="113" y="156"/>
                    <a:pt x="117" y="174"/>
                  </a:cubicBezTo>
                  <a:cubicBezTo>
                    <a:pt x="127" y="222"/>
                    <a:pt x="136" y="270"/>
                    <a:pt x="129" y="319"/>
                  </a:cubicBezTo>
                  <a:cubicBezTo>
                    <a:pt x="128" y="330"/>
                    <a:pt x="125" y="342"/>
                    <a:pt x="110" y="348"/>
                  </a:cubicBezTo>
                  <a:cubicBezTo>
                    <a:pt x="106" y="323"/>
                    <a:pt x="102" y="300"/>
                    <a:pt x="100" y="277"/>
                  </a:cubicBezTo>
                  <a:cubicBezTo>
                    <a:pt x="97" y="247"/>
                    <a:pt x="94" y="217"/>
                    <a:pt x="81" y="190"/>
                  </a:cubicBezTo>
                  <a:cubicBezTo>
                    <a:pt x="80" y="187"/>
                    <a:pt x="78" y="184"/>
                    <a:pt x="79" y="181"/>
                  </a:cubicBezTo>
                  <a:cubicBezTo>
                    <a:pt x="84" y="139"/>
                    <a:pt x="52" y="129"/>
                    <a:pt x="24" y="115"/>
                  </a:cubicBezTo>
                  <a:cubicBezTo>
                    <a:pt x="18" y="112"/>
                    <a:pt x="13" y="108"/>
                    <a:pt x="0" y="100"/>
                  </a:cubicBezTo>
                  <a:cubicBezTo>
                    <a:pt x="16" y="97"/>
                    <a:pt x="25" y="94"/>
                    <a:pt x="30" y="93"/>
                  </a:cubicBezTo>
                  <a:cubicBezTo>
                    <a:pt x="26" y="80"/>
                    <a:pt x="16" y="66"/>
                    <a:pt x="17" y="52"/>
                  </a:cubicBezTo>
                  <a:cubicBezTo>
                    <a:pt x="18" y="35"/>
                    <a:pt x="28" y="19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组合 82"/>
            <p:cNvGrpSpPr/>
            <p:nvPr/>
          </p:nvGrpSpPr>
          <p:grpSpPr>
            <a:xfrm>
              <a:off x="13054680" y="7208280"/>
              <a:ext cx="81000" cy="100440"/>
              <a:chOff x="13054680" y="7208280"/>
              <a:chExt cx="81000" cy="100440"/>
            </a:xfrm>
          </p:grpSpPr>
          <p:sp>
            <p:nvSpPr>
              <p:cNvPr id="48" name="Freeform 38"/>
              <p:cNvSpPr/>
              <p:nvPr/>
            </p:nvSpPr>
            <p:spPr>
              <a:xfrm rot="1773600">
                <a:off x="13069080" y="7234200"/>
                <a:ext cx="38160" cy="694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76" h="139">
                    <a:moveTo>
                      <a:pt x="73" y="139"/>
                    </a:moveTo>
                    <a:cubicBezTo>
                      <a:pt x="66" y="135"/>
                      <a:pt x="59" y="133"/>
                      <a:pt x="54" y="128"/>
                    </a:cubicBezTo>
                    <a:cubicBezTo>
                      <a:pt x="29" y="105"/>
                      <a:pt x="11" y="77"/>
                      <a:pt x="3" y="45"/>
                    </a:cubicBezTo>
                    <a:cubicBezTo>
                      <a:pt x="0" y="33"/>
                      <a:pt x="2" y="21"/>
                      <a:pt x="4" y="9"/>
                    </a:cubicBezTo>
                    <a:cubicBezTo>
                      <a:pt x="5" y="5"/>
                      <a:pt x="12" y="1"/>
                      <a:pt x="17" y="0"/>
                    </a:cubicBezTo>
                    <a:cubicBezTo>
                      <a:pt x="20" y="0"/>
                      <a:pt x="27" y="6"/>
                      <a:pt x="26" y="9"/>
                    </a:cubicBezTo>
                    <a:cubicBezTo>
                      <a:pt x="24" y="33"/>
                      <a:pt x="38" y="50"/>
                      <a:pt x="47" y="70"/>
                    </a:cubicBezTo>
                    <a:cubicBezTo>
                      <a:pt x="52" y="81"/>
                      <a:pt x="53" y="93"/>
                      <a:pt x="58" y="104"/>
                    </a:cubicBezTo>
                    <a:cubicBezTo>
                      <a:pt x="63" y="115"/>
                      <a:pt x="70" y="125"/>
                      <a:pt x="76" y="135"/>
                    </a:cubicBezTo>
                    <a:cubicBezTo>
                      <a:pt x="75" y="136"/>
                      <a:pt x="74" y="137"/>
                      <a:pt x="73" y="13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42"/>
              <p:cNvSpPr/>
              <p:nvPr/>
            </p:nvSpPr>
            <p:spPr>
              <a:xfrm rot="1773600">
                <a:off x="13103280" y="7211160"/>
                <a:ext cx="23400" cy="4104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47" h="82">
                    <a:moveTo>
                      <a:pt x="0" y="45"/>
                    </a:moveTo>
                    <a:cubicBezTo>
                      <a:pt x="5" y="32"/>
                      <a:pt x="12" y="17"/>
                      <a:pt x="19" y="0"/>
                    </a:cubicBezTo>
                    <a:cubicBezTo>
                      <a:pt x="45" y="23"/>
                      <a:pt x="47" y="52"/>
                      <a:pt x="47" y="82"/>
                    </a:cubicBezTo>
                    <a:cubicBezTo>
                      <a:pt x="31" y="69"/>
                      <a:pt x="16" y="58"/>
                      <a:pt x="0" y="4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Freeform 33"/>
            <p:cNvSpPr/>
            <p:nvPr/>
          </p:nvSpPr>
          <p:spPr>
            <a:xfrm rot="1773600">
              <a:off x="12191760" y="7725600"/>
              <a:ext cx="64440" cy="878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29" h="176">
                  <a:moveTo>
                    <a:pt x="5" y="176"/>
                  </a:moveTo>
                  <a:cubicBezTo>
                    <a:pt x="3" y="158"/>
                    <a:pt x="0" y="143"/>
                    <a:pt x="0" y="128"/>
                  </a:cubicBezTo>
                  <a:cubicBezTo>
                    <a:pt x="1" y="116"/>
                    <a:pt x="0" y="103"/>
                    <a:pt x="18" y="98"/>
                  </a:cubicBezTo>
                  <a:cubicBezTo>
                    <a:pt x="24" y="96"/>
                    <a:pt x="28" y="82"/>
                    <a:pt x="29" y="73"/>
                  </a:cubicBezTo>
                  <a:cubicBezTo>
                    <a:pt x="31" y="66"/>
                    <a:pt x="27" y="58"/>
                    <a:pt x="26" y="50"/>
                  </a:cubicBezTo>
                  <a:cubicBezTo>
                    <a:pt x="49" y="32"/>
                    <a:pt x="62" y="0"/>
                    <a:pt x="99" y="5"/>
                  </a:cubicBezTo>
                  <a:cubicBezTo>
                    <a:pt x="114" y="8"/>
                    <a:pt x="114" y="6"/>
                    <a:pt x="129" y="19"/>
                  </a:cubicBezTo>
                  <a:cubicBezTo>
                    <a:pt x="121" y="19"/>
                    <a:pt x="117" y="19"/>
                    <a:pt x="112" y="19"/>
                  </a:cubicBezTo>
                  <a:cubicBezTo>
                    <a:pt x="90" y="19"/>
                    <a:pt x="84" y="26"/>
                    <a:pt x="79" y="47"/>
                  </a:cubicBezTo>
                  <a:cubicBezTo>
                    <a:pt x="71" y="76"/>
                    <a:pt x="66" y="105"/>
                    <a:pt x="45" y="128"/>
                  </a:cubicBezTo>
                  <a:cubicBezTo>
                    <a:pt x="32" y="143"/>
                    <a:pt x="28" y="164"/>
                    <a:pt x="5" y="1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18"/>
          <p:cNvGrpSpPr/>
          <p:nvPr/>
        </p:nvGrpSpPr>
        <p:grpSpPr>
          <a:xfrm>
            <a:off x="11648520" y="7009920"/>
            <a:ext cx="1864080" cy="1181160"/>
            <a:chOff x="11648520" y="7009920"/>
            <a:chExt cx="1864080" cy="1181160"/>
          </a:xfrm>
        </p:grpSpPr>
        <p:sp>
          <p:nvSpPr>
            <p:cNvPr id="52" name="任意多边形 116"/>
            <p:cNvSpPr/>
            <p:nvPr/>
          </p:nvSpPr>
          <p:spPr>
            <a:xfrm flipV="1" rot="156600">
              <a:off x="11727000" y="7049160"/>
              <a:ext cx="1761480" cy="1101960"/>
            </a:xfrm>
            <a:custGeom>
              <a:avLst/>
              <a:gdLst>
                <a:gd name="textAreaLeft" fmla="*/ 0 w 1761480"/>
                <a:gd name="textAreaRight" fmla="*/ 1761840 w 1761480"/>
                <a:gd name="textAreaTop" fmla="*/ -360 h 1101960"/>
                <a:gd name="textAreaBottom" fmla="*/ 1101960 h 1101960"/>
              </a:gdLst>
              <a:ahLst/>
              <a:rect l="textAreaLeft" t="textAreaTop" r="textAreaRight" b="textAreaBottom"/>
              <a:pathLst>
                <a:path w="1762099" h="1102075">
                  <a:moveTo>
                    <a:pt x="189748" y="1091896"/>
                  </a:moveTo>
                  <a:cubicBezTo>
                    <a:pt x="199463" y="1093168"/>
                    <a:pt x="211190" y="1094306"/>
                    <a:pt x="225524" y="1095301"/>
                  </a:cubicBezTo>
                  <a:cubicBezTo>
                    <a:pt x="356045" y="1095243"/>
                    <a:pt x="428028" y="1147531"/>
                    <a:pt x="761902" y="962482"/>
                  </a:cubicBezTo>
                  <a:lnTo>
                    <a:pt x="907292" y="838694"/>
                  </a:lnTo>
                  <a:cubicBezTo>
                    <a:pt x="967771" y="870740"/>
                    <a:pt x="1027081" y="871485"/>
                    <a:pt x="1088727" y="934829"/>
                  </a:cubicBezTo>
                  <a:cubicBezTo>
                    <a:pt x="1097432" y="893888"/>
                    <a:pt x="1113593" y="851974"/>
                    <a:pt x="1072507" y="743779"/>
                  </a:cubicBezTo>
                  <a:lnTo>
                    <a:pt x="1052371" y="695929"/>
                  </a:lnTo>
                  <a:cubicBezTo>
                    <a:pt x="1189464" y="613442"/>
                    <a:pt x="1340099" y="558894"/>
                    <a:pt x="1463649" y="448468"/>
                  </a:cubicBezTo>
                  <a:cubicBezTo>
                    <a:pt x="1682194" y="442118"/>
                    <a:pt x="1662616" y="359568"/>
                    <a:pt x="1762099" y="315118"/>
                  </a:cubicBezTo>
                  <a:cubicBezTo>
                    <a:pt x="1650710" y="305858"/>
                    <a:pt x="1610757" y="239447"/>
                    <a:pt x="1520799" y="280193"/>
                  </a:cubicBezTo>
                  <a:cubicBezTo>
                    <a:pt x="1483492" y="149489"/>
                    <a:pt x="1398561" y="114036"/>
                    <a:pt x="1406498" y="0"/>
                  </a:cubicBezTo>
                  <a:cubicBezTo>
                    <a:pt x="1350406" y="50271"/>
                    <a:pt x="1210972" y="138641"/>
                    <a:pt x="1342999" y="305593"/>
                  </a:cubicBezTo>
                  <a:cubicBezTo>
                    <a:pt x="1343991" y="354805"/>
                    <a:pt x="1310158" y="384930"/>
                    <a:pt x="1262971" y="398982"/>
                  </a:cubicBezTo>
                  <a:lnTo>
                    <a:pt x="1221916" y="406093"/>
                  </a:lnTo>
                  <a:cubicBezTo>
                    <a:pt x="1015331" y="407462"/>
                    <a:pt x="919807" y="277869"/>
                    <a:pt x="602160" y="410200"/>
                  </a:cubicBezTo>
                  <a:cubicBezTo>
                    <a:pt x="542082" y="386192"/>
                    <a:pt x="554886" y="353849"/>
                    <a:pt x="421928" y="338175"/>
                  </a:cubicBezTo>
                  <a:cubicBezTo>
                    <a:pt x="411831" y="416113"/>
                    <a:pt x="406668" y="451472"/>
                    <a:pt x="399039" y="508120"/>
                  </a:cubicBezTo>
                  <a:cubicBezTo>
                    <a:pt x="33247" y="676686"/>
                    <a:pt x="53672" y="875090"/>
                    <a:pt x="71" y="965299"/>
                  </a:cubicBezTo>
                  <a:cubicBezTo>
                    <a:pt x="-1972" y="1051893"/>
                    <a:pt x="39851" y="1027706"/>
                    <a:pt x="77427" y="1049373"/>
                  </a:cubicBezTo>
                  <a:cubicBezTo>
                    <a:pt x="152340" y="1067609"/>
                    <a:pt x="121745" y="1083000"/>
                    <a:pt x="189748" y="1091896"/>
                  </a:cubicBezTo>
                  <a:close/>
                </a:path>
              </a:pathLst>
            </a:custGeom>
            <a:solidFill>
              <a:srgbClr val="0c0c0c"/>
            </a:solidFill>
            <a:ln w="38160">
              <a:solidFill>
                <a:srgbClr val="0d0d0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任意多边形 61"/>
            <p:cNvSpPr/>
            <p:nvPr/>
          </p:nvSpPr>
          <p:spPr>
            <a:xfrm rot="21360000">
              <a:off x="11944800" y="7214040"/>
              <a:ext cx="306720" cy="167400"/>
            </a:xfrm>
            <a:custGeom>
              <a:avLst/>
              <a:gdLst>
                <a:gd name="textAreaLeft" fmla="*/ 0 w 306720"/>
                <a:gd name="textAreaRight" fmla="*/ 306720 w 306720"/>
                <a:gd name="textAreaTop" fmla="*/ 0 h 167400"/>
                <a:gd name="textAreaBottom" fmla="*/ 167760 h 167400"/>
              </a:gdLst>
              <a:ahLst/>
              <a:rect l="textAreaLeft" t="textAreaTop" r="textAreaRight" b="textAreaBottom"/>
              <a:pathLst>
                <a:path w="307181" h="167492">
                  <a:moveTo>
                    <a:pt x="0" y="7477"/>
                  </a:moveTo>
                  <a:cubicBezTo>
                    <a:pt x="118268" y="-17922"/>
                    <a:pt x="200819" y="28114"/>
                    <a:pt x="307181" y="45577"/>
                  </a:cubicBezTo>
                  <a:cubicBezTo>
                    <a:pt x="277812" y="114633"/>
                    <a:pt x="217884" y="173371"/>
                    <a:pt x="166687" y="167021"/>
                  </a:cubicBezTo>
                  <a:cubicBezTo>
                    <a:pt x="115490" y="160671"/>
                    <a:pt x="24606" y="79708"/>
                    <a:pt x="0" y="7477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任意多边形 62"/>
            <p:cNvSpPr/>
            <p:nvPr/>
          </p:nvSpPr>
          <p:spPr>
            <a:xfrm rot="21360000">
              <a:off x="12442680" y="7696800"/>
              <a:ext cx="308160" cy="96840"/>
            </a:xfrm>
            <a:custGeom>
              <a:avLst/>
              <a:gdLst>
                <a:gd name="textAreaLeft" fmla="*/ 0 w 308160"/>
                <a:gd name="textAreaRight" fmla="*/ 308520 w 3081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08526" h="96794">
                  <a:moveTo>
                    <a:pt x="1344" y="37262"/>
                  </a:moveTo>
                  <a:cubicBezTo>
                    <a:pt x="34682" y="-38143"/>
                    <a:pt x="275188" y="19799"/>
                    <a:pt x="308526" y="46787"/>
                  </a:cubicBezTo>
                  <a:cubicBezTo>
                    <a:pt x="275981" y="122987"/>
                    <a:pt x="195813" y="-27031"/>
                    <a:pt x="132313" y="96794"/>
                  </a:cubicBezTo>
                  <a:cubicBezTo>
                    <a:pt x="79132" y="96000"/>
                    <a:pt x="-12150" y="54724"/>
                    <a:pt x="1344" y="3726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任意多边形 64"/>
            <p:cNvSpPr/>
            <p:nvPr/>
          </p:nvSpPr>
          <p:spPr>
            <a:xfrm rot="21360000">
              <a:off x="12054960" y="7039800"/>
              <a:ext cx="273240" cy="7272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273426" h="72708">
                  <a:moveTo>
                    <a:pt x="32" y="11055"/>
                  </a:moveTo>
                  <a:cubicBezTo>
                    <a:pt x="1864" y="5168"/>
                    <a:pt x="67381" y="-13789"/>
                    <a:pt x="146281" y="17643"/>
                  </a:cubicBezTo>
                  <a:cubicBezTo>
                    <a:pt x="184699" y="39550"/>
                    <a:pt x="275231" y="65176"/>
                    <a:pt x="273399" y="71063"/>
                  </a:cubicBezTo>
                  <a:cubicBezTo>
                    <a:pt x="271567" y="76950"/>
                    <a:pt x="171799" y="66141"/>
                    <a:pt x="135288" y="52965"/>
                  </a:cubicBezTo>
                  <a:cubicBezTo>
                    <a:pt x="73534" y="19945"/>
                    <a:pt x="-1800" y="16942"/>
                    <a:pt x="32" y="11055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3"/>
            <p:cNvSpPr/>
            <p:nvPr/>
          </p:nvSpPr>
          <p:spPr>
            <a:xfrm rot="1773600">
              <a:off x="11667960" y="7264440"/>
              <a:ext cx="554760" cy="226080"/>
            </a:xfrm>
            <a:custGeom>
              <a:avLst/>
              <a:gdLst>
                <a:gd name="textAreaLeft" fmla="*/ 0 w 554760"/>
                <a:gd name="textAreaRight" fmla="*/ 555120 w 55476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111" h="453">
                  <a:moveTo>
                    <a:pt x="587" y="379"/>
                  </a:moveTo>
                  <a:cubicBezTo>
                    <a:pt x="595" y="387"/>
                    <a:pt x="602" y="400"/>
                    <a:pt x="609" y="401"/>
                  </a:cubicBezTo>
                  <a:cubicBezTo>
                    <a:pt x="635" y="402"/>
                    <a:pt x="649" y="422"/>
                    <a:pt x="668" y="433"/>
                  </a:cubicBezTo>
                  <a:cubicBezTo>
                    <a:pt x="669" y="434"/>
                    <a:pt x="669" y="437"/>
                    <a:pt x="669" y="442"/>
                  </a:cubicBezTo>
                  <a:cubicBezTo>
                    <a:pt x="663" y="443"/>
                    <a:pt x="657" y="445"/>
                    <a:pt x="651" y="444"/>
                  </a:cubicBezTo>
                  <a:cubicBezTo>
                    <a:pt x="616" y="438"/>
                    <a:pt x="582" y="432"/>
                    <a:pt x="548" y="425"/>
                  </a:cubicBezTo>
                  <a:cubicBezTo>
                    <a:pt x="539" y="424"/>
                    <a:pt x="529" y="422"/>
                    <a:pt x="523" y="416"/>
                  </a:cubicBezTo>
                  <a:cubicBezTo>
                    <a:pt x="485" y="385"/>
                    <a:pt x="437" y="374"/>
                    <a:pt x="396" y="348"/>
                  </a:cubicBezTo>
                  <a:cubicBezTo>
                    <a:pt x="371" y="333"/>
                    <a:pt x="347" y="315"/>
                    <a:pt x="321" y="300"/>
                  </a:cubicBezTo>
                  <a:cubicBezTo>
                    <a:pt x="275" y="273"/>
                    <a:pt x="231" y="242"/>
                    <a:pt x="190" y="207"/>
                  </a:cubicBezTo>
                  <a:cubicBezTo>
                    <a:pt x="164" y="187"/>
                    <a:pt x="135" y="171"/>
                    <a:pt x="108" y="152"/>
                  </a:cubicBezTo>
                  <a:cubicBezTo>
                    <a:pt x="88" y="139"/>
                    <a:pt x="69" y="125"/>
                    <a:pt x="50" y="110"/>
                  </a:cubicBezTo>
                  <a:cubicBezTo>
                    <a:pt x="45" y="107"/>
                    <a:pt x="44" y="101"/>
                    <a:pt x="40" y="94"/>
                  </a:cubicBezTo>
                  <a:cubicBezTo>
                    <a:pt x="49" y="91"/>
                    <a:pt x="56" y="89"/>
                    <a:pt x="67" y="86"/>
                  </a:cubicBezTo>
                  <a:cubicBezTo>
                    <a:pt x="61" y="82"/>
                    <a:pt x="59" y="78"/>
                    <a:pt x="55" y="78"/>
                  </a:cubicBezTo>
                  <a:cubicBezTo>
                    <a:pt x="39" y="75"/>
                    <a:pt x="22" y="74"/>
                    <a:pt x="12" y="57"/>
                  </a:cubicBezTo>
                  <a:cubicBezTo>
                    <a:pt x="3" y="42"/>
                    <a:pt x="0" y="28"/>
                    <a:pt x="10" y="10"/>
                  </a:cubicBezTo>
                  <a:cubicBezTo>
                    <a:pt x="40" y="14"/>
                    <a:pt x="71" y="16"/>
                    <a:pt x="101" y="22"/>
                  </a:cubicBezTo>
                  <a:cubicBezTo>
                    <a:pt x="140" y="29"/>
                    <a:pt x="177" y="22"/>
                    <a:pt x="214" y="17"/>
                  </a:cubicBezTo>
                  <a:cubicBezTo>
                    <a:pt x="232" y="15"/>
                    <a:pt x="250" y="15"/>
                    <a:pt x="268" y="13"/>
                  </a:cubicBezTo>
                  <a:cubicBezTo>
                    <a:pt x="290" y="11"/>
                    <a:pt x="313" y="8"/>
                    <a:pt x="335" y="4"/>
                  </a:cubicBezTo>
                  <a:cubicBezTo>
                    <a:pt x="355" y="0"/>
                    <a:pt x="359" y="1"/>
                    <a:pt x="364" y="20"/>
                  </a:cubicBezTo>
                  <a:cubicBezTo>
                    <a:pt x="369" y="39"/>
                    <a:pt x="382" y="48"/>
                    <a:pt x="397" y="59"/>
                  </a:cubicBezTo>
                  <a:cubicBezTo>
                    <a:pt x="416" y="74"/>
                    <a:pt x="442" y="77"/>
                    <a:pt x="456" y="100"/>
                  </a:cubicBezTo>
                  <a:cubicBezTo>
                    <a:pt x="460" y="107"/>
                    <a:pt x="476" y="109"/>
                    <a:pt x="487" y="109"/>
                  </a:cubicBezTo>
                  <a:cubicBezTo>
                    <a:pt x="538" y="109"/>
                    <a:pt x="585" y="126"/>
                    <a:pt x="634" y="137"/>
                  </a:cubicBezTo>
                  <a:cubicBezTo>
                    <a:pt x="663" y="143"/>
                    <a:pt x="690" y="142"/>
                    <a:pt x="719" y="132"/>
                  </a:cubicBezTo>
                  <a:cubicBezTo>
                    <a:pt x="735" y="125"/>
                    <a:pt x="753" y="123"/>
                    <a:pt x="771" y="121"/>
                  </a:cubicBezTo>
                  <a:cubicBezTo>
                    <a:pt x="800" y="118"/>
                    <a:pt x="829" y="117"/>
                    <a:pt x="859" y="115"/>
                  </a:cubicBezTo>
                  <a:cubicBezTo>
                    <a:pt x="859" y="113"/>
                    <a:pt x="857" y="108"/>
                    <a:pt x="855" y="103"/>
                  </a:cubicBezTo>
                  <a:cubicBezTo>
                    <a:pt x="888" y="76"/>
                    <a:pt x="922" y="48"/>
                    <a:pt x="957" y="19"/>
                  </a:cubicBezTo>
                  <a:cubicBezTo>
                    <a:pt x="977" y="33"/>
                    <a:pt x="999" y="46"/>
                    <a:pt x="1019" y="62"/>
                  </a:cubicBezTo>
                  <a:cubicBezTo>
                    <a:pt x="1026" y="68"/>
                    <a:pt x="1026" y="81"/>
                    <a:pt x="1031" y="94"/>
                  </a:cubicBezTo>
                  <a:cubicBezTo>
                    <a:pt x="1054" y="103"/>
                    <a:pt x="1066" y="128"/>
                    <a:pt x="1072" y="153"/>
                  </a:cubicBezTo>
                  <a:cubicBezTo>
                    <a:pt x="1086" y="214"/>
                    <a:pt x="1097" y="277"/>
                    <a:pt x="1109" y="338"/>
                  </a:cubicBezTo>
                  <a:cubicBezTo>
                    <a:pt x="1110" y="343"/>
                    <a:pt x="1111" y="349"/>
                    <a:pt x="1110" y="353"/>
                  </a:cubicBezTo>
                  <a:cubicBezTo>
                    <a:pt x="1102" y="382"/>
                    <a:pt x="1098" y="412"/>
                    <a:pt x="1080" y="437"/>
                  </a:cubicBezTo>
                  <a:cubicBezTo>
                    <a:pt x="1073" y="447"/>
                    <a:pt x="1064" y="453"/>
                    <a:pt x="1050" y="452"/>
                  </a:cubicBezTo>
                  <a:cubicBezTo>
                    <a:pt x="1013" y="448"/>
                    <a:pt x="975" y="446"/>
                    <a:pt x="937" y="443"/>
                  </a:cubicBezTo>
                  <a:cubicBezTo>
                    <a:pt x="932" y="443"/>
                    <a:pt x="927" y="441"/>
                    <a:pt x="922" y="443"/>
                  </a:cubicBezTo>
                  <a:cubicBezTo>
                    <a:pt x="884" y="453"/>
                    <a:pt x="850" y="437"/>
                    <a:pt x="814" y="426"/>
                  </a:cubicBezTo>
                  <a:cubicBezTo>
                    <a:pt x="803" y="423"/>
                    <a:pt x="791" y="421"/>
                    <a:pt x="780" y="417"/>
                  </a:cubicBezTo>
                  <a:cubicBezTo>
                    <a:pt x="756" y="409"/>
                    <a:pt x="732" y="400"/>
                    <a:pt x="707" y="392"/>
                  </a:cubicBezTo>
                  <a:cubicBezTo>
                    <a:pt x="700" y="389"/>
                    <a:pt x="690" y="385"/>
                    <a:pt x="685" y="388"/>
                  </a:cubicBezTo>
                  <a:cubicBezTo>
                    <a:pt x="661" y="402"/>
                    <a:pt x="639" y="392"/>
                    <a:pt x="616" y="387"/>
                  </a:cubicBezTo>
                  <a:cubicBezTo>
                    <a:pt x="606" y="385"/>
                    <a:pt x="596" y="382"/>
                    <a:pt x="587" y="380"/>
                  </a:cubicBezTo>
                  <a:cubicBezTo>
                    <a:pt x="577" y="373"/>
                    <a:pt x="569" y="362"/>
                    <a:pt x="551" y="365"/>
                  </a:cubicBezTo>
                  <a:cubicBezTo>
                    <a:pt x="560" y="384"/>
                    <a:pt x="574" y="381"/>
                    <a:pt x="587" y="379"/>
                  </a:cubicBezTo>
                  <a:close/>
                  <a:moveTo>
                    <a:pt x="145" y="83"/>
                  </a:moveTo>
                  <a:cubicBezTo>
                    <a:pt x="145" y="85"/>
                    <a:pt x="145" y="87"/>
                    <a:pt x="145" y="89"/>
                  </a:cubicBezTo>
                  <a:cubicBezTo>
                    <a:pt x="151" y="89"/>
                    <a:pt x="158" y="89"/>
                    <a:pt x="164" y="89"/>
                  </a:cubicBezTo>
                  <a:cubicBezTo>
                    <a:pt x="164" y="88"/>
                    <a:pt x="164" y="86"/>
                    <a:pt x="164" y="84"/>
                  </a:cubicBezTo>
                  <a:cubicBezTo>
                    <a:pt x="158" y="84"/>
                    <a:pt x="151" y="83"/>
                    <a:pt x="145" y="83"/>
                  </a:cubicBezTo>
                  <a:close/>
                  <a:moveTo>
                    <a:pt x="97" y="80"/>
                  </a:moveTo>
                  <a:cubicBezTo>
                    <a:pt x="97" y="83"/>
                    <a:pt x="96" y="85"/>
                    <a:pt x="96" y="88"/>
                  </a:cubicBezTo>
                  <a:cubicBezTo>
                    <a:pt x="102" y="89"/>
                    <a:pt x="109" y="90"/>
                    <a:pt x="116" y="91"/>
                  </a:cubicBezTo>
                  <a:cubicBezTo>
                    <a:pt x="117" y="91"/>
                    <a:pt x="117" y="88"/>
                    <a:pt x="118" y="85"/>
                  </a:cubicBezTo>
                  <a:cubicBezTo>
                    <a:pt x="111" y="83"/>
                    <a:pt x="104" y="82"/>
                    <a:pt x="97" y="80"/>
                  </a:cubicBezTo>
                  <a:close/>
                  <a:moveTo>
                    <a:pt x="1028" y="126"/>
                  </a:moveTo>
                  <a:cubicBezTo>
                    <a:pt x="1028" y="125"/>
                    <a:pt x="1029" y="124"/>
                    <a:pt x="1030" y="122"/>
                  </a:cubicBezTo>
                  <a:cubicBezTo>
                    <a:pt x="1027" y="120"/>
                    <a:pt x="1025" y="117"/>
                    <a:pt x="1022" y="117"/>
                  </a:cubicBezTo>
                  <a:cubicBezTo>
                    <a:pt x="1019" y="116"/>
                    <a:pt x="1015" y="118"/>
                    <a:pt x="1011" y="118"/>
                  </a:cubicBezTo>
                  <a:cubicBezTo>
                    <a:pt x="1011" y="120"/>
                    <a:pt x="1011" y="122"/>
                    <a:pt x="1011" y="123"/>
                  </a:cubicBezTo>
                  <a:cubicBezTo>
                    <a:pt x="1017" y="124"/>
                    <a:pt x="1022" y="125"/>
                    <a:pt x="1028" y="126"/>
                  </a:cubicBezTo>
                  <a:close/>
                  <a:moveTo>
                    <a:pt x="381" y="102"/>
                  </a:moveTo>
                  <a:cubicBezTo>
                    <a:pt x="382" y="101"/>
                    <a:pt x="383" y="99"/>
                    <a:pt x="384" y="97"/>
                  </a:cubicBezTo>
                  <a:cubicBezTo>
                    <a:pt x="379" y="95"/>
                    <a:pt x="374" y="93"/>
                    <a:pt x="369" y="91"/>
                  </a:cubicBezTo>
                  <a:cubicBezTo>
                    <a:pt x="368" y="93"/>
                    <a:pt x="368" y="95"/>
                    <a:pt x="367" y="96"/>
                  </a:cubicBezTo>
                  <a:cubicBezTo>
                    <a:pt x="372" y="98"/>
                    <a:pt x="377" y="100"/>
                    <a:pt x="381" y="102"/>
                  </a:cubicBezTo>
                  <a:close/>
                  <a:moveTo>
                    <a:pt x="327" y="97"/>
                  </a:moveTo>
                  <a:cubicBezTo>
                    <a:pt x="328" y="95"/>
                    <a:pt x="329" y="93"/>
                    <a:pt x="330" y="92"/>
                  </a:cubicBezTo>
                  <a:cubicBezTo>
                    <a:pt x="327" y="91"/>
                    <a:pt x="325" y="90"/>
                    <a:pt x="322" y="90"/>
                  </a:cubicBezTo>
                  <a:cubicBezTo>
                    <a:pt x="319" y="90"/>
                    <a:pt x="317" y="91"/>
                    <a:pt x="314" y="92"/>
                  </a:cubicBezTo>
                  <a:cubicBezTo>
                    <a:pt x="316" y="94"/>
                    <a:pt x="317" y="97"/>
                    <a:pt x="319" y="98"/>
                  </a:cubicBezTo>
                  <a:cubicBezTo>
                    <a:pt x="321" y="99"/>
                    <a:pt x="324" y="97"/>
                    <a:pt x="327" y="9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0"/>
            <p:cNvSpPr/>
            <p:nvPr/>
          </p:nvSpPr>
          <p:spPr>
            <a:xfrm rot="1706400">
              <a:off x="12780360" y="7238160"/>
              <a:ext cx="68040" cy="174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136" h="348">
                  <a:moveTo>
                    <a:pt x="42" y="0"/>
                  </a:moveTo>
                  <a:cubicBezTo>
                    <a:pt x="52" y="12"/>
                    <a:pt x="60" y="19"/>
                    <a:pt x="64" y="28"/>
                  </a:cubicBezTo>
                  <a:cubicBezTo>
                    <a:pt x="76" y="58"/>
                    <a:pt x="88" y="89"/>
                    <a:pt x="99" y="120"/>
                  </a:cubicBezTo>
                  <a:cubicBezTo>
                    <a:pt x="106" y="138"/>
                    <a:pt x="113" y="156"/>
                    <a:pt x="117" y="174"/>
                  </a:cubicBezTo>
                  <a:cubicBezTo>
                    <a:pt x="127" y="222"/>
                    <a:pt x="136" y="270"/>
                    <a:pt x="129" y="319"/>
                  </a:cubicBezTo>
                  <a:cubicBezTo>
                    <a:pt x="128" y="330"/>
                    <a:pt x="125" y="342"/>
                    <a:pt x="110" y="348"/>
                  </a:cubicBezTo>
                  <a:cubicBezTo>
                    <a:pt x="106" y="323"/>
                    <a:pt x="102" y="300"/>
                    <a:pt x="100" y="277"/>
                  </a:cubicBezTo>
                  <a:cubicBezTo>
                    <a:pt x="97" y="247"/>
                    <a:pt x="94" y="217"/>
                    <a:pt x="81" y="190"/>
                  </a:cubicBezTo>
                  <a:cubicBezTo>
                    <a:pt x="80" y="187"/>
                    <a:pt x="78" y="184"/>
                    <a:pt x="79" y="181"/>
                  </a:cubicBezTo>
                  <a:cubicBezTo>
                    <a:pt x="84" y="139"/>
                    <a:pt x="52" y="129"/>
                    <a:pt x="24" y="115"/>
                  </a:cubicBezTo>
                  <a:cubicBezTo>
                    <a:pt x="18" y="112"/>
                    <a:pt x="13" y="108"/>
                    <a:pt x="0" y="100"/>
                  </a:cubicBezTo>
                  <a:cubicBezTo>
                    <a:pt x="16" y="97"/>
                    <a:pt x="25" y="94"/>
                    <a:pt x="30" y="93"/>
                  </a:cubicBezTo>
                  <a:cubicBezTo>
                    <a:pt x="26" y="80"/>
                    <a:pt x="16" y="66"/>
                    <a:pt x="17" y="52"/>
                  </a:cubicBezTo>
                  <a:cubicBezTo>
                    <a:pt x="18" y="35"/>
                    <a:pt x="28" y="19"/>
                    <a:pt x="4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3"/>
            <p:cNvSpPr/>
            <p:nvPr/>
          </p:nvSpPr>
          <p:spPr>
            <a:xfrm rot="1773600">
              <a:off x="12182400" y="7722000"/>
              <a:ext cx="64440" cy="8784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29" h="176">
                  <a:moveTo>
                    <a:pt x="5" y="176"/>
                  </a:moveTo>
                  <a:cubicBezTo>
                    <a:pt x="3" y="158"/>
                    <a:pt x="0" y="143"/>
                    <a:pt x="0" y="128"/>
                  </a:cubicBezTo>
                  <a:cubicBezTo>
                    <a:pt x="1" y="116"/>
                    <a:pt x="0" y="103"/>
                    <a:pt x="18" y="98"/>
                  </a:cubicBezTo>
                  <a:cubicBezTo>
                    <a:pt x="24" y="96"/>
                    <a:pt x="28" y="82"/>
                    <a:pt x="29" y="73"/>
                  </a:cubicBezTo>
                  <a:cubicBezTo>
                    <a:pt x="31" y="66"/>
                    <a:pt x="27" y="58"/>
                    <a:pt x="26" y="50"/>
                  </a:cubicBezTo>
                  <a:cubicBezTo>
                    <a:pt x="49" y="32"/>
                    <a:pt x="62" y="0"/>
                    <a:pt x="99" y="5"/>
                  </a:cubicBezTo>
                  <a:cubicBezTo>
                    <a:pt x="114" y="8"/>
                    <a:pt x="114" y="6"/>
                    <a:pt x="129" y="19"/>
                  </a:cubicBezTo>
                  <a:cubicBezTo>
                    <a:pt x="121" y="19"/>
                    <a:pt x="117" y="19"/>
                    <a:pt x="112" y="19"/>
                  </a:cubicBezTo>
                  <a:cubicBezTo>
                    <a:pt x="90" y="19"/>
                    <a:pt x="84" y="26"/>
                    <a:pt x="79" y="47"/>
                  </a:cubicBezTo>
                  <a:cubicBezTo>
                    <a:pt x="71" y="76"/>
                    <a:pt x="66" y="105"/>
                    <a:pt x="45" y="128"/>
                  </a:cubicBezTo>
                  <a:cubicBezTo>
                    <a:pt x="32" y="143"/>
                    <a:pt x="28" y="164"/>
                    <a:pt x="5" y="17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任意多边形 76"/>
            <p:cNvSpPr/>
            <p:nvPr/>
          </p:nvSpPr>
          <p:spPr>
            <a:xfrm flipV="1" rot="156600">
              <a:off x="13218840" y="7851600"/>
              <a:ext cx="159480" cy="37800"/>
            </a:xfrm>
            <a:custGeom>
              <a:avLst/>
              <a:gdLst>
                <a:gd name="textAreaLeft" fmla="*/ 0 w 159480"/>
                <a:gd name="textAreaRight" fmla="*/ 159840 w 159480"/>
                <a:gd name="textAreaTop" fmla="*/ -360 h 37800"/>
                <a:gd name="textAreaBottom" fmla="*/ 37800 h 37800"/>
              </a:gdLst>
              <a:ahLst/>
              <a:rect l="textAreaLeft" t="textAreaTop" r="textAreaRight" b="textAreaBottom"/>
              <a:pathLst>
                <a:path w="159543" h="38100">
                  <a:moveTo>
                    <a:pt x="0" y="38100"/>
                  </a:moveTo>
                  <a:cubicBezTo>
                    <a:pt x="11906" y="6350"/>
                    <a:pt x="42863" y="12700"/>
                    <a:pt x="64294" y="0"/>
                  </a:cubicBezTo>
                  <a:cubicBezTo>
                    <a:pt x="94456" y="6350"/>
                    <a:pt x="129381" y="-1587"/>
                    <a:pt x="159543" y="19050"/>
                  </a:cubicBezTo>
                  <a:cubicBezTo>
                    <a:pt x="115887" y="53975"/>
                    <a:pt x="57943" y="12700"/>
                    <a:pt x="0" y="3810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8"/>
            <p:cNvSpPr/>
            <p:nvPr/>
          </p:nvSpPr>
          <p:spPr>
            <a:xfrm flipV="1" rot="19743000">
              <a:off x="13020840" y="7954200"/>
              <a:ext cx="38160" cy="694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-36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76" h="139">
                  <a:moveTo>
                    <a:pt x="73" y="139"/>
                  </a:moveTo>
                  <a:cubicBezTo>
                    <a:pt x="66" y="135"/>
                    <a:pt x="59" y="133"/>
                    <a:pt x="54" y="128"/>
                  </a:cubicBezTo>
                  <a:cubicBezTo>
                    <a:pt x="29" y="105"/>
                    <a:pt x="11" y="77"/>
                    <a:pt x="3" y="45"/>
                  </a:cubicBezTo>
                  <a:cubicBezTo>
                    <a:pt x="0" y="33"/>
                    <a:pt x="2" y="21"/>
                    <a:pt x="4" y="9"/>
                  </a:cubicBezTo>
                  <a:cubicBezTo>
                    <a:pt x="5" y="5"/>
                    <a:pt x="12" y="1"/>
                    <a:pt x="17" y="0"/>
                  </a:cubicBezTo>
                  <a:cubicBezTo>
                    <a:pt x="20" y="0"/>
                    <a:pt x="27" y="6"/>
                    <a:pt x="26" y="9"/>
                  </a:cubicBezTo>
                  <a:cubicBezTo>
                    <a:pt x="24" y="33"/>
                    <a:pt x="38" y="50"/>
                    <a:pt x="47" y="70"/>
                  </a:cubicBezTo>
                  <a:cubicBezTo>
                    <a:pt x="52" y="81"/>
                    <a:pt x="53" y="93"/>
                    <a:pt x="58" y="104"/>
                  </a:cubicBezTo>
                  <a:cubicBezTo>
                    <a:pt x="63" y="115"/>
                    <a:pt x="70" y="125"/>
                    <a:pt x="76" y="135"/>
                  </a:cubicBezTo>
                  <a:cubicBezTo>
                    <a:pt x="75" y="136"/>
                    <a:pt x="74" y="137"/>
                    <a:pt x="73" y="1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42"/>
            <p:cNvSpPr/>
            <p:nvPr/>
          </p:nvSpPr>
          <p:spPr>
            <a:xfrm flipV="1" rot="19743000">
              <a:off x="13055760" y="8005320"/>
              <a:ext cx="23040" cy="41040"/>
            </a:xfrm>
            <a:custGeom>
              <a:avLst/>
              <a:gdLst>
                <a:gd name="textAreaLeft" fmla="*/ 0 w 23040"/>
                <a:gd name="textAreaRight" fmla="*/ 23400 w 23040"/>
                <a:gd name="textAreaTop" fmla="*/ 360 h 41040"/>
                <a:gd name="textAreaBottom" fmla="*/ 41760 h 41040"/>
              </a:gdLst>
              <a:ahLst/>
              <a:rect l="textAreaLeft" t="textAreaTop" r="textAreaRight" b="textAreaBottom"/>
              <a:pathLst>
                <a:path w="47" h="82">
                  <a:moveTo>
                    <a:pt x="0" y="45"/>
                  </a:moveTo>
                  <a:cubicBezTo>
                    <a:pt x="5" y="32"/>
                    <a:pt x="12" y="17"/>
                    <a:pt x="19" y="0"/>
                  </a:cubicBezTo>
                  <a:cubicBezTo>
                    <a:pt x="45" y="23"/>
                    <a:pt x="47" y="52"/>
                    <a:pt x="47" y="82"/>
                  </a:cubicBezTo>
                  <a:cubicBezTo>
                    <a:pt x="31" y="69"/>
                    <a:pt x="16" y="58"/>
                    <a:pt x="0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4929120"/>
            <a:ext cx="12192120" cy="2195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0" descr=""/>
          <p:cNvPicPr/>
          <p:nvPr/>
        </p:nvPicPr>
        <p:blipFill>
          <a:blip r:embed="rId2"/>
          <a:stretch/>
        </p:blipFill>
        <p:spPr>
          <a:xfrm rot="18822600">
            <a:off x="4951800" y="3798000"/>
            <a:ext cx="1411200" cy="140976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4"/>
          <p:cNvSpPr/>
          <p:nvPr/>
        </p:nvSpPr>
        <p:spPr>
          <a:xfrm>
            <a:off x="-2520" y="4784760"/>
            <a:ext cx="127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——————————————————————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33"/>
          <p:cNvSpPr/>
          <p:nvPr/>
        </p:nvSpPr>
        <p:spPr>
          <a:xfrm>
            <a:off x="-2338560" y="4784760"/>
            <a:ext cx="168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————————————————————————————————————————————————————————————————————————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5"/>
          <p:cNvSpPr/>
          <p:nvPr/>
        </p:nvSpPr>
        <p:spPr>
          <a:xfrm>
            <a:off x="1616040" y="4638600"/>
            <a:ext cx="176400" cy="13968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39"/>
          <p:cNvSpPr/>
          <p:nvPr/>
        </p:nvSpPr>
        <p:spPr>
          <a:xfrm>
            <a:off x="1936800" y="4284720"/>
            <a:ext cx="73080" cy="18252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40"/>
          <p:cNvSpPr/>
          <p:nvPr/>
        </p:nvSpPr>
        <p:spPr>
          <a:xfrm flipH="1">
            <a:off x="2647440" y="4632480"/>
            <a:ext cx="173160" cy="136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0"/>
          <p:cNvSpPr/>
          <p:nvPr/>
        </p:nvSpPr>
        <p:spPr>
          <a:xfrm flipH="1">
            <a:off x="2426760" y="4192560"/>
            <a:ext cx="73080" cy="18252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2.079998254776"/>
                                  </p:iterate>
                                  <p:childTnLst>
                                    <p:animMotion origin="layout" path="M 3.54167E-006 2.96296E-006 L 3.54167E-006 -0.07223 E">
                                      <p:cBhvr>
                                        <p:cTn id="6" dur="7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3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37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375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375" fill="hold">
                                          <p:stCondLst>
                                            <p:cond delay="1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37.5"/>
                                  </p:iterate>
                                  <p:childTnLst>
                                    <p:animMotion origin="layout" path="M 0 2.96296E-006 L 0 -0.07223 E">
                                      <p:cBhvr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8" dur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1280" fill="hold">
                                          <p:stCondLst>
                                            <p:cond delay="128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1280" fill="hold">
                                          <p:stCondLst>
                                            <p:cond delay="256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1280" fill="hold">
                                          <p:stCondLst>
                                            <p:cond delay="384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1280" fill="hold">
                                          <p:stCondLst>
                                            <p:cond delay="512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autoRev="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1800000">
                                      <p:cBhvr>
                                        <p:cTn id="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5" repeatCount="indefinite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2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4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66667E-006 -0.00023 C -0.18489 -0.02986 -0.36055 -0.75973 -0.56041 -0.72246 C -0.76068 -0.68565 -0.96198 -0.25255 -1.06198 0.01504 E">
                                      <p:cBhvr>
                                        <p:cTn id="30" dur="34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58333E-006 -0.00023 C -0.18489 -0.02986 -0.36054 -0.75972 -0.56041 -0.72246 C -0.76067 -0.68565 -0.96197 -0.25255 -1.06197 0.01504 E">
                                      <p:cBhvr>
                                        <p:cTn id="32" dur="34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5400000">
                                      <p:cBhvr>
                                        <p:cTn id="34" dur="17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5400000">
                                      <p:cBhvr>
                                        <p:cTn id="36" dur="17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2">
                                  <p:stCondLst>
                                    <p:cond delay="2300"/>
                                  </p:stCondLst>
                                  <p:childTnLst>
                                    <p:animRot by="120000">
                                      <p:cBhvr>
                                        <p:cTn id="3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44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-2.5E-006 -0.00069 L 0.03034 -0.04051 C 0.03685 -0.05 0.04623 -0.05393 0.05625 -0.05393 C 0.06771 -0.05393 0.07617 -0.04838 0.08321 -0.04051 C 0.08972 -0.03333 0.09466 -0.0206 0.0974 -0.00856 C 0.10013 0.00301 0.11328 0.05695 0.11407 0.05926 E">
                                      <p:cBhvr>
                                        <p:cTn id="44" dur="2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42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0.11407 0.01574 L 0.11407 0.05949 E">
                                      <p:cBhvr>
                                        <p:cTn id="46" dur="10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autoRev="1" nodeType="withEffect" fill="hold" presetClass="path" presetID="42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11407 0.03912 L 0.11407 0.01574 E">
                                      <p:cBhvr>
                                        <p:cTn id="48" dur="65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2" presetSubtype="4">
                                  <p:stCondLst>
                                    <p:cond delay="3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22" presetSubtype="4">
                                  <p:stCondLst>
                                    <p:cond delay="3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2" presetSubtype="4">
                                  <p:stCondLst>
                                    <p:cond delay="3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2" presetSubtype="4">
                                  <p:stCondLst>
                                    <p:cond delay="30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1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椭圆 3"/>
          <p:cNvSpPr/>
          <p:nvPr/>
        </p:nvSpPr>
        <p:spPr>
          <a:xfrm>
            <a:off x="4599000" y="2130480"/>
            <a:ext cx="2992320" cy="2994120"/>
          </a:xfrm>
          <a:prstGeom prst="ellipse">
            <a:avLst/>
          </a:prstGeom>
          <a:solidFill>
            <a:srgbClr val="94cf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任意多边形 63"/>
          <p:cNvSpPr/>
          <p:nvPr/>
        </p:nvSpPr>
        <p:spPr>
          <a:xfrm>
            <a:off x="6162840" y="2130480"/>
            <a:ext cx="1428480" cy="298764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2987640"/>
              <a:gd name="textAreaBottom" fmla="*/ 2988000 h 2987640"/>
            </a:gdLst>
            <a:ahLst/>
            <a:rect l="textAreaLeft" t="textAreaTop" r="textAreaRight" b="textAreaBottom"/>
            <a:pathLst>
              <a:path w="1429667" h="2986163">
                <a:moveTo>
                  <a:pt x="0" y="0"/>
                </a:moveTo>
                <a:lnTo>
                  <a:pt x="86217" y="4353"/>
                </a:lnTo>
                <a:cubicBezTo>
                  <a:pt x="840813" y="80986"/>
                  <a:pt x="1429667" y="718266"/>
                  <a:pt x="1429667" y="1493081"/>
                </a:cubicBezTo>
                <a:cubicBezTo>
                  <a:pt x="1429667" y="2267896"/>
                  <a:pt x="840813" y="2905176"/>
                  <a:pt x="86217" y="2981809"/>
                </a:cubicBezTo>
                <a:lnTo>
                  <a:pt x="0" y="2986163"/>
                </a:lnTo>
                <a:lnTo>
                  <a:pt x="0" y="0"/>
                </a:lnTo>
                <a:close/>
              </a:path>
            </a:pathLst>
          </a:custGeom>
          <a:solidFill>
            <a:srgbClr val="7ac4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任意多边形 6"/>
          <p:cNvSpPr/>
          <p:nvPr/>
        </p:nvSpPr>
        <p:spPr>
          <a:xfrm>
            <a:off x="6191280" y="4371840"/>
            <a:ext cx="762120" cy="561960"/>
          </a:xfrm>
          <a:custGeom>
            <a:avLst/>
            <a:gdLst>
              <a:gd name="textAreaLeft" fmla="*/ 0 w 762120"/>
              <a:gd name="textAreaRight" fmla="*/ 762480 w 76212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762000" h="561975">
                <a:moveTo>
                  <a:pt x="0" y="0"/>
                </a:moveTo>
                <a:lnTo>
                  <a:pt x="762000" y="561975"/>
                </a:lnTo>
              </a:path>
            </a:pathLst>
          </a:custGeom>
          <a:noFill/>
          <a:ln cap="rnd" w="111240">
            <a:solidFill>
              <a:srgbClr val="ebda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任意多边形 12"/>
          <p:cNvSpPr/>
          <p:nvPr/>
        </p:nvSpPr>
        <p:spPr>
          <a:xfrm>
            <a:off x="5051520" y="2975040"/>
            <a:ext cx="768240" cy="73080"/>
          </a:xfrm>
          <a:custGeom>
            <a:avLst/>
            <a:gdLst>
              <a:gd name="textAreaLeft" fmla="*/ 0 w 768240"/>
              <a:gd name="textAreaRight" fmla="*/ 768600 w 7682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769258" h="72571">
                <a:moveTo>
                  <a:pt x="0" y="0"/>
                </a:moveTo>
                <a:lnTo>
                  <a:pt x="769258" y="72571"/>
                </a:lnTo>
              </a:path>
            </a:pathLst>
          </a:custGeom>
          <a:noFill/>
          <a:ln cap="rnd" w="111240">
            <a:solidFill>
              <a:srgbClr val="d8d8d8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5"/>
          <p:cNvSpPr/>
          <p:nvPr/>
        </p:nvSpPr>
        <p:spPr>
          <a:xfrm>
            <a:off x="4516560" y="2727360"/>
            <a:ext cx="1031760" cy="186516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865160"/>
              <a:gd name="textAreaBottom" fmla="*/ 1865520 h 1865160"/>
            </a:gdLst>
            <a:ahLst/>
            <a:rect l="textAreaLeft" t="textAreaTop" r="textAreaRight" b="textAreaBottom"/>
            <a:pathLst>
              <a:path w="258" h="465">
                <a:moveTo>
                  <a:pt x="92" y="22"/>
                </a:moveTo>
                <a:cubicBezTo>
                  <a:pt x="86" y="15"/>
                  <a:pt x="80" y="7"/>
                  <a:pt x="75" y="0"/>
                </a:cubicBezTo>
                <a:cubicBezTo>
                  <a:pt x="28" y="73"/>
                  <a:pt x="0" y="161"/>
                  <a:pt x="0" y="255"/>
                </a:cubicBezTo>
                <a:cubicBezTo>
                  <a:pt x="0" y="331"/>
                  <a:pt x="18" y="402"/>
                  <a:pt x="50" y="465"/>
                </a:cubicBezTo>
                <a:cubicBezTo>
                  <a:pt x="258" y="265"/>
                  <a:pt x="258" y="265"/>
                  <a:pt x="258" y="265"/>
                </a:cubicBezTo>
                <a:cubicBezTo>
                  <a:pt x="209" y="180"/>
                  <a:pt x="150" y="101"/>
                  <a:pt x="92" y="22"/>
                </a:cubicBezTo>
                <a:close/>
              </a:path>
            </a:pathLst>
          </a:custGeom>
          <a:solidFill>
            <a:srgbClr val="76b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6"/>
          <p:cNvSpPr/>
          <p:nvPr/>
        </p:nvSpPr>
        <p:spPr>
          <a:xfrm>
            <a:off x="6721560" y="3084480"/>
            <a:ext cx="992160" cy="762120"/>
          </a:xfrm>
          <a:custGeom>
            <a:avLst/>
            <a:gdLst>
              <a:gd name="textAreaLeft" fmla="*/ 0 w 992160"/>
              <a:gd name="textAreaRight" fmla="*/ 992520 w 9921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48" h="190">
                <a:moveTo>
                  <a:pt x="244" y="186"/>
                </a:moveTo>
                <a:cubicBezTo>
                  <a:pt x="247" y="167"/>
                  <a:pt x="248" y="149"/>
                  <a:pt x="248" y="130"/>
                </a:cubicBezTo>
                <a:cubicBezTo>
                  <a:pt x="248" y="85"/>
                  <a:pt x="241" y="41"/>
                  <a:pt x="230" y="0"/>
                </a:cubicBezTo>
                <a:cubicBezTo>
                  <a:pt x="0" y="190"/>
                  <a:pt x="0" y="190"/>
                  <a:pt x="0" y="190"/>
                </a:cubicBezTo>
                <a:lnTo>
                  <a:pt x="244" y="186"/>
                </a:lnTo>
                <a:close/>
              </a:path>
            </a:pathLst>
          </a:custGeom>
          <a:solidFill>
            <a:srgbClr val="76b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任意多边形 4"/>
          <p:cNvSpPr/>
          <p:nvPr/>
        </p:nvSpPr>
        <p:spPr>
          <a:xfrm>
            <a:off x="4809960" y="2685960"/>
            <a:ext cx="1000440" cy="2538360"/>
          </a:xfrm>
          <a:custGeom>
            <a:avLst/>
            <a:gdLst>
              <a:gd name="textAreaLeft" fmla="*/ 0 w 1000440"/>
              <a:gd name="textAreaRight" fmla="*/ 1000800 w 1000440"/>
              <a:gd name="textAreaTop" fmla="*/ 0 h 2538360"/>
              <a:gd name="textAreaBottom" fmla="*/ 2538720 h 2538360"/>
            </a:gdLst>
            <a:ahLst/>
            <a:rect l="textAreaLeft" t="textAreaTop" r="textAreaRight" b="textAreaBottom"/>
            <a:pathLst>
              <a:path w="999412" h="2538640">
                <a:moveTo>
                  <a:pt x="0" y="0"/>
                </a:moveTo>
                <a:cubicBezTo>
                  <a:pt x="534307" y="726621"/>
                  <a:pt x="1171574" y="1469572"/>
                  <a:pt x="956582" y="2538640"/>
                </a:cubicBezTo>
              </a:path>
            </a:pathLst>
          </a:custGeom>
          <a:noFill/>
          <a:ln cap="rnd" w="111240">
            <a:solidFill>
              <a:srgbClr val="ebda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任意多边形 5"/>
          <p:cNvSpPr/>
          <p:nvPr/>
        </p:nvSpPr>
        <p:spPr>
          <a:xfrm>
            <a:off x="4719600" y="3809880"/>
            <a:ext cx="777960" cy="749520"/>
          </a:xfrm>
          <a:custGeom>
            <a:avLst/>
            <a:gdLst>
              <a:gd name="textAreaLeft" fmla="*/ 0 w 777960"/>
              <a:gd name="textAreaRight" fmla="*/ 778320 w 777960"/>
              <a:gd name="textAreaTop" fmla="*/ 0 h 749520"/>
              <a:gd name="textAreaBottom" fmla="*/ 749880 h 749520"/>
            </a:gdLst>
            <a:ahLst/>
            <a:rect l="textAreaLeft" t="textAreaTop" r="textAreaRight" b="textAreaBottom"/>
            <a:pathLst>
              <a:path w="777875" h="749300">
                <a:moveTo>
                  <a:pt x="0" y="749300"/>
                </a:moveTo>
                <a:lnTo>
                  <a:pt x="777875" y="0"/>
                </a:lnTo>
              </a:path>
            </a:pathLst>
          </a:custGeom>
          <a:noFill/>
          <a:ln cap="rnd" w="111240">
            <a:solidFill>
              <a:srgbClr val="ebda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任意多边形 7"/>
          <p:cNvSpPr/>
          <p:nvPr/>
        </p:nvSpPr>
        <p:spPr>
          <a:xfrm>
            <a:off x="6315120" y="3108240"/>
            <a:ext cx="1270080" cy="1044720"/>
          </a:xfrm>
          <a:custGeom>
            <a:avLst/>
            <a:gdLst>
              <a:gd name="textAreaLeft" fmla="*/ 0 w 1270080"/>
              <a:gd name="textAreaRight" fmla="*/ 1270440 w 127008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1270000" h="1044575">
                <a:moveTo>
                  <a:pt x="0" y="1044575"/>
                </a:moveTo>
                <a:lnTo>
                  <a:pt x="1270000" y="0"/>
                </a:lnTo>
              </a:path>
            </a:pathLst>
          </a:custGeom>
          <a:noFill/>
          <a:ln cap="rnd" w="111240">
            <a:solidFill>
              <a:srgbClr val="ebda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任意多边形 8"/>
          <p:cNvSpPr/>
          <p:nvPr/>
        </p:nvSpPr>
        <p:spPr>
          <a:xfrm>
            <a:off x="6638760" y="3844800"/>
            <a:ext cx="1009800" cy="320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32040"/>
              <a:gd name="textAreaBottom" fmla="*/ 32400 h 32040"/>
            </a:gdLst>
            <a:ahLst/>
            <a:rect l="textAreaLeft" t="textAreaTop" r="textAreaRight" b="textAreaBottom"/>
            <a:pathLst>
              <a:path w="1009650" h="31750">
                <a:moveTo>
                  <a:pt x="0" y="31750"/>
                </a:moveTo>
                <a:lnTo>
                  <a:pt x="1009650" y="0"/>
                </a:lnTo>
              </a:path>
            </a:pathLst>
          </a:custGeom>
          <a:noFill/>
          <a:ln cap="rnd" w="111240">
            <a:solidFill>
              <a:srgbClr val="ebdacd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[动画大师]_Group 17"/>
          <p:cNvGrpSpPr/>
          <p:nvPr/>
        </p:nvGrpSpPr>
        <p:grpSpPr>
          <a:xfrm>
            <a:off x="5087520" y="1446120"/>
            <a:ext cx="2149920" cy="5973840"/>
            <a:chOff x="5087520" y="1446120"/>
            <a:chExt cx="2149920" cy="5973840"/>
          </a:xfrm>
        </p:grpSpPr>
        <p:grpSp>
          <p:nvGrpSpPr>
            <p:cNvPr id="632" name="组合 15"/>
            <p:cNvGrpSpPr/>
            <p:nvPr/>
          </p:nvGrpSpPr>
          <p:grpSpPr>
            <a:xfrm>
              <a:off x="5087520" y="1446120"/>
              <a:ext cx="2149920" cy="5973840"/>
              <a:chOff x="5087520" y="1446120"/>
              <a:chExt cx="2149920" cy="5973840"/>
            </a:xfrm>
          </p:grpSpPr>
          <p:sp>
            <p:nvSpPr>
              <p:cNvPr id="633" name="任意多边形 10"/>
              <p:cNvSpPr/>
              <p:nvPr/>
            </p:nvSpPr>
            <p:spPr>
              <a:xfrm rot="10800000">
                <a:off x="5087520" y="1446120"/>
                <a:ext cx="2149560" cy="2978640"/>
              </a:xfrm>
              <a:custGeom>
                <a:avLst/>
                <a:gdLst>
                  <a:gd name="textAreaLeft" fmla="*/ 0 w 2149560"/>
                  <a:gd name="textAreaRight" fmla="*/ 2149920 w 2149560"/>
                  <a:gd name="textAreaTop" fmla="*/ 0 h 2978640"/>
                  <a:gd name="textAreaBottom" fmla="*/ 2979000 h 2978640"/>
                </a:gdLst>
                <a:ahLst/>
                <a:rect l="textAreaLeft" t="textAreaTop" r="textAreaRight" b="textAreaBottom"/>
                <a:pathLst>
                  <a:path w="1669144" h="2400524">
                    <a:moveTo>
                      <a:pt x="834572" y="2400524"/>
                    </a:moveTo>
                    <a:cubicBezTo>
                      <a:pt x="373651" y="2400524"/>
                      <a:pt x="0" y="2026873"/>
                      <a:pt x="0" y="1565952"/>
                    </a:cubicBezTo>
                    <a:cubicBezTo>
                      <a:pt x="0" y="1479529"/>
                      <a:pt x="13136" y="1396175"/>
                      <a:pt x="37520" y="1317776"/>
                    </a:cubicBezTo>
                    <a:lnTo>
                      <a:pt x="142532" y="1099335"/>
                    </a:lnTo>
                    <a:lnTo>
                      <a:pt x="683459" y="129643"/>
                    </a:lnTo>
                    <a:lnTo>
                      <a:pt x="724084" y="62771"/>
                    </a:lnTo>
                    <a:cubicBezTo>
                      <a:pt x="752360" y="23988"/>
                      <a:pt x="791424" y="0"/>
                      <a:pt x="834572" y="0"/>
                    </a:cubicBezTo>
                    <a:cubicBezTo>
                      <a:pt x="877721" y="0"/>
                      <a:pt x="916784" y="23988"/>
                      <a:pt x="945061" y="62771"/>
                    </a:cubicBezTo>
                    <a:lnTo>
                      <a:pt x="987504" y="129643"/>
                    </a:lnTo>
                    <a:lnTo>
                      <a:pt x="1514988" y="1085246"/>
                    </a:lnTo>
                    <a:lnTo>
                      <a:pt x="1631623" y="1317776"/>
                    </a:lnTo>
                    <a:cubicBezTo>
                      <a:pt x="1656008" y="1396175"/>
                      <a:pt x="1669144" y="1479529"/>
                      <a:pt x="1669144" y="1565952"/>
                    </a:cubicBezTo>
                    <a:cubicBezTo>
                      <a:pt x="1669144" y="2026873"/>
                      <a:pt x="1295493" y="2400524"/>
                      <a:pt x="834572" y="2400524"/>
                    </a:cubicBezTo>
                    <a:close/>
                  </a:path>
                </a:pathLst>
              </a:custGeom>
              <a:solidFill>
                <a:srgbClr val="d05a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任意多边形 16"/>
              <p:cNvSpPr/>
              <p:nvPr/>
            </p:nvSpPr>
            <p:spPr>
              <a:xfrm rot="10800000">
                <a:off x="6162480" y="1446120"/>
                <a:ext cx="1074600" cy="2978640"/>
              </a:xfrm>
              <a:custGeom>
                <a:avLst/>
                <a:gdLst>
                  <a:gd name="textAreaLeft" fmla="*/ 0 w 1074600"/>
                  <a:gd name="textAreaRight" fmla="*/ 1074960 w 1074600"/>
                  <a:gd name="textAreaTop" fmla="*/ 0 h 2978640"/>
                  <a:gd name="textAreaBottom" fmla="*/ 2979000 h 2978640"/>
                </a:gdLst>
                <a:ahLst/>
                <a:rect l="textAreaLeft" t="textAreaTop" r="textAreaRight" b="textAreaBottom"/>
                <a:pathLst>
                  <a:path w="834573" h="2400524">
                    <a:moveTo>
                      <a:pt x="834572" y="2400524"/>
                    </a:moveTo>
                    <a:cubicBezTo>
                      <a:pt x="373651" y="2400524"/>
                      <a:pt x="0" y="2026873"/>
                      <a:pt x="0" y="1565952"/>
                    </a:cubicBezTo>
                    <a:cubicBezTo>
                      <a:pt x="0" y="1479529"/>
                      <a:pt x="13136" y="1396175"/>
                      <a:pt x="37520" y="1317776"/>
                    </a:cubicBezTo>
                    <a:lnTo>
                      <a:pt x="142532" y="1099335"/>
                    </a:lnTo>
                    <a:lnTo>
                      <a:pt x="683459" y="129643"/>
                    </a:lnTo>
                    <a:lnTo>
                      <a:pt x="724084" y="62771"/>
                    </a:lnTo>
                    <a:cubicBezTo>
                      <a:pt x="752360" y="23988"/>
                      <a:pt x="791424" y="0"/>
                      <a:pt x="834572" y="0"/>
                    </a:cubicBezTo>
                    <a:lnTo>
                      <a:pt x="834573" y="0"/>
                    </a:lnTo>
                    <a:lnTo>
                      <a:pt x="834573" y="2400524"/>
                    </a:lnTo>
                    <a:lnTo>
                      <a:pt x="834572" y="2400524"/>
                    </a:lnTo>
                    <a:close/>
                  </a:path>
                </a:pathLst>
              </a:custGeom>
              <a:solidFill>
                <a:srgbClr val="b64e5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" name="组合 431"/>
              <p:cNvGrpSpPr/>
              <p:nvPr/>
            </p:nvGrpSpPr>
            <p:grpSpPr>
              <a:xfrm>
                <a:off x="5087520" y="4441320"/>
                <a:ext cx="2149920" cy="2978640"/>
                <a:chOff x="5087520" y="4441320"/>
                <a:chExt cx="2149920" cy="2978640"/>
              </a:xfrm>
            </p:grpSpPr>
            <p:sp>
              <p:nvSpPr>
                <p:cNvPr id="636" name="任意多边形 432"/>
                <p:cNvSpPr/>
                <p:nvPr/>
              </p:nvSpPr>
              <p:spPr>
                <a:xfrm flipV="1" rot="10800000">
                  <a:off x="5087520" y="4441320"/>
                  <a:ext cx="2149560" cy="2978640"/>
                </a:xfrm>
                <a:custGeom>
                  <a:avLst/>
                  <a:gdLst>
                    <a:gd name="textAreaLeft" fmla="*/ 0 w 2149560"/>
                    <a:gd name="textAreaRight" fmla="*/ 2149920 w 2149560"/>
                    <a:gd name="textAreaTop" fmla="*/ 360 h 2978640"/>
                    <a:gd name="textAreaBottom" fmla="*/ 2979360 h 2978640"/>
                  </a:gdLst>
                  <a:ahLst/>
                  <a:rect l="textAreaLeft" t="textAreaTop" r="textAreaRight" b="textAreaBottom"/>
                  <a:pathLst>
                    <a:path w="1669144" h="2400524">
                      <a:moveTo>
                        <a:pt x="834572" y="2400524"/>
                      </a:moveTo>
                      <a:cubicBezTo>
                        <a:pt x="373651" y="2400524"/>
                        <a:pt x="0" y="2026873"/>
                        <a:pt x="0" y="1565952"/>
                      </a:cubicBezTo>
                      <a:cubicBezTo>
                        <a:pt x="0" y="1479529"/>
                        <a:pt x="13136" y="1396175"/>
                        <a:pt x="37520" y="1317776"/>
                      </a:cubicBezTo>
                      <a:lnTo>
                        <a:pt x="142532" y="1099335"/>
                      </a:lnTo>
                      <a:lnTo>
                        <a:pt x="683459" y="129643"/>
                      </a:lnTo>
                      <a:lnTo>
                        <a:pt x="724084" y="62771"/>
                      </a:lnTo>
                      <a:cubicBezTo>
                        <a:pt x="752360" y="23988"/>
                        <a:pt x="791424" y="0"/>
                        <a:pt x="834572" y="0"/>
                      </a:cubicBezTo>
                      <a:cubicBezTo>
                        <a:pt x="877721" y="0"/>
                        <a:pt x="916784" y="23988"/>
                        <a:pt x="945061" y="62771"/>
                      </a:cubicBezTo>
                      <a:lnTo>
                        <a:pt x="987504" y="129643"/>
                      </a:lnTo>
                      <a:lnTo>
                        <a:pt x="1514988" y="1085246"/>
                      </a:lnTo>
                      <a:lnTo>
                        <a:pt x="1631623" y="1317776"/>
                      </a:lnTo>
                      <a:cubicBezTo>
                        <a:pt x="1656008" y="1396175"/>
                        <a:pt x="1669144" y="1479529"/>
                        <a:pt x="1669144" y="1565952"/>
                      </a:cubicBezTo>
                      <a:cubicBezTo>
                        <a:pt x="1669144" y="2026873"/>
                        <a:pt x="1295493" y="2400524"/>
                        <a:pt x="834572" y="2400524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任意多边形 433"/>
                <p:cNvSpPr/>
                <p:nvPr/>
              </p:nvSpPr>
              <p:spPr>
                <a:xfrm flipV="1" rot="10800000">
                  <a:off x="6162480" y="4441320"/>
                  <a:ext cx="1074960" cy="2978640"/>
                </a:xfrm>
                <a:custGeom>
                  <a:avLst/>
                  <a:gdLst>
                    <a:gd name="textAreaLeft" fmla="*/ 0 w 1074960"/>
                    <a:gd name="textAreaRight" fmla="*/ 1075320 w 1074960"/>
                    <a:gd name="textAreaTop" fmla="*/ 360 h 2978640"/>
                    <a:gd name="textAreaBottom" fmla="*/ 2979360 h 2978640"/>
                  </a:gdLst>
                  <a:ahLst/>
                  <a:rect l="textAreaLeft" t="textAreaTop" r="textAreaRight" b="textAreaBottom"/>
                  <a:pathLst>
                    <a:path w="834573" h="2400524">
                      <a:moveTo>
                        <a:pt x="834572" y="2400524"/>
                      </a:moveTo>
                      <a:cubicBezTo>
                        <a:pt x="373651" y="2400524"/>
                        <a:pt x="0" y="2026873"/>
                        <a:pt x="0" y="1565952"/>
                      </a:cubicBezTo>
                      <a:cubicBezTo>
                        <a:pt x="0" y="1479529"/>
                        <a:pt x="13136" y="1396175"/>
                        <a:pt x="37520" y="1317776"/>
                      </a:cubicBezTo>
                      <a:lnTo>
                        <a:pt x="142532" y="1099335"/>
                      </a:lnTo>
                      <a:lnTo>
                        <a:pt x="683459" y="129643"/>
                      </a:lnTo>
                      <a:lnTo>
                        <a:pt x="724084" y="62771"/>
                      </a:lnTo>
                      <a:cubicBezTo>
                        <a:pt x="752360" y="23988"/>
                        <a:pt x="791424" y="0"/>
                        <a:pt x="834572" y="0"/>
                      </a:cubicBezTo>
                      <a:lnTo>
                        <a:pt x="834573" y="0"/>
                      </a:lnTo>
                      <a:lnTo>
                        <a:pt x="834573" y="2400524"/>
                      </a:lnTo>
                      <a:lnTo>
                        <a:pt x="834572" y="240052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椭圆 434"/>
                <p:cNvSpPr/>
                <p:nvPr/>
              </p:nvSpPr>
              <p:spPr>
                <a:xfrm flipV="1">
                  <a:off x="5648400" y="5930640"/>
                  <a:ext cx="1028160" cy="990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9" name="椭圆 11"/>
            <p:cNvSpPr/>
            <p:nvPr/>
          </p:nvSpPr>
          <p:spPr>
            <a:xfrm>
              <a:off x="5648760" y="1901880"/>
              <a:ext cx="1027800" cy="1027800"/>
            </a:xfrm>
            <a:prstGeom prst="ellipse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600000" to="46800000">
                                      <p:cBhvr>
                                        <p:cTn id="36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780"/>
                                      </p:to>
                                    </p:animRot>
                                    <p:animRot by="-960000" to="-46800000">
                                      <p:cBhvr>
                                        <p:cTn id="36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-780"/>
                                      </p:to>
                                    </p:animRot>
                                    <p:animRot by="960000" to="0">
                                      <p:cBhvr>
                                        <p:cTn id="36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fltVal val="0"/>
                                      </p:to>
                                    </p:animRot>
                                  </p:childTnLst>
                                </p:cTn>
                              </p:par>
                              <p:par>
                                <p:cTn id="367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68" dur="150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0" dur="140" fill="hold"/>
                                        <p:tgtEl>
                                          <p:spTgt spid="625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  <p:par>
                                <p:cTn id="371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2" dur="140" fill="hold"/>
                                        <p:tgtEl>
                                          <p:spTgt spid="626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  <p:par>
                                <p:cTn id="3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4" dur="140" fill="hold"/>
                                        <p:tgtEl>
                                          <p:spTgt spid="628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  <p:par>
                                <p:cTn id="375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6" dur="140" fill="hold"/>
                                        <p:tgtEl>
                                          <p:spTgt spid="627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  <p:par>
                                <p:cTn id="377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8" dur="140" fill="hold"/>
                                        <p:tgtEl>
                                          <p:spTgt spid="623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  <p:par>
                                <p:cTn id="379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80" dur="140" fill="hold"/>
                                        <p:tgtEl>
                                          <p:spTgt spid="630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  <p:par>
                                <p:cTn id="381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82" dur="140" fill="hold"/>
                                        <p:tgtEl>
                                          <p:spTgt spid="629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  <p:par>
                                <p:cTn id="38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84" dur="140" fill="hold"/>
                                        <p:tgtEl>
                                          <p:spTgt spid="624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ab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组合 47"/>
          <p:cNvGrpSpPr/>
          <p:nvPr/>
        </p:nvGrpSpPr>
        <p:grpSpPr>
          <a:xfrm>
            <a:off x="4657680" y="2705040"/>
            <a:ext cx="2784600" cy="6940440"/>
            <a:chOff x="4657680" y="2705040"/>
            <a:chExt cx="2784600" cy="6940440"/>
          </a:xfrm>
        </p:grpSpPr>
        <p:grpSp>
          <p:nvGrpSpPr>
            <p:cNvPr id="642" name="组合 41"/>
            <p:cNvGrpSpPr/>
            <p:nvPr/>
          </p:nvGrpSpPr>
          <p:grpSpPr>
            <a:xfrm>
              <a:off x="4657680" y="2705040"/>
              <a:ext cx="2784600" cy="3438720"/>
              <a:chOff x="4657680" y="2705040"/>
              <a:chExt cx="2784600" cy="3438720"/>
            </a:xfrm>
          </p:grpSpPr>
          <p:sp>
            <p:nvSpPr>
              <p:cNvPr id="643" name="任意多边形 39"/>
              <p:cNvSpPr/>
              <p:nvPr/>
            </p:nvSpPr>
            <p:spPr>
              <a:xfrm>
                <a:off x="4657680" y="2705040"/>
                <a:ext cx="2784600" cy="3353040"/>
              </a:xfrm>
              <a:custGeom>
                <a:avLst/>
                <a:gdLst>
                  <a:gd name="textAreaLeft" fmla="*/ 0 w 2784600"/>
                  <a:gd name="textAreaRight" fmla="*/ 2784960 w 2784600"/>
                  <a:gd name="textAreaTop" fmla="*/ 0 h 3353040"/>
                  <a:gd name="textAreaBottom" fmla="*/ 3353400 h 3353040"/>
                </a:gdLst>
                <a:ahLst/>
                <a:rect l="textAreaLeft" t="textAreaTop" r="textAreaRight" b="textAreaBottom"/>
                <a:pathLst>
                  <a:path w="2785528" h="3352800">
                    <a:moveTo>
                      <a:pt x="724962" y="0"/>
                    </a:moveTo>
                    <a:lnTo>
                      <a:pt x="725598" y="0"/>
                    </a:lnTo>
                    <a:lnTo>
                      <a:pt x="836132" y="54559"/>
                    </a:lnTo>
                    <a:cubicBezTo>
                      <a:pt x="908861" y="86223"/>
                      <a:pt x="983418" y="114696"/>
                      <a:pt x="1059437" y="140223"/>
                    </a:cubicBezTo>
                    <a:cubicBezTo>
                      <a:pt x="1277748" y="179496"/>
                      <a:pt x="1496058" y="195205"/>
                      <a:pt x="1714369" y="163787"/>
                    </a:cubicBezTo>
                    <a:cubicBezTo>
                      <a:pt x="1790388" y="144151"/>
                      <a:pt x="1865432" y="122059"/>
                      <a:pt x="1939136" y="97023"/>
                    </a:cubicBezTo>
                    <a:lnTo>
                      <a:pt x="2070480" y="45850"/>
                    </a:lnTo>
                    <a:lnTo>
                      <a:pt x="2785528" y="3352800"/>
                    </a:lnTo>
                    <a:lnTo>
                      <a:pt x="0" y="3352800"/>
                    </a:lnTo>
                    <a:lnTo>
                      <a:pt x="724962" y="0"/>
                    </a:lnTo>
                    <a:close/>
                  </a:path>
                </a:pathLst>
              </a:custGeom>
              <a:solidFill>
                <a:srgbClr val="1ab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4" name="组合 30"/>
              <p:cNvGrpSpPr/>
              <p:nvPr/>
            </p:nvGrpSpPr>
            <p:grpSpPr>
              <a:xfrm>
                <a:off x="4657680" y="5972400"/>
                <a:ext cx="2784600" cy="171360"/>
                <a:chOff x="4657680" y="5972400"/>
                <a:chExt cx="2784600" cy="171360"/>
              </a:xfrm>
            </p:grpSpPr>
            <p:sp>
              <p:nvSpPr>
                <p:cNvPr id="645" name="椭圆 18"/>
                <p:cNvSpPr/>
                <p:nvPr/>
              </p:nvSpPr>
              <p:spPr>
                <a:xfrm>
                  <a:off x="4657680" y="5972400"/>
                  <a:ext cx="2784600" cy="171360"/>
                </a:xfrm>
                <a:prstGeom prst="ellipse">
                  <a:avLst/>
                </a:prstGeom>
                <a:solidFill>
                  <a:srgbClr val="20c4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椭圆 29"/>
                <p:cNvSpPr/>
                <p:nvPr/>
              </p:nvSpPr>
              <p:spPr>
                <a:xfrm>
                  <a:off x="5490000" y="6035040"/>
                  <a:ext cx="1119960" cy="45720"/>
                </a:xfrm>
                <a:prstGeom prst="ellipse">
                  <a:avLst/>
                </a:prstGeom>
                <a:solidFill>
                  <a:srgbClr val="3f3f3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7" name="组合 42"/>
            <p:cNvGrpSpPr/>
            <p:nvPr/>
          </p:nvGrpSpPr>
          <p:grpSpPr>
            <a:xfrm>
              <a:off x="4657680" y="6206760"/>
              <a:ext cx="2784600" cy="3438720"/>
              <a:chOff x="4657680" y="6206760"/>
              <a:chExt cx="2784600" cy="3438720"/>
            </a:xfrm>
          </p:grpSpPr>
          <p:sp>
            <p:nvSpPr>
              <p:cNvPr id="648" name="任意多边形 43"/>
              <p:cNvSpPr/>
              <p:nvPr/>
            </p:nvSpPr>
            <p:spPr>
              <a:xfrm flipV="1">
                <a:off x="4657680" y="6292440"/>
                <a:ext cx="2784600" cy="3353040"/>
              </a:xfrm>
              <a:custGeom>
                <a:avLst/>
                <a:gdLst>
                  <a:gd name="textAreaLeft" fmla="*/ 0 w 2784600"/>
                  <a:gd name="textAreaRight" fmla="*/ 2784960 w 2784600"/>
                  <a:gd name="textAreaTop" fmla="*/ 360 h 3353040"/>
                  <a:gd name="textAreaBottom" fmla="*/ 3353760 h 3353040"/>
                </a:gdLst>
                <a:ahLst/>
                <a:rect l="textAreaLeft" t="textAreaTop" r="textAreaRight" b="textAreaBottom"/>
                <a:pathLst>
                  <a:path w="2785528" h="3352800">
                    <a:moveTo>
                      <a:pt x="724962" y="0"/>
                    </a:moveTo>
                    <a:lnTo>
                      <a:pt x="725598" y="0"/>
                    </a:lnTo>
                    <a:lnTo>
                      <a:pt x="836132" y="54559"/>
                    </a:lnTo>
                    <a:cubicBezTo>
                      <a:pt x="908861" y="86223"/>
                      <a:pt x="983418" y="114696"/>
                      <a:pt x="1059437" y="140223"/>
                    </a:cubicBezTo>
                    <a:cubicBezTo>
                      <a:pt x="1277748" y="179496"/>
                      <a:pt x="1496058" y="195205"/>
                      <a:pt x="1714369" y="163787"/>
                    </a:cubicBezTo>
                    <a:cubicBezTo>
                      <a:pt x="1790388" y="144151"/>
                      <a:pt x="1865432" y="122059"/>
                      <a:pt x="1939136" y="97023"/>
                    </a:cubicBezTo>
                    <a:lnTo>
                      <a:pt x="2070480" y="45850"/>
                    </a:lnTo>
                    <a:lnTo>
                      <a:pt x="2785528" y="3352800"/>
                    </a:lnTo>
                    <a:lnTo>
                      <a:pt x="0" y="3352800"/>
                    </a:lnTo>
                    <a:lnTo>
                      <a:pt x="724962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" name="组合 44"/>
              <p:cNvGrpSpPr/>
              <p:nvPr/>
            </p:nvGrpSpPr>
            <p:grpSpPr>
              <a:xfrm>
                <a:off x="4657680" y="6206760"/>
                <a:ext cx="2784600" cy="171360"/>
                <a:chOff x="4657680" y="6206760"/>
                <a:chExt cx="2784600" cy="171360"/>
              </a:xfrm>
            </p:grpSpPr>
            <p:sp>
              <p:nvSpPr>
                <p:cNvPr id="650" name="椭圆 45"/>
                <p:cNvSpPr/>
                <p:nvPr/>
              </p:nvSpPr>
              <p:spPr>
                <a:xfrm flipV="1">
                  <a:off x="4657680" y="6206760"/>
                  <a:ext cx="2784600" cy="171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椭圆 46"/>
                <p:cNvSpPr/>
                <p:nvPr/>
              </p:nvSpPr>
              <p:spPr>
                <a:xfrm flipV="1">
                  <a:off x="5490000" y="6269400"/>
                  <a:ext cx="1119960" cy="45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2" name="文本框 16"/>
          <p:cNvSpPr/>
          <p:nvPr/>
        </p:nvSpPr>
        <p:spPr>
          <a:xfrm>
            <a:off x="3035880" y="3940200"/>
            <a:ext cx="1352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任意多边形 12"/>
          <p:cNvSpPr/>
          <p:nvPr/>
        </p:nvSpPr>
        <p:spPr>
          <a:xfrm>
            <a:off x="4808520" y="1541520"/>
            <a:ext cx="2475000" cy="1344600"/>
          </a:xfrm>
          <a:custGeom>
            <a:avLst/>
            <a:gdLst>
              <a:gd name="textAreaLeft" fmla="*/ 0 w 2475000"/>
              <a:gd name="textAreaRight" fmla="*/ 2475360 w 247500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1203574" h="653738">
                <a:moveTo>
                  <a:pt x="614573" y="273"/>
                </a:moveTo>
                <a:cubicBezTo>
                  <a:pt x="695594" y="4092"/>
                  <a:pt x="775194" y="48006"/>
                  <a:pt x="822575" y="130105"/>
                </a:cubicBezTo>
                <a:cubicBezTo>
                  <a:pt x="837736" y="156835"/>
                  <a:pt x="852898" y="172109"/>
                  <a:pt x="883222" y="183565"/>
                </a:cubicBezTo>
                <a:cubicBezTo>
                  <a:pt x="989355" y="229388"/>
                  <a:pt x="1084116" y="294304"/>
                  <a:pt x="1171297" y="370675"/>
                </a:cubicBezTo>
                <a:cubicBezTo>
                  <a:pt x="1216782" y="408861"/>
                  <a:pt x="1212992" y="424135"/>
                  <a:pt x="1167506" y="458502"/>
                </a:cubicBezTo>
                <a:cubicBezTo>
                  <a:pt x="1046212" y="550148"/>
                  <a:pt x="905965" y="607427"/>
                  <a:pt x="758137" y="645613"/>
                </a:cubicBezTo>
                <a:cubicBezTo>
                  <a:pt x="652004" y="660887"/>
                  <a:pt x="545871" y="653250"/>
                  <a:pt x="439738" y="634157"/>
                </a:cubicBezTo>
                <a:cubicBezTo>
                  <a:pt x="291910" y="584516"/>
                  <a:pt x="155454" y="511963"/>
                  <a:pt x="41740" y="408861"/>
                </a:cubicBezTo>
                <a:cubicBezTo>
                  <a:pt x="-15117" y="359219"/>
                  <a:pt x="-15117" y="347764"/>
                  <a:pt x="49321" y="301941"/>
                </a:cubicBezTo>
                <a:cubicBezTo>
                  <a:pt x="132711" y="244662"/>
                  <a:pt x="227473" y="195021"/>
                  <a:pt x="326024" y="160653"/>
                </a:cubicBezTo>
                <a:cubicBezTo>
                  <a:pt x="356348" y="153016"/>
                  <a:pt x="379091" y="137742"/>
                  <a:pt x="398043" y="111012"/>
                </a:cubicBezTo>
                <a:cubicBezTo>
                  <a:pt x="451110" y="32731"/>
                  <a:pt x="533552" y="-3545"/>
                  <a:pt x="614573" y="273"/>
                </a:cubicBezTo>
                <a:close/>
                <a:moveTo>
                  <a:pt x="579249" y="69209"/>
                </a:moveTo>
                <a:cubicBezTo>
                  <a:pt x="528144" y="73146"/>
                  <a:pt x="485556" y="99630"/>
                  <a:pt x="451486" y="145441"/>
                </a:cubicBezTo>
                <a:cubicBezTo>
                  <a:pt x="432558" y="172163"/>
                  <a:pt x="440129" y="183616"/>
                  <a:pt x="470414" y="187434"/>
                </a:cubicBezTo>
                <a:cubicBezTo>
                  <a:pt x="568839" y="202704"/>
                  <a:pt x="671049" y="217974"/>
                  <a:pt x="777045" y="195069"/>
                </a:cubicBezTo>
                <a:cubicBezTo>
                  <a:pt x="750546" y="122535"/>
                  <a:pt x="705119" y="84360"/>
                  <a:pt x="633194" y="72907"/>
                </a:cubicBezTo>
                <a:cubicBezTo>
                  <a:pt x="614266" y="69090"/>
                  <a:pt x="596285" y="67897"/>
                  <a:pt x="579249" y="69209"/>
                </a:cubicBezTo>
                <a:close/>
                <a:moveTo>
                  <a:pt x="384307" y="220837"/>
                </a:moveTo>
                <a:cubicBezTo>
                  <a:pt x="378625" y="219883"/>
                  <a:pt x="372944" y="219883"/>
                  <a:pt x="367262" y="221791"/>
                </a:cubicBezTo>
                <a:cubicBezTo>
                  <a:pt x="280139" y="244688"/>
                  <a:pt x="200593" y="282849"/>
                  <a:pt x="113470" y="343906"/>
                </a:cubicBezTo>
                <a:cubicBezTo>
                  <a:pt x="443020" y="404964"/>
                  <a:pt x="757418" y="416412"/>
                  <a:pt x="1094544" y="393515"/>
                </a:cubicBezTo>
                <a:cubicBezTo>
                  <a:pt x="1014998" y="328642"/>
                  <a:pt x="943027" y="286665"/>
                  <a:pt x="863480" y="248504"/>
                </a:cubicBezTo>
                <a:cubicBezTo>
                  <a:pt x="844541" y="240872"/>
                  <a:pt x="829389" y="240872"/>
                  <a:pt x="810449" y="244688"/>
                </a:cubicBezTo>
                <a:cubicBezTo>
                  <a:pt x="670296" y="271400"/>
                  <a:pt x="533931" y="267584"/>
                  <a:pt x="401353" y="225607"/>
                </a:cubicBezTo>
                <a:cubicBezTo>
                  <a:pt x="395671" y="223699"/>
                  <a:pt x="389989" y="221791"/>
                  <a:pt x="384307" y="220837"/>
                </a:cubicBezTo>
                <a:close/>
                <a:moveTo>
                  <a:pt x="173795" y="421175"/>
                </a:moveTo>
                <a:cubicBezTo>
                  <a:pt x="298827" y="516425"/>
                  <a:pt x="439013" y="577385"/>
                  <a:pt x="594355" y="585005"/>
                </a:cubicBezTo>
                <a:cubicBezTo>
                  <a:pt x="749698" y="592625"/>
                  <a:pt x="893673" y="543095"/>
                  <a:pt x="1026282" y="470705"/>
                </a:cubicBezTo>
                <a:cubicBezTo>
                  <a:pt x="1014916" y="440225"/>
                  <a:pt x="992183" y="463085"/>
                  <a:pt x="973239" y="459275"/>
                </a:cubicBezTo>
                <a:cubicBezTo>
                  <a:pt x="704232" y="470705"/>
                  <a:pt x="439013" y="451655"/>
                  <a:pt x="173795" y="4211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9"/>
          <p:cNvSpPr/>
          <p:nvPr/>
        </p:nvSpPr>
        <p:spPr>
          <a:xfrm>
            <a:off x="7704000" y="3940200"/>
            <a:ext cx="1352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任意多边形 26"/>
          <p:cNvSpPr/>
          <p:nvPr/>
        </p:nvSpPr>
        <p:spPr>
          <a:xfrm>
            <a:off x="5310360" y="3629160"/>
            <a:ext cx="1471320" cy="1419120"/>
          </a:xfrm>
          <a:custGeom>
            <a:avLst/>
            <a:gdLst>
              <a:gd name="textAreaLeft" fmla="*/ 0 w 1471320"/>
              <a:gd name="textAreaRight" fmla="*/ 1471680 w 1471320"/>
              <a:gd name="textAreaTop" fmla="*/ 0 h 1419120"/>
              <a:gd name="textAreaBottom" fmla="*/ 1419480 h 1419120"/>
            </a:gdLst>
            <a:ahLst/>
            <a:rect l="textAreaLeft" t="textAreaTop" r="textAreaRight" b="textAreaBottom"/>
            <a:pathLst>
              <a:path w="574795" h="554038">
                <a:moveTo>
                  <a:pt x="244260" y="0"/>
                </a:moveTo>
                <a:cubicBezTo>
                  <a:pt x="404607" y="3821"/>
                  <a:pt x="553501" y="137555"/>
                  <a:pt x="572590" y="294214"/>
                </a:cubicBezTo>
                <a:cubicBezTo>
                  <a:pt x="591679" y="439410"/>
                  <a:pt x="484781" y="554038"/>
                  <a:pt x="332069" y="554038"/>
                </a:cubicBezTo>
                <a:cubicBezTo>
                  <a:pt x="179358" y="554038"/>
                  <a:pt x="38099" y="439410"/>
                  <a:pt x="7557" y="290393"/>
                </a:cubicBezTo>
                <a:cubicBezTo>
                  <a:pt x="-30621" y="137555"/>
                  <a:pt x="80095" y="0"/>
                  <a:pt x="244260" y="0"/>
                </a:cubicBezTo>
                <a:close/>
                <a:moveTo>
                  <a:pt x="243910" y="68263"/>
                </a:moveTo>
                <a:cubicBezTo>
                  <a:pt x="129287" y="68263"/>
                  <a:pt x="56692" y="148563"/>
                  <a:pt x="71975" y="263277"/>
                </a:cubicBezTo>
                <a:cubicBezTo>
                  <a:pt x="83438" y="393287"/>
                  <a:pt x="236268" y="508001"/>
                  <a:pt x="369995" y="485058"/>
                </a:cubicBezTo>
                <a:cubicBezTo>
                  <a:pt x="454052" y="469763"/>
                  <a:pt x="507542" y="408582"/>
                  <a:pt x="507542" y="320635"/>
                </a:cubicBezTo>
                <a:cubicBezTo>
                  <a:pt x="507542" y="194449"/>
                  <a:pt x="377636" y="72087"/>
                  <a:pt x="243910" y="682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十字形 32"/>
          <p:cNvSpPr/>
          <p:nvPr/>
        </p:nvSpPr>
        <p:spPr>
          <a:xfrm>
            <a:off x="5330880" y="5388120"/>
            <a:ext cx="249120" cy="249120"/>
          </a:xfrm>
          <a:prstGeom prst="plus">
            <a:avLst>
              <a:gd name="adj" fmla="val 37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十字形 33"/>
          <p:cNvSpPr/>
          <p:nvPr/>
        </p:nvSpPr>
        <p:spPr>
          <a:xfrm>
            <a:off x="6735600" y="3666960"/>
            <a:ext cx="249480" cy="249480"/>
          </a:xfrm>
          <a:prstGeom prst="plus">
            <a:avLst>
              <a:gd name="adj" fmla="val 37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十字形 34"/>
          <p:cNvSpPr/>
          <p:nvPr/>
        </p:nvSpPr>
        <p:spPr>
          <a:xfrm>
            <a:off x="5143680" y="3054240"/>
            <a:ext cx="250560" cy="249480"/>
          </a:xfrm>
          <a:prstGeom prst="plus">
            <a:avLst>
              <a:gd name="adj" fmla="val 37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35"/>
          <p:cNvSpPr/>
          <p:nvPr/>
        </p:nvSpPr>
        <p:spPr>
          <a:xfrm>
            <a:off x="6359400" y="3143160"/>
            <a:ext cx="11448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椭圆 36"/>
          <p:cNvSpPr/>
          <p:nvPr/>
        </p:nvSpPr>
        <p:spPr>
          <a:xfrm>
            <a:off x="4997520" y="4654440"/>
            <a:ext cx="1141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椭圆 37"/>
          <p:cNvSpPr/>
          <p:nvPr/>
        </p:nvSpPr>
        <p:spPr>
          <a:xfrm>
            <a:off x="6735600" y="5497560"/>
            <a:ext cx="1144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矩形 10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组合 107"/>
          <p:cNvGrpSpPr/>
          <p:nvPr/>
        </p:nvGrpSpPr>
        <p:grpSpPr>
          <a:xfrm>
            <a:off x="4662360" y="2705040"/>
            <a:ext cx="2786040" cy="6940440"/>
            <a:chOff x="4662360" y="2705040"/>
            <a:chExt cx="2786040" cy="6940440"/>
          </a:xfrm>
        </p:grpSpPr>
        <p:grpSp>
          <p:nvGrpSpPr>
            <p:cNvPr id="664" name="组合 108"/>
            <p:cNvGrpSpPr/>
            <p:nvPr/>
          </p:nvGrpSpPr>
          <p:grpSpPr>
            <a:xfrm>
              <a:off x="4662360" y="2705040"/>
              <a:ext cx="2786040" cy="3438720"/>
              <a:chOff x="4662360" y="2705040"/>
              <a:chExt cx="2786040" cy="3438720"/>
            </a:xfrm>
          </p:grpSpPr>
          <p:sp>
            <p:nvSpPr>
              <p:cNvPr id="665" name="任意多边形 114"/>
              <p:cNvSpPr/>
              <p:nvPr/>
            </p:nvSpPr>
            <p:spPr>
              <a:xfrm>
                <a:off x="4662360" y="2705040"/>
                <a:ext cx="2786040" cy="3353040"/>
              </a:xfrm>
              <a:custGeom>
                <a:avLst/>
                <a:gdLst>
                  <a:gd name="textAreaLeft" fmla="*/ 0 w 2786040"/>
                  <a:gd name="textAreaRight" fmla="*/ 2786400 w 2786040"/>
                  <a:gd name="textAreaTop" fmla="*/ 0 h 3353040"/>
                  <a:gd name="textAreaBottom" fmla="*/ 3353400 h 3353040"/>
                </a:gdLst>
                <a:ahLst/>
                <a:rect l="textAreaLeft" t="textAreaTop" r="textAreaRight" b="textAreaBottom"/>
                <a:pathLst>
                  <a:path w="2785528" h="3352800">
                    <a:moveTo>
                      <a:pt x="724962" y="0"/>
                    </a:moveTo>
                    <a:lnTo>
                      <a:pt x="725598" y="0"/>
                    </a:lnTo>
                    <a:lnTo>
                      <a:pt x="836132" y="54559"/>
                    </a:lnTo>
                    <a:cubicBezTo>
                      <a:pt x="908861" y="86223"/>
                      <a:pt x="983418" y="114696"/>
                      <a:pt x="1059437" y="140223"/>
                    </a:cubicBezTo>
                    <a:cubicBezTo>
                      <a:pt x="1277748" y="179496"/>
                      <a:pt x="1496058" y="195205"/>
                      <a:pt x="1714369" y="163787"/>
                    </a:cubicBezTo>
                    <a:cubicBezTo>
                      <a:pt x="1790388" y="144151"/>
                      <a:pt x="1865432" y="122059"/>
                      <a:pt x="1939136" y="97023"/>
                    </a:cubicBezTo>
                    <a:lnTo>
                      <a:pt x="2070480" y="45850"/>
                    </a:lnTo>
                    <a:lnTo>
                      <a:pt x="2785528" y="3352800"/>
                    </a:lnTo>
                    <a:lnTo>
                      <a:pt x="0" y="3352800"/>
                    </a:lnTo>
                    <a:lnTo>
                      <a:pt x="724962" y="0"/>
                    </a:lnTo>
                    <a:close/>
                  </a:path>
                </a:pathLst>
              </a:custGeom>
              <a:solidFill>
                <a:srgbClr val="1ab7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组合 115"/>
              <p:cNvGrpSpPr/>
              <p:nvPr/>
            </p:nvGrpSpPr>
            <p:grpSpPr>
              <a:xfrm>
                <a:off x="4662360" y="5972400"/>
                <a:ext cx="2786040" cy="171360"/>
                <a:chOff x="4662360" y="5972400"/>
                <a:chExt cx="2786040" cy="171360"/>
              </a:xfrm>
            </p:grpSpPr>
            <p:sp>
              <p:nvSpPr>
                <p:cNvPr id="667" name="椭圆 116"/>
                <p:cNvSpPr/>
                <p:nvPr/>
              </p:nvSpPr>
              <p:spPr>
                <a:xfrm>
                  <a:off x="4662360" y="5972400"/>
                  <a:ext cx="2786040" cy="171360"/>
                </a:xfrm>
                <a:prstGeom prst="ellipse">
                  <a:avLst/>
                </a:prstGeom>
                <a:solidFill>
                  <a:srgbClr val="20c4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椭圆 117"/>
                <p:cNvSpPr/>
                <p:nvPr/>
              </p:nvSpPr>
              <p:spPr>
                <a:xfrm>
                  <a:off x="5495040" y="6035040"/>
                  <a:ext cx="1120320" cy="45720"/>
                </a:xfrm>
                <a:prstGeom prst="ellipse">
                  <a:avLst/>
                </a:prstGeom>
                <a:solidFill>
                  <a:srgbClr val="3f3f3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9" name="组合 109"/>
            <p:cNvGrpSpPr/>
            <p:nvPr/>
          </p:nvGrpSpPr>
          <p:grpSpPr>
            <a:xfrm>
              <a:off x="4662360" y="6206760"/>
              <a:ext cx="2786040" cy="3438720"/>
              <a:chOff x="4662360" y="6206760"/>
              <a:chExt cx="2786040" cy="3438720"/>
            </a:xfrm>
          </p:grpSpPr>
          <p:sp>
            <p:nvSpPr>
              <p:cNvPr id="670" name="任意多边形 110"/>
              <p:cNvSpPr/>
              <p:nvPr/>
            </p:nvSpPr>
            <p:spPr>
              <a:xfrm flipV="1">
                <a:off x="4662360" y="6292440"/>
                <a:ext cx="2786040" cy="3353040"/>
              </a:xfrm>
              <a:custGeom>
                <a:avLst/>
                <a:gdLst>
                  <a:gd name="textAreaLeft" fmla="*/ 0 w 2786040"/>
                  <a:gd name="textAreaRight" fmla="*/ 2786400 w 2786040"/>
                  <a:gd name="textAreaTop" fmla="*/ 360 h 3353040"/>
                  <a:gd name="textAreaBottom" fmla="*/ 3353760 h 3353040"/>
                </a:gdLst>
                <a:ahLst/>
                <a:rect l="textAreaLeft" t="textAreaTop" r="textAreaRight" b="textAreaBottom"/>
                <a:pathLst>
                  <a:path w="2785528" h="3352800">
                    <a:moveTo>
                      <a:pt x="724962" y="0"/>
                    </a:moveTo>
                    <a:lnTo>
                      <a:pt x="725598" y="0"/>
                    </a:lnTo>
                    <a:lnTo>
                      <a:pt x="836132" y="54559"/>
                    </a:lnTo>
                    <a:cubicBezTo>
                      <a:pt x="908861" y="86223"/>
                      <a:pt x="983418" y="114696"/>
                      <a:pt x="1059437" y="140223"/>
                    </a:cubicBezTo>
                    <a:cubicBezTo>
                      <a:pt x="1277748" y="179496"/>
                      <a:pt x="1496058" y="195205"/>
                      <a:pt x="1714369" y="163787"/>
                    </a:cubicBezTo>
                    <a:cubicBezTo>
                      <a:pt x="1790388" y="144151"/>
                      <a:pt x="1865432" y="122059"/>
                      <a:pt x="1939136" y="97023"/>
                    </a:cubicBezTo>
                    <a:lnTo>
                      <a:pt x="2070480" y="45850"/>
                    </a:lnTo>
                    <a:lnTo>
                      <a:pt x="2785528" y="3352800"/>
                    </a:lnTo>
                    <a:lnTo>
                      <a:pt x="0" y="3352800"/>
                    </a:lnTo>
                    <a:lnTo>
                      <a:pt x="724962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" name="组合 111"/>
              <p:cNvGrpSpPr/>
              <p:nvPr/>
            </p:nvGrpSpPr>
            <p:grpSpPr>
              <a:xfrm>
                <a:off x="4662360" y="6206760"/>
                <a:ext cx="2786040" cy="171360"/>
                <a:chOff x="4662360" y="6206760"/>
                <a:chExt cx="2786040" cy="171360"/>
              </a:xfrm>
            </p:grpSpPr>
            <p:sp>
              <p:nvSpPr>
                <p:cNvPr id="672" name="椭圆 112"/>
                <p:cNvSpPr/>
                <p:nvPr/>
              </p:nvSpPr>
              <p:spPr>
                <a:xfrm flipV="1">
                  <a:off x="4662360" y="6206760"/>
                  <a:ext cx="2786040" cy="17136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椭圆 113"/>
                <p:cNvSpPr/>
                <p:nvPr/>
              </p:nvSpPr>
              <p:spPr>
                <a:xfrm flipV="1">
                  <a:off x="5495040" y="6269400"/>
                  <a:ext cx="1120320" cy="4572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74" name="任意多边形 118"/>
          <p:cNvSpPr/>
          <p:nvPr/>
        </p:nvSpPr>
        <p:spPr>
          <a:xfrm>
            <a:off x="4815000" y="1541520"/>
            <a:ext cx="2474640" cy="1344600"/>
          </a:xfrm>
          <a:custGeom>
            <a:avLst/>
            <a:gdLst>
              <a:gd name="textAreaLeft" fmla="*/ 0 w 2474640"/>
              <a:gd name="textAreaRight" fmla="*/ 2475000 w 247464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1203574" h="653738">
                <a:moveTo>
                  <a:pt x="614573" y="273"/>
                </a:moveTo>
                <a:cubicBezTo>
                  <a:pt x="695594" y="4092"/>
                  <a:pt x="775194" y="48006"/>
                  <a:pt x="822575" y="130105"/>
                </a:cubicBezTo>
                <a:cubicBezTo>
                  <a:pt x="837736" y="156835"/>
                  <a:pt x="852898" y="172109"/>
                  <a:pt x="883222" y="183565"/>
                </a:cubicBezTo>
                <a:cubicBezTo>
                  <a:pt x="989355" y="229388"/>
                  <a:pt x="1084116" y="294304"/>
                  <a:pt x="1171297" y="370675"/>
                </a:cubicBezTo>
                <a:cubicBezTo>
                  <a:pt x="1216782" y="408861"/>
                  <a:pt x="1212992" y="424135"/>
                  <a:pt x="1167506" y="458502"/>
                </a:cubicBezTo>
                <a:cubicBezTo>
                  <a:pt x="1046212" y="550148"/>
                  <a:pt x="905965" y="607427"/>
                  <a:pt x="758137" y="645613"/>
                </a:cubicBezTo>
                <a:cubicBezTo>
                  <a:pt x="652004" y="660887"/>
                  <a:pt x="545871" y="653250"/>
                  <a:pt x="439738" y="634157"/>
                </a:cubicBezTo>
                <a:cubicBezTo>
                  <a:pt x="291910" y="584516"/>
                  <a:pt x="155454" y="511963"/>
                  <a:pt x="41740" y="408861"/>
                </a:cubicBezTo>
                <a:cubicBezTo>
                  <a:pt x="-15117" y="359219"/>
                  <a:pt x="-15117" y="347764"/>
                  <a:pt x="49321" y="301941"/>
                </a:cubicBezTo>
                <a:cubicBezTo>
                  <a:pt x="132711" y="244662"/>
                  <a:pt x="227473" y="195021"/>
                  <a:pt x="326024" y="160653"/>
                </a:cubicBezTo>
                <a:cubicBezTo>
                  <a:pt x="356348" y="153016"/>
                  <a:pt x="379091" y="137742"/>
                  <a:pt x="398043" y="111012"/>
                </a:cubicBezTo>
                <a:cubicBezTo>
                  <a:pt x="451110" y="32731"/>
                  <a:pt x="533552" y="-3545"/>
                  <a:pt x="614573" y="273"/>
                </a:cubicBezTo>
                <a:close/>
                <a:moveTo>
                  <a:pt x="579249" y="69209"/>
                </a:moveTo>
                <a:cubicBezTo>
                  <a:pt x="528144" y="73146"/>
                  <a:pt x="485556" y="99630"/>
                  <a:pt x="451486" y="145441"/>
                </a:cubicBezTo>
                <a:cubicBezTo>
                  <a:pt x="432558" y="172163"/>
                  <a:pt x="440129" y="183616"/>
                  <a:pt x="470414" y="187434"/>
                </a:cubicBezTo>
                <a:cubicBezTo>
                  <a:pt x="568839" y="202704"/>
                  <a:pt x="671049" y="217974"/>
                  <a:pt x="777045" y="195069"/>
                </a:cubicBezTo>
                <a:cubicBezTo>
                  <a:pt x="750546" y="122535"/>
                  <a:pt x="705119" y="84360"/>
                  <a:pt x="633194" y="72907"/>
                </a:cubicBezTo>
                <a:cubicBezTo>
                  <a:pt x="614266" y="69090"/>
                  <a:pt x="596285" y="67897"/>
                  <a:pt x="579249" y="69209"/>
                </a:cubicBezTo>
                <a:close/>
                <a:moveTo>
                  <a:pt x="384307" y="220837"/>
                </a:moveTo>
                <a:cubicBezTo>
                  <a:pt x="378625" y="219883"/>
                  <a:pt x="372944" y="219883"/>
                  <a:pt x="367262" y="221791"/>
                </a:cubicBezTo>
                <a:cubicBezTo>
                  <a:pt x="280139" y="244688"/>
                  <a:pt x="200593" y="282849"/>
                  <a:pt x="113470" y="343906"/>
                </a:cubicBezTo>
                <a:cubicBezTo>
                  <a:pt x="443020" y="404964"/>
                  <a:pt x="757418" y="416412"/>
                  <a:pt x="1094544" y="393515"/>
                </a:cubicBezTo>
                <a:cubicBezTo>
                  <a:pt x="1014998" y="328642"/>
                  <a:pt x="943027" y="286665"/>
                  <a:pt x="863480" y="248504"/>
                </a:cubicBezTo>
                <a:cubicBezTo>
                  <a:pt x="844541" y="240872"/>
                  <a:pt x="829389" y="240872"/>
                  <a:pt x="810449" y="244688"/>
                </a:cubicBezTo>
                <a:cubicBezTo>
                  <a:pt x="670296" y="271400"/>
                  <a:pt x="533931" y="267584"/>
                  <a:pt x="401353" y="225607"/>
                </a:cubicBezTo>
                <a:cubicBezTo>
                  <a:pt x="395671" y="223699"/>
                  <a:pt x="389989" y="221791"/>
                  <a:pt x="384307" y="220837"/>
                </a:cubicBezTo>
                <a:close/>
                <a:moveTo>
                  <a:pt x="173795" y="421175"/>
                </a:moveTo>
                <a:cubicBezTo>
                  <a:pt x="298827" y="516425"/>
                  <a:pt x="439013" y="577385"/>
                  <a:pt x="594355" y="585005"/>
                </a:cubicBezTo>
                <a:cubicBezTo>
                  <a:pt x="749698" y="592625"/>
                  <a:pt x="893673" y="543095"/>
                  <a:pt x="1026282" y="470705"/>
                </a:cubicBezTo>
                <a:cubicBezTo>
                  <a:pt x="1014916" y="440225"/>
                  <a:pt x="992183" y="463085"/>
                  <a:pt x="973239" y="459275"/>
                </a:cubicBezTo>
                <a:cubicBezTo>
                  <a:pt x="704232" y="470705"/>
                  <a:pt x="439013" y="451655"/>
                  <a:pt x="173795" y="42117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任意多边形 119"/>
          <p:cNvSpPr/>
          <p:nvPr/>
        </p:nvSpPr>
        <p:spPr>
          <a:xfrm>
            <a:off x="5316480" y="3629160"/>
            <a:ext cx="1471680" cy="1419120"/>
          </a:xfrm>
          <a:custGeom>
            <a:avLst/>
            <a:gdLst>
              <a:gd name="textAreaLeft" fmla="*/ 0 w 1471680"/>
              <a:gd name="textAreaRight" fmla="*/ 1472040 w 1471680"/>
              <a:gd name="textAreaTop" fmla="*/ 0 h 1419120"/>
              <a:gd name="textAreaBottom" fmla="*/ 1419480 h 1419120"/>
            </a:gdLst>
            <a:ahLst/>
            <a:rect l="textAreaLeft" t="textAreaTop" r="textAreaRight" b="textAreaBottom"/>
            <a:pathLst>
              <a:path w="574795" h="554038">
                <a:moveTo>
                  <a:pt x="244260" y="0"/>
                </a:moveTo>
                <a:cubicBezTo>
                  <a:pt x="404607" y="3821"/>
                  <a:pt x="553501" y="137555"/>
                  <a:pt x="572590" y="294214"/>
                </a:cubicBezTo>
                <a:cubicBezTo>
                  <a:pt x="591679" y="439410"/>
                  <a:pt x="484781" y="554038"/>
                  <a:pt x="332069" y="554038"/>
                </a:cubicBezTo>
                <a:cubicBezTo>
                  <a:pt x="179358" y="554038"/>
                  <a:pt x="38099" y="439410"/>
                  <a:pt x="7557" y="290393"/>
                </a:cubicBezTo>
                <a:cubicBezTo>
                  <a:pt x="-30621" y="137555"/>
                  <a:pt x="80095" y="0"/>
                  <a:pt x="244260" y="0"/>
                </a:cubicBezTo>
                <a:close/>
                <a:moveTo>
                  <a:pt x="243910" y="68263"/>
                </a:moveTo>
                <a:cubicBezTo>
                  <a:pt x="129287" y="68263"/>
                  <a:pt x="56692" y="148563"/>
                  <a:pt x="71975" y="263277"/>
                </a:cubicBezTo>
                <a:cubicBezTo>
                  <a:pt x="83438" y="393287"/>
                  <a:pt x="236268" y="508001"/>
                  <a:pt x="369995" y="485058"/>
                </a:cubicBezTo>
                <a:cubicBezTo>
                  <a:pt x="454052" y="469763"/>
                  <a:pt x="507542" y="408582"/>
                  <a:pt x="507542" y="320635"/>
                </a:cubicBezTo>
                <a:cubicBezTo>
                  <a:pt x="507542" y="194449"/>
                  <a:pt x="377636" y="72087"/>
                  <a:pt x="243910" y="682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十字形 120"/>
          <p:cNvSpPr/>
          <p:nvPr/>
        </p:nvSpPr>
        <p:spPr>
          <a:xfrm>
            <a:off x="5335560" y="5388120"/>
            <a:ext cx="249120" cy="249120"/>
          </a:xfrm>
          <a:prstGeom prst="plus">
            <a:avLst>
              <a:gd name="adj" fmla="val 37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十字形 121"/>
          <p:cNvSpPr/>
          <p:nvPr/>
        </p:nvSpPr>
        <p:spPr>
          <a:xfrm>
            <a:off x="6742080" y="3666960"/>
            <a:ext cx="249120" cy="249480"/>
          </a:xfrm>
          <a:prstGeom prst="plus">
            <a:avLst>
              <a:gd name="adj" fmla="val 37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十字形 122"/>
          <p:cNvSpPr/>
          <p:nvPr/>
        </p:nvSpPr>
        <p:spPr>
          <a:xfrm>
            <a:off x="5149800" y="3054240"/>
            <a:ext cx="249120" cy="249480"/>
          </a:xfrm>
          <a:prstGeom prst="plus">
            <a:avLst>
              <a:gd name="adj" fmla="val 3743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椭圆 123"/>
          <p:cNvSpPr/>
          <p:nvPr/>
        </p:nvSpPr>
        <p:spPr>
          <a:xfrm>
            <a:off x="6365880" y="3143160"/>
            <a:ext cx="11412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椭圆 124"/>
          <p:cNvSpPr/>
          <p:nvPr/>
        </p:nvSpPr>
        <p:spPr>
          <a:xfrm>
            <a:off x="5003640" y="4654440"/>
            <a:ext cx="114480" cy="11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125"/>
          <p:cNvSpPr/>
          <p:nvPr/>
        </p:nvSpPr>
        <p:spPr>
          <a:xfrm>
            <a:off x="6742080" y="5497560"/>
            <a:ext cx="114480" cy="11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6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400000">
                                      <p:cBhvr>
                                        <p:cTn id="392" dur="1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-3.33333E-006 0.06273 E">
                                      <p:cBhvr>
                                        <p:cTn id="394" dur="20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6" dur="2000" fill="hold"/>
                                        <p:tgtEl>
                                          <p:spTgt spid="64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97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00000">
                                      <p:cBhvr>
                                        <p:cTn id="39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9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81481E-006 L -3.33333E-006 0.05925 E">
                                      <p:cBhvr>
                                        <p:cTn id="400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40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404" dur="2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5" autoRev="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000000">
                                      <p:cBhvr>
                                        <p:cTn id="406" dur="2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7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25E-006 4.07407E-006 L -1.25E-006 0.05324 E">
                                      <p:cBhvr>
                                        <p:cTn id="408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7 2.22222E-006 L 0.00352 0.06713 E">
                                      <p:cBhvr>
                                        <p:cTn id="410" dur="2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6 L -0.01185 0.04074 E">
                                      <p:cBhvr>
                                        <p:cTn id="412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45833E-006 -3.7037E-006 L -0.00469 0.04005 E">
                                      <p:cBhvr>
                                        <p:cTn id="414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0.0043 0.04907 E">
                                      <p:cBhvr>
                                        <p:cTn id="416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08333E-006 3.33333E-006 L -0.01172 0.04583 E">
                                      <p:cBhvr>
                                        <p:cTn id="418" dur="2000" fill="hold"/>
                                        <p:tgtEl>
                                          <p:spTgt spid="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0" dur="2000" fill="hold"/>
                                        <p:tgtEl>
                                          <p:spTgt spid="65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1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65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3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4" dur="2000" fill="hold"/>
                                        <p:tgtEl>
                                          <p:spTgt spid="65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5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6" dur="2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7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2000" fill="hold"/>
                                        <p:tgtEl>
                                          <p:spTgt spid="66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2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0" dur="2000" fill="hold"/>
                                        <p:tgtEl>
                                          <p:spTgt spid="65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68" dur="2000" fill="hold"/>
                                        <p:tgtEl>
                                          <p:spTgt spid="6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autoRev="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2400000">
                                      <p:cBhvr>
                                        <p:cTn id="470" dur="18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1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4.16667E-006 1.11111E-006 L -4.16667E-006 0.06273 E">
                                      <p:cBhvr>
                                        <p:cTn id="472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74" dur="2000" fill="hold"/>
                                        <p:tgtEl>
                                          <p:spTgt spid="66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75" autoRev="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-600000">
                                      <p:cBhvr>
                                        <p:cTn id="476" dur="2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7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4.16667E-006 4.81481E-006 L -4.16667E-006 0.05925 E">
                                      <p:cBhvr>
                                        <p:cTn id="478" dur="20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autoRev="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-3000000">
                                      <p:cBhvr>
                                        <p:cTn id="480" dur="2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1" autoRev="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3000000">
                                      <p:cBhvr>
                                        <p:cTn id="482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3" autoRev="1" nodeType="withEffect" fill="hold" presetClass="emph" presetID="8">
                                  <p:stCondLst>
                                    <p:cond delay="4000"/>
                                  </p:stCondLst>
                                  <p:childTnLst>
                                    <p:animRot by="3000000">
                                      <p:cBhvr>
                                        <p:cTn id="484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5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08333E-006 4.07407E-006 L -2.08333E-006 0.05324 E">
                                      <p:cBhvr>
                                        <p:cTn id="486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04167E-006 2.22222E-006 L 0.00352 0.06713 E">
                                      <p:cBhvr>
                                        <p:cTn id="488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54167E-006 -3.7037E-006 L -0.01185 0.04074 E">
                                      <p:cBhvr>
                                        <p:cTn id="490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29167E-006 -3.7037E-006 L -0.00469 0.04005 E">
                                      <p:cBhvr>
                                        <p:cTn id="492" dur="2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4.16667E-006 2.96296E-006 L 0.0043 0.04907 E">
                                      <p:cBhvr>
                                        <p:cTn id="494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autoRev="1" nodeType="withEffect" fill="hold" presetClass="path" presetID="42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2.91667E-006 3.33333E-006 L -0.01172 0.04583 E">
                                      <p:cBhvr>
                                        <p:cTn id="496" dur="20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7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498" dur="2000" fill="hold"/>
                                        <p:tgtEl>
                                          <p:spTgt spid="67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99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00" dur="2000" fill="hold"/>
                                        <p:tgtEl>
                                          <p:spTgt spid="67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01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02" dur="2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03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04" dur="2000" fill="hold"/>
                                        <p:tgtEl>
                                          <p:spTgt spid="68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05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06" dur="2000" fill="hold"/>
                                        <p:tgtEl>
                                          <p:spTgt spid="68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07" autoRev="1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508" dur="2000" fill="hold"/>
                                        <p:tgtEl>
                                          <p:spTgt spid="67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[动画大师]_Freeform 5"/>
          <p:cNvSpPr/>
          <p:nvPr/>
        </p:nvSpPr>
        <p:spPr>
          <a:xfrm>
            <a:off x="4910040" y="2448000"/>
            <a:ext cx="2371680" cy="86688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473" h="173">
                <a:moveTo>
                  <a:pt x="236" y="1"/>
                </a:moveTo>
                <a:cubicBezTo>
                  <a:pt x="295" y="0"/>
                  <a:pt x="347" y="5"/>
                  <a:pt x="396" y="28"/>
                </a:cubicBezTo>
                <a:cubicBezTo>
                  <a:pt x="432" y="44"/>
                  <a:pt x="459" y="69"/>
                  <a:pt x="468" y="109"/>
                </a:cubicBezTo>
                <a:cubicBezTo>
                  <a:pt x="473" y="129"/>
                  <a:pt x="461" y="159"/>
                  <a:pt x="442" y="170"/>
                </a:cubicBezTo>
                <a:cubicBezTo>
                  <a:pt x="438" y="173"/>
                  <a:pt x="434" y="172"/>
                  <a:pt x="430" y="170"/>
                </a:cubicBezTo>
                <a:cubicBezTo>
                  <a:pt x="400" y="157"/>
                  <a:pt x="371" y="145"/>
                  <a:pt x="342" y="132"/>
                </a:cubicBezTo>
                <a:cubicBezTo>
                  <a:pt x="336" y="129"/>
                  <a:pt x="333" y="125"/>
                  <a:pt x="332" y="118"/>
                </a:cubicBezTo>
                <a:cubicBezTo>
                  <a:pt x="331" y="112"/>
                  <a:pt x="330" y="105"/>
                  <a:pt x="329" y="99"/>
                </a:cubicBezTo>
                <a:cubicBezTo>
                  <a:pt x="327" y="72"/>
                  <a:pt x="327" y="70"/>
                  <a:pt x="302" y="66"/>
                </a:cubicBezTo>
                <a:cubicBezTo>
                  <a:pt x="256" y="57"/>
                  <a:pt x="211" y="57"/>
                  <a:pt x="166" y="69"/>
                </a:cubicBezTo>
                <a:cubicBezTo>
                  <a:pt x="156" y="71"/>
                  <a:pt x="150" y="75"/>
                  <a:pt x="151" y="86"/>
                </a:cubicBezTo>
                <a:cubicBezTo>
                  <a:pt x="152" y="89"/>
                  <a:pt x="149" y="92"/>
                  <a:pt x="150" y="95"/>
                </a:cubicBezTo>
                <a:cubicBezTo>
                  <a:pt x="155" y="125"/>
                  <a:pt x="135" y="135"/>
                  <a:pt x="113" y="144"/>
                </a:cubicBezTo>
                <a:cubicBezTo>
                  <a:pt x="93" y="151"/>
                  <a:pt x="73" y="160"/>
                  <a:pt x="54" y="169"/>
                </a:cubicBezTo>
                <a:cubicBezTo>
                  <a:pt x="45" y="173"/>
                  <a:pt x="39" y="172"/>
                  <a:pt x="32" y="165"/>
                </a:cubicBezTo>
                <a:cubicBezTo>
                  <a:pt x="0" y="132"/>
                  <a:pt x="6" y="84"/>
                  <a:pt x="48" y="50"/>
                </a:cubicBezTo>
                <a:cubicBezTo>
                  <a:pt x="78" y="26"/>
                  <a:pt x="114" y="14"/>
                  <a:pt x="151" y="7"/>
                </a:cubicBezTo>
                <a:cubicBezTo>
                  <a:pt x="181" y="1"/>
                  <a:pt x="211" y="0"/>
                  <a:pt x="236" y="1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6"/>
          <p:cNvSpPr/>
          <p:nvPr/>
        </p:nvSpPr>
        <p:spPr>
          <a:xfrm>
            <a:off x="5397480" y="3219480"/>
            <a:ext cx="1428840" cy="638280"/>
          </a:xfrm>
          <a:custGeom>
            <a:avLst/>
            <a:gdLst>
              <a:gd name="textAreaLeft" fmla="*/ 0 w 1428840"/>
              <a:gd name="textAreaRight" fmla="*/ 1429200 w 14288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285" h="127">
                <a:moveTo>
                  <a:pt x="283" y="82"/>
                </a:moveTo>
                <a:cubicBezTo>
                  <a:pt x="284" y="101"/>
                  <a:pt x="276" y="114"/>
                  <a:pt x="261" y="120"/>
                </a:cubicBezTo>
                <a:cubicBezTo>
                  <a:pt x="246" y="126"/>
                  <a:pt x="232" y="124"/>
                  <a:pt x="220" y="113"/>
                </a:cubicBezTo>
                <a:cubicBezTo>
                  <a:pt x="180" y="76"/>
                  <a:pt x="121" y="74"/>
                  <a:pt x="78" y="107"/>
                </a:cubicBezTo>
                <a:cubicBezTo>
                  <a:pt x="73" y="110"/>
                  <a:pt x="69" y="114"/>
                  <a:pt x="63" y="117"/>
                </a:cubicBezTo>
                <a:cubicBezTo>
                  <a:pt x="46" y="127"/>
                  <a:pt x="25" y="124"/>
                  <a:pt x="14" y="109"/>
                </a:cubicBezTo>
                <a:cubicBezTo>
                  <a:pt x="0" y="91"/>
                  <a:pt x="1" y="72"/>
                  <a:pt x="17" y="57"/>
                </a:cubicBezTo>
                <a:cubicBezTo>
                  <a:pt x="44" y="31"/>
                  <a:pt x="76" y="15"/>
                  <a:pt x="112" y="9"/>
                </a:cubicBezTo>
                <a:cubicBezTo>
                  <a:pt x="169" y="0"/>
                  <a:pt x="219" y="14"/>
                  <a:pt x="264" y="49"/>
                </a:cubicBezTo>
                <a:cubicBezTo>
                  <a:pt x="275" y="58"/>
                  <a:pt x="285" y="68"/>
                  <a:pt x="283" y="82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7"/>
          <p:cNvSpPr/>
          <p:nvPr/>
        </p:nvSpPr>
        <p:spPr>
          <a:xfrm>
            <a:off x="5867280" y="3908520"/>
            <a:ext cx="497160" cy="501480"/>
          </a:xfrm>
          <a:custGeom>
            <a:avLst/>
            <a:gdLst>
              <a:gd name="textAreaLeft" fmla="*/ 0 w 497160"/>
              <a:gd name="textAreaRight" fmla="*/ 497520 w 49716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99" h="100">
                <a:moveTo>
                  <a:pt x="0" y="50"/>
                </a:moveTo>
                <a:cubicBezTo>
                  <a:pt x="0" y="21"/>
                  <a:pt x="21" y="0"/>
                  <a:pt x="50" y="1"/>
                </a:cubicBezTo>
                <a:cubicBezTo>
                  <a:pt x="77" y="1"/>
                  <a:pt x="99" y="23"/>
                  <a:pt x="99" y="51"/>
                </a:cubicBezTo>
                <a:cubicBezTo>
                  <a:pt x="99" y="78"/>
                  <a:pt x="76" y="100"/>
                  <a:pt x="49" y="100"/>
                </a:cubicBezTo>
                <a:cubicBezTo>
                  <a:pt x="22" y="99"/>
                  <a:pt x="0" y="77"/>
                  <a:pt x="0" y="50"/>
                </a:cubicBez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1.11111E-006 L 0 -0.0331 E">
                                      <p:cBhvr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 1.11111E-006 E">
                                      <p:cBhvr>
                                        <p:cTn id="80" dur="5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5032440" y="2365200"/>
            <a:ext cx="1001520" cy="10004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3"/>
          <p:cNvSpPr/>
          <p:nvPr/>
        </p:nvSpPr>
        <p:spPr>
          <a:xfrm>
            <a:off x="6161040" y="2363760"/>
            <a:ext cx="1000080" cy="10000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4"/>
          <p:cNvSpPr/>
          <p:nvPr/>
        </p:nvSpPr>
        <p:spPr>
          <a:xfrm>
            <a:off x="5030640" y="3494160"/>
            <a:ext cx="1000440" cy="10000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5"/>
          <p:cNvSpPr/>
          <p:nvPr/>
        </p:nvSpPr>
        <p:spPr>
          <a:xfrm>
            <a:off x="6161040" y="3494160"/>
            <a:ext cx="1000080" cy="10000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autoRev="1" nodeType="withEffect" fill="remove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89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autoRev="1" nodeType="withEffect" fill="remove" presetClass="emph" presetID="30">
                                  <p:stCondLst>
                                    <p:cond delay="400"/>
                                  </p:stCondLst>
                                  <p:childTnLst>
                                    <p:animClr clrSpc="hsl" dir="cw">
                                      <p:cBhvr>
                                        <p:cTn id="91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autoRev="1" nodeType="withEffect" fill="remove" presetClass="emph" presetID="30">
                                  <p:stCondLst>
                                    <p:cond delay="80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autoRev="1" nodeType="withEffect" fill="remove" presetClass="emph" presetID="30">
                                  <p:stCondLst>
                                    <p:cond delay="1200"/>
                                  </p:stCondLst>
                                  <p:childTnLst>
                                    <p:animClr clrSpc="hsl" dir="cw">
                                      <p:cBhvr>
                                        <p:cTn id="101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4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autoRev="1" nodeType="withEffect" fill="remove" presetClass="emph" presetID="30">
                                  <p:stCondLst>
                                    <p:cond delay="1600"/>
                                  </p:stCondLst>
                                  <p:childTnLst>
                                    <p:animClr clrSpc="hsl" dir="cw">
                                      <p:cBhvr>
                                        <p:cTn id="10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09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autoRev="1" nodeType="withEffect" fill="remove" presetClass="emph" presetID="3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2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autoRev="1" nodeType="withEffect" fill="remove" presetClass="emph" presetID="30">
                                  <p:stCondLst>
                                    <p:cond delay="2400"/>
                                  </p:stCondLst>
                                  <p:childTnLst>
                                    <p:animClr clrSpc="hsl" dir="cw">
                                      <p:cBhvr>
                                        <p:cTn id="116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7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1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autoRev="1" nodeType="withEffect" fill="remove" presetClass="emph" presetID="30">
                                  <p:stCondLst>
                                    <p:cond delay="2800"/>
                                  </p:stCondLst>
                                  <p:childTnLst>
                                    <p:animClr clrSpc="hsl" dir="cw">
                                      <p:cBhvr>
                                        <p:cTn id="121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4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autoRev="1" nodeType="withEffect" fill="remove" presetClass="emph" presetID="30">
                                  <p:stCondLst>
                                    <p:cond delay="320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8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9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autoRev="1" nodeType="withEffect" fill="remove" presetClass="emph" presetID="30">
                                  <p:stCondLst>
                                    <p:cond delay="3600"/>
                                  </p:stCondLst>
                                  <p:childTnLst>
                                    <p:animClr clrSpc="hsl" dir="cw">
                                      <p:cBhvr>
                                        <p:cTn id="131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2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3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autoRev="1" nodeType="withEffect" fill="remove" presetClass="emph" presetID="30">
                                  <p:stCondLst>
                                    <p:cond delay="4000"/>
                                  </p:stCondLst>
                                  <p:childTnLst>
                                    <p:animClr clrSpc="hsl" dir="cw">
                                      <p:cBhvr>
                                        <p:cTn id="136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7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8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autoRev="1" nodeType="withEffect" fill="remove" presetClass="emph" presetID="30">
                                  <p:stCondLst>
                                    <p:cond delay="4400"/>
                                  </p:stCondLst>
                                  <p:childTnLst>
                                    <p:animClr clrSpc="hsl" dir="cw">
                                      <p:cBhvr>
                                        <p:cTn id="141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4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autoRev="1" nodeType="withEffect" fill="remove" presetClass="emph" presetID="30">
                                  <p:stCondLst>
                                    <p:cond delay="4800"/>
                                  </p:stCondLst>
                                  <p:childTnLst>
                                    <p:animClr clrSpc="hsl" dir="cw">
                                      <p:cBhvr>
                                        <p:cTn id="146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7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8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9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autoRev="1" nodeType="withEffect" fill="remove" presetClass="emph" presetID="30">
                                  <p:stCondLst>
                                    <p:cond delay="5200"/>
                                  </p:stCondLst>
                                  <p:childTnLst>
                                    <p:animClr clrSpc="hsl" dir="cw">
                                      <p:cBhvr>
                                        <p:cTn id="151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2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3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4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autoRev="1" nodeType="withEffect" fill="remove" presetClass="emph" presetID="30">
                                  <p:stCondLst>
                                    <p:cond delay="560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7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8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59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autoRev="1" nodeType="withEffect" fill="remove" presetClass="emph" presetID="30">
                                  <p:stCondLst>
                                    <p:cond delay="6000"/>
                                  </p:stCondLst>
                                  <p:childTnLst>
                                    <p:animClr clrSpc="hsl" dir="cw">
                                      <p:cBhvr>
                                        <p:cTn id="161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64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组合 46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79" name="等腰三角形 44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等腰三角形 45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68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82" name="等腰三角形 69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等腰三角形 70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71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85" name="等腰三角形 72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等腰三角形 73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74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88" name="等腰三角形 75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等腰三角形 76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90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91" name="等腰三角形 91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等腰三角形 92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93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94" name="等腰三角形 94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95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96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97" name="等腰三角形 97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98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99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100" name="等腰三角形 100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等腰三角形 101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02"/>
          <p:cNvGrpSpPr/>
          <p:nvPr/>
        </p:nvGrpSpPr>
        <p:grpSpPr>
          <a:xfrm>
            <a:off x="4825080" y="2030400"/>
            <a:ext cx="2468880" cy="2848320"/>
            <a:chOff x="4825080" y="2030400"/>
            <a:chExt cx="2468880" cy="2848320"/>
          </a:xfrm>
        </p:grpSpPr>
        <p:sp>
          <p:nvSpPr>
            <p:cNvPr id="103" name="等腰三角形 103"/>
            <p:cNvSpPr/>
            <p:nvPr/>
          </p:nvSpPr>
          <p:spPr>
            <a:xfrm rot="19800000">
              <a:off x="5653080" y="3371760"/>
              <a:ext cx="1428480" cy="1231920"/>
            </a:xfrm>
            <a:prstGeom prst="triangle">
              <a:avLst>
                <a:gd name="adj" fmla="val 5000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等腰三角形 104"/>
            <p:cNvSpPr/>
            <p:nvPr/>
          </p:nvSpPr>
          <p:spPr>
            <a:xfrm flipV="1" rot="19800000">
              <a:off x="5037120" y="2304720"/>
              <a:ext cx="1428480" cy="1231920"/>
            </a:xfrm>
            <a:prstGeom prst="triangle">
              <a:avLst>
                <a:gd name="adj" fmla="val 50000"/>
              </a:avLst>
            </a:prstGeom>
            <a:solidFill>
              <a:srgbClr val="eb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矩形 108"/>
          <p:cNvSpPr/>
          <p:nvPr/>
        </p:nvSpPr>
        <p:spPr>
          <a:xfrm>
            <a:off x="4641840" y="1973160"/>
            <a:ext cx="1419120" cy="34131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7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040520"/>
          </a:xfrm>
          <a:prstGeom prst="rect">
            <a:avLst/>
          </a:prstGeom>
          <a:ln w="0">
            <a:noFill/>
          </a:ln>
        </p:spPr>
      </p:pic>
      <p:sp>
        <p:nvSpPr>
          <p:cNvPr id="107" name="[动画大师]_Freeform 91"/>
          <p:cNvSpPr/>
          <p:nvPr/>
        </p:nvSpPr>
        <p:spPr>
          <a:xfrm>
            <a:off x="4654440" y="2587680"/>
            <a:ext cx="2882880" cy="1861920"/>
          </a:xfrm>
          <a:custGeom>
            <a:avLst/>
            <a:gdLst>
              <a:gd name="textAreaLeft" fmla="*/ 0 w 2882880"/>
              <a:gd name="textAreaRight" fmla="*/ 2883240 w 2882880"/>
              <a:gd name="textAreaTop" fmla="*/ 0 h 1861920"/>
              <a:gd name="textAreaBottom" fmla="*/ 1862280 h 1861920"/>
            </a:gdLst>
            <a:ahLst/>
            <a:rect l="textAreaLeft" t="textAreaTop" r="textAreaRight" b="textAreaBottom"/>
            <a:pathLst>
              <a:path w="87" h="56">
                <a:moveTo>
                  <a:pt x="69" y="7"/>
                </a:moveTo>
                <a:cubicBezTo>
                  <a:pt x="63" y="0"/>
                  <a:pt x="51" y="3"/>
                  <a:pt x="43" y="13"/>
                </a:cubicBezTo>
                <a:cubicBezTo>
                  <a:pt x="34" y="2"/>
                  <a:pt x="23" y="0"/>
                  <a:pt x="17" y="7"/>
                </a:cubicBezTo>
                <a:cubicBezTo>
                  <a:pt x="0" y="25"/>
                  <a:pt x="36" y="52"/>
                  <a:pt x="43" y="55"/>
                </a:cubicBezTo>
                <a:cubicBezTo>
                  <a:pt x="43" y="56"/>
                  <a:pt x="43" y="56"/>
                  <a:pt x="43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43" y="55"/>
                  <a:pt x="43" y="55"/>
                  <a:pt x="43" y="56"/>
                </a:cubicBezTo>
                <a:cubicBezTo>
                  <a:pt x="43" y="55"/>
                  <a:pt x="43" y="55"/>
                  <a:pt x="43" y="55"/>
                </a:cubicBezTo>
                <a:cubicBezTo>
                  <a:pt x="50" y="52"/>
                  <a:pt x="87" y="25"/>
                  <a:pt x="69" y="7"/>
                </a:cubicBezTo>
              </a:path>
            </a:pathLst>
          </a:custGeom>
          <a:solidFill>
            <a:srgbClr val="eb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170" dur="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800000">
                                      <p:cBhvr>
                                        <p:cTn id="172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174" dur="6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9600000">
                                      <p:cBhvr>
                                        <p:cTn id="17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0">
                                      <p:cBhvr>
                                        <p:cTn id="1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0">
                                      <p:cBhvr>
                                        <p:cTn id="180" dur="1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6800000">
                                      <p:cBhvr>
                                        <p:cTn id="182" dur="14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9200000">
                                      <p:cBhvr>
                                        <p:cTn id="184" dur="16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720000">
                                      <p:cBhvr>
                                        <p:cTn id="186" dur="1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" dur="238" fill="hold"/>
                                        <p:tgtEl>
                                          <p:spTgt spid="1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3" autoRev="1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194" dur="240" fill="hold"/>
                                        <p:tgtEl>
                                          <p:spTgt spid="1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5" autoRev="1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196" dur="240" fill="hold"/>
                                        <p:tgtEl>
                                          <p:spTgt spid="1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97" autoRev="1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198" dur="240" fill="hold"/>
                                        <p:tgtEl>
                                          <p:spTgt spid="10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c3c"/>
            </a:gs>
            <a:gs pos="100000">
              <a:srgbClr val="ff2b6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椭圆 2"/>
          <p:cNvSpPr/>
          <p:nvPr/>
        </p:nvSpPr>
        <p:spPr>
          <a:xfrm>
            <a:off x="4952880" y="2286000"/>
            <a:ext cx="2286000" cy="2286000"/>
          </a:xfrm>
          <a:prstGeom prst="ellipse">
            <a:avLst/>
          </a:prstGeom>
          <a:noFill/>
          <a:ln cap="rnd" w="5724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3"/>
          <p:cNvSpPr/>
          <p:nvPr/>
        </p:nvSpPr>
        <p:spPr>
          <a:xfrm>
            <a:off x="5680080" y="2795760"/>
            <a:ext cx="384120" cy="382320"/>
          </a:xfrm>
          <a:prstGeom prst="ellipse">
            <a:avLst/>
          </a:prstGeom>
          <a:solidFill>
            <a:srgbClr val="ed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4"/>
          <p:cNvSpPr/>
          <p:nvPr/>
        </p:nvSpPr>
        <p:spPr>
          <a:xfrm>
            <a:off x="6127920" y="2795760"/>
            <a:ext cx="384120" cy="382320"/>
          </a:xfrm>
          <a:prstGeom prst="ellipse">
            <a:avLst/>
          </a:prstGeom>
          <a:solidFill>
            <a:srgbClr val="ed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1"/>
          <p:cNvSpPr/>
          <p:nvPr/>
        </p:nvSpPr>
        <p:spPr>
          <a:xfrm>
            <a:off x="5680080" y="3236760"/>
            <a:ext cx="384120" cy="384480"/>
          </a:xfrm>
          <a:prstGeom prst="ellipse">
            <a:avLst/>
          </a:prstGeom>
          <a:solidFill>
            <a:srgbClr val="ed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椭圆 12"/>
          <p:cNvSpPr/>
          <p:nvPr/>
        </p:nvSpPr>
        <p:spPr>
          <a:xfrm>
            <a:off x="6127920" y="3236760"/>
            <a:ext cx="384120" cy="384480"/>
          </a:xfrm>
          <a:prstGeom prst="ellipse">
            <a:avLst/>
          </a:prstGeom>
          <a:solidFill>
            <a:srgbClr val="ed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4"/>
          <p:cNvSpPr/>
          <p:nvPr/>
        </p:nvSpPr>
        <p:spPr>
          <a:xfrm>
            <a:off x="5680080" y="3679920"/>
            <a:ext cx="384120" cy="384120"/>
          </a:xfrm>
          <a:prstGeom prst="ellipse">
            <a:avLst/>
          </a:prstGeom>
          <a:solidFill>
            <a:srgbClr val="ed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5"/>
          <p:cNvSpPr/>
          <p:nvPr/>
        </p:nvSpPr>
        <p:spPr>
          <a:xfrm>
            <a:off x="6127920" y="3679920"/>
            <a:ext cx="384120" cy="384120"/>
          </a:xfrm>
          <a:prstGeom prst="ellipse">
            <a:avLst/>
          </a:prstGeom>
          <a:solidFill>
            <a:srgbClr val="ed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6"/>
          <p:cNvSpPr/>
          <p:nvPr/>
        </p:nvSpPr>
        <p:spPr>
          <a:xfrm>
            <a:off x="4832280" y="2165400"/>
            <a:ext cx="2527200" cy="2527200"/>
          </a:xfrm>
          <a:prstGeom prst="ellipse">
            <a:avLst/>
          </a:prstGeom>
          <a:noFill/>
          <a:ln cap="rnd" w="5724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椭圆 43"/>
          <p:cNvSpPr/>
          <p:nvPr/>
        </p:nvSpPr>
        <p:spPr>
          <a:xfrm>
            <a:off x="5680080" y="2795760"/>
            <a:ext cx="3841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44"/>
          <p:cNvSpPr/>
          <p:nvPr/>
        </p:nvSpPr>
        <p:spPr>
          <a:xfrm>
            <a:off x="6127920" y="2795760"/>
            <a:ext cx="3841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41"/>
          <p:cNvSpPr/>
          <p:nvPr/>
        </p:nvSpPr>
        <p:spPr>
          <a:xfrm>
            <a:off x="5680080" y="3236760"/>
            <a:ext cx="38412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42"/>
          <p:cNvSpPr/>
          <p:nvPr/>
        </p:nvSpPr>
        <p:spPr>
          <a:xfrm>
            <a:off x="6127920" y="3236760"/>
            <a:ext cx="38412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9"/>
          <p:cNvSpPr/>
          <p:nvPr/>
        </p:nvSpPr>
        <p:spPr>
          <a:xfrm>
            <a:off x="5680080" y="3679920"/>
            <a:ext cx="384120" cy="38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50"/>
          <p:cNvSpPr/>
          <p:nvPr/>
        </p:nvSpPr>
        <p:spPr>
          <a:xfrm>
            <a:off x="5680080" y="2795760"/>
            <a:ext cx="3841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51"/>
          <p:cNvSpPr/>
          <p:nvPr/>
        </p:nvSpPr>
        <p:spPr>
          <a:xfrm>
            <a:off x="6127920" y="2795760"/>
            <a:ext cx="384120" cy="382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52"/>
          <p:cNvSpPr/>
          <p:nvPr/>
        </p:nvSpPr>
        <p:spPr>
          <a:xfrm>
            <a:off x="5680080" y="3236760"/>
            <a:ext cx="38412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53"/>
          <p:cNvSpPr/>
          <p:nvPr/>
        </p:nvSpPr>
        <p:spPr>
          <a:xfrm>
            <a:off x="6127920" y="3236760"/>
            <a:ext cx="38412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54"/>
          <p:cNvSpPr/>
          <p:nvPr/>
        </p:nvSpPr>
        <p:spPr>
          <a:xfrm>
            <a:off x="5680080" y="3679920"/>
            <a:ext cx="384120" cy="384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5"/>
          <p:cNvSpPr/>
          <p:nvPr/>
        </p:nvSpPr>
        <p:spPr>
          <a:xfrm>
            <a:off x="8381880" y="-933480"/>
            <a:ext cx="723960" cy="6858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1.85185E-006 L 0.03646 -1.85185E-006 E">
                                      <p:cBhvr>
                                        <p:cTn id="204" dur="3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6.25E-007 0 L -6.25E-007 0.06435 E">
                                      <p:cBhvr>
                                        <p:cTn id="206" dur="3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6.25E-007 3.33333E-006 L -6.25E-007 0.06435 E">
                                      <p:cBhvr>
                                        <p:cTn id="208" dur="3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63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6.25E-007 3.33333E-006 L -0.03672 3.33333E-006 E">
                                      <p:cBhvr>
                                        <p:cTn id="210" dur="3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6.25E-007 0 L 6.25E-007 -0.06458 E">
                                      <p:cBhvr>
                                        <p:cTn id="212" dur="3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64">
                                  <p:stCondLst>
                                    <p:cond delay="1250"/>
                                  </p:stCondLst>
                                  <p:childTnLst>
                                    <p:animMotion origin="layout" path="M 0.03646 -1.85185E-006 L 0.03672 -0.06435 E">
                                      <p:cBhvr>
                                        <p:cTn id="214" dur="3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-6.25E-007 -1.85185E-006 L 0.03646 -1.85185E-006 E">
                                      <p:cBhvr>
                                        <p:cTn id="236" dur="3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1850"/>
                                  </p:stCondLst>
                                  <p:childTnLst>
                                    <p:animMotion origin="layout" path="M -6.25E-007 0 L -6.25E-007 0.06435 E">
                                      <p:cBhvr>
                                        <p:cTn id="238" dur="3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6.25E-007 3.33333E-006 L -6.25E-007 0.06435 E">
                                      <p:cBhvr>
                                        <p:cTn id="240" dur="3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63">
                                  <p:stCondLst>
                                    <p:cond delay="2350"/>
                                  </p:stCondLst>
                                  <p:childTnLst>
                                    <p:animMotion origin="layout" path="M 6.25E-007 3.33333E-006 L -0.03672 3.33333E-006 E">
                                      <p:cBhvr>
                                        <p:cTn id="242" dur="3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6.25E-007 0 L 6.25E-007 -0.06458 E">
                                      <p:cBhvr>
                                        <p:cTn id="244" dur="3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4">
                                  <p:stCondLst>
                                    <p:cond delay="2850"/>
                                  </p:stCondLst>
                                  <p:childTnLst>
                                    <p:animMotion origin="layout" path="M 0.03646 -1.85185E-006 L 0.03672 -0.06435 E">
                                      <p:cBhvr>
                                        <p:cTn id="246" dur="3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41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组合 9"/>
          <p:cNvGrpSpPr/>
          <p:nvPr/>
        </p:nvGrpSpPr>
        <p:grpSpPr>
          <a:xfrm>
            <a:off x="5184720" y="3236760"/>
            <a:ext cx="1824120" cy="384480"/>
            <a:chOff x="5184720" y="3236760"/>
            <a:chExt cx="1824120" cy="384480"/>
          </a:xfrm>
        </p:grpSpPr>
        <p:sp>
          <p:nvSpPr>
            <p:cNvPr id="128" name="椭圆 2"/>
            <p:cNvSpPr/>
            <p:nvPr/>
          </p:nvSpPr>
          <p:spPr>
            <a:xfrm>
              <a:off x="5184720" y="3236760"/>
              <a:ext cx="383400" cy="384480"/>
            </a:xfrm>
            <a:prstGeom prst="ellipse">
              <a:avLst/>
            </a:prstGeom>
            <a:solidFill>
              <a:srgbClr val="273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椭圆 4"/>
            <p:cNvSpPr/>
            <p:nvPr/>
          </p:nvSpPr>
          <p:spPr>
            <a:xfrm>
              <a:off x="5664960" y="3236760"/>
              <a:ext cx="383400" cy="384480"/>
            </a:xfrm>
            <a:prstGeom prst="ellipse">
              <a:avLst/>
            </a:prstGeom>
            <a:solidFill>
              <a:srgbClr val="273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椭圆 7"/>
            <p:cNvSpPr/>
            <p:nvPr/>
          </p:nvSpPr>
          <p:spPr>
            <a:xfrm>
              <a:off x="6145200" y="3236760"/>
              <a:ext cx="383400" cy="384480"/>
            </a:xfrm>
            <a:prstGeom prst="ellipse">
              <a:avLst/>
            </a:prstGeom>
            <a:solidFill>
              <a:srgbClr val="273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8"/>
            <p:cNvSpPr/>
            <p:nvPr/>
          </p:nvSpPr>
          <p:spPr>
            <a:xfrm>
              <a:off x="6625440" y="3236760"/>
              <a:ext cx="383400" cy="384480"/>
            </a:xfrm>
            <a:prstGeom prst="ellipse">
              <a:avLst/>
            </a:prstGeom>
            <a:solidFill>
              <a:srgbClr val="273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椭圆 11"/>
          <p:cNvSpPr/>
          <p:nvPr/>
        </p:nvSpPr>
        <p:spPr>
          <a:xfrm>
            <a:off x="5184720" y="3236760"/>
            <a:ext cx="38268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2"/>
          <p:cNvSpPr/>
          <p:nvPr/>
        </p:nvSpPr>
        <p:spPr>
          <a:xfrm>
            <a:off x="5664240" y="3236760"/>
            <a:ext cx="38412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13"/>
          <p:cNvSpPr/>
          <p:nvPr/>
        </p:nvSpPr>
        <p:spPr>
          <a:xfrm>
            <a:off x="6143760" y="3236760"/>
            <a:ext cx="38412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14"/>
          <p:cNvSpPr/>
          <p:nvPr/>
        </p:nvSpPr>
        <p:spPr>
          <a:xfrm>
            <a:off x="6624720" y="3236760"/>
            <a:ext cx="384120" cy="384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autoRev="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58333E-006 0 L 4.58333E-006 -0.05741 E">
                                      <p:cBhvr>
                                        <p:cTn id="252" dur="25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autoRev="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58333E-006 0 L 4.58333E-006 -0.05741 E">
                                      <p:cBhvr>
                                        <p:cTn id="254" dur="25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autoRev="1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4.58333E-006 0 L 4.58333E-006 -0.05741 E">
                                      <p:cBhvr>
                                        <p:cTn id="256" dur="25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autoRev="1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4.58333E-006 0 L 4.58333E-006 -0.05741 E">
                                      <p:cBhvr>
                                        <p:cTn id="258" dur="25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4"/>
          <p:cNvGrpSpPr/>
          <p:nvPr/>
        </p:nvGrpSpPr>
        <p:grpSpPr>
          <a:xfrm>
            <a:off x="4943520" y="2273400"/>
            <a:ext cx="2305080" cy="2311200"/>
            <a:chOff x="4943520" y="2273400"/>
            <a:chExt cx="2305080" cy="2311200"/>
          </a:xfrm>
        </p:grpSpPr>
        <p:sp>
          <p:nvSpPr>
            <p:cNvPr id="138" name="矩形 3"/>
            <p:cNvSpPr/>
            <p:nvPr/>
          </p:nvSpPr>
          <p:spPr>
            <a:xfrm>
              <a:off x="4943520" y="2278080"/>
              <a:ext cx="2305080" cy="23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新月形 2"/>
            <p:cNvSpPr/>
            <p:nvPr/>
          </p:nvSpPr>
          <p:spPr>
            <a:xfrm>
              <a:off x="4952880" y="2273400"/>
              <a:ext cx="1143000" cy="2287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240" y="516"/>
                    <a:pt x="2879" y="5080"/>
                    <a:pt x="2879" y="10800"/>
                  </a:cubicBezTo>
                  <a:cubicBezTo>
                    <a:pt x="2879" y="16520"/>
                    <a:pt x="12240" y="2108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 repeatCount="4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任意多边形 43"/>
          <p:cNvSpPr/>
          <p:nvPr/>
        </p:nvSpPr>
        <p:spPr>
          <a:xfrm>
            <a:off x="5378400" y="3184560"/>
            <a:ext cx="1679760" cy="379440"/>
          </a:xfrm>
          <a:custGeom>
            <a:avLst/>
            <a:gdLst>
              <a:gd name="textAreaLeft" fmla="*/ 0 w 1679760"/>
              <a:gd name="textAreaRight" fmla="*/ 1680120 w 167976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1633173" h="368300">
                <a:moveTo>
                  <a:pt x="0" y="0"/>
                </a:moveTo>
                <a:lnTo>
                  <a:pt x="1449023" y="0"/>
                </a:lnTo>
                <a:cubicBezTo>
                  <a:pt x="1550726" y="0"/>
                  <a:pt x="1633173" y="82447"/>
                  <a:pt x="1633173" y="184150"/>
                </a:cubicBezTo>
                <a:cubicBezTo>
                  <a:pt x="1633173" y="285853"/>
                  <a:pt x="1550726" y="368300"/>
                  <a:pt x="1449023" y="368300"/>
                </a:cubicBezTo>
                <a:lnTo>
                  <a:pt x="805" y="368300"/>
                </a:lnTo>
                <a:lnTo>
                  <a:pt x="5367" y="362770"/>
                </a:lnTo>
                <a:cubicBezTo>
                  <a:pt x="39720" y="311922"/>
                  <a:pt x="59779" y="250622"/>
                  <a:pt x="59779" y="184638"/>
                </a:cubicBezTo>
                <a:cubicBezTo>
                  <a:pt x="59779" y="118654"/>
                  <a:pt x="39720" y="57355"/>
                  <a:pt x="5367" y="650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2" hidden="1"/>
          <p:cNvSpPr/>
          <p:nvPr/>
        </p:nvSpPr>
        <p:spPr>
          <a:xfrm>
            <a:off x="4773600" y="2664000"/>
            <a:ext cx="2136960" cy="428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41"/>
          <p:cNvGrpSpPr/>
          <p:nvPr/>
        </p:nvGrpSpPr>
        <p:grpSpPr>
          <a:xfrm>
            <a:off x="4757760" y="3054240"/>
            <a:ext cx="2451240" cy="638280"/>
            <a:chOff x="4757760" y="3054240"/>
            <a:chExt cx="2451240" cy="638280"/>
          </a:xfrm>
        </p:grpSpPr>
        <p:sp>
          <p:nvSpPr>
            <p:cNvPr id="143" name="任意多边形 40"/>
            <p:cNvSpPr/>
            <p:nvPr/>
          </p:nvSpPr>
          <p:spPr>
            <a:xfrm>
              <a:off x="4757760" y="3054240"/>
              <a:ext cx="2451240" cy="638280"/>
            </a:xfrm>
            <a:custGeom>
              <a:avLst/>
              <a:gdLst>
                <a:gd name="textAreaLeft" fmla="*/ 0 w 2451240"/>
                <a:gd name="textAreaRight" fmla="*/ 2451600 w 245124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451101" h="638176">
                  <a:moveTo>
                    <a:pt x="0" y="319087"/>
                  </a:moveTo>
                  <a:lnTo>
                    <a:pt x="0" y="319088"/>
                  </a:lnTo>
                  <a:lnTo>
                    <a:pt x="0" y="319088"/>
                  </a:lnTo>
                  <a:lnTo>
                    <a:pt x="0" y="319087"/>
                  </a:lnTo>
                  <a:close/>
                  <a:moveTo>
                    <a:pt x="647271" y="134937"/>
                  </a:moveTo>
                  <a:lnTo>
                    <a:pt x="652638" y="141443"/>
                  </a:lnTo>
                  <a:cubicBezTo>
                    <a:pt x="686991" y="192292"/>
                    <a:pt x="707050" y="253591"/>
                    <a:pt x="707050" y="319575"/>
                  </a:cubicBezTo>
                  <a:cubicBezTo>
                    <a:pt x="707050" y="385559"/>
                    <a:pt x="686991" y="446859"/>
                    <a:pt x="652638" y="497707"/>
                  </a:cubicBezTo>
                  <a:lnTo>
                    <a:pt x="648076" y="503237"/>
                  </a:lnTo>
                  <a:lnTo>
                    <a:pt x="2096294" y="503237"/>
                  </a:lnTo>
                  <a:cubicBezTo>
                    <a:pt x="2197997" y="503237"/>
                    <a:pt x="2280444" y="420790"/>
                    <a:pt x="2280444" y="319087"/>
                  </a:cubicBezTo>
                  <a:cubicBezTo>
                    <a:pt x="2280444" y="217384"/>
                    <a:pt x="2197997" y="134937"/>
                    <a:pt x="2096294" y="134937"/>
                  </a:cubicBezTo>
                  <a:lnTo>
                    <a:pt x="647271" y="134937"/>
                  </a:lnTo>
                  <a:close/>
                  <a:moveTo>
                    <a:pt x="319088" y="0"/>
                  </a:moveTo>
                  <a:lnTo>
                    <a:pt x="2132013" y="0"/>
                  </a:lnTo>
                  <a:cubicBezTo>
                    <a:pt x="2308240" y="0"/>
                    <a:pt x="2451101" y="142861"/>
                    <a:pt x="2451101" y="319088"/>
                  </a:cubicBezTo>
                  <a:lnTo>
                    <a:pt x="2451100" y="319088"/>
                  </a:lnTo>
                  <a:cubicBezTo>
                    <a:pt x="2451100" y="495315"/>
                    <a:pt x="2308239" y="638176"/>
                    <a:pt x="2132012" y="638176"/>
                  </a:cubicBezTo>
                  <a:lnTo>
                    <a:pt x="319088" y="638175"/>
                  </a:lnTo>
                  <a:cubicBezTo>
                    <a:pt x="186918" y="638175"/>
                    <a:pt x="73516" y="557816"/>
                    <a:pt x="25076" y="443290"/>
                  </a:cubicBezTo>
                  <a:lnTo>
                    <a:pt x="0" y="319088"/>
                  </a:lnTo>
                  <a:lnTo>
                    <a:pt x="25076" y="194885"/>
                  </a:lnTo>
                  <a:cubicBezTo>
                    <a:pt x="73516" y="80359"/>
                    <a:pt x="186918" y="0"/>
                    <a:pt x="319088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圆角矩形 2"/>
            <p:cNvSpPr/>
            <p:nvPr/>
          </p:nvSpPr>
          <p:spPr>
            <a:xfrm>
              <a:off x="4757760" y="3054240"/>
              <a:ext cx="2451240" cy="638280"/>
            </a:xfrm>
            <a:prstGeom prst="roundRect">
              <a:avLst>
                <a:gd name="adj" fmla="val 50000"/>
              </a:avLst>
            </a:prstGeom>
            <a:noFill/>
            <a:ln cap="rnd" w="442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4"/>
            <p:cNvSpPr/>
            <p:nvPr/>
          </p:nvSpPr>
          <p:spPr>
            <a:xfrm>
              <a:off x="4757760" y="3054960"/>
              <a:ext cx="637200" cy="637560"/>
            </a:xfrm>
            <a:prstGeom prst="ellipse">
              <a:avLst/>
            </a:prstGeom>
            <a:noFill/>
            <a:ln cap="rnd" w="442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26"/>
          <p:cNvGrpSpPr/>
          <p:nvPr/>
        </p:nvGrpSpPr>
        <p:grpSpPr>
          <a:xfrm>
            <a:off x="4867200" y="3165480"/>
            <a:ext cx="417600" cy="417600"/>
            <a:chOff x="4867200" y="3165480"/>
            <a:chExt cx="417600" cy="417600"/>
          </a:xfrm>
        </p:grpSpPr>
        <p:sp>
          <p:nvSpPr>
            <p:cNvPr id="147" name="椭圆 10"/>
            <p:cNvSpPr/>
            <p:nvPr/>
          </p:nvSpPr>
          <p:spPr>
            <a:xfrm>
              <a:off x="4867200" y="3165480"/>
              <a:ext cx="417600" cy="417600"/>
            </a:xfrm>
            <a:prstGeom prst="ellipse">
              <a:avLst/>
            </a:prstGeom>
            <a:solidFill>
              <a:srgbClr val="000000"/>
            </a:solidFill>
            <a:ln cap="rnd" w="442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组合 25"/>
            <p:cNvGrpSpPr/>
            <p:nvPr/>
          </p:nvGrpSpPr>
          <p:grpSpPr>
            <a:xfrm>
              <a:off x="5002560" y="3180240"/>
              <a:ext cx="146520" cy="388080"/>
              <a:chOff x="5002560" y="3180240"/>
              <a:chExt cx="146520" cy="388080"/>
            </a:xfrm>
          </p:grpSpPr>
          <p:sp>
            <p:nvSpPr>
              <p:cNvPr id="149" name="任意多边形 22"/>
              <p:cNvSpPr/>
              <p:nvPr/>
            </p:nvSpPr>
            <p:spPr>
              <a:xfrm>
                <a:off x="5002560" y="3180240"/>
                <a:ext cx="146520" cy="14256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93593" h="229943">
                    <a:moveTo>
                      <a:pt x="96796" y="0"/>
                    </a:moveTo>
                    <a:cubicBezTo>
                      <a:pt x="125577" y="0"/>
                      <a:pt x="152996" y="6434"/>
                      <a:pt x="177935" y="18070"/>
                    </a:cubicBezTo>
                    <a:lnTo>
                      <a:pt x="193593" y="29717"/>
                    </a:lnTo>
                    <a:lnTo>
                      <a:pt x="151565" y="229943"/>
                    </a:lnTo>
                    <a:lnTo>
                      <a:pt x="142658" y="229943"/>
                    </a:lnTo>
                    <a:lnTo>
                      <a:pt x="129482" y="221059"/>
                    </a:lnTo>
                    <a:cubicBezTo>
                      <a:pt x="119436" y="216810"/>
                      <a:pt x="108390" y="214460"/>
                      <a:pt x="96796" y="214460"/>
                    </a:cubicBezTo>
                    <a:cubicBezTo>
                      <a:pt x="85202" y="214460"/>
                      <a:pt x="74157" y="216810"/>
                      <a:pt x="64111" y="221059"/>
                    </a:cubicBezTo>
                    <a:lnTo>
                      <a:pt x="50934" y="229943"/>
                    </a:lnTo>
                    <a:lnTo>
                      <a:pt x="42028" y="229943"/>
                    </a:lnTo>
                    <a:lnTo>
                      <a:pt x="0" y="29716"/>
                    </a:lnTo>
                    <a:lnTo>
                      <a:pt x="15658" y="18070"/>
                    </a:lnTo>
                    <a:cubicBezTo>
                      <a:pt x="40597" y="6434"/>
                      <a:pt x="68015" y="0"/>
                      <a:pt x="967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任意多边形 23"/>
              <p:cNvSpPr/>
              <p:nvPr/>
            </p:nvSpPr>
            <p:spPr>
              <a:xfrm flipV="1">
                <a:off x="5002560" y="3425760"/>
                <a:ext cx="146520" cy="14256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193593" h="229943">
                    <a:moveTo>
                      <a:pt x="96796" y="0"/>
                    </a:moveTo>
                    <a:cubicBezTo>
                      <a:pt x="125577" y="0"/>
                      <a:pt x="152996" y="6434"/>
                      <a:pt x="177935" y="18070"/>
                    </a:cubicBezTo>
                    <a:lnTo>
                      <a:pt x="193593" y="29717"/>
                    </a:lnTo>
                    <a:lnTo>
                      <a:pt x="151565" y="229943"/>
                    </a:lnTo>
                    <a:lnTo>
                      <a:pt x="142658" y="229943"/>
                    </a:lnTo>
                    <a:lnTo>
                      <a:pt x="129482" y="221059"/>
                    </a:lnTo>
                    <a:cubicBezTo>
                      <a:pt x="119436" y="216810"/>
                      <a:pt x="108390" y="214460"/>
                      <a:pt x="96796" y="214460"/>
                    </a:cubicBezTo>
                    <a:cubicBezTo>
                      <a:pt x="85202" y="214460"/>
                      <a:pt x="74157" y="216810"/>
                      <a:pt x="64111" y="221059"/>
                    </a:cubicBezTo>
                    <a:lnTo>
                      <a:pt x="50934" y="229943"/>
                    </a:lnTo>
                    <a:lnTo>
                      <a:pt x="42028" y="229943"/>
                    </a:lnTo>
                    <a:lnTo>
                      <a:pt x="0" y="29716"/>
                    </a:lnTo>
                    <a:lnTo>
                      <a:pt x="15658" y="18070"/>
                    </a:lnTo>
                    <a:cubicBezTo>
                      <a:pt x="40597" y="6434"/>
                      <a:pt x="68015" y="0"/>
                      <a:pt x="96796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椭圆 24"/>
              <p:cNvSpPr/>
              <p:nvPr/>
            </p:nvSpPr>
            <p:spPr>
              <a:xfrm>
                <a:off x="5034960" y="3333240"/>
                <a:ext cx="81720" cy="81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a1a1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组合 272"/>
          <p:cNvGrpSpPr/>
          <p:nvPr/>
        </p:nvGrpSpPr>
        <p:grpSpPr>
          <a:xfrm>
            <a:off x="5483160" y="2816280"/>
            <a:ext cx="1225440" cy="1225440"/>
            <a:chOff x="5483160" y="2816280"/>
            <a:chExt cx="1225440" cy="1225440"/>
          </a:xfrm>
        </p:grpSpPr>
        <p:sp>
          <p:nvSpPr>
            <p:cNvPr id="153" name="任意多边形 273"/>
            <p:cNvSpPr/>
            <p:nvPr/>
          </p:nvSpPr>
          <p:spPr>
            <a:xfrm flipH="1">
              <a:off x="5798160" y="281628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0" h="286026">
                  <a:moveTo>
                    <a:pt x="0" y="0"/>
                  </a:moveTo>
                  <a:lnTo>
                    <a:pt x="114573" y="11550"/>
                  </a:lnTo>
                  <a:cubicBezTo>
                    <a:pt x="154488" y="19718"/>
                    <a:pt x="192990" y="31764"/>
                    <a:pt x="229668" y="47278"/>
                  </a:cubicBezTo>
                  <a:lnTo>
                    <a:pt x="288390" y="79151"/>
                  </a:lnTo>
                  <a:lnTo>
                    <a:pt x="168950" y="286026"/>
                  </a:lnTo>
                  <a:lnTo>
                    <a:pt x="136296" y="268302"/>
                  </a:lnTo>
                  <a:cubicBezTo>
                    <a:pt x="113967" y="258858"/>
                    <a:pt x="90528" y="251524"/>
                    <a:pt x="66228" y="246552"/>
                  </a:cubicBezTo>
                  <a:lnTo>
                    <a:pt x="0" y="2398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274"/>
            <p:cNvSpPr/>
            <p:nvPr/>
          </p:nvSpPr>
          <p:spPr>
            <a:xfrm flipH="1">
              <a:off x="6104880" y="281628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5">
                  <a:moveTo>
                    <a:pt x="288389" y="0"/>
                  </a:moveTo>
                  <a:lnTo>
                    <a:pt x="288389" y="239874"/>
                  </a:lnTo>
                  <a:lnTo>
                    <a:pt x="222161" y="246551"/>
                  </a:lnTo>
                  <a:cubicBezTo>
                    <a:pt x="197862" y="251523"/>
                    <a:pt x="174422" y="258857"/>
                    <a:pt x="152093" y="268301"/>
                  </a:cubicBezTo>
                  <a:lnTo>
                    <a:pt x="119439" y="286025"/>
                  </a:lnTo>
                  <a:lnTo>
                    <a:pt x="0" y="79151"/>
                  </a:lnTo>
                  <a:lnTo>
                    <a:pt x="58724" y="47277"/>
                  </a:lnTo>
                  <a:cubicBezTo>
                    <a:pt x="95403" y="31763"/>
                    <a:pt x="133905" y="19717"/>
                    <a:pt x="173819" y="11549"/>
                  </a:cubicBezTo>
                  <a:lnTo>
                    <a:pt x="288389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275"/>
            <p:cNvSpPr/>
            <p:nvPr/>
          </p:nvSpPr>
          <p:spPr>
            <a:xfrm flipH="1">
              <a:off x="5570640" y="290376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0" h="330730">
                  <a:moveTo>
                    <a:pt x="119440" y="0"/>
                  </a:moveTo>
                  <a:lnTo>
                    <a:pt x="149046" y="16070"/>
                  </a:lnTo>
                  <a:cubicBezTo>
                    <a:pt x="214286" y="60145"/>
                    <a:pt x="270587" y="116447"/>
                    <a:pt x="314662" y="181686"/>
                  </a:cubicBezTo>
                  <a:lnTo>
                    <a:pt x="330730" y="211289"/>
                  </a:lnTo>
                  <a:lnTo>
                    <a:pt x="123853" y="330730"/>
                  </a:lnTo>
                  <a:lnTo>
                    <a:pt x="115750" y="315802"/>
                  </a:lnTo>
                  <a:cubicBezTo>
                    <a:pt x="88919" y="276085"/>
                    <a:pt x="54643" y="241810"/>
                    <a:pt x="14926" y="214978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276"/>
            <p:cNvSpPr/>
            <p:nvPr/>
          </p:nvSpPr>
          <p:spPr>
            <a:xfrm flipH="1">
              <a:off x="6289920" y="2903760"/>
              <a:ext cx="330840" cy="330840"/>
            </a:xfrm>
            <a:custGeom>
              <a:avLst/>
              <a:gdLst>
                <a:gd name="textAreaLeft" fmla="*/ 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7" h="330728">
                  <a:moveTo>
                    <a:pt x="211288" y="0"/>
                  </a:moveTo>
                  <a:lnTo>
                    <a:pt x="330727" y="206874"/>
                  </a:lnTo>
                  <a:lnTo>
                    <a:pt x="315800" y="214976"/>
                  </a:lnTo>
                  <a:cubicBezTo>
                    <a:pt x="276083" y="241808"/>
                    <a:pt x="241808" y="276083"/>
                    <a:pt x="214976" y="315800"/>
                  </a:cubicBezTo>
                  <a:lnTo>
                    <a:pt x="206874" y="330728"/>
                  </a:lnTo>
                  <a:lnTo>
                    <a:pt x="0" y="211289"/>
                  </a:lnTo>
                  <a:lnTo>
                    <a:pt x="16069" y="181684"/>
                  </a:lnTo>
                  <a:cubicBezTo>
                    <a:pt x="60144" y="116445"/>
                    <a:pt x="116446" y="60143"/>
                    <a:pt x="181685" y="16068"/>
                  </a:cubicBezTo>
                  <a:lnTo>
                    <a:pt x="211288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277"/>
            <p:cNvSpPr/>
            <p:nvPr/>
          </p:nvSpPr>
          <p:spPr>
            <a:xfrm flipH="1">
              <a:off x="5482800" y="313128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89">
                  <a:moveTo>
                    <a:pt x="206876" y="0"/>
                  </a:moveTo>
                  <a:lnTo>
                    <a:pt x="238751" y="58725"/>
                  </a:lnTo>
                  <a:cubicBezTo>
                    <a:pt x="254265" y="95404"/>
                    <a:pt x="266311" y="133906"/>
                    <a:pt x="274479" y="173820"/>
                  </a:cubicBezTo>
                  <a:lnTo>
                    <a:pt x="286029" y="288389"/>
                  </a:lnTo>
                  <a:lnTo>
                    <a:pt x="46151" y="288389"/>
                  </a:lnTo>
                  <a:lnTo>
                    <a:pt x="39474" y="222161"/>
                  </a:lnTo>
                  <a:cubicBezTo>
                    <a:pt x="34502" y="197861"/>
                    <a:pt x="27169" y="174422"/>
                    <a:pt x="17724" y="152093"/>
                  </a:cubicBezTo>
                  <a:lnTo>
                    <a:pt x="0" y="119440"/>
                  </a:lnTo>
                  <a:lnTo>
                    <a:pt x="20687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278"/>
            <p:cNvSpPr/>
            <p:nvPr/>
          </p:nvSpPr>
          <p:spPr>
            <a:xfrm flipH="1">
              <a:off x="6422040" y="343800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6" h="288390">
                  <a:moveTo>
                    <a:pt x="0" y="0"/>
                  </a:moveTo>
                  <a:lnTo>
                    <a:pt x="239875" y="0"/>
                  </a:lnTo>
                  <a:lnTo>
                    <a:pt x="246552" y="66228"/>
                  </a:lnTo>
                  <a:cubicBezTo>
                    <a:pt x="251524" y="90528"/>
                    <a:pt x="258858" y="113967"/>
                    <a:pt x="268302" y="136296"/>
                  </a:cubicBezTo>
                  <a:lnTo>
                    <a:pt x="286026" y="168950"/>
                  </a:lnTo>
                  <a:lnTo>
                    <a:pt x="79150" y="288390"/>
                  </a:lnTo>
                  <a:lnTo>
                    <a:pt x="47278" y="229669"/>
                  </a:lnTo>
                  <a:cubicBezTo>
                    <a:pt x="31764" y="192991"/>
                    <a:pt x="19718" y="154489"/>
                    <a:pt x="11550" y="114574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79"/>
            <p:cNvSpPr/>
            <p:nvPr/>
          </p:nvSpPr>
          <p:spPr>
            <a:xfrm flipH="1">
              <a:off x="5482800" y="343800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280"/>
            <p:cNvSpPr/>
            <p:nvPr/>
          </p:nvSpPr>
          <p:spPr>
            <a:xfrm flipH="1">
              <a:off x="6289920" y="36230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281"/>
            <p:cNvSpPr/>
            <p:nvPr/>
          </p:nvSpPr>
          <p:spPr>
            <a:xfrm flipH="1">
              <a:off x="5570640" y="36230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282"/>
            <p:cNvSpPr/>
            <p:nvPr/>
          </p:nvSpPr>
          <p:spPr>
            <a:xfrm flipH="1">
              <a:off x="6104880" y="37555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283"/>
            <p:cNvSpPr/>
            <p:nvPr/>
          </p:nvSpPr>
          <p:spPr>
            <a:xfrm flipH="1">
              <a:off x="5798160" y="37555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284"/>
            <p:cNvSpPr/>
            <p:nvPr/>
          </p:nvSpPr>
          <p:spPr>
            <a:xfrm flipH="1">
              <a:off x="6422040" y="313128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5" h="288388">
                  <a:moveTo>
                    <a:pt x="79151" y="0"/>
                  </a:moveTo>
                  <a:lnTo>
                    <a:pt x="286025" y="119439"/>
                  </a:lnTo>
                  <a:lnTo>
                    <a:pt x="268301" y="152092"/>
                  </a:lnTo>
                  <a:cubicBezTo>
                    <a:pt x="258857" y="174421"/>
                    <a:pt x="251523" y="197860"/>
                    <a:pt x="246551" y="222160"/>
                  </a:cubicBezTo>
                  <a:lnTo>
                    <a:pt x="239874" y="288388"/>
                  </a:lnTo>
                  <a:lnTo>
                    <a:pt x="0" y="288388"/>
                  </a:lnTo>
                  <a:lnTo>
                    <a:pt x="11549" y="173819"/>
                  </a:lnTo>
                  <a:cubicBezTo>
                    <a:pt x="19717" y="133905"/>
                    <a:pt x="31763" y="95403"/>
                    <a:pt x="47277" y="58724"/>
                  </a:cubicBezTo>
                  <a:lnTo>
                    <a:pt x="79151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组合 317"/>
          <p:cNvGrpSpPr/>
          <p:nvPr/>
        </p:nvGrpSpPr>
        <p:grpSpPr>
          <a:xfrm>
            <a:off x="5482800" y="2816280"/>
            <a:ext cx="1225800" cy="1225440"/>
            <a:chOff x="5482800" y="2816280"/>
            <a:chExt cx="1225800" cy="1225440"/>
          </a:xfrm>
        </p:grpSpPr>
        <p:grpSp>
          <p:nvGrpSpPr>
            <p:cNvPr id="166" name="组合 318"/>
            <p:cNvGrpSpPr/>
            <p:nvPr/>
          </p:nvGrpSpPr>
          <p:grpSpPr>
            <a:xfrm>
              <a:off x="5483160" y="2816280"/>
              <a:ext cx="1225440" cy="1225440"/>
              <a:chOff x="5483160" y="2816280"/>
              <a:chExt cx="1225440" cy="1225440"/>
            </a:xfrm>
          </p:grpSpPr>
          <p:sp>
            <p:nvSpPr>
              <p:cNvPr id="167" name="任意多边形 324"/>
              <p:cNvSpPr/>
              <p:nvPr/>
            </p:nvSpPr>
            <p:spPr>
              <a:xfrm flipH="1">
                <a:off x="5798160" y="28162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任意多边形 325"/>
              <p:cNvSpPr/>
              <p:nvPr/>
            </p:nvSpPr>
            <p:spPr>
              <a:xfrm flipH="1">
                <a:off x="6104880" y="28162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任意多边形 326"/>
              <p:cNvSpPr/>
              <p:nvPr/>
            </p:nvSpPr>
            <p:spPr>
              <a:xfrm flipH="1">
                <a:off x="5570640" y="29037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任意多边形 327"/>
              <p:cNvSpPr/>
              <p:nvPr/>
            </p:nvSpPr>
            <p:spPr>
              <a:xfrm flipH="1">
                <a:off x="6289920" y="290376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任意多边形 328"/>
              <p:cNvSpPr/>
              <p:nvPr/>
            </p:nvSpPr>
            <p:spPr>
              <a:xfrm flipH="1">
                <a:off x="5482800" y="31312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329"/>
              <p:cNvSpPr/>
              <p:nvPr/>
            </p:nvSpPr>
            <p:spPr>
              <a:xfrm flipH="1">
                <a:off x="6422040" y="34380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任意多边形 330"/>
              <p:cNvSpPr/>
              <p:nvPr/>
            </p:nvSpPr>
            <p:spPr>
              <a:xfrm flipH="1">
                <a:off x="5482800" y="34380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任意多边形 331"/>
              <p:cNvSpPr/>
              <p:nvPr/>
            </p:nvSpPr>
            <p:spPr>
              <a:xfrm flipH="1">
                <a:off x="6289920" y="36230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任意多边形 332"/>
              <p:cNvSpPr/>
              <p:nvPr/>
            </p:nvSpPr>
            <p:spPr>
              <a:xfrm flipH="1">
                <a:off x="5570640" y="36230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任意多边形 333"/>
              <p:cNvSpPr/>
              <p:nvPr/>
            </p:nvSpPr>
            <p:spPr>
              <a:xfrm flipH="1">
                <a:off x="6104880" y="37555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任意多边形 334"/>
              <p:cNvSpPr/>
              <p:nvPr/>
            </p:nvSpPr>
            <p:spPr>
              <a:xfrm flipH="1">
                <a:off x="5798160" y="37555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任意多边形 335"/>
              <p:cNvSpPr/>
              <p:nvPr/>
            </p:nvSpPr>
            <p:spPr>
              <a:xfrm flipH="1">
                <a:off x="6422040" y="31312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任意多边形 319"/>
            <p:cNvSpPr/>
            <p:nvPr/>
          </p:nvSpPr>
          <p:spPr>
            <a:xfrm flipH="1">
              <a:off x="5482440" y="343800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任意多边形 320"/>
            <p:cNvSpPr/>
            <p:nvPr/>
          </p:nvSpPr>
          <p:spPr>
            <a:xfrm flipH="1">
              <a:off x="6289200" y="36230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任意多边形 321"/>
            <p:cNvSpPr/>
            <p:nvPr/>
          </p:nvSpPr>
          <p:spPr>
            <a:xfrm flipH="1">
              <a:off x="5569920" y="36230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任意多边形 322"/>
            <p:cNvSpPr/>
            <p:nvPr/>
          </p:nvSpPr>
          <p:spPr>
            <a:xfrm flipH="1">
              <a:off x="6104160" y="37555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任意多边形 323"/>
            <p:cNvSpPr/>
            <p:nvPr/>
          </p:nvSpPr>
          <p:spPr>
            <a:xfrm flipH="1">
              <a:off x="5797440" y="37555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07"/>
          <p:cNvGrpSpPr/>
          <p:nvPr/>
        </p:nvGrpSpPr>
        <p:grpSpPr>
          <a:xfrm>
            <a:off x="5378400" y="2711520"/>
            <a:ext cx="1434960" cy="1434600"/>
            <a:chOff x="5378400" y="2711520"/>
            <a:chExt cx="1434960" cy="1434600"/>
          </a:xfrm>
        </p:grpSpPr>
        <p:grpSp>
          <p:nvGrpSpPr>
            <p:cNvPr id="185" name="组合 108"/>
            <p:cNvGrpSpPr/>
            <p:nvPr/>
          </p:nvGrpSpPr>
          <p:grpSpPr>
            <a:xfrm>
              <a:off x="5379120" y="2711520"/>
              <a:ext cx="1434240" cy="1434600"/>
              <a:chOff x="5379120" y="2711520"/>
              <a:chExt cx="1434240" cy="1434600"/>
            </a:xfrm>
          </p:grpSpPr>
          <p:sp>
            <p:nvSpPr>
              <p:cNvPr id="186" name="任意多边形 114"/>
              <p:cNvSpPr/>
              <p:nvPr/>
            </p:nvSpPr>
            <p:spPr>
              <a:xfrm flipH="1" rot="1800000">
                <a:off x="6053760" y="28026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任意多边形 115"/>
              <p:cNvSpPr/>
              <p:nvPr/>
            </p:nvSpPr>
            <p:spPr>
              <a:xfrm flipH="1" rot="1800000">
                <a:off x="6319440" y="29559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任意多边形 116"/>
              <p:cNvSpPr/>
              <p:nvPr/>
            </p:nvSpPr>
            <p:spPr>
              <a:xfrm flipH="1" rot="1800000">
                <a:off x="5798880" y="27720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任意多边形 117"/>
              <p:cNvSpPr/>
              <p:nvPr/>
            </p:nvSpPr>
            <p:spPr>
              <a:xfrm flipH="1" rot="1800000">
                <a:off x="6421680" y="313164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任意多边形 118"/>
              <p:cNvSpPr/>
              <p:nvPr/>
            </p:nvSpPr>
            <p:spPr>
              <a:xfrm flipH="1" rot="1800000">
                <a:off x="5622840" y="29170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任意多边形 119"/>
              <p:cNvSpPr/>
              <p:nvPr/>
            </p:nvSpPr>
            <p:spPr>
              <a:xfrm flipH="1" rot="1800000">
                <a:off x="6282720" y="36522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任意多边形 120"/>
              <p:cNvSpPr/>
              <p:nvPr/>
            </p:nvSpPr>
            <p:spPr>
              <a:xfrm flipH="1" rot="1800000">
                <a:off x="5469480" y="31827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任意多边形 121"/>
              <p:cNvSpPr/>
              <p:nvPr/>
            </p:nvSpPr>
            <p:spPr>
              <a:xfrm flipH="1" rot="1800000">
                <a:off x="6062040" y="37548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任意多边形 122"/>
              <p:cNvSpPr/>
              <p:nvPr/>
            </p:nvSpPr>
            <p:spPr>
              <a:xfrm flipH="1" rot="1800000">
                <a:off x="5439240" y="33951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任意多边形 123"/>
              <p:cNvSpPr/>
              <p:nvPr/>
            </p:nvSpPr>
            <p:spPr>
              <a:xfrm flipH="1" rot="1800000">
                <a:off x="5849640" y="37692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任意多边形 124"/>
              <p:cNvSpPr/>
              <p:nvPr/>
            </p:nvSpPr>
            <p:spPr>
              <a:xfrm flipH="1" rot="1800000">
                <a:off x="5583960" y="36158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任意多边形 125"/>
              <p:cNvSpPr/>
              <p:nvPr/>
            </p:nvSpPr>
            <p:spPr>
              <a:xfrm flipH="1" rot="1800000">
                <a:off x="6436080" y="33865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任意多边形 109"/>
            <p:cNvSpPr/>
            <p:nvPr/>
          </p:nvSpPr>
          <p:spPr>
            <a:xfrm flipH="1" rot="1800000">
              <a:off x="5469120" y="318240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任意多边形 110"/>
            <p:cNvSpPr/>
            <p:nvPr/>
          </p:nvSpPr>
          <p:spPr>
            <a:xfrm flipH="1" rot="1800000">
              <a:off x="6061320" y="37544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任意多边形 111"/>
            <p:cNvSpPr/>
            <p:nvPr/>
          </p:nvSpPr>
          <p:spPr>
            <a:xfrm flipH="1" rot="1800000">
              <a:off x="5438520" y="339480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任意多边形 112"/>
            <p:cNvSpPr/>
            <p:nvPr/>
          </p:nvSpPr>
          <p:spPr>
            <a:xfrm flipH="1" rot="1800000">
              <a:off x="5848920" y="376884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任意多边形 113"/>
            <p:cNvSpPr/>
            <p:nvPr/>
          </p:nvSpPr>
          <p:spPr>
            <a:xfrm flipH="1" rot="1800000">
              <a:off x="5583240" y="361548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126"/>
          <p:cNvGrpSpPr/>
          <p:nvPr/>
        </p:nvGrpSpPr>
        <p:grpSpPr>
          <a:xfrm>
            <a:off x="5378400" y="2711880"/>
            <a:ext cx="1435320" cy="1434240"/>
            <a:chOff x="5378400" y="2711880"/>
            <a:chExt cx="1435320" cy="1434240"/>
          </a:xfrm>
        </p:grpSpPr>
        <p:grpSp>
          <p:nvGrpSpPr>
            <p:cNvPr id="204" name="组合 127"/>
            <p:cNvGrpSpPr/>
            <p:nvPr/>
          </p:nvGrpSpPr>
          <p:grpSpPr>
            <a:xfrm>
              <a:off x="5378760" y="2711880"/>
              <a:ext cx="1434960" cy="1434240"/>
              <a:chOff x="5378760" y="2711880"/>
              <a:chExt cx="1434960" cy="1434240"/>
            </a:xfrm>
          </p:grpSpPr>
          <p:sp>
            <p:nvSpPr>
              <p:cNvPr id="205" name="任意多边形 133"/>
              <p:cNvSpPr/>
              <p:nvPr/>
            </p:nvSpPr>
            <p:spPr>
              <a:xfrm flipH="1" rot="3600000">
                <a:off x="6281280" y="29185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任意多边形 134"/>
              <p:cNvSpPr/>
              <p:nvPr/>
            </p:nvSpPr>
            <p:spPr>
              <a:xfrm flipH="1" rot="3600000">
                <a:off x="6434640" y="31842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任意多边形 135"/>
              <p:cNvSpPr/>
              <p:nvPr/>
            </p:nvSpPr>
            <p:spPr>
              <a:xfrm flipH="1" rot="3600000">
                <a:off x="6062400" y="27723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任意多边形 136"/>
              <p:cNvSpPr/>
              <p:nvPr/>
            </p:nvSpPr>
            <p:spPr>
              <a:xfrm flipH="1" rot="3600000">
                <a:off x="6422040" y="339516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任意多边形 137"/>
              <p:cNvSpPr/>
              <p:nvPr/>
            </p:nvSpPr>
            <p:spPr>
              <a:xfrm flipH="1" rot="3600000">
                <a:off x="5850720" y="28011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任意多边形 138"/>
              <p:cNvSpPr/>
              <p:nvPr/>
            </p:nvSpPr>
            <p:spPr>
              <a:xfrm flipH="1" rot="3600000">
                <a:off x="6054840" y="37677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任意多边形 139"/>
              <p:cNvSpPr/>
              <p:nvPr/>
            </p:nvSpPr>
            <p:spPr>
              <a:xfrm flipH="1" rot="3600000">
                <a:off x="5585040" y="29545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任意多边形 140"/>
              <p:cNvSpPr/>
              <p:nvPr/>
            </p:nvSpPr>
            <p:spPr>
              <a:xfrm flipH="1" rot="3600000">
                <a:off x="5798880" y="37548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任意多边形 141"/>
              <p:cNvSpPr/>
              <p:nvPr/>
            </p:nvSpPr>
            <p:spPr>
              <a:xfrm flipH="1" rot="3600000">
                <a:off x="5439240" y="31320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任意多边形 142"/>
              <p:cNvSpPr/>
              <p:nvPr/>
            </p:nvSpPr>
            <p:spPr>
              <a:xfrm flipH="1" rot="3600000">
                <a:off x="5621400" y="36536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任意多边形 143"/>
              <p:cNvSpPr/>
              <p:nvPr/>
            </p:nvSpPr>
            <p:spPr>
              <a:xfrm flipH="1" rot="3600000">
                <a:off x="5468040" y="33879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任意多边形 144"/>
              <p:cNvSpPr/>
              <p:nvPr/>
            </p:nvSpPr>
            <p:spPr>
              <a:xfrm flipH="1" rot="3600000">
                <a:off x="6320520" y="36144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任意多边形 128"/>
            <p:cNvSpPr/>
            <p:nvPr/>
          </p:nvSpPr>
          <p:spPr>
            <a:xfrm flipH="1" rot="3600000">
              <a:off x="5585040" y="295416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 129"/>
            <p:cNvSpPr/>
            <p:nvPr/>
          </p:nvSpPr>
          <p:spPr>
            <a:xfrm flipH="1" rot="3600000">
              <a:off x="5798520" y="375408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 130"/>
            <p:cNvSpPr/>
            <p:nvPr/>
          </p:nvSpPr>
          <p:spPr>
            <a:xfrm flipH="1" rot="3600000">
              <a:off x="5438880" y="313128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任意多边形 131"/>
            <p:cNvSpPr/>
            <p:nvPr/>
          </p:nvSpPr>
          <p:spPr>
            <a:xfrm flipH="1" rot="3600000">
              <a:off x="5621040" y="36529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任意多边形 132"/>
            <p:cNvSpPr/>
            <p:nvPr/>
          </p:nvSpPr>
          <p:spPr>
            <a:xfrm flipH="1" rot="3600000">
              <a:off x="5467680" y="338724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145"/>
          <p:cNvGrpSpPr/>
          <p:nvPr/>
        </p:nvGrpSpPr>
        <p:grpSpPr>
          <a:xfrm>
            <a:off x="5483160" y="2815920"/>
            <a:ext cx="1225440" cy="1225800"/>
            <a:chOff x="5483160" y="2815920"/>
            <a:chExt cx="1225440" cy="1225800"/>
          </a:xfrm>
        </p:grpSpPr>
        <p:grpSp>
          <p:nvGrpSpPr>
            <p:cNvPr id="223" name="组合 146"/>
            <p:cNvGrpSpPr/>
            <p:nvPr/>
          </p:nvGrpSpPr>
          <p:grpSpPr>
            <a:xfrm>
              <a:off x="5483160" y="2816280"/>
              <a:ext cx="1225440" cy="1225440"/>
              <a:chOff x="5483160" y="2816280"/>
              <a:chExt cx="1225440" cy="1225440"/>
            </a:xfrm>
          </p:grpSpPr>
          <p:sp>
            <p:nvSpPr>
              <p:cNvPr id="224" name="任意多边形 152"/>
              <p:cNvSpPr/>
              <p:nvPr/>
            </p:nvSpPr>
            <p:spPr>
              <a:xfrm flipH="1" rot="5400000">
                <a:off x="6420960" y="31327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任意多边形 153"/>
              <p:cNvSpPr/>
              <p:nvPr/>
            </p:nvSpPr>
            <p:spPr>
              <a:xfrm flipH="1" rot="5400000">
                <a:off x="6420960" y="34394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 154"/>
              <p:cNvSpPr/>
              <p:nvPr/>
            </p:nvSpPr>
            <p:spPr>
              <a:xfrm flipH="1" rot="5400000">
                <a:off x="6289920" y="290412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 155"/>
              <p:cNvSpPr/>
              <p:nvPr/>
            </p:nvSpPr>
            <p:spPr>
              <a:xfrm flipH="1" rot="5400000">
                <a:off x="6289920" y="362340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 156"/>
              <p:cNvSpPr/>
              <p:nvPr/>
            </p:nvSpPr>
            <p:spPr>
              <a:xfrm flipH="1" rot="5400000">
                <a:off x="6105960" y="28152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 157"/>
              <p:cNvSpPr/>
              <p:nvPr/>
            </p:nvSpPr>
            <p:spPr>
              <a:xfrm flipH="1" rot="5400000">
                <a:off x="5799240" y="375444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 158"/>
              <p:cNvSpPr/>
              <p:nvPr/>
            </p:nvSpPr>
            <p:spPr>
              <a:xfrm flipH="1" rot="5400000">
                <a:off x="5799240" y="28152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 159"/>
              <p:cNvSpPr/>
              <p:nvPr/>
            </p:nvSpPr>
            <p:spPr>
              <a:xfrm flipH="1" rot="5400000">
                <a:off x="5570640" y="36234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 160"/>
              <p:cNvSpPr/>
              <p:nvPr/>
            </p:nvSpPr>
            <p:spPr>
              <a:xfrm flipH="1" rot="5400000">
                <a:off x="5570640" y="290412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 161"/>
              <p:cNvSpPr/>
              <p:nvPr/>
            </p:nvSpPr>
            <p:spPr>
              <a:xfrm flipH="1" rot="5400000">
                <a:off x="5481720" y="34394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任意多边形 162"/>
              <p:cNvSpPr/>
              <p:nvPr/>
            </p:nvSpPr>
            <p:spPr>
              <a:xfrm flipH="1" rot="5400000">
                <a:off x="5481720" y="31327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 163"/>
              <p:cNvSpPr/>
              <p:nvPr/>
            </p:nvSpPr>
            <p:spPr>
              <a:xfrm flipH="1" rot="5400000">
                <a:off x="6105960" y="375444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任意多边形 147"/>
            <p:cNvSpPr/>
            <p:nvPr/>
          </p:nvSpPr>
          <p:spPr>
            <a:xfrm flipH="1" rot="5400000">
              <a:off x="5799240" y="281484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任意多边形 148"/>
            <p:cNvSpPr/>
            <p:nvPr/>
          </p:nvSpPr>
          <p:spPr>
            <a:xfrm flipH="1" rot="5400000">
              <a:off x="5570640" y="362268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任意多边形 149"/>
            <p:cNvSpPr/>
            <p:nvPr/>
          </p:nvSpPr>
          <p:spPr>
            <a:xfrm flipH="1" rot="5400000">
              <a:off x="5570640" y="290340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任意多边形 150"/>
            <p:cNvSpPr/>
            <p:nvPr/>
          </p:nvSpPr>
          <p:spPr>
            <a:xfrm flipH="1" rot="5400000">
              <a:off x="5481720" y="34387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任意多边形 151"/>
            <p:cNvSpPr/>
            <p:nvPr/>
          </p:nvSpPr>
          <p:spPr>
            <a:xfrm flipH="1" rot="5400000">
              <a:off x="5481720" y="313200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64"/>
          <p:cNvGrpSpPr/>
          <p:nvPr/>
        </p:nvGrpSpPr>
        <p:grpSpPr>
          <a:xfrm>
            <a:off x="5378760" y="2711520"/>
            <a:ext cx="1434600" cy="1434960"/>
            <a:chOff x="5378760" y="2711520"/>
            <a:chExt cx="1434600" cy="1434960"/>
          </a:xfrm>
        </p:grpSpPr>
        <p:grpSp>
          <p:nvGrpSpPr>
            <p:cNvPr id="242" name="组合 165"/>
            <p:cNvGrpSpPr/>
            <p:nvPr/>
          </p:nvGrpSpPr>
          <p:grpSpPr>
            <a:xfrm>
              <a:off x="5378760" y="2712240"/>
              <a:ext cx="1434600" cy="1434240"/>
              <a:chOff x="5378760" y="2712240"/>
              <a:chExt cx="1434600" cy="1434240"/>
            </a:xfrm>
          </p:grpSpPr>
          <p:sp>
            <p:nvSpPr>
              <p:cNvPr id="243" name="任意多边形 171"/>
              <p:cNvSpPr/>
              <p:nvPr/>
            </p:nvSpPr>
            <p:spPr>
              <a:xfrm flipH="1" rot="7200000">
                <a:off x="6434280" y="33879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任意多边形 172"/>
              <p:cNvSpPr/>
              <p:nvPr/>
            </p:nvSpPr>
            <p:spPr>
              <a:xfrm flipH="1" rot="7200000">
                <a:off x="6280920" y="36536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任意多边形 173"/>
              <p:cNvSpPr/>
              <p:nvPr/>
            </p:nvSpPr>
            <p:spPr>
              <a:xfrm flipH="1" rot="7200000">
                <a:off x="6421320" y="31320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任意多边形 174"/>
              <p:cNvSpPr/>
              <p:nvPr/>
            </p:nvSpPr>
            <p:spPr>
              <a:xfrm flipH="1" rot="7200000">
                <a:off x="6061680" y="375480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任意多边形 175"/>
              <p:cNvSpPr/>
              <p:nvPr/>
            </p:nvSpPr>
            <p:spPr>
              <a:xfrm flipH="1" rot="7200000">
                <a:off x="6319800" y="29548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任意多边形 176"/>
              <p:cNvSpPr/>
              <p:nvPr/>
            </p:nvSpPr>
            <p:spPr>
              <a:xfrm flipH="1" rot="7200000">
                <a:off x="5584680" y="36147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任意多边形 177"/>
              <p:cNvSpPr/>
              <p:nvPr/>
            </p:nvSpPr>
            <p:spPr>
              <a:xfrm flipH="1" rot="7200000">
                <a:off x="6054120" y="28015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任意多边形 178"/>
              <p:cNvSpPr/>
              <p:nvPr/>
            </p:nvSpPr>
            <p:spPr>
              <a:xfrm flipH="1" rot="7200000">
                <a:off x="5438520" y="33951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任意多边形 179"/>
              <p:cNvSpPr/>
              <p:nvPr/>
            </p:nvSpPr>
            <p:spPr>
              <a:xfrm flipH="1" rot="7200000">
                <a:off x="5798160" y="27723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任意多边形 180"/>
              <p:cNvSpPr/>
              <p:nvPr/>
            </p:nvSpPr>
            <p:spPr>
              <a:xfrm flipH="1" rot="7200000">
                <a:off x="5467680" y="31838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任意多边形 181"/>
              <p:cNvSpPr/>
              <p:nvPr/>
            </p:nvSpPr>
            <p:spPr>
              <a:xfrm flipH="1" rot="7200000">
                <a:off x="5621040" y="29181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任意多边形 182"/>
              <p:cNvSpPr/>
              <p:nvPr/>
            </p:nvSpPr>
            <p:spPr>
              <a:xfrm flipH="1" rot="7200000">
                <a:off x="5850360" y="37681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任意多边形 166"/>
            <p:cNvSpPr/>
            <p:nvPr/>
          </p:nvSpPr>
          <p:spPr>
            <a:xfrm flipH="1" rot="7200000">
              <a:off x="6054480" y="280116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任意多边形 167"/>
            <p:cNvSpPr/>
            <p:nvPr/>
          </p:nvSpPr>
          <p:spPr>
            <a:xfrm flipH="1" rot="7200000">
              <a:off x="5438880" y="33944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任意多边形 168"/>
            <p:cNvSpPr/>
            <p:nvPr/>
          </p:nvSpPr>
          <p:spPr>
            <a:xfrm flipH="1" rot="7200000">
              <a:off x="5798520" y="27716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任意多边形 169"/>
            <p:cNvSpPr/>
            <p:nvPr/>
          </p:nvSpPr>
          <p:spPr>
            <a:xfrm flipH="1" rot="7200000">
              <a:off x="5468040" y="31831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任意多边形 170"/>
            <p:cNvSpPr/>
            <p:nvPr/>
          </p:nvSpPr>
          <p:spPr>
            <a:xfrm flipH="1" rot="7200000">
              <a:off x="5621400" y="291744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组合 183"/>
          <p:cNvGrpSpPr/>
          <p:nvPr/>
        </p:nvGrpSpPr>
        <p:grpSpPr>
          <a:xfrm>
            <a:off x="5378760" y="2711520"/>
            <a:ext cx="1434240" cy="1435320"/>
            <a:chOff x="5378760" y="2711520"/>
            <a:chExt cx="1434240" cy="1435320"/>
          </a:xfrm>
        </p:grpSpPr>
        <p:grpSp>
          <p:nvGrpSpPr>
            <p:cNvPr id="261" name="组合 184"/>
            <p:cNvGrpSpPr/>
            <p:nvPr/>
          </p:nvGrpSpPr>
          <p:grpSpPr>
            <a:xfrm>
              <a:off x="5378760" y="2711880"/>
              <a:ext cx="1434240" cy="1434960"/>
              <a:chOff x="5378760" y="2711880"/>
              <a:chExt cx="1434240" cy="1434960"/>
            </a:xfrm>
          </p:grpSpPr>
          <p:sp>
            <p:nvSpPr>
              <p:cNvPr id="262" name="任意多边形 190"/>
              <p:cNvSpPr/>
              <p:nvPr/>
            </p:nvSpPr>
            <p:spPr>
              <a:xfrm flipH="1" rot="9000000">
                <a:off x="6318720" y="36162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任意多边形 191"/>
              <p:cNvSpPr/>
              <p:nvPr/>
            </p:nvSpPr>
            <p:spPr>
              <a:xfrm flipH="1" rot="9000000">
                <a:off x="6053040" y="37695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任意多边形 192"/>
              <p:cNvSpPr/>
              <p:nvPr/>
            </p:nvSpPr>
            <p:spPr>
              <a:xfrm flipH="1" rot="9000000">
                <a:off x="6421320" y="339552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任意多边形 193"/>
              <p:cNvSpPr/>
              <p:nvPr/>
            </p:nvSpPr>
            <p:spPr>
              <a:xfrm flipH="1" rot="9000000">
                <a:off x="5798520" y="375516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任意多边形 194"/>
              <p:cNvSpPr/>
              <p:nvPr/>
            </p:nvSpPr>
            <p:spPr>
              <a:xfrm flipH="1" rot="9000000">
                <a:off x="6435360" y="31827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任意多边形 195"/>
              <p:cNvSpPr/>
              <p:nvPr/>
            </p:nvSpPr>
            <p:spPr>
              <a:xfrm flipH="1" rot="9000000">
                <a:off x="5468760" y="33868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任意多边形 196"/>
              <p:cNvSpPr/>
              <p:nvPr/>
            </p:nvSpPr>
            <p:spPr>
              <a:xfrm flipH="1" rot="9000000">
                <a:off x="6282000" y="29170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任意多边形 197"/>
              <p:cNvSpPr/>
              <p:nvPr/>
            </p:nvSpPr>
            <p:spPr>
              <a:xfrm flipH="1" rot="9000000">
                <a:off x="5438880" y="31320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任意多边形 198"/>
              <p:cNvSpPr/>
              <p:nvPr/>
            </p:nvSpPr>
            <p:spPr>
              <a:xfrm flipH="1" rot="9000000">
                <a:off x="6061680" y="27723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任意多边形 199"/>
              <p:cNvSpPr/>
              <p:nvPr/>
            </p:nvSpPr>
            <p:spPr>
              <a:xfrm flipH="1" rot="9000000">
                <a:off x="5583600" y="29563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任意多边形 200"/>
              <p:cNvSpPr/>
              <p:nvPr/>
            </p:nvSpPr>
            <p:spPr>
              <a:xfrm flipH="1" rot="9000000">
                <a:off x="5849280" y="28029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任意多边形 201"/>
              <p:cNvSpPr/>
              <p:nvPr/>
            </p:nvSpPr>
            <p:spPr>
              <a:xfrm flipH="1" rot="9000000">
                <a:off x="5622120" y="36525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任意多边形 185"/>
            <p:cNvSpPr/>
            <p:nvPr/>
          </p:nvSpPr>
          <p:spPr>
            <a:xfrm flipH="1" rot="9000000">
              <a:off x="6282360" y="291708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任意多边形 186"/>
            <p:cNvSpPr/>
            <p:nvPr/>
          </p:nvSpPr>
          <p:spPr>
            <a:xfrm flipH="1" rot="9000000">
              <a:off x="5439600" y="313164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任意多边形 187"/>
            <p:cNvSpPr/>
            <p:nvPr/>
          </p:nvSpPr>
          <p:spPr>
            <a:xfrm flipH="1" rot="9000000">
              <a:off x="6062400" y="277200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188"/>
            <p:cNvSpPr/>
            <p:nvPr/>
          </p:nvSpPr>
          <p:spPr>
            <a:xfrm flipH="1" rot="9000000">
              <a:off x="5584320" y="295596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任意多边形 189"/>
            <p:cNvSpPr/>
            <p:nvPr/>
          </p:nvSpPr>
          <p:spPr>
            <a:xfrm flipH="1" rot="9000000">
              <a:off x="5850000" y="280260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组合 202"/>
          <p:cNvGrpSpPr/>
          <p:nvPr/>
        </p:nvGrpSpPr>
        <p:grpSpPr>
          <a:xfrm>
            <a:off x="5483160" y="2816280"/>
            <a:ext cx="1225800" cy="1225440"/>
            <a:chOff x="5483160" y="2816280"/>
            <a:chExt cx="1225800" cy="1225440"/>
          </a:xfrm>
        </p:grpSpPr>
        <p:grpSp>
          <p:nvGrpSpPr>
            <p:cNvPr id="280" name="组合 203"/>
            <p:cNvGrpSpPr/>
            <p:nvPr/>
          </p:nvGrpSpPr>
          <p:grpSpPr>
            <a:xfrm>
              <a:off x="5483160" y="2816280"/>
              <a:ext cx="1225440" cy="1225440"/>
              <a:chOff x="5483160" y="2816280"/>
              <a:chExt cx="1225440" cy="1225440"/>
            </a:xfrm>
          </p:grpSpPr>
          <p:sp>
            <p:nvSpPr>
              <p:cNvPr id="281" name="任意多边形 214"/>
              <p:cNvSpPr/>
              <p:nvPr/>
            </p:nvSpPr>
            <p:spPr>
              <a:xfrm flipH="1" rot="10800000">
                <a:off x="6104520" y="37555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任意多边形 215"/>
              <p:cNvSpPr/>
              <p:nvPr/>
            </p:nvSpPr>
            <p:spPr>
              <a:xfrm flipH="1" rot="10800000">
                <a:off x="5797800" y="37555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任意多边形 216"/>
              <p:cNvSpPr/>
              <p:nvPr/>
            </p:nvSpPr>
            <p:spPr>
              <a:xfrm flipH="1" rot="10800000">
                <a:off x="6289560" y="36234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任意多边形 217"/>
              <p:cNvSpPr/>
              <p:nvPr/>
            </p:nvSpPr>
            <p:spPr>
              <a:xfrm flipH="1" rot="10800000">
                <a:off x="5570280" y="362340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任意多边形 218"/>
              <p:cNvSpPr/>
              <p:nvPr/>
            </p:nvSpPr>
            <p:spPr>
              <a:xfrm flipH="1" rot="10800000">
                <a:off x="6422040" y="34383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任意多边形 219"/>
              <p:cNvSpPr/>
              <p:nvPr/>
            </p:nvSpPr>
            <p:spPr>
              <a:xfrm flipH="1" rot="10800000">
                <a:off x="5482800" y="313164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任意多边形 220"/>
              <p:cNvSpPr/>
              <p:nvPr/>
            </p:nvSpPr>
            <p:spPr>
              <a:xfrm flipH="1" rot="10800000">
                <a:off x="6422040" y="313164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任意多边形 221"/>
              <p:cNvSpPr/>
              <p:nvPr/>
            </p:nvSpPr>
            <p:spPr>
              <a:xfrm flipH="1" rot="10800000">
                <a:off x="5570280" y="290412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任意多边形 222"/>
              <p:cNvSpPr/>
              <p:nvPr/>
            </p:nvSpPr>
            <p:spPr>
              <a:xfrm flipH="1" rot="10800000">
                <a:off x="6289560" y="290412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任意多边形 223"/>
              <p:cNvSpPr/>
              <p:nvPr/>
            </p:nvSpPr>
            <p:spPr>
              <a:xfrm flipH="1" rot="10800000">
                <a:off x="5797800" y="28162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任意多边形 224"/>
              <p:cNvSpPr/>
              <p:nvPr/>
            </p:nvSpPr>
            <p:spPr>
              <a:xfrm flipH="1" rot="10800000">
                <a:off x="6104520" y="28162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任意多边形 225"/>
              <p:cNvSpPr/>
              <p:nvPr/>
            </p:nvSpPr>
            <p:spPr>
              <a:xfrm flipH="1" rot="10800000">
                <a:off x="5482800" y="34383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任意多边形 204"/>
            <p:cNvSpPr/>
            <p:nvPr/>
          </p:nvSpPr>
          <p:spPr>
            <a:xfrm flipH="1" rot="10800000">
              <a:off x="6422400" y="313164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任意多边形 210"/>
            <p:cNvSpPr/>
            <p:nvPr/>
          </p:nvSpPr>
          <p:spPr>
            <a:xfrm flipH="1" rot="10800000">
              <a:off x="5571000" y="290412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任意多边形 211"/>
            <p:cNvSpPr/>
            <p:nvPr/>
          </p:nvSpPr>
          <p:spPr>
            <a:xfrm flipH="1" rot="10800000">
              <a:off x="6290280" y="290412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任意多边形 212"/>
            <p:cNvSpPr/>
            <p:nvPr/>
          </p:nvSpPr>
          <p:spPr>
            <a:xfrm flipH="1" rot="10800000">
              <a:off x="5798520" y="281628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任意多边形 213"/>
            <p:cNvSpPr/>
            <p:nvPr/>
          </p:nvSpPr>
          <p:spPr>
            <a:xfrm flipH="1" rot="10800000">
              <a:off x="6105240" y="281628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226"/>
          <p:cNvGrpSpPr/>
          <p:nvPr/>
        </p:nvGrpSpPr>
        <p:grpSpPr>
          <a:xfrm>
            <a:off x="5378400" y="2711880"/>
            <a:ext cx="1435320" cy="1434600"/>
            <a:chOff x="5378400" y="2711880"/>
            <a:chExt cx="1435320" cy="1434600"/>
          </a:xfrm>
        </p:grpSpPr>
        <p:grpSp>
          <p:nvGrpSpPr>
            <p:cNvPr id="299" name="组合 227"/>
            <p:cNvGrpSpPr/>
            <p:nvPr/>
          </p:nvGrpSpPr>
          <p:grpSpPr>
            <a:xfrm>
              <a:off x="5378400" y="2711880"/>
              <a:ext cx="1434600" cy="1434600"/>
              <a:chOff x="5378400" y="2711880"/>
              <a:chExt cx="1434600" cy="1434600"/>
            </a:xfrm>
          </p:grpSpPr>
          <p:sp>
            <p:nvSpPr>
              <p:cNvPr id="300" name="任意多边形 233"/>
              <p:cNvSpPr/>
              <p:nvPr/>
            </p:nvSpPr>
            <p:spPr>
              <a:xfrm flipH="1" rot="12600000">
                <a:off x="5849280" y="37692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任意多边形 234"/>
              <p:cNvSpPr/>
              <p:nvPr/>
            </p:nvSpPr>
            <p:spPr>
              <a:xfrm flipH="1" rot="12600000">
                <a:off x="5583600" y="36158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任意多边形 235"/>
              <p:cNvSpPr/>
              <p:nvPr/>
            </p:nvSpPr>
            <p:spPr>
              <a:xfrm flipH="1" rot="12600000">
                <a:off x="6061680" y="37551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任意多边形 236"/>
              <p:cNvSpPr/>
              <p:nvPr/>
            </p:nvSpPr>
            <p:spPr>
              <a:xfrm flipH="1" rot="12600000">
                <a:off x="5438880" y="339552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任意多边形 237"/>
              <p:cNvSpPr/>
              <p:nvPr/>
            </p:nvSpPr>
            <p:spPr>
              <a:xfrm flipH="1" rot="12600000">
                <a:off x="6282360" y="36525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任意多边形 238"/>
              <p:cNvSpPr/>
              <p:nvPr/>
            </p:nvSpPr>
            <p:spPr>
              <a:xfrm flipH="1" rot="12600000">
                <a:off x="5622480" y="291744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任意多边形 239"/>
              <p:cNvSpPr/>
              <p:nvPr/>
            </p:nvSpPr>
            <p:spPr>
              <a:xfrm flipH="1" rot="12600000">
                <a:off x="6435720" y="33868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任意多边形 240"/>
              <p:cNvSpPr/>
              <p:nvPr/>
            </p:nvSpPr>
            <p:spPr>
              <a:xfrm flipH="1" rot="12600000">
                <a:off x="5798520" y="27723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任意多边形 241"/>
              <p:cNvSpPr/>
              <p:nvPr/>
            </p:nvSpPr>
            <p:spPr>
              <a:xfrm flipH="1" rot="12600000">
                <a:off x="6421320" y="31320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任意多边形 242"/>
              <p:cNvSpPr/>
              <p:nvPr/>
            </p:nvSpPr>
            <p:spPr>
              <a:xfrm flipH="1" rot="12600000">
                <a:off x="6053400" y="28026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任意多边形 243"/>
              <p:cNvSpPr/>
              <p:nvPr/>
            </p:nvSpPr>
            <p:spPr>
              <a:xfrm flipH="1" rot="12600000">
                <a:off x="6319080" y="29559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任意多边形 244"/>
              <p:cNvSpPr/>
              <p:nvPr/>
            </p:nvSpPr>
            <p:spPr>
              <a:xfrm flipH="1" rot="12600000">
                <a:off x="5469120" y="31831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任意多边形 228"/>
            <p:cNvSpPr/>
            <p:nvPr/>
          </p:nvSpPr>
          <p:spPr>
            <a:xfrm flipH="1" rot="12600000">
              <a:off x="6436080" y="338724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任意多边形 229"/>
            <p:cNvSpPr/>
            <p:nvPr/>
          </p:nvSpPr>
          <p:spPr>
            <a:xfrm flipH="1" rot="12600000">
              <a:off x="5799240" y="277272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任意多边形 230"/>
            <p:cNvSpPr/>
            <p:nvPr/>
          </p:nvSpPr>
          <p:spPr>
            <a:xfrm flipH="1" rot="12600000">
              <a:off x="6422040" y="313236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任意多边形 231"/>
            <p:cNvSpPr/>
            <p:nvPr/>
          </p:nvSpPr>
          <p:spPr>
            <a:xfrm flipH="1" rot="12600000">
              <a:off x="6054120" y="280296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任意多边形 232"/>
            <p:cNvSpPr/>
            <p:nvPr/>
          </p:nvSpPr>
          <p:spPr>
            <a:xfrm flipH="1" rot="12600000">
              <a:off x="6319800" y="29563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组合 245"/>
          <p:cNvGrpSpPr/>
          <p:nvPr/>
        </p:nvGrpSpPr>
        <p:grpSpPr>
          <a:xfrm>
            <a:off x="5378400" y="2711880"/>
            <a:ext cx="1434960" cy="1434240"/>
            <a:chOff x="5378400" y="2711880"/>
            <a:chExt cx="1434960" cy="1434240"/>
          </a:xfrm>
        </p:grpSpPr>
        <p:grpSp>
          <p:nvGrpSpPr>
            <p:cNvPr id="318" name="组合 259"/>
            <p:cNvGrpSpPr/>
            <p:nvPr/>
          </p:nvGrpSpPr>
          <p:grpSpPr>
            <a:xfrm>
              <a:off x="5378400" y="2711880"/>
              <a:ext cx="1434600" cy="1434240"/>
              <a:chOff x="5378400" y="2711880"/>
              <a:chExt cx="1434600" cy="1434240"/>
            </a:xfrm>
          </p:grpSpPr>
          <p:sp>
            <p:nvSpPr>
              <p:cNvPr id="319" name="任意多边形 265"/>
              <p:cNvSpPr/>
              <p:nvPr/>
            </p:nvSpPr>
            <p:spPr>
              <a:xfrm flipH="1" rot="14400000">
                <a:off x="5621400" y="365292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 266"/>
              <p:cNvSpPr/>
              <p:nvPr/>
            </p:nvSpPr>
            <p:spPr>
              <a:xfrm flipH="1" rot="14400000">
                <a:off x="5468040" y="33872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任意多边形 267"/>
              <p:cNvSpPr/>
              <p:nvPr/>
            </p:nvSpPr>
            <p:spPr>
              <a:xfrm flipH="1" rot="14400000">
                <a:off x="5797800" y="37544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任意多边形 268"/>
              <p:cNvSpPr/>
              <p:nvPr/>
            </p:nvSpPr>
            <p:spPr>
              <a:xfrm flipH="1" rot="14400000">
                <a:off x="5438160" y="313164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任意多边形 269"/>
              <p:cNvSpPr/>
              <p:nvPr/>
            </p:nvSpPr>
            <p:spPr>
              <a:xfrm flipH="1" rot="14400000">
                <a:off x="6054120" y="37681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任意多边形 270"/>
              <p:cNvSpPr/>
              <p:nvPr/>
            </p:nvSpPr>
            <p:spPr>
              <a:xfrm flipH="1" rot="14400000">
                <a:off x="5850000" y="28015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任意多边形 271"/>
              <p:cNvSpPr/>
              <p:nvPr/>
            </p:nvSpPr>
            <p:spPr>
              <a:xfrm flipH="1" rot="14400000">
                <a:off x="6319800" y="36147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任意多边形 285"/>
              <p:cNvSpPr/>
              <p:nvPr/>
            </p:nvSpPr>
            <p:spPr>
              <a:xfrm flipH="1" rot="14400000">
                <a:off x="6061320" y="27720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任意多边形 286"/>
              <p:cNvSpPr/>
              <p:nvPr/>
            </p:nvSpPr>
            <p:spPr>
              <a:xfrm flipH="1" rot="14400000">
                <a:off x="6420960" y="33948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任意多边形 287"/>
              <p:cNvSpPr/>
              <p:nvPr/>
            </p:nvSpPr>
            <p:spPr>
              <a:xfrm flipH="1" rot="14400000">
                <a:off x="6281280" y="29178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任意多边形 288"/>
              <p:cNvSpPr/>
              <p:nvPr/>
            </p:nvSpPr>
            <p:spPr>
              <a:xfrm flipH="1" rot="14400000">
                <a:off x="6434640" y="31834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任意多边形 289"/>
              <p:cNvSpPr/>
              <p:nvPr/>
            </p:nvSpPr>
            <p:spPr>
              <a:xfrm flipH="1" rot="14400000">
                <a:off x="5584320" y="29548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任意多边形 260"/>
            <p:cNvSpPr/>
            <p:nvPr/>
          </p:nvSpPr>
          <p:spPr>
            <a:xfrm flipH="1" rot="14400000">
              <a:off x="6319800" y="361512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任意多边形 261"/>
            <p:cNvSpPr/>
            <p:nvPr/>
          </p:nvSpPr>
          <p:spPr>
            <a:xfrm flipH="1" rot="14400000">
              <a:off x="6061680" y="277272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任意多边形 262"/>
            <p:cNvSpPr/>
            <p:nvPr/>
          </p:nvSpPr>
          <p:spPr>
            <a:xfrm flipH="1" rot="14400000">
              <a:off x="6421320" y="339552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任意多边形 263"/>
            <p:cNvSpPr/>
            <p:nvPr/>
          </p:nvSpPr>
          <p:spPr>
            <a:xfrm flipH="1" rot="14400000">
              <a:off x="6281640" y="29185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任意多边形 264"/>
            <p:cNvSpPr/>
            <p:nvPr/>
          </p:nvSpPr>
          <p:spPr>
            <a:xfrm flipH="1" rot="14400000">
              <a:off x="6435000" y="318420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290"/>
          <p:cNvGrpSpPr/>
          <p:nvPr/>
        </p:nvGrpSpPr>
        <p:grpSpPr>
          <a:xfrm>
            <a:off x="5483160" y="2816280"/>
            <a:ext cx="1225440" cy="1225800"/>
            <a:chOff x="5483160" y="2816280"/>
            <a:chExt cx="1225440" cy="1225800"/>
          </a:xfrm>
        </p:grpSpPr>
        <p:grpSp>
          <p:nvGrpSpPr>
            <p:cNvPr id="337" name="组合 291"/>
            <p:cNvGrpSpPr/>
            <p:nvPr/>
          </p:nvGrpSpPr>
          <p:grpSpPr>
            <a:xfrm>
              <a:off x="5483160" y="2816280"/>
              <a:ext cx="1225440" cy="1225440"/>
              <a:chOff x="5483160" y="2816280"/>
              <a:chExt cx="1225440" cy="1225440"/>
            </a:xfrm>
          </p:grpSpPr>
          <p:sp>
            <p:nvSpPr>
              <p:cNvPr id="338" name="任意多边形 297"/>
              <p:cNvSpPr/>
              <p:nvPr/>
            </p:nvSpPr>
            <p:spPr>
              <a:xfrm flipH="1" rot="16200000">
                <a:off x="5481720" y="34390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任意多边形 298"/>
              <p:cNvSpPr/>
              <p:nvPr/>
            </p:nvSpPr>
            <p:spPr>
              <a:xfrm flipH="1" rot="16200000">
                <a:off x="5481720" y="31323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任意多边形 299"/>
              <p:cNvSpPr/>
              <p:nvPr/>
            </p:nvSpPr>
            <p:spPr>
              <a:xfrm flipH="1" rot="16200000">
                <a:off x="5570280" y="36230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任意多边形 300"/>
              <p:cNvSpPr/>
              <p:nvPr/>
            </p:nvSpPr>
            <p:spPr>
              <a:xfrm flipH="1" rot="16200000">
                <a:off x="5570280" y="290376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任意多边形 301"/>
              <p:cNvSpPr/>
              <p:nvPr/>
            </p:nvSpPr>
            <p:spPr>
              <a:xfrm flipH="1" rot="16200000">
                <a:off x="5798880" y="375444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任意多边形 302"/>
              <p:cNvSpPr/>
              <p:nvPr/>
            </p:nvSpPr>
            <p:spPr>
              <a:xfrm flipH="1" rot="16200000">
                <a:off x="6105600" y="28152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任意多边形 303"/>
              <p:cNvSpPr/>
              <p:nvPr/>
            </p:nvSpPr>
            <p:spPr>
              <a:xfrm flipH="1" rot="16200000">
                <a:off x="6105600" y="375444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任意多边形 304"/>
              <p:cNvSpPr/>
              <p:nvPr/>
            </p:nvSpPr>
            <p:spPr>
              <a:xfrm flipH="1" rot="16200000">
                <a:off x="6289560" y="29037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任意多边形 305"/>
              <p:cNvSpPr/>
              <p:nvPr/>
            </p:nvSpPr>
            <p:spPr>
              <a:xfrm flipH="1" rot="16200000">
                <a:off x="6289560" y="36230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任意多边形 306"/>
              <p:cNvSpPr/>
              <p:nvPr/>
            </p:nvSpPr>
            <p:spPr>
              <a:xfrm flipH="1" rot="16200000">
                <a:off x="6420960" y="313236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任意多边形 307"/>
              <p:cNvSpPr/>
              <p:nvPr/>
            </p:nvSpPr>
            <p:spPr>
              <a:xfrm flipH="1" rot="16200000">
                <a:off x="6420960" y="34390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任意多边形 308"/>
              <p:cNvSpPr/>
              <p:nvPr/>
            </p:nvSpPr>
            <p:spPr>
              <a:xfrm flipH="1" rot="16200000">
                <a:off x="5798880" y="28152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任意多边形 292"/>
            <p:cNvSpPr/>
            <p:nvPr/>
          </p:nvSpPr>
          <p:spPr>
            <a:xfrm flipH="1" rot="16200000">
              <a:off x="6105600" y="375480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任意多边形 293"/>
            <p:cNvSpPr/>
            <p:nvPr/>
          </p:nvSpPr>
          <p:spPr>
            <a:xfrm flipH="1" rot="16200000">
              <a:off x="6289560" y="290448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任意多边形 294"/>
            <p:cNvSpPr/>
            <p:nvPr/>
          </p:nvSpPr>
          <p:spPr>
            <a:xfrm flipH="1" rot="16200000">
              <a:off x="6289560" y="362376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任意多边形 295"/>
            <p:cNvSpPr/>
            <p:nvPr/>
          </p:nvSpPr>
          <p:spPr>
            <a:xfrm flipH="1" rot="16200000">
              <a:off x="6420960" y="313308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任意多边形 296"/>
            <p:cNvSpPr/>
            <p:nvPr/>
          </p:nvSpPr>
          <p:spPr>
            <a:xfrm flipH="1" rot="16200000">
              <a:off x="6420960" y="343980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309"/>
          <p:cNvGrpSpPr/>
          <p:nvPr/>
        </p:nvGrpSpPr>
        <p:grpSpPr>
          <a:xfrm>
            <a:off x="5378400" y="2711520"/>
            <a:ext cx="1434600" cy="1435320"/>
            <a:chOff x="5378400" y="2711520"/>
            <a:chExt cx="1434600" cy="1435320"/>
          </a:xfrm>
        </p:grpSpPr>
        <p:grpSp>
          <p:nvGrpSpPr>
            <p:cNvPr id="356" name="组合 310"/>
            <p:cNvGrpSpPr/>
            <p:nvPr/>
          </p:nvGrpSpPr>
          <p:grpSpPr>
            <a:xfrm>
              <a:off x="5378400" y="2711520"/>
              <a:ext cx="1434600" cy="1434600"/>
              <a:chOff x="5378400" y="2711520"/>
              <a:chExt cx="1434600" cy="1434600"/>
            </a:xfrm>
          </p:grpSpPr>
          <p:sp>
            <p:nvSpPr>
              <p:cNvPr id="357" name="任意多边形 345"/>
              <p:cNvSpPr/>
              <p:nvPr/>
            </p:nvSpPr>
            <p:spPr>
              <a:xfrm flipH="1" rot="18000000">
                <a:off x="5467680" y="31834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任意多边形 346"/>
              <p:cNvSpPr/>
              <p:nvPr/>
            </p:nvSpPr>
            <p:spPr>
              <a:xfrm flipH="1" rot="18000000">
                <a:off x="5621040" y="29178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347"/>
              <p:cNvSpPr/>
              <p:nvPr/>
            </p:nvSpPr>
            <p:spPr>
              <a:xfrm flipH="1" rot="18000000">
                <a:off x="5438160" y="33948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任意多边形 348"/>
              <p:cNvSpPr/>
              <p:nvPr/>
            </p:nvSpPr>
            <p:spPr>
              <a:xfrm flipH="1" rot="18000000">
                <a:off x="5797800" y="277200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任意多边形 349"/>
              <p:cNvSpPr/>
              <p:nvPr/>
            </p:nvSpPr>
            <p:spPr>
              <a:xfrm flipH="1" rot="18000000">
                <a:off x="5584320" y="361440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任意多边形 350"/>
              <p:cNvSpPr/>
              <p:nvPr/>
            </p:nvSpPr>
            <p:spPr>
              <a:xfrm flipH="1" rot="18000000">
                <a:off x="6319440" y="295452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任意多边形 351"/>
              <p:cNvSpPr/>
              <p:nvPr/>
            </p:nvSpPr>
            <p:spPr>
              <a:xfrm flipH="1" rot="18000000">
                <a:off x="5850000" y="37677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任意多边形 352"/>
              <p:cNvSpPr/>
              <p:nvPr/>
            </p:nvSpPr>
            <p:spPr>
              <a:xfrm flipH="1" rot="18000000">
                <a:off x="6420960" y="31316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任意多边形 353"/>
              <p:cNvSpPr/>
              <p:nvPr/>
            </p:nvSpPr>
            <p:spPr>
              <a:xfrm flipH="1" rot="18000000">
                <a:off x="6061320" y="37544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任意多边形 354"/>
              <p:cNvSpPr/>
              <p:nvPr/>
            </p:nvSpPr>
            <p:spPr>
              <a:xfrm flipH="1" rot="18000000">
                <a:off x="6434280" y="33876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任意多边形 355"/>
              <p:cNvSpPr/>
              <p:nvPr/>
            </p:nvSpPr>
            <p:spPr>
              <a:xfrm flipH="1" rot="18000000">
                <a:off x="6280920" y="36532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任意多边形 356"/>
              <p:cNvSpPr/>
              <p:nvPr/>
            </p:nvSpPr>
            <p:spPr>
              <a:xfrm flipH="1" rot="18000000">
                <a:off x="6053760" y="28011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任意多边形 316"/>
            <p:cNvSpPr/>
            <p:nvPr/>
          </p:nvSpPr>
          <p:spPr>
            <a:xfrm flipH="1" rot="18000000">
              <a:off x="5849640" y="376812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336"/>
            <p:cNvSpPr/>
            <p:nvPr/>
          </p:nvSpPr>
          <p:spPr>
            <a:xfrm flipH="1" rot="18000000">
              <a:off x="6420600" y="313236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337"/>
            <p:cNvSpPr/>
            <p:nvPr/>
          </p:nvSpPr>
          <p:spPr>
            <a:xfrm flipH="1" rot="18000000">
              <a:off x="6060960" y="375516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343"/>
            <p:cNvSpPr/>
            <p:nvPr/>
          </p:nvSpPr>
          <p:spPr>
            <a:xfrm flipH="1" rot="18000000">
              <a:off x="6433920" y="338832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344"/>
            <p:cNvSpPr/>
            <p:nvPr/>
          </p:nvSpPr>
          <p:spPr>
            <a:xfrm flipH="1" rot="18000000">
              <a:off x="6280560" y="365400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362"/>
          <p:cNvGrpSpPr/>
          <p:nvPr/>
        </p:nvGrpSpPr>
        <p:grpSpPr>
          <a:xfrm>
            <a:off x="5378760" y="2711520"/>
            <a:ext cx="1434240" cy="1434960"/>
            <a:chOff x="5378760" y="2711520"/>
            <a:chExt cx="1434240" cy="1434960"/>
          </a:xfrm>
        </p:grpSpPr>
        <p:grpSp>
          <p:nvGrpSpPr>
            <p:cNvPr id="375" name="组合 363"/>
            <p:cNvGrpSpPr/>
            <p:nvPr/>
          </p:nvGrpSpPr>
          <p:grpSpPr>
            <a:xfrm>
              <a:off x="5378760" y="2711520"/>
              <a:ext cx="1434240" cy="1434600"/>
              <a:chOff x="5378760" y="2711520"/>
              <a:chExt cx="1434240" cy="1434600"/>
            </a:xfrm>
          </p:grpSpPr>
          <p:sp>
            <p:nvSpPr>
              <p:cNvPr id="376" name="任意多边形 369"/>
              <p:cNvSpPr/>
              <p:nvPr/>
            </p:nvSpPr>
            <p:spPr>
              <a:xfrm flipH="1" rot="19800000">
                <a:off x="5583600" y="295560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任意多边形 370"/>
              <p:cNvSpPr/>
              <p:nvPr/>
            </p:nvSpPr>
            <p:spPr>
              <a:xfrm flipH="1" rot="19800000">
                <a:off x="5849280" y="28022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任意多边形 371"/>
              <p:cNvSpPr/>
              <p:nvPr/>
            </p:nvSpPr>
            <p:spPr>
              <a:xfrm flipH="1" rot="19800000">
                <a:off x="5438520" y="313164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任意多边形 372"/>
              <p:cNvSpPr/>
              <p:nvPr/>
            </p:nvSpPr>
            <p:spPr>
              <a:xfrm flipH="1" rot="19800000">
                <a:off x="6061320" y="2772000"/>
                <a:ext cx="330840" cy="330840"/>
              </a:xfrm>
              <a:custGeom>
                <a:avLst/>
                <a:gdLst>
                  <a:gd name="textAreaLeft" fmla="*/ 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任意多边形 373"/>
              <p:cNvSpPr/>
              <p:nvPr/>
            </p:nvSpPr>
            <p:spPr>
              <a:xfrm flipH="1" rot="19800000">
                <a:off x="5469120" y="33868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任意多边形 374"/>
              <p:cNvSpPr/>
              <p:nvPr/>
            </p:nvSpPr>
            <p:spPr>
              <a:xfrm flipH="1" rot="19800000">
                <a:off x="6435720" y="31827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任意多边形 375"/>
              <p:cNvSpPr/>
              <p:nvPr/>
            </p:nvSpPr>
            <p:spPr>
              <a:xfrm flipH="1" rot="19800000">
                <a:off x="5622480" y="365256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任意多边形 381"/>
              <p:cNvSpPr/>
              <p:nvPr/>
            </p:nvSpPr>
            <p:spPr>
              <a:xfrm flipH="1" rot="19800000">
                <a:off x="6420960" y="339516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任意多边形 382"/>
              <p:cNvSpPr/>
              <p:nvPr/>
            </p:nvSpPr>
            <p:spPr>
              <a:xfrm flipH="1" rot="19800000">
                <a:off x="5798160" y="3754800"/>
                <a:ext cx="330840" cy="330840"/>
              </a:xfrm>
              <a:custGeom>
                <a:avLst/>
                <a:gdLst>
                  <a:gd name="textAreaLeft" fmla="*/ -360 w 330840"/>
                  <a:gd name="textAreaRight" fmla="*/ 330840 w 330840"/>
                  <a:gd name="textAreaTop" fmla="*/ 0 h 330840"/>
                  <a:gd name="textAreaBottom" fmla="*/ 331200 h 33084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任意多边形 383"/>
              <p:cNvSpPr/>
              <p:nvPr/>
            </p:nvSpPr>
            <p:spPr>
              <a:xfrm flipH="1" rot="19800000">
                <a:off x="6318720" y="361548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384"/>
              <p:cNvSpPr/>
              <p:nvPr/>
            </p:nvSpPr>
            <p:spPr>
              <a:xfrm flipH="1" rot="19800000">
                <a:off x="6053040" y="3768840"/>
                <a:ext cx="288360" cy="28620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6200"/>
                  <a:gd name="textAreaBottom" fmla="*/ 286560 h 28620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385"/>
              <p:cNvSpPr/>
              <p:nvPr/>
            </p:nvSpPr>
            <p:spPr>
              <a:xfrm flipH="1" rot="19800000">
                <a:off x="6282360" y="2917080"/>
                <a:ext cx="286200" cy="288360"/>
              </a:xfrm>
              <a:custGeom>
                <a:avLst/>
                <a:gdLst>
                  <a:gd name="textAreaLeft" fmla="*/ -360 w 286200"/>
                  <a:gd name="textAreaRight" fmla="*/ 286200 w 28620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任意多边形 364"/>
            <p:cNvSpPr/>
            <p:nvPr/>
          </p:nvSpPr>
          <p:spPr>
            <a:xfrm flipH="1" rot="19800000">
              <a:off x="5622120" y="3652560"/>
              <a:ext cx="286200" cy="288360"/>
            </a:xfrm>
            <a:custGeom>
              <a:avLst/>
              <a:gdLst>
                <a:gd name="textAreaLeft" fmla="*/ -360 w 286200"/>
                <a:gd name="textAreaRight" fmla="*/ 286200 w 2862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365"/>
            <p:cNvSpPr/>
            <p:nvPr/>
          </p:nvSpPr>
          <p:spPr>
            <a:xfrm flipH="1" rot="19800000">
              <a:off x="6420240" y="339552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366"/>
            <p:cNvSpPr/>
            <p:nvPr/>
          </p:nvSpPr>
          <p:spPr>
            <a:xfrm flipH="1" rot="19800000">
              <a:off x="5797440" y="3755160"/>
              <a:ext cx="330840" cy="330840"/>
            </a:xfrm>
            <a:custGeom>
              <a:avLst/>
              <a:gdLst>
                <a:gd name="textAreaLeft" fmla="*/ -360 w 330840"/>
                <a:gd name="textAreaRight" fmla="*/ 330840 w 330840"/>
                <a:gd name="textAreaTop" fmla="*/ 0 h 330840"/>
                <a:gd name="textAreaBottom" fmla="*/ 331200 h 33084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367"/>
            <p:cNvSpPr/>
            <p:nvPr/>
          </p:nvSpPr>
          <p:spPr>
            <a:xfrm flipH="1" rot="19800000">
              <a:off x="6318000" y="361584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368"/>
            <p:cNvSpPr/>
            <p:nvPr/>
          </p:nvSpPr>
          <p:spPr>
            <a:xfrm flipH="1" rot="19800000">
              <a:off x="6052320" y="3769200"/>
              <a:ext cx="288360" cy="286200"/>
            </a:xfrm>
            <a:custGeom>
              <a:avLst/>
              <a:gdLst>
                <a:gd name="textAreaLeft" fmla="*/ -360 w 288360"/>
                <a:gd name="textAreaRight" fmla="*/ 288360 w 2883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428"/>
          <p:cNvGrpSpPr/>
          <p:nvPr/>
        </p:nvGrpSpPr>
        <p:grpSpPr>
          <a:xfrm>
            <a:off x="5483160" y="2816280"/>
            <a:ext cx="1224000" cy="1224000"/>
            <a:chOff x="5483160" y="2816280"/>
            <a:chExt cx="1224000" cy="1224000"/>
          </a:xfrm>
        </p:grpSpPr>
        <p:grpSp>
          <p:nvGrpSpPr>
            <p:cNvPr id="394" name="组合 429"/>
            <p:cNvGrpSpPr/>
            <p:nvPr/>
          </p:nvGrpSpPr>
          <p:grpSpPr>
            <a:xfrm>
              <a:off x="5483160" y="2816280"/>
              <a:ext cx="1224000" cy="1224000"/>
              <a:chOff x="5483160" y="2816280"/>
              <a:chExt cx="1224000" cy="1224000"/>
            </a:xfrm>
          </p:grpSpPr>
          <p:sp>
            <p:nvSpPr>
              <p:cNvPr id="395" name="任意多边形 440"/>
              <p:cNvSpPr/>
              <p:nvPr/>
            </p:nvSpPr>
            <p:spPr>
              <a:xfrm flipH="1">
                <a:off x="5798160" y="281628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任意多边形 441"/>
              <p:cNvSpPr/>
              <p:nvPr/>
            </p:nvSpPr>
            <p:spPr>
              <a:xfrm flipH="1">
                <a:off x="6104520" y="281628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任意多边形 442"/>
              <p:cNvSpPr/>
              <p:nvPr/>
            </p:nvSpPr>
            <p:spPr>
              <a:xfrm flipH="1">
                <a:off x="5571000" y="29037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任意多边形 443"/>
              <p:cNvSpPr/>
              <p:nvPr/>
            </p:nvSpPr>
            <p:spPr>
              <a:xfrm flipH="1">
                <a:off x="6289200" y="29037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任意多边形 444"/>
              <p:cNvSpPr/>
              <p:nvPr/>
            </p:nvSpPr>
            <p:spPr>
              <a:xfrm flipH="1">
                <a:off x="5483160" y="313092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任意多边形 445"/>
              <p:cNvSpPr/>
              <p:nvPr/>
            </p:nvSpPr>
            <p:spPr>
              <a:xfrm flipH="1">
                <a:off x="6421320" y="343728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任意多边形 446"/>
              <p:cNvSpPr/>
              <p:nvPr/>
            </p:nvSpPr>
            <p:spPr>
              <a:xfrm flipH="1">
                <a:off x="5483160" y="343728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任意多边形 447"/>
              <p:cNvSpPr/>
              <p:nvPr/>
            </p:nvSpPr>
            <p:spPr>
              <a:xfrm flipH="1">
                <a:off x="6289200" y="36219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任意多边形 448"/>
              <p:cNvSpPr/>
              <p:nvPr/>
            </p:nvSpPr>
            <p:spPr>
              <a:xfrm flipH="1">
                <a:off x="5571000" y="36219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任意多边形 449"/>
              <p:cNvSpPr/>
              <p:nvPr/>
            </p:nvSpPr>
            <p:spPr>
              <a:xfrm flipH="1">
                <a:off x="6104520" y="37544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任意多边形 450"/>
              <p:cNvSpPr/>
              <p:nvPr/>
            </p:nvSpPr>
            <p:spPr>
              <a:xfrm flipH="1">
                <a:off x="5797440" y="375444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任意多边形 451"/>
              <p:cNvSpPr/>
              <p:nvPr/>
            </p:nvSpPr>
            <p:spPr>
              <a:xfrm flipH="1">
                <a:off x="6421320" y="313092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任意多边形 430"/>
            <p:cNvSpPr/>
            <p:nvPr/>
          </p:nvSpPr>
          <p:spPr>
            <a:xfrm flipH="1">
              <a:off x="5483160" y="343728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任意多边形 431"/>
            <p:cNvSpPr/>
            <p:nvPr/>
          </p:nvSpPr>
          <p:spPr>
            <a:xfrm flipH="1">
              <a:off x="6288840" y="36219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任意多边形 432"/>
            <p:cNvSpPr/>
            <p:nvPr/>
          </p:nvSpPr>
          <p:spPr>
            <a:xfrm flipH="1">
              <a:off x="5570640" y="36219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任意多边形 438"/>
            <p:cNvSpPr/>
            <p:nvPr/>
          </p:nvSpPr>
          <p:spPr>
            <a:xfrm flipH="1">
              <a:off x="6104160" y="375444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任意多边形 439"/>
            <p:cNvSpPr/>
            <p:nvPr/>
          </p:nvSpPr>
          <p:spPr>
            <a:xfrm flipH="1">
              <a:off x="5797800" y="375444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452"/>
          <p:cNvGrpSpPr/>
          <p:nvPr/>
        </p:nvGrpSpPr>
        <p:grpSpPr>
          <a:xfrm>
            <a:off x="5378760" y="2711880"/>
            <a:ext cx="1432800" cy="1432440"/>
            <a:chOff x="5378760" y="2711880"/>
            <a:chExt cx="1432800" cy="1432440"/>
          </a:xfrm>
        </p:grpSpPr>
        <p:grpSp>
          <p:nvGrpSpPr>
            <p:cNvPr id="413" name="组合 453"/>
            <p:cNvGrpSpPr/>
            <p:nvPr/>
          </p:nvGrpSpPr>
          <p:grpSpPr>
            <a:xfrm>
              <a:off x="5379120" y="2711880"/>
              <a:ext cx="1432440" cy="1432440"/>
              <a:chOff x="5379120" y="2711880"/>
              <a:chExt cx="1432440" cy="1432440"/>
            </a:xfrm>
          </p:grpSpPr>
          <p:sp>
            <p:nvSpPr>
              <p:cNvPr id="414" name="任意多边形 459"/>
              <p:cNvSpPr/>
              <p:nvPr/>
            </p:nvSpPr>
            <p:spPr>
              <a:xfrm flipH="1" rot="1800000">
                <a:off x="6053040" y="280224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任意多边形 460"/>
              <p:cNvSpPr/>
              <p:nvPr/>
            </p:nvSpPr>
            <p:spPr>
              <a:xfrm flipH="1" rot="1800000">
                <a:off x="6318360" y="295560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任意多边形 461"/>
              <p:cNvSpPr/>
              <p:nvPr/>
            </p:nvSpPr>
            <p:spPr>
              <a:xfrm flipH="1" rot="1800000">
                <a:off x="579888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任意多边形 462"/>
              <p:cNvSpPr/>
              <p:nvPr/>
            </p:nvSpPr>
            <p:spPr>
              <a:xfrm flipH="1" rot="1800000">
                <a:off x="6420600" y="31316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任意多边形 463"/>
              <p:cNvSpPr/>
              <p:nvPr/>
            </p:nvSpPr>
            <p:spPr>
              <a:xfrm flipH="1" rot="1800000">
                <a:off x="5622480" y="291672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任意多边形 464"/>
              <p:cNvSpPr/>
              <p:nvPr/>
            </p:nvSpPr>
            <p:spPr>
              <a:xfrm flipH="1" rot="1800000">
                <a:off x="6281640" y="365112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任意多边形 465"/>
              <p:cNvSpPr/>
              <p:nvPr/>
            </p:nvSpPr>
            <p:spPr>
              <a:xfrm flipH="1" rot="1800000">
                <a:off x="5469480" y="318204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任意多边形 466"/>
              <p:cNvSpPr/>
              <p:nvPr/>
            </p:nvSpPr>
            <p:spPr>
              <a:xfrm flipH="1" rot="1800000">
                <a:off x="606168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任意多边形 467"/>
              <p:cNvSpPr/>
              <p:nvPr/>
            </p:nvSpPr>
            <p:spPr>
              <a:xfrm flipH="1" rot="1800000">
                <a:off x="5439600" y="33944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任意多边形 468"/>
              <p:cNvSpPr/>
              <p:nvPr/>
            </p:nvSpPr>
            <p:spPr>
              <a:xfrm flipH="1" rot="1800000">
                <a:off x="5849280" y="37681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任意多边形 469"/>
              <p:cNvSpPr/>
              <p:nvPr/>
            </p:nvSpPr>
            <p:spPr>
              <a:xfrm flipH="1" rot="1800000">
                <a:off x="5583240" y="361512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任意多边形 470"/>
              <p:cNvSpPr/>
              <p:nvPr/>
            </p:nvSpPr>
            <p:spPr>
              <a:xfrm flipH="1" rot="1800000">
                <a:off x="6435000" y="33858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任意多边形 454"/>
            <p:cNvSpPr/>
            <p:nvPr/>
          </p:nvSpPr>
          <p:spPr>
            <a:xfrm flipH="1" rot="1800000">
              <a:off x="5469480" y="318204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任意多边形 455"/>
            <p:cNvSpPr/>
            <p:nvPr/>
          </p:nvSpPr>
          <p:spPr>
            <a:xfrm flipH="1" rot="1800000">
              <a:off x="6061320" y="37533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任意多边形 456"/>
            <p:cNvSpPr/>
            <p:nvPr/>
          </p:nvSpPr>
          <p:spPr>
            <a:xfrm flipH="1" rot="1800000">
              <a:off x="5439240" y="339408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任意多边形 457"/>
            <p:cNvSpPr/>
            <p:nvPr/>
          </p:nvSpPr>
          <p:spPr>
            <a:xfrm flipH="1" rot="1800000">
              <a:off x="5848920" y="376776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任意多边形 458"/>
            <p:cNvSpPr/>
            <p:nvPr/>
          </p:nvSpPr>
          <p:spPr>
            <a:xfrm flipH="1" rot="1800000">
              <a:off x="5583600" y="361476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组合 471"/>
          <p:cNvGrpSpPr/>
          <p:nvPr/>
        </p:nvGrpSpPr>
        <p:grpSpPr>
          <a:xfrm>
            <a:off x="5379120" y="2712240"/>
            <a:ext cx="1432440" cy="1432440"/>
            <a:chOff x="5379120" y="2712240"/>
            <a:chExt cx="1432440" cy="1432440"/>
          </a:xfrm>
        </p:grpSpPr>
        <p:grpSp>
          <p:nvGrpSpPr>
            <p:cNvPr id="432" name="组合 472"/>
            <p:cNvGrpSpPr/>
            <p:nvPr/>
          </p:nvGrpSpPr>
          <p:grpSpPr>
            <a:xfrm>
              <a:off x="5379120" y="2712240"/>
              <a:ext cx="1432440" cy="1432440"/>
              <a:chOff x="5379120" y="2712240"/>
              <a:chExt cx="1432440" cy="1432440"/>
            </a:xfrm>
          </p:grpSpPr>
          <p:sp>
            <p:nvSpPr>
              <p:cNvPr id="433" name="任意多边形 478"/>
              <p:cNvSpPr/>
              <p:nvPr/>
            </p:nvSpPr>
            <p:spPr>
              <a:xfrm flipH="1" rot="3600000">
                <a:off x="6280560" y="291852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任意多边形 479"/>
              <p:cNvSpPr/>
              <p:nvPr/>
            </p:nvSpPr>
            <p:spPr>
              <a:xfrm flipH="1" rot="3600000">
                <a:off x="6433560" y="31838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任意多边形 480"/>
              <p:cNvSpPr/>
              <p:nvPr/>
            </p:nvSpPr>
            <p:spPr>
              <a:xfrm flipH="1" rot="3600000">
                <a:off x="606168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任意多边形 486"/>
              <p:cNvSpPr/>
              <p:nvPr/>
            </p:nvSpPr>
            <p:spPr>
              <a:xfrm flipH="1" rot="3600000">
                <a:off x="6420600" y="33940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任意多边形 487"/>
              <p:cNvSpPr/>
              <p:nvPr/>
            </p:nvSpPr>
            <p:spPr>
              <a:xfrm flipH="1" rot="3600000">
                <a:off x="5850000" y="280152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任意多边形 488"/>
              <p:cNvSpPr/>
              <p:nvPr/>
            </p:nvSpPr>
            <p:spPr>
              <a:xfrm flipH="1" rot="3600000">
                <a:off x="6053760" y="376704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任意多边形 494"/>
              <p:cNvSpPr/>
              <p:nvPr/>
            </p:nvSpPr>
            <p:spPr>
              <a:xfrm flipH="1" rot="3600000">
                <a:off x="5584320" y="295416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任意多边形 495"/>
              <p:cNvSpPr/>
              <p:nvPr/>
            </p:nvSpPr>
            <p:spPr>
              <a:xfrm flipH="1" rot="3600000">
                <a:off x="579888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任意多边形 496"/>
              <p:cNvSpPr/>
              <p:nvPr/>
            </p:nvSpPr>
            <p:spPr>
              <a:xfrm flipH="1" rot="3600000">
                <a:off x="5439600" y="31312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任意多边形 497"/>
              <p:cNvSpPr/>
              <p:nvPr/>
            </p:nvSpPr>
            <p:spPr>
              <a:xfrm flipH="1" rot="3600000">
                <a:off x="5621040" y="36529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任意多边形 498"/>
              <p:cNvSpPr/>
              <p:nvPr/>
            </p:nvSpPr>
            <p:spPr>
              <a:xfrm flipH="1" rot="3600000">
                <a:off x="5467320" y="338724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任意多边形 499"/>
              <p:cNvSpPr/>
              <p:nvPr/>
            </p:nvSpPr>
            <p:spPr>
              <a:xfrm flipH="1" rot="3600000">
                <a:off x="6319080" y="361404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任意多边形 473"/>
            <p:cNvSpPr/>
            <p:nvPr/>
          </p:nvSpPr>
          <p:spPr>
            <a:xfrm flipH="1" rot="3600000">
              <a:off x="5584320" y="295416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任意多边形 474"/>
            <p:cNvSpPr/>
            <p:nvPr/>
          </p:nvSpPr>
          <p:spPr>
            <a:xfrm flipH="1" rot="3600000">
              <a:off x="5798520" y="375300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任意多边形 475"/>
            <p:cNvSpPr/>
            <p:nvPr/>
          </p:nvSpPr>
          <p:spPr>
            <a:xfrm flipH="1" rot="3600000">
              <a:off x="5439600" y="313092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任意多边形 476"/>
            <p:cNvSpPr/>
            <p:nvPr/>
          </p:nvSpPr>
          <p:spPr>
            <a:xfrm flipH="1" rot="3600000">
              <a:off x="5621040" y="365256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任意多边形 477"/>
            <p:cNvSpPr/>
            <p:nvPr/>
          </p:nvSpPr>
          <p:spPr>
            <a:xfrm flipH="1" rot="3600000">
              <a:off x="5467680" y="338724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500"/>
          <p:cNvGrpSpPr/>
          <p:nvPr/>
        </p:nvGrpSpPr>
        <p:grpSpPr>
          <a:xfrm>
            <a:off x="5483160" y="2816280"/>
            <a:ext cx="1224000" cy="1224000"/>
            <a:chOff x="5483160" y="2816280"/>
            <a:chExt cx="1224000" cy="1224000"/>
          </a:xfrm>
        </p:grpSpPr>
        <p:grpSp>
          <p:nvGrpSpPr>
            <p:cNvPr id="451" name="组合 501"/>
            <p:cNvGrpSpPr/>
            <p:nvPr/>
          </p:nvGrpSpPr>
          <p:grpSpPr>
            <a:xfrm>
              <a:off x="5483160" y="2816280"/>
              <a:ext cx="1224000" cy="1224000"/>
              <a:chOff x="5483160" y="2816280"/>
              <a:chExt cx="1224000" cy="1224000"/>
            </a:xfrm>
          </p:grpSpPr>
          <p:sp>
            <p:nvSpPr>
              <p:cNvPr id="452" name="任意多边形 507"/>
              <p:cNvSpPr/>
              <p:nvPr/>
            </p:nvSpPr>
            <p:spPr>
              <a:xfrm flipH="1" rot="5400000">
                <a:off x="6420240" y="313236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任意多边形 513"/>
              <p:cNvSpPr/>
              <p:nvPr/>
            </p:nvSpPr>
            <p:spPr>
              <a:xfrm flipH="1" rot="5400000">
                <a:off x="6420240" y="34387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任意多边形 514"/>
              <p:cNvSpPr/>
              <p:nvPr/>
            </p:nvSpPr>
            <p:spPr>
              <a:xfrm flipH="1" rot="5400000">
                <a:off x="6289200" y="29041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任意多边形 515"/>
              <p:cNvSpPr/>
              <p:nvPr/>
            </p:nvSpPr>
            <p:spPr>
              <a:xfrm flipH="1" rot="5400000">
                <a:off x="6289200" y="36223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任意多边形 516"/>
              <p:cNvSpPr/>
              <p:nvPr/>
            </p:nvSpPr>
            <p:spPr>
              <a:xfrm flipH="1" rot="5400000">
                <a:off x="6105600" y="28152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任意多边形 517"/>
              <p:cNvSpPr/>
              <p:nvPr/>
            </p:nvSpPr>
            <p:spPr>
              <a:xfrm flipH="1" rot="5400000">
                <a:off x="5799240" y="375336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任意多边形 518"/>
              <p:cNvSpPr/>
              <p:nvPr/>
            </p:nvSpPr>
            <p:spPr>
              <a:xfrm flipH="1" rot="5400000">
                <a:off x="5798520" y="281484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任意多边形 519"/>
              <p:cNvSpPr/>
              <p:nvPr/>
            </p:nvSpPr>
            <p:spPr>
              <a:xfrm flipH="1" rot="5400000">
                <a:off x="5571000" y="36223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任意多边形 520"/>
              <p:cNvSpPr/>
              <p:nvPr/>
            </p:nvSpPr>
            <p:spPr>
              <a:xfrm flipH="1" rot="5400000">
                <a:off x="5571000" y="29041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任意多边形 521"/>
              <p:cNvSpPr/>
              <p:nvPr/>
            </p:nvSpPr>
            <p:spPr>
              <a:xfrm flipH="1" rot="5400000">
                <a:off x="5482080" y="34387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任意多边形 522"/>
              <p:cNvSpPr/>
              <p:nvPr/>
            </p:nvSpPr>
            <p:spPr>
              <a:xfrm flipH="1" rot="5400000">
                <a:off x="5481720" y="313200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任意多边形 523"/>
              <p:cNvSpPr/>
              <p:nvPr/>
            </p:nvSpPr>
            <p:spPr>
              <a:xfrm flipH="1" rot="5400000">
                <a:off x="6105600" y="375336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任意多边形 502"/>
            <p:cNvSpPr/>
            <p:nvPr/>
          </p:nvSpPr>
          <p:spPr>
            <a:xfrm flipH="1" rot="5400000">
              <a:off x="5798520" y="281484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任意多边形 503"/>
            <p:cNvSpPr/>
            <p:nvPr/>
          </p:nvSpPr>
          <p:spPr>
            <a:xfrm flipH="1" rot="5400000">
              <a:off x="5571000" y="36219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任意多边形 504"/>
            <p:cNvSpPr/>
            <p:nvPr/>
          </p:nvSpPr>
          <p:spPr>
            <a:xfrm flipH="1" rot="5400000">
              <a:off x="5571000" y="29037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任意多边形 505"/>
            <p:cNvSpPr/>
            <p:nvPr/>
          </p:nvSpPr>
          <p:spPr>
            <a:xfrm flipH="1" rot="5400000">
              <a:off x="5482080" y="343836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506"/>
            <p:cNvSpPr/>
            <p:nvPr/>
          </p:nvSpPr>
          <p:spPr>
            <a:xfrm flipH="1" rot="5400000">
              <a:off x="5482080" y="313200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524"/>
          <p:cNvGrpSpPr/>
          <p:nvPr/>
        </p:nvGrpSpPr>
        <p:grpSpPr>
          <a:xfrm>
            <a:off x="5379120" y="2711880"/>
            <a:ext cx="1432440" cy="1432800"/>
            <a:chOff x="5379120" y="2711880"/>
            <a:chExt cx="1432440" cy="1432800"/>
          </a:xfrm>
        </p:grpSpPr>
        <p:grpSp>
          <p:nvGrpSpPr>
            <p:cNvPr id="470" name="组合 525"/>
            <p:cNvGrpSpPr/>
            <p:nvPr/>
          </p:nvGrpSpPr>
          <p:grpSpPr>
            <a:xfrm>
              <a:off x="5379120" y="2712240"/>
              <a:ext cx="1432440" cy="1432440"/>
              <a:chOff x="5379120" y="2712240"/>
              <a:chExt cx="1432440" cy="1432440"/>
            </a:xfrm>
          </p:grpSpPr>
          <p:sp>
            <p:nvSpPr>
              <p:cNvPr id="471" name="任意多边形 531"/>
              <p:cNvSpPr/>
              <p:nvPr/>
            </p:nvSpPr>
            <p:spPr>
              <a:xfrm flipH="1" rot="7200000">
                <a:off x="6433560" y="338760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任意多边形 532"/>
              <p:cNvSpPr/>
              <p:nvPr/>
            </p:nvSpPr>
            <p:spPr>
              <a:xfrm flipH="1" rot="7200000">
                <a:off x="6280200" y="36529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任意多边形 533"/>
              <p:cNvSpPr/>
              <p:nvPr/>
            </p:nvSpPr>
            <p:spPr>
              <a:xfrm flipH="1" rot="7200000">
                <a:off x="6420600" y="31316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任意多边形 534"/>
              <p:cNvSpPr/>
              <p:nvPr/>
            </p:nvSpPr>
            <p:spPr>
              <a:xfrm flipH="1" rot="7200000">
                <a:off x="606132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任意多边形 535"/>
              <p:cNvSpPr/>
              <p:nvPr/>
            </p:nvSpPr>
            <p:spPr>
              <a:xfrm flipH="1" rot="7200000">
                <a:off x="6319080" y="295488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任意多边形 536"/>
              <p:cNvSpPr/>
              <p:nvPr/>
            </p:nvSpPr>
            <p:spPr>
              <a:xfrm flipH="1" rot="7200000">
                <a:off x="5584680" y="361404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任意多边形 537"/>
              <p:cNvSpPr/>
              <p:nvPr/>
            </p:nvSpPr>
            <p:spPr>
              <a:xfrm flipH="1" rot="7200000">
                <a:off x="6053400" y="280116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任意多边形 538"/>
              <p:cNvSpPr/>
              <p:nvPr/>
            </p:nvSpPr>
            <p:spPr>
              <a:xfrm flipH="1" rot="7200000">
                <a:off x="5439600" y="33944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任意多边形 539"/>
              <p:cNvSpPr/>
              <p:nvPr/>
            </p:nvSpPr>
            <p:spPr>
              <a:xfrm flipH="1" rot="7200000">
                <a:off x="579852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任意多边形 540"/>
              <p:cNvSpPr/>
              <p:nvPr/>
            </p:nvSpPr>
            <p:spPr>
              <a:xfrm flipH="1" rot="7200000">
                <a:off x="5467680" y="31838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任意多边形 541"/>
              <p:cNvSpPr/>
              <p:nvPr/>
            </p:nvSpPr>
            <p:spPr>
              <a:xfrm flipH="1" rot="7200000">
                <a:off x="5621040" y="291816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任意多边形 542"/>
              <p:cNvSpPr/>
              <p:nvPr/>
            </p:nvSpPr>
            <p:spPr>
              <a:xfrm flipH="1" rot="7200000">
                <a:off x="5850000" y="37674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任意多边形 526"/>
            <p:cNvSpPr/>
            <p:nvPr/>
          </p:nvSpPr>
          <p:spPr>
            <a:xfrm flipH="1" rot="7200000">
              <a:off x="6053400" y="280116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任意多边形 527"/>
            <p:cNvSpPr/>
            <p:nvPr/>
          </p:nvSpPr>
          <p:spPr>
            <a:xfrm flipH="1" rot="7200000">
              <a:off x="5439600" y="339408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任意多边形 528"/>
            <p:cNvSpPr/>
            <p:nvPr/>
          </p:nvSpPr>
          <p:spPr>
            <a:xfrm flipH="1" rot="7200000">
              <a:off x="5798880" y="277200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任意多边形 529"/>
            <p:cNvSpPr/>
            <p:nvPr/>
          </p:nvSpPr>
          <p:spPr>
            <a:xfrm flipH="1" rot="7200000">
              <a:off x="5468040" y="318348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任意多边形 530"/>
            <p:cNvSpPr/>
            <p:nvPr/>
          </p:nvSpPr>
          <p:spPr>
            <a:xfrm flipH="1" rot="7200000">
              <a:off x="5621040" y="291816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组合 543"/>
          <p:cNvGrpSpPr/>
          <p:nvPr/>
        </p:nvGrpSpPr>
        <p:grpSpPr>
          <a:xfrm>
            <a:off x="5378760" y="2712240"/>
            <a:ext cx="1432440" cy="1432440"/>
            <a:chOff x="5378760" y="2712240"/>
            <a:chExt cx="1432440" cy="1432440"/>
          </a:xfrm>
        </p:grpSpPr>
        <p:grpSp>
          <p:nvGrpSpPr>
            <p:cNvPr id="489" name="组合 544"/>
            <p:cNvGrpSpPr/>
            <p:nvPr/>
          </p:nvGrpSpPr>
          <p:grpSpPr>
            <a:xfrm>
              <a:off x="5378760" y="2712240"/>
              <a:ext cx="1432440" cy="1432440"/>
              <a:chOff x="5378760" y="2712240"/>
              <a:chExt cx="1432440" cy="1432440"/>
            </a:xfrm>
          </p:grpSpPr>
          <p:sp>
            <p:nvSpPr>
              <p:cNvPr id="490" name="任意多边形 555"/>
              <p:cNvSpPr/>
              <p:nvPr/>
            </p:nvSpPr>
            <p:spPr>
              <a:xfrm flipH="1" rot="9000000">
                <a:off x="6318000" y="361512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任意多边形 556"/>
              <p:cNvSpPr/>
              <p:nvPr/>
            </p:nvSpPr>
            <p:spPr>
              <a:xfrm flipH="1" rot="9000000">
                <a:off x="6052680" y="37681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任意多边形 557"/>
              <p:cNvSpPr/>
              <p:nvPr/>
            </p:nvSpPr>
            <p:spPr>
              <a:xfrm flipH="1" rot="9000000">
                <a:off x="6419880" y="33944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任意多边形 558"/>
              <p:cNvSpPr/>
              <p:nvPr/>
            </p:nvSpPr>
            <p:spPr>
              <a:xfrm flipH="1" rot="9000000">
                <a:off x="579816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任意多边形 559"/>
              <p:cNvSpPr/>
              <p:nvPr/>
            </p:nvSpPr>
            <p:spPr>
              <a:xfrm flipH="1" rot="9000000">
                <a:off x="6435000" y="31824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任意多边形 560"/>
              <p:cNvSpPr/>
              <p:nvPr/>
            </p:nvSpPr>
            <p:spPr>
              <a:xfrm flipH="1" rot="9000000">
                <a:off x="5469480" y="338616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任意多边形 561"/>
              <p:cNvSpPr/>
              <p:nvPr/>
            </p:nvSpPr>
            <p:spPr>
              <a:xfrm flipH="1" rot="9000000">
                <a:off x="6282000" y="291672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任意多边形 562"/>
              <p:cNvSpPr/>
              <p:nvPr/>
            </p:nvSpPr>
            <p:spPr>
              <a:xfrm flipH="1" rot="9000000">
                <a:off x="5438880" y="31316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任意多边形 563"/>
              <p:cNvSpPr/>
              <p:nvPr/>
            </p:nvSpPr>
            <p:spPr>
              <a:xfrm flipH="1" rot="9000000">
                <a:off x="606096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任意多边形 564"/>
              <p:cNvSpPr/>
              <p:nvPr/>
            </p:nvSpPr>
            <p:spPr>
              <a:xfrm flipH="1" rot="9000000">
                <a:off x="5583600" y="295560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任意多边形 565"/>
              <p:cNvSpPr/>
              <p:nvPr/>
            </p:nvSpPr>
            <p:spPr>
              <a:xfrm flipH="1" rot="9000000">
                <a:off x="5848560" y="280224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任意多边形 566"/>
              <p:cNvSpPr/>
              <p:nvPr/>
            </p:nvSpPr>
            <p:spPr>
              <a:xfrm flipH="1" rot="9000000">
                <a:off x="5622480" y="365148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任意多边形 545"/>
            <p:cNvSpPr/>
            <p:nvPr/>
          </p:nvSpPr>
          <p:spPr>
            <a:xfrm flipH="1" rot="9000000">
              <a:off x="6282000" y="291672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任意多边形 551"/>
            <p:cNvSpPr/>
            <p:nvPr/>
          </p:nvSpPr>
          <p:spPr>
            <a:xfrm flipH="1" rot="9000000">
              <a:off x="5439240" y="313128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任意多边形 552"/>
            <p:cNvSpPr/>
            <p:nvPr/>
          </p:nvSpPr>
          <p:spPr>
            <a:xfrm flipH="1" rot="9000000">
              <a:off x="6061320" y="27723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任意多边形 553"/>
            <p:cNvSpPr/>
            <p:nvPr/>
          </p:nvSpPr>
          <p:spPr>
            <a:xfrm flipH="1" rot="9000000">
              <a:off x="5583960" y="295560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任意多边形 554"/>
            <p:cNvSpPr/>
            <p:nvPr/>
          </p:nvSpPr>
          <p:spPr>
            <a:xfrm flipH="1" rot="9000000">
              <a:off x="5849280" y="280224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567"/>
          <p:cNvGrpSpPr/>
          <p:nvPr/>
        </p:nvGrpSpPr>
        <p:grpSpPr>
          <a:xfrm>
            <a:off x="5483160" y="2816280"/>
            <a:ext cx="1224000" cy="1224000"/>
            <a:chOff x="5483160" y="2816280"/>
            <a:chExt cx="1224000" cy="1224000"/>
          </a:xfrm>
        </p:grpSpPr>
        <p:grpSp>
          <p:nvGrpSpPr>
            <p:cNvPr id="508" name="组合 568"/>
            <p:cNvGrpSpPr/>
            <p:nvPr/>
          </p:nvGrpSpPr>
          <p:grpSpPr>
            <a:xfrm>
              <a:off x="5483160" y="2816280"/>
              <a:ext cx="1224000" cy="1224000"/>
              <a:chOff x="5483160" y="2816280"/>
              <a:chExt cx="1224000" cy="1224000"/>
            </a:xfrm>
          </p:grpSpPr>
          <p:sp>
            <p:nvSpPr>
              <p:cNvPr id="509" name="任意多边形 574"/>
              <p:cNvSpPr/>
              <p:nvPr/>
            </p:nvSpPr>
            <p:spPr>
              <a:xfrm flipH="1" rot="10800000">
                <a:off x="6104160" y="375444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任意多边形 575"/>
              <p:cNvSpPr/>
              <p:nvPr/>
            </p:nvSpPr>
            <p:spPr>
              <a:xfrm flipH="1" rot="10800000">
                <a:off x="5797800" y="37544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任意多边形 576"/>
              <p:cNvSpPr/>
              <p:nvPr/>
            </p:nvSpPr>
            <p:spPr>
              <a:xfrm flipH="1" rot="10800000">
                <a:off x="6288840" y="36223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任意多边形 577"/>
              <p:cNvSpPr/>
              <p:nvPr/>
            </p:nvSpPr>
            <p:spPr>
              <a:xfrm flipH="1" rot="10800000">
                <a:off x="5570640" y="36223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任意多边形 578"/>
              <p:cNvSpPr/>
              <p:nvPr/>
            </p:nvSpPr>
            <p:spPr>
              <a:xfrm flipH="1" rot="10800000">
                <a:off x="6421320" y="343764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任意多边形 579"/>
              <p:cNvSpPr/>
              <p:nvPr/>
            </p:nvSpPr>
            <p:spPr>
              <a:xfrm flipH="1" rot="10800000">
                <a:off x="5483160" y="313128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任意多边形 580"/>
              <p:cNvSpPr/>
              <p:nvPr/>
            </p:nvSpPr>
            <p:spPr>
              <a:xfrm flipH="1" rot="10800000">
                <a:off x="6421320" y="313092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任意多边形 581"/>
              <p:cNvSpPr/>
              <p:nvPr/>
            </p:nvSpPr>
            <p:spPr>
              <a:xfrm flipH="1" rot="10800000">
                <a:off x="5570640" y="29041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任意多边形 582"/>
              <p:cNvSpPr/>
              <p:nvPr/>
            </p:nvSpPr>
            <p:spPr>
              <a:xfrm flipH="1" rot="10800000">
                <a:off x="6288840" y="290412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任意多边形 583"/>
              <p:cNvSpPr/>
              <p:nvPr/>
            </p:nvSpPr>
            <p:spPr>
              <a:xfrm flipH="1" rot="10800000">
                <a:off x="5797800" y="281628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任意多边形 584"/>
              <p:cNvSpPr/>
              <p:nvPr/>
            </p:nvSpPr>
            <p:spPr>
              <a:xfrm flipH="1" rot="10800000">
                <a:off x="6103800" y="281628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任意多边形 585"/>
              <p:cNvSpPr/>
              <p:nvPr/>
            </p:nvSpPr>
            <p:spPr>
              <a:xfrm flipH="1" rot="10800000">
                <a:off x="5483160" y="343764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任意多边形 569"/>
            <p:cNvSpPr/>
            <p:nvPr/>
          </p:nvSpPr>
          <p:spPr>
            <a:xfrm flipH="1" rot="10800000">
              <a:off x="6421320" y="313092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任意多边形 570"/>
            <p:cNvSpPr/>
            <p:nvPr/>
          </p:nvSpPr>
          <p:spPr>
            <a:xfrm flipH="1" rot="10800000">
              <a:off x="5571000" y="290412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任意多边形 571"/>
            <p:cNvSpPr/>
            <p:nvPr/>
          </p:nvSpPr>
          <p:spPr>
            <a:xfrm flipH="1" rot="10800000">
              <a:off x="6289200" y="290412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任意多边形 572"/>
            <p:cNvSpPr/>
            <p:nvPr/>
          </p:nvSpPr>
          <p:spPr>
            <a:xfrm flipH="1" rot="10800000">
              <a:off x="5798160" y="281628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573"/>
            <p:cNvSpPr/>
            <p:nvPr/>
          </p:nvSpPr>
          <p:spPr>
            <a:xfrm flipH="1" rot="10800000">
              <a:off x="6104520" y="281628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组合 586"/>
          <p:cNvGrpSpPr/>
          <p:nvPr/>
        </p:nvGrpSpPr>
        <p:grpSpPr>
          <a:xfrm>
            <a:off x="5378760" y="2712240"/>
            <a:ext cx="1432800" cy="1432440"/>
            <a:chOff x="5378760" y="2712240"/>
            <a:chExt cx="1432800" cy="1432440"/>
          </a:xfrm>
        </p:grpSpPr>
        <p:grpSp>
          <p:nvGrpSpPr>
            <p:cNvPr id="527" name="组合 587"/>
            <p:cNvGrpSpPr/>
            <p:nvPr/>
          </p:nvGrpSpPr>
          <p:grpSpPr>
            <a:xfrm>
              <a:off x="5378760" y="2712240"/>
              <a:ext cx="1432440" cy="1432440"/>
              <a:chOff x="5378760" y="2712240"/>
              <a:chExt cx="1432440" cy="1432440"/>
            </a:xfrm>
          </p:grpSpPr>
          <p:sp>
            <p:nvSpPr>
              <p:cNvPr id="528" name="任意多边形 593"/>
              <p:cNvSpPr/>
              <p:nvPr/>
            </p:nvSpPr>
            <p:spPr>
              <a:xfrm flipH="1" rot="12600000">
                <a:off x="5848920" y="376812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任意多边形 594"/>
              <p:cNvSpPr/>
              <p:nvPr/>
            </p:nvSpPr>
            <p:spPr>
              <a:xfrm flipH="1" rot="12600000">
                <a:off x="5583600" y="361476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任意多边形 595"/>
              <p:cNvSpPr/>
              <p:nvPr/>
            </p:nvSpPr>
            <p:spPr>
              <a:xfrm flipH="1" rot="12600000">
                <a:off x="606060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任意多边形 596"/>
              <p:cNvSpPr/>
              <p:nvPr/>
            </p:nvSpPr>
            <p:spPr>
              <a:xfrm flipH="1" rot="12600000">
                <a:off x="5438880" y="33940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任意多边形 597"/>
              <p:cNvSpPr/>
              <p:nvPr/>
            </p:nvSpPr>
            <p:spPr>
              <a:xfrm flipH="1" rot="12600000">
                <a:off x="6281640" y="365148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任意多边形 598"/>
              <p:cNvSpPr/>
              <p:nvPr/>
            </p:nvSpPr>
            <p:spPr>
              <a:xfrm flipH="1" rot="12600000">
                <a:off x="5622480" y="291708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任意多边形 599"/>
              <p:cNvSpPr/>
              <p:nvPr/>
            </p:nvSpPr>
            <p:spPr>
              <a:xfrm flipH="1" rot="12600000">
                <a:off x="6434640" y="338580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任意多边形 600"/>
              <p:cNvSpPr/>
              <p:nvPr/>
            </p:nvSpPr>
            <p:spPr>
              <a:xfrm flipH="1" rot="12600000">
                <a:off x="579780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任意多边形 601"/>
              <p:cNvSpPr/>
              <p:nvPr/>
            </p:nvSpPr>
            <p:spPr>
              <a:xfrm flipH="1" rot="12600000">
                <a:off x="6419880" y="31312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任意多边形 602"/>
              <p:cNvSpPr/>
              <p:nvPr/>
            </p:nvSpPr>
            <p:spPr>
              <a:xfrm flipH="1" rot="12600000">
                <a:off x="6052680" y="28022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任意多边形 603"/>
              <p:cNvSpPr/>
              <p:nvPr/>
            </p:nvSpPr>
            <p:spPr>
              <a:xfrm flipH="1" rot="12600000">
                <a:off x="6317640" y="295560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任意多边形 604"/>
              <p:cNvSpPr/>
              <p:nvPr/>
            </p:nvSpPr>
            <p:spPr>
              <a:xfrm flipH="1" rot="12600000">
                <a:off x="5469120" y="31824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" name="任意多边形 588"/>
            <p:cNvSpPr/>
            <p:nvPr/>
          </p:nvSpPr>
          <p:spPr>
            <a:xfrm flipH="1" rot="12600000">
              <a:off x="6434640" y="338580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任意多边形 589"/>
            <p:cNvSpPr/>
            <p:nvPr/>
          </p:nvSpPr>
          <p:spPr>
            <a:xfrm flipH="1" rot="12600000">
              <a:off x="5798160" y="27723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 590"/>
            <p:cNvSpPr/>
            <p:nvPr/>
          </p:nvSpPr>
          <p:spPr>
            <a:xfrm flipH="1" rot="12600000">
              <a:off x="6420240" y="313164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 591"/>
            <p:cNvSpPr/>
            <p:nvPr/>
          </p:nvSpPr>
          <p:spPr>
            <a:xfrm flipH="1" rot="12600000">
              <a:off x="6053040" y="280260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 592"/>
            <p:cNvSpPr/>
            <p:nvPr/>
          </p:nvSpPr>
          <p:spPr>
            <a:xfrm flipH="1" rot="12600000">
              <a:off x="6318360" y="295560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组合 605"/>
          <p:cNvGrpSpPr/>
          <p:nvPr/>
        </p:nvGrpSpPr>
        <p:grpSpPr>
          <a:xfrm>
            <a:off x="5378760" y="2711880"/>
            <a:ext cx="1432440" cy="1432440"/>
            <a:chOff x="5378760" y="2711880"/>
            <a:chExt cx="1432440" cy="1432440"/>
          </a:xfrm>
        </p:grpSpPr>
        <p:grpSp>
          <p:nvGrpSpPr>
            <p:cNvPr id="546" name="组合 606"/>
            <p:cNvGrpSpPr/>
            <p:nvPr/>
          </p:nvGrpSpPr>
          <p:grpSpPr>
            <a:xfrm>
              <a:off x="5378760" y="2711880"/>
              <a:ext cx="1432440" cy="1432440"/>
              <a:chOff x="5378760" y="2711880"/>
              <a:chExt cx="1432440" cy="1432440"/>
            </a:xfrm>
          </p:grpSpPr>
          <p:sp>
            <p:nvSpPr>
              <p:cNvPr id="547" name="任意多边形 612"/>
              <p:cNvSpPr/>
              <p:nvPr/>
            </p:nvSpPr>
            <p:spPr>
              <a:xfrm flipH="1" rot="14400000">
                <a:off x="5621400" y="365184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任意多边形 613"/>
              <p:cNvSpPr/>
              <p:nvPr/>
            </p:nvSpPr>
            <p:spPr>
              <a:xfrm flipH="1" rot="14400000">
                <a:off x="5468400" y="33865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任意多边形 614"/>
              <p:cNvSpPr/>
              <p:nvPr/>
            </p:nvSpPr>
            <p:spPr>
              <a:xfrm flipH="1" rot="14400000">
                <a:off x="579780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任意多边形 615"/>
              <p:cNvSpPr/>
              <p:nvPr/>
            </p:nvSpPr>
            <p:spPr>
              <a:xfrm flipH="1" rot="14400000">
                <a:off x="5438880" y="31316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任意多边形 616"/>
              <p:cNvSpPr/>
              <p:nvPr/>
            </p:nvSpPr>
            <p:spPr>
              <a:xfrm flipH="1" rot="14400000">
                <a:off x="6054120" y="376668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任意多边形 617"/>
              <p:cNvSpPr/>
              <p:nvPr/>
            </p:nvSpPr>
            <p:spPr>
              <a:xfrm flipH="1" rot="14400000">
                <a:off x="5850360" y="280116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任意多边形 618"/>
              <p:cNvSpPr/>
              <p:nvPr/>
            </p:nvSpPr>
            <p:spPr>
              <a:xfrm flipH="1" rot="14400000">
                <a:off x="6319080" y="361368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任意多边形 619"/>
              <p:cNvSpPr/>
              <p:nvPr/>
            </p:nvSpPr>
            <p:spPr>
              <a:xfrm flipH="1" rot="14400000">
                <a:off x="606060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任意多边形 620"/>
              <p:cNvSpPr/>
              <p:nvPr/>
            </p:nvSpPr>
            <p:spPr>
              <a:xfrm flipH="1" rot="14400000">
                <a:off x="6419880" y="339444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任意多边形 621"/>
              <p:cNvSpPr/>
              <p:nvPr/>
            </p:nvSpPr>
            <p:spPr>
              <a:xfrm flipH="1" rot="14400000">
                <a:off x="6280920" y="29174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任意多边形 622"/>
              <p:cNvSpPr/>
              <p:nvPr/>
            </p:nvSpPr>
            <p:spPr>
              <a:xfrm flipH="1" rot="14400000">
                <a:off x="6433920" y="318312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任意多边形 623"/>
              <p:cNvSpPr/>
              <p:nvPr/>
            </p:nvSpPr>
            <p:spPr>
              <a:xfrm flipH="1" rot="14400000">
                <a:off x="5585040" y="295416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任意多边形 607"/>
            <p:cNvSpPr/>
            <p:nvPr/>
          </p:nvSpPr>
          <p:spPr>
            <a:xfrm flipH="1" rot="14400000">
              <a:off x="6319080" y="361368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任意多边形 608"/>
            <p:cNvSpPr/>
            <p:nvPr/>
          </p:nvSpPr>
          <p:spPr>
            <a:xfrm flipH="1" rot="14400000">
              <a:off x="6060960" y="277272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任意多边形 609"/>
            <p:cNvSpPr/>
            <p:nvPr/>
          </p:nvSpPr>
          <p:spPr>
            <a:xfrm flipH="1" rot="14400000">
              <a:off x="6419880" y="339480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任意多边形 610"/>
            <p:cNvSpPr/>
            <p:nvPr/>
          </p:nvSpPr>
          <p:spPr>
            <a:xfrm flipH="1" rot="14400000">
              <a:off x="6280920" y="291780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任意多边形 611"/>
            <p:cNvSpPr/>
            <p:nvPr/>
          </p:nvSpPr>
          <p:spPr>
            <a:xfrm flipH="1" rot="14400000">
              <a:off x="6434280" y="318312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组合 624"/>
          <p:cNvGrpSpPr/>
          <p:nvPr/>
        </p:nvGrpSpPr>
        <p:grpSpPr>
          <a:xfrm>
            <a:off x="5483160" y="2816280"/>
            <a:ext cx="1224000" cy="1224000"/>
            <a:chOff x="5483160" y="2816280"/>
            <a:chExt cx="1224000" cy="1224000"/>
          </a:xfrm>
        </p:grpSpPr>
        <p:grpSp>
          <p:nvGrpSpPr>
            <p:cNvPr id="565" name="组合 625"/>
            <p:cNvGrpSpPr/>
            <p:nvPr/>
          </p:nvGrpSpPr>
          <p:grpSpPr>
            <a:xfrm>
              <a:off x="5483160" y="2816280"/>
              <a:ext cx="1224000" cy="1224000"/>
              <a:chOff x="5483160" y="2816280"/>
              <a:chExt cx="1224000" cy="1224000"/>
            </a:xfrm>
          </p:grpSpPr>
          <p:sp>
            <p:nvSpPr>
              <p:cNvPr id="566" name="任意多边形 631"/>
              <p:cNvSpPr/>
              <p:nvPr/>
            </p:nvSpPr>
            <p:spPr>
              <a:xfrm flipH="1" rot="16200000">
                <a:off x="5482080" y="343836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任意多边形 632"/>
              <p:cNvSpPr/>
              <p:nvPr/>
            </p:nvSpPr>
            <p:spPr>
              <a:xfrm flipH="1" rot="16200000">
                <a:off x="5482080" y="313200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任意多边形 633"/>
              <p:cNvSpPr/>
              <p:nvPr/>
            </p:nvSpPr>
            <p:spPr>
              <a:xfrm flipH="1" rot="16200000">
                <a:off x="5570640" y="36219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任意多边形 634"/>
              <p:cNvSpPr/>
              <p:nvPr/>
            </p:nvSpPr>
            <p:spPr>
              <a:xfrm flipH="1" rot="16200000">
                <a:off x="5570640" y="29037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任意多边形 635"/>
              <p:cNvSpPr/>
              <p:nvPr/>
            </p:nvSpPr>
            <p:spPr>
              <a:xfrm flipH="1" rot="16200000">
                <a:off x="5798880" y="375336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任意多边形 636"/>
              <p:cNvSpPr/>
              <p:nvPr/>
            </p:nvSpPr>
            <p:spPr>
              <a:xfrm flipH="1" rot="16200000">
                <a:off x="6105240" y="28152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任意多边形 637"/>
              <p:cNvSpPr/>
              <p:nvPr/>
            </p:nvSpPr>
            <p:spPr>
              <a:xfrm flipH="1" rot="16200000">
                <a:off x="6104880" y="375300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任意多边形 638"/>
              <p:cNvSpPr/>
              <p:nvPr/>
            </p:nvSpPr>
            <p:spPr>
              <a:xfrm flipH="1" rot="16200000">
                <a:off x="6288840" y="29037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任意多边形 639"/>
              <p:cNvSpPr/>
              <p:nvPr/>
            </p:nvSpPr>
            <p:spPr>
              <a:xfrm flipH="1" rot="16200000">
                <a:off x="6288840" y="36219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任意多边形 640"/>
              <p:cNvSpPr/>
              <p:nvPr/>
            </p:nvSpPr>
            <p:spPr>
              <a:xfrm flipH="1" rot="16200000">
                <a:off x="6420240" y="313200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任意多边形 641"/>
              <p:cNvSpPr/>
              <p:nvPr/>
            </p:nvSpPr>
            <p:spPr>
              <a:xfrm flipH="1" rot="16200000">
                <a:off x="6419880" y="343836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任意多边形 642"/>
              <p:cNvSpPr/>
              <p:nvPr/>
            </p:nvSpPr>
            <p:spPr>
              <a:xfrm flipH="1" rot="16200000">
                <a:off x="5798880" y="28152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任意多边形 626"/>
            <p:cNvSpPr/>
            <p:nvPr/>
          </p:nvSpPr>
          <p:spPr>
            <a:xfrm flipH="1" rot="16200000">
              <a:off x="6104880" y="375300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任意多边形 627"/>
            <p:cNvSpPr/>
            <p:nvPr/>
          </p:nvSpPr>
          <p:spPr>
            <a:xfrm flipH="1" rot="16200000">
              <a:off x="6288840" y="290412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任意多边形 628"/>
            <p:cNvSpPr/>
            <p:nvPr/>
          </p:nvSpPr>
          <p:spPr>
            <a:xfrm flipH="1" rot="16200000">
              <a:off x="6288840" y="362232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任意多边形 629"/>
            <p:cNvSpPr/>
            <p:nvPr/>
          </p:nvSpPr>
          <p:spPr>
            <a:xfrm flipH="1" rot="16200000">
              <a:off x="6420240" y="313236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630"/>
            <p:cNvSpPr/>
            <p:nvPr/>
          </p:nvSpPr>
          <p:spPr>
            <a:xfrm flipH="1" rot="16200000">
              <a:off x="6420240" y="343872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组合 643"/>
          <p:cNvGrpSpPr/>
          <p:nvPr/>
        </p:nvGrpSpPr>
        <p:grpSpPr>
          <a:xfrm>
            <a:off x="5378760" y="2711880"/>
            <a:ext cx="1432440" cy="1432800"/>
            <a:chOff x="5378760" y="2711880"/>
            <a:chExt cx="1432440" cy="1432800"/>
          </a:xfrm>
        </p:grpSpPr>
        <p:grpSp>
          <p:nvGrpSpPr>
            <p:cNvPr id="584" name="组合 644"/>
            <p:cNvGrpSpPr/>
            <p:nvPr/>
          </p:nvGrpSpPr>
          <p:grpSpPr>
            <a:xfrm>
              <a:off x="5378760" y="2711880"/>
              <a:ext cx="1432440" cy="1432440"/>
              <a:chOff x="5378760" y="2711880"/>
              <a:chExt cx="1432440" cy="1432440"/>
            </a:xfrm>
          </p:grpSpPr>
          <p:sp>
            <p:nvSpPr>
              <p:cNvPr id="585" name="任意多边形 650"/>
              <p:cNvSpPr/>
              <p:nvPr/>
            </p:nvSpPr>
            <p:spPr>
              <a:xfrm flipH="1" rot="18000000">
                <a:off x="5468400" y="318276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任意多边形 651"/>
              <p:cNvSpPr/>
              <p:nvPr/>
            </p:nvSpPr>
            <p:spPr>
              <a:xfrm flipH="1" rot="18000000">
                <a:off x="5621760" y="29174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任意多边形 652"/>
              <p:cNvSpPr/>
              <p:nvPr/>
            </p:nvSpPr>
            <p:spPr>
              <a:xfrm flipH="1" rot="18000000">
                <a:off x="5438880" y="33940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任意多边形 653"/>
              <p:cNvSpPr/>
              <p:nvPr/>
            </p:nvSpPr>
            <p:spPr>
              <a:xfrm flipH="1" rot="18000000">
                <a:off x="579816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任意多边形 654"/>
              <p:cNvSpPr/>
              <p:nvPr/>
            </p:nvSpPr>
            <p:spPr>
              <a:xfrm flipH="1" rot="18000000">
                <a:off x="5585040" y="361332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任意多边形 655"/>
              <p:cNvSpPr/>
              <p:nvPr/>
            </p:nvSpPr>
            <p:spPr>
              <a:xfrm flipH="1" rot="18000000">
                <a:off x="6319440" y="295416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任意多边形 656"/>
              <p:cNvSpPr/>
              <p:nvPr/>
            </p:nvSpPr>
            <p:spPr>
              <a:xfrm flipH="1" rot="18000000">
                <a:off x="5850000" y="376668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任意多边形 657"/>
              <p:cNvSpPr/>
              <p:nvPr/>
            </p:nvSpPr>
            <p:spPr>
              <a:xfrm flipH="1" rot="18000000">
                <a:off x="6419880" y="31312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任意多边形 658"/>
              <p:cNvSpPr/>
              <p:nvPr/>
            </p:nvSpPr>
            <p:spPr>
              <a:xfrm flipH="1" rot="18000000">
                <a:off x="606096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任意多边形 659"/>
              <p:cNvSpPr/>
              <p:nvPr/>
            </p:nvSpPr>
            <p:spPr>
              <a:xfrm flipH="1" rot="18000000">
                <a:off x="6434280" y="338652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任意多边形 660"/>
              <p:cNvSpPr/>
              <p:nvPr/>
            </p:nvSpPr>
            <p:spPr>
              <a:xfrm flipH="1" rot="18000000">
                <a:off x="6280200" y="365220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任意多边形 661"/>
              <p:cNvSpPr/>
              <p:nvPr/>
            </p:nvSpPr>
            <p:spPr>
              <a:xfrm flipH="1" rot="18000000">
                <a:off x="6054120" y="28008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7" name="任意多边形 645"/>
            <p:cNvSpPr/>
            <p:nvPr/>
          </p:nvSpPr>
          <p:spPr>
            <a:xfrm flipH="1" rot="18000000">
              <a:off x="5850000" y="376668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任意多边形 646"/>
            <p:cNvSpPr/>
            <p:nvPr/>
          </p:nvSpPr>
          <p:spPr>
            <a:xfrm flipH="1" rot="18000000">
              <a:off x="6419880" y="313164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任意多边形 647"/>
            <p:cNvSpPr/>
            <p:nvPr/>
          </p:nvSpPr>
          <p:spPr>
            <a:xfrm flipH="1" rot="18000000">
              <a:off x="6060600" y="375372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任意多边形 648"/>
            <p:cNvSpPr/>
            <p:nvPr/>
          </p:nvSpPr>
          <p:spPr>
            <a:xfrm flipH="1" rot="18000000">
              <a:off x="6433920" y="338688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任意多边形 649"/>
            <p:cNvSpPr/>
            <p:nvPr/>
          </p:nvSpPr>
          <p:spPr>
            <a:xfrm flipH="1" rot="18000000">
              <a:off x="6280920" y="365220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组合 662"/>
          <p:cNvGrpSpPr/>
          <p:nvPr/>
        </p:nvGrpSpPr>
        <p:grpSpPr>
          <a:xfrm>
            <a:off x="5379120" y="2711880"/>
            <a:ext cx="1432440" cy="1432440"/>
            <a:chOff x="5379120" y="2711880"/>
            <a:chExt cx="1432440" cy="1432440"/>
          </a:xfrm>
        </p:grpSpPr>
        <p:grpSp>
          <p:nvGrpSpPr>
            <p:cNvPr id="603" name="组合 663"/>
            <p:cNvGrpSpPr/>
            <p:nvPr/>
          </p:nvGrpSpPr>
          <p:grpSpPr>
            <a:xfrm>
              <a:off x="5379120" y="2711880"/>
              <a:ext cx="1432440" cy="1432440"/>
              <a:chOff x="5379120" y="2711880"/>
              <a:chExt cx="1432440" cy="1432440"/>
            </a:xfrm>
          </p:grpSpPr>
          <p:sp>
            <p:nvSpPr>
              <p:cNvPr id="604" name="任意多边形 669"/>
              <p:cNvSpPr/>
              <p:nvPr/>
            </p:nvSpPr>
            <p:spPr>
              <a:xfrm flipH="1" rot="19800000">
                <a:off x="5583960" y="2955240"/>
                <a:ext cx="288000" cy="285840"/>
              </a:xfrm>
              <a:custGeom>
                <a:avLst/>
                <a:gdLst>
                  <a:gd name="textAreaLeft" fmla="*/ 0 w 288000"/>
                  <a:gd name="textAreaRight" fmla="*/ 28800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0" h="286026">
                    <a:moveTo>
                      <a:pt x="0" y="0"/>
                    </a:moveTo>
                    <a:lnTo>
                      <a:pt x="114573" y="11550"/>
                    </a:lnTo>
                    <a:cubicBezTo>
                      <a:pt x="154488" y="19718"/>
                      <a:pt x="192990" y="31764"/>
                      <a:pt x="229668" y="47278"/>
                    </a:cubicBezTo>
                    <a:lnTo>
                      <a:pt x="288390" y="79151"/>
                    </a:lnTo>
                    <a:lnTo>
                      <a:pt x="168950" y="286026"/>
                    </a:lnTo>
                    <a:lnTo>
                      <a:pt x="136296" y="268302"/>
                    </a:lnTo>
                    <a:cubicBezTo>
                      <a:pt x="113967" y="258858"/>
                      <a:pt x="90528" y="251524"/>
                      <a:pt x="66228" y="246552"/>
                    </a:cubicBezTo>
                    <a:lnTo>
                      <a:pt x="0" y="2398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任意多边形 670"/>
              <p:cNvSpPr/>
              <p:nvPr/>
            </p:nvSpPr>
            <p:spPr>
              <a:xfrm flipH="1" rot="19800000">
                <a:off x="5849280" y="280224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5">
                    <a:moveTo>
                      <a:pt x="288389" y="0"/>
                    </a:moveTo>
                    <a:lnTo>
                      <a:pt x="288389" y="239874"/>
                    </a:lnTo>
                    <a:lnTo>
                      <a:pt x="222161" y="246551"/>
                    </a:lnTo>
                    <a:cubicBezTo>
                      <a:pt x="197862" y="251523"/>
                      <a:pt x="174422" y="258857"/>
                      <a:pt x="152093" y="268301"/>
                    </a:cubicBezTo>
                    <a:lnTo>
                      <a:pt x="119439" y="286025"/>
                    </a:lnTo>
                    <a:lnTo>
                      <a:pt x="0" y="79151"/>
                    </a:lnTo>
                    <a:lnTo>
                      <a:pt x="58724" y="47277"/>
                    </a:lnTo>
                    <a:cubicBezTo>
                      <a:pt x="95403" y="31763"/>
                      <a:pt x="133905" y="19717"/>
                      <a:pt x="173819" y="11549"/>
                    </a:cubicBezTo>
                    <a:lnTo>
                      <a:pt x="288389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任意多边形 671"/>
              <p:cNvSpPr/>
              <p:nvPr/>
            </p:nvSpPr>
            <p:spPr>
              <a:xfrm flipH="1" rot="19800000">
                <a:off x="5439600" y="31312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0" h="330730">
                    <a:moveTo>
                      <a:pt x="119440" y="0"/>
                    </a:moveTo>
                    <a:lnTo>
                      <a:pt x="149046" y="16070"/>
                    </a:lnTo>
                    <a:cubicBezTo>
                      <a:pt x="214286" y="60145"/>
                      <a:pt x="270587" y="116447"/>
                      <a:pt x="314662" y="181686"/>
                    </a:cubicBezTo>
                    <a:lnTo>
                      <a:pt x="330730" y="211289"/>
                    </a:lnTo>
                    <a:lnTo>
                      <a:pt x="123853" y="330730"/>
                    </a:lnTo>
                    <a:lnTo>
                      <a:pt x="115750" y="315802"/>
                    </a:lnTo>
                    <a:cubicBezTo>
                      <a:pt x="88919" y="276085"/>
                      <a:pt x="54643" y="241810"/>
                      <a:pt x="14926" y="214978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任意多边形 672"/>
              <p:cNvSpPr/>
              <p:nvPr/>
            </p:nvSpPr>
            <p:spPr>
              <a:xfrm flipH="1" rot="19800000">
                <a:off x="6061320" y="2772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7" h="330728">
                    <a:moveTo>
                      <a:pt x="211288" y="0"/>
                    </a:moveTo>
                    <a:lnTo>
                      <a:pt x="330727" y="206874"/>
                    </a:lnTo>
                    <a:lnTo>
                      <a:pt x="315800" y="214976"/>
                    </a:lnTo>
                    <a:cubicBezTo>
                      <a:pt x="276083" y="241808"/>
                      <a:pt x="241808" y="276083"/>
                      <a:pt x="214976" y="315800"/>
                    </a:cubicBezTo>
                    <a:lnTo>
                      <a:pt x="206874" y="330728"/>
                    </a:lnTo>
                    <a:lnTo>
                      <a:pt x="0" y="211289"/>
                    </a:lnTo>
                    <a:lnTo>
                      <a:pt x="16069" y="181684"/>
                    </a:lnTo>
                    <a:cubicBezTo>
                      <a:pt x="60144" y="116445"/>
                      <a:pt x="116446" y="60143"/>
                      <a:pt x="181685" y="16068"/>
                    </a:cubicBezTo>
                    <a:lnTo>
                      <a:pt x="211288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任意多边形 673"/>
              <p:cNvSpPr/>
              <p:nvPr/>
            </p:nvSpPr>
            <p:spPr>
              <a:xfrm flipH="1" rot="19800000">
                <a:off x="5469120" y="338580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9" h="288389">
                    <a:moveTo>
                      <a:pt x="206876" y="0"/>
                    </a:moveTo>
                    <a:lnTo>
                      <a:pt x="238751" y="58725"/>
                    </a:lnTo>
                    <a:cubicBezTo>
                      <a:pt x="254265" y="95404"/>
                      <a:pt x="266311" y="133906"/>
                      <a:pt x="274479" y="173820"/>
                    </a:cubicBezTo>
                    <a:lnTo>
                      <a:pt x="286029" y="288389"/>
                    </a:lnTo>
                    <a:lnTo>
                      <a:pt x="46151" y="288389"/>
                    </a:lnTo>
                    <a:lnTo>
                      <a:pt x="39474" y="222161"/>
                    </a:lnTo>
                    <a:cubicBezTo>
                      <a:pt x="34502" y="197861"/>
                      <a:pt x="27169" y="174422"/>
                      <a:pt x="17724" y="152093"/>
                    </a:cubicBezTo>
                    <a:lnTo>
                      <a:pt x="0" y="119440"/>
                    </a:lnTo>
                    <a:lnTo>
                      <a:pt x="206876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任意多边形 674"/>
              <p:cNvSpPr/>
              <p:nvPr/>
            </p:nvSpPr>
            <p:spPr>
              <a:xfrm flipH="1" rot="19800000">
                <a:off x="6434640" y="318204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000 h 288000"/>
                </a:gdLst>
                <a:ahLst/>
                <a:rect l="textAreaLeft" t="textAreaTop" r="textAreaRight" b="textAreaBottom"/>
                <a:pathLst>
                  <a:path w="286026" h="288390">
                    <a:moveTo>
                      <a:pt x="0" y="0"/>
                    </a:moveTo>
                    <a:lnTo>
                      <a:pt x="239875" y="0"/>
                    </a:lnTo>
                    <a:lnTo>
                      <a:pt x="246552" y="66228"/>
                    </a:lnTo>
                    <a:cubicBezTo>
                      <a:pt x="251524" y="90528"/>
                      <a:pt x="258858" y="113967"/>
                      <a:pt x="268302" y="136296"/>
                    </a:cubicBezTo>
                    <a:lnTo>
                      <a:pt x="286026" y="168950"/>
                    </a:lnTo>
                    <a:lnTo>
                      <a:pt x="79150" y="288390"/>
                    </a:lnTo>
                    <a:lnTo>
                      <a:pt x="47278" y="229669"/>
                    </a:lnTo>
                    <a:cubicBezTo>
                      <a:pt x="31764" y="192991"/>
                      <a:pt x="19718" y="154489"/>
                      <a:pt x="11550" y="114574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任意多边形 675"/>
              <p:cNvSpPr/>
              <p:nvPr/>
            </p:nvSpPr>
            <p:spPr>
              <a:xfrm flipH="1" rot="19800000">
                <a:off x="5622120" y="3651120"/>
                <a:ext cx="285840" cy="28836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360"/>
                  <a:gd name="textAreaBottom" fmla="*/ 288720 h 288360"/>
                </a:gdLst>
                <a:ahLst/>
                <a:rect l="textAreaLeft" t="textAreaTop" r="textAreaRight" b="textAreaBottom"/>
                <a:pathLst>
                  <a:path w="286029" h="288391">
                    <a:moveTo>
                      <a:pt x="46151" y="0"/>
                    </a:moveTo>
                    <a:lnTo>
                      <a:pt x="286029" y="0"/>
                    </a:lnTo>
                    <a:lnTo>
                      <a:pt x="274479" y="114574"/>
                    </a:lnTo>
                    <a:cubicBezTo>
                      <a:pt x="266311" y="154489"/>
                      <a:pt x="254265" y="192991"/>
                      <a:pt x="238751" y="229669"/>
                    </a:cubicBezTo>
                    <a:lnTo>
                      <a:pt x="206878" y="288391"/>
                    </a:lnTo>
                    <a:lnTo>
                      <a:pt x="0" y="168950"/>
                    </a:lnTo>
                    <a:lnTo>
                      <a:pt x="17724" y="136296"/>
                    </a:lnTo>
                    <a:cubicBezTo>
                      <a:pt x="27169" y="113967"/>
                      <a:pt x="34502" y="90528"/>
                      <a:pt x="39474" y="66228"/>
                    </a:cubicBezTo>
                    <a:lnTo>
                      <a:pt x="46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任意多边形 676"/>
              <p:cNvSpPr/>
              <p:nvPr/>
            </p:nvSpPr>
            <p:spPr>
              <a:xfrm flipH="1" rot="19800000">
                <a:off x="6420600" y="339408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28" h="330730">
                    <a:moveTo>
                      <a:pt x="206875" y="0"/>
                    </a:moveTo>
                    <a:lnTo>
                      <a:pt x="214977" y="14927"/>
                    </a:lnTo>
                    <a:cubicBezTo>
                      <a:pt x="241809" y="54644"/>
                      <a:pt x="276084" y="88919"/>
                      <a:pt x="315801" y="115751"/>
                    </a:cubicBezTo>
                    <a:lnTo>
                      <a:pt x="330728" y="123853"/>
                    </a:lnTo>
                    <a:lnTo>
                      <a:pt x="211288" y="330730"/>
                    </a:lnTo>
                    <a:lnTo>
                      <a:pt x="181686" y="314663"/>
                    </a:lnTo>
                    <a:cubicBezTo>
                      <a:pt x="116447" y="270588"/>
                      <a:pt x="60145" y="214287"/>
                      <a:pt x="16070" y="149047"/>
                    </a:cubicBezTo>
                    <a:lnTo>
                      <a:pt x="0" y="119440"/>
                    </a:lnTo>
                    <a:lnTo>
                      <a:pt x="206875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任意多边形 677"/>
              <p:cNvSpPr/>
              <p:nvPr/>
            </p:nvSpPr>
            <p:spPr>
              <a:xfrm flipH="1" rot="19800000">
                <a:off x="5798520" y="3753360"/>
                <a:ext cx="330480" cy="330480"/>
              </a:xfrm>
              <a:custGeom>
                <a:avLst/>
                <a:gdLst>
                  <a:gd name="textAreaLeft" fmla="*/ 360 w 330480"/>
                  <a:gd name="textAreaRight" fmla="*/ 331200 w 330480"/>
                  <a:gd name="textAreaTop" fmla="*/ 0 h 330480"/>
                  <a:gd name="textAreaBottom" fmla="*/ 330840 h 330480"/>
                </a:gdLst>
                <a:ahLst/>
                <a:rect l="textAreaLeft" t="textAreaTop" r="textAreaRight" b="textAreaBottom"/>
                <a:pathLst>
                  <a:path w="330732" h="330732">
                    <a:moveTo>
                      <a:pt x="123853" y="0"/>
                    </a:moveTo>
                    <a:lnTo>
                      <a:pt x="330732" y="119441"/>
                    </a:lnTo>
                    <a:lnTo>
                      <a:pt x="314662" y="149047"/>
                    </a:lnTo>
                    <a:cubicBezTo>
                      <a:pt x="270587" y="214287"/>
                      <a:pt x="214286" y="270588"/>
                      <a:pt x="149046" y="314663"/>
                    </a:cubicBezTo>
                    <a:lnTo>
                      <a:pt x="119442" y="330732"/>
                    </a:lnTo>
                    <a:lnTo>
                      <a:pt x="0" y="123853"/>
                    </a:lnTo>
                    <a:lnTo>
                      <a:pt x="14927" y="115751"/>
                    </a:lnTo>
                    <a:cubicBezTo>
                      <a:pt x="54644" y="88919"/>
                      <a:pt x="88920" y="54644"/>
                      <a:pt x="115751" y="14927"/>
                    </a:cubicBezTo>
                    <a:lnTo>
                      <a:pt x="123853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任意多边形 678"/>
              <p:cNvSpPr/>
              <p:nvPr/>
            </p:nvSpPr>
            <p:spPr>
              <a:xfrm flipH="1" rot="19800000">
                <a:off x="6318360" y="3614760"/>
                <a:ext cx="288000" cy="285840"/>
              </a:xfrm>
              <a:custGeom>
                <a:avLst/>
                <a:gdLst>
                  <a:gd name="textAreaLeft" fmla="*/ 360 w 288000"/>
                  <a:gd name="textAreaRight" fmla="*/ 288720 w 28800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89" h="286029">
                    <a:moveTo>
                      <a:pt x="119440" y="0"/>
                    </a:moveTo>
                    <a:lnTo>
                      <a:pt x="152093" y="17724"/>
                    </a:lnTo>
                    <a:cubicBezTo>
                      <a:pt x="174422" y="27169"/>
                      <a:pt x="197862" y="34502"/>
                      <a:pt x="222161" y="39474"/>
                    </a:cubicBezTo>
                    <a:lnTo>
                      <a:pt x="288389" y="46151"/>
                    </a:lnTo>
                    <a:lnTo>
                      <a:pt x="288389" y="286029"/>
                    </a:lnTo>
                    <a:lnTo>
                      <a:pt x="173820" y="274479"/>
                    </a:lnTo>
                    <a:cubicBezTo>
                      <a:pt x="133906" y="266311"/>
                      <a:pt x="95404" y="254265"/>
                      <a:pt x="58725" y="238751"/>
                    </a:cubicBezTo>
                    <a:lnTo>
                      <a:pt x="0" y="206876"/>
                    </a:lnTo>
                    <a:lnTo>
                      <a:pt x="11944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任意多边形 679"/>
              <p:cNvSpPr/>
              <p:nvPr/>
            </p:nvSpPr>
            <p:spPr>
              <a:xfrm flipH="1" rot="19800000">
                <a:off x="6052320" y="3768480"/>
                <a:ext cx="288360" cy="285840"/>
              </a:xfrm>
              <a:custGeom>
                <a:avLst/>
                <a:gdLst>
                  <a:gd name="textAreaLeft" fmla="*/ -360 w 288360"/>
                  <a:gd name="textAreaRight" fmla="*/ 288360 w 288360"/>
                  <a:gd name="textAreaTop" fmla="*/ 0 h 285840"/>
                  <a:gd name="textAreaBottom" fmla="*/ 286200 h 285840"/>
                </a:gdLst>
                <a:ahLst/>
                <a:rect l="textAreaLeft" t="textAreaTop" r="textAreaRight" b="textAreaBottom"/>
                <a:pathLst>
                  <a:path w="288391" h="286029">
                    <a:moveTo>
                      <a:pt x="168950" y="0"/>
                    </a:moveTo>
                    <a:lnTo>
                      <a:pt x="288391" y="206878"/>
                    </a:lnTo>
                    <a:lnTo>
                      <a:pt x="229669" y="238751"/>
                    </a:lnTo>
                    <a:cubicBezTo>
                      <a:pt x="192991" y="254265"/>
                      <a:pt x="154489" y="266311"/>
                      <a:pt x="114574" y="274479"/>
                    </a:cubicBezTo>
                    <a:lnTo>
                      <a:pt x="0" y="286029"/>
                    </a:lnTo>
                    <a:lnTo>
                      <a:pt x="0" y="46151"/>
                    </a:lnTo>
                    <a:lnTo>
                      <a:pt x="66228" y="39474"/>
                    </a:lnTo>
                    <a:cubicBezTo>
                      <a:pt x="90528" y="34502"/>
                      <a:pt x="113967" y="27169"/>
                      <a:pt x="136296" y="17724"/>
                    </a:cubicBezTo>
                    <a:lnTo>
                      <a:pt x="16895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任意多边形 680"/>
              <p:cNvSpPr/>
              <p:nvPr/>
            </p:nvSpPr>
            <p:spPr>
              <a:xfrm flipH="1" rot="19800000">
                <a:off x="6281640" y="2916720"/>
                <a:ext cx="285840" cy="288000"/>
              </a:xfrm>
              <a:custGeom>
                <a:avLst/>
                <a:gdLst>
                  <a:gd name="textAreaLeft" fmla="*/ 360 w 285840"/>
                  <a:gd name="textAreaRight" fmla="*/ 286560 w 285840"/>
                  <a:gd name="textAreaTop" fmla="*/ 0 h 288000"/>
                  <a:gd name="textAreaBottom" fmla="*/ 288360 h 288000"/>
                </a:gdLst>
                <a:ahLst/>
                <a:rect l="textAreaLeft" t="textAreaTop" r="textAreaRight" b="textAreaBottom"/>
                <a:pathLst>
                  <a:path w="286025" h="288388">
                    <a:moveTo>
                      <a:pt x="79151" y="0"/>
                    </a:moveTo>
                    <a:lnTo>
                      <a:pt x="286025" y="119439"/>
                    </a:lnTo>
                    <a:lnTo>
                      <a:pt x="268301" y="152092"/>
                    </a:lnTo>
                    <a:cubicBezTo>
                      <a:pt x="258857" y="174421"/>
                      <a:pt x="251523" y="197860"/>
                      <a:pt x="246551" y="222160"/>
                    </a:cubicBezTo>
                    <a:lnTo>
                      <a:pt x="239874" y="288388"/>
                    </a:lnTo>
                    <a:lnTo>
                      <a:pt x="0" y="288388"/>
                    </a:lnTo>
                    <a:lnTo>
                      <a:pt x="11549" y="173819"/>
                    </a:lnTo>
                    <a:cubicBezTo>
                      <a:pt x="19717" y="133905"/>
                      <a:pt x="31763" y="95403"/>
                      <a:pt x="47277" y="58724"/>
                    </a:cubicBezTo>
                    <a:lnTo>
                      <a:pt x="79151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任意多边形 664"/>
            <p:cNvSpPr/>
            <p:nvPr/>
          </p:nvSpPr>
          <p:spPr>
            <a:xfrm flipH="1" rot="19800000">
              <a:off x="5622120" y="3651120"/>
              <a:ext cx="285840" cy="288360"/>
            </a:xfrm>
            <a:custGeom>
              <a:avLst/>
              <a:gdLst>
                <a:gd name="textAreaLeft" fmla="*/ 360 w 285840"/>
                <a:gd name="textAreaRight" fmla="*/ 286560 w 28584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86029" h="288391">
                  <a:moveTo>
                    <a:pt x="46151" y="0"/>
                  </a:moveTo>
                  <a:lnTo>
                    <a:pt x="286029" y="0"/>
                  </a:lnTo>
                  <a:lnTo>
                    <a:pt x="274479" y="114574"/>
                  </a:lnTo>
                  <a:cubicBezTo>
                    <a:pt x="266311" y="154489"/>
                    <a:pt x="254265" y="192991"/>
                    <a:pt x="238751" y="229669"/>
                  </a:cubicBezTo>
                  <a:lnTo>
                    <a:pt x="206878" y="288391"/>
                  </a:lnTo>
                  <a:lnTo>
                    <a:pt x="0" y="168950"/>
                  </a:lnTo>
                  <a:lnTo>
                    <a:pt x="17724" y="136296"/>
                  </a:lnTo>
                  <a:cubicBezTo>
                    <a:pt x="27169" y="113967"/>
                    <a:pt x="34502" y="90528"/>
                    <a:pt x="39474" y="66228"/>
                  </a:cubicBezTo>
                  <a:lnTo>
                    <a:pt x="46151" y="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 665"/>
            <p:cNvSpPr/>
            <p:nvPr/>
          </p:nvSpPr>
          <p:spPr>
            <a:xfrm flipH="1" rot="19800000">
              <a:off x="6420240" y="339444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28" h="330730">
                  <a:moveTo>
                    <a:pt x="206875" y="0"/>
                  </a:moveTo>
                  <a:lnTo>
                    <a:pt x="214977" y="14927"/>
                  </a:lnTo>
                  <a:cubicBezTo>
                    <a:pt x="241809" y="54644"/>
                    <a:pt x="276084" y="88919"/>
                    <a:pt x="315801" y="115751"/>
                  </a:cubicBezTo>
                  <a:lnTo>
                    <a:pt x="330728" y="123853"/>
                  </a:lnTo>
                  <a:lnTo>
                    <a:pt x="211288" y="330730"/>
                  </a:lnTo>
                  <a:lnTo>
                    <a:pt x="181686" y="314663"/>
                  </a:lnTo>
                  <a:cubicBezTo>
                    <a:pt x="116447" y="270588"/>
                    <a:pt x="60145" y="214287"/>
                    <a:pt x="16070" y="149047"/>
                  </a:cubicBezTo>
                  <a:lnTo>
                    <a:pt x="0" y="119440"/>
                  </a:lnTo>
                  <a:lnTo>
                    <a:pt x="206875" y="0"/>
                  </a:lnTo>
                  <a:close/>
                </a:path>
              </a:pathLst>
            </a:custGeom>
            <a:solidFill>
              <a:srgbClr val="d8d8d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 666"/>
            <p:cNvSpPr/>
            <p:nvPr/>
          </p:nvSpPr>
          <p:spPr>
            <a:xfrm flipH="1" rot="19800000">
              <a:off x="5798160" y="3753360"/>
              <a:ext cx="330480" cy="330480"/>
            </a:xfrm>
            <a:custGeom>
              <a:avLst/>
              <a:gdLst>
                <a:gd name="textAreaLeft" fmla="*/ 360 w 330480"/>
                <a:gd name="textAreaRight" fmla="*/ 331200 w 3304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330732" h="330732">
                  <a:moveTo>
                    <a:pt x="123853" y="0"/>
                  </a:moveTo>
                  <a:lnTo>
                    <a:pt x="330732" y="119441"/>
                  </a:lnTo>
                  <a:lnTo>
                    <a:pt x="314662" y="149047"/>
                  </a:lnTo>
                  <a:cubicBezTo>
                    <a:pt x="270587" y="214287"/>
                    <a:pt x="214286" y="270588"/>
                    <a:pt x="149046" y="314663"/>
                  </a:cubicBezTo>
                  <a:lnTo>
                    <a:pt x="119442" y="330732"/>
                  </a:lnTo>
                  <a:lnTo>
                    <a:pt x="0" y="123853"/>
                  </a:lnTo>
                  <a:lnTo>
                    <a:pt x="14927" y="115751"/>
                  </a:lnTo>
                  <a:cubicBezTo>
                    <a:pt x="54644" y="88919"/>
                    <a:pt x="88920" y="54644"/>
                    <a:pt x="115751" y="14927"/>
                  </a:cubicBezTo>
                  <a:lnTo>
                    <a:pt x="123853" y="0"/>
                  </a:lnTo>
                  <a:close/>
                </a:path>
              </a:pathLst>
            </a:custGeom>
            <a:solidFill>
              <a:srgbClr val="d8d8d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 667"/>
            <p:cNvSpPr/>
            <p:nvPr/>
          </p:nvSpPr>
          <p:spPr>
            <a:xfrm flipH="1" rot="19800000">
              <a:off x="6318000" y="361476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89" h="286029">
                  <a:moveTo>
                    <a:pt x="119440" y="0"/>
                  </a:moveTo>
                  <a:lnTo>
                    <a:pt x="152093" y="17724"/>
                  </a:lnTo>
                  <a:cubicBezTo>
                    <a:pt x="174422" y="27169"/>
                    <a:pt x="197862" y="34502"/>
                    <a:pt x="222161" y="39474"/>
                  </a:cubicBezTo>
                  <a:lnTo>
                    <a:pt x="288389" y="46151"/>
                  </a:lnTo>
                  <a:lnTo>
                    <a:pt x="288389" y="286029"/>
                  </a:lnTo>
                  <a:lnTo>
                    <a:pt x="173820" y="274479"/>
                  </a:lnTo>
                  <a:cubicBezTo>
                    <a:pt x="133906" y="266311"/>
                    <a:pt x="95404" y="254265"/>
                    <a:pt x="58725" y="238751"/>
                  </a:cubicBezTo>
                  <a:lnTo>
                    <a:pt x="0" y="206876"/>
                  </a:lnTo>
                  <a:lnTo>
                    <a:pt x="119440" y="0"/>
                  </a:lnTo>
                  <a:close/>
                </a:path>
              </a:pathLst>
            </a:custGeom>
            <a:solidFill>
              <a:srgbClr val="d8d8d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 668"/>
            <p:cNvSpPr/>
            <p:nvPr/>
          </p:nvSpPr>
          <p:spPr>
            <a:xfrm flipH="1" rot="19800000">
              <a:off x="6052680" y="3768120"/>
              <a:ext cx="288000" cy="285840"/>
            </a:xfrm>
            <a:custGeom>
              <a:avLst/>
              <a:gdLst>
                <a:gd name="textAreaLeft" fmla="*/ 360 w 288000"/>
                <a:gd name="textAreaRight" fmla="*/ 288720 w 28800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8391" h="286029">
                  <a:moveTo>
                    <a:pt x="168950" y="0"/>
                  </a:moveTo>
                  <a:lnTo>
                    <a:pt x="288391" y="206878"/>
                  </a:lnTo>
                  <a:lnTo>
                    <a:pt x="229669" y="238751"/>
                  </a:lnTo>
                  <a:cubicBezTo>
                    <a:pt x="192991" y="254265"/>
                    <a:pt x="154489" y="266311"/>
                    <a:pt x="114574" y="274479"/>
                  </a:cubicBezTo>
                  <a:lnTo>
                    <a:pt x="0" y="286029"/>
                  </a:lnTo>
                  <a:lnTo>
                    <a:pt x="0" y="46151"/>
                  </a:lnTo>
                  <a:lnTo>
                    <a:pt x="66228" y="39474"/>
                  </a:lnTo>
                  <a:cubicBezTo>
                    <a:pt x="90528" y="34502"/>
                    <a:pt x="113967" y="27169"/>
                    <a:pt x="136296" y="17724"/>
                  </a:cubicBezTo>
                  <a:lnTo>
                    <a:pt x="168950" y="0"/>
                  </a:lnTo>
                  <a:close/>
                </a:path>
              </a:pathLst>
            </a:custGeom>
            <a:solidFill>
              <a:srgbClr val="d8d8d8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autoRev="1" nodeType="clickEffect" fill="remove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autoRev="1" nodeType="withEffect" fill="remove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autoRev="1" nodeType="withEffect" fill="remove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25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autoRev="1" nodeType="withEffect" fill="remove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5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autoRev="1" nodeType="withEffect" fill="remove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autoRev="1" nodeType="withEffect" fill="remove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25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autoRev="1" nodeType="withEffect" fill="remove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autoRev="1" nodeType="withEffect" fill="remove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autoRev="1" nodeType="withEffect" fill="remove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autoRev="1" nodeType="withEffect" fill="remove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autoRev="1" nodeType="withEffect" fill="remove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autoRev="1" nodeType="withEffect" fill="remove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5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autoRev="1" nodeType="withEffect" fill="remove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25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autoRev="1" nodeType="withEffect" fill="remove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autoRev="1" nodeType="withEffect" fill="remove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25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autoRev="1" nodeType="withEffect" fill="remove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2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autoRev="1" nodeType="withEffect" fill="remove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2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autoRev="1" nodeType="withEffect" fill="remove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autoRev="1" nodeType="withEffect" fill="remove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25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autoRev="1" nodeType="withEffect" fill="remove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5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autoRev="1" nodeType="withEffect" fill="remove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25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autoRev="1" nodeType="withEffect" fill="remove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5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autoRev="1" nodeType="withEffect" fill="remove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25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autoRev="1" nodeType="withEffect" fill="remove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5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2T13:15:00Z</dcterms:created>
  <dc:creator>周立朋</dc:creator>
  <dc:description/>
  <cp:keywords/>
  <dc:language>en-US</dc:language>
  <cp:lastModifiedBy>王玉清</cp:lastModifiedBy>
  <dcterms:modified xsi:type="dcterms:W3CDTF">2016-02-16T08:38:59Z</dcterms:modified>
  <cp:revision>1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Tfs.IsStoryboard">
    <vt:bool>1</vt:bool>
  </property>
</Properties>
</file>