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356E-BDAC-455B-8D1E-1FC8A09CE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51B2-8937-4306-A692-0D8C1522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5EBB-7698-4401-8312-4B6123926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8D15-F2E9-4425-B414-1D3F5A6D0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C2BA-0B23-4C1C-BB93-75DDFB90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170F-A32C-49CC-B956-6790EE35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0EDD-5D5A-451F-A72E-A5A3C72C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965B-E2FE-4616-8B19-EA02A93F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068D-2615-4C0B-B254-8FF6D813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B031-6766-4BEC-B7B2-11131B5C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6352-7C7F-43E5-955F-D9B3B34F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01D5-D120-49C0-ACB6-EAC76100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8FCE-04BF-4853-B751-03B04DE06C2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929E-3AD4-40C8-A4EB-85B2D94C0D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1013"/>
          <p:cNvPicPr/>
          <p:nvPr/>
        </p:nvPicPr>
        <p:blipFill>
          <a:blip r:embed="rId1"/>
          <a:stretch/>
        </p:blipFill>
        <p:spPr>
          <a:xfrm>
            <a:off x="685800" y="733320"/>
            <a:ext cx="7772400" cy="5392800"/>
          </a:xfrm>
          <a:prstGeom prst="rect">
            <a:avLst/>
          </a:prstGeom>
          <a:ln w="0">
            <a:noFill/>
          </a:ln>
        </p:spPr>
      </p:pic>
      <p:sp>
        <p:nvSpPr>
          <p:cNvPr id="44" name="矩形 1"/>
          <p:cNvSpPr/>
          <p:nvPr/>
        </p:nvSpPr>
        <p:spPr>
          <a:xfrm>
            <a:off x="2788920" y="12384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插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1014"/>
          <p:cNvPicPr/>
          <p:nvPr/>
        </p:nvPicPr>
        <p:blipFill>
          <a:blip r:embed="rId1"/>
          <a:stretch/>
        </p:blipFill>
        <p:spPr>
          <a:xfrm>
            <a:off x="762120" y="752400"/>
            <a:ext cx="761976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1016"/>
          <p:cNvPicPr/>
          <p:nvPr/>
        </p:nvPicPr>
        <p:blipFill>
          <a:blip r:embed="rId1"/>
          <a:stretch/>
        </p:blipFill>
        <p:spPr>
          <a:xfrm>
            <a:off x="457200" y="531720"/>
            <a:ext cx="8229600" cy="55944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1076400" y="612612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片素材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pc</dc:creator>
  <dc:description/>
  <cp:keywords/>
  <dc:language>en-US</dc:language>
  <cp:lastModifiedBy>a</cp:lastModifiedBy>
  <dcterms:modified xsi:type="dcterms:W3CDTF">2015-07-20T12:05:58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