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6BF-FA9C-4FED-9D23-9EF730663A3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0D2-DE38-4023-B6F2-BC0A6445FAD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182-4082-4D82-803A-9E707075A8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5B83-B5DD-421F-B914-67D90A2260F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0768-D563-4763-9D85-88F76F648D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41C-3B4A-4291-B4D7-5F4D5031276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795-9F62-43F3-99C5-93A9D95CE6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DBE-B84A-47CB-8A9D-5460F7A1331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1CD3-14FF-4170-AC71-BA650E7022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66F-9CED-48B7-B2A1-47FC93012DC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AB5B-BEF7-45BC-B628-5D5D01BF80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7A47-E8DE-45B8-805D-B1D194B2CC4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B9B-590A-4E5A-A31F-E36EB6D6F9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474-6309-49F4-9D1D-AA5A8CCC773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E33-EA7E-4459-B423-AB2B0D35E3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E99-AE9D-4384-A814-2CCE0A4A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1F8-0934-4846-8B25-A09AC28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7FF-C673-4D52-A28E-EFAA9580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064-98E6-406E-9C18-AEA1244F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853-DDAE-403C-AD9F-1AAC8DE0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FF2C-532E-436F-BD99-D3E9C3B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9443-2428-44DB-9B51-BEAED28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FF86-44C6-4AA2-AF48-CC79411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B588-28F0-4AE1-9577-A344F57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EB41-09AF-4772-B954-762E87B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C0B-0539-49D7-829F-9DCDA11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703-37C1-47BF-83CF-8A994218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DD0-DF67-4D12-ADC6-2F2A9EB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C6AF-E1C5-41D8-B34F-C350008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F4C-7C83-4959-99A0-71ED5CB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501C-D417-461D-B71F-5DA5846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14CE-2B5F-49A7-8621-871E563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5774-9B36-44CF-BA29-C2547686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A1E3-20FF-4003-B5A0-6DDF1BFC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D29E-D9D2-477E-9D0D-4E1F9247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5BC8-77CE-48B2-B4E9-82F8A5A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FBAC-B924-40DB-ADB8-786B7AA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7F5-4F27-4849-94A2-39E8624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DA7A-7C79-485D-8A05-60A0BE06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C526-2559-4ED3-8DE2-6847FC4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D3B0-08B4-485C-A1FE-E75A1AA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F679-328B-42C3-A693-4D79BDA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C037-C5C6-491F-BCAD-2B6FF51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BFFD-113A-4476-8EE1-4D71362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9B40-93C0-4868-809F-2E680E8C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D34B-CF24-43F3-89D6-0E4FCAB4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B962-3D2C-4401-A251-5618295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8792-873F-4B76-B70D-4109DA9D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D2F-7945-4701-862B-385CEEE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A382-C906-40BE-A8A3-4D6FB886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7906-7F32-422E-AD2E-BC3CD7B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AAA9-2A11-4B38-9072-1707777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F75E-2887-47F6-AEF0-C6F713F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755C-1824-41AE-870A-69D8A1F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0E35-8518-4957-945F-BD20BF4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1030-8242-4601-A2AB-B31B70D4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6875-EE5F-474E-BA7A-5A4B9C98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966E-D1D9-4155-9CEE-30E51E5E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13DF-8591-4240-815A-2561DBEE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594-C117-4E5D-A327-603A3D81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EF3C-A807-43CD-8F76-8E4C845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3A07-CDF6-4E86-AD08-D3A491D7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303B-A046-43AA-BB2E-2A771B2B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C951-DAB1-4CD2-BF13-62C5570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2CA0F-FC5E-4577-919A-009D4C8A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577F-0E5F-4C2E-9929-5FE8866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7421-C727-4145-9A9E-B366341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90F6-B098-4AE0-BFDB-1CC2BB5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79DF-8ADF-4E8E-A38B-304A6CF3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B1E2-6EAD-4562-A0F1-903DBB1D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219-3C9D-4285-84C0-6CD0CCF4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9DDA-C0A2-44C7-AEFE-20D2AAAD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9808-A910-453F-A398-F84852B3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DEFA-B994-485F-8791-13153A6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ED0D-7754-4049-9DFE-F31DB070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3539-2D8D-4BE5-811E-A8810AB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B0F5A-21EE-4C37-83D2-C38B4495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8CA1-F8D2-4C8E-A455-C7AA1AA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F235-87BC-4AC3-B448-CC386DC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67B10-34DB-4199-B1B6-7D9BDFF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2609A-CC93-46D3-BB6F-D2C7519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50A-FA9B-4ED0-83CE-7145173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16C3-00BB-441D-BADD-2B4FFF5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0595-DB85-4681-8E16-C1DF4B71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337D-9737-4616-9F58-E373705C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DCB-B287-4175-938E-CC48EF8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AE9-01F5-4232-990B-FA576B6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7AFC-76DE-4E07-A76A-CC7FC39A72F2}" type="datetime">
              <a:rPr b="0" lang="zh-CN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9D0-B469-4935-8125-FE2D66673800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ounded Rectangle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1C7-C3FB-485C-82B1-F33DF498B246}" type="datetime">
              <a:rPr b="0" lang="zh-CN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EDA-C933-4504-B633-690D38F8BC14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03DA-D5EE-4B6A-B090-610E6FF7F799}" type="datetime">
              <a:rPr b="0" lang="zh-CN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28FB-7804-431E-B7A6-04FFEA0EFC60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3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C1E-E65D-4D09-B090-FAEB98F63494}" type="datetime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DDB1-E34F-41FB-A66D-BABA7FA58B83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E19-D79E-47FE-877B-5292A7B7E66F}" type="datetime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0F5C-C267-496B-BAEE-58132856FE13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3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EB7C-F93B-481F-AEB9-510C572AD886}" type="datetime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B19-E299-4756-814D-EA1E33DEC39A}" type="slidenum">
              <a:rPr b="0" lang="en-US" sz="1000" spc="-1" strike="noStrike">
                <a:solidFill>
                  <a:srgbClr val="a1b4b7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885e9"/>
                </a:solidFill>
                <a:latin typeface="Verdana"/>
                <a:ea typeface="微软雅黑"/>
              </a:rPr>
              <a:t>产品名称</a:t>
            </a:r>
            <a:endParaRPr b="1" lang="en-US" sz="45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8386"/>
                </a:solidFill>
                <a:latin typeface="Verdana"/>
                <a:ea typeface="微软雅黑"/>
              </a:rPr>
              <a:t>演示文稿标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2221560" y="11127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产品概述商务管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概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85" name="Diagram 4" descr=""/>
          <p:cNvPicPr/>
          <p:nvPr/>
        </p:nvPicPr>
        <p:blipFill>
          <a:blip r:embed="rId1"/>
          <a:stretch/>
        </p:blipFill>
        <p:spPr>
          <a:xfrm>
            <a:off x="281160" y="530280"/>
            <a:ext cx="8491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功能和优点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87" name="Diagram 4" descr=""/>
          <p:cNvPicPr/>
          <p:nvPr/>
        </p:nvPicPr>
        <p:blipFill>
          <a:blip r:embed="rId1"/>
          <a:stretch/>
        </p:blipFill>
        <p:spPr>
          <a:xfrm>
            <a:off x="420840" y="480960"/>
            <a:ext cx="835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应用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89" name="Diagram 4" descr=""/>
          <p:cNvPicPr/>
          <p:nvPr/>
        </p:nvPicPr>
        <p:blipFill>
          <a:blip r:embed="rId1"/>
          <a:stretch/>
        </p:blipFill>
        <p:spPr>
          <a:xfrm>
            <a:off x="506520" y="530280"/>
            <a:ext cx="8180280" cy="4187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685800" y="60357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规范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92" name="Diagram 4" descr=""/>
          <p:cNvPicPr/>
          <p:nvPr/>
        </p:nvPicPr>
        <p:blipFill>
          <a:blip r:embed="rId1"/>
          <a:stretch/>
        </p:blipFill>
        <p:spPr>
          <a:xfrm>
            <a:off x="401760" y="530280"/>
            <a:ext cx="83707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定价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94" name="Diagram 4" descr=""/>
          <p:cNvPicPr/>
          <p:nvPr/>
        </p:nvPicPr>
        <p:blipFill>
          <a:blip r:embed="rId1"/>
          <a:stretch/>
        </p:blipFill>
        <p:spPr>
          <a:xfrm>
            <a:off x="420840" y="480960"/>
            <a:ext cx="835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85e9"/>
                </a:solidFill>
                <a:latin typeface="Verdana"/>
                <a:ea typeface="微软雅黑"/>
              </a:rPr>
              <a:t>可用性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96" name="Diagram 4" descr=""/>
          <p:cNvPicPr/>
          <p:nvPr/>
        </p:nvPicPr>
        <p:blipFill>
          <a:blip r:embed="rId1"/>
          <a:stretch/>
        </p:blipFill>
        <p:spPr>
          <a:xfrm>
            <a:off x="506520" y="530280"/>
            <a:ext cx="8180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0:41:59Z</dcterms:created>
  <dc:creator/>
  <dc:description>www.pptbz.com</dc:description>
  <dc:language>en-US</dc:language>
  <cp:lastModifiedBy/>
  <dcterms:modified xsi:type="dcterms:W3CDTF">2015-07-25T06:45:36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902492052</vt:lpwstr>
  </property>
</Properties>
</file>