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323-30C7-4777-AD6B-EB653AC9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99B4-99A1-48C4-9DFB-549FF344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5832D-8278-4A76-8582-9BE92EB1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FF9B2-44A1-4202-9B1B-D0EFE2D0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4C1F2-0257-42C7-BB87-FD2FBC75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74DF6-848E-484A-B0D9-15905528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AB577-E6B8-480F-AB25-A051DEAA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B5AF6-32EA-4F78-92FC-CAE86535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2BFD1-1AFB-461C-BEA4-780E1E39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545B1-15DC-4301-8763-F8A3D041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15DCF-7563-446A-A74D-A728465C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B010A-38EE-4E89-A55D-0477B66E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7A4-A5F0-4D20-AD9F-42583A7A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85103-2FFC-4C56-B6C7-DC22ADB8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CF883-CB29-45D3-932D-49D6BC7F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5EAC8-7C56-4F6C-8C3D-01B37667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ABFB8-B887-4C47-A4B9-C0CF9921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6BFA5-9219-419C-B535-070956BB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E8758-32CD-4F75-88B7-F5E9FA81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9FFB2-A896-4A50-A03F-3A8095E4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8C4E3-56F6-4361-8DD1-22BA3358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FD3A1-6BDF-483E-9D5B-F4BD7071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F8EC3-282B-4201-9824-9F2420F7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3DD0-D3C5-4A6B-86BE-87B81FA8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B314D-6C75-47AF-AFC1-B26BEDE9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EA19D-E63B-4E5A-8715-9E5358F4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6FE53-1367-4C7C-B2BA-BB907201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22327-B09C-42F2-8774-46FB0B94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4E921-25EC-425A-B9B4-7820AD9A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45F5E-A5E2-499A-9B20-484578CC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0F6D4-E4C4-4CA8-BC94-F5FB5528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3FB40-570C-4B15-8AA6-0D524567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97D0A-5ECA-40B5-87D2-8B39F1AF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8A8C7-F4D3-43FD-9C90-6DAD4D97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C0BC-3D6A-4412-8191-0DEFBF2E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D1B77-342F-43A8-9AA7-DCA2E0FE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475BC-B504-4AD0-A45C-543395D6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B34F4-B48D-4AFF-9D4B-14653032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A3A2C-40CD-48A6-9177-D168D39E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CAF0B-739F-489F-A7B2-1ACB523E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1381D-9A99-4B96-B05E-2199C383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FB6A3-DADB-46FD-B55C-80785F8B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8D5AE-5B0F-4A77-AC48-25E58315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9EFF5-05E3-44DE-AF3C-1B03E2B5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89196-6645-4AA5-84ED-1EB625B7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C743-DAAC-4F96-BAE2-E4D61484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0EDEF-D4BB-482A-A2C2-9CA423FE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22FFB-C758-4E7C-893A-02E88F56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0FC3A-7CD4-4EE0-B0A4-9277C2C4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C9403-EF60-4C64-8968-D75EF10C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F9BAB-DF2B-4616-B11E-6CC6AC7C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286E1-211A-4EB4-83E0-379CB156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E1340-C990-43CF-B0B8-9E1B7A20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846E7-7063-41FC-9ADD-04360D91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CC4B2F-5EDE-441A-A46F-4A319900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47958C-756E-468D-BCBE-1ABF7EBF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A593-4A9F-4649-9633-8F400F26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1C54D-47CD-44CB-AA72-B281E1C4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98A10-51E8-4EF3-AE2E-AFB8CA3F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F6824-E8B4-40DC-899C-1A081623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DC869-B5B8-46E2-9A9F-28385C0F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4F7072-1B31-4CC8-96D6-A9A76208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331A6-7BA5-480A-9BA7-C6C12159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D99B93-D729-4516-B745-C565763D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5EC9C8-BDF0-40A1-83B8-E4A8C797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DE3C4-EA00-46AC-B5B0-33893811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9B886A-DC3F-4F73-941A-BEE7B0E6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2049-A5A8-4F5D-A6F3-812E4791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F63443-861B-4A89-858B-1AAE753E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DEB0C3-CB03-4DAE-8DFC-83ABF611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3AA9B1-CD88-4CD1-8E26-5DC435C8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84183-0F00-4A60-AB1D-0A70B7A9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CD07C-8D9C-4F46-B3C0-650D2601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333B15-1F85-4244-A841-707421E1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281939-B476-4C06-97C3-509553B8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D830E4-1B93-4322-85EC-6FCCE477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1F2C1-CA32-453A-8C7D-2623D97D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41CBD5-D8FE-46FA-B7A4-F4B95B27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5DA1-5AA5-43C1-935B-3790BABA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C80D66-EA55-4D0E-BEF3-8D499DE8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B8C7A3-ED25-46ED-A295-CC62A5B0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CECB67-C4F2-4EDE-A73B-600BE698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F09462-9B90-473D-9171-2E8069BD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41CCF6-980B-446C-BE19-6D15A467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6F50F3-D594-4D8D-BC66-CE1C1D61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070EF4-CD66-4D10-95D6-03BB371E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D726DF-0349-4AF4-B4C4-3071CC62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BDAD70-909C-4EA4-824D-D8862FC0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DC47B0-9FFB-4672-A7CF-B382E067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C42F-4BC7-4856-95A6-BAEE417E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50BDC0-14D8-47E9-B2DA-79C76C8D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1685B0-D19D-4303-82BC-68A944E5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E47FB1-A15F-45CE-90BF-06DC4A88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A1628B-E585-4E1D-84C2-E2293C85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FE0EAE-39FF-485B-81C5-8690EEBF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9A2530-138A-4E79-8E7B-55053ABF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02743F-5CE7-40B7-A995-D0BDF743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62309-F617-4351-9B53-10AA6539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80D62A-0FC2-4B68-B9FC-BC0D1EB1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D9F102-FEB9-4519-AB89-4BEB3446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8852-4FC8-4B36-A01C-15A9CE31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4FDA1A-1459-4362-B0DA-7CFF3DDB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8DCA92-E544-4D2D-9E42-B027A080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38BC3-C423-4856-B3F7-BA066874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F8D30A-8011-4807-9189-63A5274D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91D1F2-7908-4FB7-A589-F111B99F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E42C67-CB2C-4F84-8617-D932E853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0AB43F-7326-42A3-B787-DF4A74F3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FBAF5-2493-4264-B829-D9E5A70D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A04371-2CA2-481F-AF13-AA221288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BD2182-58C6-4E7C-A018-1E72FDB3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0DF-C500-4E33-984A-FEB795EC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A561-BAB7-4AA3-90A5-3BFE6AD0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71A165-B598-4DCA-9B20-E2D7CC62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2DB319-B75B-4EC5-8C1C-60540964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CAF48C-97D6-413C-B065-B7ED10FB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0BD3BA-D6AB-4675-A370-64F075B3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E6353A-274B-4085-83BA-C1CE7EEB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0B45D9-9E2E-4A3D-A6FA-2DD0BB67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FB29E2-A340-4324-AC31-7F773B70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75C433-0514-4035-B3AB-AB922141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DC98F0-C3DE-4A90-B733-1FE0725D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C401EB-9D94-4D93-9094-638D48FE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5419-8C8B-46F0-9AC2-1999D6A3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E76E1D-3393-40B5-B7F9-16AB8AD7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3A50D4-D519-4CF9-AB87-B7EA7DB3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351060-4DB2-4188-A367-47B87DEA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917DD3-C7E9-48C8-8C8D-151B8B4D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9A26AF-02F1-42CA-992A-593C3B0D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4704FE-44B5-469E-9AEB-00F43089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76C89B-990E-4E1B-9F10-B3DC23E5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C7EEB1-5392-4BFB-8119-2177EBED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B769DB-7D69-4E04-8FD1-9830E52C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E459F8-527A-4464-8CD3-34B318B5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85BF-2E4B-4133-BB11-7A7AC3E7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082EB1-66FC-45F6-84F7-C8203337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3ECE64-A600-44B2-84DD-87FE3526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855312-F381-419B-BDE1-58863841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C827EE-F61A-40CD-B541-3F1628BF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1B76A6-2AF0-4447-B466-ED4EF7BA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8F1C97-5A6C-4008-8110-60B10900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B2A8A6-6CCA-4436-A536-6BAC04A6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214418-41B8-4FDB-A5F0-D8CC0C9E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E62F42-4F12-4A0E-9E59-CC89B588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C98C59-6CBC-4C4A-82EB-66695A01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65B0-FA90-40FC-9BC0-C40F6C55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7316B0-1D40-43E3-8078-C5684A43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55BABF-CB80-43A1-9347-305F6EF1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281C54-4950-4D33-8DEF-2A406FB1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C0216B-9C84-4A88-822C-27220432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52BE00-BD42-47B1-AAA0-DEA2956E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842571-611C-4EC4-8C2B-CBB2D27F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18765C-094A-4D4F-A422-5395C8CB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7D758E-CB8D-43FF-B871-930DAB72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75FB2E-7EB2-42C9-8706-AABB9643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127F9A-63ED-45B5-894C-0AB860F7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07F9-2A7C-46A5-810A-19638E57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3363B7-E51C-4A1B-9623-1503ED33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D173E2-1F6E-4D3F-AB90-39B3D790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FEF580-E906-439C-819F-367FB3E4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57AF13-AA57-48FA-81A4-E2F3B72E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6D5633-C112-4FCD-A512-A12707AE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2A557C-EC52-413D-9F27-7FF6BE6F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F47439-426E-4BBD-8509-0033EF64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CA9956-F6FC-4D01-844A-C3E4393D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3E2982-622B-476C-A189-22EFFC55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D26257-D557-4FDB-9D8A-2AFBB7E3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B6B0A-D089-4C3D-BA4C-D47D1A29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F89A38-D7F2-4762-A752-34FAF6C2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394CED-F950-44B0-A58C-3CDA2ED2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4B0C8E-6B58-4192-AE11-B09419DC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D074BF-816A-4F69-A8E9-76F0B34E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A1849A-438A-4BC5-B196-9EBE0C62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2A51B8-44FC-4F5D-819A-010D8CBA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FDB45A-8C27-49DF-AB7D-02C7F2A8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DC10C9-9D04-4D74-BB06-7466F2D3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0818A5-1008-4120-8D55-471EF543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AE2B08-C342-43E0-85AA-438C6210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E403E-817E-45F2-B3D9-81E11FCF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AABE1E-C6E5-4EB9-A09A-E7A7224B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BCB0A0-0A1F-4CBB-BA48-2711EF71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2AAE20-8FDA-4121-8343-25110974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084F7B-3C27-4FC2-9186-2601B1E9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CD1B69-9F85-4F08-9E90-B442F42B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BA23DF-5A3B-4486-AD6D-04E98416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AA3844-2D80-45CC-8E9C-452144EE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7567C5-4F67-45A5-BF95-07802636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BC0D4B-B2A6-4042-8589-0F0074DE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31C9FF-3574-4D8B-B21C-4591986C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63C15-3354-446E-B970-ECFBDAB6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EFF6F1-DCF0-475F-9414-77CA725D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1B8945-3832-44EA-B4A0-38481EEB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2422CA-670A-480A-BB22-C9FEF833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71C8F0-DE29-416C-AB8E-04DF7118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A31491-6A40-4D92-A42F-7DEEC4A9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6C415F-178D-4C97-A22F-1D651D8A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8A6FFB-0C4F-4DA5-9AF3-EF278024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B8638-78E5-43DF-80E0-112F6DBB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00C02-ECA5-4179-9561-56CDC180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507E-7D30-4F35-A75C-E3108D66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65299-ABF2-4489-A738-E3D0A06E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94C7F-CEA9-47C2-AA87-8B9E8B17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98264-0450-4DDA-8FC2-CA09D410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5ED32-7A10-482A-B050-5A2FCE04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6590D-B546-4964-AE47-F7892336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E2C60-7B9E-4817-BDC1-41994E22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E4FCD-E94A-41D9-8846-3B8D5345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7F9F0-33BD-4D66-AC9F-9BF208ED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292EE-B3E2-48A2-8036-F00F0486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68252-B9C4-4BB2-AD60-1ECF667A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EFD-F0EC-42BE-9908-058EBD13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174C2-0D0C-44AB-AAE1-8AA84B26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5B04F-131F-4303-9EEC-84BE18D1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A71A4-C32B-43A9-AC8B-C501F584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FDBFB-ECE6-43F0-8635-01F73FE2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D22E1-6988-43E8-A84B-3669719A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41AEF-5B2A-4A03-BA7A-5411DD96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25592-0B52-4336-88D6-CE113AD5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D0D4A-32E5-41D8-B326-B9E87CB3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3EF1F-582C-4DAE-9539-19DE1594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91B52-17B5-4625-8E87-B516A243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CE14-E3A9-4859-B0C9-0E3211FA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64EED-B467-4DB9-9DBE-A1ECAEDB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99391-A164-4D32-9244-9E83F9F7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39BC1-702E-4DE7-9635-A015A22E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B71FF-289F-4C71-AF7D-D7085253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E688C-F278-4E97-87A8-1B0C7117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D6A68-447D-47C8-BCDA-56EFA74A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F9B89-FD81-4860-993D-7A8459BA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97E82-EE4F-43F8-BC64-0E834556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141C8-CECA-4FFC-A3D1-BA2E93BD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DD63D-0330-48E1-82D9-AC7CBA37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9F5-5033-401C-92C6-6FB3964B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C8F87-C0CF-4C52-AEF0-458F9105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54606-230D-42E5-BA1A-75165379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2BE5B-E701-413B-B400-D27371B2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56641-2366-416D-8B76-698E0906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1A30B-ADED-4560-A6C4-A89EB8E9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318E2-A974-45FB-9E4F-7FB23064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B67B0-0AE7-4926-935F-2FF2E65A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D5C03-3DA4-46EF-9898-BC2D74EF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E60EE-E0E3-4DDE-AB4E-ED209E95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66ABC-F36C-48C0-B5B7-BB45155C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643-7DA9-40A0-9455-9B728927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4FB9C-7BFC-42C2-9C91-AB201BDB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6C959-5BEB-49A3-A9B9-109B2BB0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414F8-715D-4218-AC81-2C41F82F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C1CF3-18C6-4C59-942E-0C92F6C7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B31B9-81CF-4A40-BA92-73EBB67F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06BE5-15A0-4DBE-BE0C-54ECCD73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75341-95A3-41D1-88F3-21539536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7A3CD-E45E-4B18-8ECA-376E590C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83ADE-7A82-469A-B91C-3DF2C61E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0115B-E4DD-4554-93CF-3B1D5197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CB9-FFE3-44BE-B5E6-00067A6C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3890A-640C-42FD-B50C-3040BCAA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2E0B8-411F-4BE8-90B9-3718A1F6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5EB7F-315A-4092-8A32-0EC1F15A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70756-03CD-4F03-89F5-5A4BE0A1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D985A-4F75-4291-A7C2-97688683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906C4-E4E7-41DC-B45D-E07BC0A0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6B607-2BC7-4FEC-80C6-047748CE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9844D-B6C3-472A-81B6-A8EDC63F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3D5ED-2E6C-4EB7-B284-CD319F9D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2D96C-2934-400D-B3B3-C7E2135E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E13-8C32-4B3F-B74C-B6754F53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9C1ED-7806-4A0C-B244-54CC14DC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358E8-4B43-4CDF-87BA-BFA57091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25D67-A642-42C0-9CEE-AEB69708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15A7E-5C7A-4F2C-84F3-9CE5C932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01F98-CABB-49C6-9713-46B08FB5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DE4E6-D06F-4E34-AF45-2233A956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6C34A-31B7-4469-9BD0-3DFB7BE5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3FE56-C551-4FB7-9A14-E5EFF53F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00DF6-8A1C-4A0E-8BA4-C89999DD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1B772-170F-459B-981C-2EDD6024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FD4B-7462-4CC7-B0BD-3192EE112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024C-0F60-435D-AC37-7ACE19C86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282C-31B3-4677-971A-99EECAF94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2EA4-9F83-4C6D-9A5B-A4DEAD5BA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BADE-79F3-4905-97E8-6CAFF1745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5DF8-C6DF-4537-8A80-F567F59095D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521F-280A-45C7-ACE0-1ED1213E8A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1DEA-7362-4F0B-941F-5084F8884E8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8805-DE8E-4B4D-BAB9-DBEDCF78DD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091A-8A35-4788-AB4A-714B1350B85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6B5B-B167-4330-9378-C57D0C3DE8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AC47-3B10-4200-A6A8-CDF3D7AA0F8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8DE2-468B-4761-B2C9-7F3F534A8A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F5BC-01EA-45EE-B351-F45E0F720FF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63E2-6460-4781-9A89-37CA043DBF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1526-973A-4B3B-92D4-E1931FA7A02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7ECE-DB93-46B8-A212-F1837FB4FE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8F98-FDBE-49DB-82AA-A394B928F89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CB32-26DC-4A9D-AA2D-08EEA480F4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1C1C-8D63-4FC0-B268-3ED70545612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ACE9-FD42-4FF9-BD4E-6567499C53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4120-97EC-4C81-8765-A817F3BBA5C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E9D1-9ACF-460F-B67D-FFED569DDD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A0C6-6A98-4BE7-B3CA-0E9A44872D7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C59F-D6E5-49A0-AACB-95EEBE6FAC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F327-33D7-48AB-BB6D-EFD984EE963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84B6-FE97-4074-92A8-DD5D1B836D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601A-0C6D-41B8-9DAE-C84FC335A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6529-E758-4CD4-B056-48D20BB2A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5B00-D64E-48DE-8244-FE15255FA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69ED-8AEE-4F39-A488-23850EE80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88ED-D3CB-4136-A2EF-6ADF4E4DE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9464-EC42-4243-A9A7-BC47A6847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9027-6315-439E-9929-DA6E0B4DD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1042920" y="1916280"/>
            <a:ext cx="7561440" cy="74448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969696">
                <a:alpha val="50000"/>
              </a:srgbClr>
            </a:outerShdw>
          </a:effectLst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华文仿宋"/>
              </a:rPr>
              <a:t>创意长城动态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  <a:ea typeface="华文仿宋"/>
              </a:rPr>
              <a:t>PPT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华文仿宋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27" descr="fji3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1"/>
          <p:cNvSpPr>
            <a:spLocks noGrp="1"/>
          </p:cNvSpPr>
          <p:nvPr>
            <p:ph/>
          </p:nvPr>
        </p:nvSpPr>
        <p:spPr>
          <a:xfrm>
            <a:off x="1979640" y="2636640"/>
            <a:ext cx="51134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页脚占位符 4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6" descr="fji3"/>
          <p:cNvPicPr/>
          <p:nvPr/>
        </p:nvPicPr>
        <p:blipFill>
          <a:blip r:embed="rId1"/>
          <a:stretch/>
        </p:blipFill>
        <p:spPr>
          <a:xfrm>
            <a:off x="0" y="3716280"/>
            <a:ext cx="9144000" cy="278136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1" name="页脚占位符 3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8" name="页脚占位符 2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2:42:37Z</dcterms:created>
  <dc:creator>xps</dc:creator>
  <dc:description/>
  <cp:keywords/>
  <dc:language>en-US</dc:language>
  <cp:lastModifiedBy>王玉清</cp:lastModifiedBy>
  <dcterms:modified xsi:type="dcterms:W3CDTF">2016-02-19T04:36:25Z</dcterms:modified>
  <cp:revision>38</cp:revision>
  <dc:subject/>
  <dc:title>行政管理学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