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10.jpeg" ContentType="image/jpe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3B6A-5E92-4C8B-8D60-03B4FF3E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53AC-3DCA-4085-8731-9DAC8AD4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29BF-8BCC-4F6A-8841-13914B35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5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5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431D-F6F7-441B-881B-0D16D1028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199B-B4A1-4E5C-9648-0F63EFAB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9ED5-D7F8-4503-B52D-78CC231E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B07A-A83A-4534-8BA0-6775DDAA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B145-EA5D-4A50-B1BE-1387C051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3988-9FBB-48D8-B213-3C0D6D68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86920" y="475920"/>
            <a:ext cx="542772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7E27-1E9C-4C0A-A70D-44BF665C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F0A5-CB8C-45F1-9B5A-673364AB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D7E4-83A8-4B8B-8181-45C7D795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D19B-69DD-4C7D-A2F4-57C94584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4F65-41E7-4336-83B9-9B1A21AD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336B-BCB2-42C7-BEB4-B33EB35E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0DFE-34F1-4090-86B4-C852F7CE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15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5092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15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9052-132C-43DD-BB62-15FB309A8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E1536-D1B3-412B-A22B-7780CDFB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E4338-9A0A-491F-B275-B1C50FA9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7AE30-9E3F-4B51-824C-A72B560A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2C9EC-A6BF-41B2-AB0D-CB6AFA95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39E84-F6CC-41F8-93C1-7AF3B96F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D291-B11E-4962-8CC6-9361AF84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86920" y="475920"/>
            <a:ext cx="542772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5736B-8A34-426B-8878-4DDBB774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AD606-36CC-48DD-BB51-2EB9FE28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C2CF1-078E-4B62-9349-0D04FD07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D2C5B-1D50-4406-A51E-B09F1F01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C7D00-D6AB-406F-8F44-01532EC4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74B87-1E81-4049-842C-93C4EFD3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15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25092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15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FFA63-1372-4643-9FB5-AA16E413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773AA-BB56-45E5-A694-58F6450F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5D115-E69E-46AF-BFFC-7F4BED84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BA39A-B629-4B49-AC35-B007A078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163A-F23A-48A3-900D-D8ABC368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10787-C94F-44C7-8E91-55BF1BB9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750DD-563A-4951-8C82-CB4D6CE6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186920" y="475920"/>
            <a:ext cx="542772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804AD-3B36-4E67-B863-4A4136D6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77C8D-6910-4AD3-B755-5094DE26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4BD5A-3941-422F-9084-2C02D893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705D3-CC94-411F-BDAC-F8019CCD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87C44-A9F8-44DE-8026-95DF8A3A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42DBD-EF11-4CF7-8CF2-BA634777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33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815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25092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033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815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E0E5B-39F0-4B32-9DA4-57B0C6CF9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9335-34F3-42DE-B927-BDE26717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86920" y="475920"/>
            <a:ext cx="542772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7A6B-6327-4483-B83E-74A363EB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F122-BA91-45D8-B6B0-53DB4A12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E6AD-89EA-4A28-9E3B-8134A770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2024-E4AD-4009-9239-169F1813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3240" y="549360"/>
            <a:ext cx="9144000" cy="576000"/>
          </a:xfrm>
          <a:prstGeom prst="rect">
            <a:avLst/>
          </a:prstGeom>
          <a:solidFill>
            <a:srgbClr val="dcb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53DD-CC49-429B-8ED5-4C366EEE2D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2" descr="D:\wang\office图表模板\背景\Autumn Backgrounds 91 [转换]-01.png"/>
          <p:cNvPicPr/>
          <p:nvPr/>
        </p:nvPicPr>
        <p:blipFill>
          <a:blip r:embed="rId2"/>
          <a:stretch/>
        </p:blipFill>
        <p:spPr>
          <a:xfrm rot="1089600">
            <a:off x="7489800" y="-131400"/>
            <a:ext cx="1628640" cy="16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8"/>
          <p:cNvSpPr/>
          <p:nvPr/>
        </p:nvSpPr>
        <p:spPr>
          <a:xfrm>
            <a:off x="0" y="4329000"/>
            <a:ext cx="9144000" cy="647640"/>
          </a:xfrm>
          <a:prstGeom prst="rect">
            <a:avLst/>
          </a:prstGeom>
          <a:solidFill>
            <a:srgbClr val="dcb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D:\wang\office图表模板\背景\Autumn Backgrounds 91 [转换]-01.png"/>
          <p:cNvPicPr/>
          <p:nvPr/>
        </p:nvPicPr>
        <p:blipFill>
          <a:blip r:embed="rId2"/>
          <a:stretch/>
        </p:blipFill>
        <p:spPr>
          <a:xfrm rot="1089600">
            <a:off x="3578040" y="534960"/>
            <a:ext cx="5121000" cy="5068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EF36-03D2-47EB-BA55-28A182DDEF3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8"/>
          <p:cNvSpPr/>
          <p:nvPr/>
        </p:nvSpPr>
        <p:spPr>
          <a:xfrm>
            <a:off x="2124000" y="2708280"/>
            <a:ext cx="3834000" cy="687240"/>
          </a:xfrm>
          <a:prstGeom prst="rect">
            <a:avLst/>
          </a:prstGeom>
          <a:solidFill>
            <a:srgbClr val="dcb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D:\wang\office图表模板\背景\Autumn Backgrounds 91 [转换]-01.png"/>
          <p:cNvPicPr/>
          <p:nvPr/>
        </p:nvPicPr>
        <p:blipFill>
          <a:blip r:embed="rId2"/>
          <a:stretch/>
        </p:blipFill>
        <p:spPr>
          <a:xfrm rot="1089600">
            <a:off x="5064120" y="1620360"/>
            <a:ext cx="2136960" cy="2116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A5B0-C547-4495-8F83-B61F9A96D0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8"/>
          <p:cNvSpPr/>
          <p:nvPr/>
        </p:nvSpPr>
        <p:spPr>
          <a:xfrm>
            <a:off x="0" y="4329000"/>
            <a:ext cx="9144000" cy="647640"/>
          </a:xfrm>
          <a:prstGeom prst="rect">
            <a:avLst/>
          </a:prstGeom>
          <a:solidFill>
            <a:srgbClr val="dcb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D:\wang\office图表模板\背景\Autumn Backgrounds 91 [转换]-01.png"/>
          <p:cNvPicPr/>
          <p:nvPr/>
        </p:nvPicPr>
        <p:blipFill>
          <a:blip r:embed="rId2"/>
          <a:stretch/>
        </p:blipFill>
        <p:spPr>
          <a:xfrm rot="1089600">
            <a:off x="4197240" y="1123920"/>
            <a:ext cx="4380120" cy="43354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B2AE-6048-4E1D-8761-9D8878A2CC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560" y="3068640"/>
            <a:ext cx="7561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64009"/>
                </a:solidFill>
                <a:latin typeface="Adobe Caslon Pro Bold"/>
              </a:rPr>
              <a:t>创意多彩枫叶简洁商务</a:t>
            </a:r>
            <a:r>
              <a:rPr b="0" lang="en-US" sz="4000" spc="-1" strike="noStrike">
                <a:solidFill>
                  <a:srgbClr val="c64009"/>
                </a:solidFill>
                <a:latin typeface="Adobe Caslon Pro Bold"/>
              </a:rPr>
              <a:t>PPT</a:t>
            </a:r>
            <a:r>
              <a:rPr b="0" lang="zh-CN" sz="4000" spc="-1" strike="noStrike">
                <a:solidFill>
                  <a:srgbClr val="c64009"/>
                </a:solidFill>
                <a:latin typeface="Adobe Caslon Pro Bold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24000" y="3395160"/>
            <a:ext cx="34164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a6a6a6"/>
                </a:solidFill>
                <a:latin typeface="Calibri"/>
              </a:rPr>
              <a:t>您的章节副标题章节副标题章节副标题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23640" y="2717640"/>
            <a:ext cx="3202200" cy="6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您的章节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7280" y="2836440"/>
            <a:ext cx="468360" cy="37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64009"/>
                </a:solidFill>
                <a:latin typeface="Calibri"/>
              </a:rPr>
              <a:t>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500800" y="2460240"/>
            <a:ext cx="50328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64009"/>
                </a:solidFill>
                <a:latin typeface="Adobe Caslon Pro Bold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011640" y="2852280"/>
            <a:ext cx="43308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64009"/>
                </a:solidFill>
                <a:latin typeface="Calibri"/>
              </a:rPr>
              <a:t>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单击此处添加标题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740720" y="549360"/>
            <a:ext cx="10080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64009"/>
              </a:solidFill>
              <a:latin typeface="Adobe Caslon Pro Bold"/>
            </a:endParaRPr>
          </a:p>
        </p:txBody>
      </p:sp>
      <p:sp>
        <p:nvSpPr>
          <p:cNvPr id="181" name="任意多边形 15"/>
          <p:cNvSpPr/>
          <p:nvPr/>
        </p:nvSpPr>
        <p:spPr>
          <a:xfrm>
            <a:off x="0" y="1506600"/>
            <a:ext cx="9144000" cy="496800"/>
          </a:xfrm>
          <a:custGeom>
            <a:avLst/>
            <a:gdLst/>
            <a:ahLst/>
            <a:rect l="l" t="t" r="r" b="b"/>
            <a:pathLst>
              <a:path w="9117106" h="497742">
                <a:moveTo>
                  <a:pt x="0" y="0"/>
                </a:moveTo>
                <a:cubicBezTo>
                  <a:pt x="458320" y="160244"/>
                  <a:pt x="916641" y="320488"/>
                  <a:pt x="1398494" y="349623"/>
                </a:cubicBezTo>
                <a:cubicBezTo>
                  <a:pt x="1880347" y="378758"/>
                  <a:pt x="2456330" y="183776"/>
                  <a:pt x="2891118" y="174811"/>
                </a:cubicBezTo>
                <a:cubicBezTo>
                  <a:pt x="3325906" y="165846"/>
                  <a:pt x="3637430" y="280147"/>
                  <a:pt x="4007224" y="295835"/>
                </a:cubicBezTo>
                <a:cubicBezTo>
                  <a:pt x="4377018" y="311523"/>
                  <a:pt x="4755776" y="235323"/>
                  <a:pt x="5109882" y="268941"/>
                </a:cubicBezTo>
                <a:cubicBezTo>
                  <a:pt x="5463988" y="302559"/>
                  <a:pt x="5748618" y="490817"/>
                  <a:pt x="6131859" y="497541"/>
                </a:cubicBezTo>
                <a:cubicBezTo>
                  <a:pt x="6515100" y="504265"/>
                  <a:pt x="7048501" y="340658"/>
                  <a:pt x="7409330" y="309282"/>
                </a:cubicBezTo>
                <a:cubicBezTo>
                  <a:pt x="7770159" y="277906"/>
                  <a:pt x="8012206" y="336176"/>
                  <a:pt x="8296835" y="309282"/>
                </a:cubicBezTo>
                <a:cubicBezTo>
                  <a:pt x="8581464" y="282388"/>
                  <a:pt x="8978153" y="181535"/>
                  <a:pt x="9117106" y="147917"/>
                </a:cubicBezTo>
              </a:path>
            </a:pathLst>
          </a:custGeom>
          <a:noFill/>
          <a:ln w="25560">
            <a:solidFill>
              <a:srgbClr val="c640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任意多边形 16"/>
          <p:cNvSpPr/>
          <p:nvPr/>
        </p:nvSpPr>
        <p:spPr>
          <a:xfrm>
            <a:off x="-1440" y="1566720"/>
            <a:ext cx="9144000" cy="497160"/>
          </a:xfrm>
          <a:custGeom>
            <a:avLst/>
            <a:gdLst/>
            <a:ahLst/>
            <a:rect l="l" t="t" r="r" b="b"/>
            <a:pathLst>
              <a:path w="9117106" h="497742">
                <a:moveTo>
                  <a:pt x="0" y="0"/>
                </a:moveTo>
                <a:cubicBezTo>
                  <a:pt x="458320" y="160244"/>
                  <a:pt x="916641" y="320488"/>
                  <a:pt x="1398494" y="349623"/>
                </a:cubicBezTo>
                <a:cubicBezTo>
                  <a:pt x="1880347" y="378758"/>
                  <a:pt x="2456330" y="183776"/>
                  <a:pt x="2891118" y="174811"/>
                </a:cubicBezTo>
                <a:cubicBezTo>
                  <a:pt x="3325906" y="165846"/>
                  <a:pt x="3637430" y="280147"/>
                  <a:pt x="4007224" y="295835"/>
                </a:cubicBezTo>
                <a:cubicBezTo>
                  <a:pt x="4377018" y="311523"/>
                  <a:pt x="4755776" y="235323"/>
                  <a:pt x="5109882" y="268941"/>
                </a:cubicBezTo>
                <a:cubicBezTo>
                  <a:pt x="5463988" y="302559"/>
                  <a:pt x="5748618" y="490817"/>
                  <a:pt x="6131859" y="497541"/>
                </a:cubicBezTo>
                <a:cubicBezTo>
                  <a:pt x="6515100" y="504265"/>
                  <a:pt x="7048501" y="340658"/>
                  <a:pt x="7409330" y="309282"/>
                </a:cubicBezTo>
                <a:cubicBezTo>
                  <a:pt x="7770159" y="277906"/>
                  <a:pt x="8012206" y="336176"/>
                  <a:pt x="8296835" y="309282"/>
                </a:cubicBezTo>
                <a:cubicBezTo>
                  <a:pt x="8581464" y="282388"/>
                  <a:pt x="8978153" y="181535"/>
                  <a:pt x="9117106" y="147917"/>
                </a:cubicBezTo>
              </a:path>
            </a:pathLst>
          </a:custGeom>
          <a:noFill/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8"/>
          <p:cNvSpPr/>
          <p:nvPr/>
        </p:nvSpPr>
        <p:spPr>
          <a:xfrm rot="465600">
            <a:off x="809640" y="1854000"/>
            <a:ext cx="1733400" cy="199224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8"/>
          <p:cNvGrpSpPr/>
          <p:nvPr/>
        </p:nvGrpSpPr>
        <p:grpSpPr>
          <a:xfrm>
            <a:off x="1865160" y="1577880"/>
            <a:ext cx="84240" cy="338400"/>
            <a:chOff x="1865160" y="1577880"/>
            <a:chExt cx="84240" cy="338400"/>
          </a:xfrm>
        </p:grpSpPr>
        <p:pic>
          <p:nvPicPr>
            <p:cNvPr id="185" name="Group 65" descr=""/>
            <p:cNvPicPr/>
            <p:nvPr/>
          </p:nvPicPr>
          <p:blipFill>
            <a:blip r:embed="rId2"/>
            <a:stretch/>
          </p:blipFill>
          <p:spPr>
            <a:xfrm>
              <a:off x="1865160" y="1577880"/>
              <a:ext cx="84240" cy="338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" name="Donut 10"/>
            <p:cNvGrpSpPr/>
            <p:nvPr/>
          </p:nvGrpSpPr>
          <p:grpSpPr>
            <a:xfrm>
              <a:off x="1891440" y="1728720"/>
              <a:ext cx="19080" cy="36360"/>
              <a:chOff x="1891440" y="1728720"/>
              <a:chExt cx="19080" cy="36360"/>
            </a:xfrm>
          </p:grpSpPr>
          <p:pic>
            <p:nvPicPr>
              <p:cNvPr id="187" name="Donut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1891440" y="1728720"/>
                <a:ext cx="19080" cy="3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 rot="360600">
                <a:off x="1899000" y="1743480"/>
                <a:ext cx="3240" cy="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矩形 24"/>
          <p:cNvSpPr/>
          <p:nvPr/>
        </p:nvSpPr>
        <p:spPr>
          <a:xfrm rot="20878800">
            <a:off x="3367080" y="1850760"/>
            <a:ext cx="2070000" cy="159552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3"/>
          <p:cNvGrpSpPr/>
          <p:nvPr/>
        </p:nvGrpSpPr>
        <p:grpSpPr>
          <a:xfrm>
            <a:off x="4132440" y="1542960"/>
            <a:ext cx="83880" cy="338400"/>
            <a:chOff x="4132440" y="1542960"/>
            <a:chExt cx="83880" cy="338400"/>
          </a:xfrm>
        </p:grpSpPr>
        <p:pic>
          <p:nvPicPr>
            <p:cNvPr id="191" name="Group 65" descr=""/>
            <p:cNvPicPr/>
            <p:nvPr/>
          </p:nvPicPr>
          <p:blipFill>
            <a:blip r:embed="rId5"/>
            <a:stretch/>
          </p:blipFill>
          <p:spPr>
            <a:xfrm rot="21599400">
              <a:off x="4132440" y="1542600"/>
              <a:ext cx="83880" cy="338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2" name="Donut 15"/>
            <p:cNvGrpSpPr/>
            <p:nvPr/>
          </p:nvGrpSpPr>
          <p:grpSpPr>
            <a:xfrm>
              <a:off x="4163400" y="1702440"/>
              <a:ext cx="18360" cy="36360"/>
              <a:chOff x="4163400" y="1702440"/>
              <a:chExt cx="18360" cy="36360"/>
            </a:xfrm>
          </p:grpSpPr>
          <p:pic>
            <p:nvPicPr>
              <p:cNvPr id="193" name="Donut 15" descr=""/>
              <p:cNvPicPr/>
              <p:nvPr/>
            </p:nvPicPr>
            <p:blipFill>
              <a:blip r:embed="rId6"/>
              <a:stretch/>
            </p:blipFill>
            <p:spPr>
              <a:xfrm rot="21599400">
                <a:off x="4163400" y="1702080"/>
                <a:ext cx="18360" cy="3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 rot="21165600">
                <a:off x="4170960" y="1714320"/>
                <a:ext cx="3240" cy="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矩形 30"/>
          <p:cNvSpPr/>
          <p:nvPr/>
        </p:nvSpPr>
        <p:spPr>
          <a:xfrm>
            <a:off x="6300720" y="1892160"/>
            <a:ext cx="2276640" cy="1752840"/>
          </a:xfrm>
          <a:prstGeom prst="rect">
            <a:avLst/>
          </a:prstGeom>
          <a:blipFill rotWithShape="0">
            <a:blip r:embed="rId7"/>
            <a:srcRect/>
            <a:stretch/>
          </a:blipFill>
          <a:ln w="7632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18"/>
          <p:cNvGrpSpPr/>
          <p:nvPr/>
        </p:nvGrpSpPr>
        <p:grpSpPr>
          <a:xfrm>
            <a:off x="7093080" y="1593720"/>
            <a:ext cx="83880" cy="339840"/>
            <a:chOff x="7093080" y="1593720"/>
            <a:chExt cx="83880" cy="339840"/>
          </a:xfrm>
        </p:grpSpPr>
        <p:pic>
          <p:nvPicPr>
            <p:cNvPr id="197" name="Group 65" descr=""/>
            <p:cNvPicPr/>
            <p:nvPr/>
          </p:nvPicPr>
          <p:blipFill>
            <a:blip r:embed="rId8"/>
            <a:stretch/>
          </p:blipFill>
          <p:spPr>
            <a:xfrm>
              <a:off x="7093080" y="1593720"/>
              <a:ext cx="83880" cy="33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8" name="Donut 20"/>
            <p:cNvGrpSpPr/>
            <p:nvPr/>
          </p:nvGrpSpPr>
          <p:grpSpPr>
            <a:xfrm>
              <a:off x="7120440" y="1743840"/>
              <a:ext cx="16560" cy="40680"/>
              <a:chOff x="7120440" y="1743840"/>
              <a:chExt cx="16560" cy="40680"/>
            </a:xfrm>
          </p:grpSpPr>
          <p:pic>
            <p:nvPicPr>
              <p:cNvPr id="199" name="Donut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7120440" y="1743840"/>
                <a:ext cx="16560" cy="4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600600">
                <a:off x="7127280" y="1760040"/>
                <a:ext cx="2880" cy="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TextBox 36"/>
          <p:cNvSpPr/>
          <p:nvPr/>
        </p:nvSpPr>
        <p:spPr>
          <a:xfrm>
            <a:off x="777960" y="4853160"/>
            <a:ext cx="2376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Calibri"/>
              </a:rPr>
              <a:t>您的内容打在这里，或者通过复制您的文本后，在此框中选择粘贴，并选择只保留文字。这样格式就不会变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41"/>
          <p:cNvSpPr/>
          <p:nvPr/>
        </p:nvSpPr>
        <p:spPr>
          <a:xfrm>
            <a:off x="851040" y="4484520"/>
            <a:ext cx="19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64009"/>
                </a:solidFill>
                <a:latin typeface="Calibri"/>
              </a:rPr>
              <a:t>您的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C:\Documents and Settings\Administrator\桌面\1-01.png"/>
          <p:cNvPicPr/>
          <p:nvPr/>
        </p:nvPicPr>
        <p:blipFill>
          <a:blip r:embed="rId10"/>
          <a:stretch/>
        </p:blipFill>
        <p:spPr>
          <a:xfrm flipH="1" rot="19871400">
            <a:off x="468000" y="4300200"/>
            <a:ext cx="522360" cy="736560"/>
          </a:xfrm>
          <a:prstGeom prst="rect">
            <a:avLst/>
          </a:prstGeom>
          <a:ln w="0">
            <a:noFill/>
          </a:ln>
        </p:spPr>
      </p:pic>
      <p:sp>
        <p:nvSpPr>
          <p:cNvPr id="204" name="TextBox 46"/>
          <p:cNvSpPr/>
          <p:nvPr/>
        </p:nvSpPr>
        <p:spPr>
          <a:xfrm>
            <a:off x="3419640" y="4486320"/>
            <a:ext cx="2376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Calibri"/>
              </a:rPr>
              <a:t>您的内容打在这里，或者通过复制您的文本后，在此框中选择粘贴，并选择只保留文字。这样格式就不会变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47"/>
          <p:cNvSpPr/>
          <p:nvPr/>
        </p:nvSpPr>
        <p:spPr>
          <a:xfrm>
            <a:off x="3492360" y="411804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64009"/>
                </a:solidFill>
                <a:latin typeface="Calibri"/>
              </a:rPr>
              <a:t>您的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C:\Documents and Settings\Administrator\桌面\1-01.png"/>
          <p:cNvPicPr/>
          <p:nvPr/>
        </p:nvPicPr>
        <p:blipFill>
          <a:blip r:embed="rId11"/>
          <a:stretch/>
        </p:blipFill>
        <p:spPr>
          <a:xfrm flipH="1" rot="19871400">
            <a:off x="3134880" y="3933360"/>
            <a:ext cx="455760" cy="642960"/>
          </a:xfrm>
          <a:prstGeom prst="rect">
            <a:avLst/>
          </a:prstGeom>
          <a:ln w="0">
            <a:noFill/>
          </a:ln>
        </p:spPr>
      </p:pic>
      <p:sp>
        <p:nvSpPr>
          <p:cNvPr id="207" name="TextBox 49"/>
          <p:cNvSpPr/>
          <p:nvPr/>
        </p:nvSpPr>
        <p:spPr>
          <a:xfrm>
            <a:off x="6178680" y="4807080"/>
            <a:ext cx="2376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Calibri"/>
              </a:rPr>
              <a:t>您的内容打在这里，或者通过复制您的文本后，在此框中选择粘贴，并选择只保留文字。这样格式就不会变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50"/>
          <p:cNvSpPr/>
          <p:nvPr/>
        </p:nvSpPr>
        <p:spPr>
          <a:xfrm>
            <a:off x="6251400" y="44388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64009"/>
                </a:solidFill>
                <a:latin typeface="Calibri"/>
              </a:rPr>
              <a:t>您的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C:\Documents and Settings\Administrator\桌面\1-01.png"/>
          <p:cNvPicPr/>
          <p:nvPr/>
        </p:nvPicPr>
        <p:blipFill>
          <a:blip r:embed="rId12"/>
          <a:stretch/>
        </p:blipFill>
        <p:spPr>
          <a:xfrm flipH="1" rot="19871400">
            <a:off x="5806440" y="4221000"/>
            <a:ext cx="554400" cy="782640"/>
          </a:xfrm>
          <a:prstGeom prst="rect">
            <a:avLst/>
          </a:prstGeom>
          <a:ln w="0">
            <a:noFill/>
          </a:ln>
        </p:spPr>
      </p:pic>
      <p:sp>
        <p:nvSpPr>
          <p:cNvPr id="210" name="矩形 52"/>
          <p:cNvSpPr/>
          <p:nvPr/>
        </p:nvSpPr>
        <p:spPr>
          <a:xfrm>
            <a:off x="0" y="6524640"/>
            <a:ext cx="851040" cy="1443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54"/>
          <p:cNvSpPr/>
          <p:nvPr/>
        </p:nvSpPr>
        <p:spPr>
          <a:xfrm>
            <a:off x="-1440" y="6381720"/>
            <a:ext cx="9144000" cy="0"/>
          </a:xfrm>
          <a:prstGeom prst="line">
            <a:avLst/>
          </a:prstGeom>
          <a:ln w="28440">
            <a:solidFill>
              <a:srgbClr val="fac09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57"/>
          <p:cNvSpPr/>
          <p:nvPr/>
        </p:nvSpPr>
        <p:spPr>
          <a:xfrm>
            <a:off x="826920" y="6464160"/>
            <a:ext cx="184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Calibri"/>
              </a:rPr>
              <a:t>您公司的</a:t>
            </a: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LOGO</a:t>
            </a:r>
            <a:r>
              <a:rPr b="0" lang="zh-CN" sz="1200" spc="-1" strike="noStrike">
                <a:solidFill>
                  <a:srgbClr val="7f7f7f"/>
                </a:solidFill>
                <a:latin typeface="Calibri"/>
              </a:rPr>
              <a:t>和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燕尾形 58"/>
          <p:cNvSpPr/>
          <p:nvPr/>
        </p:nvSpPr>
        <p:spPr>
          <a:xfrm>
            <a:off x="8699400" y="6524640"/>
            <a:ext cx="120600" cy="217440"/>
          </a:xfrm>
          <a:custGeom>
            <a:avLst/>
            <a:gdLst>
              <a:gd name="textAreaLeft" fmla="*/ 0 w 120600"/>
              <a:gd name="textAreaRight" fmla="*/ 120960 w 1206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64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燕尾形 61"/>
          <p:cNvSpPr/>
          <p:nvPr/>
        </p:nvSpPr>
        <p:spPr>
          <a:xfrm flipH="1">
            <a:off x="8387640" y="6524640"/>
            <a:ext cx="120600" cy="217440"/>
          </a:xfrm>
          <a:custGeom>
            <a:avLst/>
            <a:gdLst>
              <a:gd name="textAreaLeft" fmla="*/ -360 w 120600"/>
              <a:gd name="textAreaRight" fmla="*/ 120600 w 1206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64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843280" y="3429000"/>
            <a:ext cx="3889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64009"/>
                </a:solidFill>
                <a:latin typeface="Adobe Caslon Pro Bold"/>
              </a:rPr>
              <a:t>谢谢观看！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43280" y="3011400"/>
            <a:ext cx="388944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c64009"/>
              </a:solidFill>
              <a:latin typeface="Adobe Caslon Pro 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3927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a6a6a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08:36:58Z</dcterms:created>
  <dc:creator>User</dc:creator>
  <dc:description/>
  <dc:language>en-US</dc:language>
  <cp:lastModifiedBy>a</cp:lastModifiedBy>
  <dcterms:modified xsi:type="dcterms:W3CDTF">2015-07-25T08:32:31Z</dcterms:modified>
  <cp:revision>16</cp:revision>
  <dc:subject/>
  <dc:title>PowerPoint 演示文稿</dc:title>
</cp:coreProperties>
</file>