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B43A-67E5-4B9A-A889-3FAB6D40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2C8-D5A7-4D4D-98D8-A667634E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A29-5A9A-43D0-BF67-1D0ED205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87D5-6A52-473D-BE5A-2BFFDFA4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ED21-E001-46F4-A16E-80845DA8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FDAD-9E44-4CDD-8641-E651E8D0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DA56-375A-4DD6-BE57-6A129BEB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9646-E421-44BD-9FC6-6E46081F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2E6E-09A1-4A18-BAAF-DF7B49D5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C2B6-B2D3-4810-8A0D-F49BEC51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2098-88A8-454B-A59E-90B06DA3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EC03-79AA-4D80-B19A-DFE90D28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D407-D2B2-4479-8568-CB5AC509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2D68-AAE8-4434-B116-A0859644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77C5-7082-4FAC-B3F1-EDD3B28D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B2D6-358A-407A-ADB9-2F9CBF7C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DC5E-7C40-4E75-882E-4F1737C2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4C1E-F5E2-4538-AAE4-E97B6EBF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9766-33AD-43F4-9B43-8EBA321D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447A-72B8-4373-8F43-C4EBBE08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CA6B-4F6A-4638-B4E0-BDFF34E7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F306-4997-4B9D-A100-4C2AFF9D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7FE4-A988-4829-9426-54C94198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3A8-9AA7-435C-8C30-AEE6019B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5651-A436-41ED-A07C-71D60DC4120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28DD-757E-41E5-8009-57399A9667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9B57-E3F6-4E10-9E5D-D682A4B2AA4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6469-6479-4C6B-95B7-403BC4DFB25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f8dca5fcb64db8b78000b9fcd53a5b5f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2979360" y="1764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城镇化建设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cp:keywords/>
  <dc:language>en-US</dc:language>
  <cp:lastModifiedBy>a</cp:lastModifiedBy>
  <dcterms:modified xsi:type="dcterms:W3CDTF">2015-07-20T12:05:53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