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330-DC97-4DBC-9AA4-ECCF608D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5C1-6D10-4E2C-807A-5E971D18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D5C-C4FE-4D05-A4B8-71B6BFD3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4B7-D495-46C7-8936-A002571C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0D8A-6387-4081-9028-4A225557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FACE-EA8C-45AB-835E-026CE6F4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592D-FF7C-4240-830E-181EDD95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7B52-EA06-4659-B6C4-501338C4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7C7C-5EFB-495E-98C6-5BEACC94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C999-7596-4BD9-8F6B-3972D369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A425-998A-4894-A842-73720950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99E-209D-4385-9F42-73E0F26B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C46B-B5D5-4526-9387-3C8FBB65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4ADC-24D4-4BC3-BD2A-CD4D5DF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65E4-9534-4666-BF17-4F16C981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6000-DA1E-489E-9E29-33669678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AAC5-6548-4CEF-8BF6-87FC3145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2FC-B1B2-49A9-8699-0333E5DB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302-11C9-4F7D-908F-7C8CC98D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65C-8A51-4066-9D12-21F35416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F26-1591-4B72-A8D8-5D751899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073-0F6E-4FE9-9090-CFA2612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714-000A-4DF8-9A96-53210BBA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952-574F-43A8-A5A4-45434649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6E68-0805-4245-9076-D949A08225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31F3-C9BA-467B-A13F-007C59C5F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7156-E193-4102-99CF-BEEB32245E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DBA8-7C29-4B2C-9B8A-B42D03F810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49"/>
          <p:cNvPicPr/>
          <p:nvPr/>
        </p:nvPicPr>
        <p:blipFill>
          <a:blip r:embed="rId1"/>
          <a:stretch/>
        </p:blipFill>
        <p:spPr>
          <a:xfrm>
            <a:off x="36360" y="336600"/>
            <a:ext cx="9061560" cy="617220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300760" y="3366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道德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30:10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