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482-0877-467D-AD18-345427C1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A1D-FD47-4BF2-A002-51616DFB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687-63E4-4133-BDA8-3F91B539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191-FF59-4A92-856E-7F72EB5A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CEE-3558-41F0-AAB0-A96AD06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914-84A0-4693-A174-99EB2DEA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CB9-1BF6-42E2-B97A-8880E64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210-56C9-4929-ABF9-F53860F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A11-F0AC-4459-A66E-296B773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95C-2C3D-4AF4-BB14-C024E06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C4B-10E9-49EF-A2DC-B4079B3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6A4-2348-4AF8-A67F-727CCE1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8569-D438-401F-ADF3-E7F407A0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925327253ace7f12d507423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415960" y="1773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道德讲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300720" y="5229360"/>
            <a:ext cx="16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芗城广电标志32"/>
          <p:cNvPicPr/>
          <p:nvPr/>
        </p:nvPicPr>
        <p:blipFill>
          <a:blip r:embed="rId2"/>
          <a:stretch/>
        </p:blipFill>
        <p:spPr>
          <a:xfrm>
            <a:off x="5508720" y="501336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925327253ace7f12d507423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516720" y="141300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63840" y="3500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百善孝为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1ec08fad56590d059ee90c4"/>
          <p:cNvPicPr/>
          <p:nvPr/>
        </p:nvPicPr>
        <p:blipFill>
          <a:blip r:embed="rId2"/>
          <a:stretch/>
        </p:blipFill>
        <p:spPr>
          <a:xfrm>
            <a:off x="2556000" y="692280"/>
            <a:ext cx="261144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9"/>
          <p:cNvSpPr/>
          <p:nvPr/>
        </p:nvSpPr>
        <p:spPr>
          <a:xfrm>
            <a:off x="4932360" y="206064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2bb2d990745d51f6e068c98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789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987640" y="623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5:43:21Z</dcterms:created>
  <dc:creator>雨林木风</dc:creator>
  <dc:description/>
  <cp:keywords/>
  <dc:language>en-US</dc:language>
  <cp:lastModifiedBy>a</cp:lastModifiedBy>
  <dcterms:modified xsi:type="dcterms:W3CDTF">2015-07-20T12:29:5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