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1F9-558A-4F08-BD39-66001F82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407-EA89-460D-8D66-56E8EF11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E6B-7DC2-4EB2-8008-F077F993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E15-2A6B-4415-85D3-5D8006CB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ACF-A940-4369-AA65-B3995968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45F-5729-4ADD-9C72-6ECF3284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E02E-5926-439F-B532-30652EC5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F54-4328-47D5-986B-0DF7890C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AA6-23DD-4C62-A8D7-1D436E4B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EBF-1534-475A-B71E-2391954B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480-5733-4EA3-BF95-B6C0B863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C4BD-1F8C-4A44-BD86-182D9091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8C53-2097-4105-93D5-E8101FBD4B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4702-ACF3-48B3-8C7D-4249745F0F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11071121075464"/>
          <p:cNvPicPr/>
          <p:nvPr/>
        </p:nvPicPr>
        <p:blipFill>
          <a:blip r:embed="rId1"/>
          <a:stretch/>
        </p:blipFill>
        <p:spPr>
          <a:xfrm>
            <a:off x="2557440" y="150840"/>
            <a:ext cx="6361200" cy="636264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1407960" y="11635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灯笼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011071122442114"/>
          <p:cNvPicPr/>
          <p:nvPr/>
        </p:nvPicPr>
        <p:blipFill>
          <a:blip r:embed="rId1"/>
          <a:stretch/>
        </p:blipFill>
        <p:spPr>
          <a:xfrm>
            <a:off x="3144960" y="14400"/>
            <a:ext cx="5811840" cy="5811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2181240" y="62834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cp:keywords/>
  <dc:language>en-US</dc:language>
  <cp:lastModifiedBy>a</cp:lastModifiedBy>
  <dcterms:modified xsi:type="dcterms:W3CDTF">2015-07-20T12:30:07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