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6396163"/>
        <c:axId val="66795547"/>
      </c:barChart>
      <c:catAx>
        <c:axId val="8639616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6795547"/>
        <c:crosses val="autoZero"/>
        <c:auto val="1"/>
        <c:lblAlgn val="ctr"/>
        <c:lblOffset val="100"/>
        <c:noMultiLvlLbl val="0"/>
      </c:catAx>
      <c:valAx>
        <c:axId val="6679554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639616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58884829"/>
        <c:axId val="60879657"/>
      </c:barChart>
      <c:catAx>
        <c:axId val="588848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0879657"/>
        <c:crosses val="autoZero"/>
        <c:auto val="1"/>
        <c:lblAlgn val="ctr"/>
        <c:lblOffset val="100"/>
        <c:noMultiLvlLbl val="0"/>
      </c:catAx>
      <c:valAx>
        <c:axId val="6087965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888482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9782911"/>
        <c:axId val="41947781"/>
      </c:lineChart>
      <c:catAx>
        <c:axId val="997829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1947781"/>
        <c:crosses val="autoZero"/>
        <c:auto val="1"/>
        <c:lblAlgn val="ctr"/>
        <c:lblOffset val="100"/>
        <c:noMultiLvlLbl val="0"/>
      </c:catAx>
      <c:valAx>
        <c:axId val="41947781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9782911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2691670"/>
        <c:axId val="18785154"/>
      </c:barChart>
      <c:catAx>
        <c:axId val="326916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8785154"/>
        <c:crosses val="autoZero"/>
        <c:auto val="1"/>
        <c:lblAlgn val="ctr"/>
        <c:lblOffset val="100"/>
        <c:noMultiLvlLbl val="0"/>
      </c:catAx>
      <c:valAx>
        <c:axId val="1878515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2691670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B90BC-BE12-473B-981E-A4EC36E2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EBA17B39-06F3-4DE2-8F25-300C2A46B9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723-7321-414A-BA81-9BB72247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70D-E248-4BDA-9D62-9D7E14F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43B-8C1C-46AC-95A2-B1DDD17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5D9-48A0-4AD6-9AEC-AC73974E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A9B9-604F-4EED-8858-A7374969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DACC-FA10-4FC7-A33D-5F637AF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5387-2CCC-41A7-B235-3DF80C5E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294-E385-4657-9165-A8BB863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E43F-8098-46DD-9577-420D06B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64A0-D6CB-4EA6-87F2-7317697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B9A-92D5-4DF9-B1D4-C560A0F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C3E-C09C-498B-B0A3-3A01000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9B16-25F6-4027-AFD3-1CD651B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B103-7EF8-4D1C-8547-A3B5ABF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96C-5338-4DC0-A2C8-5F437C31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D4A-00CC-42AB-994F-05C10C49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5FE4-5332-419C-95A4-657B0EF0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296A-A8F9-4F84-A86A-6E6EC34C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CF9D-019F-4995-B82A-8CF66F1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5058-8F2E-4FA6-AE72-983BDD5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32A7-A988-4FEF-AF2D-45DEECEC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8252-0C0A-48CF-9ED0-3B214F65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4BD-80AE-467E-8269-7B1B88B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9BAE-AB91-4499-9B93-0509C5BB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1778-B367-48AC-ABFC-D3867B8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354E-FF39-41DD-A59B-AEE3FD7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1C34-A431-4FE5-AF48-7A1C531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375F-FECF-4AED-8B5B-806C263E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845B-CD2B-4562-AB5B-1FA582B7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FA64-3753-49ED-A92C-B1E6509F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55A6-BC4D-4681-8E58-D0081E2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E565-3B4A-4865-B672-B158D7E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4881-0E9F-42B0-A1C6-64C3B3D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68B-C242-4077-B5D6-95408FD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1D2D-2D3B-492F-A074-A68F523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989C-6E54-42E3-99B5-9209CBC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F652-1866-44C0-85BF-1CBDF28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9AC6-2287-40D3-AD37-9DB6404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D738-979F-4E78-A91A-BF35BCE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8F47-90C7-4A10-BAFA-308AA5F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7B2A-6AFC-44FA-9CD2-D0AC198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C736-3364-4B4F-BFA2-B6AE0912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C2B0-D285-4FE7-90E1-00DD6764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319B-3049-42E9-B932-41B3C3CB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38D-7CDA-4CEA-86C9-90A09F6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AE76-9B7E-460B-B49D-764E96AF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C351-1E9D-4837-9317-6A4176E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1C37-B58F-4A92-9AA3-43C75DC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2A94-0964-4D97-9E56-655CA705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7DED-BFD7-455D-9821-1B5BD6BC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2EDA-CA27-4FE8-A3CB-AD00A1A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D14A9-BB6A-4233-92C8-627988A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833D-5F66-434A-A284-35E28CC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8EA1-EFBF-46DF-BF5E-E206A9E9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DB90-4C6F-4763-A5C2-E747D75D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C15-EFA0-4774-9A26-5D80BEA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88994-3CF0-4DA2-B248-9FC72FBC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E79A-B999-4990-9BAD-9B698446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8934-92CC-4A67-99E5-F1F8181E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D6B8-5450-41F2-8947-DC7A0CA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73532-7742-460F-B305-9366A80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82BB-8B17-4FC7-815A-8126FEC4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F36B-50CE-4378-A920-6C40B3C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EF99-44ED-406A-A7B3-716B2A7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9CB1-DA71-4527-A7BA-48F5BD7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5782-0EDF-42B2-A9E9-A2A2BE0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D0B-5AE6-457A-9037-14E488F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4F2B-6AA7-41D9-A59D-C3BF025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FE5A-286E-48A9-B1DD-37A1E72C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81E9-4E14-4524-AA2E-57B1B7CC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64BC-FC90-4617-8B4C-3D1EC88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420E-4FFA-44E5-B54B-2D39A63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2AC0-2EFC-457E-A92F-6FBD834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CB037-1A5A-4D94-9326-C9AADB1E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AB11-8EAF-45D2-8E1C-2E65AB2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F7F9-C0C6-4F30-9AA5-9361724F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EF5C-C20E-4FC9-9B38-0A4DA1A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B0A-BF92-43A0-AF82-B47AA9FA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E0D9-12E3-4B6B-AB72-ED0746C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62B2-B8F5-4BA2-991D-21F33F8A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9A4E-60FA-4A25-9B05-BE7F3F5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71C5-DF05-4143-96DB-9F779729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88E2-0BBE-4918-8FE6-0990440C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B345E-6EFE-494B-BBFC-3AB4DA2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AE46-E76D-4C79-B539-7E522629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3C752-CF52-4036-A164-830A9A3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D55C-A6E0-4D09-B46F-43137DF8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7019-4B90-489C-A345-3E2D8BE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B79-5613-41D5-AF35-6029A13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E351-E53F-410F-AE5D-814AEEFF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5438-4E90-4420-9FDA-89D0C766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549C-9C90-46DE-B9C1-6E43931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B213-D783-4BE8-A30C-60E587A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A40B6-14AB-41AB-B566-13204FC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92E8-35A0-44F5-AF95-33531D1A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215D-9F49-4D9F-8C39-537E6E95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2.jpg"/>
          <p:cNvPicPr/>
          <p:nvPr/>
        </p:nvPicPr>
        <p:blipFill>
          <a:blip r:embed="rId3"/>
          <a:stretch/>
        </p:blipFill>
        <p:spPr>
          <a:xfrm>
            <a:off x="0" y="-25200"/>
            <a:ext cx="9143640" cy="68828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7090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3846146-4D3F-4FDF-8D79-FEA93788EE52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BC78B3-E457-4DAB-874A-D4DA86399D8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2.jpg"/>
          <p:cNvPicPr/>
          <p:nvPr/>
        </p:nvPicPr>
        <p:blipFill>
          <a:blip r:embed="rId3"/>
          <a:srcRect l="0" t="15861" r="0" b="22692"/>
          <a:stretch/>
        </p:blipFill>
        <p:spPr>
          <a:xfrm>
            <a:off x="0" y="775080"/>
            <a:ext cx="9143640" cy="4228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FD6F075-9622-4643-A20A-BB45C006F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892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874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94A4BF-3E7C-4DB9-AD25-650A1AF74BB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92B724A-4D24-4911-BCCD-93F1083C088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81843B4-3363-4426-ACA3-01AFB160897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DD402E-07B1-445E-9644-F3EE156A096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2.jpg"/>
          <p:cNvPicPr/>
          <p:nvPr/>
        </p:nvPicPr>
        <p:blipFill>
          <a:blip r:embed="rId3"/>
          <a:stretch/>
        </p:blipFill>
        <p:spPr>
          <a:xfrm>
            <a:off x="0" y="-25200"/>
            <a:ext cx="9143640" cy="6882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309394-8347-4B96-A7E2-55FCE30474B7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27090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地球背景商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350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554-821D-4599-9902-E3891E83A3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0269C-B1D6-481B-85D9-1C93423768E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952360" y="325980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>
                <a:solidFill>
                  <a:srgbClr val="0e0e0e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E2D06E3-2A6E-484F-B996-9EE91579DC3A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CE71E-11C9-46D1-B0C2-0C466AA50B6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AAE8-2730-4B83-AF25-6839BF2D346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74D10D-77D2-461B-872B-9A0902DB6147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95280" y="34164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4378-68EC-43F6-B64F-AACC37C7CA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B31B9736-1F2C-4CED-9112-95492577194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D953FE9-2B6C-44ED-BD02-F35F58C56006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DC9718-B0FE-4AAF-8401-6151AA7D548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892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874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A5B3-3294-4FC6-97C8-EDE089F029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08782BB-A45B-4539-AFFF-67FDC70081A3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5F1A-D839-4D5F-A065-57BA5741CD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9C3BB1FF-96FB-4B00-A863-36D590BC434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42269404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8" name="Text Box 6"/>
          <p:cNvSpPr/>
          <p:nvPr/>
        </p:nvSpPr>
        <p:spPr>
          <a:xfrm>
            <a:off x="78732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785F-0E16-482A-B067-E6AA6AB391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0FB6EA8-4ED3-4F0D-9611-86655452228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920894248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4959-8E9F-4046-A821-4B96A17A12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AD9BF63-7452-4E2D-AF8C-9644CD2391E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0A08-37BD-4FC2-B598-E678409FC4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B50DD66-0D1D-4545-B768-7B64F80F8D2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2E687-A71B-4BFC-96D0-9789206A02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5DEEAF29-1725-45E0-BB36-34FECFC21A0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9B59-EC3D-401F-B226-C1DD3E67A6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2BEBE57-6573-4460-8498-DD2C86B8FB5B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1</Template>
  <TotalTime>9</TotalTime>
  <Application>LibreOffice/7.4.7.2$Linux_X86_64 LibreOffice_project/40$Build-2</Application>
  <AppVersion>15.0000</AppVersion>
  <Words>518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09:03Z</dcterms:created>
  <dc:creator>lenovo</dc:creator>
  <dc:description>我爱PPT中文网</dc:description>
  <cp:keywords>XS-普屏 4：3 SC-淡蓝色 BG-浅色 DH-静态 XJ-二级</cp:keywords>
  <dc:language>en-US</dc:language>
  <cp:lastModifiedBy>a</cp:lastModifiedBy>
  <dcterms:modified xsi:type="dcterms:W3CDTF">2015-07-25T08:59:19Z</dcterms:modified>
  <cp:revision>3</cp:revision>
  <dc:subject>TP-信息通讯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