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A2C-9C96-47EB-AB27-BB059E74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44C-2AED-4864-B7B4-87F66CC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D48-7E01-4126-9607-85006D5B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3D6-ACD7-44CD-82E6-65A7E3B0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F1B-7D21-4BC2-80DC-7D232E54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4159-290E-465A-8766-503CAD5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904D-35CD-4B89-AC99-C608AA2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38EB-0F3C-4E32-B9CE-68B59DF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23D1-7694-4B16-8644-6687B4D3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ADC5-A313-4939-9DDC-C85ACD4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0D8-11E7-4593-9E2D-69089C3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6C0-479F-44EA-A122-B5A3595A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553B-3072-4B17-A169-C429064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181D-FA3A-4244-9DD1-89369D8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0BA5-20BD-473C-AD69-147F653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9D7F-25CC-49F4-892F-AB1A0338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FA84-D182-4211-9348-BCC145E0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254-9084-4CED-B9E7-458827B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891-0E13-46EB-B808-C8A94AE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3B3-1BBF-4CB4-A647-1931F511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CC6-3A11-48A5-AC5D-DB7ED081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203-4145-457D-9E05-F51157F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746-7824-4391-B4FF-D6A3DA6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AF8-61FF-4196-93A3-D4856E7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EDA-B347-460B-A5D3-16E7722E68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B3F3-1266-4769-A7CB-84432FF6D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518-3260-4847-B0D2-B31979E8A9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B46-B80B-46CB-A3D9-98D977BDF1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8817f89fae4954368c1499587045c7f4"/>
          <p:cNvPicPr/>
          <p:nvPr/>
        </p:nvPicPr>
        <p:blipFill>
          <a:blip r:embed="rId1"/>
          <a:stretch/>
        </p:blipFill>
        <p:spPr>
          <a:xfrm>
            <a:off x="11160" y="871560"/>
            <a:ext cx="9123480" cy="511632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29:2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