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0E9-ADED-49EC-8441-62880737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3DC-2EBA-43D2-8DD8-63158DC8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B69-C60C-4C56-9195-2C3C6410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B9E-AC87-4B55-B6C8-B21CB278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58C-ABEF-46CD-BF4C-6F71D7F4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CB5-1502-443A-B106-F4CE636D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E86-D283-4037-83F2-9AE60214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108-C694-467A-BAC4-6F490181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804-338C-450A-800F-66ABC457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7C9-FA8E-448B-9C21-64A83AB8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D51-2A9A-4C77-BD5F-9C5BBA56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5AC-4C09-44A9-BC6F-AD654358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C7EF-61A8-42B4-8CA1-DB61A6E02F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12A-88D3-415F-A12C-75E81407A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6"/>
          <p:cNvPicPr/>
          <p:nvPr/>
        </p:nvPicPr>
        <p:blipFill>
          <a:blip r:embed="rId1"/>
          <a:stretch/>
        </p:blipFill>
        <p:spPr>
          <a:xfrm>
            <a:off x="2666880" y="888840"/>
            <a:ext cx="3810240" cy="508032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815200" y="2016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"/>
          <p:cNvPicPr/>
          <p:nvPr/>
        </p:nvPicPr>
        <p:blipFill>
          <a:blip r:embed="rId1"/>
          <a:stretch/>
        </p:blipFill>
        <p:spPr>
          <a:xfrm>
            <a:off x="2031840" y="1523880"/>
            <a:ext cx="5080320" cy="3810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098800" y="6248520"/>
            <a:ext cx="46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8"/>
          <p:cNvPicPr/>
          <p:nvPr/>
        </p:nvPicPr>
        <p:blipFill>
          <a:blip r:embed="rId1"/>
          <a:stretch/>
        </p:blipFill>
        <p:spPr>
          <a:xfrm>
            <a:off x="2738520" y="1595520"/>
            <a:ext cx="36669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26:3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