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3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00000" y="3839760"/>
            <a:ext cx="73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2920" y="980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6200" y="980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00000" y="3839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2920" y="3839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6200" y="3839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00000" y="980640"/>
            <a:ext cx="7344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3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619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0000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00000" y="980640"/>
            <a:ext cx="7344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44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839760"/>
            <a:ext cx="73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3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00000" y="3839760"/>
            <a:ext cx="73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0000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44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2920" y="980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6200" y="980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00000" y="3839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2920" y="3839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6200" y="3839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3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619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0000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383976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1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980640"/>
            <a:ext cx="3583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3839760"/>
            <a:ext cx="73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1930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980640"/>
            <a:ext cx="73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8000" y="2637000"/>
            <a:ext cx="4176720" cy="89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3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8000" y="3429000"/>
            <a:ext cx="41767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300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6880" y="476280"/>
            <a:ext cx="32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儿童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模板</a:t>
            </a: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6502320" cy="49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63104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747d7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70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47d7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04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49:3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