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A77-E8C3-48ED-8028-F0DE26DD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DB3-DDD4-455C-A86A-2615B10D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D35-52D2-4A71-BEAF-F2C0F82C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ED4E-120A-4BFF-8134-22B59AB5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7FC-2BDF-4C27-AD7B-9A925547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49F-DDB4-469C-AE56-84371FCF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DA-7CE4-4448-A02B-383B672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241-C498-48CC-A430-BE372F9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83F-913F-4779-B36B-3126B4D7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AAD-5CB5-4C55-BACF-CAF0AA7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9FC-CFF0-44D3-90CD-2FAE0D94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E41-25CE-4593-B537-CC6F10A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6AA8-E8CA-45C4-BE4F-F540ADCEB4F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A58-4FD8-4619-824F-A82BDE7B19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9700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2" name="图片 13" descr=""/>
          <p:cNvPicPr/>
          <p:nvPr/>
        </p:nvPicPr>
        <p:blipFill>
          <a:blip r:embed="rId2"/>
          <a:stretch/>
        </p:blipFill>
        <p:spPr>
          <a:xfrm>
            <a:off x="4356000" y="3645000"/>
            <a:ext cx="3816360" cy="2762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4319640" y="787320"/>
            <a:ext cx="4068720" cy="27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360云盘\02-个人资料\！PPT图片及版面资源\06-PPT精选插图\03-人物\xpic6942.jpg"/>
          <p:cNvPicPr/>
          <p:nvPr/>
        </p:nvPicPr>
        <p:blipFill>
          <a:blip r:embed="rId4"/>
          <a:stretch/>
        </p:blipFill>
        <p:spPr>
          <a:xfrm>
            <a:off x="709560" y="1206360"/>
            <a:ext cx="3460680" cy="230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720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360云盘\02-个人资料\！PPT图片及版面资源\06-PPT精选插图\03-人物\Fotolia_28236516_Subscription_XXL.jpg"/>
          <p:cNvPicPr/>
          <p:nvPr/>
        </p:nvPicPr>
        <p:blipFill>
          <a:blip r:embed="rId1"/>
          <a:stretch/>
        </p:blipFill>
        <p:spPr>
          <a:xfrm>
            <a:off x="4643280" y="9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360云盘\02-个人资料\！PPT图片及版面资源\06-PPT精选插图\03-人物\xpic7485.jpg"/>
          <p:cNvPicPr/>
          <p:nvPr/>
        </p:nvPicPr>
        <p:blipFill>
          <a:blip r:embed="rId2"/>
          <a:stretch/>
        </p:blipFill>
        <p:spPr>
          <a:xfrm>
            <a:off x="971640" y="2637000"/>
            <a:ext cx="5194080" cy="346212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4"/>
          <p:cNvGrpSpPr/>
          <p:nvPr/>
        </p:nvGrpSpPr>
        <p:grpSpPr>
          <a:xfrm>
            <a:off x="1763640" y="1030320"/>
            <a:ext cx="2532240" cy="1879560"/>
            <a:chOff x="1763640" y="1030320"/>
            <a:chExt cx="2532240" cy="1879560"/>
          </a:xfrm>
        </p:grpSpPr>
        <p:pic>
          <p:nvPicPr>
            <p:cNvPr id="50" name="Picture 3" descr="F:\360云盘\02-个人资料\！PPT图片及版面资源\06-PPT精选插图\02-商务\mf821-02223878.jpg"/>
            <p:cNvPicPr/>
            <p:nvPr/>
          </p:nvPicPr>
          <p:blipFill>
            <a:blip r:embed="rId3"/>
            <a:stretch/>
          </p:blipFill>
          <p:spPr>
            <a:xfrm>
              <a:off x="176364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F:\360云盘\02-个人资料\！PPT图片及版面资源\06-PPT精选插图\03-人物\mf821-02166789.jpg"/>
            <p:cNvPicPr/>
            <p:nvPr/>
          </p:nvPicPr>
          <p:blipFill>
            <a:blip r:embed="rId4"/>
            <a:stretch/>
          </p:blipFill>
          <p:spPr>
            <a:xfrm>
              <a:off x="3042720" y="1030320"/>
              <a:ext cx="1253160" cy="187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图片 47" descr=""/>
          <p:cNvPicPr/>
          <p:nvPr/>
        </p:nvPicPr>
        <p:blipFill>
          <a:blip r:embed="rId5"/>
          <a:srcRect l="0" t="189" r="0" b="189"/>
          <a:stretch/>
        </p:blipFill>
        <p:spPr>
          <a:xfrm>
            <a:off x="6083280" y="3076560"/>
            <a:ext cx="2305080" cy="345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2360" y="6165720"/>
            <a:ext cx="496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399-FA15-4A6C-A7DB-ED07F94C09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57:00Z</dcterms:modified>
  <cp:revision>10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