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1667-8FD7-4AF4-B00F-A0C7D012E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5754-ED95-4BD3-9999-14EB4F29E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8E7E-66FD-4DA4-8C4D-4BB230D5A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FA9D-B32B-4F0A-9D08-D632165B9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A3BB-0D3D-47F0-BF70-228D7E37F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5400-E759-422C-A534-6E915F4FE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3865-35C9-40D8-B32D-59046B349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93F6-C5E7-4D27-BEEF-25CC10F12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A6A4-171C-4D8D-867C-F918351E0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A83F-6C80-4B5C-8EB1-13885763C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781E-2366-4F8B-B916-5F59C438F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46B4-20D7-45B7-AF1D-741DD57B2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" name="未知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" name="未知"/>
          <p:cNvSpPr/>
          <p:nvPr/>
        </p:nvSpPr>
        <p:spPr>
          <a:xfrm>
            <a:off x="1217520" y="-11160"/>
            <a:ext cx="7931160" cy="688680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327280" y="0"/>
            <a:ext cx="38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0d8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8C67-4A6E-457B-B037-BA5F5513F707}" type="slidenum">
              <a:rPr b="1" lang="en-US" sz="1400" spc="-1" strike="noStrike">
                <a:solidFill>
                  <a:srgbClr val="90d8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0d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未知"/>
          <p:cNvSpPr/>
          <p:nvPr/>
        </p:nvSpPr>
        <p:spPr>
          <a:xfrm>
            <a:off x="-1440" y="1589040"/>
            <a:ext cx="91501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5" name="未知"/>
          <p:cNvSpPr/>
          <p:nvPr/>
        </p:nvSpPr>
        <p:spPr>
          <a:xfrm>
            <a:off x="-3240" y="1174680"/>
            <a:ext cx="91519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6" name="未知"/>
          <p:cNvSpPr/>
          <p:nvPr/>
        </p:nvSpPr>
        <p:spPr>
          <a:xfrm>
            <a:off x="0" y="-15840"/>
            <a:ext cx="9158400" cy="20462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d800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90d8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90d8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未知"/>
          <p:cNvSpPr/>
          <p:nvPr/>
        </p:nvSpPr>
        <p:spPr>
          <a:xfrm flipV="1">
            <a:off x="-2880" y="4771800"/>
            <a:ext cx="915048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0" name="未知"/>
          <p:cNvSpPr/>
          <p:nvPr/>
        </p:nvSpPr>
        <p:spPr>
          <a:xfrm flipV="1">
            <a:off x="-4320" y="4822560"/>
            <a:ext cx="91519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1" name="未知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24000" y="566064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1857600" y="549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房地产销售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模板下载</a:t>
            </a:r>
            <a:endParaRPr b="0" lang="en-US" sz="40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未知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9" name="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57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7bb9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8000"/>
              </a:gs>
              <a:gs pos="100000">
                <a:srgbClr val="a56e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2" name="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Gulim"/>
              </a:rPr>
              <a:t>免费</a:t>
            </a:r>
            <a:r>
              <a:rPr b="0" lang="en-US" sz="1600" spc="-1" strike="noStrike">
                <a:solidFill>
                  <a:srgbClr val="006600"/>
                </a:solidFill>
                <a:latin typeface="Gulim"/>
              </a:rPr>
              <a:t>ppt</a:t>
            </a:r>
            <a:r>
              <a:rPr b="0" lang="zh-CN" sz="1600" spc="-1" strike="noStrike">
                <a:solidFill>
                  <a:srgbClr val="0066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Gulim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006000" y="1474920"/>
            <a:ext cx="4678560" cy="46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44" y="2059"/>
                </a:moveTo>
                <a:arcTo wR="10800" hR="10800" stAng="-3241733" swAng="4321594"/>
                <a:lnTo>
                  <a:pt x="10800" y="10800"/>
                </a:lnTo>
                <a:close/>
              </a:path>
              <a:path fill="none" w="21600" h="21600">
                <a:moveTo>
                  <a:pt x="17144" y="2059"/>
                </a:moveTo>
                <a:arcTo wR="10800" hR="10800" stAng="-3241733" swAng="4321594"/>
              </a:path>
            </a:pathLst>
          </a:custGeom>
          <a:gradFill rotWithShape="0">
            <a:gsLst>
              <a:gs pos="0">
                <a:srgbClr val="0c0800"/>
              </a:gs>
              <a:gs pos="100000">
                <a:srgbClr val="c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8" name=""/>
          <p:cNvSpPr/>
          <p:nvPr/>
        </p:nvSpPr>
        <p:spPr>
          <a:xfrm>
            <a:off x="2777040" y="1360440"/>
            <a:ext cx="468000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54" y="2061"/>
                </a:moveTo>
                <a:arcTo wR="10800" hR="10800" stAng="-7559284" swAng="4316764"/>
                <a:lnTo>
                  <a:pt x="10800" y="10800"/>
                </a:lnTo>
                <a:close/>
              </a:path>
              <a:path fill="none" w="21600" h="21600">
                <a:moveTo>
                  <a:pt x="4454" y="2061"/>
                </a:moveTo>
                <a:arcTo wR="10800" hR="10800" stAng="-7559284" swAng="4316764"/>
              </a:path>
            </a:pathLst>
          </a:custGeom>
          <a:gradFill rotWithShape="0">
            <a:gsLst>
              <a:gs pos="0">
                <a:srgbClr val="0f0c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1510200"/>
            <a:ext cx="4682520" cy="463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7" y="14134"/>
                </a:moveTo>
                <a:arcTo wR="10800" hR="10800" stAng="9721189" swAng="4317465"/>
                <a:lnTo>
                  <a:pt x="10800" y="10800"/>
                </a:lnTo>
                <a:close/>
              </a:path>
              <a:path fill="none" w="21600" h="21600">
                <a:moveTo>
                  <a:pt x="527" y="14134"/>
                </a:moveTo>
                <a:arcTo wR="10800" hR="10800" stAng="9721189" swAng="4317465"/>
              </a:path>
            </a:pathLst>
          </a:custGeom>
          <a:gradFill rotWithShape="0">
            <a:gsLst>
              <a:gs pos="0">
                <a:srgbClr val="90d800"/>
              </a:gs>
              <a:gs pos="100000">
                <a:srgbClr val="090d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0" name=""/>
          <p:cNvSpPr/>
          <p:nvPr/>
        </p:nvSpPr>
        <p:spPr>
          <a:xfrm>
            <a:off x="2643840" y="1687680"/>
            <a:ext cx="468468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31" swAng="4321432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31" swAng="4321432"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0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1" name=""/>
          <p:cNvSpPr/>
          <p:nvPr/>
        </p:nvSpPr>
        <p:spPr>
          <a:xfrm>
            <a:off x="2912040" y="1687680"/>
            <a:ext cx="468216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74" y="14130"/>
                </a:moveTo>
                <a:arcTo wR="10800" hR="10800" stAng="1077384" swAng="4322616"/>
                <a:lnTo>
                  <a:pt x="10800" y="10800"/>
                </a:lnTo>
                <a:close/>
              </a:path>
              <a:path fill="none" w="21600" h="21600">
                <a:moveTo>
                  <a:pt x="21074" y="14130"/>
                </a:moveTo>
                <a:arcTo wR="10800" hR="10800" stAng="1077384" swAng="4322616"/>
              </a:path>
            </a:pathLst>
          </a:custGeom>
          <a:gradFill rotWithShape="0">
            <a:gsLst>
              <a:gs pos="0">
                <a:srgbClr val="08080a"/>
              </a:gs>
              <a:gs pos="100000">
                <a:srgbClr val="878fa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2" name="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3" name="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4" name="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5" name="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6" name="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7" name="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8" name="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c08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2" name="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8fa5"/>
              </a:gs>
              <a:gs pos="100000">
                <a:srgbClr val="747a8d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3" name="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4" name="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7bb9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5" name="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57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6" name="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a54b"/>
              </a:gs>
              <a:gs pos="100000">
                <a:srgbClr val="c080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7" name="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a4b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8" name="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4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9" name="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0" name="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42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1" name="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5" name="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878fa5"/>
          </a:solidFill>
          <a:ln w="1260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6" name="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90d800"/>
          </a:solidFill>
          <a:ln w="12600">
            <a:solidFill>
              <a:srgbClr val="9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7" name="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8" name="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c08000"/>
          </a:solidFill>
          <a:ln w="12600">
            <a:solidFill>
              <a:srgbClr val="c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9" name="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0" name="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878fa5"/>
          </a:solidFill>
          <a:ln w="1260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1" name="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90d800"/>
          </a:solidFill>
          <a:ln w="12600">
            <a:solidFill>
              <a:srgbClr val="9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2" name="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3" name="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c08000"/>
          </a:solidFill>
          <a:ln w="12600">
            <a:solidFill>
              <a:srgbClr val="c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4" name="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5" name="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6" name="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2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20" name="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583b00"/>
              </a:gs>
              <a:gs pos="100000">
                <a:srgbClr val="c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  <p:sp>
        <p:nvSpPr>
          <p:cNvPr id="222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0d8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50000"/>
                    </a:srgbClr>
                  </a:outerShdw>
                </a:effectLst>
                <a:latin typeface="Impact"/>
              </a:rPr>
              <a:t>Thank You 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0d8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B6DE-A899-4D2B-90A8-3CDD71791D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6300"/>
              </a:gs>
              <a:gs pos="50000">
                <a:srgbClr val="90d800"/>
              </a:gs>
              <a:gs pos="100000">
                <a:srgbClr val="4263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trategy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Challenges Forward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14c"/>
              </a:gs>
              <a:gs pos="50000">
                <a:srgbClr val="878fa5"/>
              </a:gs>
              <a:gs pos="100000">
                <a:srgbClr val="3e414c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Conclusion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1" name="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You may want to allocate one slide per competitor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Your strengths relative to competitors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Your weaknesses relative to competitor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</a:rPr>
              <a:t>[Image information in product]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You may not extract the image for any other use.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1d1d1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f7f4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90d80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90d800"/>
              </a:gs>
              <a:gs pos="100000">
                <a:srgbClr val="090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90d800"/>
              </a:gs>
              <a:gs pos="100000">
                <a:srgbClr val="090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11"/>
            </a:avLst>
          </a:prstGeom>
          <a:gradFill rotWithShape="0">
            <a:gsLst>
              <a:gs pos="0">
                <a:srgbClr val="878fa5"/>
              </a:gs>
              <a:gs pos="100000">
                <a:srgbClr val="0808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28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9" name="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0" name="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5124240" y="-2988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6600"/>
              </a:gs>
              <a:gs pos="100000">
                <a:srgbClr val="00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c08000"/>
              </a:gs>
              <a:gs pos="100000">
                <a:srgbClr val="a56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90d800"/>
              </a:gs>
              <a:gs pos="100000">
                <a:srgbClr val="7bb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90d800"/>
              </a:gs>
              <a:gs pos="100000">
                <a:srgbClr val="c08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f7ae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842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9" name="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3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0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60760" y="514836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2" name=""/>
          <p:cNvSpPr/>
          <p:nvPr/>
        </p:nvSpPr>
        <p:spPr>
          <a:xfrm>
            <a:off x="4460760" y="242244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3" name=""/>
          <p:cNvSpPr/>
          <p:nvPr/>
        </p:nvSpPr>
        <p:spPr>
          <a:xfrm>
            <a:off x="4460760" y="377352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793200" y="2130840"/>
            <a:ext cx="1023840" cy="3318120"/>
          </a:xfrm>
          <a:prstGeom prst="cube">
            <a:avLst>
              <a:gd name="adj" fmla="val 1166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2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789960" y="3508920"/>
            <a:ext cx="1030320" cy="33181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3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05400" y="3097800"/>
            <a:ext cx="3095640" cy="1741680"/>
          </a:xfrm>
          <a:prstGeom prst="cube">
            <a:avLst>
              <a:gd name="adj" fmla="val 1166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741760" y="3098160"/>
            <a:ext cx="3095640" cy="17413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8" name="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9" name="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0" name="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7" name="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6496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f8f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b88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1" name="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f8f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2:31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50:2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