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8000" y="620640"/>
            <a:ext cx="6264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92360" y="152280"/>
            <a:ext cx="5651640" cy="216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第三章     分析消费者市场与购买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116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907920"/>
            <a:ext cx="1116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66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828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79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市场营销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5736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大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9000"/>
            <a:ext cx="1116000" cy="28764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42100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案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285264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Arial"/>
                <a:ea typeface="宋体"/>
              </a:rPr>
              <a:t>教学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7528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25892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258920" y="6599160"/>
            <a:ext cx="7705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08440" y="6453360"/>
            <a:ext cx="1087560" cy="287280"/>
          </a:xfrm>
          <a:prstGeom prst="ellipse">
            <a:avLst/>
          </a:prstGeom>
          <a:solidFill>
            <a:srgbClr val="6a6935"/>
          </a:solidFill>
          <a:ln w="9360">
            <a:solidFill>
              <a:srgbClr val="6a6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3141720"/>
            <a:ext cx="1116000" cy="3429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7412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43280" y="6381720"/>
            <a:ext cx="90972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B8927AD6-F077-4D71-8F0C-94A6405C428F}" type="slidenum"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 flipV="1">
            <a:off x="1981080" y="1675440"/>
            <a:ext cx="6264360" cy="3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/../../martin/&#26700;&#38754;/&#23478;&#24237;&#29983;&#21629;&#21608;&#26399;.ht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133720"/>
            <a:ext cx="7086600" cy="18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分析市场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PPT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模板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5280" y="549360"/>
            <a:ext cx="685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费者决策中的信息搜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29960" y="2781360"/>
            <a:ext cx="667080" cy="1295280"/>
          </a:xfrm>
          <a:prstGeom prst="rect">
            <a:avLst/>
          </a:prstGeom>
          <a:gradFill rotWithShape="0">
            <a:gsLst>
              <a:gs pos="0">
                <a:srgbClr val="5e9eff">
                  <a:alpha val="40000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求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2133720"/>
            <a:ext cx="144792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要什么样的评价标准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3860640"/>
            <a:ext cx="14479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存在哪些备选方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060640"/>
            <a:ext cx="838080" cy="7077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一备选方案在每种评价标准上的表现水平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2133720"/>
            <a:ext cx="609480" cy="156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据此做出决策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2133720"/>
            <a:ext cx="3812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3716280"/>
            <a:ext cx="38124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12000" y="206064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停止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2000" y="371628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2349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4365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2492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422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9640" y="321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672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8036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564000" y="450864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561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收集信息的积极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43724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十分迫切的消费者，会主动寻找信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较低的消费者，不一定积极、主动寻找信息，但对有关的信息保持高度警觉、反应灵敏——处于“放大的注意”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继续增加到一定程度，这个人就会象需要一开始就很强烈的消费者，进入积极主动寻求信息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7221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决定收集信息程度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848720" cy="4537080"/>
          </a:xfrm>
          <a:prstGeom prst="rect">
            <a:avLst/>
          </a:prstGeom>
          <a:gradFill rotWithShape="0">
            <a:gsLst>
              <a:gs pos="0">
                <a:srgbClr val="5e9eff">
                  <a:alpha val="3333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收集信息的范围和数量取决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风险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容易感受到的购买风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效用风险——所购产品是否适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济风险——花钱是否值得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誉风险——被品头论足，人们会怎么看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24000" y="620640"/>
            <a:ext cx="6618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信息的来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9162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息来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71640" y="278136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92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270828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2852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外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19112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4191120"/>
            <a:ext cx="106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被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27640" y="407664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5892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过去积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68360" y="5157720"/>
            <a:ext cx="6098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5157720"/>
            <a:ext cx="838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介入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独立群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5157720"/>
            <a:ext cx="6858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接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5157720"/>
            <a:ext cx="10666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营销者提供的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2000" y="5229360"/>
            <a:ext cx="6476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2276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2492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2492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32720" y="249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32000" y="364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8606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6836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364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24000" y="450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476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0036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95640" y="45813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47973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172360" y="4797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78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 消费者如何评价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2362320"/>
            <a:ext cx="13683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00360" y="2362320"/>
            <a:ext cx="15112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362320"/>
            <a:ext cx="16002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2362320"/>
            <a:ext cx="1600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备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08880" y="23623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360" y="46879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393372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2130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372360" y="4581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705636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购买评价与选择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2637000"/>
            <a:ext cx="12952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76360" y="3789360"/>
            <a:ext cx="1447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准重要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47640" y="4952880"/>
            <a:ext cx="151164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考虑的备选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67280" y="2666880"/>
            <a:ext cx="936360" cy="1448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基于评价标准对每一备选产品进行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716280"/>
            <a:ext cx="9144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确定决策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364500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做出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43280" y="2852640"/>
            <a:ext cx="11430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3933720"/>
            <a:ext cx="9907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5157720"/>
            <a:ext cx="8384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400536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400536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97028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763640" y="3573360"/>
            <a:ext cx="1079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48000" y="3573360"/>
            <a:ext cx="979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32360" y="2819520"/>
            <a:ext cx="1087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03640" y="4267080"/>
            <a:ext cx="1016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358128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8" idx="3"/>
            <a:endCxn id="219" idx="1"/>
          </p:cNvCxnSpPr>
          <p:nvPr/>
        </p:nvCxnSpPr>
        <p:spPr>
          <a:xfrm>
            <a:off x="2843280" y="4030200"/>
            <a:ext cx="505440" cy="10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3"/>
            <a:endCxn id="220" idx="1"/>
          </p:cNvCxnSpPr>
          <p:nvPr/>
        </p:nvCxnSpPr>
        <p:spPr>
          <a:xfrm flipV="1">
            <a:off x="4327560" y="3276360"/>
            <a:ext cx="605520" cy="754560"/>
          </a:xfrm>
          <a:prstGeom prst="bentConnector3">
            <a:avLst>
              <a:gd name="adj1" fmla="val 49851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9" idx="3"/>
            <a:endCxn id="221" idx="1"/>
          </p:cNvCxnSpPr>
          <p:nvPr/>
        </p:nvCxnSpPr>
        <p:spPr>
          <a:xfrm>
            <a:off x="4327560" y="4030200"/>
            <a:ext cx="676800" cy="694440"/>
          </a:xfrm>
          <a:prstGeom prst="bentConnector3">
            <a:avLst>
              <a:gd name="adj1" fmla="val 49973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20" idx="3"/>
            <a:endCxn id="222" idx="1"/>
          </p:cNvCxnSpPr>
          <p:nvPr/>
        </p:nvCxnSpPr>
        <p:spPr>
          <a:xfrm>
            <a:off x="6019560" y="3276720"/>
            <a:ext cx="61020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3"/>
            <a:endCxn id="222" idx="1"/>
          </p:cNvCxnSpPr>
          <p:nvPr/>
        </p:nvCxnSpPr>
        <p:spPr>
          <a:xfrm flipV="1">
            <a:off x="6019560" y="4037760"/>
            <a:ext cx="61020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 消费者如何决定购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6913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 消费者购后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03280" y="191628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7640" y="2060640"/>
            <a:ext cx="14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后冲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292428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03280" y="306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产品处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1752480"/>
            <a:ext cx="1219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82880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81280" y="25909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2767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403848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满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2133720"/>
            <a:ext cx="12189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采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5880" y="304812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抱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4941720"/>
            <a:ext cx="10684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忠诚顾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11280" y="494172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495288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49528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转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4941720"/>
            <a:ext cx="2135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再（终止）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66880" y="1905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3280" y="2349360"/>
            <a:ext cx="28717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71640" y="2421000"/>
            <a:ext cx="733680" cy="3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43280" y="2852640"/>
            <a:ext cx="720720" cy="2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3429000"/>
            <a:ext cx="7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876560" y="3429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5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11640" y="465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36000" y="4581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138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顾客满意的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69360" y="2708280"/>
            <a:ext cx="45468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购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59280" y="2781360"/>
            <a:ext cx="482400" cy="122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知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12560" y="2514600"/>
            <a:ext cx="454680" cy="2362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顾客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236232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12408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8862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忠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57800" y="45720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357336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573360"/>
            <a:ext cx="398520" cy="7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95680" y="2590560"/>
            <a:ext cx="685800" cy="7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27672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403848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4572000"/>
            <a:ext cx="685800" cy="1522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944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7067880" cy="101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消费者的购买组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消费一般以家庭或个人为单位，从事购买活动的通常却是家庭中的一个或几个成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在购买决策中，人们可能会扮演下列一种角色或几种角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发起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影响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决定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购买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使用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374920" cy="32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77778E-006 C -0.02327 -0.00325 -0.04636 -0.00556 -0.06962 -0.00811 C -0.08021 -0.01297 -0.07552 -0.01112 -0.08334 -0.01413 C -0.08837 -0.01343 -0.09358 -0.0139 -0.09844 -0.01228 C -0.09983 -0.01181 -0.10018 -0.00903 -0.10139 -0.00811 C -0.10469 -0.00579 -0.10625 -0.00603 -0.10903 -0.00603 E">
                                      <p:cBhvr>
                                        <p:cTn id="1211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61722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章要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324480" cy="27432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消费者怎样做出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什么影响着消费者的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我们能够做什么，应该怎么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市场分析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541008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980040" cy="950760"/>
          </a:xfrm>
          <a:prstGeom prst="rect">
            <a:avLst/>
          </a:prstGeom>
          <a:gradFill rotWithShape="0">
            <a:gsLst>
              <a:gs pos="0">
                <a:srgbClr val="5e9eff">
                  <a:alpha val="0"/>
                </a:srgbClr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第五节 消费者的购买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38760" y="2590920"/>
            <a:ext cx="23619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高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13320" y="2590920"/>
            <a:ext cx="23623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低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6204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6204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38760" y="358128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复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1332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寻求多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38760" y="457200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减少失调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1332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简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76360" y="1905120"/>
            <a:ext cx="1190520" cy="4114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6880" y="2286000"/>
            <a:ext cx="1371600" cy="342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38480" y="2514600"/>
            <a:ext cx="137160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2819520"/>
            <a:ext cx="1371600" cy="259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3200400"/>
            <a:ext cx="1371600" cy="1905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2637000"/>
            <a:ext cx="119052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384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21178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249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2666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37180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行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743200"/>
            <a:ext cx="1371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亚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阶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124080"/>
            <a:ext cx="1371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参考群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家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身份和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3200400"/>
            <a:ext cx="13716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年龄和家庭生命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个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自我形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经济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性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职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3581280"/>
            <a:ext cx="1371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动机和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知觉的选择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态度和信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7777440" cy="863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节 影响消费者行为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7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7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7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7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文化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715160" cy="43830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文化是决定人类欲望和行为最基本的因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社会中成长，受到家庭、环境及社会潜移默化的影响，学到一套基本的价值观、风俗习惯和审美观，形成一定的偏好和行为模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84360" y="465300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700360" y="4292640"/>
            <a:ext cx="41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268360" y="4005360"/>
            <a:ext cx="572472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678960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亚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7634520" cy="4392720"/>
          </a:xfrm>
          <a:prstGeom prst="rect">
            <a:avLst/>
          </a:prstGeom>
          <a:gradFill rotWithShape="0">
            <a:gsLst>
              <a:gs pos="0">
                <a:srgbClr val="c1ff13"/>
              </a:gs>
              <a:gs pos="100000">
                <a:srgbClr val="587508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种文化会因各种因素影响，使价值观、风俗习惯及审美观等表现出不同特征，形成亚文化。主要表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民族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宗教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地理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5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139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社会阶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705800" cy="42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社会阶层是具有相对的同质性和持久性的群体。按等级排列，每一阶层的成员具有类似的价值观、兴趣爱好和行为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一个人的社会阶层，通常是职业、收入、教育和价值观等多种因素作用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同一社会阶层的人，要比来自两个社会阶层的人行为更加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06752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社会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561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参考群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家庭身份和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年龄和家庭生命周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生活方式与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自我形象、职业、性别经济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3529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72222E-006 7.53932E-006 C -0.01805 -0.00346 -0.03559 -0.00901 -0.05381 -0.0104 C -0.06406 -0.01133 -0.08473 -0.01225 -0.08473 -0.01225 E">
                                      <p:cBhvr>
                                        <p:cTn id="1491" dur="2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1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参考群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76360" y="2331720"/>
            <a:ext cx="7292880" cy="404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是能够影响个人态度、意见和价值观的一群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分为所属群体与相关群体，所属群体又分为主要群体、次要群体和相关群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4581360"/>
            <a:ext cx="431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47240" y="4869000"/>
            <a:ext cx="428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148360" y="4653000"/>
            <a:ext cx="361944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6778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家庭、身份和地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6985080" cy="4137120"/>
          </a:xfrm>
          <a:prstGeom prst="rect">
            <a:avLst/>
          </a:prstGeom>
          <a:gradFill rotWithShape="0">
            <a:gsLst>
              <a:gs pos="0">
                <a:srgbClr val="a4aafa"/>
              </a:gs>
              <a:gs pos="100000">
                <a:srgbClr val="4345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家庭及其成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身份是周围的人对你的要求，是你在各种场合承担的角色、应起的作用。每一种身份又附有一种地位，反映社会对他的评价和尊重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们往往结合身份、地位做出购买选择。许多产品、品牌，由此成为一种身份和地位的标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8352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年龄和家庭生命周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7210440" cy="4137120"/>
          </a:xfrm>
          <a:prstGeom prst="rect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消费者的欲望和行为，因年龄不同而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家庭生命周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一个以家长为代表的家庭生活的全过程，从青年独立生活开始，到年老后并入子女的家庭或死亡时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不同阶段，同一消费者及家庭的购买力、兴趣和对产品的偏好甚至会有较大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05636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生活方式与个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76360" y="1989000"/>
            <a:ext cx="6983280" cy="4137120"/>
          </a:xfrm>
          <a:prstGeom prst="rect">
            <a:avLst/>
          </a:prstGeom>
          <a:blipFill rotWithShape="0">
            <a:blip r:embed="rId1">
              <a:alphaModFix amt="16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生活方式是一个人生活中表现出来的他的活动、兴趣和看法的整个模式。影响对品牌的看法、喜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个性指个人特有的心理特征，导致人对所处环境做出相对一致和持续的反应。通过自信、支配、自主、顺从、交际，保守和适应等性格特征表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4876560" cy="838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分析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6934320" cy="3353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构成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om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者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ccupan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购买什么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at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对象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为何购买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y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目的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ive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购买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o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组织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rganiz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怎样购买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How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方式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per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时购买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en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购买时间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ccas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地购买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Where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地点（</a:t>
            </a:r>
            <a:r>
              <a:rPr b="0" lang="en-US" sz="2400" spc="-1" strike="noStrike">
                <a:solidFill>
                  <a:srgbClr val="ff9900"/>
                </a:solidFill>
                <a:latin typeface="隶书"/>
                <a:ea typeface="隶书"/>
              </a:rPr>
              <a:t>Outle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24480" y="556272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5715000"/>
            <a:ext cx="24386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500960" cy="71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我形象、职业、性别和经济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201080" cy="4105080"/>
          </a:xfrm>
          <a:prstGeom prst="rect">
            <a:avLst/>
          </a:prstGeom>
          <a:solidFill>
            <a:srgbClr val="bbe0e3">
              <a:alpha val="27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1c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自我形象——个人怀有的有关自己的“图案”，驱使其寻求与此一致的产品、品牌，采取与自我形象一致的消费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1c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职业影响——对不同产品及品牌会表现出不同的看法和购买意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1cff"/>
                </a:solidFill>
                <a:latin typeface="Arial"/>
              </a:rPr>
              <a:t>3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性别——长期以来，性别一直是影响人们购买的重要因素经济条件——消费要“量入为出”，依据条件消费和购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c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1c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经济状况包括可供其消费的收入（收入水平，稳定性和时间形态）、储蓄与财产，借债能力和对花钱与储蓄的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76908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心理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618920" y="2060640"/>
            <a:ext cx="6840360" cy="4093920"/>
          </a:xfrm>
          <a:prstGeom prst="rect">
            <a:avLst/>
          </a:prstGeom>
          <a:blipFill rotWithShape="0">
            <a:blip r:embed="rId1">
              <a:alphaModFix amt="2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机和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态度和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76908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动机和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76360" y="1988640"/>
            <a:ext cx="6912000" cy="4248360"/>
          </a:xfrm>
          <a:prstGeom prst="rect">
            <a:avLst/>
          </a:prstGeom>
          <a:blipFill rotWithShape="0">
            <a:blip r:embed="rId1">
              <a:alphaModFix amt="25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是推动个人进行各种活动的驱策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由需要而生。消费者的购买行为，是消费者解决他的需要问题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需要具有广泛性与多样性。每个人的具体情况不同，解决需要问题轻重缓急的顺序自然各异，也就存在一个“需要层次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662472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知觉的选择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199280" cy="44658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注意——人们感觉到的刺激，只有少数引起注意、形成知觉，多数会被有选择地忽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曲解——人们对注意到的事物，往往喜欢按自己的经历、偏好、当时的情绪、情境等因素做出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记忆——人们容易忘掉大多数信息，却总是能记住与自己态度、信念一致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3356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6913440" cy="33130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535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也称“习得”，指人会自觉、不自觉从很多渠道、经过各种方式获得后天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会引起个人行为的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是消费者行为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59500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6553080" cy="79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是消费者行为的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76360" y="191628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476360" y="234936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76360" y="2781360"/>
            <a:ext cx="1285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社会阶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76360" y="3213000"/>
            <a:ext cx="1224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家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35280" y="364500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35280" y="407664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19280" y="4581360"/>
            <a:ext cx="10666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众媒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08000" y="515772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广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1851120"/>
            <a:ext cx="1944360" cy="4540680"/>
          </a:xfrm>
          <a:prstGeom prst="rect">
            <a:avLst/>
          </a:prstGeom>
          <a:solidFill>
            <a:srgbClr val="a4a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能  感受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与品牌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象征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141720"/>
            <a:ext cx="1600200" cy="1447920"/>
          </a:xfrm>
          <a:prstGeom prst="ellipse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6000" y="35002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购买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使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71640" y="2060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7164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9242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71640" y="3357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00360" y="3789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42926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71640" y="4797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5373720"/>
            <a:ext cx="14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78936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1ff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76908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态度和信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056360" cy="4464000"/>
          </a:xfrm>
          <a:prstGeom prst="rect">
            <a:avLst/>
          </a:prstGeom>
          <a:blipFill rotWithShape="0">
            <a:blip r:embed="rId1">
              <a:alphaModFix amt="1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态度是人对事物所持有的持久的、一致的评价、反应，包括三个互相联系的成分：信念，情感与倾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5640" y="3213000"/>
            <a:ext cx="14475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270828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6720" y="4076640"/>
            <a:ext cx="14479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68360" y="328464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知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信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92720" y="285264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情感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感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4221000"/>
            <a:ext cx="1447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行为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反应倾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635280" y="306864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92360" y="393372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796000" y="364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19640" y="450864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体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835280" y="5373720"/>
            <a:ext cx="60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消费者更易于依据“见解”和“信任”行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4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宋体"/>
              </a:rPr>
              <a:t>第一节 消费者市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4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一、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人们为了满足个人或家庭生活的需要，购买产品、服务的市场。是许多企业从事经营活动的主要场所、服务的主要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二、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人多面广，包括了生活中的每一个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复杂，经常变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零星购买和经常购买，购买次数频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产品专用性不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弹性较大，受价格影响明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非专家购买，易受促销影响，产生购买冲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购买力经常流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93432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、消费者行为的基本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819520"/>
            <a:ext cx="22860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2819520"/>
            <a:ext cx="25146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2819520"/>
            <a:ext cx="175284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365760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36576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819520"/>
            <a:ext cx="12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不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3886200"/>
            <a:ext cx="1143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地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促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3809880"/>
            <a:ext cx="1295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济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技术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政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819520"/>
            <a:ext cx="1447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886200"/>
            <a:ext cx="914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3733920"/>
            <a:ext cx="1295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决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733920"/>
            <a:ext cx="16002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品牌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销商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时机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数量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刺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2133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8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二节 消费者的购买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7162920" cy="3733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依据人们购买、消费的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利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购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觅求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依据产品的有形与否：有形产品（物品），无形产品（服务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依据产品耐用性：耐用品，非耐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49528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2096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5" idx="0"/>
            <a:endCxn id="97" idx="1"/>
          </p:cNvCxnSpPr>
          <p:nvPr/>
        </p:nvCxnSpPr>
        <p:spPr>
          <a:xfrm flipH="1" flipV="1" rot="5400000">
            <a:off x="1752120" y="297108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2"/>
            <a:endCxn id="96" idx="1"/>
          </p:cNvCxnSpPr>
          <p:nvPr/>
        </p:nvCxnSpPr>
        <p:spPr>
          <a:xfrm flipH="1" rot="16200000">
            <a:off x="1751760" y="483840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7" idx="3"/>
            <a:endCxn id="98" idx="1"/>
          </p:cNvCxnSpPr>
          <p:nvPr/>
        </p:nvCxnSpPr>
        <p:spPr>
          <a:xfrm>
            <a:off x="4114440" y="270504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8" idx="1"/>
          </p:cNvCxnSpPr>
          <p:nvPr/>
        </p:nvCxnSpPr>
        <p:spPr>
          <a:xfrm flipV="1">
            <a:off x="4114440" y="407628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1"/>
          </p:cNvCxnSpPr>
          <p:nvPr/>
        </p:nvCxnSpPr>
        <p:spPr>
          <a:xfrm>
            <a:off x="6629040" y="4076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848720" cy="792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三节 消费者购买的决策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 消费者如何认识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现实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追求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09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不同程度差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52578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09" idx="1"/>
          </p:cNvCxnSpPr>
          <p:nvPr/>
        </p:nvCxnSpPr>
        <p:spPr>
          <a:xfrm flipH="1" rot="16200000">
            <a:off x="2724120" y="3256920"/>
            <a:ext cx="10674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8" idx="2"/>
            <a:endCxn id="109" idx="3"/>
          </p:cNvCxnSpPr>
          <p:nvPr/>
        </p:nvCxnSpPr>
        <p:spPr>
          <a:xfrm rot="5400000">
            <a:off x="5542920" y="3447720"/>
            <a:ext cx="10674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2"/>
            <a:endCxn id="110" idx="0"/>
          </p:cNvCxnSpPr>
          <p:nvPr/>
        </p:nvCxnSpPr>
        <p:spPr>
          <a:xfrm>
            <a:off x="4762080" y="4724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26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</a:rPr>
              <a:t>二、 消费者如何收集信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840720" cy="576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收集信息可以避免决策失误，减少购买风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733920"/>
            <a:ext cx="12189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8954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29019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立即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4956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431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留存记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35812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235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62920" y="5105520"/>
            <a:ext cx="9903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5137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39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4648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58920" y="465300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30T08:19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02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