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6CE-5507-4B3F-93FB-DAA43868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C19-6599-497C-8ECC-6A7AD241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9BE-4B4F-4FED-8BF4-7C57B71E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0FA-77F6-41A1-8EDA-04225D7F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48A-C7B7-497B-A6D4-C111770D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166-4F17-44DE-8331-C6EB6697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5A3-EDA1-4BBD-89F4-76369D49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053-443B-460C-BAAB-59074F02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301-C505-4E67-B3FB-819C1A73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A59-F798-43EB-BA38-7830E89E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C8F-D2C0-4E9E-A682-34D27986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C3C-BE6C-444C-B38A-A3F95631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F415-352A-4D7B-973E-C7BFC7323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30560" y="1701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4200" y="1628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78560" y="1628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4200" y="4005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71560" y="393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00640" y="2781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76640" y="4005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25360" y="393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52640" y="5157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00640" y="5157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5724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枫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99840" y="4941720"/>
            <a:ext cx="72900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7760" y="4941720"/>
            <a:ext cx="10033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24560" y="4941720"/>
            <a:ext cx="1003320" cy="18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365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008480" y="29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03040" y="2852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02320" y="4935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0120" y="4935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F2E-7109-416C-A183-13262E08DF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04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