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BD1A-6D88-4F39-95A3-282A0CDA6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DBBB-405D-48BA-A055-1AA2A44D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9AD1-1692-4D79-B036-36E35AF2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E97B-AC18-41EC-A978-EE1B077B2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CE2B-588A-4467-919E-0692A1BB3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F3EA-055E-4771-B163-504943FE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3C96-2CED-4910-8319-D549C884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3ED2-7BAC-4ADA-B863-51A7A643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2EDC-C6FC-4297-AA35-51B64F4A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2801-CCE3-4A56-B87B-0EB464F2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2956-B28A-440F-B1B7-A31A4A9F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4A59-1D1E-4643-84C8-F5157FE8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2AD9-584F-48BA-B302-B8D80687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33E1-6878-47E9-8AA4-718B20F7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70A2-3E58-4DC9-A6C7-CA6D81D1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1F6A-48DD-4E96-9CD6-7546DAA4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B9F4-2BD9-43A3-B01C-349C34EF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5FF1E-7DFC-4938-9EA6-12ECC101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FECEA-285D-46BB-B06F-D42E49BE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95E87-F469-4636-A47E-FC573691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F50D8-F7E2-428B-AF33-43465534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539A9-E679-4960-9839-3820C7FD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2D3F-46AC-4EA3-A3FD-87EEFBB4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DFE72-5E66-4CDA-BD02-20F6C9EA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75133-ACE4-4FEC-A08B-7FF3039A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6A81C-CBAB-499C-9402-D03FA46B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65070-ED1F-4615-BF7A-BADDBFE4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D8C5D-6711-4078-A915-21A53138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0FD3E-1856-4365-BF32-B820312EF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717CE-D1AA-4A97-B1D2-0B6F3D15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7D08F-F421-4555-8767-13F09318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554D0-4232-4D92-B912-7A6A9E08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2E22E-61CF-4CF6-B231-613AEEB4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5AFB-2D86-435E-93A9-2E0709E9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7891C-B6E3-4D5B-8327-DECBBAF1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D56AC-7F35-4698-A0BA-7BC79872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68DF6-C263-4286-9139-2CD7126A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15A29-6B9C-4F27-B9D7-23A9B673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E59F9-F104-4671-BDA9-10F4842D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F5274-ECCC-46A9-8648-AC9B978E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06311-7FF6-4645-880E-FACCEB27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C5517-5D5B-4C3F-A822-97A8DEB8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4A126-F5FE-4BAC-996A-EBF5C7999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7B5FC-32C0-4263-BD2E-CE9A69F69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0878-4F93-45A0-A3E8-435BC6C9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3057A-753A-4DB0-B134-73DA5BC1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9B12A-280B-4158-AE96-55809889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43590-95EF-45D2-8B94-F2208B6B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766F9-3C7B-475B-8446-A712D301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51D71-CC88-4850-9222-3A1FF32C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EAB2B-7509-490F-9359-F0C14132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25E20-FA87-4FC9-8A2B-B8080678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979BD-1AE6-497B-9548-5F039955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E999F-98D9-4BAF-956C-7B7BE948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A077E-ABD7-44E2-9E5D-649CA44F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54B2-9155-4D0D-A680-A5F51B72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D571F-1623-4944-92F8-613A115A5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89D6-7E46-4DDD-B59F-DB7EDE9F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5890-F010-460C-B053-CDF51C09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1FA2-84E8-4F68-89DA-448B3DA9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33480" y="0"/>
            <a:ext cx="9213840" cy="6951960"/>
          </a:xfrm>
          <a:prstGeom prst="rect">
            <a:avLst/>
          </a:prstGeom>
          <a:gradFill rotWithShape="0">
            <a:gsLst>
              <a:gs pos="0">
                <a:srgbClr val="000000">
                  <a:alpha val="89019"/>
                </a:srgbClr>
              </a:gs>
              <a:gs pos="100000">
                <a:srgbClr val="cfcfcf">
                  <a:alpha val="58039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CA7A-6185-49CE-B435-10928166D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39204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33480" y="0"/>
            <a:ext cx="9213840" cy="6951960"/>
          </a:xfrm>
          <a:prstGeom prst="rect">
            <a:avLst/>
          </a:prstGeom>
          <a:gradFill rotWithShape="0">
            <a:gsLst>
              <a:gs pos="0">
                <a:srgbClr val="000000">
                  <a:alpha val="89019"/>
                </a:srgbClr>
              </a:gs>
              <a:gs pos="100000">
                <a:srgbClr val="cfcfcf">
                  <a:alpha val="58039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C33C-67A4-41C0-BBC2-8F4463F18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21540000">
            <a:off x="0" y="6238800"/>
            <a:ext cx="9144000" cy="358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1540000">
            <a:off x="2771640" y="6165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fcfcf"/>
                </a:solidFill>
                <a:latin typeface="Cooper Black"/>
              </a:rPr>
              <a:t>city  h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6360" y="2927520"/>
            <a:ext cx="2590920" cy="3890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227640" y="44280"/>
            <a:ext cx="2984760" cy="1074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33480" y="0"/>
            <a:ext cx="9213840" cy="6951960"/>
          </a:xfrm>
          <a:prstGeom prst="rect">
            <a:avLst/>
          </a:prstGeom>
          <a:gradFill rotWithShape="0">
            <a:gsLst>
              <a:gs pos="0">
                <a:srgbClr val="000000">
                  <a:alpha val="89019"/>
                </a:srgbClr>
              </a:gs>
              <a:gs pos="100000">
                <a:srgbClr val="cfcfcf">
                  <a:alpha val="58039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57F3-8D4A-461B-9598-C49FAB8E9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21540000">
            <a:off x="0" y="6238800"/>
            <a:ext cx="9144000" cy="358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21540000">
            <a:off x="2771640" y="6165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fcfcf"/>
                </a:solidFill>
                <a:latin typeface="Cooper Black"/>
              </a:rPr>
              <a:t>city  h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8000" y="0"/>
            <a:ext cx="2982960" cy="1074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111720" y="3357720"/>
            <a:ext cx="3054600" cy="34956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-33480" y="0"/>
            <a:ext cx="9213840" cy="6951960"/>
          </a:xfrm>
          <a:prstGeom prst="rect">
            <a:avLst/>
          </a:prstGeom>
          <a:gradFill rotWithShape="0">
            <a:gsLst>
              <a:gs pos="0">
                <a:srgbClr val="000000">
                  <a:alpha val="89019"/>
                </a:srgbClr>
              </a:gs>
              <a:gs pos="100000">
                <a:srgbClr val="cfcfcf">
                  <a:alpha val="58039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C2F5-8D85-4F33-9306-3292E783E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21540000">
            <a:off x="0" y="6238800"/>
            <a:ext cx="9144000" cy="358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21540000">
            <a:off x="2771640" y="6165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fcfcf"/>
                </a:solidFill>
                <a:latin typeface="Cooper Black"/>
              </a:rPr>
              <a:t>city  h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08000" y="0"/>
            <a:ext cx="2982960" cy="1074600"/>
          </a:xfrm>
          <a:prstGeom prst="rect">
            <a:avLst/>
          </a:prstGeom>
          <a:ln w="0">
            <a:noFill/>
          </a:ln>
        </p:spPr>
      </p:pic>
      <p:pic>
        <p:nvPicPr>
          <p:cNvPr id="142" name="7c5fcc1bedcbc788ad6e75ba" descr=""/>
          <p:cNvPicPr/>
          <p:nvPr/>
        </p:nvPicPr>
        <p:blipFill>
          <a:blip r:embed="rId3"/>
          <a:stretch/>
        </p:blipFill>
        <p:spPr>
          <a:xfrm>
            <a:off x="6732720" y="3213000"/>
            <a:ext cx="2214360" cy="332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-33480" y="0"/>
            <a:ext cx="9213840" cy="6951960"/>
          </a:xfrm>
          <a:prstGeom prst="rect">
            <a:avLst/>
          </a:prstGeom>
          <a:gradFill rotWithShape="0">
            <a:gsLst>
              <a:gs pos="0">
                <a:srgbClr val="000000">
                  <a:alpha val="89019"/>
                </a:srgbClr>
              </a:gs>
              <a:gs pos="100000">
                <a:srgbClr val="cfcfcf">
                  <a:alpha val="58039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9D1E-6A75-418D-801F-C3FEE15CF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21540000">
            <a:off x="0" y="6238800"/>
            <a:ext cx="9144000" cy="358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21540000">
            <a:off x="2771640" y="6165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fcfcf"/>
                </a:solidFill>
                <a:latin typeface="Cooper Black"/>
              </a:rPr>
              <a:t>city  h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083280" y="189000"/>
            <a:ext cx="2984400" cy="1074600"/>
          </a:xfrm>
          <a:prstGeom prst="rect">
            <a:avLst/>
          </a:prstGeom>
          <a:ln w="0">
            <a:noFill/>
          </a:ln>
        </p:spPr>
      </p:pic>
      <p:pic>
        <p:nvPicPr>
          <p:cNvPr id="186" name="bc4b9ad0133595b5552c8470" descr=""/>
          <p:cNvPicPr/>
          <p:nvPr/>
        </p:nvPicPr>
        <p:blipFill>
          <a:blip r:embed="rId3"/>
          <a:stretch/>
        </p:blipFill>
        <p:spPr>
          <a:xfrm>
            <a:off x="324000" y="3017880"/>
            <a:ext cx="2087280" cy="36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0800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55320" y="1173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服装行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757080" y="1701720"/>
            <a:ext cx="44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0147-C69B-4008-A440-914F1192D3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4T10:37:2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09:0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