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223-94AE-48F2-BF7E-FA76A16F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55D-A0E3-4EB4-A084-2C315317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B5E-4828-4D72-B869-1F38FEB0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736-FC52-4313-9B15-56CB3E48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9312-B2D0-48BB-9269-F9024464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32F-A0DE-48C4-A87E-7D1ED07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5F71-5A2F-4F16-91ED-E24C9A5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1154-F68E-4CE6-A5C3-FB17ADD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0A09-76A8-4F45-9F47-480E1E48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F02A-BAC7-4535-A670-CB777BC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BA36-6EE7-4F4C-9687-93D99055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3A1-1526-4096-968B-455F1FC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5A8B-E657-4BDF-9E50-A60FF83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972-36A1-4023-9834-65F7358A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049E-F09A-4B8D-844A-6B0B061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C49-4147-40CA-96F6-CEFBC9B7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4ABA-479B-4C15-B1D1-EB13558A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758-F3EB-4652-955C-32050274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7CD-5B8A-488F-AA53-595B1ECD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539-C66B-4E5D-B2B2-14F2B519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9FF-8910-4CA8-AD3A-20F8F158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708-2414-4DEB-8165-06C7342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2B3-BD34-43C7-BB14-72A9C95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D56-4006-4694-90F6-7AE9E2D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B783-E187-4A86-AFFB-BF00E0D8A6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83A3-9AF5-48D2-ACDF-198D773D79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16080" y="4762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工程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PMingLiU"/>
              </a:rPr>
              <a:t>Slide Mast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PMingLiU"/>
              </a:rPr>
              <a:t>Print Master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229716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310440"/>
            <a:ext cx="80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素材库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9d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146-0899-483E-B8F4-0E3DAE9BAA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4:16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5:5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